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0698-D109-4EBA-967A-45D3204FC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82AC-08C2-4A98-AF9F-F50A368B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A16C-4C65-428E-BC11-ED342029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4885-155A-416F-9B00-148437CC2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95F0-BB70-4161-A1A0-DDA7D80D9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9F99-ADFF-4677-BBBB-4D232F93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E623-90F3-420B-8978-FB15D7DD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D64B-A5D6-4096-907F-31AF16DBF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576A-BA52-456B-BD26-DAEDC158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85FF-B605-4E5F-9C37-FABB3C1C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E029-4829-406A-AD5C-79E8297B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41EC-03CD-4E0C-9181-8EC2374E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E315-2B1D-422B-B95A-1C6C7846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8DA9-957B-481C-80B4-FC99BC24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0A974-9632-41BA-9D5D-F9AE3B3C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5585-09E3-4E88-90C6-9CAF3A67B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60340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617320" y="21337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5891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560340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8617320" y="4106520"/>
            <a:ext cx="28702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ECF2-97CE-4E4C-8EF7-E1B45CE9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AE28-4627-4769-BCFE-E78280553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2C12-C979-4132-8FA2-5F73CB0D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FB3C-BF8B-409D-8CF4-ADBD9692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93080" y="624240"/>
            <a:ext cx="891144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2063-9F49-42CC-BB77-0C582FEA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80B0-D0DB-4F40-9FFB-AF0A56EC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37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7157160" y="41065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1F28-56E1-4BD9-AB31-917EE1DD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8912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157160" y="2133720"/>
            <a:ext cx="43502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589120" y="4106520"/>
            <a:ext cx="891504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EE24-D98C-4B29-8501-199AFC0E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14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89120" y="2514600"/>
            <a:ext cx="8915040" cy="226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ru-RU" sz="54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dt" idx="1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ftr" idx="2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Freeform 6"/>
          <p:cNvSpPr/>
          <p:nvPr/>
        </p:nvSpPr>
        <p:spPr>
          <a:xfrm>
            <a:off x="0" y="4323960"/>
            <a:ext cx="1744200" cy="778320"/>
          </a:xfrm>
          <a:custGeom>
            <a:avLst/>
            <a:gdLst>
              <a:gd name="textAreaLeft" fmla="*/ 0 w 1744200"/>
              <a:gd name="textAreaRight" fmla="*/ 1744560 w 1744200"/>
              <a:gd name="textAreaTop" fmla="*/ 0 h 778320"/>
              <a:gd name="textAreaBottom" fmla="*/ 778680 h 778320"/>
            </a:gdLst>
            <a:ahLst/>
            <a:rect l="textAreaLeft" t="textAreaTop" r="textAreaRight" b="textAreaBottom"/>
            <a:pathLst>
              <a:path w="372" h="166">
                <a:moveTo>
                  <a:pt x="287" y="166"/>
                </a:moveTo>
                <a:cubicBezTo>
                  <a:pt x="290" y="166"/>
                  <a:pt x="292" y="165"/>
                  <a:pt x="293" y="164"/>
                </a:cubicBezTo>
                <a:cubicBezTo>
                  <a:pt x="293" y="163"/>
                  <a:pt x="294" y="163"/>
                  <a:pt x="294" y="163"/>
                </a:cubicBezTo>
                <a:cubicBezTo>
                  <a:pt x="370" y="87"/>
                  <a:pt x="370" y="87"/>
                  <a:pt x="370" y="87"/>
                </a:cubicBezTo>
                <a:cubicBezTo>
                  <a:pt x="372" y="85"/>
                  <a:pt x="372" y="81"/>
                  <a:pt x="370" y="78"/>
                </a:cubicBezTo>
                <a:cubicBezTo>
                  <a:pt x="294" y="3"/>
                  <a:pt x="294" y="3"/>
                  <a:pt x="294" y="3"/>
                </a:cubicBezTo>
                <a:cubicBezTo>
                  <a:pt x="294" y="2"/>
                  <a:pt x="293" y="2"/>
                  <a:pt x="293" y="2"/>
                </a:cubicBezTo>
                <a:cubicBezTo>
                  <a:pt x="292" y="1"/>
                  <a:pt x="290" y="0"/>
                  <a:pt x="2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66"/>
                  <a:pt x="0" y="166"/>
                  <a:pt x="0" y="166"/>
                </a:cubicBezTo>
                <a:lnTo>
                  <a:pt x="287" y="166"/>
                </a:ln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sldNum" idx="3"/>
          </p:nvPr>
        </p:nvSpPr>
        <p:spPr>
          <a:xfrm>
            <a:off x="531720" y="452952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3647FD-45AF-40F7-9A40-78CE037F4343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e7c4"/>
            </a:gs>
          </a:gsLst>
          <a:path path="circle">
            <a:fillToRect l="25000" t="25000" r="75000" b="7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2"/>
          <p:cNvGrpSpPr/>
          <p:nvPr/>
        </p:nvGrpSpPr>
        <p:grpSpPr>
          <a:xfrm>
            <a:off x="0" y="228600"/>
            <a:ext cx="2851200" cy="6638400"/>
            <a:chOff x="0" y="228600"/>
            <a:chExt cx="2851200" cy="6638400"/>
          </a:xfrm>
        </p:grpSpPr>
        <p:sp>
          <p:nvSpPr>
            <p:cNvPr id="70" name="Freeform 11"/>
            <p:cNvSpPr/>
            <p:nvPr/>
          </p:nvSpPr>
          <p:spPr>
            <a:xfrm>
              <a:off x="0" y="2575080"/>
              <a:ext cx="100440" cy="6256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625680"/>
                <a:gd name="textAreaBottom" fmla="*/ 626040 h 625680"/>
              </a:gdLst>
              <a:ahLst/>
              <a:rect l="textAreaLeft" t="textAreaTop" r="textAreaRight" b="textAreaBottom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28520" y="3156480"/>
              <a:ext cx="646200" cy="2322000"/>
            </a:xfrm>
            <a:custGeom>
              <a:avLst/>
              <a:gdLst>
                <a:gd name="textAreaLeft" fmla="*/ 0 w 646200"/>
                <a:gd name="textAreaRight" fmla="*/ 646560 w 646200"/>
                <a:gd name="textAreaTop" fmla="*/ 0 h 2322000"/>
                <a:gd name="textAreaBottom" fmla="*/ 2322360 h 2322000"/>
              </a:gdLst>
              <a:ahLst/>
              <a:rect l="textAreaLeft" t="textAreaTop" r="textAreaRight" b="textAreaBottom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807120" y="5447160"/>
              <a:ext cx="609120" cy="1419840"/>
            </a:xfrm>
            <a:custGeom>
              <a:avLst/>
              <a:gdLst>
                <a:gd name="textAreaLeft" fmla="*/ 0 w 609120"/>
                <a:gd name="textAreaRight" fmla="*/ 609480 w 609120"/>
                <a:gd name="textAreaTop" fmla="*/ 0 h 1419840"/>
                <a:gd name="textAreaBottom" fmla="*/ 1420200 h 1419840"/>
              </a:gdLst>
              <a:ahLst/>
              <a:rect l="textAreaLeft" t="textAreaTop" r="textAreaRight" b="textAreaBottom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959760" y="6503760"/>
              <a:ext cx="171000" cy="363240"/>
            </a:xfrm>
            <a:custGeom>
              <a:avLst/>
              <a:gdLst>
                <a:gd name="textAreaLeft" fmla="*/ 0 w 171000"/>
                <a:gd name="textAreaRight" fmla="*/ 171360 w 17100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00800" y="3201120"/>
              <a:ext cx="821520" cy="332820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328200"/>
                <a:gd name="textAreaBottom" fmla="*/ 3328560 h 3328200"/>
              </a:gdLst>
              <a:ahLst/>
              <a:rect l="textAreaLeft" t="textAreaTop" r="textAreaRight" b="textAreaBottom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22320" y="228600"/>
              <a:ext cx="105840" cy="29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927520"/>
                <a:gd name="textAreaBottom" fmla="*/ 2927880 h 2927520"/>
              </a:gdLst>
              <a:ahLst/>
              <a:rect l="textAreaLeft" t="textAreaTop" r="textAreaRight" b="textAreaBottom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78120" y="2944080"/>
              <a:ext cx="77760" cy="49356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769680" y="5478840"/>
              <a:ext cx="189720" cy="102456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024560"/>
                <a:gd name="textAreaBottom" fmla="*/ 1024920 h 1024560"/>
              </a:gdLst>
              <a:ahLst/>
              <a:rect l="textAreaLeft" t="textAreaTop" r="textAreaRight" b="textAreaBottom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775440" y="1398960"/>
              <a:ext cx="2075760" cy="4047840"/>
            </a:xfrm>
            <a:custGeom>
              <a:avLst/>
              <a:gdLst>
                <a:gd name="textAreaLeft" fmla="*/ 0 w 2075760"/>
                <a:gd name="textAreaRight" fmla="*/ 2076120 w 2075760"/>
                <a:gd name="textAreaTop" fmla="*/ 0 h 4047840"/>
                <a:gd name="textAreaBottom" fmla="*/ 4048200 h 4047840"/>
              </a:gdLst>
              <a:ahLst/>
              <a:rect l="textAreaLeft" t="textAreaTop" r="textAreaRight" b="textAreaBottom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922680" y="6530040"/>
              <a:ext cx="161640" cy="33696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769680" y="5359320"/>
              <a:ext cx="37080" cy="221400"/>
            </a:xfrm>
            <a:custGeom>
              <a:avLst/>
              <a:gdLst>
                <a:gd name="textAreaLeft" fmla="*/ 0 w 37080"/>
                <a:gd name="textAreaRight" fmla="*/ 37440 w 3708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22"/>
            <p:cNvSpPr/>
            <p:nvPr/>
          </p:nvSpPr>
          <p:spPr>
            <a:xfrm>
              <a:off x="849960" y="6244560"/>
              <a:ext cx="238320" cy="62208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622080"/>
                <a:gd name="textAreaBottom" fmla="*/ 622440 h 622080"/>
              </a:gdLst>
              <a:ahLst/>
              <a:rect l="textAreaLeft" t="textAreaTop" r="textAreaRight" b="textAreaBottom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chemeClr val="tx2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9"/>
          <p:cNvGrpSpPr/>
          <p:nvPr/>
        </p:nvGrpSpPr>
        <p:grpSpPr>
          <a:xfrm>
            <a:off x="27360" y="-720"/>
            <a:ext cx="2356200" cy="6853680"/>
            <a:chOff x="27360" y="-720"/>
            <a:chExt cx="2356200" cy="6853680"/>
          </a:xfrm>
        </p:grpSpPr>
        <p:sp>
          <p:nvSpPr>
            <p:cNvPr id="83" name="Freeform 27"/>
            <p:cNvSpPr/>
            <p:nvPr/>
          </p:nvSpPr>
          <p:spPr>
            <a:xfrm>
              <a:off x="27360" y="-720"/>
              <a:ext cx="493920" cy="4400640"/>
            </a:xfrm>
            <a:custGeom>
              <a:avLst/>
              <a:gdLst>
                <a:gd name="textAreaLeft" fmla="*/ 0 w 493920"/>
                <a:gd name="textAreaRight" fmla="*/ 494280 w 493920"/>
                <a:gd name="textAreaTop" fmla="*/ 0 h 4400640"/>
                <a:gd name="textAreaBottom" fmla="*/ 4401000 h 4400640"/>
              </a:gdLst>
              <a:ahLst/>
              <a:rect l="textAreaLeft" t="textAreaTop" r="textAreaRight" b="textAreaBottom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8"/>
            <p:cNvSpPr/>
            <p:nvPr/>
          </p:nvSpPr>
          <p:spPr>
            <a:xfrm>
              <a:off x="550440" y="4316400"/>
              <a:ext cx="423000" cy="1580400"/>
            </a:xfrm>
            <a:custGeom>
              <a:avLst/>
              <a:gdLst>
                <a:gd name="textAreaLeft" fmla="*/ 0 w 423000"/>
                <a:gd name="textAreaRight" fmla="*/ 423360 w 423000"/>
                <a:gd name="textAreaTop" fmla="*/ 0 h 1580400"/>
                <a:gd name="textAreaBottom" fmla="*/ 1580760 h 1580400"/>
              </a:gdLst>
              <a:ahLst/>
              <a:rect l="textAreaLeft" t="textAreaTop" r="textAreaRight" b="textAreaBottom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29"/>
            <p:cNvSpPr/>
            <p:nvPr/>
          </p:nvSpPr>
          <p:spPr>
            <a:xfrm>
              <a:off x="1006200" y="5862600"/>
              <a:ext cx="430560" cy="990360"/>
            </a:xfrm>
            <a:custGeom>
              <a:avLst/>
              <a:gdLst>
                <a:gd name="textAreaLeft" fmla="*/ 0 w 430560"/>
                <a:gd name="textAreaRight" fmla="*/ 430920 w 430560"/>
                <a:gd name="textAreaTop" fmla="*/ 0 h 990360"/>
                <a:gd name="textAreaBottom" fmla="*/ 990720 h 990360"/>
              </a:gdLst>
              <a:ahLst/>
              <a:rect l="textAreaLeft" t="textAreaTop" r="textAreaRight" b="textAreaBottom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0"/>
            <p:cNvSpPr/>
            <p:nvPr/>
          </p:nvSpPr>
          <p:spPr>
            <a:xfrm>
              <a:off x="521640" y="4364280"/>
              <a:ext cx="551520" cy="223560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2235600"/>
                <a:gd name="textAreaBottom" fmla="*/ 2235960 h 2235600"/>
              </a:gdLst>
              <a:ahLst/>
              <a:rect l="textAreaLeft" t="textAreaTop" r="textAreaRight" b="textAreaBottom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1"/>
            <p:cNvSpPr/>
            <p:nvPr/>
          </p:nvSpPr>
          <p:spPr>
            <a:xfrm>
              <a:off x="468000" y="1289160"/>
              <a:ext cx="173880" cy="302688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3026880"/>
                <a:gd name="textAreaBottom" fmla="*/ 3027240 h 3026880"/>
              </a:gdLst>
              <a:ahLst/>
              <a:rect l="textAreaLeft" t="textAreaTop" r="textAreaRight" b="textAreaBottom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2"/>
            <p:cNvSpPr/>
            <p:nvPr/>
          </p:nvSpPr>
          <p:spPr>
            <a:xfrm>
              <a:off x="1111680" y="6571440"/>
              <a:ext cx="133920" cy="281160"/>
            </a:xfrm>
            <a:custGeom>
              <a:avLst/>
              <a:gdLst>
                <a:gd name="textAreaLeft" fmla="*/ 0 w 133920"/>
                <a:gd name="textAreaRight" fmla="*/ 134280 w 13392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3"/>
            <p:cNvSpPr/>
            <p:nvPr/>
          </p:nvSpPr>
          <p:spPr>
            <a:xfrm>
              <a:off x="502560" y="4107600"/>
              <a:ext cx="82080" cy="5112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4"/>
            <p:cNvSpPr/>
            <p:nvPr/>
          </p:nvSpPr>
          <p:spPr>
            <a:xfrm>
              <a:off x="973800" y="3145680"/>
              <a:ext cx="1409760" cy="2716560"/>
            </a:xfrm>
            <a:custGeom>
              <a:avLst/>
              <a:gdLst>
                <a:gd name="textAreaLeft" fmla="*/ 0 w 1409760"/>
                <a:gd name="textAreaRight" fmla="*/ 1410120 w 1409760"/>
                <a:gd name="textAreaTop" fmla="*/ 0 h 2716560"/>
                <a:gd name="textAreaBottom" fmla="*/ 2716920 h 2716560"/>
              </a:gdLst>
              <a:ahLst/>
              <a:rect l="textAreaLeft" t="textAreaTop" r="textAreaRight" b="textAreaBottom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5"/>
            <p:cNvSpPr/>
            <p:nvPr/>
          </p:nvSpPr>
          <p:spPr>
            <a:xfrm>
              <a:off x="1073520" y="6600240"/>
              <a:ext cx="120240" cy="252720"/>
            </a:xfrm>
            <a:custGeom>
              <a:avLst/>
              <a:gdLst>
                <a:gd name="textAreaLeft" fmla="*/ 0 w 120240"/>
                <a:gd name="textAreaRight" fmla="*/ 120600 w 120240"/>
                <a:gd name="textAreaTop" fmla="*/ 0 h 252720"/>
                <a:gd name="textAreaBottom" fmla="*/ 253080 h 252720"/>
              </a:gdLst>
              <a:ahLst/>
              <a:rect l="textAreaLeft" t="textAreaTop" r="textAreaRight" b="textAreaBottom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6"/>
            <p:cNvSpPr/>
            <p:nvPr/>
          </p:nvSpPr>
          <p:spPr>
            <a:xfrm>
              <a:off x="973800" y="5897160"/>
              <a:ext cx="137520" cy="6739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673920"/>
                <a:gd name="textAreaBottom" fmla="*/ 674280 h 673920"/>
              </a:gdLst>
              <a:ahLst/>
              <a:rect l="textAreaLeft" t="textAreaTop" r="textAreaRight" b="textAreaBottom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7"/>
            <p:cNvSpPr/>
            <p:nvPr/>
          </p:nvSpPr>
          <p:spPr>
            <a:xfrm>
              <a:off x="973800" y="5772600"/>
              <a:ext cx="37800" cy="22752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38"/>
            <p:cNvSpPr/>
            <p:nvPr/>
          </p:nvSpPr>
          <p:spPr>
            <a:xfrm>
              <a:off x="1006200" y="6322680"/>
              <a:ext cx="210240" cy="530280"/>
            </a:xfrm>
            <a:custGeom>
              <a:avLst/>
              <a:gdLst>
                <a:gd name="textAreaLeft" fmla="*/ 0 w 210240"/>
                <a:gd name="textAreaRight" fmla="*/ 210600 w 2102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tangle 6"/>
          <p:cNvSpPr/>
          <p:nvPr/>
        </p:nvSpPr>
        <p:spPr>
          <a:xfrm>
            <a:off x="0" y="0"/>
            <a:ext cx="182520" cy="6857640"/>
          </a:xfrm>
          <a:prstGeom prst="rect">
            <a:avLst/>
          </a:prstGeom>
          <a:solidFill>
            <a:schemeClr val="tx2"/>
          </a:solidFill>
          <a:ln>
            <a:noFill/>
          </a:ln>
          <a:effectLst>
            <a:outerShdw blurRad="38160" dir="5400000" dist="2556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589120" y="2133720"/>
            <a:ext cx="8915040" cy="37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800" spc="-1" strike="noStrike">
                <a:solidFill>
                  <a:srgbClr val="404040"/>
                </a:solidFill>
                <a:latin typeface="Century Gothic"/>
              </a:rPr>
              <a:t>Образец текста</a:t>
            </a: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600" spc="-1" strike="noStrike">
                <a:solidFill>
                  <a:srgbClr val="404040"/>
                </a:solidFill>
                <a:latin typeface="Century Gothic"/>
              </a:rPr>
              <a:t>Второй уровень</a:t>
            </a:r>
            <a:endParaRPr b="0" lang="ru-RU" sz="16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400" spc="-1" strike="noStrike">
                <a:solidFill>
                  <a:srgbClr val="404040"/>
                </a:solidFill>
                <a:latin typeface="Century Gothic"/>
              </a:rPr>
              <a:t>Третий уровень</a:t>
            </a:r>
            <a:endParaRPr b="0" lang="ru-RU" sz="14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Четвер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</a:pPr>
            <a:r>
              <a:rPr b="0" lang="ru-RU" sz="1200" spc="-1" strike="noStrike">
                <a:solidFill>
                  <a:srgbClr val="404040"/>
                </a:solidFill>
                <a:latin typeface="Century Gothic"/>
              </a:rPr>
              <a:t>Пятый уровень</a:t>
            </a:r>
            <a:endParaRPr b="0" lang="ru-RU" sz="1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10361520" y="6130440"/>
            <a:ext cx="1145880" cy="37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900" spc="-1" strike="noStrike">
                <a:solidFill>
                  <a:srgbClr val="8b8b8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900" spc="-1" strike="noStrike">
                <a:solidFill>
                  <a:srgbClr val="8b8b8b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589120" y="6135840"/>
            <a:ext cx="76197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11"/>
          <p:cNvSpPr/>
          <p:nvPr/>
        </p:nvSpPr>
        <p:spPr>
          <a:xfrm flipV="1">
            <a:off x="-3960" y="713880"/>
            <a:ext cx="1588320" cy="506880"/>
          </a:xfrm>
          <a:custGeom>
            <a:avLst/>
            <a:gdLst>
              <a:gd name="textAreaLeft" fmla="*/ 0 w 1588320"/>
              <a:gd name="textAreaRight" fmla="*/ 1588680 w 1588320"/>
              <a:gd name="textAreaTop" fmla="*/ 360 h 506880"/>
              <a:gd name="textAreaBottom" fmla="*/ 507600 h 506880"/>
            </a:gdLst>
            <a:ahLst/>
            <a:rect l="textAreaLeft" t="textAreaTop" r="textAreaRight" b="textAreaBottom"/>
            <a:pathLst>
              <a:path w="9248" h="10000">
                <a:moveTo>
                  <a:pt x="9248" y="4701"/>
                </a:moveTo>
                <a:lnTo>
                  <a:pt x="7915" y="188"/>
                </a:lnTo>
                <a:cubicBezTo>
                  <a:pt x="7906" y="156"/>
                  <a:pt x="7895" y="126"/>
                  <a:pt x="7886" y="94"/>
                </a:cubicBezTo>
                <a:cubicBezTo>
                  <a:pt x="7859" y="0"/>
                  <a:pt x="7831" y="0"/>
                  <a:pt x="7803" y="0"/>
                </a:cubicBezTo>
                <a:lnTo>
                  <a:pt x="7275" y="0"/>
                </a:lnTo>
                <a:lnTo>
                  <a:pt x="0" y="70"/>
                </a:lnTo>
                <a:cubicBezTo>
                  <a:pt x="8" y="3380"/>
                  <a:pt x="17" y="6690"/>
                  <a:pt x="25" y="10000"/>
                </a:cubicBezTo>
                <a:lnTo>
                  <a:pt x="7275" y="9966"/>
                </a:lnTo>
                <a:lnTo>
                  <a:pt x="7803" y="9966"/>
                </a:lnTo>
                <a:cubicBezTo>
                  <a:pt x="7831" y="9966"/>
                  <a:pt x="7859" y="9872"/>
                  <a:pt x="7886" y="9872"/>
                </a:cubicBezTo>
                <a:cubicBezTo>
                  <a:pt x="7886" y="9778"/>
                  <a:pt x="7915" y="9778"/>
                  <a:pt x="7915" y="9778"/>
                </a:cubicBezTo>
                <a:lnTo>
                  <a:pt x="9248" y="5265"/>
                </a:lnTo>
                <a:cubicBezTo>
                  <a:pt x="9303" y="5077"/>
                  <a:pt x="9303" y="4889"/>
                  <a:pt x="9248" y="4701"/>
                </a:cubicBezTo>
                <a:close/>
              </a:path>
            </a:pathLst>
          </a:cu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6"/>
          </p:nvPr>
        </p:nvSpPr>
        <p:spPr>
          <a:xfrm>
            <a:off x="531720" y="787680"/>
            <a:ext cx="77940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2000" spc="-1" strike="noStrike">
                <a:solidFill>
                  <a:srgbClr val="fe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08E8C4-22E2-44DF-BFC3-D606F7825500}" type="slidenum">
              <a:rPr b="0" lang="ru-RU" sz="2000" spc="-1" strike="noStrike">
                <a:solidFill>
                  <a:srgbClr val="feffff"/>
                </a:solidFill>
                <a:latin typeface="Century Gothic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89120" y="1626120"/>
            <a:ext cx="8915040" cy="226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f0000"/>
                </a:solidFill>
                <a:latin typeface="Century Gothic"/>
              </a:rPr>
              <a:t>Математические софизмы.</a:t>
            </a:r>
            <a:endParaRPr b="0" lang="ru-RU" sz="5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89120" y="21312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Софизм.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022120" y="943560"/>
            <a:ext cx="9820080" cy="59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i="1" lang="ru-RU" sz="2800" spc="-1" strike="noStrike">
                <a:solidFill>
                  <a:srgbClr val="404040"/>
                </a:solidFill>
                <a:latin typeface="Century Gothic"/>
              </a:rPr>
              <a:t>Софизмом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 называется умышленно ложное умозаключение, которое имеет видимость правильного. 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Каков бы ни был софизм, он обязательно содержит одну или несколько замаскированных ошибок. Особенно часто в математических софизмах выполняются «запрещенные»   действия или не учитываются условия применения теорем, формул и правил. 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Иногда рассуждения ведутся с использованием ошибочного чертежа или опираются на приводящие к ошибочным заключениям «очевидности».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600" spc="-1" strike="noStrike" u="sng">
                <a:solidFill>
                  <a:srgbClr val="262626"/>
                </a:solidFill>
                <a:uFillTx/>
                <a:latin typeface="Century Gothic"/>
              </a:rPr>
              <a:t>Софизм 5=6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51640" y="1264680"/>
            <a:ext cx="9680760" cy="402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Возьмём числовое тождество: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35 + 10 – 45 = 42 + 12 – 54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Вынесем общие множители левой и правой частей за скобки.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Получим: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5 (7 + 2 – 9) = 6 (7 + 2 – 9)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Разделим обе части этого равенства на общий множитель (заключённый в скобки).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Century Gothic"/>
              </a:rPr>
              <a:t>Получаем                                        5 = 6</a:t>
            </a:r>
            <a:endParaRPr b="0" lang="ru-RU" sz="28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1927440" y="5414400"/>
            <a:ext cx="60955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(Ошибка: общий множитель (7 + 2 – 9) равен 0, а делить на 0 нельз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p14:dur="10"/>
    </mc:Choice>
    <mc:Fallback>
      <p:transition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00520" y="765720"/>
            <a:ext cx="8911440" cy="462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	</a:t>
            </a:r>
            <a:r>
              <a:rPr b="0" lang="ru-RU" sz="3600" spc="-1" strike="noStrike" u="sng">
                <a:solidFill>
                  <a:srgbClr val="262626"/>
                </a:solidFill>
                <a:uFillTx/>
                <a:latin typeface="Century Gothic"/>
              </a:rPr>
              <a:t>Один рубль не равен ста копейкам </a:t>
            </a: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 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Возьмем верное равенство: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1 р. = 100 к.,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Возведем его по частям в квадрат, получим: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1 р. = 10000 к.  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Таким образом, один рубль не равен ста копейкам.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   </a:t>
            </a:r>
            <a:br>
              <a:rPr sz="3600"/>
            </a:b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  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Прямоугольник 4"/>
          <p:cNvSpPr/>
          <p:nvPr/>
        </p:nvSpPr>
        <p:spPr>
          <a:xfrm>
            <a:off x="2210760" y="5156640"/>
            <a:ext cx="9598680" cy="10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(Ошибка:</a:t>
            </a: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озведение в квадрат величин не имеет смысла, в квадрат возводятся только числа).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93080" y="624240"/>
            <a:ext cx="8911440" cy="12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262626"/>
                </a:solidFill>
                <a:latin typeface="Century Gothic"/>
              </a:rPr>
              <a:t> </a:t>
            </a:r>
            <a:r>
              <a:rPr b="1" lang="en-US" sz="3600" spc="-1" strike="noStrike" u="sng">
                <a:solidFill>
                  <a:srgbClr val="262626"/>
                </a:solidFill>
                <a:uFillTx/>
                <a:latin typeface="Century Gothic"/>
              </a:rPr>
              <a:t> </a:t>
            </a:r>
            <a:r>
              <a:rPr b="1" lang="en-US" sz="3600" spc="-1" strike="noStrike" u="sng">
                <a:solidFill>
                  <a:srgbClr val="262626"/>
                </a:solidFill>
                <a:uFillTx/>
                <a:latin typeface="Century Gothic"/>
              </a:rPr>
              <a:t>2 x 2= 5</a:t>
            </a:r>
            <a:endParaRPr b="0" lang="ru-RU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331720" y="1399680"/>
            <a:ext cx="9172440" cy="377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Имеем числовое тождество: 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4 : 4 = 5 : 5. 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Вынесем за скобки общий множитель: 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4(1:1) = 5(1:1). 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Числа в скобках равны - их можно сократить. Получим:                     4 = 5 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404040"/>
                </a:solidFill>
                <a:latin typeface="Century Gothic"/>
              </a:rPr>
              <a:t>Или                              2*2=5</a:t>
            </a: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48" name="Прямоугольник 3"/>
          <p:cNvSpPr/>
          <p:nvPr/>
        </p:nvSpPr>
        <p:spPr>
          <a:xfrm>
            <a:off x="2593080" y="5324040"/>
            <a:ext cx="9371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шибка сделана при вынесении общих множителей 4 из левой части и 5 из правой. Действительно, 4:4=1:1, но 4:4≠4(1:1). Так выносить за скобки нельз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Легкий дым">
  <a:themeElements>
    <a:clrScheme name="Легкий дым">
      <a:dk1>
        <a:srgbClr val="000000"/>
      </a:dk1>
      <a:lt1>
        <a:srgbClr val="ffffff"/>
      </a:lt1>
      <a:dk2>
        <a:srgbClr val="766f54"/>
      </a:dk2>
      <a:lt2>
        <a:srgbClr val="e3eacf"/>
      </a:lt2>
      <a:accent1>
        <a:srgbClr val="a53010"/>
      </a:accent1>
      <a:accent2>
        <a:srgbClr val="de7e18"/>
      </a:accent2>
      <a:accent3>
        <a:srgbClr val="9f8351"/>
      </a:accent3>
      <a:accent4>
        <a:srgbClr val="728653"/>
      </a:accent4>
      <a:accent5>
        <a:srgbClr val="92aa4c"/>
      </a:accent5>
      <a:accent6>
        <a:srgbClr val="6aac91"/>
      </a:accent6>
      <a:hlink>
        <a:srgbClr val="fb4a18"/>
      </a:hlink>
      <a:folHlink>
        <a:srgbClr val="fb931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isp</Template>
  <TotalTime>62</TotalTime>
  <Application>LibreOffice/7.4.7.2$Linux_X86_64 LibreOffice_project/40$Build-2</Application>
  <AppVersion>15.0000</AppVersion>
  <Words>154</Words>
  <Paragraphs>2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17T09:20:44Z</dcterms:created>
  <dc:creator>Ученик</dc:creator>
  <dc:description/>
  <dc:language>en-US</dc:language>
  <cp:lastModifiedBy>Ученик</cp:lastModifiedBy>
  <dcterms:modified xsi:type="dcterms:W3CDTF">2015-07-17T10:24:42Z</dcterms:modified>
  <cp:revision>5</cp:revision>
  <dc:subject/>
  <dc:title>Математические софизмы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Широкоэкранный</vt:lpwstr>
  </property>
  <property fmtid="{D5CDD505-2E9C-101B-9397-08002B2CF9AE}" pid="3" name="Slides">
    <vt:r8>5</vt:r8>
  </property>
</Properties>
</file>