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44A9-CE52-450E-8F1A-362001AF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EA4A-B8D1-429C-B58F-36918D4A9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319E-32E4-4CD9-87BC-2D8303B26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CFBA-2B75-4E44-AA7D-9707E5E3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645F-CDE9-4F0A-9A16-F822FA16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E2F6-93A9-4A32-92C2-9CCBAE46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89BC-E2AB-4151-B60B-739983A3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F70C-C4A3-43D8-A654-68624826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BCDC3-7BE3-4D13-B44C-86500649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CCAE0-F52F-43D1-9B66-5B64E7FA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E09B9-1F29-440A-AC71-51F5CE19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4456-2483-4C10-B5BD-86F559E3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2494-A48E-4649-B38F-B2C6A099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662E-1547-4323-AC1A-3FEF91E0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46DA-CF9F-4DD0-B21D-6AE4C6EC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5F09-E882-4C6E-AB56-1157CD12F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7A46-8118-45C4-979A-EABB0AE19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AA9C-3512-4A60-A17D-94CD63B7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BBED-512C-45B4-B0F3-A5C75DB9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F141-09A6-474E-81BF-9769A7D0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4DEB-48F3-4A11-BB14-9F3EE349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221-5882-4DB2-B4E8-7ED8595A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DA9E-39D5-49FD-AE52-2464FAD7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E70-956C-496F-8BDE-EB7DABDE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4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CC102C-01F1-44F9-A6E8-F707734BD26C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83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39C862E-568F-4D0B-B7C1-B394E7178ECF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89120" y="162612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0000"/>
                </a:solidFill>
                <a:latin typeface="Century Gothic"/>
              </a:rPr>
              <a:t>Математические софизмы.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89120" y="21312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офизм.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22120" y="943560"/>
            <a:ext cx="9820080" cy="59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Софизмом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 называется умышленно ложное умозаключение, которое имеет видимость правильного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Каков бы ни был софизм, он обязательно содержит одну или несколько замаскированных ошибок. Особенно часто в математических софизмах выполняются «запрещенные»   действия или не учитываются условия применения теорем, формул и правил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Иногда рассуждения ведутся с использованием ошибочного чертежа или опираются на приводящие к ошибочным заключениям «очевидности»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Софизм 5=6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51640" y="1264680"/>
            <a:ext cx="9680760" cy="40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озьмём числовое тождество: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35 + 10 – 45 = 42 + 12 – 54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ынесем общие множители левой и правой частей за скобки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олучим: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5 (7 + 2 – 9) = 6 (7 + 2 – 9)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Разделим обе части этого равенства на общий множитель (заключённый в скобки)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олучаем                                        5 = 6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1927440" y="5414400"/>
            <a:ext cx="609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(Ошибка: общий множитель (7 + 2 – 9) равен 0, а делить на 0 нельз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00520" y="765720"/>
            <a:ext cx="8911440" cy="462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Один рубль не равен ста копейкам 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Возьмем верное равенство: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1 р. = 100 к.,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Возведем его по частям в квадрат, получим: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1 р. = 10000 к.  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Таким образом, один рубль не равен ста копейкам.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   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  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210760" y="5156640"/>
            <a:ext cx="959868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(Ошибка: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зведение в квадрат величин не имеет смысла, в квадрат возводятся только числа)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 </a:t>
            </a:r>
            <a:r>
              <a:rPr b="1" lang="en-US" sz="3600" spc="-1" strike="noStrike" u="sng">
                <a:solidFill>
                  <a:srgbClr val="262626"/>
                </a:solidFill>
                <a:uFillTx/>
                <a:latin typeface="Century Gothic"/>
              </a:rPr>
              <a:t> </a:t>
            </a:r>
            <a:r>
              <a:rPr b="1" lang="en-US" sz="3600" spc="-1" strike="noStrike" u="sng">
                <a:solidFill>
                  <a:srgbClr val="262626"/>
                </a:solidFill>
                <a:uFillTx/>
                <a:latin typeface="Century Gothic"/>
              </a:rPr>
              <a:t>2 x 2= 5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331720" y="1399680"/>
            <a:ext cx="9172440" cy="377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Имеем числовое тождество: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4 : 4 = 5 : 5.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Вынесем за скобки общий множитель: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4(1:1) = 5(1:1).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Числа в скобках равны - их можно сократить. Получим:                     4 = 5 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Или                              2*2=5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" name="Прямоугольник 3"/>
          <p:cNvSpPr/>
          <p:nvPr/>
        </p:nvSpPr>
        <p:spPr>
          <a:xfrm>
            <a:off x="2593080" y="5324040"/>
            <a:ext cx="9371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шибка сделана при вынесении общих множителей 4 из левой части и 5 из правой. Действительно, 4:4=1:1, но 4:4≠4(1:1). Так выносить за скобки нельз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62</TotalTime>
  <Application>LibreOffice/7.4.7.2$Linux_X86_64 LibreOffice_project/40$Build-2</Application>
  <AppVersion>15.0000</AppVersion>
  <Words>154</Words>
  <Paragraphs>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9:20:44Z</dcterms:created>
  <dc:creator>Ученик</dc:creator>
  <dc:description/>
  <dc:language>en-US</dc:language>
  <cp:lastModifiedBy>Ученик</cp:lastModifiedBy>
  <dcterms:modified xsi:type="dcterms:W3CDTF">2015-07-17T10:24:42Z</dcterms:modified>
  <cp:revision>5</cp:revision>
  <dc:subject/>
  <dc:title>Математические софизмы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5</vt:r8>
  </property>
</Properties>
</file>