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FC395-DAFC-4CE0-96DE-E61F172AA1A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746EF-2DC9-4089-87BE-13D32532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B5D46-F9A4-4162-A7DF-20BCA63E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B8C6-FFE9-45AF-9799-AD03BB5E8E3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58DFE-7C1C-46D3-A569-ECB4C21920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1D2C83-7E01-45DE-A820-42F78FE5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FDDEE-5C7E-41AC-8AC6-4F5F183A9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717BD-9496-427F-93FE-8A31D0EE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230496-E622-4A8F-AB44-9AFBE26B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7D5C6-79C5-46DB-8B33-88C175BE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84B9E-4BA8-4437-8496-BBC92662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DBC7-7607-4420-B8BA-70F38F74B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654E0-4075-4360-9860-2C3D75DBE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40343-6CF0-436C-8744-FFF442BD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3F0256-C128-4C0D-95D3-85D0D560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1B1D7-8DC7-4F73-B31E-7DED1936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B1A5A8-61D7-47C5-AF4C-180CD31D95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C1C4-6A71-435A-9F59-85459D0EB2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ECA19-A799-4634-A93F-7D4D19584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1535-4DFC-4C2D-B278-E64DD9B1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B57A-F53A-4B8C-8AC3-EA7C1AB3A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0F20-77D9-4AA8-84FF-C94FAE95D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3A3B3-179B-43B6-9FFD-59ABDADB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925D-3B3C-43BA-9BCF-6BFD09CE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AF93-A6F6-4900-86A9-70E7A066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0554-6291-4054-A7C8-917A90C7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01D3F-095E-43AA-B35B-DBB623AC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84B5-46BF-457E-8157-1E39683D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879B-73D3-4F45-A878-F5E6D174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1452-04FA-4191-8CCF-B1E8EF8029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F06D40-1554-49E4-8050-980A4A526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5E6E20-A7E7-42BE-BFEE-3D6A2E95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D0455B-6167-4BF6-BC7D-95779ADFC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67DE0-65E6-4F7A-ACC2-DC2B0AB0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8F7F0D-2F87-4B60-A12D-3492C6A4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B5D34C-84F8-401E-B79C-8559320F8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71C0D-882B-4342-8CAC-4C5A99C8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BD169-4601-40B5-B713-EB0BE876C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B45C3A-03C7-4B08-99DB-7FA44473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BAE1E-4280-46F5-B6BB-56E4DF47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5B6BCF-568B-4D85-8395-D86B0748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9EBF4-1ABA-46CE-81C6-BCCBD941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35C0AF-9815-4C88-8235-4F4B595D70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E6A443-E276-4C1D-9BD1-98C15FC2B7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36D33-E3F3-40DF-9E64-CE8344FEE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5DC30-D0E2-4878-B7C7-B43E0384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924818-98A7-45F9-A55C-69DA35B6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880ED1-AA90-4363-A838-60FCB65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FC4507-DA2C-4285-B259-34326B7FD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339EF2-17F4-4735-8B49-BCFFBAE0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215161-3F91-4A99-B9DF-A924069B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5CC383-1E5E-4DCB-BEAC-2E3183AE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ADE60A-531F-4243-A0FA-68D2C2EE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BCA81B-804C-41CF-B3EF-134B399B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FD4E0F-1F93-4986-B994-5993E4E0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B761-9C44-4CCA-B74E-B4FD42B19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4F5FE-1A88-46D1-86D6-07ACC00F21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DB54-C7E6-454B-B537-D5BAA66E4FF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BFE4D-9190-453C-A4D2-C73CA532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D4B83-CDE8-4CAF-9639-695CB39E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CEF65-F02D-4430-8B54-E2D4FF04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0D215-D13D-4617-A5DB-DB746452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B7D70-D735-4B01-BB83-834CA277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71B90-82CB-48A1-886F-A45A0515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4D3F4-4464-4090-B3E3-E42C6DBE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DF0D2-2CBA-45A0-B537-8192DF84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8C4B4-3CCF-4353-B218-ADBEEEB6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4684E-E095-4C14-828C-1E9FEBA0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8FF58-587F-4436-BBEE-DBAEDB60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45688-9221-4CF7-A745-01F40534B4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38B610-F4C7-46B3-81CA-3EE2758F05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9590C6-BC93-47CA-BEBC-2A3A937B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783B2F-EC46-4CA6-B37E-DF873A74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ABA91C-073A-442E-B981-A69213A2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0056E4-364B-4BA5-BC91-C2E710F97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A67DBC-D255-404D-898B-3E97ECDD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237C01-A202-4B53-A4F6-8B71E3F8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F4D9E-2199-400E-B28A-CB4ED8AE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58D03C-FE26-4053-A188-B40851D3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5113A0-0EB3-44E8-8DCA-F2DE6FE12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0C591-BB22-41E3-9D7A-75B5E693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585F04-C9C8-46AF-9CFD-46AD3E53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A1A8F-163E-4BF1-96CD-9ED56DB545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0E569-E428-4DBE-990E-463FE1F7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0880" y="6413040"/>
            <a:ext cx="2130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415200"/>
            <a:ext cx="42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589520" y="6413040"/>
            <a:ext cx="500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E7AC44-A066-482E-A7F7-DAD6C96FC2A8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520" y="5257800"/>
            <a:ext cx="189360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1371600" y="6011640"/>
            <a:ext cx="57880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391240" y="5752800"/>
            <a:ext cx="5000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DE35A8-A8BA-4745-B7B5-35042B23280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90880" y="6480000"/>
            <a:ext cx="2130120" cy="2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7589520" y="648144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4E8CA0-D340-42BF-9422-3D3C57D1A35E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5600" y="6480"/>
            <a:ext cx="2679480" cy="190656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3240"/>
            <a:ext cx="9137520" cy="685152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956280" y="6477120"/>
            <a:ext cx="2130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481800"/>
            <a:ext cx="4260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449920" y="809280"/>
            <a:ext cx="50004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A3143A-B66D-4888-853A-BB30194C3E72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9"/>
          </p:nvPr>
        </p:nvSpPr>
        <p:spPr>
          <a:xfrm>
            <a:off x="4790880" y="6481440"/>
            <a:ext cx="21272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7589520" y="648288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584D5C-9F13-4C06-A21D-D3D94CCE6DFF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1"/>
          </p:nvPr>
        </p:nvSpPr>
        <p:spPr>
          <a:xfrm>
            <a:off x="6278400" y="6555960"/>
            <a:ext cx="2130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13508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8410320" y="655596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0AFBE6-81FF-46B5-A66B-CC40975CF1BE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6108480" y="6555960"/>
            <a:ext cx="20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70000" y="6558120"/>
            <a:ext cx="4948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8217000" y="6555960"/>
            <a:ext cx="3636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5E5518-8DA7-4BD6-B6D0-BF9D8980FD35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536400" y="768240"/>
            <a:ext cx="8647200" cy="2733840"/>
            <a:chOff x="536400" y="768240"/>
            <a:chExt cx="8647200" cy="2733840"/>
          </a:xfrm>
        </p:grpSpPr>
        <p:pic>
          <p:nvPicPr>
            <p:cNvPr id="302" name="Picture 2" descr=""/>
            <p:cNvPicPr/>
            <p:nvPr/>
          </p:nvPicPr>
          <p:blipFill>
            <a:blip r:embed="rId1"/>
            <a:stretch/>
          </p:blipFill>
          <p:spPr>
            <a:xfrm>
              <a:off x="536400" y="768240"/>
              <a:ext cx="864720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3"/>
            <p:cNvSpPr/>
            <p:nvPr/>
          </p:nvSpPr>
          <p:spPr>
            <a:xfrm>
              <a:off x="536400" y="768240"/>
              <a:ext cx="8647200" cy="27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500040" y="142920"/>
            <a:ext cx="814392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7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лакаты созданные в СССР в период Великой Отечественной Войны- одно из самых ярких художественных явлений культуры 20 века.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37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ru-RU" sz="37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 сегодня, спустя десятилетия со времен создания, плакатов  1941-1945 годов осталось искусством  острым, боевым, и призывным.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1706400" y="2030400"/>
            <a:ext cx="52308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785880" y="135720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каты Великой Отечественной Войны- являлись одним из средств агитации в военное время, которое вместе с радио и газетами побуждало людей к действию: боевым и трудовым подвигам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5286240" cy="59292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6143760" y="2286000"/>
            <a:ext cx="264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«Родина мать зовёт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Художник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оидзе 1941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4762440" cy="6215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5429160" y="428760"/>
            <a:ext cx="3429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дной из тем плаката 1942 года стала тема страдания Советских людей, особенно детей, на оккупированных территориях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лакат В.Б. Корецкого «Воин Красной Армии, спаси!» впервые появился на страницах газеты «Правда»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5 августа 1942 года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3357720" cy="5143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2"/>
          <a:stretch/>
        </p:blipFill>
        <p:spPr>
          <a:xfrm>
            <a:off x="4714920" y="357120"/>
            <a:ext cx="3848040" cy="51436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0" y="5786280"/>
            <a:ext cx="900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есстрашие, героизм и фронтовое братство советских воинов воспели плакаты Н. Жукова «Немецкий танк здесь не пройдет!»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А. Кокорина «Когда бронебойщик стоит на пути …»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400068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4857840" y="1000080"/>
            <a:ext cx="3875040" cy="50738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4"/>
          <p:cNvSpPr/>
          <p:nvPr/>
        </p:nvSpPr>
        <p:spPr>
          <a:xfrm>
            <a:off x="214200" y="407196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 тылу было очень важно поддержать порядок среди населения, призвать его к помощи фронту для скорейшего окончания вой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4786200" cy="42148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5072040" y="642960"/>
            <a:ext cx="378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4714920" cy="61434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2"/>
          <p:cNvSpPr/>
          <p:nvPr/>
        </p:nvSpPr>
        <p:spPr>
          <a:xfrm>
            <a:off x="5500800" y="714240"/>
            <a:ext cx="3286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«На запад»- </a:t>
            </a:r>
            <a:r>
              <a:rPr b="0" lang="ru-RU" sz="3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лакаты этой темы отличало  сочетание героизма и лиричности при создании образов советского воина</a:t>
            </a:r>
            <a:r>
              <a:rPr b="0" lang="ru-RU" sz="2800" spc="-1" strike="noStrike">
                <a:solidFill>
                  <a:srgbClr val="b9d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155520" y="357120"/>
            <a:ext cx="3773520" cy="42861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"/>
          <p:cNvPicPr/>
          <p:nvPr/>
        </p:nvPicPr>
        <p:blipFill>
          <a:blip r:embed="rId2"/>
          <a:stretch/>
        </p:blipFill>
        <p:spPr>
          <a:xfrm>
            <a:off x="4429080" y="357120"/>
            <a:ext cx="4519800" cy="63248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7"/>
          <p:cNvSpPr/>
          <p:nvPr/>
        </p:nvSpPr>
        <p:spPr>
          <a:xfrm>
            <a:off x="285840" y="4857840"/>
            <a:ext cx="378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349e"/>
                </a:solidFill>
                <a:uFillTx/>
                <a:latin typeface="Times New Roman"/>
                <a:ea typeface="Times New Roman"/>
              </a:rPr>
              <a:t>Плакаты о Победе</a:t>
            </a:r>
            <a:r>
              <a:rPr b="1" lang="ru-RU" sz="24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звестие о победе и окончании войны стало самым знаменательным событием 1945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2T08:52:20Z</dcterms:created>
  <dc:creator>www.PHILka.RU</dc:creator>
  <dc:description/>
  <dc:language>en-US</dc:language>
  <cp:lastModifiedBy>Брылева</cp:lastModifiedBy>
  <dcterms:modified xsi:type="dcterms:W3CDTF">2018-06-21T06:32:35Z</dcterms:modified>
  <cp:revision>29</cp:revision>
  <dc:subject/>
  <dc:title>Плакаты Великой Отечественной войны</dc:title>
</cp:coreProperties>
</file>