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C9DEC-03AC-42F0-8D83-BD4A703010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F3D54-EE21-4E54-8B4F-A1B562B0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B720D-FB41-4F05-9731-F085037F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2734C-92B0-47F6-9D33-2F75F83D6B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48118-E4AB-47F5-A4F7-FA0C005DC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B5F243-3A1C-4129-B7BB-F614AAA9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96412-37D6-4F9C-9CAF-9EBE90262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011634-7A90-4D50-B6F2-87EEAB74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5DE60B-D213-423D-929C-44F0013A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52630-E526-42D1-A1B6-F110F2E42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C1EC79-7F86-4AEF-B73D-EA778AD4E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75615-1E99-4990-8412-2C1B2EA51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B53A32-5328-4681-B76A-6760D6B44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387214-1841-4ADA-B0D7-2E32F4915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753319-26E2-4E20-85E6-4C745B62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7C465-1FF2-49F8-9B9D-3774F28E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CBA38-0254-46EE-9047-A954E211A5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46CC-C7A1-4B86-AEC2-3AD65DA84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12D88-B2D8-4DED-9718-CDEADE1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0D8B-9197-426E-9300-0C1DA313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008F9-C6D5-4985-868E-A7E20417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8D07-D475-4475-A4A4-A3D0286A9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89704-E48B-4806-991B-FC80DCEF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F59B2-81D0-4F2A-A087-A245217C6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FE316-0859-4EFE-B51D-1A0D0046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8CAD-68EB-4C2D-B19B-9AC6835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FD74-A348-498A-8520-FBD93051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3D70-55A4-4FBD-BA5D-87270D43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05D1-566D-4FB1-8A89-616D2D48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D7B2A-5278-4AE8-AAA2-9E5DE204B1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8A02D-44FC-434D-A6D2-2BD3ABA7D9F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5071DE-4F95-4B5C-BF04-B1CECA941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5990B9-BF84-42A3-AEEB-40F8616C5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66B62-1B9D-4F9E-AD0B-B265B628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50FBF1-5D36-40F8-9C56-2AC204992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93891-4C53-45F4-BAFE-F0A39142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D910C0-598E-4611-9D60-D346C8A24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DACC9B-7314-41F1-A765-66B0250FB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BD94EF-DA32-485C-B29C-15D1961B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1AF752-69F8-467D-B48F-5205E4E9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64900-96F5-469C-9D2C-F580DDB9E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1D7E5-F06A-4971-BD06-741FB766B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4D21C-B2B9-425C-B971-9E9A9C0DD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1952B0-10D5-442D-B9F5-953E34F2DE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FF6DF-D58C-49EE-A839-06AEF9276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B7A69E-0CB6-447E-918A-59080D0DC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7E6DBE-A6B2-49FD-AC8B-4E113C487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374548-A3B0-4C0E-804C-2050CBBC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A404E-FEC5-42E1-B561-009DB258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97D631-9503-4203-81B1-1E108E4FF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5D85D-7C0F-4C6F-ABF8-C6A4350EB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1B223B-9C4B-4C1F-ACF3-04F7AD7C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D60DD7-61B7-4CE9-A7DF-D6B2CA1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57489-BBC3-49EF-BCCE-DB89909D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929B4A-3C81-469D-9DB7-8D2206B91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2628-93CA-4DC9-AAD9-A9A114BD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00DBCD-D480-4E70-8E00-7C78EAA689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04F59-133B-4F2E-962E-160A7F92A0A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6D93-8615-4DCE-846E-57A6F95EB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874C6-15D1-40D2-B2BD-6022DC33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83086-8AA2-4C02-B466-1DD37C900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A1484-6BA3-469F-8BA9-CF72FC41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5DAA1-5B64-43DA-B8A4-AC43BA79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396E8-118E-47F0-9882-86729C9F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71C30-7D4C-4EE5-B481-1C263146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74097-7682-4B15-975E-13D2BC6A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9A79C-F3F6-4198-B0D6-D09CF4B3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4D808-D2B5-44A7-A862-BBAB22F5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4301-92F5-4165-BCD6-7B9DE0B3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DC8ED-1E8D-4313-A468-79B54E4D03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62E525-9EEA-4F89-ABE7-FBEC74BB8D4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440D2-86F8-4B52-9E95-F1593B46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8EEE82-2522-4438-87A4-427872F15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BBEDD9-C773-4094-B7AF-69E88F36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77B91D-207C-4379-9069-90DA76A0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6840" y="268200"/>
            <a:ext cx="8226360" cy="646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F32B4-4551-42CE-B739-8F7DE8C28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2DDAB7-0C0A-4876-873B-947CB1D1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D6D54-564F-42B3-9FFC-3C8ACE6F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4F010A-7EFE-46E1-AB0B-E58BDCF27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93C8E79-BC12-4379-A348-04BB99DF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97CE8E-1407-4595-9502-D44421D14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2440" y="426888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5061E5-D28E-4FEA-8104-94A853B35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820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19560" y="188244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820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19560" y="4268880"/>
            <a:ext cx="264852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B8E55F-579B-4408-A054-A6D3DD31DAC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2440" y="1882440"/>
            <a:ext cx="4014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68880"/>
            <a:ext cx="8226360" cy="217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CA961-3E24-4C88-BFBF-99809EDA4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0880" y="6413040"/>
            <a:ext cx="21301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415200"/>
            <a:ext cx="42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589520" y="6413040"/>
            <a:ext cx="50004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CB16D2-7255-41E9-8F47-22297E97A903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 rot="16200000">
            <a:off x="7553520" y="5257800"/>
            <a:ext cx="189360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3"/>
          </p:nvPr>
        </p:nvSpPr>
        <p:spPr>
          <a:xfrm>
            <a:off x="1371600" y="6011640"/>
            <a:ext cx="57880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8391240" y="5752800"/>
            <a:ext cx="50004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41E2BD-0AA3-40F9-ABEE-3F838B4EFD43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3"/>
          <p:cNvSpPr/>
          <p:nvPr/>
        </p:nvSpPr>
        <p:spPr>
          <a:xfrm flipH="1">
            <a:off x="6465600" y="4948200"/>
            <a:ext cx="2679480" cy="190044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5"/>
          </p:nvPr>
        </p:nvSpPr>
        <p:spPr>
          <a:xfrm>
            <a:off x="4790880" y="6480000"/>
            <a:ext cx="2130120" cy="2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6"/>
          </p:nvPr>
        </p:nvSpPr>
        <p:spPr>
          <a:xfrm>
            <a:off x="7589520" y="648144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9C0959-60EF-492E-A6CE-1F589A945D45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/>
              </a:gs>
              <a:gs pos="100000">
                <a:srgbClr val="d2d2d2">
                  <a:alpha val="117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2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ff69a4"/>
              </a:gs>
              <a:gs pos="100000">
                <a:srgbClr val="b6004a"/>
              </a:gs>
            </a:gsLst>
            <a:lin ang="15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3"/>
          <p:cNvSpPr/>
          <p:nvPr/>
        </p:nvSpPr>
        <p:spPr>
          <a:xfrm flipH="1" flipV="1">
            <a:off x="6465600" y="6480"/>
            <a:ext cx="2679480" cy="1906560"/>
          </a:xfrm>
          <a:prstGeom prst="line">
            <a:avLst/>
          </a:prstGeom>
          <a:ln w="6120">
            <a:solidFill>
              <a:srgbClr val="c6c6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4"/>
          <p:cNvSpPr/>
          <p:nvPr/>
        </p:nvSpPr>
        <p:spPr>
          <a:xfrm flipV="1">
            <a:off x="0" y="3240"/>
            <a:ext cx="9137520" cy="6851520"/>
          </a:xfrm>
          <a:prstGeom prst="line">
            <a:avLst/>
          </a:prstGeom>
          <a:ln w="50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956280" y="6477120"/>
            <a:ext cx="2130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619360" y="6481800"/>
            <a:ext cx="42609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8"/>
          </p:nvPr>
        </p:nvSpPr>
        <p:spPr>
          <a:xfrm>
            <a:off x="8449920" y="809280"/>
            <a:ext cx="500040" cy="2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1C091F-471B-4A4D-8F13-A08882588009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9"/>
          </p:nvPr>
        </p:nvSpPr>
        <p:spPr>
          <a:xfrm>
            <a:off x="4790880" y="6481440"/>
            <a:ext cx="21272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0"/>
          </p:nvPr>
        </p:nvSpPr>
        <p:spPr>
          <a:xfrm>
            <a:off x="7589520" y="648288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08127C4-8699-43D8-BB5D-A9673F5B4451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1"/>
          </p:nvPr>
        </p:nvSpPr>
        <p:spPr>
          <a:xfrm>
            <a:off x="6278400" y="6555960"/>
            <a:ext cx="2130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13508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2"/>
          </p:nvPr>
        </p:nvSpPr>
        <p:spPr>
          <a:xfrm>
            <a:off x="8410320" y="6555960"/>
            <a:ext cx="5000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1EF8861-88D6-4E65-A7DA-E8898DD5096E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c6c6c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68200"/>
            <a:ext cx="8226360" cy="13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6840" y="1882440"/>
            <a:ext cx="822636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3"/>
          </p:nvPr>
        </p:nvSpPr>
        <p:spPr>
          <a:xfrm>
            <a:off x="6108480" y="6555960"/>
            <a:ext cx="20984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170000" y="6558120"/>
            <a:ext cx="4948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4"/>
          </p:nvPr>
        </p:nvSpPr>
        <p:spPr>
          <a:xfrm>
            <a:off x="8217000" y="6555960"/>
            <a:ext cx="36360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3E73B9-23BC-46D4-B400-AFA2F4B51F08}" type="slidenum">
              <a:rPr b="0" lang="ru-RU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1"/>
          <p:cNvGrpSpPr/>
          <p:nvPr/>
        </p:nvGrpSpPr>
        <p:grpSpPr>
          <a:xfrm>
            <a:off x="536400" y="768240"/>
            <a:ext cx="8647200" cy="2733840"/>
            <a:chOff x="536400" y="768240"/>
            <a:chExt cx="8647200" cy="2733840"/>
          </a:xfrm>
        </p:grpSpPr>
        <p:pic>
          <p:nvPicPr>
            <p:cNvPr id="302" name="Picture 2" descr=""/>
            <p:cNvPicPr/>
            <p:nvPr/>
          </p:nvPicPr>
          <p:blipFill>
            <a:blip r:embed="rId1"/>
            <a:stretch/>
          </p:blipFill>
          <p:spPr>
            <a:xfrm>
              <a:off x="536400" y="768240"/>
              <a:ext cx="8647200" cy="273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3"/>
            <p:cNvSpPr/>
            <p:nvPr/>
          </p:nvSpPr>
          <p:spPr>
            <a:xfrm>
              <a:off x="536400" y="768240"/>
              <a:ext cx="8647200" cy="273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500040" y="142920"/>
            <a:ext cx="8143920" cy="51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ы созданные в СССР в период Великой Отечественной Войны- одно из самых ярких художественных явлений культуры 20 века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ru-RU" sz="37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 сегодня, спустя десятилетия со времен создания, плакатов  1941-1945 годов осталось искусством  острым, боевым, и призывным.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1706400" y="2030400"/>
            <a:ext cx="523080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1"/>
          <p:cNvSpPr/>
          <p:nvPr/>
        </p:nvSpPr>
        <p:spPr>
          <a:xfrm>
            <a:off x="785880" y="1357200"/>
            <a:ext cx="75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каты Великой Отечественной Войны- являлись одним из средств агитации в военное время, которое вместе с радио и газетами побуждало людей к действию: боевым и трудовым подвигам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" descr=""/>
          <p:cNvPicPr/>
          <p:nvPr/>
        </p:nvPicPr>
        <p:blipFill>
          <a:blip r:embed="rId1"/>
          <a:stretch/>
        </p:blipFill>
        <p:spPr>
          <a:xfrm>
            <a:off x="428760" y="285840"/>
            <a:ext cx="5286240" cy="592920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6143760" y="2286000"/>
            <a:ext cx="2643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«Родина мать зовёт!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Художник-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Тоидзе 194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3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28760" y="357120"/>
            <a:ext cx="4762440" cy="62150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5"/>
          <p:cNvSpPr/>
          <p:nvPr/>
        </p:nvSpPr>
        <p:spPr>
          <a:xfrm>
            <a:off x="5429160" y="428760"/>
            <a:ext cx="3429000" cy="46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дной из тем плаката 1942 года стала тема страдания Советских людей, особенно детей, на оккупированных территориях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 В.Б. Корецкого «Воин Красной Армии, спаси!» впервые появился на страницах газеты «Правда»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5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5 августа 1942 года. 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1" descr=""/>
          <p:cNvPicPr/>
          <p:nvPr/>
        </p:nvPicPr>
        <p:blipFill>
          <a:blip r:embed="rId1"/>
          <a:stretch/>
        </p:blipFill>
        <p:spPr>
          <a:xfrm>
            <a:off x="214200" y="357120"/>
            <a:ext cx="3357720" cy="51436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" descr=""/>
          <p:cNvPicPr/>
          <p:nvPr/>
        </p:nvPicPr>
        <p:blipFill>
          <a:blip r:embed="rId2"/>
          <a:stretch/>
        </p:blipFill>
        <p:spPr>
          <a:xfrm>
            <a:off x="4714920" y="357120"/>
            <a:ext cx="3848040" cy="514368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3"/>
          <p:cNvSpPr/>
          <p:nvPr/>
        </p:nvSpPr>
        <p:spPr>
          <a:xfrm>
            <a:off x="0" y="5786280"/>
            <a:ext cx="90010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	</a:t>
            </a: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Бесстрашие, героизм и фронтовое братство советских воинов воспели плакаты Н. Жукова «Немецкий танк здесь не пройдет!»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21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А. Кокорина «Когда бронебойщик стоит на пути …»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4000680" cy="34290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3" descr=""/>
          <p:cNvPicPr/>
          <p:nvPr/>
        </p:nvPicPr>
        <p:blipFill>
          <a:blip r:embed="rId2"/>
          <a:stretch/>
        </p:blipFill>
        <p:spPr>
          <a:xfrm>
            <a:off x="4857840" y="1000080"/>
            <a:ext cx="3875040" cy="507384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4"/>
          <p:cNvSpPr/>
          <p:nvPr/>
        </p:nvSpPr>
        <p:spPr>
          <a:xfrm>
            <a:off x="214200" y="407196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В тылу было очень важно поддержать порядок среди населения, призвать его к помощи фронту для скорейшего окончания войны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1" descr=""/>
          <p:cNvPicPr/>
          <p:nvPr/>
        </p:nvPicPr>
        <p:blipFill>
          <a:blip r:embed="rId1"/>
          <a:stretch/>
        </p:blipFill>
        <p:spPr>
          <a:xfrm>
            <a:off x="142920" y="285840"/>
            <a:ext cx="4786200" cy="421488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2"/>
          <a:stretch/>
        </p:blipFill>
        <p:spPr>
          <a:xfrm>
            <a:off x="5072040" y="642960"/>
            <a:ext cx="378612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1" descr=""/>
          <p:cNvPicPr/>
          <p:nvPr/>
        </p:nvPicPr>
        <p:blipFill>
          <a:blip r:embed="rId1"/>
          <a:stretch/>
        </p:blipFill>
        <p:spPr>
          <a:xfrm>
            <a:off x="428760" y="428760"/>
            <a:ext cx="4714920" cy="61434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2"/>
          <p:cNvSpPr/>
          <p:nvPr/>
        </p:nvSpPr>
        <p:spPr>
          <a:xfrm>
            <a:off x="5500800" y="714240"/>
            <a:ext cx="328608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«На запад»- </a:t>
            </a:r>
            <a:r>
              <a:rPr b="0" lang="ru-RU" sz="3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плакаты этой темы отличало  сочетание героизма и лиричности при создании образов советского воина</a:t>
            </a:r>
            <a:r>
              <a:rPr b="0" lang="ru-RU" sz="2800" spc="-1" strike="noStrike">
                <a:solidFill>
                  <a:srgbClr val="b9d0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8c8c"/>
            </a:gs>
            <a:gs pos="100000">
              <a:srgbClr val="4747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3" descr=""/>
          <p:cNvPicPr/>
          <p:nvPr/>
        </p:nvPicPr>
        <p:blipFill>
          <a:blip r:embed="rId1"/>
          <a:stretch/>
        </p:blipFill>
        <p:spPr>
          <a:xfrm>
            <a:off x="155520" y="357120"/>
            <a:ext cx="3773520" cy="428616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4429080" y="357120"/>
            <a:ext cx="4519800" cy="632484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7"/>
          <p:cNvSpPr/>
          <p:nvPr/>
        </p:nvSpPr>
        <p:spPr>
          <a:xfrm>
            <a:off x="285840" y="4857840"/>
            <a:ext cx="3786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00349e"/>
                </a:solidFill>
                <a:uFillTx/>
                <a:latin typeface="Times New Roman"/>
                <a:ea typeface="Times New Roman"/>
              </a:rPr>
              <a:t>Плакаты о Победе</a:t>
            </a:r>
            <a:r>
              <a:rPr b="1" lang="ru-RU" sz="2400" spc="-1" strike="noStrike">
                <a:solidFill>
                  <a:srgbClr val="00349e"/>
                </a:solidFill>
                <a:latin typeface="Times New Roman"/>
                <a:ea typeface="Times New Roman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Известие о победе и окончании войны стало самым знаменательным событием 1945 г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2T08:52:20Z</dcterms:created>
  <dc:creator>www.PHILka.RU</dc:creator>
  <dc:description/>
  <dc:language>en-US</dc:language>
  <cp:lastModifiedBy>Брылева</cp:lastModifiedBy>
  <dcterms:modified xsi:type="dcterms:W3CDTF">2018-06-21T06:32:35Z</dcterms:modified>
  <cp:revision>29</cp:revision>
  <dc:subject/>
  <dc:title>Плакаты Великой Отечественной войны</dc:title>
</cp:coreProperties>
</file>