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E99-A58E-469A-AEED-20E9F77D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C3A-3E56-4C9D-8F8D-C31E546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4CE-581E-49AF-834C-A8FC23DB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390-5DF8-4876-9E24-655CB27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95E-C3EB-44A8-AE90-24974BCD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1A49-DC96-48FC-BF1D-507610D5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4C5-E696-4B16-B1CF-09C59F8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06D-D2A2-4614-B475-D8BEAA3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E454-6B2B-4E87-9BA7-4F5C613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AEA-8A2C-465F-A5DF-ABB6DEF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CA6-A674-441A-B19C-039F2A6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D9E-19EC-4DA6-8B67-431E8966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0C4-B660-4885-9771-5473394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246E-2B0D-48ED-BA83-4E0BC91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7BE-2BB4-4B53-B3F2-EEF66DAE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42CE-FA96-45F7-B054-21B9BFA3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93EF-5E5C-420C-8DC8-283AC137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7F9-2137-40F2-9A36-1EE14F61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FFE-F99A-4360-A73B-F1495342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DB9-08C7-4A60-AAA8-F62AC1AD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CB6-A28A-451E-AD83-323FCFE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62B-CC9D-468E-9656-B138070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D2D-1B11-4567-932B-83D7DDEA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6A2-54CD-44E3-A82A-F48713F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4F1-6EF2-42DF-A29B-3ACE835E5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A85E-31CD-44A0-8979-97CE34960A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75D-DDEE-4449-AE95-601FB65DD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9528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ое народ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11600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www.bookvoed.ru/files/1836/37/39/91.jpg"/>
          <p:cNvPicPr/>
          <p:nvPr/>
        </p:nvPicPr>
        <p:blipFill>
          <a:blip r:embed="rId1"/>
          <a:stretch/>
        </p:blipFill>
        <p:spPr>
          <a:xfrm>
            <a:off x="5796000" y="1197000"/>
            <a:ext cx="3124080" cy="4762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7885080" y="1268280"/>
            <a:ext cx="934920" cy="865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s://i.arts.in.ua/i/16725/predanya-stariny-glubokoy_Rylov_Ingvar_1446803835.jpg"/>
          <p:cNvPicPr/>
          <p:nvPr/>
        </p:nvPicPr>
        <p:blipFill>
          <a:blip r:embed="rId2"/>
          <a:stretch/>
        </p:blipFill>
        <p:spPr>
          <a:xfrm>
            <a:off x="1116000" y="2649600"/>
            <a:ext cx="3527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2004120" y="3333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692360" y="112536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ия 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е Пер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school-collection.iv-edu.ru/dlrstore/a980a007-2be7-46ce-9848-cdaa3f0e8e2e/%5bLI8RK_2-01%5d_%5bIL_03%5d-k.jpg"/>
          <p:cNvPicPr/>
          <p:nvPr/>
        </p:nvPicPr>
        <p:blipFill>
          <a:blip r:embed="rId1"/>
          <a:stretch/>
        </p:blipFill>
        <p:spPr>
          <a:xfrm>
            <a:off x="971640" y="1773360"/>
            <a:ext cx="68007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642040" y="33336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онимические пр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468360" y="98100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предание об основании Киева. Киев будто бы основал князь Кий, у которого были братья Щек и Хорив и сестра Лыбедь. По их именам были названы холмы Щековица и Хоривица и река Лыб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yavix.ru/i/9/4/d/c3c5d914e67a9ec849f729ce2d3b2.jpg"/>
          <p:cNvPicPr/>
          <p:nvPr/>
        </p:nvPicPr>
        <p:blipFill>
          <a:blip r:embed="rId1"/>
          <a:stretch/>
        </p:blipFill>
        <p:spPr>
          <a:xfrm>
            <a:off x="395280" y="3141720"/>
            <a:ext cx="4454640" cy="333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aikido-mariel.ru/misc/i/gallery/22718/598787.jpg"/>
          <p:cNvPicPr/>
          <p:nvPr/>
        </p:nvPicPr>
        <p:blipFill>
          <a:blip r:embed="rId2"/>
          <a:stretch/>
        </p:blipFill>
        <p:spPr>
          <a:xfrm>
            <a:off x="5580000" y="2276640"/>
            <a:ext cx="3313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611280" y="260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гащаем свою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826920" y="836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словосочет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1484280"/>
          <a:ext cx="3384360" cy="5184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держит с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доначальник первой княжеской династ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икл ска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тровская эпо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кованность в поведении геро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емлепаш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сте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148" name="Прямоугольник 6"/>
          <p:cNvSpPr/>
          <p:nvPr/>
        </p:nvSpPr>
        <p:spPr>
          <a:xfrm>
            <a:off x="3851280" y="148428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известие, информацию о чём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3780000" y="2060640"/>
            <a:ext cx="51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этого человека пошёл княжеский род, т. е. он первым получил княжеский тит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3851280" y="292428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художественных произведений, объединяемых общностью действующих лиц, 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4140360" y="393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 Петра Первого до его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4067280" y="465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 и непринужденный в обращении с людьми в пове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"/>
          <p:cNvSpPr/>
          <p:nvPr/>
        </p:nvSpPr>
        <p:spPr>
          <a:xfrm>
            <a:off x="3995640" y="54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ин, занимающийся землепаш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3995640" y="61498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ящийся к ремесленникам, мастерам, к рабочи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ольклор – устное народное твор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 Black"/>
              </a:rPr>
              <a:t>Фольклор</a:t>
            </a:r>
            <a:r>
              <a:rPr b="1" i="1" lang="ru-RU" sz="2400" spc="-1" strike="noStrike">
                <a:solidFill>
                  <a:srgbClr val="ff0066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(англ. «народная мудрость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Совокупность созданных в народ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этических произведений, бытующих в уст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2. Устное народное поэтическ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umbrasiena.ru/wp-content/uploads/2011/12/Risunok3.png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346392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E1F-77E1-473F-B940-56104BD91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 конкретного автора, автор – весь нар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тная форма быт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значительные изменения при пересказ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о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ные произведения передаются из поколения в поколение, сохраняя традиции нар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2842-7B21-4E10-BE5D-5173D5C2E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анры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48000" y="2637000"/>
            <a:ext cx="2808360" cy="10587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льк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11280" y="4724280"/>
            <a:ext cx="18000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64000" y="4797360"/>
            <a:ext cx="230328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6804000" y="4724280"/>
            <a:ext cx="194472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11280" y="2781360"/>
            <a:ext cx="194472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3564000" y="1197000"/>
            <a:ext cx="2305080" cy="841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877080" y="2637000"/>
            <a:ext cx="187164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4716360" y="3573360"/>
            <a:ext cx="0" cy="1224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1692360" y="3573360"/>
            <a:ext cx="3024000" cy="1150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V="1">
            <a:off x="4643280" y="2060280"/>
            <a:ext cx="0" cy="576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V="1">
            <a:off x="4716360" y="1916280"/>
            <a:ext cx="2232000" cy="720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 flipH="1" flipV="1">
            <a:off x="2268000" y="1916280"/>
            <a:ext cx="2303640" cy="720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14920" y="3571920"/>
            <a:ext cx="3024000" cy="1150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7"/>
          <p:cNvSpPr/>
          <p:nvPr/>
        </p:nvSpPr>
        <p:spPr>
          <a:xfrm>
            <a:off x="539640" y="1000080"/>
            <a:ext cx="1830600" cy="106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т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6732720" y="1125360"/>
            <a:ext cx="187308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6084720" y="3068640"/>
            <a:ext cx="86364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 flipH="1">
            <a:off x="2340000" y="3141720"/>
            <a:ext cx="10080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4714920" y="3571920"/>
            <a:ext cx="2214360" cy="4287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29280" y="3643200"/>
            <a:ext cx="180036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3D47-4083-4164-9D03-7A57B9DEF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50920" y="189000"/>
            <a:ext cx="7993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жанр фольклора. Это устный рассказ, который содержит сведения об исторических лицах, событиях, передающихся из поколения в поколение. Возникают предания часто из рассказа очевид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foodexim.kvadrosoft.com/picture/post/kh0oo20reogin0872565/s/Guslyary.jpg"/>
          <p:cNvPicPr/>
          <p:nvPr/>
        </p:nvPicPr>
        <p:blipFill>
          <a:blip r:embed="rId1"/>
          <a:stretch/>
        </p:blipFill>
        <p:spPr>
          <a:xfrm>
            <a:off x="2771640" y="2533680"/>
            <a:ext cx="5688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086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держание пре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еданиях содержа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оминания о событ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ины, объяс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го-то явл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или обыч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482px-Boys_King_Arthur_-_N__C__Wyeth_-_p16"/>
          <p:cNvPicPr/>
          <p:nvPr/>
        </p:nvPicPr>
        <p:blipFill>
          <a:blip r:embed="rId1"/>
          <a:stretch/>
        </p:blipFill>
        <p:spPr>
          <a:xfrm>
            <a:off x="4859280" y="1413000"/>
            <a:ext cx="4076640" cy="507348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EA7-5608-4B4A-96B8-91C7EF3FC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988920" y="47628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предан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11280" y="14842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 Иване Гроз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е Перв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Топоним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казы о географических объек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тностях, реках, озерах, горах и проч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селенных пункт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к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history-thema.com/wp-content/uploads/2016/08/pokhod-druzhini.jpg"/>
          <p:cNvPicPr/>
          <p:nvPr/>
        </p:nvPicPr>
        <p:blipFill>
          <a:blip r:embed="rId1"/>
          <a:stretch/>
        </p:blipFill>
        <p:spPr>
          <a:xfrm>
            <a:off x="6227640" y="476280"/>
            <a:ext cx="2540160" cy="162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tallinnanevskikatedraal.eu/wp-content/uploads/2016/12/IMG_6314-2.jpg"/>
          <p:cNvPicPr/>
          <p:nvPr/>
        </p:nvPicPr>
        <p:blipFill>
          <a:blip r:embed="rId2"/>
          <a:stretch/>
        </p:blipFill>
        <p:spPr>
          <a:xfrm>
            <a:off x="2700360" y="4076640"/>
            <a:ext cx="1942920" cy="257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http://www.2rf.ru/files/image/gallery/201408/11954/phpUu9xxs_448_388."/>
          <p:cNvPicPr/>
          <p:nvPr/>
        </p:nvPicPr>
        <p:blipFill>
          <a:blip r:embed="rId3"/>
          <a:stretch/>
        </p:blipFill>
        <p:spPr>
          <a:xfrm>
            <a:off x="5796000" y="3500280"/>
            <a:ext cx="2770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931760" y="2602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www.bolhov.ru/images/fbfiles/images/________________-72a35945dad20877f0d7690c24786c3e.jpg"/>
          <p:cNvPicPr/>
          <p:nvPr/>
        </p:nvPicPr>
        <p:blipFill>
          <a:blip r:embed="rId1"/>
          <a:stretch/>
        </p:blipFill>
        <p:spPr>
          <a:xfrm>
            <a:off x="250920" y="1197000"/>
            <a:ext cx="3544920" cy="24685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356000" y="1125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исторические предания – 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юр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доначальнике первой княжеской динас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s://s1.stc.all.kpcdn.net/kniga-tajna-trekh-gosudarej/images/tild3831-3166-4339-a637-353961366237__b51.jpg"/>
          <p:cNvPicPr/>
          <p:nvPr/>
        </p:nvPicPr>
        <p:blipFill>
          <a:blip r:embed="rId2"/>
          <a:stretch/>
        </p:blipFill>
        <p:spPr>
          <a:xfrm>
            <a:off x="3895560" y="3068640"/>
            <a:ext cx="4897440" cy="3562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250920" y="55166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бытие Рюрика в Ладог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. Васнец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3228120" y="4046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3203640" y="1413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преданий об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е Гро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s://msk.kprf.ru/wp-content/uploads/2016/04/1957700.jpg"/>
          <p:cNvPicPr/>
          <p:nvPr/>
        </p:nvPicPr>
        <p:blipFill>
          <a:blip r:embed="rId1"/>
          <a:stretch/>
        </p:blipFill>
        <p:spPr>
          <a:xfrm>
            <a:off x="6300720" y="1989000"/>
            <a:ext cx="2322720" cy="33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stihi.ru/pics/2014/02/16/3709.jpg"/>
          <p:cNvPicPr/>
          <p:nvPr/>
        </p:nvPicPr>
        <p:blipFill>
          <a:blip r:embed="rId2"/>
          <a:stretch/>
        </p:blipFill>
        <p:spPr>
          <a:xfrm>
            <a:off x="611280" y="2492280"/>
            <a:ext cx="3311280" cy="403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liveangarsk.ru/files/images/204c0eb9a7dc0c5516351844caf78b4b-12301540_489968351183143_855569582610250650_n.jpg"/>
          <p:cNvPicPr/>
          <p:nvPr/>
        </p:nvPicPr>
        <p:blipFill>
          <a:blip r:embed="rId3"/>
          <a:stretch/>
        </p:blipFill>
        <p:spPr>
          <a:xfrm>
            <a:off x="0" y="0"/>
            <a:ext cx="26719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9T15:47:33Z</dcterms:created>
  <dc:creator>днс</dc:creator>
  <dc:description/>
  <dc:language>en-US</dc:language>
  <cp:lastModifiedBy>днс</cp:lastModifiedBy>
  <dcterms:modified xsi:type="dcterms:W3CDTF">2017-09-05T17:06:13Z</dcterms:modified>
  <cp:revision>15</cp:revision>
  <dc:subject/>
  <dc:title>Слайд 1</dc:title>
</cp:coreProperties>
</file>