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C662-B7CA-4859-B31C-255830BA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61A-945D-46BB-86ED-36CD6B98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CCBA-124D-4B97-A5D7-D2ED1E47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5859-8BB1-469A-B141-ACE61E43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EB25-0110-49FA-887F-78F958DB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0549-931C-4EA3-855F-CB1DACE7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00F4-1B27-46F2-A731-DE2A42DD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3363-B388-41D6-B8CA-002BF921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A6E3-9ABA-4AAC-B55A-FB30597A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3CDC-3B7D-4456-9A8F-A558D289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87B7-31EE-49C9-82E9-F972EFF3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8CA-6F5C-4D63-ADBA-EEDA1CAE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801E-EE6E-4639-84E7-400339FC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D4B0-3ED8-4E3F-936D-00957A43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0876-3AAB-4778-A8CC-27372312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FF13-7074-4F3C-A105-BF01AE19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3BE6-91EF-462A-A1B6-B6D791C2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CBB-C145-436C-92A4-22F7C76A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0C8-2984-45E7-A6F5-7590B10E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E6DD-27A4-40F1-8393-88F4FF76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56F3-1659-4F98-8DC5-C73A63A3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DC7B-FE7A-4F7D-8D18-BB01C384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CC79-A641-4A33-B462-6A4D9AAE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229-0CBF-4028-A863-443DAB4F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4F3A-8E25-4EA5-A29A-9946D620E3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4573-A4E6-4F67-BC06-FD64168756C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ECBD-13D3-4BD7-9C35-A84EAC5A18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95280" y="260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ное народное твор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1116000" y="981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https://www.bookvoed.ru/files/1836/37/39/91.jpg"/>
          <p:cNvPicPr/>
          <p:nvPr/>
        </p:nvPicPr>
        <p:blipFill>
          <a:blip r:embed="rId1"/>
          <a:stretch/>
        </p:blipFill>
        <p:spPr>
          <a:xfrm>
            <a:off x="5796000" y="1197000"/>
            <a:ext cx="3124080" cy="47624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6"/>
          <p:cNvSpPr/>
          <p:nvPr/>
        </p:nvSpPr>
        <p:spPr>
          <a:xfrm>
            <a:off x="7885080" y="1268280"/>
            <a:ext cx="934920" cy="8654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https://i.arts.in.ua/i/16725/predanya-stariny-glubokoy_Rylov_Ingvar_1446803835.jpg"/>
          <p:cNvPicPr/>
          <p:nvPr/>
        </p:nvPicPr>
        <p:blipFill>
          <a:blip r:embed="rId2"/>
          <a:stretch/>
        </p:blipFill>
        <p:spPr>
          <a:xfrm>
            <a:off x="1116000" y="2649600"/>
            <a:ext cx="35272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2004120" y="33336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ческие преда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1692360" y="112536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ания 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тре Пер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http://school-collection.iv-edu.ru/dlrstore/a980a007-2be7-46ce-9848-cdaa3f0e8e2e/%5bLI8RK_2-01%5d_%5bIL_03%5d-k.jpg"/>
          <p:cNvPicPr/>
          <p:nvPr/>
        </p:nvPicPr>
        <p:blipFill>
          <a:blip r:embed="rId1"/>
          <a:stretch/>
        </p:blipFill>
        <p:spPr>
          <a:xfrm>
            <a:off x="971640" y="1773360"/>
            <a:ext cx="68007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2642040" y="333360"/>
            <a:ext cx="51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понимические пре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468360" y="981000"/>
            <a:ext cx="799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предание об основании Киева. Киев будто бы основал князь Кий, у которого были братья Щек и Хорив и сестра Лыбедь. По их именам были названы холмы Щековица и Хоривица и река Лыбе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yavix.ru/i/9/4/d/c3c5d914e67a9ec849f729ce2d3b2.jpg"/>
          <p:cNvPicPr/>
          <p:nvPr/>
        </p:nvPicPr>
        <p:blipFill>
          <a:blip r:embed="rId1"/>
          <a:stretch/>
        </p:blipFill>
        <p:spPr>
          <a:xfrm>
            <a:off x="395280" y="3141720"/>
            <a:ext cx="4454640" cy="3336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aikido-mariel.ru/misc/i/gallery/22718/598787.jpg"/>
          <p:cNvPicPr/>
          <p:nvPr/>
        </p:nvPicPr>
        <p:blipFill>
          <a:blip r:embed="rId2"/>
          <a:stretch/>
        </p:blipFill>
        <p:spPr>
          <a:xfrm>
            <a:off x="5580000" y="2276640"/>
            <a:ext cx="33130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611280" y="26028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огащаем свою 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826920" y="83664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значение словосочет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50920" y="1484280"/>
          <a:ext cx="3384360" cy="518472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держит све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одоначальник первой княжеской династ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Цикл сказ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етровская эпо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скованность в поведении геро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емлепаш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астеро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</a:tbl>
          </a:graphicData>
        </a:graphic>
      </p:graphicFrame>
      <p:sp>
        <p:nvSpPr>
          <p:cNvPr id="148" name="Прямоугольник 6"/>
          <p:cNvSpPr/>
          <p:nvPr/>
        </p:nvSpPr>
        <p:spPr>
          <a:xfrm>
            <a:off x="3851280" y="1484280"/>
            <a:ext cx="52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 известие, информацию о чём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7"/>
          <p:cNvSpPr/>
          <p:nvPr/>
        </p:nvSpPr>
        <p:spPr>
          <a:xfrm>
            <a:off x="3780000" y="2060640"/>
            <a:ext cx="51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этого человека пошёл княжеский род, т. е. он первым получил княжеский тит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8"/>
          <p:cNvSpPr/>
          <p:nvPr/>
        </p:nvSpPr>
        <p:spPr>
          <a:xfrm>
            <a:off x="3851280" y="2924280"/>
            <a:ext cx="49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 художественных произведений, объединяемых общностью действующих лиц, 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9"/>
          <p:cNvSpPr/>
          <p:nvPr/>
        </p:nvSpPr>
        <p:spPr>
          <a:xfrm>
            <a:off x="4140360" y="3933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ы правления Петра Первого до его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0"/>
          <p:cNvSpPr/>
          <p:nvPr/>
        </p:nvSpPr>
        <p:spPr>
          <a:xfrm>
            <a:off x="4067280" y="4653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ый и непринужденный в обращении с людьми в повед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1"/>
          <p:cNvSpPr/>
          <p:nvPr/>
        </p:nvSpPr>
        <p:spPr>
          <a:xfrm>
            <a:off x="3995640" y="5445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стьянин, занимающийся землепашеств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2"/>
          <p:cNvSpPr/>
          <p:nvPr/>
        </p:nvSpPr>
        <p:spPr>
          <a:xfrm>
            <a:off x="3995640" y="6149880"/>
            <a:ext cx="48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ящийся к ремесленникам, мастерам, к рабочим люд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Фольклор – устное народное творче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98100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Arial Black"/>
              </a:rPr>
              <a:t>Фольклор</a:t>
            </a:r>
            <a:r>
              <a:rPr b="1" i="1" lang="ru-RU" sz="2400" spc="-1" strike="noStrike">
                <a:solidFill>
                  <a:srgbClr val="ff0066"/>
                </a:solidFill>
                <a:latin typeface="Century Gothic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(англ. «народная мудрость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Совокупность созданных в народной сре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поэтических произведений, бытующих в уст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фор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2. Устное народное поэтическое твор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umbrasiena.ru/wp-content/uploads/2011/12/Risunok3.png"/>
          <p:cNvPicPr/>
          <p:nvPr/>
        </p:nvPicPr>
        <p:blipFill>
          <a:blip r:embed="rId1"/>
          <a:stretch/>
        </p:blipFill>
        <p:spPr>
          <a:xfrm>
            <a:off x="1908000" y="3213000"/>
            <a:ext cx="5496120" cy="3463920"/>
          </a:xfrm>
          <a:prstGeom prst="rect">
            <a:avLst/>
          </a:prstGeom>
          <a:ln w="0">
            <a:noFill/>
          </a:ln>
        </p:spPr>
      </p:pic>
      <p:sp>
        <p:nvSpPr>
          <p:cNvPr id="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5C4A-F5A8-436F-AE3D-CC0A75E8FD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фолькл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лектив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т конкретного автора, автор – весь наро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стная форма бытова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значительные изменения при пересказ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дицио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льклорные произведения передаются из поколения в поколение, сохраняя традиции народ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ECD1-92EE-4273-B50C-0D730CF45D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анры фолькл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348000" y="2637000"/>
            <a:ext cx="2808360" cy="10587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фолькл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"/>
          <p:cNvSpPr/>
          <p:nvPr/>
        </p:nvSpPr>
        <p:spPr>
          <a:xfrm>
            <a:off x="611280" y="4724280"/>
            <a:ext cx="180000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лов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3564000" y="4797360"/>
            <a:ext cx="230328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гово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6804000" y="4724280"/>
            <a:ext cx="194472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с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8"/>
          <p:cNvSpPr/>
          <p:nvPr/>
        </p:nvSpPr>
        <p:spPr>
          <a:xfrm>
            <a:off x="611280" y="2781360"/>
            <a:ext cx="194472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9"/>
          <p:cNvSpPr/>
          <p:nvPr/>
        </p:nvSpPr>
        <p:spPr>
          <a:xfrm>
            <a:off x="3564000" y="1197000"/>
            <a:ext cx="2305080" cy="841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6877080" y="2637000"/>
            <a:ext cx="187164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8"/>
          <p:cNvSpPr/>
          <p:nvPr/>
        </p:nvSpPr>
        <p:spPr>
          <a:xfrm>
            <a:off x="4716360" y="3573360"/>
            <a:ext cx="0" cy="122400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1"/>
          <p:cNvSpPr/>
          <p:nvPr/>
        </p:nvSpPr>
        <p:spPr>
          <a:xfrm flipH="1">
            <a:off x="1692360" y="3573360"/>
            <a:ext cx="3024000" cy="11509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 flipV="1">
            <a:off x="4643280" y="2060280"/>
            <a:ext cx="0" cy="5763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 flipV="1">
            <a:off x="4716360" y="1916280"/>
            <a:ext cx="2232000" cy="7207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5"/>
          <p:cNvSpPr/>
          <p:nvPr/>
        </p:nvSpPr>
        <p:spPr>
          <a:xfrm flipH="1" flipV="1">
            <a:off x="2268000" y="1916280"/>
            <a:ext cx="2303640" cy="7207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6"/>
          <p:cNvSpPr/>
          <p:nvPr/>
        </p:nvSpPr>
        <p:spPr>
          <a:xfrm>
            <a:off x="4714920" y="3571920"/>
            <a:ext cx="3024000" cy="11509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7"/>
          <p:cNvSpPr/>
          <p:nvPr/>
        </p:nvSpPr>
        <p:spPr>
          <a:xfrm>
            <a:off x="539640" y="1000080"/>
            <a:ext cx="1830600" cy="1060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ита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9"/>
          <p:cNvSpPr/>
          <p:nvPr/>
        </p:nvSpPr>
        <p:spPr>
          <a:xfrm>
            <a:off x="6732720" y="1125360"/>
            <a:ext cx="187308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е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1"/>
          <p:cNvSpPr/>
          <p:nvPr/>
        </p:nvSpPr>
        <p:spPr>
          <a:xfrm>
            <a:off x="6084720" y="3068640"/>
            <a:ext cx="86364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2"/>
          <p:cNvSpPr/>
          <p:nvPr/>
        </p:nvSpPr>
        <p:spPr>
          <a:xfrm flipH="1">
            <a:off x="2340000" y="3141720"/>
            <a:ext cx="100800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6"/>
          <p:cNvSpPr/>
          <p:nvPr/>
        </p:nvSpPr>
        <p:spPr>
          <a:xfrm>
            <a:off x="4714920" y="3571920"/>
            <a:ext cx="2214360" cy="4287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0"/>
          <p:cNvSpPr/>
          <p:nvPr/>
        </p:nvSpPr>
        <p:spPr>
          <a:xfrm>
            <a:off x="6929280" y="3643200"/>
            <a:ext cx="1800360" cy="914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AEA1-DEB9-4024-9B9A-9644DDFDE7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250920" y="189000"/>
            <a:ext cx="79930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жанр фольклора. Это устный рассказ, который содержит сведения об исторических лицах, событиях, передающихся из поколения в поколение. Возникают предания часто из рассказа очевидц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http://foodexim.kvadrosoft.com/picture/post/kh0oo20reogin0872565/s/Guslyary.jpg"/>
          <p:cNvPicPr/>
          <p:nvPr/>
        </p:nvPicPr>
        <p:blipFill>
          <a:blip r:embed="rId1"/>
          <a:stretch/>
        </p:blipFill>
        <p:spPr>
          <a:xfrm>
            <a:off x="2771640" y="2533680"/>
            <a:ext cx="5688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85480"/>
            <a:ext cx="70866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Содержание пред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68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реданиях содержа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оминания о событ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рины, объясн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го-то явле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я или обыч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9" descr="482px-Boys_King_Arthur_-_N__C__Wyeth_-_p16"/>
          <p:cNvPicPr/>
          <p:nvPr/>
        </p:nvPicPr>
        <p:blipFill>
          <a:blip r:embed="rId1"/>
          <a:stretch/>
        </p:blipFill>
        <p:spPr>
          <a:xfrm>
            <a:off x="4859280" y="1413000"/>
            <a:ext cx="4076640" cy="5073480"/>
          </a:xfrm>
          <a:prstGeom prst="rect">
            <a:avLst/>
          </a:prstGeom>
          <a:ln w="0">
            <a:noFill/>
          </a:ln>
        </p:spPr>
      </p:pic>
      <p:sp>
        <p:nvSpPr>
          <p:cNvPr id="121" name="Номер слайда 1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94A3-A5BC-47EB-9F91-D99FC62E69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988920" y="476280"/>
            <a:ext cx="42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преданий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611280" y="148428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ческ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б Иване Грозн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е Перво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Топонимическ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сказы о географических объект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стностях, реках, озерах, горах и проч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селенных пункта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рко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ttp://history-thema.com/wp-content/uploads/2016/08/pokhod-druzhini.jpg"/>
          <p:cNvPicPr/>
          <p:nvPr/>
        </p:nvPicPr>
        <p:blipFill>
          <a:blip r:embed="rId1"/>
          <a:stretch/>
        </p:blipFill>
        <p:spPr>
          <a:xfrm>
            <a:off x="6227640" y="476280"/>
            <a:ext cx="2540160" cy="1622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ttp://tallinnanevskikatedraal.eu/wp-content/uploads/2016/12/IMG_6314-2.jpg"/>
          <p:cNvPicPr/>
          <p:nvPr/>
        </p:nvPicPr>
        <p:blipFill>
          <a:blip r:embed="rId2"/>
          <a:stretch/>
        </p:blipFill>
        <p:spPr>
          <a:xfrm>
            <a:off x="2700360" y="4076640"/>
            <a:ext cx="1942920" cy="25750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8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http://www.2rf.ru/files/image/gallery/201408/11954/phpUu9xxs_448_388."/>
          <p:cNvPicPr/>
          <p:nvPr/>
        </p:nvPicPr>
        <p:blipFill>
          <a:blip r:embed="rId3"/>
          <a:stretch/>
        </p:blipFill>
        <p:spPr>
          <a:xfrm>
            <a:off x="5796000" y="3500280"/>
            <a:ext cx="27702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1931760" y="26028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ческие преда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://www.bolhov.ru/images/fbfiles/images/________________-72a35945dad20877f0d7690c24786c3e.jpg"/>
          <p:cNvPicPr/>
          <p:nvPr/>
        </p:nvPicPr>
        <p:blipFill>
          <a:blip r:embed="rId1"/>
          <a:stretch/>
        </p:blipFill>
        <p:spPr>
          <a:xfrm>
            <a:off x="250920" y="1197000"/>
            <a:ext cx="3544920" cy="24685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4356000" y="112536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исторические предания – 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Рюри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одоначальнике первой княжеской динас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https://s1.stc.all.kpcdn.net/kniga-tajna-trekh-gosudarej/images/tild3831-3166-4339-a637-353961366237__b51.jpg"/>
          <p:cNvPicPr/>
          <p:nvPr/>
        </p:nvPicPr>
        <p:blipFill>
          <a:blip r:embed="rId2"/>
          <a:stretch/>
        </p:blipFill>
        <p:spPr>
          <a:xfrm>
            <a:off x="3895560" y="3068640"/>
            <a:ext cx="4897440" cy="35622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7"/>
          <p:cNvSpPr/>
          <p:nvPr/>
        </p:nvSpPr>
        <p:spPr>
          <a:xfrm>
            <a:off x="250920" y="5516640"/>
            <a:ext cx="35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бытие Рюрика в Ладог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М. Васнец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3228120" y="40464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рические преда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3203640" y="141300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 преданий об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ване Гроз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s://msk.kprf.ru/wp-content/uploads/2016/04/1957700.jpg"/>
          <p:cNvPicPr/>
          <p:nvPr/>
        </p:nvPicPr>
        <p:blipFill>
          <a:blip r:embed="rId1"/>
          <a:stretch/>
        </p:blipFill>
        <p:spPr>
          <a:xfrm>
            <a:off x="6300720" y="1989000"/>
            <a:ext cx="2322720" cy="337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www.stihi.ru/pics/2014/02/16/3709.jpg"/>
          <p:cNvPicPr/>
          <p:nvPr/>
        </p:nvPicPr>
        <p:blipFill>
          <a:blip r:embed="rId2"/>
          <a:stretch/>
        </p:blipFill>
        <p:spPr>
          <a:xfrm>
            <a:off x="611280" y="2492280"/>
            <a:ext cx="3311280" cy="403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liveangarsk.ru/files/images/204c0eb9a7dc0c5516351844caf78b4b-12301540_489968351183143_855569582610250650_n.jpg"/>
          <p:cNvPicPr/>
          <p:nvPr/>
        </p:nvPicPr>
        <p:blipFill>
          <a:blip r:embed="rId3"/>
          <a:stretch/>
        </p:blipFill>
        <p:spPr>
          <a:xfrm>
            <a:off x="0" y="0"/>
            <a:ext cx="267192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9T15:47:33Z</dcterms:created>
  <dc:creator>днс</dc:creator>
  <dc:description/>
  <dc:language>en-US</dc:language>
  <cp:lastModifiedBy>днс</cp:lastModifiedBy>
  <dcterms:modified xsi:type="dcterms:W3CDTF">2017-09-05T17:06:13Z</dcterms:modified>
  <cp:revision>15</cp:revision>
  <dc:subject/>
  <dc:title>Слайд 1</dc:title>
</cp:coreProperties>
</file>