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0FE-0045-4019-93E9-B78320D2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5C3-DD36-4BC9-AA1A-85579EA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9DF-0E80-44C3-A6B7-44ACD32F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7AD-8D82-4301-9F48-F1A86D81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F49B-590B-4419-8FB4-09DFDC15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23B7-088C-4D36-A7F4-3153BCAF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C4B-A1C1-4DB3-8BA6-8CCBCEA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E209-0F27-49F7-BF1D-8B601449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F92E-CBC3-476B-8BAA-E403D06A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2EED-A0B1-4978-90CC-7209B299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7F10-5569-4BCC-869A-A5EFB06C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393-6307-4958-8C9C-011AB4E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DD26-1D24-478E-9089-7348374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7439-8955-4254-9998-D37BA4E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C542-BFBF-4886-A602-D87B4ADE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9221-BB7A-4433-863F-11BEDDEA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B81-D136-4313-BE2D-14A3B053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363-6F69-459D-B57A-EB24028E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F5E-48B4-4EB5-9DF3-9F63B840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16B-B32A-4052-A7AA-A0F4CC33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B77-C8DC-4757-9711-E7837CF5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743-EED2-4C3D-9B10-8194A01C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67B-306C-482A-BF54-A328CE8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1BA-98ED-4A67-9B8D-A7E5ACAB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0366-78B4-48ED-A31D-035D0D17B6D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B768-8040-416F-9523-265E30E1CA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5" descr="http://img0.liveinternet.ru/images/attach/c/0/43/602/43602136_1241852642_9_Maya.jpg"/>
          <p:cNvPicPr/>
          <p:nvPr/>
        </p:nvPicPr>
        <p:blipFill>
          <a:blip r:embed="rId1"/>
          <a:stretch/>
        </p:blipFill>
        <p:spPr>
          <a:xfrm>
            <a:off x="179280" y="393840"/>
            <a:ext cx="88203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8499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324000" y="2421000"/>
            <a:ext cx="84978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Днём Победы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549eed9c70bb"/>
          <p:cNvPicPr/>
          <p:nvPr/>
        </p:nvPicPr>
        <p:blipFill>
          <a:blip r:embed="rId1"/>
          <a:stretch/>
        </p:blipFill>
        <p:spPr>
          <a:xfrm>
            <a:off x="1187280" y="1989000"/>
            <a:ext cx="7344000" cy="4429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468360" y="620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Закончился очередной учебный год и начались летние канику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__ae_121"/>
          <p:cNvPicPr/>
          <p:nvPr/>
        </p:nvPicPr>
        <p:blipFill>
          <a:blip r:embed="rId1"/>
          <a:stretch/>
        </p:blipFill>
        <p:spPr>
          <a:xfrm>
            <a:off x="4427640" y="115920"/>
            <a:ext cx="4437000" cy="554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530919"/>
          <p:cNvPicPr/>
          <p:nvPr/>
        </p:nvPicPr>
        <p:blipFill>
          <a:blip r:embed="rId2"/>
          <a:stretch/>
        </p:blipFill>
        <p:spPr>
          <a:xfrm>
            <a:off x="179280" y="3106800"/>
            <a:ext cx="4680000" cy="3508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539640" y="62064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овоенно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частливое дет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4356000" y="549360"/>
          <a:ext cx="434844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549360"/>
                    <a:ext cx="434844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5"/>
          <p:cNvSpPr/>
          <p:nvPr/>
        </p:nvSpPr>
        <p:spPr>
          <a:xfrm>
            <a:off x="395280" y="1197000"/>
            <a:ext cx="33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годня в четы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а у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ашистская Герм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з объявления вой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пала 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ский Сою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69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711680" cy="619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29"/>
          <p:cNvPicPr/>
          <p:nvPr/>
        </p:nvPicPr>
        <p:blipFill>
          <a:blip r:embed="rId2"/>
          <a:stretch/>
        </p:blipFill>
        <p:spPr>
          <a:xfrm>
            <a:off x="0" y="0"/>
            <a:ext cx="44640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256000" cy="2624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2340000" y="3284640"/>
            <a:ext cx="655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751640" cy="454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924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073760" cy="576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45720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9:33:54Z</dcterms:created>
  <dc:creator>Admin</dc:creator>
  <dc:description/>
  <dc:language>en-US</dc:language>
  <cp:lastModifiedBy>Нинулька</cp:lastModifiedBy>
  <dcterms:modified xsi:type="dcterms:W3CDTF">2018-06-21T05:07:15Z</dcterms:modified>
  <cp:revision>12</cp:revision>
  <dc:subject/>
  <dc:title>Слайд 1</dc:title>
</cp:coreProperties>
</file>