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EBC-B0B3-4994-9464-A7667339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AEB-B93E-47F9-B289-FA1E347E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322-86DD-473B-831C-DAAB9FE5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948-51F5-4D62-A92F-1BA7A51E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9970-F473-4BED-9CAC-7EC289F0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9692-C7EC-4274-BAC7-E3F169F2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BC33-85E9-4D2B-824D-49D0A7F9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7154-A6D8-4FBF-B5A2-4516AB8C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44D4-54AD-498C-8E3C-4F77107D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6615-DA46-4EFB-92B3-36CCC06F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94F6-3DCB-48A9-A50A-9B0DC412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8B0-CDB5-4D42-9509-57C5FE00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36DC-FDEA-4F2A-B4A7-68C5C34F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B637-588B-455D-97FD-40ACF3C1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9721-810F-403F-9FF8-DFA7C6B4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22FF-DA5A-4A0A-9320-5E5F7F8F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8BB8-0DB0-4750-B03F-0788EFA5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46F-80FF-4908-B64D-E8AC1BAD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95F-9F64-48F2-8718-2DF92BAB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540-02C9-4EC8-B9E5-A9DD4E44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687-CC67-4494-9173-3FE643A7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D5F-C81A-48DB-81CF-EDE37155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30E-2FC6-4969-BBBD-50B6C1DA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28C-29F5-4956-A800-A718F34C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BA21-E0DF-479A-A91B-05872D8DCEF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E8DA-0699-499B-A765-4CE6569C361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25" descr="http://img0.liveinternet.ru/images/attach/c/0/43/602/43602136_1241852642_9_Maya.jpg"/>
          <p:cNvPicPr/>
          <p:nvPr/>
        </p:nvPicPr>
        <p:blipFill>
          <a:blip r:embed="rId1"/>
          <a:stretch/>
        </p:blipFill>
        <p:spPr>
          <a:xfrm>
            <a:off x="179280" y="393840"/>
            <a:ext cx="88203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484992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6"/>
          <p:cNvSpPr txBox="1"/>
          <p:nvPr/>
        </p:nvSpPr>
        <p:spPr>
          <a:xfrm>
            <a:off x="324000" y="2421000"/>
            <a:ext cx="8497800" cy="17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 Днём Победы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549eed9c70bb"/>
          <p:cNvPicPr/>
          <p:nvPr/>
        </p:nvPicPr>
        <p:blipFill>
          <a:blip r:embed="rId1"/>
          <a:stretch/>
        </p:blipFill>
        <p:spPr>
          <a:xfrm>
            <a:off x="1187280" y="1989000"/>
            <a:ext cx="7344000" cy="4429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468360" y="62064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Закончился очередной учебный год и начались летние канику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__ae_121"/>
          <p:cNvPicPr/>
          <p:nvPr/>
        </p:nvPicPr>
        <p:blipFill>
          <a:blip r:embed="rId1"/>
          <a:stretch/>
        </p:blipFill>
        <p:spPr>
          <a:xfrm>
            <a:off x="4427640" y="115920"/>
            <a:ext cx="4437000" cy="554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2530919"/>
          <p:cNvPicPr/>
          <p:nvPr/>
        </p:nvPicPr>
        <p:blipFill>
          <a:blip r:embed="rId2"/>
          <a:stretch/>
        </p:blipFill>
        <p:spPr>
          <a:xfrm>
            <a:off x="179280" y="3106800"/>
            <a:ext cx="4680000" cy="3508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539640" y="620640"/>
            <a:ext cx="36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овоенное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частливое дет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4"/>
          <p:cNvGraphicFramePr/>
          <p:nvPr/>
        </p:nvGraphicFramePr>
        <p:xfrm>
          <a:off x="4356000" y="549360"/>
          <a:ext cx="4348440" cy="57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549360"/>
                    <a:ext cx="434844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5"/>
          <p:cNvSpPr/>
          <p:nvPr/>
        </p:nvSpPr>
        <p:spPr>
          <a:xfrm>
            <a:off x="395280" y="1197000"/>
            <a:ext cx="33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егодня в четы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аса ут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ашистская Герм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ез объявления войн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пала 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етский Сою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699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4711680" cy="619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29"/>
          <p:cNvPicPr/>
          <p:nvPr/>
        </p:nvPicPr>
        <p:blipFill>
          <a:blip r:embed="rId2"/>
          <a:stretch/>
        </p:blipFill>
        <p:spPr>
          <a:xfrm>
            <a:off x="0" y="0"/>
            <a:ext cx="446400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5256000" cy="2624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2340000" y="3284640"/>
            <a:ext cx="65530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751640" cy="4545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5003640" y="260280"/>
            <a:ext cx="3924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073760" cy="576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4356000" y="1268280"/>
            <a:ext cx="45720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09:33:54Z</dcterms:created>
  <dc:creator>Admin</dc:creator>
  <dc:description/>
  <dc:language>en-US</dc:language>
  <cp:lastModifiedBy>Нинулька</cp:lastModifiedBy>
  <dcterms:modified xsi:type="dcterms:W3CDTF">2018-06-21T05:07:15Z</dcterms:modified>
  <cp:revision>12</cp:revision>
  <dc:subject/>
  <dc:title>Слайд 1</dc:title>
</cp:coreProperties>
</file>