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687-DA22-400B-A7A7-F4716E644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A76-FE33-4FD7-840F-445CDEC7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FA9-3DC7-44A7-BE19-C9F4FC1F5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D6DE-63F9-4BE6-9F4F-73A43E05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455F-2A47-44C4-8CA5-CA594CEEF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74CA2-0D2B-4655-9690-14DD6FB0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808B-CC32-44D0-A1C3-83EA6CC1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7ADB-9F1E-4C54-A919-90B36900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AAE2-7116-4AF0-9244-47D76405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33F4E-2632-44C6-BBE6-8DB9879B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A2D5-91AF-483F-97AF-5213151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C53C-0FD5-45D8-A071-E33DC9E2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879F-B804-4C86-9CD7-FCD4591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CFDE-1A77-41F8-A5D4-6D9D3CE4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F9671-759F-4A50-8D5C-156D19CC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A736-6260-4D4F-BCF5-DC13F3E2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0245-924D-46EE-BC82-D9321785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E15C-5BA5-4914-8F6B-84731FFB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11EAF-CCCE-4F0E-B606-DC686F80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6BF0B-5041-418B-806E-FB106AFB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D50B0-4D34-40A5-AABB-85AEE2BB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AB7AB-6684-436F-9F37-3AB7B802A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8F2F-7DF8-4FCF-8B52-259B9081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FCD19-CE22-4E3D-B55D-179877E1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BB55-6C7B-4F27-BEEA-C8C4B34FF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19BA7-1BCC-4CD6-A67D-0A0E0A00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85277-0A99-4080-B1A5-92EF9AE5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480BF-CD12-4A59-BF8F-827FC506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9D797-61B0-4843-8229-D7A675146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AAC6-9344-404E-8FE2-CD3FE68E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434F8-81E5-42DA-8AA3-16DB6047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CE63B-3609-4A0C-9544-241C7563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72D5-BE66-4420-A1B9-EABFEC94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19B2-E5EA-4894-AF7E-5F444046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F3605-CC83-4649-AA24-BB84566B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9435-EC2F-4AD7-8577-3F6FF133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45A11-5BE0-44DE-AA7C-40FFA50E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0C3C2-7911-44B6-A2C0-D6C4E918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7F33D-29A9-46AA-96C3-493E3600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1AC4F-0DFE-4A3C-835B-41550019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93D8B-99B2-485F-8BCB-0CF10190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52B92-7DAB-4314-8E21-56904F47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3ED97-C032-4D3B-B3CB-DF62FE72C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91D0E-AC56-4632-8489-845483B5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6E42-B5B0-4E62-B4BA-8DC79BE3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17B75-FA57-40A3-9FB4-C901B916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EA25E-0DF9-40D5-9B77-7913DD55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0552A-54AB-4A4A-84C1-6221C5B2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ED7BE-F5C0-451E-A4C1-6633B277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F28C7-11DB-4883-B88D-CC297D85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45959-A0A3-4095-AF63-2B846A44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C691C-F1CE-4510-9650-440F6BD5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0369F-9CD0-4D30-B72F-C8A41265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B0A51-4268-41D9-AE56-DB6611D81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18E3A-C981-46D0-B3C0-D2D3DFB5C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A3E3-45E6-4D03-87DD-A0059960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741F4-E91D-4AD5-9DC5-E5BFB643A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D927-096A-4962-96A0-13252A48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0AB3-0992-482A-94A1-973B8D19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438-B5EA-4DD8-A3FA-86C999DE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69CC-271B-41BC-87E2-8E34E56C14A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6117-79D0-4EDD-A319-37F94ECF4D8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62A9-D5BD-48B4-96AE-9112A21F339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716E1-4EE8-4AB7-8CD5-CC84A4D7F31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0298-5FA1-431B-A27B-D82069FC917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4"/>
          <p:cNvSpPr/>
          <p:nvPr/>
        </p:nvSpPr>
        <p:spPr>
          <a:xfrm>
            <a:off x="571680" y="214308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уворова Н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рок литературного чтения (система Л.В. Занк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ебник Литературное чтение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втор Н.А. Чур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3"/>
          <p:cNvSpPr/>
          <p:nvPr/>
        </p:nvSpPr>
        <p:spPr>
          <a:xfrm>
            <a:off x="78588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лчица бы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785880" y="17146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лодой, си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3071880" y="22860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ольной, ране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2857680" y="292896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абого здоровья,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1071720" y="350028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волчицы бы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571680" y="42148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 волч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429000" y="42148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 волч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5929200" y="42148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4 волч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42960" y="500076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раз ходила волчица на ох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571680" y="585792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286680" y="585792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3357720" y="585792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3"/>
          <p:cNvSpPr/>
          <p:nvPr/>
        </p:nvSpPr>
        <p:spPr>
          <a:xfrm>
            <a:off x="785880" y="92880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ь ли сходство в рассказах «Гриша» и «Белолобый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D:\картинки\ЗВЕРЯТА\1\-image035-jpg_xtbkea5y.jpg"/>
          <p:cNvPicPr/>
          <p:nvPr/>
        </p:nvPicPr>
        <p:blipFill>
          <a:blip r:embed="rId1"/>
          <a:stretch/>
        </p:blipFill>
        <p:spPr>
          <a:xfrm>
            <a:off x="2000160" y="221472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857160" y="642960"/>
            <a:ext cx="72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714240" y="300024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. 102-109 переска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6"/>
          <p:cNvSpPr/>
          <p:nvPr/>
        </p:nvSpPr>
        <p:spPr>
          <a:xfrm>
            <a:off x="285840" y="57168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.П. Чехов «Белолобы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500040" y="3509280"/>
            <a:ext cx="842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я анализировать литературное произвед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главную мысль, образы, составлять план; учить передавать; настроение средствами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речь, умение сравнивать, обобщать, 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в детях чувство добра, неприятие з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ть здоровь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5000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ови лишнее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785880" y="164304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силий, Фёдор, Дмитрий, Ан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ванович, Алексеевич, Юрьевич, Пав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рова, Сидорова, Иванова,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Прямоугольник 6" descr=""/>
          <p:cNvPicPr/>
          <p:nvPr/>
        </p:nvPicPr>
        <p:blipFill>
          <a:blip r:embed="rId1"/>
          <a:stretch/>
        </p:blipFill>
        <p:spPr>
          <a:xfrm>
            <a:off x="755640" y="3816360"/>
            <a:ext cx="7656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785880" y="64296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Природа – соучастник человеческой жизни («Каштанка», «Белолобый», «Агафья», «Страх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File17-3"/>
          <p:cNvPicPr/>
          <p:nvPr/>
        </p:nvPicPr>
        <p:blipFill>
          <a:blip r:embed="rId1"/>
          <a:stretch/>
        </p:blipFill>
        <p:spPr>
          <a:xfrm>
            <a:off x="3132000" y="2637000"/>
            <a:ext cx="2892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785880" y="64296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абота над текст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Documents and Settings\ван\Рабочий стол\Новая папка (3)\post-19-1195390853.jpg"/>
          <p:cNvPicPr/>
          <p:nvPr/>
        </p:nvPicPr>
        <p:blipFill>
          <a:blip r:embed="rId1"/>
          <a:stretch/>
        </p:blipFill>
        <p:spPr>
          <a:xfrm>
            <a:off x="1643040" y="1785960"/>
            <a:ext cx="6024600" cy="4518000"/>
          </a:xfrm>
          <a:prstGeom prst="rect">
            <a:avLst/>
          </a:prstGeom>
          <a:ln w="0">
            <a:noFill/>
          </a:ln>
        </p:spPr>
      </p:pic>
      <p:sp>
        <p:nvSpPr>
          <p:cNvPr id="230" name="Семиугольник 6"/>
          <p:cNvSpPr/>
          <p:nvPr/>
        </p:nvSpPr>
        <p:spPr>
          <a:xfrm>
            <a:off x="357120" y="1214280"/>
            <a:ext cx="2071800" cy="185760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ван\Рабочий стол\Новая папка (3)\2336325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35840"/>
          </a:xfrm>
          <a:prstGeom prst="rect">
            <a:avLst/>
          </a:prstGeom>
          <a:ln w="0">
            <a:noFill/>
          </a:ln>
        </p:spPr>
      </p:pic>
      <p:sp>
        <p:nvSpPr>
          <p:cNvPr id="232" name="Семиугольник 4"/>
          <p:cNvSpPr/>
          <p:nvPr/>
        </p:nvSpPr>
        <p:spPr>
          <a:xfrm>
            <a:off x="214200" y="285840"/>
            <a:ext cx="2071800" cy="185724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:\картинки\ЗВЕРЯТА\1\priroda1.jpg"/>
          <p:cNvPicPr/>
          <p:nvPr/>
        </p:nvPicPr>
        <p:blipFill>
          <a:blip r:embed="rId1"/>
          <a:stretch/>
        </p:blipFill>
        <p:spPr>
          <a:xfrm>
            <a:off x="4714920" y="-142920"/>
            <a:ext cx="4611600" cy="7143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D:\картинки\ЗВЕРЯТА\2\173088.jpg"/>
          <p:cNvPicPr/>
          <p:nvPr/>
        </p:nvPicPr>
        <p:blipFill>
          <a:blip r:embed="rId2"/>
          <a:stretch/>
        </p:blipFill>
        <p:spPr>
          <a:xfrm>
            <a:off x="0" y="-214200"/>
            <a:ext cx="5227560" cy="374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D:\картинки\ЗВЕРЯТА\2\042079.jpg"/>
          <p:cNvPicPr/>
          <p:nvPr/>
        </p:nvPicPr>
        <p:blipFill>
          <a:blip r:embed="rId3"/>
          <a:stretch/>
        </p:blipFill>
        <p:spPr>
          <a:xfrm>
            <a:off x="0" y="3490920"/>
            <a:ext cx="52149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1071720" y="50004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ворческ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D:\картинки\Картинки\сказки\осы.jpg"/>
          <p:cNvPicPr/>
          <p:nvPr/>
        </p:nvPicPr>
        <p:blipFill>
          <a:blip r:embed="rId1"/>
          <a:stretch/>
        </p:blipFill>
        <p:spPr>
          <a:xfrm>
            <a:off x="3000240" y="1714680"/>
            <a:ext cx="30718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1357200" y="5000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оверь себ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714240" y="17146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автора изученн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6215040" y="42861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ь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3643200" y="26431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у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5929200" y="26431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642960" y="34290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жанр изученн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1071720" y="428616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а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0"/>
          <p:cNvSpPr/>
          <p:nvPr/>
        </p:nvSpPr>
        <p:spPr>
          <a:xfrm>
            <a:off x="3643200" y="42861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928800" y="26431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ая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857160" y="507204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е в рассказе происход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1000080" y="57862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4"/>
          <p:cNvSpPr/>
          <p:nvPr/>
        </p:nvSpPr>
        <p:spPr>
          <a:xfrm>
            <a:off x="3643200" y="57862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и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5"/>
          <p:cNvSpPr/>
          <p:nvPr/>
        </p:nvSpPr>
        <p:spPr>
          <a:xfrm>
            <a:off x="6072120" y="57862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5:08:47Z</dcterms:created>
  <dc:creator>ван</dc:creator>
  <dc:description/>
  <dc:language>en-US</dc:language>
  <cp:lastModifiedBy>User</cp:lastModifiedBy>
  <dcterms:modified xsi:type="dcterms:W3CDTF">2018-06-21T06:17:10Z</dcterms:modified>
  <cp:revision>15</cp:revision>
  <dc:subject/>
  <dc:title>Слайд 1</dc:title>
</cp:coreProperties>
</file>