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CC05-D381-4505-A6CF-A5047EDA0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F35A-51A0-4B7F-8E07-50547D32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1DB-171C-4019-A903-CDE5E0F84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7463-8AAA-4799-89EA-517FEF545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9074-AAC4-4994-A5FC-8599FE35A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EF1C2-DA5A-43F4-A044-DBD24A3C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00491-E2DE-469E-AF45-D2BFA37CC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0507-D681-4C5C-971B-A191DE192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2BEF-A2CD-49EC-8EDE-564976F6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E694F-1EEE-491A-8C6B-C678A331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26A7A-A472-4368-8A32-BF35BFCB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31E0-2587-42C3-AF28-8123A668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55E4A-D9FE-411D-9DDC-D40E89EA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F57B-CD40-49EA-9FAE-E3FAD101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5E3DF-77B1-458D-AC54-8FC3CAF6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E7DD-3969-42C3-B28C-1D4501D4E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A65A-81C6-4425-9676-356743534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AE3C2-7BE3-4795-92D8-B389F93E6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69775-8CD6-41A5-9479-ECF48A406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DBE34-EBD1-4846-9419-BC1185FE3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E1CFE3-E96C-443A-9F6D-9FB5D7A31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EF48-6002-46C6-9F68-BBC52871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31EF-5FED-4FE8-B19F-6DB356C7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D2EEF-BBB6-4090-BAA1-49D3FEBE2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6C49D-DCF8-47B8-842B-12FEF0CA3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ACA258-6962-42A3-81D9-D9D31241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21174-FE19-4481-9378-FA9FFF98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3F23C-60B5-4E5F-8D71-5DEFC449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DD949-89C8-4292-AFBC-63583B21E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124B9-4045-4DA3-A4B2-CAE2503A6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397C6B-C037-4862-AD7C-AC8FE99AE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F8106-F5DF-4DFB-BE76-7E6E2982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836B-3F70-421C-BB08-FFC4F8FDC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B533-E762-4B63-A7E9-136E239B7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3A918-6424-4D0B-A3D9-A969C0821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92FFF-C98C-4027-90D7-AC876CC5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86CDAB-8BB9-4216-A6E9-2F78A455C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8A0860-5051-4205-B812-E15D97C9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B4FF5-3961-488E-9D43-7CBC2895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F1CCD-59C1-4F04-A7D6-C73E2A62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56688-3223-4FFF-ABB4-7FAE5847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9526-6FFC-4FAC-96C5-B8D60954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41152-E500-4197-9F56-D92D03B7F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9C74B-6731-4843-85EF-67803C27C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6BE-3A00-4006-865C-AAD0DC0E7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8FB0E1-2040-4325-B772-C749660A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46977-EF9C-434A-9C8B-B3E4ED90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CE9ECC-EA95-4E8F-AC42-6BB3A0690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D2D34-0C8C-46D5-A7D2-B08F33F2B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F18F9-DEED-4C3E-8242-C76C86DA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7AD37-B5AF-41B6-9325-2362094CD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DB1BF5-B3E0-4AE8-82EE-07008AB9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D5F3D-77D4-49F4-A6BF-B92CE586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BF2C4E-010A-42FB-BD46-B9B5D4FC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04005-48C1-4A7E-AE7D-60CA1C531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5E8A-B5D4-4636-9345-7B0A313C3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4E1E2-72C0-4EE6-A8CD-EF8BA2C5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375E-D688-4020-B00F-866AC3F3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937-3538-4810-B7DC-C0EE638E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B353-521A-4702-AD2C-F9EAE49F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F082-8592-4A8A-BBBA-8E5F5465CEC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1210-35B9-44C2-9BC9-3D171565C3B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4614D-6401-4C39-A7B0-D84E7C43E60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4CE2-6B50-4298-8944-5FF1F08A98B1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cubicBezTo>
                  <a:pt x="2296005" y="0"/>
                  <a:pt x="2324605" y="28600"/>
                  <a:pt x="2324605" y="63880"/>
                </a:cubicBezTo>
                <a:lnTo>
                  <a:pt x="2324605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1B36-20DE-4519-B8A9-A0F64D2F2BE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4"/>
          <p:cNvSpPr/>
          <p:nvPr/>
        </p:nvSpPr>
        <p:spPr>
          <a:xfrm>
            <a:off x="571680" y="2143080"/>
            <a:ext cx="8215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уворова Н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рок литературного чтения (система Л.В. Занк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чебник Литературное чтение 4 кла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Автор Н.А. Чура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3"/>
          <p:cNvSpPr/>
          <p:nvPr/>
        </p:nvSpPr>
        <p:spPr>
          <a:xfrm>
            <a:off x="785880" y="9288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лчица была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785880" y="17146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лодой, силь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3071880" y="228600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ольной, ране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2857680" y="2928960"/>
            <a:ext cx="507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лабого здоровья, голод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>
            <a:off x="1071720" y="3500280"/>
            <a:ext cx="778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 волчицы бы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>
            <a:off x="571680" y="421488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 волч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>
            <a:off x="3429000" y="42148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 волч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>
            <a:off x="5929200" y="42148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4 волчо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1"/>
          <p:cNvSpPr/>
          <p:nvPr/>
        </p:nvSpPr>
        <p:spPr>
          <a:xfrm>
            <a:off x="642960" y="500076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раз ходила волчица на охо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3"/>
          <p:cNvSpPr/>
          <p:nvPr/>
        </p:nvSpPr>
        <p:spPr>
          <a:xfrm>
            <a:off x="571680" y="585792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1 р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4"/>
          <p:cNvSpPr/>
          <p:nvPr/>
        </p:nvSpPr>
        <p:spPr>
          <a:xfrm>
            <a:off x="6286680" y="585792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3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5"/>
          <p:cNvSpPr/>
          <p:nvPr/>
        </p:nvSpPr>
        <p:spPr>
          <a:xfrm>
            <a:off x="3357720" y="585792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2 ра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2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" dur="2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3"/>
          <p:cNvSpPr/>
          <p:nvPr/>
        </p:nvSpPr>
        <p:spPr>
          <a:xfrm>
            <a:off x="785880" y="928800"/>
            <a:ext cx="778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ть ли сходство в рассказах «Гриша» и «Белолобый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2" descr="D:\картинки\ЗВЕРЯТА\1\-image035-jpg_xtbkea5y.jpg"/>
          <p:cNvPicPr/>
          <p:nvPr/>
        </p:nvPicPr>
        <p:blipFill>
          <a:blip r:embed="rId1"/>
          <a:stretch/>
        </p:blipFill>
        <p:spPr>
          <a:xfrm>
            <a:off x="2000160" y="2214720"/>
            <a:ext cx="5429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3"/>
          <p:cNvSpPr/>
          <p:nvPr/>
        </p:nvSpPr>
        <p:spPr>
          <a:xfrm>
            <a:off x="857160" y="642960"/>
            <a:ext cx="7286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4"/>
          <p:cNvSpPr/>
          <p:nvPr/>
        </p:nvSpPr>
        <p:spPr>
          <a:xfrm>
            <a:off x="714240" y="3000240"/>
            <a:ext cx="757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р. 102-109 пересказ текс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6"/>
          <p:cNvSpPr/>
          <p:nvPr/>
        </p:nvSpPr>
        <p:spPr>
          <a:xfrm>
            <a:off x="285840" y="57168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Тема урока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А.П. Чехов «Белолобый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500040" y="3509280"/>
            <a:ext cx="842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ть умения анализировать литературное произведени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мать главную мысль, образы, составлять план; учить передавать; настроение средствами язы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вать  речь, умение сравнивать, обобщать, делать выв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ывать в детях чувство добра, неприятие з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ть здоровье де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3"/>
          <p:cNvSpPr/>
          <p:nvPr/>
        </p:nvSpPr>
        <p:spPr>
          <a:xfrm>
            <a:off x="1143000" y="50004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Назови лишнее сло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785880" y="1643040"/>
            <a:ext cx="7715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силий, Фёдор, Дмитрий, Ант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ванович, Алексеевич, Юрьевич, Павл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етрова, Сидорова, Иванова, 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Прямоугольник 6" descr=""/>
          <p:cNvPicPr/>
          <p:nvPr/>
        </p:nvPicPr>
        <p:blipFill>
          <a:blip r:embed="rId1"/>
          <a:stretch/>
        </p:blipFill>
        <p:spPr>
          <a:xfrm>
            <a:off x="755640" y="3816360"/>
            <a:ext cx="765648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3"/>
          <p:cNvSpPr/>
          <p:nvPr/>
        </p:nvSpPr>
        <p:spPr>
          <a:xfrm>
            <a:off x="785880" y="642960"/>
            <a:ext cx="80722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00"/>
                </a:solidFill>
                <a:latin typeface="Monotype Corsiva"/>
              </a:rPr>
              <a:t>Природа – соучастник человеческой жизни («Каштанка», «Белолобый», «Агафья», «Страх»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1" descr="File17-3"/>
          <p:cNvPicPr/>
          <p:nvPr/>
        </p:nvPicPr>
        <p:blipFill>
          <a:blip r:embed="rId1"/>
          <a:stretch/>
        </p:blipFill>
        <p:spPr>
          <a:xfrm>
            <a:off x="3132000" y="2637000"/>
            <a:ext cx="2892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3"/>
          <p:cNvSpPr/>
          <p:nvPr/>
        </p:nvSpPr>
        <p:spPr>
          <a:xfrm>
            <a:off x="785880" y="642960"/>
            <a:ext cx="757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абота над тексто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2" descr="C:\Documents and Settings\ван\Рабочий стол\Новая папка (3)\post-19-1195390853.jpg"/>
          <p:cNvPicPr/>
          <p:nvPr/>
        </p:nvPicPr>
        <p:blipFill>
          <a:blip r:embed="rId1"/>
          <a:stretch/>
        </p:blipFill>
        <p:spPr>
          <a:xfrm>
            <a:off x="1643040" y="1785960"/>
            <a:ext cx="6024600" cy="4518000"/>
          </a:xfrm>
          <a:prstGeom prst="rect">
            <a:avLst/>
          </a:prstGeom>
          <a:ln w="0">
            <a:noFill/>
          </a:ln>
        </p:spPr>
      </p:pic>
      <p:sp>
        <p:nvSpPr>
          <p:cNvPr id="230" name="Семиугольник 6"/>
          <p:cNvSpPr/>
          <p:nvPr/>
        </p:nvSpPr>
        <p:spPr>
          <a:xfrm>
            <a:off x="357120" y="1214280"/>
            <a:ext cx="2071800" cy="185760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C:\Documents and Settings\ван\Рабочий стол\Новая папка (3)\2336325.jpg"/>
          <p:cNvPicPr/>
          <p:nvPr/>
        </p:nvPicPr>
        <p:blipFill>
          <a:blip r:embed="rId1"/>
          <a:stretch/>
        </p:blipFill>
        <p:spPr>
          <a:xfrm>
            <a:off x="0" y="0"/>
            <a:ext cx="9358200" cy="7035840"/>
          </a:xfrm>
          <a:prstGeom prst="rect">
            <a:avLst/>
          </a:prstGeom>
          <a:ln w="0">
            <a:noFill/>
          </a:ln>
        </p:spPr>
      </p:pic>
      <p:sp>
        <p:nvSpPr>
          <p:cNvPr id="232" name="Семиугольник 4"/>
          <p:cNvSpPr/>
          <p:nvPr/>
        </p:nvSpPr>
        <p:spPr>
          <a:xfrm>
            <a:off x="214200" y="285840"/>
            <a:ext cx="2071800" cy="1857240"/>
          </a:xfrm>
          <a:prstGeom prst="pi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D:\картинки\ЗВЕРЯТА\1\priroda1.jpg"/>
          <p:cNvPicPr/>
          <p:nvPr/>
        </p:nvPicPr>
        <p:blipFill>
          <a:blip r:embed="rId1"/>
          <a:stretch/>
        </p:blipFill>
        <p:spPr>
          <a:xfrm>
            <a:off x="4714920" y="-142920"/>
            <a:ext cx="4611600" cy="714384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D:\картинки\ЗВЕРЯТА\2\173088.jpg"/>
          <p:cNvPicPr/>
          <p:nvPr/>
        </p:nvPicPr>
        <p:blipFill>
          <a:blip r:embed="rId2"/>
          <a:stretch/>
        </p:blipFill>
        <p:spPr>
          <a:xfrm>
            <a:off x="0" y="-214200"/>
            <a:ext cx="5227560" cy="3743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D:\картинки\ЗВЕРЯТА\2\042079.jpg"/>
          <p:cNvPicPr/>
          <p:nvPr/>
        </p:nvPicPr>
        <p:blipFill>
          <a:blip r:embed="rId3"/>
          <a:stretch/>
        </p:blipFill>
        <p:spPr>
          <a:xfrm>
            <a:off x="0" y="3490920"/>
            <a:ext cx="521496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1071720" y="500040"/>
            <a:ext cx="721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Творческая рабо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2" descr="D:\картинки\Картинки\сказки\осы.jpg"/>
          <p:cNvPicPr/>
          <p:nvPr/>
        </p:nvPicPr>
        <p:blipFill>
          <a:blip r:embed="rId1"/>
          <a:stretch/>
        </p:blipFill>
        <p:spPr>
          <a:xfrm>
            <a:off x="3000240" y="1714680"/>
            <a:ext cx="3071880" cy="46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Box 3"/>
          <p:cNvSpPr/>
          <p:nvPr/>
        </p:nvSpPr>
        <p:spPr>
          <a:xfrm>
            <a:off x="1357200" y="500040"/>
            <a:ext cx="66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Проверь себя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714240" y="171468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автора изученн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6215040" y="42861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ь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3643200" y="264312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у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7"/>
          <p:cNvSpPr/>
          <p:nvPr/>
        </p:nvSpPr>
        <p:spPr>
          <a:xfrm>
            <a:off x="5929200" y="264312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Чех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8"/>
          <p:cNvSpPr/>
          <p:nvPr/>
        </p:nvSpPr>
        <p:spPr>
          <a:xfrm>
            <a:off x="642960" y="342900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зовите жанр изученн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9"/>
          <p:cNvSpPr/>
          <p:nvPr/>
        </p:nvSpPr>
        <p:spPr>
          <a:xfrm>
            <a:off x="1071720" y="4286160"/>
            <a:ext cx="357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Бас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0"/>
          <p:cNvSpPr/>
          <p:nvPr/>
        </p:nvSpPr>
        <p:spPr>
          <a:xfrm>
            <a:off x="3643200" y="428616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Расска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1"/>
          <p:cNvSpPr/>
          <p:nvPr/>
        </p:nvSpPr>
        <p:spPr>
          <a:xfrm>
            <a:off x="928800" y="264312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аяковс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857160" y="5072040"/>
            <a:ext cx="77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ствие в рассказе происходил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3"/>
          <p:cNvSpPr/>
          <p:nvPr/>
        </p:nvSpPr>
        <p:spPr>
          <a:xfrm>
            <a:off x="1000080" y="57862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сен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4"/>
          <p:cNvSpPr/>
          <p:nvPr/>
        </p:nvSpPr>
        <p:spPr>
          <a:xfrm>
            <a:off x="3643200" y="57862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Зи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5"/>
          <p:cNvSpPr/>
          <p:nvPr/>
        </p:nvSpPr>
        <p:spPr>
          <a:xfrm>
            <a:off x="6072120" y="5786280"/>
            <a:ext cx="357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есн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2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2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1T05:08:47Z</dcterms:created>
  <dc:creator>ван</dc:creator>
  <dc:description/>
  <dc:language>en-US</dc:language>
  <cp:lastModifiedBy>User</cp:lastModifiedBy>
  <dcterms:modified xsi:type="dcterms:W3CDTF">2018-06-21T06:17:10Z</dcterms:modified>
  <cp:revision>15</cp:revision>
  <dc:subject/>
  <dc:title>Слайд 1</dc:title>
</cp:coreProperties>
</file>