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597-95F3-4D4A-BA1A-E19FA081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473-4074-48F5-85F1-06CE367D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CC5-1A5C-45BA-B02D-70806595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6CF-5EE6-4CDD-9FEF-F9C97A09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93CD-05FD-461E-9B11-B4BB9CD6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3B5D-14B1-4505-AE0B-D5E373C9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A61F-0C55-42AA-9035-C70F3995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4A50-14CB-4CD5-A0AC-F1459DB4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B687-D6B3-4930-8157-71095A50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6DE0-C3A3-4ABA-B898-52BF8004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A96F-6B34-4B0A-87EA-BC25A983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ED8-2D0A-480F-A902-E8EE492E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943C-5F8B-4C55-832E-6AB5623D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E3C4-116C-400C-8B5D-F2ED55D2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E299-A0B9-46AB-BD9A-4FF68682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55A4-3D42-4582-8994-1E9423F5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AF29-ABD9-4D7D-9F80-36AC0B06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4033-01C0-46FC-8CE2-1C2C915B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9E202-9E0D-467C-BE81-D22A0310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4DD35-74B3-4DE2-98A8-C6B52F7B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EC498-E62C-4EE7-AB1A-4CFC78BE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771CC-D900-4960-9666-44946EFA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10D-7A9D-41D7-B824-AB2C53A9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9ECBD-D0B9-4BE6-B037-3295BA17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D020F-DB80-4D5A-9BF6-3B67B956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832A6-4E3A-469B-9C97-B34AF322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3A7B7-B6ED-4196-A1DD-DED481F3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1FD00-012B-46F2-99D4-26970156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FD99A-0299-462B-9BC7-66E5D9EF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A3E2-D659-438C-B245-80318D22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D77-0B06-4EEC-B69B-9125F130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9121-061F-478C-990A-16742264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D00-8CFE-4D5E-A499-131411FB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32D-65A5-43FF-BAA3-7AB0E594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B7A-6E98-4C3B-9D0E-319BC585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DF6-2788-4E1B-9155-F0EDCA3B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12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6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36AD-1BE0-474C-8940-30BBDC50A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9493-2163-47C8-A73D-BCD5FC9510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FD13-0290-4C92-ABC3-1F4BA3C7D3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78000" y="11250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Исследовательская работа</a:t>
            </a:r>
            <a:br>
              <a:rPr sz="4000"/>
            </a:br>
            <a:r>
              <a:rPr b="1" lang="en-US" sz="4400" spc="-1" strike="noStrike">
                <a:solidFill>
                  <a:srgbClr val="8c0039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Определение влияния биоритмов учащихся </a:t>
            </a:r>
            <a:br>
              <a:rPr sz="4000"/>
            </a:b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на работоспособность </a:t>
            </a:r>
            <a:br>
              <a:rPr sz="4000"/>
            </a:b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и успеваемость учащихся</a:t>
            </a:r>
            <a:r>
              <a:rPr b="1" lang="en-US" sz="4400" spc="-1" strike="noStrike">
                <a:solidFill>
                  <a:srgbClr val="8c0039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347640" y="4005360"/>
            <a:ext cx="488484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36c03"/>
                </a:solidFill>
                <a:latin typeface="Arial"/>
              </a:rPr>
              <a:t>Выполни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c03"/>
                </a:solidFill>
                <a:latin typeface="Arial"/>
              </a:rPr>
              <a:t>Мангутова Марина, ученица 3 «Б» класса МБОУ СОШ №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36c03"/>
                </a:solidFill>
                <a:latin typeface="Arial"/>
              </a:rPr>
              <a:t>Руководитель прое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c03"/>
                </a:solidFill>
                <a:latin typeface="Arial"/>
              </a:rPr>
              <a:t>Зарубина Е. В., учитель начальных классов МБОУ СОШ №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27236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Цель работы 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установить влияние биоритмов (особенно интеллектуального) 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на успеваемость учащихся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Задачи работы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Изучить научно-методическую литературу по теме исследования.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Познакомиться с  биоритмами человека.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Рассчитать биоритмы с помощью специальной программы.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Дать рекомендации учащимся и учителям по эффективному использованию биоритмов в учебном процессе.</a:t>
            </a: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5280" y="333000"/>
            <a:ext cx="6984720" cy="615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Гипотеза: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если биоритмы существуют, они влияют на работоспособность и успеваемость учащихся.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Объект исследования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учащиеся 3 «Б» класса МБОУ СОШ № 8.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Предмет исследования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физический, эмоциональный  и  интеллектуальный  биоритмы учащихся.</a:t>
            </a:r>
            <a:br>
              <a:rPr sz="2400"/>
            </a:br>
            <a:br>
              <a:rPr sz="2000"/>
            </a:b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Методы исследования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: </a:t>
            </a:r>
            <a:br>
              <a:rPr sz="20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Анализ научно-популярной литературы.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2. Моделирование биоритмов человека средствами электронных программ.</a:t>
            </a: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5640" y="260280"/>
            <a:ext cx="596412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Этапы работы: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изучение литературы по заданной теме;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расчет интеллектуального, физического и эмоционального биоритмов по алгоритму;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расчет биоритмов учащихся на заданный период по алгоритму;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анализ полученных данных;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составление презентации.</a:t>
            </a:r>
            <a:br>
              <a:rPr sz="32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62643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Предполагаемые результаты работы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доказать, что интеллектуальный биоритм в положительной фазе влияет на получение хороших оценок учащимися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эмоциональный биоритм и результаты  учебной  деятельности  учащихся  взаимодействуют  между  собой:  вероятность  успешной  учёбы  выше  в  те  периоды, когда  эмоциональный  и интеллектуальный биоритмы  ученика  находятся  на  подъёме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872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ff"/>
                </a:solidFill>
                <a:latin typeface="Arial"/>
              </a:rPr>
              <a:t>Биологические ритмы, или биоритмы -</a:t>
            </a:r>
            <a:endParaRPr b="0" lang="en-US" sz="2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692280"/>
            <a:ext cx="68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Comic Sans MS"/>
              </a:rPr>
              <a:t>– </a:t>
            </a:r>
            <a:r>
              <a:rPr b="0" lang="en-US" sz="2000" spc="-1" strike="noStrike">
                <a:solidFill>
                  <a:srgbClr val="8c0039"/>
                </a:solidFill>
                <a:latin typeface="Comic Sans MS"/>
              </a:rPr>
              <a:t>это более или менее регулярные изменения характера и интенсивности биологических процесс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Заголовок 7"/>
          <p:cNvSpPr/>
          <p:nvPr/>
        </p:nvSpPr>
        <p:spPr>
          <a:xfrm>
            <a:off x="2411280" y="5013360"/>
            <a:ext cx="64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Интеллектуальный биоритм (цикл - 33 дня) 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2492280"/>
            <a:ext cx="64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Comic Sans MS"/>
              </a:rPr>
              <a:t>определяет энергию человека, его силу, выносливость, координацию движения.</a:t>
            </a:r>
            <a:r>
              <a:rPr b="0" lang="en-US" sz="2000" spc="-1" strike="noStrike">
                <a:solidFill>
                  <a:srgbClr val="c36c0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Заголовок 7"/>
          <p:cNvSpPr/>
          <p:nvPr/>
        </p:nvSpPr>
        <p:spPr>
          <a:xfrm>
            <a:off x="2411280" y="3213000"/>
            <a:ext cx="655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Эмоциональный биоритм (цикл длится 28 дней) 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3716280"/>
            <a:ext cx="64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Comic Sans MS"/>
              </a:rPr>
              <a:t>обусловливает состояние нервной системы и настроение. Эмоциональный биоритм влияет на силу наших чувств, на внутреннее и внешнее восприятие, на интуицию и способность творить.</a:t>
            </a:r>
            <a:r>
              <a:rPr b="0" lang="en-US" sz="2000" spc="-1" strike="noStrike">
                <a:solidFill>
                  <a:srgbClr val="8c003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Заголовок 7"/>
          <p:cNvSpPr/>
          <p:nvPr/>
        </p:nvSpPr>
        <p:spPr>
          <a:xfrm>
            <a:off x="2484360" y="2060640"/>
            <a:ext cx="64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Физический биоритм (цикл длится 23 дня) 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5516640"/>
            <a:ext cx="64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Comic Sans MS"/>
              </a:rPr>
              <a:t>определяет творческую способность личности, умственную работоспособ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55640" y="227160"/>
            <a:ext cx="633708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Биоритмы Мангутовой Марины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47640" y="286920"/>
            <a:ext cx="60483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64008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8:02:47Z</dcterms:created>
  <dc:creator>Марина</dc:creator>
  <dc:description/>
  <dc:language>en-US</dc:language>
  <cp:lastModifiedBy>Марина</cp:lastModifiedBy>
  <dcterms:modified xsi:type="dcterms:W3CDTF">2016-01-31T05:36:00Z</dcterms:modified>
  <cp:revision>63</cp:revision>
  <dc:subject/>
  <dc:title>Моя родословная</dc:title>
</cp:coreProperties>
</file>