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49E-1391-4424-9DCE-E6349198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A70-4A99-4A59-BF6F-617725D1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4CA-AC2F-44B1-99F9-941D9B01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7A2-C548-4FE5-8E69-F7BA80B0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8F52-C542-4DB0-9F9D-D48EEFB7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5744-CF59-4778-83B1-5814D0B5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68A9-9D3F-45B6-9E42-269A91A8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ECF1-820C-4E58-BBE3-D39E46A6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483A-CD97-4667-B8E8-DBDF0D23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FEA1-26F3-4F8A-B08D-915F5F8A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F7D6-D25F-4932-9CA1-F0B7A3F5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5C9-FE32-46BE-B5AA-351CC64C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3F64-AD9B-4D26-B178-67758801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1737-F5AF-4592-BCE9-293F0D9A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8E53-DA50-494C-8522-38DA3BB0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D295-292B-4912-A61D-E4BEF8EE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C171-5C59-43D3-8191-37816972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1A7EC-F734-4CD4-AE8B-C708FB46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0D0D-BE2E-4F8E-8AD7-4ED1838B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FAF0E-26F3-4F31-9D09-9A672A92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5ABF3-D040-4579-B23E-7551B3E5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58D23-4B07-42B3-A860-318735C5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7D1-BDA0-41D2-B2C6-B8EE6ACE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3FBBA-AE1A-43D8-B99E-821ED095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0CC1-C3EC-491B-85CE-B3483DF1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39F79-1416-49EA-978D-A7AD55F1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DC239-B6F9-4EF1-9A46-C3AAE0D1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6399-F316-41FD-BDC3-86AECE68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569EA-EF3D-4BC7-B010-AE9347AB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A495-9197-46A6-A548-C31ED4C7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ADE-9256-431F-B75C-80B1AFE5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308-E5CA-4EE5-B2F1-11AE6EA2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7FA-106A-49BE-8B04-52C0B86B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EBD-6B04-449A-B0DA-450EA412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3FA-8A45-4315-9B6C-622187AF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514-7846-48D6-934A-7090E9F8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12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6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B074-A66F-4A61-834D-1A400D0D7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5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EBEC-4793-4B49-83B1-A1352127CF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694E-7592-483D-8170-C6EDCDDC98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78000" y="11250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Исследовательская работа</a:t>
            </a:r>
            <a:br>
              <a:rPr sz="4000"/>
            </a:br>
            <a:r>
              <a:rPr b="1" lang="en-US" sz="4400" spc="-1" strike="noStrike">
                <a:solidFill>
                  <a:srgbClr val="8c0039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Определение влияния биоритмов учащихся </a:t>
            </a:r>
            <a:br>
              <a:rPr sz="4000"/>
            </a:b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на работоспособность </a:t>
            </a:r>
            <a:br>
              <a:rPr sz="4000"/>
            </a:b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и успеваемость учащихся</a:t>
            </a:r>
            <a:r>
              <a:rPr b="1" lang="en-US" sz="4400" spc="-1" strike="noStrike">
                <a:solidFill>
                  <a:srgbClr val="8c0039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347640" y="4005360"/>
            <a:ext cx="488484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36c03"/>
                </a:solidFill>
                <a:latin typeface="Arial"/>
              </a:rPr>
              <a:t>Выполни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c03"/>
                </a:solidFill>
                <a:latin typeface="Arial"/>
              </a:rPr>
              <a:t>Мангутова Марина, ученица 3 «Б» класса МБОУ СОШ №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36c03"/>
                </a:solidFill>
                <a:latin typeface="Arial"/>
              </a:rPr>
              <a:t>Руководитель прое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c03"/>
                </a:solidFill>
                <a:latin typeface="Arial"/>
              </a:rPr>
              <a:t>Зарубина Е. В., учитель начальных классов МБОУ СОШ №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727236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Цель работы 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установить влияние биоритмов (особенно интеллектуального) 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на успеваемость учащихся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Задачи работы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Изучить научно-методическую литературу по теме исследования.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Познакомиться с  биоритмами человека.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Рассчитать биоритмы с помощью специальной программы.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Дать рекомендации учащимся и учителям по эффективному использованию биоритмов в учебном процессе.</a:t>
            </a: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5280" y="333000"/>
            <a:ext cx="6984720" cy="615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Гипотеза: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если биоритмы существуют, они влияют на работоспособность и успеваемость учащихся.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 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Объект исследования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учащиеся 3 «Б» класса МБОУ СОШ № 8.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Предмет исследования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физический, эмоциональный  и  интеллектуальный  биоритмы учащихся.</a:t>
            </a:r>
            <a:br>
              <a:rPr sz="2400"/>
            </a:br>
            <a:br>
              <a:rPr sz="2000"/>
            </a:b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Методы исследования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: </a:t>
            </a:r>
            <a:br>
              <a:rPr sz="20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Анализ научно-популярной литературы.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2. Моделирование биоритмов человека средствами электронных программ.</a:t>
            </a: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5640" y="260280"/>
            <a:ext cx="596412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Этапы работы: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изучение литературы по заданной теме;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расчет интеллектуального, физического и эмоционального биоритмов по алгоритму;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расчет биоритмов учащихся на заданный период по алгоритму;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анализ полученных данных;</a:t>
            </a: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составление презентации.</a:t>
            </a:r>
            <a:br>
              <a:rPr sz="32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62643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Предполагаемые результаты работы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доказать, что интеллектуальный биоритм в положительной фазе влияет на получение хороших оценок учащимися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- эмоциональный биоритм и результаты  учебной  деятельности  учащихся  взаимодействуют  между  собой:  вероятность  успешной  учёбы  выше  в  те  периоды, когда  эмоциональный  и интеллектуальный биоритмы  ученика  находятся  на  подъёме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872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ff"/>
                </a:solidFill>
                <a:latin typeface="Arial"/>
              </a:rPr>
              <a:t>Биологические ритмы, или биоритмы -</a:t>
            </a:r>
            <a:endParaRPr b="0" lang="en-US" sz="2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692280"/>
            <a:ext cx="68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Comic Sans MS"/>
              </a:rPr>
              <a:t>– </a:t>
            </a:r>
            <a:r>
              <a:rPr b="0" lang="en-US" sz="2000" spc="-1" strike="noStrike">
                <a:solidFill>
                  <a:srgbClr val="8c0039"/>
                </a:solidFill>
                <a:latin typeface="Comic Sans MS"/>
              </a:rPr>
              <a:t>это более или менее регулярные изменения характера и интенсивности биологических процесс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Заголовок 7"/>
          <p:cNvSpPr/>
          <p:nvPr/>
        </p:nvSpPr>
        <p:spPr>
          <a:xfrm>
            <a:off x="2411280" y="5013360"/>
            <a:ext cx="64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Интеллектуальный биоритм (цикл - 33 дня) 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2492280"/>
            <a:ext cx="64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Comic Sans MS"/>
              </a:rPr>
              <a:t>определяет энергию человека, его силу, выносливость, координацию движения.</a:t>
            </a:r>
            <a:r>
              <a:rPr b="0" lang="en-US" sz="2000" spc="-1" strike="noStrike">
                <a:solidFill>
                  <a:srgbClr val="c36c03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Заголовок 7"/>
          <p:cNvSpPr/>
          <p:nvPr/>
        </p:nvSpPr>
        <p:spPr>
          <a:xfrm>
            <a:off x="2411280" y="3213000"/>
            <a:ext cx="655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Эмоциональный биоритм (цикл длится 28 дней) 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3716280"/>
            <a:ext cx="64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Comic Sans MS"/>
              </a:rPr>
              <a:t>обусловливает состояние нервной системы и настроение. Эмоциональный биоритм влияет на силу наших чувств, на внутреннее и внешнее восприятие, на интуицию и способность творить.</a:t>
            </a:r>
            <a:r>
              <a:rPr b="0" lang="en-US" sz="2000" spc="-1" strike="noStrike">
                <a:solidFill>
                  <a:srgbClr val="8c003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Заголовок 7"/>
          <p:cNvSpPr/>
          <p:nvPr/>
        </p:nvSpPr>
        <p:spPr>
          <a:xfrm>
            <a:off x="2484360" y="2060640"/>
            <a:ext cx="64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Физический биоритм (цикл длится 23 дня) 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5516640"/>
            <a:ext cx="64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Comic Sans MS"/>
              </a:rPr>
              <a:t>определяет творческую способность личности, умственную работоспособно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55640" y="227160"/>
            <a:ext cx="633708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Биоритмы Мангутовой Марины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47640" y="286920"/>
            <a:ext cx="60483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64008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8:02:47Z</dcterms:created>
  <dc:creator>Марина</dc:creator>
  <dc:description/>
  <dc:language>en-US</dc:language>
  <cp:lastModifiedBy>Марина</cp:lastModifiedBy>
  <dcterms:modified xsi:type="dcterms:W3CDTF">2016-01-31T05:36:00Z</dcterms:modified>
  <cp:revision>63</cp:revision>
  <dc:subject/>
  <dc:title>Моя родословная</dc:title>
</cp:coreProperties>
</file>