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png" ContentType="image/png"/>
  <Override PartName="/ppt/media/image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72EC-A843-4065-90D6-4F2F51416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9839-3882-4A27-923E-0BB9A9EF2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C8DF-FCFF-4CEB-8492-022E8AB2C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530C-B9B1-4401-BEC6-A1D8319FF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536D-CD8D-4DEB-AC9F-ED2DBB1C9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BF89-4882-45CC-949F-3EDA76FD9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08C6-F6B3-47C6-A716-2B07393EB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F046-325E-46E9-83D2-974C4BDD8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6DF5-8592-440F-9355-316DDC79B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6DD9-9E9C-45EC-832A-369269E12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2510-1AC4-437D-81CF-2084CAF1C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070D-6375-4BC6-A72E-398D8A71D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96fb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E1740-39A1-4891-850A-14DC8C56C7B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dou-489.ru/igrushki-mira/img-igrushki/pogremuha-04.jpg" TargetMode="External"/><Relationship Id="rId2" Type="http://schemas.openxmlformats.org/officeDocument/2006/relationships/hyperlink" Target="http://dou-489.ru/igrushki-mira/img-igrushki/pogremuha-04.jpg" TargetMode="External"/><Relationship Id="rId3" Type="http://schemas.openxmlformats.org/officeDocument/2006/relationships/hyperlink" Target="http://dou-489.ru/igrushki-mira/img-igrushki/pogremuha-04.jpg" TargetMode="External"/><Relationship Id="rId4" Type="http://schemas.openxmlformats.org/officeDocument/2006/relationships/hyperlink" Target="http://dou-489.ru/igrushki-mira/img-igrushki/pogremuha-04.jpg" TargetMode="External"/><Relationship Id="rId5" Type="http://schemas.openxmlformats.org/officeDocument/2006/relationships/hyperlink" Target="http://dou-489.ru/igrushki-mira/img-igrushki/pogremuha-04.jpg" TargetMode="External"/><Relationship Id="rId6" Type="http://schemas.openxmlformats.org/officeDocument/2006/relationships/hyperlink" Target="http://img1.liveinternet.ru/images/attach/c/4/83/674/83674047_large_2825_002.jpg" TargetMode="External"/><Relationship Id="rId7" Type="http://schemas.openxmlformats.org/officeDocument/2006/relationships/hyperlink" Target="http://img1.liveinternet.ru/images/attach/c/4/83/674/83674047_large_2825_002.jpg" TargetMode="External"/><Relationship Id="rId8" Type="http://schemas.openxmlformats.org/officeDocument/2006/relationships/hyperlink" Target="http://img1.liveinternet.ru/images/attach/c/4/83/674/83674047_large_2825_002.jpg" TargetMode="External"/><Relationship Id="rId9" Type="http://schemas.openxmlformats.org/officeDocument/2006/relationships/hyperlink" Target="http://img1.liveinternet.ru/images/attach/c/4/83/674/83674047_large_2825_002.jpg" TargetMode="External"/><Relationship Id="rId10" Type="http://schemas.openxmlformats.org/officeDocument/2006/relationships/hyperlink" Target="http://img1.liveinternet.ru/images/attach/c/4/83/674/83674047_large_2825_002.jpg" TargetMode="External"/><Relationship Id="rId11" Type="http://schemas.openxmlformats.org/officeDocument/2006/relationships/hyperlink" Target="http://canariaspb.narod.ru/photo57.jpg" TargetMode="External"/><Relationship Id="rId12" Type="http://schemas.openxmlformats.org/officeDocument/2006/relationships/hyperlink" Target="http://canariaspb.narod.ru/photo57.jpg" TargetMode="External"/><Relationship Id="rId13" Type="http://schemas.openxmlformats.org/officeDocument/2006/relationships/hyperlink" Target="http://canariaspb.narod.ru/photo57.jpg" TargetMode="External"/><Relationship Id="rId14" Type="http://schemas.openxmlformats.org/officeDocument/2006/relationships/hyperlink" Target="http://canariaspb.narod.ru/photo57.jpg" TargetMode="External"/><Relationship Id="rId15" Type="http://schemas.openxmlformats.org/officeDocument/2006/relationships/hyperlink" Target="http://www.tvorite.ru/uploads/posts/2011-02/1297160350_small.jpg" TargetMode="External"/><Relationship Id="rId16" Type="http://schemas.openxmlformats.org/officeDocument/2006/relationships/hyperlink" Target="http://www.tvorite.ru/uploads/posts/2011-02/1297160350_small.jpg" TargetMode="External"/><Relationship Id="rId17" Type="http://schemas.openxmlformats.org/officeDocument/2006/relationships/hyperlink" Target="http://www.tvorite.ru/uploads/posts/2011-02/1297160350_small.jpg" TargetMode="External"/><Relationship Id="rId18" Type="http://schemas.openxmlformats.org/officeDocument/2006/relationships/hyperlink" Target="http://www.tvorite.ru/uploads/posts/2011-02/1297160350_small.jpg" TargetMode="External"/><Relationship Id="rId19" Type="http://schemas.openxmlformats.org/officeDocument/2006/relationships/hyperlink" Target="http://www.tvorite.ru/uploads/posts/2011-02/1297160350_small.jpg" TargetMode="External"/><Relationship Id="rId20" Type="http://schemas.openxmlformats.org/officeDocument/2006/relationships/hyperlink" Target="http://www.tvorite.ru/uploads/posts/2011-02/1297160350_small.jpg" TargetMode="External"/><Relationship Id="rId21" Type="http://schemas.openxmlformats.org/officeDocument/2006/relationships/hyperlink" Target="http://www.tvorite.ru/uploads/posts/2011-02/1297160350_small.jpg" TargetMode="External"/><Relationship Id="rId22" Type="http://schemas.openxmlformats.org/officeDocument/2006/relationships/hyperlink" Target="http://www.tvorite.ru/uploads/posts/2011-02/1297160350_small.jpg" TargetMode="External"/><Relationship Id="rId23" Type="http://schemas.openxmlformats.org/officeDocument/2006/relationships/hyperlink" Target="http://p-shkola.by/isimages/s000120_776691.jpg" TargetMode="External"/><Relationship Id="rId24" Type="http://schemas.openxmlformats.org/officeDocument/2006/relationships/hyperlink" Target="http://p-shkola.by/isimages/s000120_776691.jpg" TargetMode="External"/><Relationship Id="rId25" Type="http://schemas.openxmlformats.org/officeDocument/2006/relationships/hyperlink" Target="http://p-shkola.by/isimages/s000120_776691.jpg" TargetMode="External"/><Relationship Id="rId26" Type="http://schemas.openxmlformats.org/officeDocument/2006/relationships/hyperlink" Target="http://p-shkola.by/isimages/s000120_776691.jpg" TargetMode="External"/><Relationship Id="rId27" Type="http://schemas.openxmlformats.org/officeDocument/2006/relationships/hyperlink" Target="http://p-shkola.by/isimages/s000120_776691.jpg" TargetMode="External"/><Relationship Id="rId28" Type="http://schemas.openxmlformats.org/officeDocument/2006/relationships/hyperlink" Target="http://p-shkola.by/isimages/s000120_776691.jpg" TargetMode="External"/><Relationship Id="rId29" Type="http://schemas.openxmlformats.org/officeDocument/2006/relationships/hyperlink" Target="http://www.artpoisk.info/files/images/11145.jpg" TargetMode="External"/><Relationship Id="rId30" Type="http://schemas.openxmlformats.org/officeDocument/2006/relationships/hyperlink" Target="http://www.artpoisk.info/files/images/11145.jpg" TargetMode="External"/><Relationship Id="rId31" Type="http://schemas.openxmlformats.org/officeDocument/2006/relationships/hyperlink" Target="http://www.artpoisk.info/files/images/11145.jpg" TargetMode="External"/><Relationship Id="rId32" Type="http://schemas.openxmlformats.org/officeDocument/2006/relationships/hyperlink" Target="http://www.artpoisk.info/files/images/11145.jpg" TargetMode="External"/><Relationship Id="rId33" Type="http://schemas.openxmlformats.org/officeDocument/2006/relationships/hyperlink" Target="http://www.artpoisk.info/files/images/11145.jpg" TargetMode="External"/><Relationship Id="rId34" Type="http://schemas.openxmlformats.org/officeDocument/2006/relationships/hyperlink" Target="http://www.artpoisk.info/files/images/11145.jpg" TargetMode="External"/><Relationship Id="rId35" Type="http://schemas.openxmlformats.org/officeDocument/2006/relationships/hyperlink" Target="http://www.artpoisk.info/files/images/11145.jpg" TargetMode="External"/><Relationship Id="rId36" Type="http://schemas.openxmlformats.org/officeDocument/2006/relationships/hyperlink" Target="http://www.artpoisk.info/files/images/11145.jpg" TargetMode="External"/><Relationship Id="rId37" Type="http://schemas.openxmlformats.org/officeDocument/2006/relationships/hyperlink" Target="http://myslo.ru/content/oldnews/news_images/%E8%E3%F0001.jpg" TargetMode="External"/><Relationship Id="rId38" Type="http://schemas.openxmlformats.org/officeDocument/2006/relationships/hyperlink" Target="http://myslo.ru/content/oldnews/news_images/%E8%E3%F0001.jpg" TargetMode="External"/><Relationship Id="rId39" Type="http://schemas.openxmlformats.org/officeDocument/2006/relationships/hyperlink" Target="http://myslo.ru/content/oldnews/news_images/%E8%E3%F0001.jpg" TargetMode="External"/><Relationship Id="rId40" Type="http://schemas.openxmlformats.org/officeDocument/2006/relationships/hyperlink" Target="http://myslo.ru/content/oldnews/news_images/%E8%E3%F0001.jpg" TargetMode="External"/><Relationship Id="rId41" Type="http://schemas.openxmlformats.org/officeDocument/2006/relationships/hyperlink" Target="http://myslo.ru/content/oldnews/news_images/%E8%E3%F0001.jpg" TargetMode="External"/><Relationship Id="rId42" Type="http://schemas.openxmlformats.org/officeDocument/2006/relationships/hyperlink" Target="http://myslo.ru/content/oldnews/news_images/%E8%E3%F0001.jpg" TargetMode="External"/><Relationship Id="rId43" Type="http://schemas.openxmlformats.org/officeDocument/2006/relationships/hyperlink" Target="http://myslo.ru/content/oldnews/news_images/%E8%E3%F0001.jpg" TargetMode="External"/><Relationship Id="rId44" Type="http://schemas.openxmlformats.org/officeDocument/2006/relationships/hyperlink" Target="http://myslo.ru/content/oldnews/news_images/%E8%E3%F0001.jpg" TargetMode="External"/><Relationship Id="rId45" Type="http://schemas.openxmlformats.org/officeDocument/2006/relationships/hyperlink" Target="http://myslo.ru/content/oldnews/news_images/%E8%E3%F0001.jpg" TargetMode="External"/><Relationship Id="rId46" Type="http://schemas.openxmlformats.org/officeDocument/2006/relationships/hyperlink" Target="http://vedkar.ru/data/Picture/5280/6.jpg" TargetMode="External"/><Relationship Id="rId47" Type="http://schemas.openxmlformats.org/officeDocument/2006/relationships/hyperlink" Target="http://vedkar.ru/data/Picture/5280/6.jpg" TargetMode="External"/><Relationship Id="rId48" Type="http://schemas.openxmlformats.org/officeDocument/2006/relationships/hyperlink" Target="http://vedkar.ru/data/Picture/5280/6.jpg" TargetMode="External"/><Relationship Id="rId49" Type="http://schemas.openxmlformats.org/officeDocument/2006/relationships/hyperlink" Target="http://vedkar.ru/data/Picture/5280/6.jpg" TargetMode="External"/><Relationship Id="rId50" Type="http://schemas.openxmlformats.org/officeDocument/2006/relationships/hyperlink" Target="http://vedkar.ru/data/Picture/5280/6.jpg" TargetMode="External"/><Relationship Id="rId51" Type="http://schemas.openxmlformats.org/officeDocument/2006/relationships/hyperlink" Target="http://vedkar.ru/data/Picture/5280/6.jpg" TargetMode="External"/><Relationship Id="rId52" Type="http://schemas.openxmlformats.org/officeDocument/2006/relationships/hyperlink" Target="http://vedkar.ru/data/Picture/5280/6.jpg" TargetMode="External"/><Relationship Id="rId53" Type="http://schemas.openxmlformats.org/officeDocument/2006/relationships/hyperlink" Target="http://vedkar.ru/data/Picture/5280/6.jpg" TargetMode="External"/><Relationship Id="rId54" Type="http://schemas.openxmlformats.org/officeDocument/2006/relationships/hyperlink" Target="http://artyx.ru/books/item/f00/s00/z0000035/pic/000121.jpg" TargetMode="External"/><Relationship Id="rId55" Type="http://schemas.openxmlformats.org/officeDocument/2006/relationships/hyperlink" Target="http://artyx.ru/books/item/f00/s00/z0000035/pic/000121.jpg" TargetMode="External"/><Relationship Id="rId56" Type="http://schemas.openxmlformats.org/officeDocument/2006/relationships/hyperlink" Target="http://artyx.ru/books/item/f00/s00/z0000035/pic/000121.jpg" TargetMode="External"/><Relationship Id="rId57" Type="http://schemas.openxmlformats.org/officeDocument/2006/relationships/hyperlink" Target="http://artyx.ru/books/item/f00/s00/z0000035/pic/000121.jpg" TargetMode="External"/><Relationship Id="rId58" Type="http://schemas.openxmlformats.org/officeDocument/2006/relationships/hyperlink" Target="http://artyx.ru/books/item/f00/s00/z0000035/pic/000121.jpg" TargetMode="External"/><Relationship Id="rId59" Type="http://schemas.openxmlformats.org/officeDocument/2006/relationships/hyperlink" Target="http://artyx.ru/books/item/f00/s00/z0000035/pic/000121.jpg" TargetMode="External"/><Relationship Id="rId60" Type="http://schemas.openxmlformats.org/officeDocument/2006/relationships/hyperlink" Target="http://artyx.ru/books/item/f00/s00/z0000035/pic/000121.jpg" TargetMode="External"/><Relationship Id="rId61" Type="http://schemas.openxmlformats.org/officeDocument/2006/relationships/hyperlink" Target="http://artyx.ru/books/item/f00/s00/z0000035/pic/000121.jpg" TargetMode="External"/><Relationship Id="rId62" Type="http://schemas.openxmlformats.org/officeDocument/2006/relationships/hyperlink" Target="http://artyx.ru/books/item/f00/s00/z0000035/pic/000121.jpg" TargetMode="External"/><Relationship Id="rId63" Type="http://schemas.openxmlformats.org/officeDocument/2006/relationships/hyperlink" Target="http://artyx.ru/books/item/f00/s00/z0000035/pic/000121.jpg" TargetMode="External"/><Relationship Id="rId64" Type="http://schemas.openxmlformats.org/officeDocument/2006/relationships/hyperlink" Target="http://bobrolet.ru/wp-content/gallery/dymkovskaya/dymkovskaya-toy13.jpg" TargetMode="External"/><Relationship Id="rId65" Type="http://schemas.openxmlformats.org/officeDocument/2006/relationships/hyperlink" Target="http://bobrolet.ru/wp-content/gallery/dymkovskaya/dymkovskaya-toy13.jpg" TargetMode="External"/><Relationship Id="rId66" Type="http://schemas.openxmlformats.org/officeDocument/2006/relationships/hyperlink" Target="http://bobrolet.ru/wp-content/gallery/dymkovskaya/dymkovskaya-toy13.jpg" TargetMode="External"/><Relationship Id="rId67" Type="http://schemas.openxmlformats.org/officeDocument/2006/relationships/hyperlink" Target="http://bobrolet.ru/wp-content/gallery/dymkovskaya/dymkovskaya-toy13.jpg" TargetMode="External"/><Relationship Id="rId68" Type="http://schemas.openxmlformats.org/officeDocument/2006/relationships/hyperlink" Target="http://bobrolet.ru/wp-content/gallery/dymkovskaya/dymkovskaya-toy13.jpg" TargetMode="External"/><Relationship Id="rId69" Type="http://schemas.openxmlformats.org/officeDocument/2006/relationships/hyperlink" Target="http://bobrolet.ru/wp-content/gallery/dymkovskaya/dymkovskaya-toy13.jpg" TargetMode="External"/><Relationship Id="rId70" Type="http://schemas.openxmlformats.org/officeDocument/2006/relationships/hyperlink" Target="http://bobrolet.ru/wp-content/gallery/dymkovskaya/dymkovskaya-toy13.jpg" TargetMode="External"/><Relationship Id="rId71" Type="http://schemas.openxmlformats.org/officeDocument/2006/relationships/hyperlink" Target="http://bobrolet.ru/wp-content/gallery/dymkovskaya/dymkovskaya-toy13.jpg" TargetMode="External"/><Relationship Id="rId72" Type="http://schemas.openxmlformats.org/officeDocument/2006/relationships/hyperlink" Target="http://bobrolet.ru/wp-content/gallery/dymkovskaya/dymkovskaya-toy13.jpg" TargetMode="External"/><Relationship Id="rId73" Type="http://schemas.openxmlformats.org/officeDocument/2006/relationships/hyperlink" Target="http://bobrolet.ru/wp-content/gallery/dymkovskaya/dymkovskaya-toy13.jpg" TargetMode="External"/><Relationship Id="rId74" Type="http://schemas.openxmlformats.org/officeDocument/2006/relationships/hyperlink" Target="http://stranamasterov.ru/files/u15556/1321385064_4.jpg" TargetMode="External"/><Relationship Id="rId75" Type="http://schemas.openxmlformats.org/officeDocument/2006/relationships/hyperlink" Target="http://stranamasterov.ru/files/u15556/1321385064_4.jpg" TargetMode="External"/><Relationship Id="rId76" Type="http://schemas.openxmlformats.org/officeDocument/2006/relationships/hyperlink" Target="http://stranamasterov.ru/files/u15556/1321385064_4.jpg" TargetMode="External"/><Relationship Id="rId77" Type="http://schemas.openxmlformats.org/officeDocument/2006/relationships/hyperlink" Target="http://stranamasterov.ru/files/u15556/1321385064_4.jpg" TargetMode="External"/><Relationship Id="rId78" Type="http://schemas.openxmlformats.org/officeDocument/2006/relationships/hyperlink" Target="http://stranamasterov.ru/files/u15556/1321385064_4.jpg" TargetMode="External"/><Relationship Id="rId79" Type="http://schemas.openxmlformats.org/officeDocument/2006/relationships/hyperlink" Target="http://stranamasterov.ru/files/u15556/1321385064_4.jpg" TargetMode="External"/><Relationship Id="rId80" Type="http://schemas.openxmlformats.org/officeDocument/2006/relationships/hyperlink" Target="http://rusmudr.ru/wp-content/uploads/2012/08/hohloma_5.jpg" TargetMode="External"/><Relationship Id="rId81" Type="http://schemas.openxmlformats.org/officeDocument/2006/relationships/hyperlink" Target="http://rusmudr.ru/wp-content/uploads/2012/08/hohloma_5.jpg" TargetMode="External"/><Relationship Id="rId82" Type="http://schemas.openxmlformats.org/officeDocument/2006/relationships/hyperlink" Target="http://rusmudr.ru/wp-content/uploads/2012/08/hohloma_5.jpg" TargetMode="External"/><Relationship Id="rId83" Type="http://schemas.openxmlformats.org/officeDocument/2006/relationships/hyperlink" Target="http://rusmudr.ru/wp-content/uploads/2012/08/hohloma_5.jpg" TargetMode="External"/><Relationship Id="rId84" Type="http://schemas.openxmlformats.org/officeDocument/2006/relationships/hyperlink" Target="http://rusmudr.ru/wp-content/uploads/2012/08/hohloma_5.jpg" TargetMode="External"/><Relationship Id="rId85" Type="http://schemas.openxmlformats.org/officeDocument/2006/relationships/hyperlink" Target="http://rusmudr.ru/wp-content/uploads/2012/08/hohloma_5.jpg" TargetMode="External"/><Relationship Id="rId86" Type="http://schemas.openxmlformats.org/officeDocument/2006/relationships/hyperlink" Target="http://rusmudr.ru/wp-content/uploads/2012/08/hohloma_5.jpg" TargetMode="External"/><Relationship Id="rId87" Type="http://schemas.openxmlformats.org/officeDocument/2006/relationships/hyperlink" Target="http://rusmudr.ru/wp-content/uploads/2012/08/hohloma_5.jpg" TargetMode="External"/><Relationship Id="rId88" Type="http://schemas.openxmlformats.org/officeDocument/2006/relationships/hyperlink" Target="http://www.kukla-dusha.net/sc-pic/i1341.jpg" TargetMode="External"/><Relationship Id="rId89" Type="http://schemas.openxmlformats.org/officeDocument/2006/relationships/hyperlink" Target="http://www.paraskeva.ru/content/upload/article_image_qRORtl.jpg" TargetMode="External"/><Relationship Id="rId90" Type="http://schemas.openxmlformats.org/officeDocument/2006/relationships/hyperlink" Target="http://freemarket.kiev.ua/images_message/361/277940/842908/1457340.jpg" TargetMode="External"/><Relationship Id="rId91" Type="http://schemas.openxmlformats.org/officeDocument/2006/relationships/hyperlink" Target="http://freemarket.kiev.ua/images_message/361/277940/842908/1457340.jpg" TargetMode="External"/><Relationship Id="rId92" Type="http://schemas.openxmlformats.org/officeDocument/2006/relationships/hyperlink" Target="http://freemarket.kiev.ua/images_message/361/277940/842908/1457340.jpg" TargetMode="External"/><Relationship Id="rId93" Type="http://schemas.openxmlformats.org/officeDocument/2006/relationships/hyperlink" Target="http://freemarket.kiev.ua/images_message/361/277940/842908/1457340.jpg" TargetMode="External"/><Relationship Id="rId94" Type="http://schemas.openxmlformats.org/officeDocument/2006/relationships/hyperlink" Target="http://freemarket.kiev.ua/images_message/361/277940/842908/1457340.jpg" TargetMode="External"/><Relationship Id="rId95" Type="http://schemas.openxmlformats.org/officeDocument/2006/relationships/hyperlink" Target="http://freemarket.kiev.ua/images_message/361/277940/842908/1457340.jpg" TargetMode="External"/><Relationship Id="rId96" Type="http://schemas.openxmlformats.org/officeDocument/2006/relationships/hyperlink" Target="http://woodtoys.com.ua/jpg/volchok_2.jpg" TargetMode="External"/><Relationship Id="rId97" Type="http://schemas.openxmlformats.org/officeDocument/2006/relationships/hyperlink" Target="http://woodtoys.com.ua/jpg/volchok_2.jpg" TargetMode="External"/><Relationship Id="rId98" Type="http://schemas.openxmlformats.org/officeDocument/2006/relationships/hyperlink" Target="http://woodtoys.com.ua/jpg/volchok_2.jpg" TargetMode="External"/><Relationship Id="rId99" Type="http://schemas.openxmlformats.org/officeDocument/2006/relationships/hyperlink" Target="http://woodtoys.com.ua/jpg/volchok_2.jpg" TargetMode="External"/><Relationship Id="rId100" Type="http://schemas.openxmlformats.org/officeDocument/2006/relationships/hyperlink" Target="http://woodtoys.com.ua/jpg/volchok_2.jpg" TargetMode="External"/><Relationship Id="rId101" Type="http://schemas.openxmlformats.org/officeDocument/2006/relationships/hyperlink" Target="http://woodtoys.com.ua/jpg/volchok_2.jpg" TargetMode="External"/><Relationship Id="rId102" Type="http://schemas.openxmlformats.org/officeDocument/2006/relationships/hyperlink" Target="http://igrushka.kz/news/home/igrushka/public_html/wp-content/uploads/2009/08/kubar-volchok.jpg" TargetMode="External"/><Relationship Id="rId103" Type="http://schemas.openxmlformats.org/officeDocument/2006/relationships/hyperlink" Target="http://igrushka.kz/news/home/igrushka/public_html/wp-content/uploads/2009/08/kubar-volchok.jpg" TargetMode="External"/><Relationship Id="rId104" Type="http://schemas.openxmlformats.org/officeDocument/2006/relationships/hyperlink" Target="http://igrushka.kz/news/home/igrushka/public_html/wp-content/uploads/2009/08/kubar-volchok.jpg" TargetMode="External"/><Relationship Id="rId105" Type="http://schemas.openxmlformats.org/officeDocument/2006/relationships/hyperlink" Target="http://igrushka.kz/news/home/igrushka/public_html/wp-content/uploads/2009/08/kubar-volchok.jpg" TargetMode="External"/><Relationship Id="rId106" Type="http://schemas.openxmlformats.org/officeDocument/2006/relationships/hyperlink" Target="http://igrushka.kz/news/home/igrushka/public_html/wp-content/uploads/2009/08/kubar-volchok.jpg" TargetMode="External"/><Relationship Id="rId107" Type="http://schemas.openxmlformats.org/officeDocument/2006/relationships/hyperlink" Target="http://igrushka.kz/news/home/igrushka/public_html/wp-content/uploads/2009/08/kubar-volchok.jpg" TargetMode="External"/><Relationship Id="rId108" Type="http://schemas.openxmlformats.org/officeDocument/2006/relationships/hyperlink" Target="http://igrushka.kz/news/home/igrushka/public_html/wp-content/uploads/2009/08/kubar-volchok.jpg" TargetMode="External"/><Relationship Id="rId109" Type="http://schemas.openxmlformats.org/officeDocument/2006/relationships/hyperlink" Target="http://igrushka.kz/news/home/igrushka/public_html/wp-content/uploads/2009/08/kubar-volchok.jpg" TargetMode="External"/><Relationship Id="rId110" Type="http://schemas.openxmlformats.org/officeDocument/2006/relationships/hyperlink" Target="http://igrushka.kz/news/home/igrushka/public_html/wp-content/uploads/2009/08/kubar-volchok.jpg" TargetMode="External"/><Relationship Id="rId111" Type="http://schemas.openxmlformats.org/officeDocument/2006/relationships/hyperlink" Target="http://igrushka.kz/news/home/igrushka/public_html/wp-content/uploads/2009/08/kubar-volchok.jpg" TargetMode="External"/><Relationship Id="rId112" Type="http://schemas.openxmlformats.org/officeDocument/2006/relationships/hyperlink" Target="http://igrushka.kz/news/home/igrushka/public_html/wp-content/uploads/2009/08/kubar-volchok.jpg" TargetMode="External"/><Relationship Id="rId113" Type="http://schemas.openxmlformats.org/officeDocument/2006/relationships/hyperlink" Target="http://igrushka.kz/news/home/igrushka/public_html/wp-content/uploads/2009/08/kubar-volchok.jpg" TargetMode="External"/><Relationship Id="rId114" Type="http://schemas.openxmlformats.org/officeDocument/2006/relationships/hyperlink" Target="http://igrushka.kz/news/home/igrushka/public_html/wp-content/uploads/2009/08/kubar-volchok.jpg" TargetMode="External"/><Relationship Id="rId115" Type="http://schemas.openxmlformats.org/officeDocument/2006/relationships/hyperlink" Target="http://igrushka.kz/news/home/igrushka/public_html/wp-content/uploads/2009/08/kubar-volchok.jpg" TargetMode="External"/><Relationship Id="rId116" Type="http://schemas.openxmlformats.org/officeDocument/2006/relationships/hyperlink" Target="http://igrushka.kz/news/home/igrushka/public_html/wp-content/uploads/2009/08/kubar-volchok.jpg" TargetMode="External"/><Relationship Id="rId117" Type="http://schemas.openxmlformats.org/officeDocument/2006/relationships/hyperlink" Target="http://igrushka.kz/news/home/igrushka/public_html/wp-content/uploads/2009/08/kubar-volchok.jpg" TargetMode="External"/><Relationship Id="rId118" Type="http://schemas.openxmlformats.org/officeDocument/2006/relationships/hyperlink" Target="http://igrushka.kz/news/home/igrushka/public_html/wp-content/uploads/2009/08/kubar-volchok.jpg" TargetMode="External"/><Relationship Id="rId119" Type="http://schemas.openxmlformats.org/officeDocument/2006/relationships/hyperlink" Target="http://www.sky-art.com/andersen/tales/pedersen/065_02.jpg" TargetMode="External"/><Relationship Id="rId120" Type="http://schemas.openxmlformats.org/officeDocument/2006/relationships/hyperlink" Target="http://www.sky-art.com/andersen/tales/pedersen/065_02.jpg" TargetMode="External"/><Relationship Id="rId121" Type="http://schemas.openxmlformats.org/officeDocument/2006/relationships/hyperlink" Target="http://www.sky-art.com/andersen/tales/pedersen/065_02.jpg" TargetMode="External"/><Relationship Id="rId122" Type="http://schemas.openxmlformats.org/officeDocument/2006/relationships/hyperlink" Target="http://www.sky-art.com/andersen/tales/pedersen/065_02.jpg" TargetMode="External"/><Relationship Id="rId123" Type="http://schemas.openxmlformats.org/officeDocument/2006/relationships/hyperlink" Target="http://www.sky-art.com/andersen/tales/pedersen/065_02.jpg" TargetMode="External"/><Relationship Id="rId124" Type="http://schemas.openxmlformats.org/officeDocument/2006/relationships/hyperlink" Target="http://www.sky-art.com/andersen/tales/pedersen/065_02.jpg" TargetMode="External"/><Relationship Id="rId125" Type="http://schemas.openxmlformats.org/officeDocument/2006/relationships/hyperlink" Target="http://www.sky-art.com/andersen/tales/pedersen/065_02.jpg" TargetMode="External"/><Relationship Id="rId126" Type="http://schemas.openxmlformats.org/officeDocument/2006/relationships/hyperlink" Target="http://www.sky-art.com/andersen/tales/pedersen/065_02.jpg" TargetMode="External"/><Relationship Id="rId127" Type="http://schemas.openxmlformats.org/officeDocument/2006/relationships/hyperlink" Target="http://www.sky-art.com/andersen/tales/pedersen/065_02.jpg" TargetMode="External"/><Relationship Id="rId128" Type="http://schemas.openxmlformats.org/officeDocument/2006/relationships/hyperlink" Target="http://www.sky-art.com/andersen/tales/pedersen/065_02.jpg" TargetMode="External"/><Relationship Id="rId129" Type="http://schemas.openxmlformats.org/officeDocument/2006/relationships/hyperlink" Target="http://www.krupenichka.ru/images/dolls/pelenashka.jpg" TargetMode="External"/><Relationship Id="rId130" Type="http://schemas.openxmlformats.org/officeDocument/2006/relationships/hyperlink" Target="http://www.krupenichka.ru/images/dolls/pelenashka.jpg" TargetMode="External"/><Relationship Id="rId131" Type="http://schemas.openxmlformats.org/officeDocument/2006/relationships/hyperlink" Target="http://www.krupenichka.ru/images/dolls/pelenashka.jpg" TargetMode="External"/><Relationship Id="rId132" Type="http://schemas.openxmlformats.org/officeDocument/2006/relationships/hyperlink" Target="http://www.krupenichka.ru/images/dolls/pelenashka.jpg" TargetMode="External"/><Relationship Id="rId133" Type="http://schemas.openxmlformats.org/officeDocument/2006/relationships/hyperlink" Target="http://www.krupenichka.ru/images/dolls/pelenashka.jpg" TargetMode="External"/><Relationship Id="rId134" Type="http://schemas.openxmlformats.org/officeDocument/2006/relationships/hyperlink" Target="http://www.krupenichka.ru/images/dolls/pelenashka.jpg" TargetMode="External"/><Relationship Id="rId135" Type="http://schemas.openxmlformats.org/officeDocument/2006/relationships/hyperlink" Target="http://www.krupenichka.ru/images/dolls/pelenashka.jpg" TargetMode="External"/><Relationship Id="rId136" Type="http://schemas.openxmlformats.org/officeDocument/2006/relationships/hyperlink" Target="http://www.krupenichka.ru/images/dolls/pelenashka.jpg" TargetMode="External"/><Relationship Id="rId137" Type="http://schemas.openxmlformats.org/officeDocument/2006/relationships/hyperlink" Target="http://www.rustoys.ru/museums/igrushki/3.jpg" TargetMode="External"/><Relationship Id="rId138" Type="http://schemas.openxmlformats.org/officeDocument/2006/relationships/hyperlink" Target="http://www.rustoys.ru/museums/igrushki/3.jpg" TargetMode="External"/><Relationship Id="rId139" Type="http://schemas.openxmlformats.org/officeDocument/2006/relationships/hyperlink" Target="http://www.rustoys.ru/museums/igrushki/3.jpg" TargetMode="External"/><Relationship Id="rId140" Type="http://schemas.openxmlformats.org/officeDocument/2006/relationships/hyperlink" Target="http://www.rustoys.ru/museums/igrushki/3.jpg" TargetMode="External"/><Relationship Id="rId141" Type="http://schemas.openxmlformats.org/officeDocument/2006/relationships/hyperlink" Target="http://www.rustoys.ru/museums/igrushki/3.jpg" TargetMode="External"/><Relationship Id="rId142" Type="http://schemas.openxmlformats.org/officeDocument/2006/relationships/hyperlink" Target="http://www.rustoys.ru/museums/igrushki/3.jpg" TargetMode="External"/><Relationship Id="rId143" Type="http://schemas.openxmlformats.org/officeDocument/2006/relationships/hyperlink" Target="http://www.rustoys.ru/museums/igrushki/3.jpg" TargetMode="External"/><Relationship Id="rId144" Type="http://schemas.openxmlformats.org/officeDocument/2006/relationships/hyperlink" Target="http://www.rustoys.ru/museums/igrushki/3.jpg" TargetMode="External"/><Relationship Id="rId145" Type="http://schemas.openxmlformats.org/officeDocument/2006/relationships/hyperlink" Target="http://www.rukukla.ru/file/0001/0231.jpg" TargetMode="External"/><Relationship Id="rId146" Type="http://schemas.openxmlformats.org/officeDocument/2006/relationships/hyperlink" Target="http://www.rukukla.ru/file/0001/0231.jpg" TargetMode="External"/><Relationship Id="rId147" Type="http://schemas.openxmlformats.org/officeDocument/2006/relationships/hyperlink" Target="http://www.rukukla.ru/file/0001/0231.jpg" TargetMode="External"/><Relationship Id="rId148" Type="http://schemas.openxmlformats.org/officeDocument/2006/relationships/hyperlink" Target="http://www.rukukla.ru/file/0001/0231.jpg" TargetMode="External"/><Relationship Id="rId149" Type="http://schemas.openxmlformats.org/officeDocument/2006/relationships/hyperlink" Target="http://www.rukukla.ru/file/0001/0231.jpg" TargetMode="External"/><Relationship Id="rId150" Type="http://schemas.openxmlformats.org/officeDocument/2006/relationships/hyperlink" Target="http://www.rukukla.ru/file/0001/0231.jpg" TargetMode="External"/><Relationship Id="rId151" Type="http://schemas.openxmlformats.org/officeDocument/2006/relationships/hyperlink" Target="http://rusprom.biz/images/stories/1209/img-DlMfUn.jpg" TargetMode="External"/><Relationship Id="rId152" Type="http://schemas.openxmlformats.org/officeDocument/2006/relationships/hyperlink" Target="http://rusprom.biz/images/stories/1209/img-DlMfUn.jpg" TargetMode="External"/><Relationship Id="rId153" Type="http://schemas.openxmlformats.org/officeDocument/2006/relationships/hyperlink" Target="http://rusprom.biz/images/stories/1209/img-DlMfUn.jpg" TargetMode="External"/><Relationship Id="rId154" Type="http://schemas.openxmlformats.org/officeDocument/2006/relationships/hyperlink" Target="http://rusprom.biz/images/stories/1209/img-DlMfUn.jpg" TargetMode="External"/><Relationship Id="rId155" Type="http://schemas.openxmlformats.org/officeDocument/2006/relationships/hyperlink" Target="http://rusprom.biz/images/stories/1209/img-DlMfUn.jpg" TargetMode="External"/><Relationship Id="rId156" Type="http://schemas.openxmlformats.org/officeDocument/2006/relationships/hyperlink" Target="http://rusprom.biz/images/stories/1209/img-DlMfUn.jpg" TargetMode="External"/><Relationship Id="rId157" Type="http://schemas.openxmlformats.org/officeDocument/2006/relationships/hyperlink" Target="http://rusprom.biz/images/stories/1209/img-DlMfUn.jpg" TargetMode="External"/><Relationship Id="rId158" Type="http://schemas.openxmlformats.org/officeDocument/2006/relationships/hyperlink" Target="http://rusprom.biz/images/stories/1209/img-DlMfUn.jpg" TargetMode="External"/><Relationship Id="rId159" Type="http://schemas.openxmlformats.org/officeDocument/2006/relationships/hyperlink" Target="http://rusprom.biz/images/stories/1209/img-DlMfUn.jpg" TargetMode="External"/><Relationship Id="rId160" Type="http://schemas.openxmlformats.org/officeDocument/2006/relationships/hyperlink" Target="http://rusprom.biz/images/stories/1209/img-zMZsd5.jpg" TargetMode="External"/><Relationship Id="rId161" Type="http://schemas.openxmlformats.org/officeDocument/2006/relationships/hyperlink" Target="http://rusprom.biz/images/stories/1209/img-zMZsd5.jpg" TargetMode="External"/><Relationship Id="rId162" Type="http://schemas.openxmlformats.org/officeDocument/2006/relationships/hyperlink" Target="http://rusprom.biz/images/stories/1209/img-zMZsd5.jpg" TargetMode="External"/><Relationship Id="rId163" Type="http://schemas.openxmlformats.org/officeDocument/2006/relationships/hyperlink" Target="http://rusprom.biz/images/stories/1209/img-zMZsd5.jpg" TargetMode="External"/><Relationship Id="rId164" Type="http://schemas.openxmlformats.org/officeDocument/2006/relationships/hyperlink" Target="http://rusprom.biz/images/stories/1209/img-zMZsd5.jpg" TargetMode="External"/><Relationship Id="rId165" Type="http://schemas.openxmlformats.org/officeDocument/2006/relationships/hyperlink" Target="http://rusprom.biz/images/stories/1209/img-zMZsd5.jpg" TargetMode="External"/><Relationship Id="rId166" Type="http://schemas.openxmlformats.org/officeDocument/2006/relationships/hyperlink" Target="http://rusprom.biz/images/stories/1209/img-zMZsd5.jpg" TargetMode="External"/><Relationship Id="rId167" Type="http://schemas.openxmlformats.org/officeDocument/2006/relationships/hyperlink" Target="http://rusprom.biz/images/stories/1209/img-zMZsd5.jpg" TargetMode="External"/><Relationship Id="rId168" Type="http://schemas.openxmlformats.org/officeDocument/2006/relationships/hyperlink" Target="http://www.mama-best.ru/published/publicdata/TOYSBESTMILKY/attachments/SC/products_pictures/___nevvn.jpg" TargetMode="External"/><Relationship Id="rId169" Type="http://schemas.openxmlformats.org/officeDocument/2006/relationships/hyperlink" Target="http://www.mama-best.ru/published/publicdata/TOYSBESTMILKY/attachments/SC/products_pictures/___nevvn.jpg" TargetMode="External"/><Relationship Id="rId170" Type="http://schemas.openxmlformats.org/officeDocument/2006/relationships/hyperlink" Target="http://www.mama-best.ru/published/publicdata/TOYSBESTMILKY/attachments/SC/products_pictures/___nevvn.jpg" TargetMode="External"/><Relationship Id="rId171" Type="http://schemas.openxmlformats.org/officeDocument/2006/relationships/hyperlink" Target="http://www.mama-best.ru/published/publicdata/TOYSBESTMILKY/attachments/SC/products_pictures/___nevvn.jpg" TargetMode="External"/><Relationship Id="rId172" Type="http://schemas.openxmlformats.org/officeDocument/2006/relationships/hyperlink" Target="http://www.mama-best.ru/published/publicdata/TOYSBESTMILKY/attachments/SC/products_pictures/___nevvn.jpg" TargetMode="External"/><Relationship Id="rId173" Type="http://schemas.openxmlformats.org/officeDocument/2006/relationships/hyperlink" Target="http://www.mama-best.ru/published/publicdata/TOYSBESTMILKY/attachments/SC/products_pictures/___nevvn.jpg" TargetMode="External"/><Relationship Id="rId174" Type="http://schemas.openxmlformats.org/officeDocument/2006/relationships/hyperlink" Target="http://www.mama-best.ru/published/publicdata/TOYSBESTMILKY/attachments/SC/products_pictures/___nevvn.jpg" TargetMode="External"/><Relationship Id="rId175" Type="http://schemas.openxmlformats.org/officeDocument/2006/relationships/hyperlink" Target="http://www.mama-best.ru/published/publicdata/TOYSBESTMILKY/attachments/SC/products_pictures/___nevvn.jpg" TargetMode="External"/><Relationship Id="rId176" Type="http://schemas.openxmlformats.org/officeDocument/2006/relationships/hyperlink" Target="http://www.mama-best.ru/published/publicdata/TOYSBESTMILKY/attachments/SC/products_pictures/___nevvn.jpg" TargetMode="External"/><Relationship Id="rId177" Type="http://schemas.openxmlformats.org/officeDocument/2006/relationships/hyperlink" Target="http://www.mama-best.ru/published/publicdata/TOYSBESTMILKY/attachments/SC/products_pictures/___nevvn.jpg" TargetMode="External"/><Relationship Id="rId178" Type="http://schemas.openxmlformats.org/officeDocument/2006/relationships/hyperlink" Target="http://www.mama-best.ru/published/publicdata/TOYSBESTMILKY/attachments/SC/products_pictures/___nevvn.jpg" TargetMode="External"/><Relationship Id="rId179" Type="http://schemas.openxmlformats.org/officeDocument/2006/relationships/hyperlink" Target="http://www.mama-best.ru/published/publicdata/TOYSBESTMILKY/attachments/SC/products_pictures/___nevvn.jpg" TargetMode="External"/><Relationship Id="rId180" Type="http://schemas.openxmlformats.org/officeDocument/2006/relationships/hyperlink" Target="http://www.mama-best.ru/published/publicdata/TOYSBESTMILKY/attachments/SC/products_pictures/___nevvn.jpg" TargetMode="External"/><Relationship Id="rId181" Type="http://schemas.openxmlformats.org/officeDocument/2006/relationships/hyperlink" Target="http://www.maaam.ru/upload/blogs/487e8163e226ae9c547ee4d94cfde267.gif.jpg" TargetMode="External"/><Relationship Id="rId182" Type="http://schemas.openxmlformats.org/officeDocument/2006/relationships/hyperlink" Target="http://www.maaam.ru/upload/blogs/487e8163e226ae9c547ee4d94cfde267.gif.jpg" TargetMode="External"/><Relationship Id="rId183" Type="http://schemas.openxmlformats.org/officeDocument/2006/relationships/hyperlink" Target="http://www.maaam.ru/upload/blogs/487e8163e226ae9c547ee4d94cfde267.gif.jpg" TargetMode="External"/><Relationship Id="rId184" Type="http://schemas.openxmlformats.org/officeDocument/2006/relationships/hyperlink" Target="http://www.maaam.ru/upload/blogs/487e8163e226ae9c547ee4d94cfde267.gif.jpg" TargetMode="External"/><Relationship Id="rId185" Type="http://schemas.openxmlformats.org/officeDocument/2006/relationships/hyperlink" Target="http://www.maaam.ru/upload/blogs/487e8163e226ae9c547ee4d94cfde267.gif.jpg" TargetMode="External"/><Relationship Id="rId186" Type="http://schemas.openxmlformats.org/officeDocument/2006/relationships/hyperlink" Target="http://www.maaam.ru/upload/blogs/487e8163e226ae9c547ee4d94cfde267.gif.jpg" TargetMode="External"/><Relationship Id="rId187" Type="http://schemas.openxmlformats.org/officeDocument/2006/relationships/hyperlink" Target="http://www.maaam.ru/upload/blogs/487e8163e226ae9c547ee4d94cfde267.gif.jpg" TargetMode="External"/><Relationship Id="rId188" Type="http://schemas.openxmlformats.org/officeDocument/2006/relationships/hyperlink" Target="http://www.maaam.ru/upload/blogs/487e8163e226ae9c547ee4d94cfde267.gif.jpg" TargetMode="External"/><Relationship Id="rId189" Type="http://schemas.openxmlformats.org/officeDocument/2006/relationships/hyperlink" Target="http://www.maaam.ru/upload/blogs/26552ca15d5e4f6820b431b76b1b0187.jpg" TargetMode="External"/><Relationship Id="rId190" Type="http://schemas.openxmlformats.org/officeDocument/2006/relationships/hyperlink" Target="http://www.maaam.ru/upload/blogs/26552ca15d5e4f6820b431b76b1b0187.jpg" TargetMode="External"/><Relationship Id="rId191" Type="http://schemas.openxmlformats.org/officeDocument/2006/relationships/hyperlink" Target="http://www.maaam.ru/upload/blogs/26552ca15d5e4f6820b431b76b1b0187.jpg" TargetMode="External"/><Relationship Id="rId192" Type="http://schemas.openxmlformats.org/officeDocument/2006/relationships/hyperlink" Target="http://www.maaam.ru/upload/blogs/26552ca15d5e4f6820b431b76b1b0187.jpg" TargetMode="External"/><Relationship Id="rId193" Type="http://schemas.openxmlformats.org/officeDocument/2006/relationships/hyperlink" Target="http://www.maaam.ru/upload/blogs/26552ca15d5e4f6820b431b76b1b0187.jpg" TargetMode="External"/><Relationship Id="rId194" Type="http://schemas.openxmlformats.org/officeDocument/2006/relationships/hyperlink" Target="http://www.maaam.ru/upload/blogs/26552ca15d5e4f6820b431b76b1b0187.jpg" TargetMode="External"/><Relationship Id="rId195" Type="http://schemas.openxmlformats.org/officeDocument/2006/relationships/hyperlink" Target="http://www.maaam.ru/upload/blogs/26552ca15d5e4f6820b431b76b1b0187.jpg" TargetMode="External"/><Relationship Id="rId196" Type="http://schemas.openxmlformats.org/officeDocument/2006/relationships/hyperlink" Target="http://img-fotki.yandex.ru/get/19/eagle6731.1/0_12890_cddec2c5_XL" TargetMode="External"/><Relationship Id="rId197" Type="http://schemas.openxmlformats.org/officeDocument/2006/relationships/hyperlink" Target="http://img-fotki.yandex.ru/get/19/eagle6731.1/0_12890_cddec2c5_XL" TargetMode="External"/><Relationship Id="rId198" Type="http://schemas.openxmlformats.org/officeDocument/2006/relationships/hyperlink" Target="http://img-fotki.yandex.ru/get/19/eagle6731.1/0_12890_cddec2c5_XL" TargetMode="External"/><Relationship Id="rId199" Type="http://schemas.openxmlformats.org/officeDocument/2006/relationships/hyperlink" Target="http://img-fotki.yandex.ru/get/19/eagle6731.1/0_12890_cddec2c5_XL" TargetMode="External"/><Relationship Id="rId200" Type="http://schemas.openxmlformats.org/officeDocument/2006/relationships/hyperlink" Target="http://img-fotki.yandex.ru/get/19/eagle6731.1/0_12890_cddec2c5_XL" TargetMode="External"/><Relationship Id="rId201" Type="http://schemas.openxmlformats.org/officeDocument/2006/relationships/hyperlink" Target="http://img-fotki.yandex.ru/get/19/eagle6731.1/0_12890_cddec2c5_XL" TargetMode="External"/><Relationship Id="rId202" Type="http://schemas.openxmlformats.org/officeDocument/2006/relationships/hyperlink" Target="http://protown.ru/pic/museum_games_5.jpg" TargetMode="External"/><Relationship Id="rId203" Type="http://schemas.openxmlformats.org/officeDocument/2006/relationships/hyperlink" Target="http://protown.ru/pic/museum_games_7.jpg" TargetMode="External"/><Relationship Id="rId204" Type="http://schemas.openxmlformats.org/officeDocument/2006/relationships/hyperlink" Target="http://protown.ru/pic/museum_games_7.jpg" TargetMode="External"/><Relationship Id="rId205" Type="http://schemas.openxmlformats.org/officeDocument/2006/relationships/hyperlink" Target="http://protown.ru/pic/museum_games_7.jpg" TargetMode="External"/><Relationship Id="rId206" Type="http://schemas.openxmlformats.org/officeDocument/2006/relationships/hyperlink" Target="http://protown.ru/pic/museum_games_7.jpg" TargetMode="External"/><Relationship Id="rId207" Type="http://schemas.openxmlformats.org/officeDocument/2006/relationships/hyperlink" Target="http://protown.ru/pic/museum_games_7.jpg" TargetMode="External"/><Relationship Id="rId208" Type="http://schemas.openxmlformats.org/officeDocument/2006/relationships/hyperlink" Target="http://protown.ru/pic/museum_games_7.jpg" TargetMode="External"/><Relationship Id="rId209" Type="http://schemas.openxmlformats.org/officeDocument/2006/relationships/hyperlink" Target="http://www.foma.ru/fotos/journal/99/5826_7.jpg" TargetMode="External"/><Relationship Id="rId210" Type="http://schemas.openxmlformats.org/officeDocument/2006/relationships/hyperlink" Target="http://www.foma.ru/fotos/journal/99/5826_7.jpg" TargetMode="External"/><Relationship Id="rId211" Type="http://schemas.openxmlformats.org/officeDocument/2006/relationships/hyperlink" Target="http://www.foma.ru/fotos/journal/99/5826_7.jpg" TargetMode="External"/><Relationship Id="rId212" Type="http://schemas.openxmlformats.org/officeDocument/2006/relationships/hyperlink" Target="http://www.foma.ru/fotos/journal/99/5826_7.jpg" TargetMode="External"/><Relationship Id="rId213" Type="http://schemas.openxmlformats.org/officeDocument/2006/relationships/hyperlink" Target="http://www.foma.ru/fotos/journal/99/5826_7.jpg" TargetMode="External"/><Relationship Id="rId214" Type="http://schemas.openxmlformats.org/officeDocument/2006/relationships/hyperlink" Target="http://www.foma.ru/fotos/journal/99/5826_7.jpg" TargetMode="External"/><Relationship Id="rId215" Type="http://schemas.openxmlformats.org/officeDocument/2006/relationships/hyperlink" Target="http://www.foma.ru/fotos/journal/99/5826_7.jpg" TargetMode="External"/><Relationship Id="rId216" Type="http://schemas.openxmlformats.org/officeDocument/2006/relationships/hyperlink" Target="http://www.foma.ru/fotos/journal/99/5826_7.jpg" TargetMode="External"/><Relationship Id="rId217" Type="http://schemas.openxmlformats.org/officeDocument/2006/relationships/hyperlink" Target="http://artyx.ru/books/item/f00/s00/z0000035/pic/000125.jpg" TargetMode="External"/><Relationship Id="rId218" Type="http://schemas.openxmlformats.org/officeDocument/2006/relationships/hyperlink" Target="http://artyx.ru/books/item/f00/s00/z0000035/pic/000125.jpg" TargetMode="External"/><Relationship Id="rId219" Type="http://schemas.openxmlformats.org/officeDocument/2006/relationships/hyperlink" Target="http://artyx.ru/books/item/f00/s00/z0000035/pic/000125.jpg" TargetMode="External"/><Relationship Id="rId220" Type="http://schemas.openxmlformats.org/officeDocument/2006/relationships/hyperlink" Target="http://artyx.ru/books/item/f00/s00/z0000035/pic/000125.jpg" TargetMode="External"/><Relationship Id="rId221" Type="http://schemas.openxmlformats.org/officeDocument/2006/relationships/hyperlink" Target="http://artyx.ru/books/item/f00/s00/z0000035/pic/000125.jpg" TargetMode="External"/><Relationship Id="rId222" Type="http://schemas.openxmlformats.org/officeDocument/2006/relationships/hyperlink" Target="http://artyx.ru/books/item/f00/s00/z0000035/pic/000125.jpg" TargetMode="External"/><Relationship Id="rId223" Type="http://schemas.openxmlformats.org/officeDocument/2006/relationships/hyperlink" Target="http://artyx.ru/books/item/f00/s00/z0000035/pic/000125.jpg" TargetMode="External"/><Relationship Id="rId224" Type="http://schemas.openxmlformats.org/officeDocument/2006/relationships/hyperlink" Target="http://artyx.ru/books/item/f00/s00/z0000035/pic/000125.jpg" TargetMode="External"/><Relationship Id="rId225" Type="http://schemas.openxmlformats.org/officeDocument/2006/relationships/hyperlink" Target="http://artyx.ru/books/item/f00/s00/z0000035/pic/000125.jpg" TargetMode="External"/><Relationship Id="rId226" Type="http://schemas.openxmlformats.org/officeDocument/2006/relationships/hyperlink" Target="http://artyx.ru/books/item/f00/s00/z0000035/pic/000125.jpg" TargetMode="External"/><Relationship Id="rId227" Type="http://schemas.openxmlformats.org/officeDocument/2006/relationships/hyperlink" Target="http://upload.wikimedia.org/wikipedia/commons/2/2f/Kozuli.jpg" TargetMode="External"/><Relationship Id="rId22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96fb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роект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«Русские игрушки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04560" y="2437920"/>
            <a:ext cx="830556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тор: Баланян Оганес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еник 3 б класса ГБОУ школы № 409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ушкинского района Санкт-Петербур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уководитель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ргеева Елена Викторовн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ель начальных клас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. Пушкин, 201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96fb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олч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41907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ревний славянский волчок-кубарь не похож на современную юлу. Это полый цилиндр или шар с дырочкой в боку, который крутится на остр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2257200" cy="22417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3352680" y="1600200"/>
            <a:ext cx="2667240" cy="22334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6553080" y="1600200"/>
            <a:ext cx="20592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96fb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уклы-оберег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312372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Руси кукол делали для игры и совершения разных обрядов.  Обрядовыми куклами можно было играть детям, а игровые куклы нельзя было использовать при обряде. Куклы-обереги делались без помощи ножниц, игол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тряпичных кукол забавные названия: кувадка, пеленашка, столбушка, зернушка, крестушка. Традиционные народные куклы без лица, ног, воло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743200" y="1219320"/>
            <a:ext cx="3733920" cy="15588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396720" y="152280"/>
            <a:ext cx="1908360" cy="25909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6858000" y="152280"/>
            <a:ext cx="1860480" cy="25909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4038480" y="2819520"/>
            <a:ext cx="140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ленаш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8320" y="2743200"/>
            <a:ext cx="122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ернуш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240320" y="2743200"/>
            <a:ext cx="103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увад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96fb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Неваляш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4114800"/>
            <a:ext cx="8610480" cy="26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валяшки родились в России в начале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IX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ка. Их точили из дерева на станке, расписывали яркими красками и покрывали лаком. Чтобы они «не валились», в основание деревянной фигурки вкладывали кусочек свинца. Ещё неваляшек называли кувырканами и ваньками-встань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352680" y="1143000"/>
            <a:ext cx="2286000" cy="30481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762120" y="1143000"/>
            <a:ext cx="2043000" cy="30481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6095880" y="1143000"/>
            <a:ext cx="19764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96fb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атрёш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3352680"/>
            <a:ext cx="91440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вую матрёшку изготовили художник Сергей Малютин и токарь Василий Звёздочкин.  Это восьмиместная куколка - круглолицая крестьянская девушка в сарафане, в цветастом платке на голове и с петухом в руках. Назвали её простым крестьянским именем Матрёна. С 1890 года началось массовое производство этих красавиц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ществует предположение, что прообразом куклы послужила фигурка бога счастья и долголетия Фукурума, привезённая из Япо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67080" y="1066680"/>
            <a:ext cx="2743200" cy="2455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133720" y="914400"/>
            <a:ext cx="144756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96fb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етруш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505320" y="1295280"/>
            <a:ext cx="5486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етрушка был популярной русской куклой. Весёлый, остроумный, бесстрашный. Оде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красный кафтан и бархатные шаровары, на голове красный колпак. Бродячие актёры ходи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 куклой по городам и сёлам и разыгрывали смешные  представления. Петрушка шутя побеждал своих врагов, наказывал зло и восстанавливал справедлив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28600" y="2057400"/>
            <a:ext cx="34290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96fb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грушки для мальчик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33520" y="1600200"/>
            <a:ext cx="7619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80880" y="4038480"/>
            <a:ext cx="8763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России игрушечное войско появилось поздно, в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VIII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ке. Это была господская, иноземная, дорогая игрушка. Знаменитые оловянные солдат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усские мастера начали изготавливать деревянных солдатиков после Отечественной войны 1812 года. Мундиры соответствовали настоящи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Деревянные расписные игрушки"/>
          <p:cNvPicPr/>
          <p:nvPr/>
        </p:nvPicPr>
        <p:blipFill>
          <a:blip r:embed="rId1"/>
          <a:stretch/>
        </p:blipFill>
        <p:spPr>
          <a:xfrm>
            <a:off x="4114800" y="1371600"/>
            <a:ext cx="1762200" cy="25909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457200" y="1371600"/>
            <a:ext cx="3200400" cy="26128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6477120" y="1371600"/>
            <a:ext cx="1844640" cy="25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96fb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кусные игруш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0" y="4038120"/>
            <a:ext cx="9144000" cy="25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ие вкусные игрушки делались на Руси? Козули. Это общее название для фигурок из ржаного теста. Козёл у древних славян был символом плодородия. «Коровки» и «козульки» пекли к Новому году. «Баранов» пекли в Вербное воскресенье. Весной делали птичек из теста. Самыми вкусными съедобными игрушками стали пряни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File:Kozuli.jpg"/>
          <p:cNvPicPr/>
          <p:nvPr/>
        </p:nvPicPr>
        <p:blipFill>
          <a:blip r:embed="rId1"/>
          <a:stretch/>
        </p:blipFill>
        <p:spPr>
          <a:xfrm>
            <a:off x="838080" y="1447920"/>
            <a:ext cx="1917720" cy="20574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449000" y="3581280"/>
            <a:ext cx="92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зу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Пряничные доски"/>
          <p:cNvPicPr/>
          <p:nvPr/>
        </p:nvPicPr>
        <p:blipFill>
          <a:blip r:embed="rId2"/>
          <a:stretch/>
        </p:blipFill>
        <p:spPr>
          <a:xfrm>
            <a:off x="3352680" y="1447920"/>
            <a:ext cx="2514600" cy="20304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3507840" y="3657600"/>
            <a:ext cx="2010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яничная дос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6477120" y="1447920"/>
            <a:ext cx="1463400" cy="20574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6324480" y="3657600"/>
            <a:ext cx="195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ульский пря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96fb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ыво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усские игрушки тесно связаны с религией древних славян – язычеств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амой древней игрушкой был мя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   Символ России – матрёшка имеет японские кор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   Русские игрушки делали из разных материалов: травы, соломы, бересты, дерева, мочевых пузырей животных, глины, ткани, шерсти, бумаги, тес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96fb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1371240"/>
            <a:ext cx="79250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пасибо за внимание!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грайте на здоровье!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96fb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-360" y="152280"/>
            <a:ext cx="8915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54216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Литература и ресурсы Интерн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.Лаврова С. Русские игрушки, игры,  забавы. – М.: Белый город, 2007.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. http://moi-zvuki.ru/images/guselnikov/01-svarog.jpg Сварог); http://sva-slava.ru/kartini/guselnikov/jarilo.jpg - Ярило; http://sva-slava.ru/kartini/guselnikov/makosh.jpg - Мокош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1"/>
              </a:rPr>
              <a:t>http://dou-489.ru/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2"/>
              </a:rPr>
              <a:t>igrushki-mira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3"/>
              </a:rPr>
              <a:t>/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4"/>
              </a:rPr>
              <a:t>img-igrushki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5"/>
              </a:rPr>
              <a:t>/pogremuha-04.jpg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- шаркунки из берест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6"/>
              </a:rPr>
              <a:t>http://img1.liveinternet.ru/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7"/>
              </a:rPr>
              <a:t>images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8"/>
              </a:rPr>
              <a:t>/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9"/>
              </a:rPr>
              <a:t>attach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10"/>
              </a:rPr>
              <a:t>/c/4/83/674/83674047_large_2825_002.jpg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- погремушк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11"/>
              </a:rPr>
              <a:t>http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12"/>
              </a:rPr>
              <a:t>://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13"/>
              </a:rPr>
              <a:t>canariaspb.narod.ru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14"/>
              </a:rPr>
              <a:t>/photo57.jpg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- деревянная расписная свистулька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15"/>
              </a:rPr>
              <a:t>http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16"/>
              </a:rPr>
              <a:t>://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17"/>
              </a:rPr>
              <a:t>www.tvorite.ru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18"/>
              </a:rPr>
              <a:t>/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19"/>
              </a:rPr>
              <a:t>uploads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20"/>
              </a:rPr>
              <a:t>/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21"/>
              </a:rPr>
              <a:t>posts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22"/>
              </a:rPr>
              <a:t>/2011-02/1297160350_small.jpg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-глиняная свистулька - петушо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23"/>
              </a:rPr>
              <a:t>http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24"/>
              </a:rPr>
              <a:t>://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25"/>
              </a:rPr>
              <a:t>p-shkola.by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26"/>
              </a:rPr>
              <a:t>/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27"/>
              </a:rPr>
              <a:t>isimages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28"/>
              </a:rPr>
              <a:t>/s000120_776691.jpg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- Лошадка. Филимоновская игрушка-свистульк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8. 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29"/>
              </a:rPr>
              <a:t>http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30"/>
              </a:rPr>
              <a:t>://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31"/>
              </a:rPr>
              <a:t>www.artpoisk.info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32"/>
              </a:rPr>
              <a:t>/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33"/>
              </a:rPr>
              <a:t>files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34"/>
              </a:rPr>
              <a:t>/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35"/>
              </a:rPr>
              <a:t>images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36"/>
              </a:rPr>
              <a:t>/11145.jpg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- А.В. Моравов. Будущий наездни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37"/>
              </a:rPr>
              <a:t>http://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38"/>
              </a:rPr>
              <a:t>myslo.ru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39"/>
              </a:rPr>
              <a:t>/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40"/>
              </a:rPr>
              <a:t>content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41"/>
              </a:rPr>
              <a:t>/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42"/>
              </a:rPr>
              <a:t>oldnews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43"/>
              </a:rPr>
              <a:t>/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44"/>
              </a:rPr>
              <a:t>news_images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45"/>
              </a:rPr>
              <a:t>/%E8%E3%F0001.jpg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– Тройка. Филимоновская игрушк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0. 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46"/>
              </a:rPr>
              <a:t>http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47"/>
              </a:rPr>
              <a:t>://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48"/>
              </a:rPr>
              <a:t>vedkar.ru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49"/>
              </a:rPr>
              <a:t>/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50"/>
              </a:rPr>
              <a:t>data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51"/>
              </a:rPr>
              <a:t>/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52"/>
              </a:rPr>
              <a:t>Picture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53"/>
              </a:rPr>
              <a:t>/5280/6.jpg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- Игрушка. Конь. 1920-е годы. Автор Иван Васильевич Филин. Д. Толстиково, Петрозаводский уезд, Олонецкая губерния. Национальный музей Республики Карелия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1. 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54"/>
              </a:rPr>
              <a:t>http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55"/>
              </a:rPr>
              <a:t>://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56"/>
              </a:rPr>
              <a:t>artyx.ru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57"/>
              </a:rPr>
              <a:t>/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58"/>
              </a:rPr>
              <a:t>books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59"/>
              </a:rPr>
              <a:t>/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60"/>
              </a:rPr>
              <a:t>item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61"/>
              </a:rPr>
              <a:t>/f00/s00/z0000035/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62"/>
              </a:rPr>
              <a:t>pic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63"/>
              </a:rPr>
              <a:t>/000121.jpg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- Конь в упряжи. Кукла. XIX в. Владимирская губерния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2. 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64"/>
              </a:rPr>
              <a:t>http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65"/>
              </a:rPr>
              <a:t>://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66"/>
              </a:rPr>
              <a:t>bobrolet.ru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67"/>
              </a:rPr>
              <a:t>/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68"/>
              </a:rPr>
              <a:t>wp-content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69"/>
              </a:rPr>
              <a:t>/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70"/>
              </a:rPr>
              <a:t>gallery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71"/>
              </a:rPr>
              <a:t>/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72"/>
              </a:rPr>
              <a:t>dymkovskaya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73"/>
              </a:rPr>
              <a:t>/dymkovskaya-toy13.jpg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- Индюк. Дымковская игрушк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3. 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74"/>
              </a:rPr>
              <a:t>http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75"/>
              </a:rPr>
              <a:t>://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76"/>
              </a:rPr>
              <a:t>stranamasterov.ru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77"/>
              </a:rPr>
              <a:t>/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78"/>
              </a:rPr>
              <a:t>files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79"/>
              </a:rPr>
              <a:t>/u15556/1321385064_4.jpg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- птица из щеп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4. 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80"/>
              </a:rPr>
              <a:t>http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81"/>
              </a:rPr>
              <a:t>://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82"/>
              </a:rPr>
              <a:t>rusmudr.ru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83"/>
              </a:rPr>
              <a:t>/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84"/>
              </a:rPr>
              <a:t>wp-content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85"/>
              </a:rPr>
              <a:t>/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86"/>
              </a:rPr>
              <a:t>uploads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87"/>
              </a:rPr>
              <a:t>/2012/08/hohloma_5.jpg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- фотография хохломских издели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5. 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88"/>
              </a:rPr>
              <a:t>http://www.kukla-dusha.net/sc-pic/i1341.jpg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- мяч из Музея игрушки Сергиев Поса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6. 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89"/>
              </a:rPr>
              <a:t>http://www.paraskeva.ru/content/upload/article_image_qRORtl.jpg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- Мяч-шитка. Диаметр 6 см. 1995 г. д. Мартынове, Мышкинский р-н, Ярославская обл. Г. Дайн, реконструкция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7. 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90"/>
              </a:rPr>
              <a:t>http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91"/>
              </a:rPr>
              <a:t>://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92"/>
              </a:rPr>
              <a:t>freemarket.kiev.ua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93"/>
              </a:rPr>
              <a:t>/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94"/>
              </a:rPr>
              <a:t>images_message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95"/>
              </a:rPr>
              <a:t>/361/277940/842908/1457340.jpg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- мячики-погремушк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8. 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96"/>
              </a:rPr>
              <a:t>http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97"/>
              </a:rPr>
              <a:t>://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98"/>
              </a:rPr>
              <a:t>woodtoys.com.ua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99"/>
              </a:rPr>
              <a:t>/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100"/>
              </a:rPr>
              <a:t>jpg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101"/>
              </a:rPr>
              <a:t>/volchok_2.jpg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- деревянный волчо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9. 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102"/>
              </a:rPr>
              <a:t>http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103"/>
              </a:rPr>
              <a:t>://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104"/>
              </a:rPr>
              <a:t>igrushka.kz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105"/>
              </a:rPr>
              <a:t>/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106"/>
              </a:rPr>
              <a:t>news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107"/>
              </a:rPr>
              <a:t>/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108"/>
              </a:rPr>
              <a:t>home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109"/>
              </a:rPr>
              <a:t>/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110"/>
              </a:rPr>
              <a:t>igrushka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111"/>
              </a:rPr>
              <a:t>/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112"/>
              </a:rPr>
              <a:t>public_html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113"/>
              </a:rPr>
              <a:t>/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114"/>
              </a:rPr>
              <a:t>wp-content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115"/>
              </a:rPr>
              <a:t>/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116"/>
              </a:rPr>
              <a:t>uploads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117"/>
              </a:rPr>
              <a:t>/2009/08/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118"/>
              </a:rPr>
              <a:t>kubar-volchok.jpg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- кубар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0. 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119"/>
              </a:rPr>
              <a:t>http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120"/>
              </a:rPr>
              <a:t>://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121"/>
              </a:rPr>
              <a:t>www.sky-art.com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122"/>
              </a:rPr>
              <a:t>/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123"/>
              </a:rPr>
              <a:t>andersen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124"/>
              </a:rPr>
              <a:t>/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125"/>
              </a:rPr>
              <a:t>tales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126"/>
              </a:rPr>
              <a:t>/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127"/>
              </a:rPr>
              <a:t>pedersen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128"/>
              </a:rPr>
              <a:t>/065_02.jpg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- игра в кубар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1. 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129"/>
              </a:rPr>
              <a:t>http://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130"/>
              </a:rPr>
              <a:t>www.krupenichka.ru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131"/>
              </a:rPr>
              <a:t>/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132"/>
              </a:rPr>
              <a:t>images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133"/>
              </a:rPr>
              <a:t>/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134"/>
              </a:rPr>
              <a:t>dolls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135"/>
              </a:rPr>
              <a:t>/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136"/>
              </a:rPr>
              <a:t>pelenashka.jpg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- кукла-пеленашк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2. 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137"/>
              </a:rPr>
              <a:t>http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138"/>
              </a:rPr>
              <a:t>://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139"/>
              </a:rPr>
              <a:t>www.rustoys.ru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140"/>
              </a:rPr>
              <a:t>/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141"/>
              </a:rPr>
              <a:t>museums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142"/>
              </a:rPr>
              <a:t>/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143"/>
              </a:rPr>
              <a:t>igrushki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144"/>
              </a:rPr>
              <a:t>/3.jpg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- кукла-зернушк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3. 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145"/>
              </a:rPr>
              <a:t>http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146"/>
              </a:rPr>
              <a:t>://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147"/>
              </a:rPr>
              <a:t>www.rukukla.ru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148"/>
              </a:rPr>
              <a:t>/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149"/>
              </a:rPr>
              <a:t>file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150"/>
              </a:rPr>
              <a:t>/0001/0231.jpg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- кувадк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4. 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151"/>
              </a:rPr>
              <a:t>http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152"/>
              </a:rPr>
              <a:t>://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153"/>
              </a:rPr>
              <a:t>rusprom.biz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154"/>
              </a:rPr>
              <a:t>/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155"/>
              </a:rPr>
              <a:t>images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156"/>
              </a:rPr>
              <a:t>/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157"/>
              </a:rPr>
              <a:t>stories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158"/>
              </a:rPr>
              <a:t>/1209/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159"/>
              </a:rPr>
              <a:t>img-DlMfUn.jpg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- неваляшка «Матрёна»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5. 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160"/>
              </a:rPr>
              <a:t>http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161"/>
              </a:rPr>
              <a:t>://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162"/>
              </a:rPr>
              <a:t>rusprom.biz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163"/>
              </a:rPr>
              <a:t>/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164"/>
              </a:rPr>
              <a:t>images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165"/>
              </a:rPr>
              <a:t>/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166"/>
              </a:rPr>
              <a:t>stories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167"/>
              </a:rPr>
              <a:t>/1209/img-zMZsd5.jpg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- деревянная неваляшка «Скоморох»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6. 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168"/>
              </a:rPr>
              <a:t>http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169"/>
              </a:rPr>
              <a:t>://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170"/>
              </a:rPr>
              <a:t>www.mama-best.ru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171"/>
              </a:rPr>
              <a:t>/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172"/>
              </a:rPr>
              <a:t>published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173"/>
              </a:rPr>
              <a:t>/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174"/>
              </a:rPr>
              <a:t>publicdata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175"/>
              </a:rPr>
              <a:t>/TOYSBESTMILKY/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176"/>
              </a:rPr>
              <a:t>attachments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177"/>
              </a:rPr>
              <a:t>/SC/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178"/>
              </a:rPr>
              <a:t>products_pictures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179"/>
              </a:rPr>
              <a:t>/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180"/>
              </a:rPr>
              <a:t>___nevvn.jpg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–неваляшка «Ванька-встанька»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7. 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181"/>
              </a:rPr>
              <a:t>http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182"/>
              </a:rPr>
              <a:t>://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183"/>
              </a:rPr>
              <a:t>www.maaam.ru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184"/>
              </a:rPr>
              <a:t>/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185"/>
              </a:rPr>
              <a:t>upload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186"/>
              </a:rPr>
              <a:t>/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187"/>
              </a:rPr>
              <a:t>blogs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188"/>
              </a:rPr>
              <a:t>/487e8163e226ae9c547ee4d94cfde267.gif.jpg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- матрёшк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8. 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189"/>
              </a:rPr>
              <a:t>http://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190"/>
              </a:rPr>
              <a:t>www.maaam.ru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191"/>
              </a:rPr>
              <a:t>/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192"/>
              </a:rPr>
              <a:t>upload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193"/>
              </a:rPr>
              <a:t>/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194"/>
              </a:rPr>
              <a:t>blogs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195"/>
              </a:rPr>
              <a:t>/26552ca15d5e4f6820b431b76b1b0187.jpg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- «Девочка с петухом» (С. В. Малютин, В. П. Звездочкин, конец 19-го века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9. 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196"/>
              </a:rPr>
              <a:t>http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197"/>
              </a:rPr>
              <a:t>://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198"/>
              </a:rPr>
              <a:t>img-fotki.yandex.ru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199"/>
              </a:rPr>
              <a:t>/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200"/>
              </a:rPr>
              <a:t>get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201"/>
              </a:rPr>
              <a:t>/19/eagle6731.1/0_12890_cddec2c5_XL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- петрушк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30. 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202"/>
              </a:rPr>
              <a:t>http://protown.ru/pic/museum_games_5.jpg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- Дама. Гусар. Сергиев Посад, Московская губерния. 1-я половина XIX в. Дерево, резьба, роспись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31. 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203"/>
              </a:rPr>
              <a:t>http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204"/>
              </a:rPr>
              <a:t>://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205"/>
              </a:rPr>
              <a:t>protown.ru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206"/>
              </a:rPr>
              <a:t>/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207"/>
              </a:rPr>
              <a:t>pic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208"/>
              </a:rPr>
              <a:t>/museum_games_7.jpg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- Игрушка "Развод". Солдатики закреплены на деревянных подвижных планках. Начало XX века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32. 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209"/>
              </a:rPr>
              <a:t>http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210"/>
              </a:rPr>
              <a:t>://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211"/>
              </a:rPr>
              <a:t>www.foma.ru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212"/>
              </a:rPr>
              <a:t>/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213"/>
              </a:rPr>
              <a:t>fotos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214"/>
              </a:rPr>
              <a:t>/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215"/>
              </a:rPr>
              <a:t>journal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216"/>
              </a:rPr>
              <a:t>/99/5826_7.jpg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-  Солдатики. Россия, начало ХХ века.Мастика, дерево, роспись. Высота 14 см.Пушка на лафете. Германия, начало ХХ века. Жесть, штамповка, окраска. 6х14х6 см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33. 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217"/>
              </a:rPr>
              <a:t>http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218"/>
              </a:rPr>
              <a:t>://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219"/>
              </a:rPr>
              <a:t>artyx.ru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220"/>
              </a:rPr>
              <a:t>/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221"/>
              </a:rPr>
              <a:t>books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222"/>
              </a:rPr>
              <a:t>/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223"/>
              </a:rPr>
              <a:t>item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224"/>
              </a:rPr>
              <a:t>/f00/s00/z0000035/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225"/>
              </a:rPr>
              <a:t>pic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226"/>
              </a:rPr>
              <a:t>/000125.jpg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- Солдатики. Втор. пол. XIX в. Троице-Сергиев Посад, Московская губ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34. 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227"/>
              </a:rPr>
              <a:t>http://upload.wikimedia.org/wikipedia/commons/2/2f/Kozuli.jpg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- Козул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35. http://krovhouse.ru/articles/art6/tmp1694-5.jpg  - пряничная доск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36. http://www.pryanik.info/u_images/pryanik/pryanik_26.png - петушок - тульский пряник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96fb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380880" y="456840"/>
            <a:ext cx="830592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ипотеза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едполагаю, что русские игрушки связаны с народными промысл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Цель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узнать историю русских игруш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дач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Изучить литературу и ресурсы Интернет о русских игрушк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Выяснить, какая русская игрушка была самой древн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Подготовить презентацию в сотрудничестве с учител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96fb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лавное прошлое русской игруш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411444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вным-давно, много столетий назад наши предки - славяне были язычниками. Люди поклонялись великим богам: Сварогу, Ярило, Мокошь и другим. В домах появлялись маленькие самодельные боги из глины, камня, дере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инули века. На русскую землю пришла новая религия – христианство. А старые боги достались дет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429000" y="1066680"/>
            <a:ext cx="2041560" cy="28195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6095880" y="1066680"/>
            <a:ext cx="2032200" cy="2819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Андрей Гусельников. Сварог"/>
          <p:cNvPicPr/>
          <p:nvPr/>
        </p:nvPicPr>
        <p:blipFill>
          <a:blip r:embed="rId3"/>
          <a:stretch/>
        </p:blipFill>
        <p:spPr>
          <a:xfrm>
            <a:off x="762120" y="1066680"/>
            <a:ext cx="19825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96fb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огремуш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4114440"/>
            <a:ext cx="91440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ервые погремушки гремели над колыбельками русских малышей не для забавы. Они сражались со злыми духами. Древние русские погремушки делали без рукоятки, просто шарик из глины с горошинами или камешками внутри. Материалом также служили мочевые пузыри животных, береста, дерев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495680" y="1295280"/>
            <a:ext cx="3810240" cy="25146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33520" y="1295280"/>
            <a:ext cx="3581280" cy="24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96fb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вистуль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-360" y="3886200"/>
            <a:ext cx="89154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вистульки – родные сестрички погремушек, ими тоже отгоняли нечистую сил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линяные свистульки приходятся дочками простым глиняным горшкам, так как гончары мастерили фигурки со свистком из остатков гли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895480" y="1219320"/>
            <a:ext cx="3048120" cy="25938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rcRect l="22861" t="6403" r="28001" b="-794"/>
          <a:stretch/>
        </p:blipFill>
        <p:spPr>
          <a:xfrm>
            <a:off x="533520" y="1219320"/>
            <a:ext cx="1887480" cy="25905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6477120" y="1219320"/>
            <a:ext cx="208908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96fb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он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9520" y="1447560"/>
            <a:ext cx="53341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ни у наших предков считались главными животными. На них воевали, ездили в дальние края, возили грузы, а главное – на них пахали. Без коня не было хлеб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юди верили, что боги ездят по небу в волшебных колесниц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57200" y="1371600"/>
            <a:ext cx="3413160" cy="41911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04920" y="5791320"/>
            <a:ext cx="38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.В. Моравов. Будущий наездни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96fb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0" y="3048120"/>
            <a:ext cx="91440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усские мальчики играли разными конями. Это были деревянные лошадки на колёсиках, на палочке, на качалке. Отцы привозили с ярмарок глиняных свистулек, кентавров, тройки. По всей Руси вязали лошадок из соломы. В виде коней из дерева делали санки, каталки, колоды, скамейки. Позже игрушки-лошадки делали из папье-маш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048120" y="762120"/>
            <a:ext cx="2895480" cy="21747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6095880" y="762120"/>
            <a:ext cx="2895840" cy="21715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152280" y="762120"/>
            <a:ext cx="2819520" cy="21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96fb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Чудесные птицы Рус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3657240"/>
            <a:ext cx="82296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ши предки-славяне верили, что мир появился благодаря птице из яйца. Птицы с распростёртыми крыльями – это круглое солнце с лучами. Уточка символизирует воду, очищающую от злых духов. Петух умеет отгонять своим криком нечистую силу. Вот и делали пичужек для детей из глины, дерева, соломы и трав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2119320" cy="26672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3200400" y="1066680"/>
            <a:ext cx="2655720" cy="26672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6172200" y="1066680"/>
            <a:ext cx="1974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96fb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амая древняя игруш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-360" y="3352320"/>
            <a:ext cx="8991720" cy="29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 удивляйтесь, это обычный мяч. Слово «мяч» родственно словам «мягкий», «мякиш». Традиционные русские мячи шили из тряпок. Готовый мяч набивали шерстью, поэтому он был прыгучи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 раскопках в Новгороде, Пскове, Москве нашли мячи из кож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рестьянские дети на Руси развлекались мячами из бересты или бычьих пузыр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867280" y="1143000"/>
            <a:ext cx="2667240" cy="20271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380880" y="1143000"/>
            <a:ext cx="3152880" cy="20289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3809880" y="1143000"/>
            <a:ext cx="1870200" cy="20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9T12:53:58Z</dcterms:created>
  <dc:creator>Сергей</dc:creator>
  <dc:description/>
  <dc:language>en-US</dc:language>
  <cp:lastModifiedBy>Сергей</cp:lastModifiedBy>
  <dcterms:modified xsi:type="dcterms:W3CDTF">2014-01-04T11:54:31Z</dcterms:modified>
  <cp:revision>3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