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857-FB3C-4F03-A08B-0C0DC980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337-C112-457B-A01A-03929699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488-C03D-4A82-9BB4-BF8E7AB7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961-D396-4BFD-B9DA-98925331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C47-DA96-4784-9C53-3DC8FCC7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C55-C4F0-44BD-8FBA-563EFA0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EB8-E5C7-4E9E-ABAB-E6BC0E9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EF2-0927-4747-A67B-CCB8791A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334-3815-4E0F-9FBD-405E9E67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4CF-C150-4D1D-BB47-4895C4A3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05F-FD4D-47AD-B31E-3F9410CD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9AA-95D7-4936-B1AE-C25E8A91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98CD-CEC0-4CEF-B71E-F39C5141F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u-489.ru/igrushki-mira/img-igrushki/pogremuha-04.jpg" TargetMode="External"/><Relationship Id="rId2" Type="http://schemas.openxmlformats.org/officeDocument/2006/relationships/hyperlink" Target="http://dou-489.ru/igrushki-mira/img-igrushki/pogremuha-04.jpg" TargetMode="External"/><Relationship Id="rId3" Type="http://schemas.openxmlformats.org/officeDocument/2006/relationships/hyperlink" Target="http://dou-489.ru/igrushki-mira/img-igrushki/pogremuha-04.jpg" TargetMode="External"/><Relationship Id="rId4" Type="http://schemas.openxmlformats.org/officeDocument/2006/relationships/hyperlink" Target="http://dou-489.ru/igrushki-mira/img-igrushki/pogremuha-04.jpg" TargetMode="External"/><Relationship Id="rId5" Type="http://schemas.openxmlformats.org/officeDocument/2006/relationships/hyperlink" Target="http://dou-489.ru/igrushki-mira/img-igrushki/pogremuha-04.jpg" TargetMode="External"/><Relationship Id="rId6" Type="http://schemas.openxmlformats.org/officeDocument/2006/relationships/hyperlink" Target="http://img1.liveinternet.ru/images/attach/c/4/83/674/83674047_large_2825_002.jpg" TargetMode="External"/><Relationship Id="rId7" Type="http://schemas.openxmlformats.org/officeDocument/2006/relationships/hyperlink" Target="http://img1.liveinternet.ru/images/attach/c/4/83/674/83674047_large_2825_002.jpg" TargetMode="External"/><Relationship Id="rId8" Type="http://schemas.openxmlformats.org/officeDocument/2006/relationships/hyperlink" Target="http://img1.liveinternet.ru/images/attach/c/4/83/674/83674047_large_2825_002.jpg" TargetMode="External"/><Relationship Id="rId9" Type="http://schemas.openxmlformats.org/officeDocument/2006/relationships/hyperlink" Target="http://img1.liveinternet.ru/images/attach/c/4/83/674/83674047_large_2825_002.jpg" TargetMode="External"/><Relationship Id="rId10" Type="http://schemas.openxmlformats.org/officeDocument/2006/relationships/hyperlink" Target="http://img1.liveinternet.ru/images/attach/c/4/83/674/83674047_large_2825_002.jpg" TargetMode="External"/><Relationship Id="rId11" Type="http://schemas.openxmlformats.org/officeDocument/2006/relationships/hyperlink" Target="http://canariaspb.narod.ru/photo57.jpg" TargetMode="External"/><Relationship Id="rId12" Type="http://schemas.openxmlformats.org/officeDocument/2006/relationships/hyperlink" Target="http://canariaspb.narod.ru/photo57.jpg" TargetMode="External"/><Relationship Id="rId13" Type="http://schemas.openxmlformats.org/officeDocument/2006/relationships/hyperlink" Target="http://canariaspb.narod.ru/photo57.jpg" TargetMode="External"/><Relationship Id="rId14" Type="http://schemas.openxmlformats.org/officeDocument/2006/relationships/hyperlink" Target="http://canariaspb.narod.ru/photo57.jpg" TargetMode="External"/><Relationship Id="rId15" Type="http://schemas.openxmlformats.org/officeDocument/2006/relationships/hyperlink" Target="http://www.tvorite.ru/uploads/posts/2011-02/1297160350_small.jpg" TargetMode="External"/><Relationship Id="rId16" Type="http://schemas.openxmlformats.org/officeDocument/2006/relationships/hyperlink" Target="http://www.tvorite.ru/uploads/posts/2011-02/1297160350_small.jpg" TargetMode="External"/><Relationship Id="rId17" Type="http://schemas.openxmlformats.org/officeDocument/2006/relationships/hyperlink" Target="http://www.tvorite.ru/uploads/posts/2011-02/1297160350_small.jpg" TargetMode="External"/><Relationship Id="rId18" Type="http://schemas.openxmlformats.org/officeDocument/2006/relationships/hyperlink" Target="http://www.tvorite.ru/uploads/posts/2011-02/1297160350_small.jpg" TargetMode="External"/><Relationship Id="rId19" Type="http://schemas.openxmlformats.org/officeDocument/2006/relationships/hyperlink" Target="http://www.tvorite.ru/uploads/posts/2011-02/1297160350_small.jpg" TargetMode="External"/><Relationship Id="rId20" Type="http://schemas.openxmlformats.org/officeDocument/2006/relationships/hyperlink" Target="http://www.tvorite.ru/uploads/posts/2011-02/1297160350_small.jpg" TargetMode="External"/><Relationship Id="rId21" Type="http://schemas.openxmlformats.org/officeDocument/2006/relationships/hyperlink" Target="http://www.tvorite.ru/uploads/posts/2011-02/1297160350_small.jpg" TargetMode="External"/><Relationship Id="rId22" Type="http://schemas.openxmlformats.org/officeDocument/2006/relationships/hyperlink" Target="http://www.tvorite.ru/uploads/posts/2011-02/1297160350_small.jpg" TargetMode="External"/><Relationship Id="rId23" Type="http://schemas.openxmlformats.org/officeDocument/2006/relationships/hyperlink" Target="http://p-shkola.by/isimages/s000120_776691.jpg" TargetMode="External"/><Relationship Id="rId24" Type="http://schemas.openxmlformats.org/officeDocument/2006/relationships/hyperlink" Target="http://p-shkola.by/isimages/s000120_776691.jpg" TargetMode="External"/><Relationship Id="rId25" Type="http://schemas.openxmlformats.org/officeDocument/2006/relationships/hyperlink" Target="http://p-shkola.by/isimages/s000120_776691.jpg" TargetMode="External"/><Relationship Id="rId26" Type="http://schemas.openxmlformats.org/officeDocument/2006/relationships/hyperlink" Target="http://p-shkola.by/isimages/s000120_776691.jpg" TargetMode="External"/><Relationship Id="rId27" Type="http://schemas.openxmlformats.org/officeDocument/2006/relationships/hyperlink" Target="http://p-shkola.by/isimages/s000120_776691.jpg" TargetMode="External"/><Relationship Id="rId28" Type="http://schemas.openxmlformats.org/officeDocument/2006/relationships/hyperlink" Target="http://p-shkola.by/isimages/s000120_776691.jpg" TargetMode="External"/><Relationship Id="rId29" Type="http://schemas.openxmlformats.org/officeDocument/2006/relationships/hyperlink" Target="http://www.artpoisk.info/files/images/11145.jpg" TargetMode="External"/><Relationship Id="rId30" Type="http://schemas.openxmlformats.org/officeDocument/2006/relationships/hyperlink" Target="http://www.artpoisk.info/files/images/11145.jpg" TargetMode="External"/><Relationship Id="rId31" Type="http://schemas.openxmlformats.org/officeDocument/2006/relationships/hyperlink" Target="http://www.artpoisk.info/files/images/11145.jpg" TargetMode="External"/><Relationship Id="rId32" Type="http://schemas.openxmlformats.org/officeDocument/2006/relationships/hyperlink" Target="http://www.artpoisk.info/files/images/11145.jpg" TargetMode="External"/><Relationship Id="rId33" Type="http://schemas.openxmlformats.org/officeDocument/2006/relationships/hyperlink" Target="http://www.artpoisk.info/files/images/11145.jpg" TargetMode="External"/><Relationship Id="rId34" Type="http://schemas.openxmlformats.org/officeDocument/2006/relationships/hyperlink" Target="http://www.artpoisk.info/files/images/11145.jpg" TargetMode="External"/><Relationship Id="rId35" Type="http://schemas.openxmlformats.org/officeDocument/2006/relationships/hyperlink" Target="http://www.artpoisk.info/files/images/11145.jpg" TargetMode="External"/><Relationship Id="rId36" Type="http://schemas.openxmlformats.org/officeDocument/2006/relationships/hyperlink" Target="http://www.artpoisk.info/files/images/11145.jpg" TargetMode="External"/><Relationship Id="rId37" Type="http://schemas.openxmlformats.org/officeDocument/2006/relationships/hyperlink" Target="http://myslo.ru/content/oldnews/news_images/%E8%E3%F0001.jpg" TargetMode="External"/><Relationship Id="rId38" Type="http://schemas.openxmlformats.org/officeDocument/2006/relationships/hyperlink" Target="http://myslo.ru/content/oldnews/news_images/%E8%E3%F0001.jpg" TargetMode="External"/><Relationship Id="rId39" Type="http://schemas.openxmlformats.org/officeDocument/2006/relationships/hyperlink" Target="http://myslo.ru/content/oldnews/news_images/%E8%E3%F0001.jpg" TargetMode="External"/><Relationship Id="rId40" Type="http://schemas.openxmlformats.org/officeDocument/2006/relationships/hyperlink" Target="http://myslo.ru/content/oldnews/news_images/%E8%E3%F0001.jpg" TargetMode="External"/><Relationship Id="rId41" Type="http://schemas.openxmlformats.org/officeDocument/2006/relationships/hyperlink" Target="http://myslo.ru/content/oldnews/news_images/%E8%E3%F0001.jpg" TargetMode="External"/><Relationship Id="rId42" Type="http://schemas.openxmlformats.org/officeDocument/2006/relationships/hyperlink" Target="http://myslo.ru/content/oldnews/news_images/%E8%E3%F0001.jpg" TargetMode="External"/><Relationship Id="rId43" Type="http://schemas.openxmlformats.org/officeDocument/2006/relationships/hyperlink" Target="http://myslo.ru/content/oldnews/news_images/%E8%E3%F0001.jpg" TargetMode="External"/><Relationship Id="rId44" Type="http://schemas.openxmlformats.org/officeDocument/2006/relationships/hyperlink" Target="http://myslo.ru/content/oldnews/news_images/%E8%E3%F0001.jpg" TargetMode="External"/><Relationship Id="rId45" Type="http://schemas.openxmlformats.org/officeDocument/2006/relationships/hyperlink" Target="http://myslo.ru/content/oldnews/news_images/%E8%E3%F0001.jpg" TargetMode="External"/><Relationship Id="rId46" Type="http://schemas.openxmlformats.org/officeDocument/2006/relationships/hyperlink" Target="http://vedkar.ru/data/Picture/5280/6.jpg" TargetMode="External"/><Relationship Id="rId47" Type="http://schemas.openxmlformats.org/officeDocument/2006/relationships/hyperlink" Target="http://vedkar.ru/data/Picture/5280/6.jpg" TargetMode="External"/><Relationship Id="rId48" Type="http://schemas.openxmlformats.org/officeDocument/2006/relationships/hyperlink" Target="http://vedkar.ru/data/Picture/5280/6.jpg" TargetMode="External"/><Relationship Id="rId49" Type="http://schemas.openxmlformats.org/officeDocument/2006/relationships/hyperlink" Target="http://vedkar.ru/data/Picture/5280/6.jpg" TargetMode="External"/><Relationship Id="rId50" Type="http://schemas.openxmlformats.org/officeDocument/2006/relationships/hyperlink" Target="http://vedkar.ru/data/Picture/5280/6.jpg" TargetMode="External"/><Relationship Id="rId51" Type="http://schemas.openxmlformats.org/officeDocument/2006/relationships/hyperlink" Target="http://vedkar.ru/data/Picture/5280/6.jpg" TargetMode="External"/><Relationship Id="rId52" Type="http://schemas.openxmlformats.org/officeDocument/2006/relationships/hyperlink" Target="http://vedkar.ru/data/Picture/5280/6.jpg" TargetMode="External"/><Relationship Id="rId53" Type="http://schemas.openxmlformats.org/officeDocument/2006/relationships/hyperlink" Target="http://vedkar.ru/data/Picture/5280/6.jpg" TargetMode="External"/><Relationship Id="rId54" Type="http://schemas.openxmlformats.org/officeDocument/2006/relationships/hyperlink" Target="http://artyx.ru/books/item/f00/s00/z0000035/pic/000121.jpg" TargetMode="External"/><Relationship Id="rId55" Type="http://schemas.openxmlformats.org/officeDocument/2006/relationships/hyperlink" Target="http://artyx.ru/books/item/f00/s00/z0000035/pic/000121.jpg" TargetMode="External"/><Relationship Id="rId56" Type="http://schemas.openxmlformats.org/officeDocument/2006/relationships/hyperlink" Target="http://artyx.ru/books/item/f00/s00/z0000035/pic/000121.jpg" TargetMode="External"/><Relationship Id="rId57" Type="http://schemas.openxmlformats.org/officeDocument/2006/relationships/hyperlink" Target="http://artyx.ru/books/item/f00/s00/z0000035/pic/000121.jpg" TargetMode="External"/><Relationship Id="rId58" Type="http://schemas.openxmlformats.org/officeDocument/2006/relationships/hyperlink" Target="http://artyx.ru/books/item/f00/s00/z0000035/pic/000121.jpg" TargetMode="External"/><Relationship Id="rId59" Type="http://schemas.openxmlformats.org/officeDocument/2006/relationships/hyperlink" Target="http://artyx.ru/books/item/f00/s00/z0000035/pic/000121.jpg" TargetMode="External"/><Relationship Id="rId60" Type="http://schemas.openxmlformats.org/officeDocument/2006/relationships/hyperlink" Target="http://artyx.ru/books/item/f00/s00/z0000035/pic/000121.jpg" TargetMode="External"/><Relationship Id="rId61" Type="http://schemas.openxmlformats.org/officeDocument/2006/relationships/hyperlink" Target="http://artyx.ru/books/item/f00/s00/z0000035/pic/000121.jpg" TargetMode="External"/><Relationship Id="rId62" Type="http://schemas.openxmlformats.org/officeDocument/2006/relationships/hyperlink" Target="http://artyx.ru/books/item/f00/s00/z0000035/pic/000121.jpg" TargetMode="External"/><Relationship Id="rId63" Type="http://schemas.openxmlformats.org/officeDocument/2006/relationships/hyperlink" Target="http://artyx.ru/books/item/f00/s00/z0000035/pic/000121.jpg" TargetMode="External"/><Relationship Id="rId64" Type="http://schemas.openxmlformats.org/officeDocument/2006/relationships/hyperlink" Target="http://bobrolet.ru/wp-content/gallery/dymkovskaya/dymkovskaya-toy13.jpg" TargetMode="External"/><Relationship Id="rId65" Type="http://schemas.openxmlformats.org/officeDocument/2006/relationships/hyperlink" Target="http://bobrolet.ru/wp-content/gallery/dymkovskaya/dymkovskaya-toy13.jpg" TargetMode="External"/><Relationship Id="rId66" Type="http://schemas.openxmlformats.org/officeDocument/2006/relationships/hyperlink" Target="http://bobrolet.ru/wp-content/gallery/dymkovskaya/dymkovskaya-toy13.jpg" TargetMode="External"/><Relationship Id="rId67" Type="http://schemas.openxmlformats.org/officeDocument/2006/relationships/hyperlink" Target="http://bobrolet.ru/wp-content/gallery/dymkovskaya/dymkovskaya-toy13.jpg" TargetMode="External"/><Relationship Id="rId68" Type="http://schemas.openxmlformats.org/officeDocument/2006/relationships/hyperlink" Target="http://bobrolet.ru/wp-content/gallery/dymkovskaya/dymkovskaya-toy13.jpg" TargetMode="External"/><Relationship Id="rId69" Type="http://schemas.openxmlformats.org/officeDocument/2006/relationships/hyperlink" Target="http://bobrolet.ru/wp-content/gallery/dymkovskaya/dymkovskaya-toy13.jpg" TargetMode="External"/><Relationship Id="rId70" Type="http://schemas.openxmlformats.org/officeDocument/2006/relationships/hyperlink" Target="http://bobrolet.ru/wp-content/gallery/dymkovskaya/dymkovskaya-toy13.jpg" TargetMode="External"/><Relationship Id="rId71" Type="http://schemas.openxmlformats.org/officeDocument/2006/relationships/hyperlink" Target="http://bobrolet.ru/wp-content/gallery/dymkovskaya/dymkovskaya-toy13.jpg" TargetMode="External"/><Relationship Id="rId72" Type="http://schemas.openxmlformats.org/officeDocument/2006/relationships/hyperlink" Target="http://bobrolet.ru/wp-content/gallery/dymkovskaya/dymkovskaya-toy13.jpg" TargetMode="External"/><Relationship Id="rId73" Type="http://schemas.openxmlformats.org/officeDocument/2006/relationships/hyperlink" Target="http://bobrolet.ru/wp-content/gallery/dymkovskaya/dymkovskaya-toy13.jpg" TargetMode="External"/><Relationship Id="rId74" Type="http://schemas.openxmlformats.org/officeDocument/2006/relationships/hyperlink" Target="http://stranamasterov.ru/files/u15556/1321385064_4.jpg" TargetMode="External"/><Relationship Id="rId75" Type="http://schemas.openxmlformats.org/officeDocument/2006/relationships/hyperlink" Target="http://stranamasterov.ru/files/u15556/1321385064_4.jpg" TargetMode="External"/><Relationship Id="rId76" Type="http://schemas.openxmlformats.org/officeDocument/2006/relationships/hyperlink" Target="http://stranamasterov.ru/files/u15556/1321385064_4.jpg" TargetMode="External"/><Relationship Id="rId77" Type="http://schemas.openxmlformats.org/officeDocument/2006/relationships/hyperlink" Target="http://stranamasterov.ru/files/u15556/1321385064_4.jpg" TargetMode="External"/><Relationship Id="rId78" Type="http://schemas.openxmlformats.org/officeDocument/2006/relationships/hyperlink" Target="http://stranamasterov.ru/files/u15556/1321385064_4.jpg" TargetMode="External"/><Relationship Id="rId79" Type="http://schemas.openxmlformats.org/officeDocument/2006/relationships/hyperlink" Target="http://stranamasterov.ru/files/u15556/1321385064_4.jpg" TargetMode="External"/><Relationship Id="rId80" Type="http://schemas.openxmlformats.org/officeDocument/2006/relationships/hyperlink" Target="http://rusmudr.ru/wp-content/uploads/2012/08/hohloma_5.jpg" TargetMode="External"/><Relationship Id="rId81" Type="http://schemas.openxmlformats.org/officeDocument/2006/relationships/hyperlink" Target="http://rusmudr.ru/wp-content/uploads/2012/08/hohloma_5.jpg" TargetMode="External"/><Relationship Id="rId82" Type="http://schemas.openxmlformats.org/officeDocument/2006/relationships/hyperlink" Target="http://rusmudr.ru/wp-content/uploads/2012/08/hohloma_5.jpg" TargetMode="External"/><Relationship Id="rId83" Type="http://schemas.openxmlformats.org/officeDocument/2006/relationships/hyperlink" Target="http://rusmudr.ru/wp-content/uploads/2012/08/hohloma_5.jpg" TargetMode="External"/><Relationship Id="rId84" Type="http://schemas.openxmlformats.org/officeDocument/2006/relationships/hyperlink" Target="http://rusmudr.ru/wp-content/uploads/2012/08/hohloma_5.jpg" TargetMode="External"/><Relationship Id="rId85" Type="http://schemas.openxmlformats.org/officeDocument/2006/relationships/hyperlink" Target="http://rusmudr.ru/wp-content/uploads/2012/08/hohloma_5.jpg" TargetMode="External"/><Relationship Id="rId86" Type="http://schemas.openxmlformats.org/officeDocument/2006/relationships/hyperlink" Target="http://rusmudr.ru/wp-content/uploads/2012/08/hohloma_5.jpg" TargetMode="External"/><Relationship Id="rId87" Type="http://schemas.openxmlformats.org/officeDocument/2006/relationships/hyperlink" Target="http://rusmudr.ru/wp-content/uploads/2012/08/hohloma_5.jpg" TargetMode="External"/><Relationship Id="rId88" Type="http://schemas.openxmlformats.org/officeDocument/2006/relationships/hyperlink" Target="http://www.kukla-dusha.net/sc-pic/i1341.jpg" TargetMode="External"/><Relationship Id="rId89" Type="http://schemas.openxmlformats.org/officeDocument/2006/relationships/hyperlink" Target="http://www.paraskeva.ru/content/upload/article_image_qRORtl.jpg" TargetMode="External"/><Relationship Id="rId90" Type="http://schemas.openxmlformats.org/officeDocument/2006/relationships/hyperlink" Target="http://freemarket.kiev.ua/images_message/361/277940/842908/1457340.jpg" TargetMode="External"/><Relationship Id="rId91" Type="http://schemas.openxmlformats.org/officeDocument/2006/relationships/hyperlink" Target="http://freemarket.kiev.ua/images_message/361/277940/842908/1457340.jpg" TargetMode="External"/><Relationship Id="rId92" Type="http://schemas.openxmlformats.org/officeDocument/2006/relationships/hyperlink" Target="http://freemarket.kiev.ua/images_message/361/277940/842908/1457340.jpg" TargetMode="External"/><Relationship Id="rId93" Type="http://schemas.openxmlformats.org/officeDocument/2006/relationships/hyperlink" Target="http://freemarket.kiev.ua/images_message/361/277940/842908/1457340.jpg" TargetMode="External"/><Relationship Id="rId94" Type="http://schemas.openxmlformats.org/officeDocument/2006/relationships/hyperlink" Target="http://freemarket.kiev.ua/images_message/361/277940/842908/1457340.jpg" TargetMode="External"/><Relationship Id="rId95" Type="http://schemas.openxmlformats.org/officeDocument/2006/relationships/hyperlink" Target="http://freemarket.kiev.ua/images_message/361/277940/842908/1457340.jpg" TargetMode="External"/><Relationship Id="rId96" Type="http://schemas.openxmlformats.org/officeDocument/2006/relationships/hyperlink" Target="http://woodtoys.com.ua/jpg/volchok_2.jpg" TargetMode="External"/><Relationship Id="rId97" Type="http://schemas.openxmlformats.org/officeDocument/2006/relationships/hyperlink" Target="http://woodtoys.com.ua/jpg/volchok_2.jpg" TargetMode="External"/><Relationship Id="rId98" Type="http://schemas.openxmlformats.org/officeDocument/2006/relationships/hyperlink" Target="http://woodtoys.com.ua/jpg/volchok_2.jpg" TargetMode="External"/><Relationship Id="rId99" Type="http://schemas.openxmlformats.org/officeDocument/2006/relationships/hyperlink" Target="http://woodtoys.com.ua/jpg/volchok_2.jpg" TargetMode="External"/><Relationship Id="rId100" Type="http://schemas.openxmlformats.org/officeDocument/2006/relationships/hyperlink" Target="http://woodtoys.com.ua/jpg/volchok_2.jpg" TargetMode="External"/><Relationship Id="rId101" Type="http://schemas.openxmlformats.org/officeDocument/2006/relationships/hyperlink" Target="http://woodtoys.com.ua/jpg/volchok_2.jpg" TargetMode="External"/><Relationship Id="rId102" Type="http://schemas.openxmlformats.org/officeDocument/2006/relationships/hyperlink" Target="http://igrushka.kz/news/home/igrushka/public_html/wp-content/uploads/2009/08/kubar-volchok.jpg" TargetMode="External"/><Relationship Id="rId103" Type="http://schemas.openxmlformats.org/officeDocument/2006/relationships/hyperlink" Target="http://igrushka.kz/news/home/igrushka/public_html/wp-content/uploads/2009/08/kubar-volchok.jpg" TargetMode="External"/><Relationship Id="rId104" Type="http://schemas.openxmlformats.org/officeDocument/2006/relationships/hyperlink" Target="http://igrushka.kz/news/home/igrushka/public_html/wp-content/uploads/2009/08/kubar-volchok.jpg" TargetMode="External"/><Relationship Id="rId105" Type="http://schemas.openxmlformats.org/officeDocument/2006/relationships/hyperlink" Target="http://igrushka.kz/news/home/igrushka/public_html/wp-content/uploads/2009/08/kubar-volchok.jpg" TargetMode="External"/><Relationship Id="rId106" Type="http://schemas.openxmlformats.org/officeDocument/2006/relationships/hyperlink" Target="http://igrushka.kz/news/home/igrushka/public_html/wp-content/uploads/2009/08/kubar-volchok.jpg" TargetMode="External"/><Relationship Id="rId107" Type="http://schemas.openxmlformats.org/officeDocument/2006/relationships/hyperlink" Target="http://igrushka.kz/news/home/igrushka/public_html/wp-content/uploads/2009/08/kubar-volchok.jpg" TargetMode="External"/><Relationship Id="rId108" Type="http://schemas.openxmlformats.org/officeDocument/2006/relationships/hyperlink" Target="http://igrushka.kz/news/home/igrushka/public_html/wp-content/uploads/2009/08/kubar-volchok.jpg" TargetMode="External"/><Relationship Id="rId109" Type="http://schemas.openxmlformats.org/officeDocument/2006/relationships/hyperlink" Target="http://igrushka.kz/news/home/igrushka/public_html/wp-content/uploads/2009/08/kubar-volchok.jpg" TargetMode="External"/><Relationship Id="rId110" Type="http://schemas.openxmlformats.org/officeDocument/2006/relationships/hyperlink" Target="http://igrushka.kz/news/home/igrushka/public_html/wp-content/uploads/2009/08/kubar-volchok.jpg" TargetMode="External"/><Relationship Id="rId111" Type="http://schemas.openxmlformats.org/officeDocument/2006/relationships/hyperlink" Target="http://igrushka.kz/news/home/igrushka/public_html/wp-content/uploads/2009/08/kubar-volchok.jpg" TargetMode="External"/><Relationship Id="rId112" Type="http://schemas.openxmlformats.org/officeDocument/2006/relationships/hyperlink" Target="http://igrushka.kz/news/home/igrushka/public_html/wp-content/uploads/2009/08/kubar-volchok.jpg" TargetMode="External"/><Relationship Id="rId113" Type="http://schemas.openxmlformats.org/officeDocument/2006/relationships/hyperlink" Target="http://igrushka.kz/news/home/igrushka/public_html/wp-content/uploads/2009/08/kubar-volchok.jpg" TargetMode="External"/><Relationship Id="rId114" Type="http://schemas.openxmlformats.org/officeDocument/2006/relationships/hyperlink" Target="http://igrushka.kz/news/home/igrushka/public_html/wp-content/uploads/2009/08/kubar-volchok.jpg" TargetMode="External"/><Relationship Id="rId115" Type="http://schemas.openxmlformats.org/officeDocument/2006/relationships/hyperlink" Target="http://igrushka.kz/news/home/igrushka/public_html/wp-content/uploads/2009/08/kubar-volchok.jpg" TargetMode="External"/><Relationship Id="rId116" Type="http://schemas.openxmlformats.org/officeDocument/2006/relationships/hyperlink" Target="http://igrushka.kz/news/home/igrushka/public_html/wp-content/uploads/2009/08/kubar-volchok.jpg" TargetMode="External"/><Relationship Id="rId117" Type="http://schemas.openxmlformats.org/officeDocument/2006/relationships/hyperlink" Target="http://igrushka.kz/news/home/igrushka/public_html/wp-content/uploads/2009/08/kubar-volchok.jpg" TargetMode="External"/><Relationship Id="rId118" Type="http://schemas.openxmlformats.org/officeDocument/2006/relationships/hyperlink" Target="http://igrushka.kz/news/home/igrushka/public_html/wp-content/uploads/2009/08/kubar-volchok.jpg" TargetMode="External"/><Relationship Id="rId119" Type="http://schemas.openxmlformats.org/officeDocument/2006/relationships/hyperlink" Target="http://www.sky-art.com/andersen/tales/pedersen/065_02.jpg" TargetMode="External"/><Relationship Id="rId120" Type="http://schemas.openxmlformats.org/officeDocument/2006/relationships/hyperlink" Target="http://www.sky-art.com/andersen/tales/pedersen/065_02.jpg" TargetMode="External"/><Relationship Id="rId121" Type="http://schemas.openxmlformats.org/officeDocument/2006/relationships/hyperlink" Target="http://www.sky-art.com/andersen/tales/pedersen/065_02.jpg" TargetMode="External"/><Relationship Id="rId122" Type="http://schemas.openxmlformats.org/officeDocument/2006/relationships/hyperlink" Target="http://www.sky-art.com/andersen/tales/pedersen/065_02.jpg" TargetMode="External"/><Relationship Id="rId123" Type="http://schemas.openxmlformats.org/officeDocument/2006/relationships/hyperlink" Target="http://www.sky-art.com/andersen/tales/pedersen/065_02.jpg" TargetMode="External"/><Relationship Id="rId124" Type="http://schemas.openxmlformats.org/officeDocument/2006/relationships/hyperlink" Target="http://www.sky-art.com/andersen/tales/pedersen/065_02.jpg" TargetMode="External"/><Relationship Id="rId125" Type="http://schemas.openxmlformats.org/officeDocument/2006/relationships/hyperlink" Target="http://www.sky-art.com/andersen/tales/pedersen/065_02.jpg" TargetMode="External"/><Relationship Id="rId126" Type="http://schemas.openxmlformats.org/officeDocument/2006/relationships/hyperlink" Target="http://www.sky-art.com/andersen/tales/pedersen/065_02.jpg" TargetMode="External"/><Relationship Id="rId127" Type="http://schemas.openxmlformats.org/officeDocument/2006/relationships/hyperlink" Target="http://www.sky-art.com/andersen/tales/pedersen/065_02.jpg" TargetMode="External"/><Relationship Id="rId128" Type="http://schemas.openxmlformats.org/officeDocument/2006/relationships/hyperlink" Target="http://www.sky-art.com/andersen/tales/pedersen/065_02.jpg" TargetMode="External"/><Relationship Id="rId129" Type="http://schemas.openxmlformats.org/officeDocument/2006/relationships/hyperlink" Target="http://www.krupenichka.ru/images/dolls/pelenashka.jpg" TargetMode="External"/><Relationship Id="rId130" Type="http://schemas.openxmlformats.org/officeDocument/2006/relationships/hyperlink" Target="http://www.krupenichka.ru/images/dolls/pelenashka.jpg" TargetMode="External"/><Relationship Id="rId131" Type="http://schemas.openxmlformats.org/officeDocument/2006/relationships/hyperlink" Target="http://www.krupenichka.ru/images/dolls/pelenashka.jpg" TargetMode="External"/><Relationship Id="rId132" Type="http://schemas.openxmlformats.org/officeDocument/2006/relationships/hyperlink" Target="http://www.krupenichka.ru/images/dolls/pelenashka.jpg" TargetMode="External"/><Relationship Id="rId133" Type="http://schemas.openxmlformats.org/officeDocument/2006/relationships/hyperlink" Target="http://www.krupenichka.ru/images/dolls/pelenashka.jpg" TargetMode="External"/><Relationship Id="rId134" Type="http://schemas.openxmlformats.org/officeDocument/2006/relationships/hyperlink" Target="http://www.krupenichka.ru/images/dolls/pelenashka.jpg" TargetMode="External"/><Relationship Id="rId135" Type="http://schemas.openxmlformats.org/officeDocument/2006/relationships/hyperlink" Target="http://www.krupenichka.ru/images/dolls/pelenashka.jpg" TargetMode="External"/><Relationship Id="rId136" Type="http://schemas.openxmlformats.org/officeDocument/2006/relationships/hyperlink" Target="http://www.krupenichka.ru/images/dolls/pelenashka.jpg" TargetMode="External"/><Relationship Id="rId137" Type="http://schemas.openxmlformats.org/officeDocument/2006/relationships/hyperlink" Target="http://www.rustoys.ru/museums/igrushki/3.jpg" TargetMode="External"/><Relationship Id="rId138" Type="http://schemas.openxmlformats.org/officeDocument/2006/relationships/hyperlink" Target="http://www.rustoys.ru/museums/igrushki/3.jpg" TargetMode="External"/><Relationship Id="rId139" Type="http://schemas.openxmlformats.org/officeDocument/2006/relationships/hyperlink" Target="http://www.rustoys.ru/museums/igrushki/3.jpg" TargetMode="External"/><Relationship Id="rId140" Type="http://schemas.openxmlformats.org/officeDocument/2006/relationships/hyperlink" Target="http://www.rustoys.ru/museums/igrushki/3.jpg" TargetMode="External"/><Relationship Id="rId141" Type="http://schemas.openxmlformats.org/officeDocument/2006/relationships/hyperlink" Target="http://www.rustoys.ru/museums/igrushki/3.jpg" TargetMode="External"/><Relationship Id="rId142" Type="http://schemas.openxmlformats.org/officeDocument/2006/relationships/hyperlink" Target="http://www.rustoys.ru/museums/igrushki/3.jpg" TargetMode="External"/><Relationship Id="rId143" Type="http://schemas.openxmlformats.org/officeDocument/2006/relationships/hyperlink" Target="http://www.rustoys.ru/museums/igrushki/3.jpg" TargetMode="External"/><Relationship Id="rId144" Type="http://schemas.openxmlformats.org/officeDocument/2006/relationships/hyperlink" Target="http://www.rustoys.ru/museums/igrushki/3.jpg" TargetMode="External"/><Relationship Id="rId145" Type="http://schemas.openxmlformats.org/officeDocument/2006/relationships/hyperlink" Target="http://www.rukukla.ru/file/0001/0231.jpg" TargetMode="External"/><Relationship Id="rId146" Type="http://schemas.openxmlformats.org/officeDocument/2006/relationships/hyperlink" Target="http://www.rukukla.ru/file/0001/0231.jpg" TargetMode="External"/><Relationship Id="rId147" Type="http://schemas.openxmlformats.org/officeDocument/2006/relationships/hyperlink" Target="http://www.rukukla.ru/file/0001/0231.jpg" TargetMode="External"/><Relationship Id="rId148" Type="http://schemas.openxmlformats.org/officeDocument/2006/relationships/hyperlink" Target="http://www.rukukla.ru/file/0001/0231.jpg" TargetMode="External"/><Relationship Id="rId149" Type="http://schemas.openxmlformats.org/officeDocument/2006/relationships/hyperlink" Target="http://www.rukukla.ru/file/0001/0231.jpg" TargetMode="External"/><Relationship Id="rId150" Type="http://schemas.openxmlformats.org/officeDocument/2006/relationships/hyperlink" Target="http://www.rukukla.ru/file/0001/0231.jpg" TargetMode="External"/><Relationship Id="rId151" Type="http://schemas.openxmlformats.org/officeDocument/2006/relationships/hyperlink" Target="http://rusprom.biz/images/stories/1209/img-DlMfUn.jpg" TargetMode="External"/><Relationship Id="rId152" Type="http://schemas.openxmlformats.org/officeDocument/2006/relationships/hyperlink" Target="http://rusprom.biz/images/stories/1209/img-DlMfUn.jpg" TargetMode="External"/><Relationship Id="rId153" Type="http://schemas.openxmlformats.org/officeDocument/2006/relationships/hyperlink" Target="http://rusprom.biz/images/stories/1209/img-DlMfUn.jpg" TargetMode="External"/><Relationship Id="rId154" Type="http://schemas.openxmlformats.org/officeDocument/2006/relationships/hyperlink" Target="http://rusprom.biz/images/stories/1209/img-DlMfUn.jpg" TargetMode="External"/><Relationship Id="rId155" Type="http://schemas.openxmlformats.org/officeDocument/2006/relationships/hyperlink" Target="http://rusprom.biz/images/stories/1209/img-DlMfUn.jpg" TargetMode="External"/><Relationship Id="rId156" Type="http://schemas.openxmlformats.org/officeDocument/2006/relationships/hyperlink" Target="http://rusprom.biz/images/stories/1209/img-DlMfUn.jpg" TargetMode="External"/><Relationship Id="rId157" Type="http://schemas.openxmlformats.org/officeDocument/2006/relationships/hyperlink" Target="http://rusprom.biz/images/stories/1209/img-DlMfUn.jpg" TargetMode="External"/><Relationship Id="rId158" Type="http://schemas.openxmlformats.org/officeDocument/2006/relationships/hyperlink" Target="http://rusprom.biz/images/stories/1209/img-DlMfUn.jpg" TargetMode="External"/><Relationship Id="rId159" Type="http://schemas.openxmlformats.org/officeDocument/2006/relationships/hyperlink" Target="http://rusprom.biz/images/stories/1209/img-DlMfUn.jpg" TargetMode="External"/><Relationship Id="rId160" Type="http://schemas.openxmlformats.org/officeDocument/2006/relationships/hyperlink" Target="http://rusprom.biz/images/stories/1209/img-zMZsd5.jpg" TargetMode="External"/><Relationship Id="rId161" Type="http://schemas.openxmlformats.org/officeDocument/2006/relationships/hyperlink" Target="http://rusprom.biz/images/stories/1209/img-zMZsd5.jpg" TargetMode="External"/><Relationship Id="rId162" Type="http://schemas.openxmlformats.org/officeDocument/2006/relationships/hyperlink" Target="http://rusprom.biz/images/stories/1209/img-zMZsd5.jpg" TargetMode="External"/><Relationship Id="rId163" Type="http://schemas.openxmlformats.org/officeDocument/2006/relationships/hyperlink" Target="http://rusprom.biz/images/stories/1209/img-zMZsd5.jpg" TargetMode="External"/><Relationship Id="rId164" Type="http://schemas.openxmlformats.org/officeDocument/2006/relationships/hyperlink" Target="http://rusprom.biz/images/stories/1209/img-zMZsd5.jpg" TargetMode="External"/><Relationship Id="rId165" Type="http://schemas.openxmlformats.org/officeDocument/2006/relationships/hyperlink" Target="http://rusprom.biz/images/stories/1209/img-zMZsd5.jpg" TargetMode="External"/><Relationship Id="rId166" Type="http://schemas.openxmlformats.org/officeDocument/2006/relationships/hyperlink" Target="http://rusprom.biz/images/stories/1209/img-zMZsd5.jpg" TargetMode="External"/><Relationship Id="rId167" Type="http://schemas.openxmlformats.org/officeDocument/2006/relationships/hyperlink" Target="http://rusprom.biz/images/stories/1209/img-zMZsd5.jpg" TargetMode="External"/><Relationship Id="rId168" Type="http://schemas.openxmlformats.org/officeDocument/2006/relationships/hyperlink" Target="http://www.mama-best.ru/published/publicdata/TOYSBESTMILKY/attachments/SC/products_pictures/___nevvn.jpg" TargetMode="External"/><Relationship Id="rId169" Type="http://schemas.openxmlformats.org/officeDocument/2006/relationships/hyperlink" Target="http://www.mama-best.ru/published/publicdata/TOYSBESTMILKY/attachments/SC/products_pictures/___nevvn.jpg" TargetMode="External"/><Relationship Id="rId170" Type="http://schemas.openxmlformats.org/officeDocument/2006/relationships/hyperlink" Target="http://www.mama-best.ru/published/publicdata/TOYSBESTMILKY/attachments/SC/products_pictures/___nevvn.jpg" TargetMode="External"/><Relationship Id="rId171" Type="http://schemas.openxmlformats.org/officeDocument/2006/relationships/hyperlink" Target="http://www.mama-best.ru/published/publicdata/TOYSBESTMILKY/attachments/SC/products_pictures/___nevvn.jpg" TargetMode="External"/><Relationship Id="rId172" Type="http://schemas.openxmlformats.org/officeDocument/2006/relationships/hyperlink" Target="http://www.mama-best.ru/published/publicdata/TOYSBESTMILKY/attachments/SC/products_pictures/___nevvn.jpg" TargetMode="External"/><Relationship Id="rId173" Type="http://schemas.openxmlformats.org/officeDocument/2006/relationships/hyperlink" Target="http://www.mama-best.ru/published/publicdata/TOYSBESTMILKY/attachments/SC/products_pictures/___nevvn.jpg" TargetMode="External"/><Relationship Id="rId174" Type="http://schemas.openxmlformats.org/officeDocument/2006/relationships/hyperlink" Target="http://www.mama-best.ru/published/publicdata/TOYSBESTMILKY/attachments/SC/products_pictures/___nevvn.jpg" TargetMode="External"/><Relationship Id="rId175" Type="http://schemas.openxmlformats.org/officeDocument/2006/relationships/hyperlink" Target="http://www.mama-best.ru/published/publicdata/TOYSBESTMILKY/attachments/SC/products_pictures/___nevvn.jpg" TargetMode="External"/><Relationship Id="rId176" Type="http://schemas.openxmlformats.org/officeDocument/2006/relationships/hyperlink" Target="http://www.mama-best.ru/published/publicdata/TOYSBESTMILKY/attachments/SC/products_pictures/___nevvn.jpg" TargetMode="External"/><Relationship Id="rId177" Type="http://schemas.openxmlformats.org/officeDocument/2006/relationships/hyperlink" Target="http://www.mama-best.ru/published/publicdata/TOYSBESTMILKY/attachments/SC/products_pictures/___nevvn.jpg" TargetMode="External"/><Relationship Id="rId178" Type="http://schemas.openxmlformats.org/officeDocument/2006/relationships/hyperlink" Target="http://www.mama-best.ru/published/publicdata/TOYSBESTMILKY/attachments/SC/products_pictures/___nevvn.jpg" TargetMode="External"/><Relationship Id="rId179" Type="http://schemas.openxmlformats.org/officeDocument/2006/relationships/hyperlink" Target="http://www.mama-best.ru/published/publicdata/TOYSBESTMILKY/attachments/SC/products_pictures/___nevvn.jpg" TargetMode="External"/><Relationship Id="rId180" Type="http://schemas.openxmlformats.org/officeDocument/2006/relationships/hyperlink" Target="http://www.mama-best.ru/published/publicdata/TOYSBESTMILKY/attachments/SC/products_pictures/___nevvn.jpg" TargetMode="External"/><Relationship Id="rId181" Type="http://schemas.openxmlformats.org/officeDocument/2006/relationships/hyperlink" Target="http://www.maaam.ru/upload/blogs/487e8163e226ae9c547ee4d94cfde267.gif.jpg" TargetMode="External"/><Relationship Id="rId182" Type="http://schemas.openxmlformats.org/officeDocument/2006/relationships/hyperlink" Target="http://www.maaam.ru/upload/blogs/487e8163e226ae9c547ee4d94cfde267.gif.jpg" TargetMode="External"/><Relationship Id="rId183" Type="http://schemas.openxmlformats.org/officeDocument/2006/relationships/hyperlink" Target="http://www.maaam.ru/upload/blogs/487e8163e226ae9c547ee4d94cfde267.gif.jpg" TargetMode="External"/><Relationship Id="rId184" Type="http://schemas.openxmlformats.org/officeDocument/2006/relationships/hyperlink" Target="http://www.maaam.ru/upload/blogs/487e8163e226ae9c547ee4d94cfde267.gif.jpg" TargetMode="External"/><Relationship Id="rId185" Type="http://schemas.openxmlformats.org/officeDocument/2006/relationships/hyperlink" Target="http://www.maaam.ru/upload/blogs/487e8163e226ae9c547ee4d94cfde267.gif.jpg" TargetMode="External"/><Relationship Id="rId186" Type="http://schemas.openxmlformats.org/officeDocument/2006/relationships/hyperlink" Target="http://www.maaam.ru/upload/blogs/487e8163e226ae9c547ee4d94cfde267.gif.jpg" TargetMode="External"/><Relationship Id="rId187" Type="http://schemas.openxmlformats.org/officeDocument/2006/relationships/hyperlink" Target="http://www.maaam.ru/upload/blogs/487e8163e226ae9c547ee4d94cfde267.gif.jpg" TargetMode="External"/><Relationship Id="rId188" Type="http://schemas.openxmlformats.org/officeDocument/2006/relationships/hyperlink" Target="http://www.maaam.ru/upload/blogs/487e8163e226ae9c547ee4d94cfde267.gif.jpg" TargetMode="External"/><Relationship Id="rId189" Type="http://schemas.openxmlformats.org/officeDocument/2006/relationships/hyperlink" Target="http://www.maaam.ru/upload/blogs/26552ca15d5e4f6820b431b76b1b0187.jpg" TargetMode="External"/><Relationship Id="rId190" Type="http://schemas.openxmlformats.org/officeDocument/2006/relationships/hyperlink" Target="http://www.maaam.ru/upload/blogs/26552ca15d5e4f6820b431b76b1b0187.jpg" TargetMode="External"/><Relationship Id="rId191" Type="http://schemas.openxmlformats.org/officeDocument/2006/relationships/hyperlink" Target="http://www.maaam.ru/upload/blogs/26552ca15d5e4f6820b431b76b1b0187.jpg" TargetMode="External"/><Relationship Id="rId192" Type="http://schemas.openxmlformats.org/officeDocument/2006/relationships/hyperlink" Target="http://www.maaam.ru/upload/blogs/26552ca15d5e4f6820b431b76b1b0187.jpg" TargetMode="External"/><Relationship Id="rId193" Type="http://schemas.openxmlformats.org/officeDocument/2006/relationships/hyperlink" Target="http://www.maaam.ru/upload/blogs/26552ca15d5e4f6820b431b76b1b0187.jpg" TargetMode="External"/><Relationship Id="rId194" Type="http://schemas.openxmlformats.org/officeDocument/2006/relationships/hyperlink" Target="http://www.maaam.ru/upload/blogs/26552ca15d5e4f6820b431b76b1b0187.jpg" TargetMode="External"/><Relationship Id="rId195" Type="http://schemas.openxmlformats.org/officeDocument/2006/relationships/hyperlink" Target="http://www.maaam.ru/upload/blogs/26552ca15d5e4f6820b431b76b1b0187.jpg" TargetMode="External"/><Relationship Id="rId196" Type="http://schemas.openxmlformats.org/officeDocument/2006/relationships/hyperlink" Target="http://img-fotki.yandex.ru/get/19/eagle6731.1/0_12890_cddec2c5_XL" TargetMode="External"/><Relationship Id="rId197" Type="http://schemas.openxmlformats.org/officeDocument/2006/relationships/hyperlink" Target="http://img-fotki.yandex.ru/get/19/eagle6731.1/0_12890_cddec2c5_XL" TargetMode="External"/><Relationship Id="rId198" Type="http://schemas.openxmlformats.org/officeDocument/2006/relationships/hyperlink" Target="http://img-fotki.yandex.ru/get/19/eagle6731.1/0_12890_cddec2c5_XL" TargetMode="External"/><Relationship Id="rId199" Type="http://schemas.openxmlformats.org/officeDocument/2006/relationships/hyperlink" Target="http://img-fotki.yandex.ru/get/19/eagle6731.1/0_12890_cddec2c5_XL" TargetMode="External"/><Relationship Id="rId200" Type="http://schemas.openxmlformats.org/officeDocument/2006/relationships/hyperlink" Target="http://img-fotki.yandex.ru/get/19/eagle6731.1/0_12890_cddec2c5_XL" TargetMode="External"/><Relationship Id="rId201" Type="http://schemas.openxmlformats.org/officeDocument/2006/relationships/hyperlink" Target="http://img-fotki.yandex.ru/get/19/eagle6731.1/0_12890_cddec2c5_XL" TargetMode="External"/><Relationship Id="rId202" Type="http://schemas.openxmlformats.org/officeDocument/2006/relationships/hyperlink" Target="http://protown.ru/pic/museum_games_5.jpg" TargetMode="External"/><Relationship Id="rId203" Type="http://schemas.openxmlformats.org/officeDocument/2006/relationships/hyperlink" Target="http://protown.ru/pic/museum_games_7.jpg" TargetMode="External"/><Relationship Id="rId204" Type="http://schemas.openxmlformats.org/officeDocument/2006/relationships/hyperlink" Target="http://protown.ru/pic/museum_games_7.jpg" TargetMode="External"/><Relationship Id="rId205" Type="http://schemas.openxmlformats.org/officeDocument/2006/relationships/hyperlink" Target="http://protown.ru/pic/museum_games_7.jpg" TargetMode="External"/><Relationship Id="rId206" Type="http://schemas.openxmlformats.org/officeDocument/2006/relationships/hyperlink" Target="http://protown.ru/pic/museum_games_7.jpg" TargetMode="External"/><Relationship Id="rId207" Type="http://schemas.openxmlformats.org/officeDocument/2006/relationships/hyperlink" Target="http://protown.ru/pic/museum_games_7.jpg" TargetMode="External"/><Relationship Id="rId208" Type="http://schemas.openxmlformats.org/officeDocument/2006/relationships/hyperlink" Target="http://protown.ru/pic/museum_games_7.jpg" TargetMode="External"/><Relationship Id="rId209" Type="http://schemas.openxmlformats.org/officeDocument/2006/relationships/hyperlink" Target="http://www.foma.ru/fotos/journal/99/5826_7.jpg" TargetMode="External"/><Relationship Id="rId210" Type="http://schemas.openxmlformats.org/officeDocument/2006/relationships/hyperlink" Target="http://www.foma.ru/fotos/journal/99/5826_7.jpg" TargetMode="External"/><Relationship Id="rId211" Type="http://schemas.openxmlformats.org/officeDocument/2006/relationships/hyperlink" Target="http://www.foma.ru/fotos/journal/99/5826_7.jpg" TargetMode="External"/><Relationship Id="rId212" Type="http://schemas.openxmlformats.org/officeDocument/2006/relationships/hyperlink" Target="http://www.foma.ru/fotos/journal/99/5826_7.jpg" TargetMode="External"/><Relationship Id="rId213" Type="http://schemas.openxmlformats.org/officeDocument/2006/relationships/hyperlink" Target="http://www.foma.ru/fotos/journal/99/5826_7.jpg" TargetMode="External"/><Relationship Id="rId214" Type="http://schemas.openxmlformats.org/officeDocument/2006/relationships/hyperlink" Target="http://www.foma.ru/fotos/journal/99/5826_7.jpg" TargetMode="External"/><Relationship Id="rId215" Type="http://schemas.openxmlformats.org/officeDocument/2006/relationships/hyperlink" Target="http://www.foma.ru/fotos/journal/99/5826_7.jpg" TargetMode="External"/><Relationship Id="rId216" Type="http://schemas.openxmlformats.org/officeDocument/2006/relationships/hyperlink" Target="http://www.foma.ru/fotos/journal/99/5826_7.jpg" TargetMode="External"/><Relationship Id="rId217" Type="http://schemas.openxmlformats.org/officeDocument/2006/relationships/hyperlink" Target="http://artyx.ru/books/item/f00/s00/z0000035/pic/000125.jpg" TargetMode="External"/><Relationship Id="rId218" Type="http://schemas.openxmlformats.org/officeDocument/2006/relationships/hyperlink" Target="http://artyx.ru/books/item/f00/s00/z0000035/pic/000125.jpg" TargetMode="External"/><Relationship Id="rId219" Type="http://schemas.openxmlformats.org/officeDocument/2006/relationships/hyperlink" Target="http://artyx.ru/books/item/f00/s00/z0000035/pic/000125.jpg" TargetMode="External"/><Relationship Id="rId220" Type="http://schemas.openxmlformats.org/officeDocument/2006/relationships/hyperlink" Target="http://artyx.ru/books/item/f00/s00/z0000035/pic/000125.jpg" TargetMode="External"/><Relationship Id="rId221" Type="http://schemas.openxmlformats.org/officeDocument/2006/relationships/hyperlink" Target="http://artyx.ru/books/item/f00/s00/z0000035/pic/000125.jpg" TargetMode="External"/><Relationship Id="rId222" Type="http://schemas.openxmlformats.org/officeDocument/2006/relationships/hyperlink" Target="http://artyx.ru/books/item/f00/s00/z0000035/pic/000125.jpg" TargetMode="External"/><Relationship Id="rId223" Type="http://schemas.openxmlformats.org/officeDocument/2006/relationships/hyperlink" Target="http://artyx.ru/books/item/f00/s00/z0000035/pic/000125.jpg" TargetMode="External"/><Relationship Id="rId224" Type="http://schemas.openxmlformats.org/officeDocument/2006/relationships/hyperlink" Target="http://artyx.ru/books/item/f00/s00/z0000035/pic/000125.jpg" TargetMode="External"/><Relationship Id="rId225" Type="http://schemas.openxmlformats.org/officeDocument/2006/relationships/hyperlink" Target="http://artyx.ru/books/item/f00/s00/z0000035/pic/000125.jpg" TargetMode="External"/><Relationship Id="rId226" Type="http://schemas.openxmlformats.org/officeDocument/2006/relationships/hyperlink" Target="http://artyx.ru/books/item/f00/s00/z0000035/pic/000125.jpg" TargetMode="External"/><Relationship Id="rId227" Type="http://schemas.openxmlformats.org/officeDocument/2006/relationships/hyperlink" Target="http://upload.wikimedia.org/wikipedia/commons/2/2f/Kozuli.jpg" TargetMode="External"/><Relationship Id="rId2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ект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Русские игру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4379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Баланян Огане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3 б класса ГБОУ школы № 4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шкин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ева Елена Викто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ушкин,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лч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вний славянский волчок-кубарь не похож на современную юлу. Это полый цилиндр или шар с дырочкой в боку, который крутится на остр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257200" cy="2241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2667240" cy="223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2059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лы-обере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уси кукол делали для игры и совершения разных обрядов.  Обрядовыми куклами можно было играть детям, а игровые куклы нельзя было использовать при обряде. Куклы-обереги делались без помощи ножниц, иго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тряпичных кукол забавные названия: кувадка, пеленашка, столбушка, зернушка, крестушка. Традиционные народные куклы без лица, ног, в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33920" cy="155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720" y="152280"/>
            <a:ext cx="1908360" cy="25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860480" cy="2590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281952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лен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8320" y="27432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рн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40320" y="27432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аля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104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аляшки родились в России в начале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. Их точили из дерева на станке, расписывали яркими красками и покрывали лаком. Чтобы они «не валились», в основание деревянной фигурки вкладывали кусочек свинца. Ещё неваляшек называли кувырканами и ваньками-встань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204300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1976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рё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ую матрёшку изготовили художник Сергей Малютин и токарь Василий Звёздочкин.  Это восьмиместная куколка - круглолицая крестьянская девушка в сарафане, в цветастом платке на голове и с петухом в руках. Назвали её простым крестьянским именем Матрёна. С 1890 года началось массовое производство этих красави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предположение, что прообразом куклы послужила фигурка бога счастья и долголетия Фукурума, привезённая из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2743200" cy="245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1447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т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05320" y="12952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трушка был популярной русской куклой. Весёлый, остроумный, бесстрашный. О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расный кафтан и бархатные шаровары, на голове красный колпак. Бродячие актёры х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куклой по городам и сёлам и разыгрывали смешные  представления. Петрушка шутя побеждал своих врагов, наказывал зло и восстанавливал справедл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ушки для мальч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02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0384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игрушечное войско появилось поздно,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Это была господская, иноземная, дорогая игрушка. Знаменитые оловянные солд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мастера начали изготавливать деревянных солдатиков после Отечественной войны 1812 года. Мундиры соответствовали настоящ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Деревянные расписные игрушки"/>
          <p:cNvPicPr/>
          <p:nvPr/>
        </p:nvPicPr>
        <p:blipFill>
          <a:blip r:embed="rId1"/>
          <a:stretch/>
        </p:blipFill>
        <p:spPr>
          <a:xfrm>
            <a:off x="4114800" y="1371600"/>
            <a:ext cx="17622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200400" cy="2612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1844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кусные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40381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кусные игрушки делались на Руси? Козули. Это общее название для фигурок из ржаного теста. Козёл у древних славян был символом плодородия. «Коровки» и «козульки» пекли к Новому году. «Баранов» пекли в Вербное воскресенье. Весной делали птичек из теста. Самыми вкусными съедобными игрушками стали пря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File:Kozuli.jpg"/>
          <p:cNvPicPr/>
          <p:nvPr/>
        </p:nvPicPr>
        <p:blipFill>
          <a:blip r:embed="rId1"/>
          <a:stretch/>
        </p:blipFill>
        <p:spPr>
          <a:xfrm>
            <a:off x="838080" y="1447920"/>
            <a:ext cx="1917720" cy="2057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49000" y="358128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з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Пряничные доски"/>
          <p:cNvPicPr/>
          <p:nvPr/>
        </p:nvPicPr>
        <p:blipFill>
          <a:blip r:embed="rId2"/>
          <a:stretch/>
        </p:blipFill>
        <p:spPr>
          <a:xfrm>
            <a:off x="3352680" y="1447920"/>
            <a:ext cx="2514600" cy="203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07840" y="3657600"/>
            <a:ext cx="2010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ничная до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146340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24480" y="36576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льский п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е игрушки тесно связаны с религией древних славян – язы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й древней игрушкой был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Символ России – матрёшка имеет японские кор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  Русские игрушки делали из разных материалов: травы, соломы, бересты, дерева, мочевых пузырей животных, глины, ткани, шерсти, бумаги, т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925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грайте на здоровье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Лаврова С. Русские игрушки, игры,  забавы. – М.: Белый город, 2007.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http://moi-zvuki.ru/images/guselnikov/01-svarog.jpg Сварог); http://sva-slava.ru/kartini/guselnikov/jarilo.jpg - Ярило; http://sva-slava.ru/kartini/guselnikov/makosh.jpg - Мокош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dou-489.ru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igrushki-mir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img-igrushki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/pogremuha-04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шаркунки из берес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http://img1.liveinternet.ru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attach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/c/4/83/674/83674047_large_2825_00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погремуш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canariaspb.narod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/photo5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еревянная расписная свистуль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www.tvorite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"/>
              </a:rPr>
              <a:t>upload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"/>
              </a:rPr>
              <a:t>post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"/>
              </a:rPr>
              <a:t>/2011-02/1297160350_small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глиняная свистулька - петуш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5"/>
              </a:rPr>
              <a:t>p-shkola.by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7"/>
              </a:rPr>
              <a:t>is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8"/>
              </a:rPr>
              <a:t>/s000120_77669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Лошадка. Филимоновская игрушка-свистуль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1"/>
              </a:rPr>
              <a:t>www.artpoisk.info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3"/>
              </a:rPr>
              <a:t>fil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5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6"/>
              </a:rPr>
              <a:t>/1114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А.В. Моравов. Будущий наезд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7"/>
              </a:rPr>
              <a:t>http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8"/>
              </a:rPr>
              <a:t>myslo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3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0"/>
              </a:rPr>
              <a:t>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2"/>
              </a:rPr>
              <a:t>oldnew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4"/>
              </a:rPr>
              <a:t>news_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5"/>
              </a:rPr>
              <a:t>/%E8%E3%F000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 Тройка. Филимоновская игр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6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7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8"/>
              </a:rPr>
              <a:t>vedkar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4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0"/>
              </a:rPr>
              <a:t>dat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2"/>
              </a:rPr>
              <a:t>Pictur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3"/>
              </a:rPr>
              <a:t>/5280/6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грушка. Конь. 1920-е годы. Автор Иван Васильевич Филин. Д. Толстиково, Петрозаводский уезд, Олонецкая губерния. Национальный музей Республики Карел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4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5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6"/>
              </a:rPr>
              <a:t>artyx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8"/>
              </a:rPr>
              <a:t>book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5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0"/>
              </a:rPr>
              <a:t>item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1"/>
              </a:rPr>
              <a:t>/f00/s00/z0000035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2"/>
              </a:rPr>
              <a:t>pic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3"/>
              </a:rPr>
              <a:t>/00012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онь в упряжи. Кукла. XIX в. Владимирская губер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4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5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6"/>
              </a:rPr>
              <a:t>bobrolet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8"/>
              </a:rPr>
              <a:t>wp-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6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0"/>
              </a:rPr>
              <a:t>gallery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2"/>
              </a:rPr>
              <a:t>dymkovskay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3"/>
              </a:rPr>
              <a:t>/dymkovskaya-toy13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ндюк. Дымковская игр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4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5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6"/>
              </a:rPr>
              <a:t>stranamasterov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8"/>
              </a:rPr>
              <a:t>fil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79"/>
              </a:rPr>
              <a:t>/u15556/1321385064_4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птица из ще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0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1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2"/>
              </a:rPr>
              <a:t>rusmudr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4"/>
              </a:rPr>
              <a:t>wp-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6"/>
              </a:rPr>
              <a:t>upload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7"/>
              </a:rPr>
              <a:t>/2012/08/hohloma_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фотография хохломских изд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8"/>
              </a:rPr>
              <a:t>http://www.kukla-dusha.net/sc-pic/i134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яч из Музея игрушки Сергиев Поса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89"/>
              </a:rPr>
              <a:t>http://www.paraskeva.ru/content/upload/article_image_qRORtl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яч-шитка. Диаметр 6 см. 1995 г. д. Мартынове, Мышкинский р-н, Ярославская обл. Г. Дайн, реконструкци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7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0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1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2"/>
              </a:rPr>
              <a:t>freemarket.kiev.u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4"/>
              </a:rPr>
              <a:t>images_messag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5"/>
              </a:rPr>
              <a:t>/361/277940/842908/1457340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ячики-погремуш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6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7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8"/>
              </a:rPr>
              <a:t>woodtoys.com.u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9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0"/>
              </a:rPr>
              <a:t>jpg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1"/>
              </a:rPr>
              <a:t>/volchok_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еревянный волч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2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3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4"/>
              </a:rPr>
              <a:t>igrushka.kz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6"/>
              </a:rPr>
              <a:t>new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7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8"/>
              </a:rPr>
              <a:t>hom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0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0"/>
              </a:rPr>
              <a:t>igrushk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2"/>
              </a:rPr>
              <a:t>public_html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4"/>
              </a:rPr>
              <a:t>wp-conten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6"/>
              </a:rPr>
              <a:t>upload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7"/>
              </a:rPr>
              <a:t>/2009/08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8"/>
              </a:rPr>
              <a:t>kubar-volchok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бар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19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0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1"/>
              </a:rPr>
              <a:t>www.sky-art.com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3"/>
              </a:rPr>
              <a:t>andersen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5"/>
              </a:rPr>
              <a:t>tal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7"/>
              </a:rPr>
              <a:t>pedersen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8"/>
              </a:rPr>
              <a:t>/065_02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гра в кубар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29"/>
              </a:rPr>
              <a:t>http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0"/>
              </a:rPr>
              <a:t>www.krupenichka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2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4"/>
              </a:rPr>
              <a:t>doll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6"/>
              </a:rPr>
              <a:t>pelenashka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кла-пелена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7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8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39"/>
              </a:rPr>
              <a:t>www.rustoys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0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1"/>
              </a:rPr>
              <a:t>museum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3"/>
              </a:rPr>
              <a:t>igrushki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4"/>
              </a:rPr>
              <a:t>/3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кла-зерн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5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6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7"/>
              </a:rPr>
              <a:t>www.rukukla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8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49"/>
              </a:rPr>
              <a:t>file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0"/>
              </a:rPr>
              <a:t>/0001/0231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увад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4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1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2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3"/>
              </a:rPr>
              <a:t>rusprom.biz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5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7"/>
              </a:rPr>
              <a:t>stori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8"/>
              </a:rPr>
              <a:t>/1209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59"/>
              </a:rPr>
              <a:t>img-DlMfUn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неваляшка «Матрён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0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1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2"/>
              </a:rPr>
              <a:t>rusprom.biz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4"/>
              </a:rPr>
              <a:t>imag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5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6"/>
              </a:rPr>
              <a:t>stori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7"/>
              </a:rPr>
              <a:t>/1209/img-zMZsd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еревянная неваляшка «Скоморо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6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8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69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0"/>
              </a:rPr>
              <a:t>www.mama-best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2"/>
              </a:rPr>
              <a:t>published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4"/>
              </a:rPr>
              <a:t>publicdata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5"/>
              </a:rPr>
              <a:t>/TOYSBESTMILKY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6"/>
              </a:rPr>
              <a:t>attachment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7"/>
              </a:rPr>
              <a:t>/SC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8"/>
              </a:rPr>
              <a:t>products_picture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7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0"/>
              </a:rPr>
              <a:t>___nevvn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неваляшка «Ванька-встань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1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2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3"/>
              </a:rPr>
              <a:t>www.maaam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5"/>
              </a:rPr>
              <a:t>upload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7"/>
              </a:rPr>
              <a:t>blog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8"/>
              </a:rPr>
              <a:t>/487e8163e226ae9c547ee4d94cfde267.gif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матрё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89"/>
              </a:rPr>
              <a:t>http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0"/>
              </a:rPr>
              <a:t>www.maaam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1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2"/>
              </a:rPr>
              <a:t>upload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3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4"/>
              </a:rPr>
              <a:t>blog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5"/>
              </a:rPr>
              <a:t>/26552ca15d5e4f6820b431b76b1b018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«Девочка с петухом» (С. В. Малютин, В. П. Звездочкин, конец 19-го века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6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7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8"/>
              </a:rPr>
              <a:t>img-fotki.yandex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199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0"/>
              </a:rPr>
              <a:t>get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1"/>
              </a:rPr>
              <a:t>/19/eagle6731.1/0_12890_cddec2c5_X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петру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0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2"/>
              </a:rPr>
              <a:t>http://protown.ru/pic/museum_games_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Дама. Гусар. Сергиев Посад, Московская губерния. 1-я половина XIX в. Дерево, резьба, роспись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1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3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4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5"/>
              </a:rPr>
              <a:t>protown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6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7"/>
              </a:rPr>
              <a:t>pic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8"/>
              </a:rPr>
              <a:t>/museum_games_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Игрушка "Развод". Солдатики закреплены на деревянных подвижных планках. Начало XX век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2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09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0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1"/>
              </a:rPr>
              <a:t>www.foma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3"/>
              </a:rPr>
              <a:t>foto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4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5"/>
              </a:rPr>
              <a:t>journal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6"/>
              </a:rPr>
              <a:t>/99/5826_7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 Солдатики. Россия, начало ХХ века.Мастика, дерево, роспись. Высота 14 см.Пушка на лафете. Германия, начало ХХ века. Жесть, штамповка, окраска. 6х14х6 с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3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7"/>
              </a:rPr>
              <a:t>http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8"/>
              </a:rPr>
              <a:t>:/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19"/>
              </a:rPr>
              <a:t>artyx.ru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0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1"/>
              </a:rPr>
              <a:t>books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2"/>
              </a:rPr>
              <a:t>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3"/>
              </a:rPr>
              <a:t>item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4"/>
              </a:rPr>
              <a:t>/f00/s00/z0000035/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5"/>
              </a:rPr>
              <a:t>pic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6"/>
              </a:rPr>
              <a:t>/000125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- Солдатики. Втор. пол. XIX в. Троице-Сергиев Посад, Московская губ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4. </a:t>
            </a:r>
            <a:r>
              <a:rPr b="0" lang="ru-RU" sz="1000" spc="-1" strike="noStrike" u="sng">
                <a:solidFill>
                  <a:srgbClr val="3333cc"/>
                </a:solidFill>
                <a:uFillTx/>
                <a:latin typeface="Arial"/>
                <a:hlinkClick r:id="rId227"/>
              </a:rPr>
              <a:t>http://upload.wikimedia.org/wikipedia/commons/2/2f/Kozuli.jpg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- Козу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5. http://krovhouse.ru/articles/art6/tmp1694-5.jpg  - пряничная до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6. http://www.pryanik.info/u_images/pryanik/pryanik_26.png - петушок - тульский пряни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ез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лагаю, что русские игрушки связаны с народными промы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знать историю русских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зучить литературу и ресурсы Интернет о русских игруш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ыяснить, какая русская игрушка была самой дре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одготовить презентацию в сотрудничестве с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авное прошлое русской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41144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ным-давно, много столетий назад наши предки - славяне были язычниками. Люди поклонялись великим богам: Сварогу, Ярило, Мокошь и другим. В домах появлялись маленькие самодельные боги из глины, камня,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ули века. На русскую землю пришла новая религия – христианство. А старые боги досталис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204156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032200" cy="281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Андрей Гусельников. Сварог"/>
          <p:cNvPicPr/>
          <p:nvPr/>
        </p:nvPicPr>
        <p:blipFill>
          <a:blip r:embed="rId3"/>
          <a:stretch/>
        </p:blipFill>
        <p:spPr>
          <a:xfrm>
            <a:off x="762120" y="1066680"/>
            <a:ext cx="198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грем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114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е погремушки гремели над колыбельками русских малышей не для забавы. Они сражались со злыми духами. Древние русские погремушки делали без рукоятки, просто шарик из глины с горошинами или камешками внутри. Материалом также служили мочевые пузыри животных, береста, дере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81024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58128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стул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38862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стульки – родные сестрички погремушек, ими тоже отгоняли нечистую с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иняные свистульки приходятся дочками простым глиняным горшкам, так как гончары мастерили фигурки со свистком из остатков г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048120" cy="259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22861" t="6403" r="28001" b="-794"/>
          <a:stretch/>
        </p:blipFill>
        <p:spPr>
          <a:xfrm>
            <a:off x="533520" y="1219320"/>
            <a:ext cx="1887480" cy="259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77120" y="1219320"/>
            <a:ext cx="2089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и у наших предков считались главными животными. На них воевали, ездили в дальние края, возили грузы, а главное – на них пахали. Без коня не было хл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 верили, что боги ездят по небу в волшебных колесн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41316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579132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 Моравов. Будущий нае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048120"/>
            <a:ext cx="9144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ие мальчики играли разными конями. Это были деревянные лошадки на колёсиках, на палочке, на качалке. Отцы привозили с ярмарок глиняных свистулек, кентавров, тройки. По всей Руси вязали лошадок из соломы. В виде коней из дерева делали санки, каталки, колоды, скамейки. Позже игрушки-лошадки делали из папье-м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8120" y="762120"/>
            <a:ext cx="2895480" cy="217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5880" y="7621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281952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удесные птицы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и предки-славяне верили, что мир появился благодаря птице из яйца. Птицы с распростёртыми крыльями – это круглое солнце с лучами. Уточка символизирует воду, очищающую от злых духов. Петух умеет отгонять своим криком нечистую силу. Вот и делали пичужек для детей из глины, дерева, соломы и т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19320" cy="2667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655720" cy="2667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72200" y="1066680"/>
            <a:ext cx="197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96fb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ая древняя иг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352320"/>
            <a:ext cx="899172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удивляйтесь, это обычный мяч. Слово «мяч» родственно словам «мягкий», «мякиш». Традиционные русские мячи шили из тряпок. Готовый мяч набивали шерстью, поэтому он был прыгуч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скопках в Новгороде, Пскове, Москве нашли мячи из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стьянские дети на Руси развлекались мячами из бересты или бычьих пузы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67240" cy="202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152880" cy="2028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09880" y="1143000"/>
            <a:ext cx="18702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9T12:53:58Z</dcterms:created>
  <dc:creator>Сергей</dc:creator>
  <dc:description/>
  <dc:language>en-US</dc:language>
  <cp:lastModifiedBy>Сергей</cp:lastModifiedBy>
  <dcterms:modified xsi:type="dcterms:W3CDTF">2014-01-04T11:54:3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