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744-A6F9-4AFA-A5EA-37860311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F664-66E8-410D-843C-3B141F5A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740E-627B-4A27-91D0-CDDAA4054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90C3-498E-46AD-B9CB-C839767A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2D94-D707-4FCA-AD39-424351E13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9DCD-6C56-45DF-A3C7-823E898E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CC9E-9295-4880-8179-E30F0992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C0D7-6CD9-4733-B41F-CBBD9D44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A86C-D4BE-445E-998F-BB63ED03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2D4F-06C2-47C2-9050-F9C77FCCB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E8E3-B8FD-4BE6-97C0-26B19D33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2A25-EEA9-4A37-BCE9-FBF9E633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5742-D935-4226-A655-2F8F8E8E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D98D-3F3F-46CF-B4DE-D6610772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1315-BBD4-4498-A052-AF60F16E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2654-FD67-48F4-880B-FBD11F06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EF1E-4E20-4950-9AB1-30DC921D5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6B99-337C-4383-83C2-7D830037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841B-9F0F-46F0-9F42-F57894FC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FE55-B852-4213-A096-1CAF273A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A174-CACB-4BFF-9BEA-3B92D3EE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1208-1FDD-42A4-A86D-831CA83C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32F-F691-46B8-BDED-56AD0CF8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4B30-6B38-4FFA-AED2-CC427DE3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C5DF98-3825-4963-99B2-AB71A768BE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C9F530-C080-400A-BEDD-B49FDC22694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315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Сказки и старинные истории-загадки.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56400" y="429480"/>
            <a:ext cx="1009728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738000" y="1432800"/>
            <a:ext cx="10895400" cy="39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2b2b2b"/>
                </a:solidFill>
                <a:latin typeface="inherit"/>
              </a:rPr>
              <a:t> </a:t>
            </a:r>
            <a:r>
              <a:rPr b="0" lang="ru-RU" sz="3600" spc="-1" strike="noStrike">
                <a:solidFill>
                  <a:srgbClr val="ff0000"/>
                </a:solidFill>
                <a:latin typeface="inherit"/>
              </a:rPr>
              <a:t>Два паст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Verdana"/>
              </a:rPr>
              <a:t>Сошлись два пастуха, Иван и Петр. Иван и говорит Петру: «Отдай-ка ты мне одну овцу, тогда у меня будет овец ровно вдвое больше, чем у тебя!» А</a:t>
            </a:r>
            <a:r>
              <a:rPr b="0" lang="ru-RU" sz="6600" spc="-1" strike="noStrike">
                <a:solidFill>
                  <a:srgbClr val="2b2b2b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2b2b2b"/>
                </a:solidFill>
                <a:latin typeface="Verdana"/>
              </a:rPr>
              <a:t>Петр ему отвечает: «Нет лучше ты мне отдай одну овцу, тогда у нас будет овец поровну!» Сколько же было у каждого ов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42280" y="363600"/>
            <a:ext cx="117766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доумение крестьян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е крестьянки продавали на базаре яблоки. Одна продавала за 1 копейку 2 яблока, а другая за 2 копейки 3 яблока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 каждой в корзине было по 30 яблок, так что первая рассчитывала выручить за свои яблоки 15 копеек, а вторая 20 копеек. Обе вместе они должны были выручить 35 копеек. Сообразив это, крестьянки, чтобы не ссориться и не перебивать друг у друга покупателей, решили сложить свои яблоки вместе и продавать их сообща, причём они рассуждали так: «Если я продаю пару яблок за копейку, а ты — три яблока за 2 копейки, то, чтобы выручить свои деньги, надо нам, значит, продавать пять яблок за 3 копейки!»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азано — сделано. Сложили торговки свои яблоки вместе (получилось всего 60 яблок) и начали продавать по 3 копейки за 5 яблок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спродали и удивились: оказалось, что за свои яблоки они выручили 36 копеек, то есть на копейку больше, чему думали выручить! Крестьянки задумались: откуда взялась «лишняя» копейка и кому из них следует её получить? И как, вообще, им поделить теперь все вырученные деньги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 в самом деле, как это вышло? Пока эти две крестьянки разбирались в своей неожиданной прибыли, две другие, прослышав об этом, тоже решили заработать лишнюю копейку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 каждой из них было тоже по 30 яблок, но продавали они так: первая давала за одну копейку пару яблок, а вторая за копейку давала 3 яблока. Первая после продажи должна была, значит, выручить 15 копеек, а вторая — 10 копеек; обе вместе выручили бы, следовательно, 25 копеек. Они и решили продавать свои яблоки сообща, рассуждая совсем так, как и те две первые торговки: если я продаю за одну копейку пару яблок, а ты за копейку продаёшь 3 яблока, то, значит, чтобы выручить свои деньги, нам нужно каждые 5 яблок продавать за 2 копейки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ложили они яблоки вместе, распродали их по 2 копейки за каждые 5 штук, и вдруг... оказалось, что они выручили всего 24 копейки, значит, недовыручили целую копейку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умались и эти крестьянки: как же это могло случиться и кому из них придётся этой копейкой поплатиться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484920"/>
            <a:ext cx="10515240" cy="56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шен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умение крестьянок разрешается очень быстро, если сообразить, что, сложив свои яблоки вместе и начав их продавать сообща, они, сами того не замечая, продавали их уже по другой цене, чем раньш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зьмём, для примера, двух последних крестьянок и рассмотрим, что они, в сущности, сделал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ка первая и вторая думали продавать свои яблоки отдельно, цена одного яблока у первой была полкопейки, а у второй — треть копейки. Когда же они сложились и начали продавать каждые пять яблок по 2 копейки, то цена каждого яблока стала уже 2/5 копей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начит, первая крестьянка все свои яблоки продала не по полкопейки за штуку, а по 2/5 копейки и на каждом яблоке теряла по 1/10 копейки (1/2 − 2/5 = 1/10), а на тридцати яблоках она потеряла 3 копей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торая же крестьянка, наоборот, вошедши в компанию, выигрывала на каждом яблоке по 1/15 копейки (2/5 − 1/3 = 1/15), а на всех тридцати яблоках выиграла, значит, 2 копей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вая потеряла 3 копейки, а вторая выиграла только 2 копейки. В общем, всё-таки копейка потерян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утём подобных же рассуждений легко узнать, почему у первых двух крестьянок оказалась «лишняя» копей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8760" y="111600"/>
            <a:ext cx="10515240" cy="60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</a:rPr>
              <a:t>Удивительные часы (китайская головоломк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9160" y="716040"/>
            <a:ext cx="11853720" cy="60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ак-то в один дом срочно попросили зайти часовщика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Я болен, — ответил часовщик, — и не смогу пойти. Но если починка несложная, я пришлю вам своего ученика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Оказалось, что нужно было поломанные стрелки заменить другими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 этим мой ученик справится, — сказал мастер. — Он проверит механизм ваших часов и подберёт к ним новые стрелки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ченик отнёсся к работе очень старательно, и когда он закончил осмотр часов, уже стемнело. Считая работу завершённой, он торопливо надел подобранные стрелки и поставил их по своим часам: большую стрелку на цифру 12, а маленькую — на цифру 6 (было ровно 6 часов вечера). Но вскоре после того, как ученик вернулся в мастерскую, чтобы сообщить мастеру, что работа выполнена, зазвонил телефон. Мальчик взял трубку и услышал сердитый голос заказчи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ы плохо исправили часы, они неправильно показывают время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ченик мастера, удивлённый этим сообщением, поспешил к заказчику. Когда он пришёл, отремонтированные им часы показывали начало девятого. Ученик вынул свои карманные часы и протянул их разгневанному хозяину дом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верьте, пожалуйста. Ваши часы ни на секунду не отстают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Ошеломлённый заказчик вынужден был согласиться, что его часы в данный момент действительно показывают правильное время. Но на другой день утром заказчик опять позвонил и сказал, что стрелки часов, очевидно, сошли с ума и разгуливают по циферблату, как им вздумается. Ученик мастера побежал к заказчику. Часы показывали начало восьмого. Сверив время по своим часам, он не на шутку рассердился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ы смеётесь надо мной! Ваши часы показывают точное время!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Часы действительно показывали точное время. Возмущённый ученик мастера хотел тут же уйти, но хозяин удержал его. А через несколько минут они нашли причину столь невероятных происшествий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е догадаетесь ли и вы, в чём тут дело?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330480"/>
            <a:ext cx="10515240" cy="58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верив механизм часов, мальчик подобрал подходящие стрелки, но неправильно надел их: минутную стрелку — на ось часовой, а часовую — на ось минутной. В результате минутная стрелка стала вращаться на циферблате со скоростью часовой стрелки, то есть очень медленно, а часовая стрелка стала вращаться, как минутная — быстро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 первый раз мальчик вернулся к заказчику примерно через 2 часа 10 минут после того, как поставил часы на 6 часов вечера. Большая стрелка, двигаясь со скоростью часовой, передвинулась от 12 до 2. Маленькая же стрелка, будучи минутной, сделала два полных круга и прошла ещё 10 минут. Таким образом, часы показывали в этот момент точное вре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трудно подсчитать, что по вторичному вызову, на утро следующего дня, мальчик пришёл через 13 часов и 5 минут после того, как поставил вначале стрелки на шесть часов. За это время большая стрелка, будучи часовой, прошла тринадцать часов и таким образом достигла цифры 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аленькая же стрелка, будучи минутной, сделала за это время тринадцать полных оборотов и прошла ещё пять минут, достигнув, таким образом, цифры 7. Поэтому и во втором случае совпадения часы показывали точное вре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Конверт с деньга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47520"/>
            <a:ext cx="1051524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па позвонил дочке, попросил её купить кое-что из вещей, нужных ему к отъезду, и сказал, что деньги лежат в конверте на письменном столе. Девочка, мельком взглянув на конверт, увидела написанное на нём число 98, вынула деньги и, не сосчитав их, положила в сумку, а конверт смяла и выброси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 магазине она купила на 90 рублей вещей, а когда хотела расплатиться, то оказалось, что у неё не только не остаётся восьми рублей, как она предполагала, но даже не хватает четырёх рубле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 она рассказала об этом папе и спросила, не ошибся ли он, когда считал деньги. Отец ответил, что он сосчитал деньги правильно, а ошиблась она сама. В чём была ошибка девочки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95160" y="264240"/>
            <a:ext cx="10515240" cy="56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шени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вочка прочла письмо в перевёрнутом виде: 98 вместо 86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3200"/>
            <a:ext cx="1051524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5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Крестьяне и картофель</a:t>
            </a:r>
            <a:br>
              <a:rPr sz="2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9320" y="734760"/>
            <a:ext cx="8945280" cy="58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2b2b2b"/>
                </a:solidFill>
                <a:latin typeface="Verdana"/>
              </a:rPr>
              <a:t>    </a:t>
            </a: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Шли три крестьянина и зашли на постоялый двор отдохнуть и пообедать. Заказали хозяйке сварить картофель, а сами заснули. Хозяйка сварила картофель, но не стала будить постояльцев, а поставила миску с едою на стол и ушла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 — Проснулся один крестьянин, увидел картофель и, чтоб не будить товарищей, сосчитал картофель, съел свою долю и снова заснул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-Вскоре проснулся другой; ему невдомек было, что один из товарищей уже съел свою долю, поэтому он сосчитал весь оставшийся картофель, съел третью часть и опять заснул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-После чего проснулся третий; полагая, что он проснулся первым, он сосчитал оставшийся в чашке картофель и съел третью часть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Тут проснулись его товарищи и увидели, что в чашке осталось 8 картофелин. Тогда только объяснилось дел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Сосчитайте, сколько картофелин подала на стол хозяйка, сколько съел уже и сколько должен еще съесть каждый, чтобы всем досталось поровн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297360"/>
            <a:ext cx="10515240" cy="58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вет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Хозяйка подала на стол 27 картофелин, и на долю каждого крестьянина приходилось по 9 картофелин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76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30T09:41:22Z</dcterms:created>
  <dc:creator>Admin</dc:creator>
  <dc:description/>
  <dc:language>en-US</dc:language>
  <cp:lastModifiedBy>Admin</cp:lastModifiedBy>
  <dcterms:modified xsi:type="dcterms:W3CDTF">2015-06-30T10:14:07Z</dcterms:modified>
  <cp:revision>5</cp:revision>
  <dc:subject/>
  <dc:title>Сказки и старинные истории-загад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