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A053-6BB7-440F-9708-4956B700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F1C-47E8-4C04-A88C-E06BA89A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71E-4C59-45F9-9B7B-18453764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83ED-FBAF-40E0-8655-FB7388AC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3A31E-51F7-47DA-8C44-9CAB215C2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4C40-D3E6-4937-8EB5-334B3967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749D0-61B9-45D1-ACF8-C43CCF1F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7EB4-6713-4C25-B776-4B143DA1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4766-CDF6-4C4C-A650-09413336D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B5E8-BF47-4283-9E33-674DC899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D4A1-9258-49AC-B519-2952D46E2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9BFB-707F-4803-B9FF-881C5B0C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E714-77C1-4C67-BA44-4D66049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89B-2D34-44EF-A2DE-05E12DCE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8EA6-E018-4587-A57B-38B481FF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9FA1-DCC4-44A5-A225-B88EDC66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DAD0-A0F2-4CA2-9D00-848EE96B7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994C-528C-419F-8AEF-BE78461F2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121E-7BE8-4B7E-8A19-F7D75D093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23BE-D300-41F3-80C5-64D1D998A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262D-AB18-4253-AD69-D0A400C9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DD1C-95B4-43CF-98EC-57B418E8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9BFC-7296-4D77-89D4-C264CBB0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00B-A11F-4C11-8485-B9CCF548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D1E614-610A-4ED1-A808-F4B8B51C231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C1841E-6818-4BFC-A016-FE45FD02277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315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Сказки и старинные истории-загадки.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256400" y="429480"/>
            <a:ext cx="10097280" cy="574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"/>
          <p:cNvSpPr/>
          <p:nvPr/>
        </p:nvSpPr>
        <p:spPr>
          <a:xfrm>
            <a:off x="738000" y="1432800"/>
            <a:ext cx="10895400" cy="39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2b2b2b"/>
                </a:solidFill>
                <a:latin typeface="inherit"/>
              </a:rPr>
              <a:t> </a:t>
            </a:r>
            <a:r>
              <a:rPr b="0" lang="ru-RU" sz="3600" spc="-1" strike="noStrike">
                <a:solidFill>
                  <a:srgbClr val="ff0000"/>
                </a:solidFill>
                <a:latin typeface="inherit"/>
              </a:rPr>
              <a:t>Два паст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3200" spc="-1" strike="noStrike">
                <a:solidFill>
                  <a:srgbClr val="2b2b2b"/>
                </a:solidFill>
                <a:latin typeface="Verdana"/>
              </a:rPr>
              <a:t>Сошлись два пастуха, Иван и Петр. Иван и говорит Петру: «Отдай-ка ты мне одну овцу, тогда у меня будет овец ровно вдвое больше, чем у тебя!» А</a:t>
            </a:r>
            <a:r>
              <a:rPr b="0" lang="ru-RU" sz="6600" spc="-1" strike="noStrike">
                <a:solidFill>
                  <a:srgbClr val="2b2b2b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2b2b2b"/>
                </a:solidFill>
                <a:latin typeface="Verdana"/>
              </a:rPr>
              <a:t>Петр ему отвечает: «Нет лучше ты мне отдай одну овцу, тогда у нас будет овец поровну!» Сколько же было у каждого овец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42280" y="363600"/>
            <a:ext cx="117766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доумение крестьян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ве крестьянки продавали на базаре яблоки. Одна продавала за 1 копейку 2 яблока, а другая за 2 копейки 3 яблока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 каждой в корзине было по 30 яблок, так что первая рассчитывала выручить за свои яблоки 15 копеек, а вторая 20 копеек. Обе вместе они должны были выручить 35 копеек. Сообразив это, крестьянки, чтобы не ссориться и не перебивать друг у друга покупателей, решили сложить свои яблоки вместе и продавать их сообща, причём они рассуждали так: «Если я продаю пару яблок за копейку, а ты — три яблока за 2 копейки, то, чтобы выручить свои деньги, надо нам, значит, продавать пять яблок за 3 копейки!»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казано — сделано. Сложили торговки свои яблоки вместе (получилось всего 60 яблок) и начали продавать по 3 копейки за 5 яблок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продали и удивились: оказалось, что за свои яблоки они выручили 36 копеек, то есть на копейку больше, чему думали выручить! Крестьянки задумались: откуда взялась «лишняя» копейка и кому из них следует её получить? И как, вообще, им поделить теперь все вырученные деньги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И в самом деле, как это вышло? Пока эти две крестьянки разбирались в своей неожиданной прибыли, две другие, прослышав об этом, тоже решили заработать лишнюю копейку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 каждой из них было тоже по 30 яблок, но продавали они так: первая давала за одну копейку пару яблок, а вторая за копейку давала 3 яблока. Первая после продажи должна была, значит, выручить 15 копеек, а вторая — 10 копеек; обе вместе выручили бы, следовательно, 25 копеек. Они и решили продавать свои яблоки сообща, рассуждая совсем так, как и те две первые торговки: если я продаю за одну копейку пару яблок, а ты за копейку продаёшь 3 яблока, то, значит, чтобы выручить свои деньги, нам нужно каждые 5 яблок продавать за 2 копейки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ложили они яблоки вместе, распродали их по 2 копейки за каждые 5 штук, и вдруг... оказалось, что они выручили всего 24 копейки, значит, недовыручили целую копейку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умались и эти крестьянки: как же это могло случиться и кому из них придётся этой копейкой поплатиться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838080" y="484920"/>
            <a:ext cx="10515240" cy="56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шени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доумение крестьянок разрешается очень быстро, если сообразить, что, сложив свои яблоки вместе и начав их продавать сообща, они, сами того не замечая, продавали их уже по другой цене, чем раньше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озьмём, для примера, двух последних крестьянок и рассмотрим, что они, в сущности, сделал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ка первая и вторая думали продавать свои яблоки отдельно, цена одного яблока у первой была полкопейки, а у второй — треть копейки. Когда же они сложились и начали продавать каждые пять яблок по 2 копейки, то цена каждого яблока стала уже 2/5 копей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Значит, первая крестьянка все свои яблоки продала не по полкопейки за штуку, а по 2/5 копейки и на каждом яблоке теряла по 1/10 копейки (1/2 − 2/5 = 1/10), а на тридцати яблоках она потеряла 3 копей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торая же крестьянка, наоборот, вошедши в компанию, выигрывала на каждом яблоке по 1/15 копейки (2/5 − 1/3 = 1/15), а на всех тридцати яблоках выиграла, значит, 2 копейки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ервая потеряла 3 копейки, а вторая выиграла только 2 копейки. В общем, всё-таки копейка потерян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утём подобных же рассуждений легко узнать, почему у первых двух крестьянок оказалась «лишняя» копейк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8760" y="111600"/>
            <a:ext cx="10515240" cy="60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2400" spc="-1" strike="noStrike">
                <a:solidFill>
                  <a:srgbClr val="ff0000"/>
                </a:solidFill>
                <a:latin typeface="Calibri Light"/>
              </a:rPr>
              <a:t>Удивительные часы (китайская головоломка)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09160" y="716040"/>
            <a:ext cx="11853720" cy="60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5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Как-то в один дом срочно попросили зайти часовщика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Я болен, — ответил часовщик, — и не смогу пойти. Но если починка несложная, я пришлю вам своего ученика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Оказалось, что нужно было поломанные стрелки заменить другими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 этим мой ученик справится, — сказал мастер. — Он проверит механизм ваших часов и подберёт к ним новые стрелки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ченик отнёсся к работе очень старательно, и когда он закончил осмотр часов, уже стемнело. Считая работу завершённой, он торопливо надел подобранные стрелки и поставил их по своим часам: большую стрелку на цифру 12, а маленькую — на цифру 6 (было ровно 6 часов вечера). Но вскоре после того, как ученик вернулся в мастерскую, чтобы сообщить мастеру, что работа выполнена, зазвонил телефон. Мальчик взял трубку и услышал сердитый голос заказчик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ы плохо исправили часы, они неправильно показывают время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Ученик мастера, удивлённый этим сообщением, поспешил к заказчику. Когда он пришёл, отремонтированные им часы показывали начало девятого. Ученик вынул свои карманные часы и протянул их разгневанному хозяину дома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Сверьте, пожалуйста. Ваши часы ни на секунду не отстают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Ошеломлённый заказчик вынужден был согласиться, что его часы в данный момент действительно показывают правильное время. Но на другой день утром заказчик опять позвонил и сказал, что стрелки часов, очевидно, сошли с ума и разгуливают по циферблату, как им вздумается. Ученик мастера побежал к заказчику. Часы показывали начало восьмого. Сверив время по своим часам, он не на шутку рассердился: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Вы смеётесь надо мной! Ваши часы показывают точное время!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Часы действительно показывали точное время. Возмущённый ученик мастера хотел тут же уйти, но хозяин удержал его. А через несколько минут они нашли причину столь невероятных происшествий.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Не догадаетесь ли и вы, в чём тут дело?</a:t>
            </a:r>
            <a:endParaRPr b="0" lang="ru-RU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38080" y="330480"/>
            <a:ext cx="10515240" cy="58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Решени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верив механизм часов, мальчик подобрал подходящие стрелки, но неправильно надел их: минутную стрелку — на ось часовой, а часовую — на ось минутной. В результате минутная стрелка стала вращаться на циферблате со скоростью часовой стрелки, то есть очень медленно, а часовая стрелка стала вращаться, как минутная — быстро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 первый раз мальчик вернулся к заказчику примерно через 2 часа 10 минут после того, как поставил часы на 6 часов вечера. Большая стрелка, двигаясь со скоростью часовой, передвинулась от 12 до 2. Маленькая же стрелка, будучи минутной, сделала два полных круга и прошла ещё 10 минут. Таким образом, часы показывали в этот момент точн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Нетрудно подсчитать, что по вторичному вызову, на утро следующего дня, мальчик пришёл через 13 часов и 5 минут после того, как поставил вначале стрелки на шесть часов. За это время большая стрелка, будучи часовой, прошла тринадцать часов и таким образом достигла цифры 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Маленькая же стрелка, будучи минутной, сделала за это время тринадцать полных оборотов и прошла ещё пять минут, достигнув, таким образом, цифры 7. Поэтому и во втором случае совпадения часы показывали точное вре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6000"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4400" spc="-1" strike="noStrike">
                <a:solidFill>
                  <a:srgbClr val="ff0000"/>
                </a:solidFill>
                <a:latin typeface="Calibri Light"/>
              </a:rPr>
              <a:t>Конверт с деньга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947520"/>
            <a:ext cx="1051524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апа позвонил дочке, попросил её купить кое-что из вещей, нужных ему к отъезду, и сказал, что деньги лежат в конверте на письменном столе. Девочка, мельком взглянув на конверт, увидела написанное на нём число 98, вынула деньги и, не сосчитав их, положила в сумку, а конверт смяла и выбросила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 магазине она купила на 90 рублей вещей, а когда хотела расплатиться, то оказалось, что у неё не только не остаётся восьми рублей, как она предполагала, но даже не хватает четырёх рублей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ма она рассказала об этом папе и спросила, не ошибся ли он, когда считал деньги. Отец ответил, что он сосчитал деньги правильно, а ошиблась она сама. В чём была ошибка девочки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95160" y="264240"/>
            <a:ext cx="10515240" cy="56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Решение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Девочка прочла письмо в перевёрнутом виде: 98 вместо 86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223200"/>
            <a:ext cx="10515240" cy="48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25000"/>
          </a:bodyPr>
          <a:p>
            <a:pPr indent="0" algn="ctr">
              <a:lnSpc>
                <a:spcPct val="90000"/>
              </a:lnSpc>
              <a:buNone/>
            </a:pP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Крестьяне и картофель</a:t>
            </a:r>
            <a:br>
              <a:rPr sz="2400"/>
            </a:b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99320" y="734760"/>
            <a:ext cx="8945280" cy="58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lIns="0" rIns="0" tIns="0" bIns="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2b2b2b"/>
                </a:solidFill>
                <a:latin typeface="Verdana"/>
              </a:rPr>
              <a:t>    </a:t>
            </a: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Шли три крестьянина и зашли на постоялый двор отдохнуть и пообедать. Заказали хозяйке сварить картофель, а сами заснули. Хозяйка сварила картофель, но не стала будить постояльцев, а поставила миску с едою на стол и ушла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 — Проснулся один крестьянин, увидел картофель и, чтоб не будить товарищей, сосчитал картофель, съел свою долю и снова заснул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-Вскоре проснулся другой; ему невдомек было, что один из товарищей уже съел свою долю, поэтому он сосчитал весь оставшийся картофель, съел третью часть и опять заснул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-После чего проснулся третий; полагая, что он проснулся первым, он сосчитал оставшийся в чашке картофель и съел третью часть.</a:t>
            </a:r>
            <a:br>
              <a:rPr sz="2400"/>
            </a:b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Тут проснулись его товарищи и увидели, что в чашке осталось 8 картофелин. Тогда только объяснилось дело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2b2b2b"/>
                </a:solidFill>
                <a:latin typeface="Calibri"/>
              </a:rPr>
              <a:t>Сосчитайте, сколько картофелин подала на стол хозяйка, сколько съел уже и сколько должен еще съесть каждый, чтобы всем досталось поровну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838080" y="297360"/>
            <a:ext cx="10515240" cy="587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Ответ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Хозяйка подала на стол 27 картофелин, и на долю каждого крестьянина приходилось по 9 картофелин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76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30T09:41:22Z</dcterms:created>
  <dc:creator>Admin</dc:creator>
  <dc:description/>
  <dc:language>en-US</dc:language>
  <cp:lastModifiedBy>Admin</cp:lastModifiedBy>
  <dcterms:modified xsi:type="dcterms:W3CDTF">2015-06-30T10:14:07Z</dcterms:modified>
  <cp:revision>5</cp:revision>
  <dc:subject/>
  <dc:title>Сказки и старинные истории-загадк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10</vt:r8>
  </property>
</Properties>
</file>