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.png" ContentType="image/png"/>
  <Override PartName="/ppt/media/image23.gif" ContentType="image/gif"/>
  <Override PartName="/ppt/media/image25.jpeg" ContentType="image/jpeg"/>
  <Override PartName="/ppt/media/image4.jpeg" ContentType="image/jpeg"/>
  <Override PartName="/ppt/media/image31.jpeg" ContentType="image/jpeg"/>
  <Override PartName="/ppt/media/image6.jpeg" ContentType="image/jpeg"/>
  <Override PartName="/ppt/media/image28.wmf" ContentType="image/x-wmf"/>
  <Override PartName="/ppt/media/image30.png" ContentType="image/png"/>
  <Override PartName="/ppt/media/image8.png" ContentType="image/png"/>
  <Override PartName="/ppt/media/image13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12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9.gif" ContentType="image/gif"/>
  <Override PartName="/ppt/media/image16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media/image14.jpeg" ContentType="image/jpeg"/>
  <Override PartName="/ppt/media/image19.gif" ContentType="image/gif"/>
  <Override PartName="/ppt/media/image24.png" ContentType="image/pn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85F5-3A71-4E98-A727-4EEB5D0A2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CCA-465A-4F5D-AB02-CA428A9A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E4BE-A5B8-45CF-88DA-B41E3434B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1D65-0CB0-4461-A737-A651EB7C0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162C-5C0F-4363-BAA5-C07207437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6A43-D3B9-4FF3-8440-06577AA3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74C-1347-405D-A709-E2293D02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9BAC-F3C7-464C-B6B8-9844BBDEB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9B6C-DBB7-47B3-BD48-4BD341A5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1A2-EE2C-4A52-A2B3-81CE4128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6E45-5C5B-4346-B8DE-AD7EFD0EB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D7D1-FF93-427F-8DAD-9792E42B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cc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8714-1889-4A4E-9A1E-E37304DC7D2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hyperlink" Target="http://www.3-porosenka.ru/off-line/catalogue/3053/007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6.xml"/><Relationship Id="rId24" Type="http://schemas.openxmlformats.org/officeDocument/2006/relationships/image" Target="../media/image5.gif"/><Relationship Id="rId25" Type="http://schemas.openxmlformats.org/officeDocument/2006/relationships/image" Target="../media/image6.jpeg"/><Relationship Id="rId26" Type="http://schemas.openxmlformats.org/officeDocument/2006/relationships/image" Target="../media/image7.jpeg"/><Relationship Id="rId27" Type="http://schemas.openxmlformats.org/officeDocument/2006/relationships/image" Target="../media/image8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своя игра загл"/>
          <p:cNvPicPr/>
          <p:nvPr/>
        </p:nvPicPr>
        <p:blipFill>
          <a:blip r:embed="rId1"/>
          <a:stretch/>
        </p:blipFill>
        <p:spPr>
          <a:xfrm>
            <a:off x="214200" y="214200"/>
            <a:ext cx="5148360" cy="4052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11"/>
          <p:cNvPicPr/>
          <p:nvPr/>
        </p:nvPicPr>
        <p:blipFill>
          <a:blip r:embed="rId2"/>
          <a:stretch/>
        </p:blipFill>
        <p:spPr>
          <a:xfrm>
            <a:off x="4859280" y="3573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24"/>
          <p:cNvSpPr txBox="1"/>
          <p:nvPr/>
        </p:nvSpPr>
        <p:spPr>
          <a:xfrm>
            <a:off x="5724360" y="333360"/>
            <a:ext cx="3122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ookman Old Style"/>
              </a:rPr>
              <a:t>Внеклассно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ookman Old Style"/>
              </a:rPr>
              <a:t>мероприят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ookman Old Style"/>
              </a:rPr>
              <a:t>в 5 класс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50920" y="333360"/>
          <a:ext cx="367164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655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5" name="Picture 3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1"/>
          <p:cNvSpPr/>
          <p:nvPr/>
        </p:nvSpPr>
        <p:spPr>
          <a:xfrm>
            <a:off x="619920" y="1341360"/>
            <a:ext cx="7841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лощадь квадра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равна 49 см</a:t>
            </a:r>
            <a:r>
              <a:rPr b="1" lang="en-US" sz="6000" spc="-1" strike="noStrike">
                <a:solidFill>
                  <a:srgbClr val="1f497d"/>
                </a:solidFill>
                <a:latin typeface="Bookman Old Style"/>
                <a:ea typeface="Arial"/>
              </a:rPr>
              <a:t>²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ему равен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его периметр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2553120" y="5445000"/>
            <a:ext cx="11163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95280" y="333360"/>
          <a:ext cx="35496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9" name="Picture 2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0"/>
          <p:cNvSpPr/>
          <p:nvPr/>
        </p:nvSpPr>
        <p:spPr>
          <a:xfrm>
            <a:off x="187200" y="1197000"/>
            <a:ext cx="87807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Шла девочка в лес, 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навстречу е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3 девочк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человек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шло из леса?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1"/>
          <p:cNvSpPr/>
          <p:nvPr/>
        </p:nvSpPr>
        <p:spPr>
          <a:xfrm>
            <a:off x="790920" y="55897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3" descr="fd1e6898221c"/>
          <p:cNvPicPr/>
          <p:nvPr/>
        </p:nvPicPr>
        <p:blipFill>
          <a:blip r:embed="rId3"/>
          <a:stretch/>
        </p:blipFill>
        <p:spPr>
          <a:xfrm>
            <a:off x="7189920" y="4457880"/>
            <a:ext cx="1954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404640"/>
          <a:ext cx="3456000" cy="100512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94" name="Picture 3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214200" y="16430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Bookman Old Style"/>
              </a:rPr>
              <a:t>Прямоугольник с равными сторонами</a:t>
            </a: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3069720" y="4653000"/>
            <a:ext cx="35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man Old Style"/>
              </a:rPr>
              <a:t>Квадра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0" descr="Картинка 14 из 1348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653000"/>
            <a:ext cx="19764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95280" y="260280"/>
          <a:ext cx="3600360" cy="1006560"/>
        </p:xfrm>
        <a:graphic>
          <a:graphicData uri="http://schemas.openxmlformats.org/drawingml/2006/table">
            <a:tbl>
              <a:tblPr/>
              <a:tblGrid>
                <a:gridCol w="2016000"/>
                <a:gridCol w="15843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99" name="Picture 3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0" y="119700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Bookman Old Style"/>
              </a:rPr>
              <a:t>Число, полученное в результате деления, и не делящееся больше на делител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159360" y="4941720"/>
            <a:ext cx="342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Bookman Old Style"/>
              </a:rPr>
              <a:t>Остат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260280"/>
          <a:ext cx="3671640" cy="1006560"/>
        </p:xfrm>
        <a:graphic>
          <a:graphicData uri="http://schemas.openxmlformats.org/drawingml/2006/table">
            <a:tbl>
              <a:tblPr/>
              <a:tblGrid>
                <a:gridCol w="2016000"/>
                <a:gridCol w="16556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3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250920" y="1413000"/>
            <a:ext cx="871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Bookman Old Style"/>
              </a:rPr>
              <a:t>Нахождение одного из слагаемых по сумме и другому слагаемом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2699280" y="5013360"/>
            <a:ext cx="477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Bookman Old Style"/>
              </a:rPr>
              <a:t>Вычит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4" descr="Картинка 13 из 3113"/>
          <p:cNvPicPr/>
          <p:nvPr/>
        </p:nvPicPr>
        <p:blipFill>
          <a:blip r:embed="rId3"/>
          <a:stretch/>
        </p:blipFill>
        <p:spPr>
          <a:xfrm>
            <a:off x="0" y="5072040"/>
            <a:ext cx="2268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24000" y="333360"/>
          <a:ext cx="3549600" cy="100656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9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0"/>
          <p:cNvSpPr/>
          <p:nvPr/>
        </p:nvSpPr>
        <p:spPr>
          <a:xfrm>
            <a:off x="755640" y="1341360"/>
            <a:ext cx="7751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исло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определяющее </a:t>
            </a: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оложение точк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на прямой?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029680" y="5013360"/>
            <a:ext cx="498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man Old Style"/>
              </a:rPr>
              <a:t>координа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50920" y="260280"/>
          <a:ext cx="34560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29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0"/>
          <p:cNvSpPr/>
          <p:nvPr/>
        </p:nvSpPr>
        <p:spPr>
          <a:xfrm>
            <a:off x="716040" y="1483560"/>
            <a:ext cx="798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Какой из числовы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рядов лишний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843280" y="3573360"/>
          <a:ext cx="3889440" cy="2448000"/>
        </p:xfrm>
        <a:graphic>
          <a:graphicData uri="http://schemas.openxmlformats.org/drawingml/2006/table">
            <a:tbl>
              <a:tblPr/>
              <a:tblGrid>
                <a:gridCol w="788760"/>
                <a:gridCol w="770040"/>
                <a:gridCol w="771480"/>
                <a:gridCol w="770040"/>
                <a:gridCol w="789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3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8496360" cy="408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250920" y="333360"/>
          <a:ext cx="360036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8436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30" descr=""/>
          <p:cNvPicPr/>
          <p:nvPr/>
        </p:nvPicPr>
        <p:blipFill>
          <a:blip r:embed="rId2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3139560" y="4869000"/>
            <a:ext cx="34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Times New Roman"/>
              </a:rPr>
              <a:t>телефо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333360"/>
          <a:ext cx="3672000" cy="922320"/>
        </p:xfrm>
        <a:graphic>
          <a:graphicData uri="http://schemas.openxmlformats.org/drawingml/2006/table">
            <a:tbl>
              <a:tblPr/>
              <a:tblGrid>
                <a:gridCol w="2016360"/>
                <a:gridCol w="1655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0" name="Picture 30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" descr=""/>
          <p:cNvPicPr/>
          <p:nvPr/>
        </p:nvPicPr>
        <p:blipFill>
          <a:blip r:embed="rId2"/>
          <a:srcRect l="5238" t="8211" r="7950" b="12124"/>
          <a:stretch/>
        </p:blipFill>
        <p:spPr>
          <a:xfrm>
            <a:off x="1476360" y="3500280"/>
            <a:ext cx="6626160" cy="2833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2"/>
          <p:cNvSpPr/>
          <p:nvPr/>
        </p:nvSpPr>
        <p:spPr>
          <a:xfrm>
            <a:off x="250920" y="184464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Из круга получили данную фигуру. 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Объясните процесс превращения</a:t>
            </a:r>
            <a:r>
              <a:rPr b="0" lang="ru-RU" sz="4000" spc="-1" strike="noStrike">
                <a:solidFill>
                  <a:srgbClr val="1f497d"/>
                </a:solidFill>
                <a:latin typeface="Bookman Old Style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50920" y="333360"/>
          <a:ext cx="35496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29" descr=""/>
          <p:cNvPicPr/>
          <p:nvPr/>
        </p:nvPicPr>
        <p:blipFill>
          <a:blip r:embed="rId1"/>
          <a:stretch/>
        </p:blipFill>
        <p:spPr>
          <a:xfrm>
            <a:off x="1258920" y="5877000"/>
            <a:ext cx="1008000" cy="522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7"/>
          <p:cNvSpPr/>
          <p:nvPr/>
        </p:nvSpPr>
        <p:spPr>
          <a:xfrm>
            <a:off x="468360" y="119520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  <a:ea typeface="Calibri"/>
              </a:rPr>
              <a:t>Необходимо фигуру  разрезать на 4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  <a:ea typeface="Calibri"/>
              </a:rPr>
              <a:t>равные части.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Рисунок 9" descr="E:\data\articles\51\5111\511159\img3.jpg"/>
          <p:cNvPicPr/>
          <p:nvPr/>
        </p:nvPicPr>
        <p:blipFill>
          <a:blip r:embed="rId2"/>
          <a:srcRect l="0" t="0" r="51205" b="0"/>
          <a:stretch/>
        </p:blipFill>
        <p:spPr>
          <a:xfrm>
            <a:off x="3059280" y="3787920"/>
            <a:ext cx="2736720" cy="27129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E:\data\articles\51\5111\511159\img3.jpg"/>
          <p:cNvPicPr/>
          <p:nvPr/>
        </p:nvPicPr>
        <p:blipFill>
          <a:blip r:embed="rId3"/>
          <a:srcRect l="50671" t="0" r="0" b="0"/>
          <a:stretch/>
        </p:blipFill>
        <p:spPr>
          <a:xfrm>
            <a:off x="6215040" y="3786120"/>
            <a:ext cx="27003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2665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Bookman Old Style"/>
              </a:rPr>
              <a:t>Правила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Bookman Old Style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19280" y="620280"/>
            <a:ext cx="4824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Команда выбирает категорию и стоимость задания. На экране высвечивается задание, которое необходимо выполнить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Если ответ правильный, то команда зарабатывает балл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Побеждает та команда, которая заработала больше всех бал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246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0920" y="260280"/>
          <a:ext cx="34560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29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0"/>
          <p:cNvSpPr/>
          <p:nvPr/>
        </p:nvSpPr>
        <p:spPr>
          <a:xfrm>
            <a:off x="615240" y="1413000"/>
            <a:ext cx="753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то легче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1 тонна снега ил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1000 кг ваты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3202200" y="4572000"/>
            <a:ext cx="27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Равн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3" descr="mysh57"/>
          <p:cNvPicPr/>
          <p:nvPr/>
        </p:nvPicPr>
        <p:blipFill>
          <a:blip r:embed="rId2"/>
          <a:stretch/>
        </p:blipFill>
        <p:spPr>
          <a:xfrm>
            <a:off x="7007400" y="4292640"/>
            <a:ext cx="1973160" cy="2367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Amelia-vata-hyr_nester50g"/>
          <p:cNvPicPr/>
          <p:nvPr/>
        </p:nvPicPr>
        <p:blipFill>
          <a:blip r:embed="rId3"/>
          <a:srcRect l="0" t="18915" r="0" b="24414"/>
          <a:stretch/>
        </p:blipFill>
        <p:spPr>
          <a:xfrm>
            <a:off x="395280" y="4869000"/>
            <a:ext cx="237636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50920" y="260280"/>
          <a:ext cx="360036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8436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30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1"/>
          <p:cNvSpPr/>
          <p:nvPr/>
        </p:nvSpPr>
        <p:spPr>
          <a:xfrm>
            <a:off x="891000" y="1197000"/>
            <a:ext cx="7471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У одной палк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2 конц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концов 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7 с половино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таких палок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1761480" y="5661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4" descr="021-136E"/>
          <p:cNvPicPr/>
          <p:nvPr/>
        </p:nvPicPr>
        <p:blipFill>
          <a:blip r:embed="rId2"/>
          <a:stretch/>
        </p:blipFill>
        <p:spPr>
          <a:xfrm>
            <a:off x="5651640" y="81000"/>
            <a:ext cx="3024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367164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655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0" name="Picture 30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3"/>
          <p:cNvSpPr/>
          <p:nvPr/>
        </p:nvSpPr>
        <p:spPr>
          <a:xfrm>
            <a:off x="455760" y="981000"/>
            <a:ext cx="79225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В комнате находят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2 мальчика 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3 кошки и 1 попугай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</a:rPr>
              <a:t>Сколько ног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</a:rPr>
              <a:t>можно насчитать?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2519640" y="54388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6" descr="kosh79"/>
          <p:cNvPicPr/>
          <p:nvPr/>
        </p:nvPicPr>
        <p:blipFill>
          <a:blip r:embed="rId2"/>
          <a:stretch/>
        </p:blipFill>
        <p:spPr>
          <a:xfrm>
            <a:off x="0" y="508464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8" descr="popug04"/>
          <p:cNvPicPr/>
          <p:nvPr/>
        </p:nvPicPr>
        <p:blipFill>
          <a:blip r:embed="rId3"/>
          <a:stretch/>
        </p:blipFill>
        <p:spPr>
          <a:xfrm>
            <a:off x="5651640" y="189000"/>
            <a:ext cx="1657080" cy="1195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0" descr="6b86f3f2f7ec"/>
          <p:cNvPicPr/>
          <p:nvPr/>
        </p:nvPicPr>
        <p:blipFill>
          <a:blip r:embed="rId4"/>
          <a:stretch/>
        </p:blipFill>
        <p:spPr>
          <a:xfrm>
            <a:off x="6981840" y="4221000"/>
            <a:ext cx="21621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50920" y="333360"/>
          <a:ext cx="35496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7" name="Picture 29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0"/>
          <p:cNvSpPr/>
          <p:nvPr/>
        </p:nvSpPr>
        <p:spPr>
          <a:xfrm>
            <a:off x="0" y="126756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Даны числа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0;1;2;3;4;5;6;7;8;9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то больше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их сумма</a:t>
            </a: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ил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роизвед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2" descr="summa_cow"/>
          <p:cNvPicPr/>
          <p:nvPr/>
        </p:nvPicPr>
        <p:blipFill>
          <a:blip r:embed="rId2"/>
          <a:stretch/>
        </p:blipFill>
        <p:spPr>
          <a:xfrm>
            <a:off x="250920" y="5916600"/>
            <a:ext cx="3313080" cy="73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4" descr="0523-034"/>
          <p:cNvPicPr/>
          <p:nvPr/>
        </p:nvPicPr>
        <p:blipFill>
          <a:blip r:embed="rId3"/>
          <a:stretch/>
        </p:blipFill>
        <p:spPr>
          <a:xfrm>
            <a:off x="6156360" y="5877000"/>
            <a:ext cx="2590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427320"/>
            <a:ext cx="914400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Весёлые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арит отлично твоя голова: пять плюс один получает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ышел зайчик погулять, лап у зайца ровн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Ходит в народе такая молва: шесть минус три получает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оворил учитель Ире, что два больше, чем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еньше в десять раз, чем метр, всем известн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ы на птичку посмотри: лап у птицы ровно 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 меня собачка есть, у нее хвостов аж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 доски ты говори, что концов у пал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личник тетрадкой своею гордится: внизу, под диктантом, стои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а уроках будешь спать, за ответ получиш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т пять ягодок в траве. Съел одну, осталось -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ышь считает дырки в сыре: три плюс две – всег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11"/>
          <p:cNvPicPr/>
          <p:nvPr/>
        </p:nvPicPr>
        <p:blipFill>
          <a:blip r:embed="rId1"/>
          <a:stretch/>
        </p:blipFill>
        <p:spPr>
          <a:xfrm>
            <a:off x="4427640" y="6381720"/>
            <a:ext cx="792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-69840" y="160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Как расставить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10 стульев 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четырёх стен комнаты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чтобы у каждо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стены было поровну</a:t>
            </a:r>
            <a:r>
              <a:rPr b="1" lang="ru-RU" sz="54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1521000" y="2668680"/>
            <a:ext cx="123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049480" y="26686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69"/>
          <p:cNvGrpSpPr/>
          <p:nvPr/>
        </p:nvGrpSpPr>
        <p:grpSpPr>
          <a:xfrm>
            <a:off x="2987640" y="4221000"/>
            <a:ext cx="3168360" cy="2376720"/>
            <a:chOff x="2987640" y="4221000"/>
            <a:chExt cx="3168360" cy="2376720"/>
          </a:xfrm>
        </p:grpSpPr>
        <p:sp>
          <p:nvSpPr>
            <p:cNvPr id="157" name="Rectangle 59"/>
            <p:cNvSpPr/>
            <p:nvPr/>
          </p:nvSpPr>
          <p:spPr>
            <a:xfrm>
              <a:off x="2987640" y="4221000"/>
              <a:ext cx="3168360" cy="2376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8" name="Picture 53" descr="BD18184_"/>
            <p:cNvPicPr/>
            <p:nvPr/>
          </p:nvPicPr>
          <p:blipFill>
            <a:blip r:embed="rId1"/>
            <a:stretch/>
          </p:blipFill>
          <p:spPr>
            <a:xfrm>
              <a:off x="2987640" y="6167520"/>
              <a:ext cx="4330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0" descr="BD18184_"/>
            <p:cNvPicPr/>
            <p:nvPr/>
          </p:nvPicPr>
          <p:blipFill>
            <a:blip r:embed="rId2"/>
            <a:stretch/>
          </p:blipFill>
          <p:spPr>
            <a:xfrm>
              <a:off x="5652720" y="429264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61" descr="BD18184_"/>
            <p:cNvPicPr/>
            <p:nvPr/>
          </p:nvPicPr>
          <p:blipFill>
            <a:blip r:embed="rId3"/>
            <a:stretch/>
          </p:blipFill>
          <p:spPr>
            <a:xfrm>
              <a:off x="2987640" y="5011560"/>
              <a:ext cx="43308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2" descr="BD18184_"/>
            <p:cNvPicPr/>
            <p:nvPr/>
          </p:nvPicPr>
          <p:blipFill>
            <a:blip r:embed="rId4"/>
            <a:stretch/>
          </p:blipFill>
          <p:spPr>
            <a:xfrm>
              <a:off x="2987640" y="5587920"/>
              <a:ext cx="4330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3" descr="BD18184_"/>
            <p:cNvPicPr/>
            <p:nvPr/>
          </p:nvPicPr>
          <p:blipFill>
            <a:blip r:embed="rId5"/>
            <a:stretch/>
          </p:blipFill>
          <p:spPr>
            <a:xfrm>
              <a:off x="3708360" y="6237360"/>
              <a:ext cx="4330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4" descr="BD18184_"/>
            <p:cNvPicPr/>
            <p:nvPr/>
          </p:nvPicPr>
          <p:blipFill>
            <a:blip r:embed="rId6"/>
            <a:stretch/>
          </p:blipFill>
          <p:spPr>
            <a:xfrm>
              <a:off x="4356000" y="623736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5" descr="BD18184_"/>
            <p:cNvPicPr/>
            <p:nvPr/>
          </p:nvPicPr>
          <p:blipFill>
            <a:blip r:embed="rId7"/>
            <a:stretch/>
          </p:blipFill>
          <p:spPr>
            <a:xfrm>
              <a:off x="4932000" y="429264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6" descr="BD18184_"/>
            <p:cNvPicPr/>
            <p:nvPr/>
          </p:nvPicPr>
          <p:blipFill>
            <a:blip r:embed="rId8"/>
            <a:stretch/>
          </p:blipFill>
          <p:spPr>
            <a:xfrm>
              <a:off x="4284360" y="429264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7" descr="BD18184_"/>
            <p:cNvPicPr/>
            <p:nvPr/>
          </p:nvPicPr>
          <p:blipFill>
            <a:blip r:embed="rId9"/>
            <a:stretch/>
          </p:blipFill>
          <p:spPr>
            <a:xfrm>
              <a:off x="5652720" y="494028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8" descr="BD18184_"/>
            <p:cNvPicPr/>
            <p:nvPr/>
          </p:nvPicPr>
          <p:blipFill>
            <a:blip r:embed="rId10"/>
            <a:stretch/>
          </p:blipFill>
          <p:spPr>
            <a:xfrm>
              <a:off x="5652720" y="5587920"/>
              <a:ext cx="433440" cy="3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Picture 71" descr="2f186f88c7e1"/>
          <p:cNvPicPr/>
          <p:nvPr/>
        </p:nvPicPr>
        <p:blipFill>
          <a:blip r:embed="rId11"/>
          <a:stretch/>
        </p:blipFill>
        <p:spPr>
          <a:xfrm>
            <a:off x="7037280" y="4581360"/>
            <a:ext cx="1486080" cy="1987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2" descr="2f186f88c7e1"/>
          <p:cNvPicPr/>
          <p:nvPr/>
        </p:nvPicPr>
        <p:blipFill>
          <a:blip r:embed="rId12"/>
          <a:stretch/>
        </p:blipFill>
        <p:spPr>
          <a:xfrm>
            <a:off x="755640" y="4581360"/>
            <a:ext cx="14428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2430bjy2lzy"/>
          <p:cNvPicPr/>
          <p:nvPr/>
        </p:nvPicPr>
        <p:blipFill>
          <a:blip r:embed="rId1"/>
          <a:stretch/>
        </p:blipFill>
        <p:spPr>
          <a:xfrm>
            <a:off x="250920" y="692280"/>
            <a:ext cx="8713800" cy="54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си2"/>
          <p:cNvPicPr/>
          <p:nvPr/>
        </p:nvPicPr>
        <p:blipFill>
          <a:blip r:embed="rId1"/>
          <a:stretch/>
        </p:blipFill>
        <p:spPr>
          <a:xfrm>
            <a:off x="0" y="0"/>
            <a:ext cx="1187280" cy="1095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6000" y="5949720"/>
            <a:ext cx="23032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70c0"/>
                </a:solidFill>
                <a:uFillTx/>
                <a:latin typeface="Arial"/>
                <a:hlinkClick r:id="rId2" action="ppaction://hlinksldjump"/>
              </a:rPr>
              <a:t>пауз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125360"/>
          <a:ext cx="8229600" cy="463572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  <a:gridCol w="1584360"/>
                <a:gridCol w="1655640"/>
                <a:gridCol w="153360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3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4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5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6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7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8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9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0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1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2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3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4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5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6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7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8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9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20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21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22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0" name="Picture 131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6659640" y="6093000"/>
            <a:ext cx="1008000" cy="522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33"/>
          <p:cNvGrpSpPr/>
          <p:nvPr/>
        </p:nvGrpSpPr>
        <p:grpSpPr>
          <a:xfrm>
            <a:off x="8028000" y="0"/>
            <a:ext cx="1116000" cy="1052640"/>
            <a:chOff x="8028000" y="0"/>
            <a:chExt cx="1116000" cy="1052640"/>
          </a:xfrm>
        </p:grpSpPr>
        <p:pic>
          <p:nvPicPr>
            <p:cNvPr id="52" name="Picture 134" descr="svoyaigra5kniga99asd"/>
            <p:cNvPicPr/>
            <p:nvPr/>
          </p:nvPicPr>
          <p:blipFill>
            <a:blip r:embed="rId25"/>
            <a:stretch/>
          </p:blipFill>
          <p:spPr>
            <a:xfrm>
              <a:off x="8028000" y="0"/>
              <a:ext cx="111600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Oval 135"/>
            <p:cNvSpPr/>
            <p:nvPr/>
          </p:nvSpPr>
          <p:spPr>
            <a:xfrm>
              <a:off x="8660520" y="553320"/>
              <a:ext cx="411480" cy="448920"/>
            </a:xfrm>
            <a:prstGeom prst="ellipse">
              <a:avLst/>
            </a:prstGeom>
            <a:gradFill rotWithShape="0">
              <a:gsLst>
                <a:gs pos="0">
                  <a:srgbClr val="5e762f"/>
                </a:gs>
                <a:gs pos="50000">
                  <a:srgbClr val="ccff66"/>
                </a:gs>
                <a:gs pos="100000">
                  <a:srgbClr val="5e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Picture 136" descr="82000"/>
          <p:cNvPicPr/>
          <p:nvPr/>
        </p:nvPicPr>
        <p:blipFill>
          <a:blip r:embed="rId26"/>
          <a:stretch/>
        </p:blipFill>
        <p:spPr>
          <a:xfrm>
            <a:off x="3708360" y="27000"/>
            <a:ext cx="1655640" cy="1050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"/>
          <p:cNvPicPr/>
          <p:nvPr/>
        </p:nvPicPr>
        <p:blipFill>
          <a:blip r:embed="rId27"/>
          <a:stretch/>
        </p:blipFill>
        <p:spPr>
          <a:xfrm>
            <a:off x="0" y="5456160"/>
            <a:ext cx="1403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50920" y="260280"/>
          <a:ext cx="3456000" cy="108900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7" name="Picture 3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3"/>
          <p:cNvSpPr/>
          <p:nvPr/>
        </p:nvSpPr>
        <p:spPr>
          <a:xfrm>
            <a:off x="324000" y="141300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месяцев в году  содержит 30 дней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4"/>
          <p:cNvSpPr/>
          <p:nvPr/>
        </p:nvSpPr>
        <p:spPr>
          <a:xfrm>
            <a:off x="4209480" y="44308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5" descr="mesac24"/>
          <p:cNvPicPr/>
          <p:nvPr/>
        </p:nvPicPr>
        <p:blipFill>
          <a:blip r:embed="rId4"/>
          <a:stretch/>
        </p:blipFill>
        <p:spPr>
          <a:xfrm>
            <a:off x="539640" y="4437000"/>
            <a:ext cx="1800360" cy="165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derev04"/>
          <p:cNvPicPr/>
          <p:nvPr/>
        </p:nvPicPr>
        <p:blipFill>
          <a:blip r:embed="rId5"/>
          <a:stretch/>
        </p:blipFill>
        <p:spPr>
          <a:xfrm>
            <a:off x="6443640" y="4437000"/>
            <a:ext cx="24145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9280" y="260280"/>
          <a:ext cx="3600720" cy="1089000"/>
        </p:xfrm>
        <a:graphic>
          <a:graphicData uri="http://schemas.openxmlformats.org/drawingml/2006/table">
            <a:tbl>
              <a:tblPr/>
              <a:tblGrid>
                <a:gridCol w="2016360"/>
                <a:gridCol w="158436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3" name="Picture 3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0"/>
          <p:cNvSpPr/>
          <p:nvPr/>
        </p:nvSpPr>
        <p:spPr>
          <a:xfrm>
            <a:off x="600120" y="1557360"/>
            <a:ext cx="761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уществует циф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41"/>
          <p:cNvSpPr/>
          <p:nvPr/>
        </p:nvSpPr>
        <p:spPr>
          <a:xfrm>
            <a:off x="4353840" y="45734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0920" y="260280"/>
          <a:ext cx="3671640" cy="1089000"/>
        </p:xfrm>
        <a:graphic>
          <a:graphicData uri="http://schemas.openxmlformats.org/drawingml/2006/table">
            <a:tbl>
              <a:tblPr/>
              <a:tblGrid>
                <a:gridCol w="2016000"/>
                <a:gridCol w="165564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7"/>
          <p:cNvSpPr/>
          <p:nvPr/>
        </p:nvSpPr>
        <p:spPr>
          <a:xfrm>
            <a:off x="250920" y="1341360"/>
            <a:ext cx="86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Как называетс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исло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делящееся </a:t>
            </a: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без остатка на 2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940320" y="5157720"/>
            <a:ext cx="29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чётное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50920" y="333360"/>
          <a:ext cx="3549600" cy="108900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1" name="Picture 2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5950080"/>
            <a:ext cx="1008360" cy="522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0"/>
          <p:cNvSpPr/>
          <p:nvPr/>
        </p:nvSpPr>
        <p:spPr>
          <a:xfrm>
            <a:off x="0" y="1413000"/>
            <a:ext cx="9144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</a:rPr>
              <a:t>К натуральному числу справа приписали три  нуля.</a:t>
            </a: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Во сколько раз</a:t>
            </a: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увеличилось число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657000" y="5589720"/>
            <a:ext cx="416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6228"/>
                </a:solidFill>
                <a:latin typeface="Bookman Old Style"/>
              </a:rPr>
              <a:t>в 1000 ра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50920" y="404640"/>
          <a:ext cx="3456000" cy="92268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92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5" name="Picture 2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0"/>
          <p:cNvSpPr/>
          <p:nvPr/>
        </p:nvSpPr>
        <p:spPr>
          <a:xfrm>
            <a:off x="468360" y="1341360"/>
            <a:ext cx="755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Горело 5 свечей, две погасл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свечей осталось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2300400" y="53658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3" descr="d90ad012d55f"/>
          <p:cNvPicPr/>
          <p:nvPr/>
        </p:nvPicPr>
        <p:blipFill>
          <a:blip r:embed="rId4"/>
          <a:stretch/>
        </p:blipFill>
        <p:spPr>
          <a:xfrm>
            <a:off x="6878520" y="3736800"/>
            <a:ext cx="22654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24000" y="333360"/>
          <a:ext cx="360036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8436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0" name="Picture 3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1"/>
          <p:cNvSpPr/>
          <p:nvPr/>
        </p:nvSpPr>
        <p:spPr>
          <a:xfrm>
            <a:off x="156240" y="1052640"/>
            <a:ext cx="8850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Тройка лошаде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робежала 30 км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километров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робежала кажда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лошадь?</a:t>
            </a:r>
            <a:r>
              <a:rPr b="0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Рисунок 5" descr="0_f961_bd3484c4_XL.gif"/>
          <p:cNvPicPr/>
          <p:nvPr/>
        </p:nvPicPr>
        <p:blipFill>
          <a:blip r:embed="rId4"/>
          <a:stretch/>
        </p:blipFill>
        <p:spPr>
          <a:xfrm>
            <a:off x="468360" y="4941720"/>
            <a:ext cx="1836720" cy="1492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3"/>
          <p:cNvSpPr/>
          <p:nvPr/>
        </p:nvSpPr>
        <p:spPr>
          <a:xfrm>
            <a:off x="7161840" y="5373720"/>
            <a:ext cx="11163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4f6228"/>
                </a:solidFill>
                <a:latin typeface="Bookman Old Style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8:04:39Z</dcterms:created>
  <dc:creator>Юра</dc:creator>
  <dc:description/>
  <dc:language>en-US</dc:language>
  <cp:lastModifiedBy>Admin</cp:lastModifiedBy>
  <dcterms:modified xsi:type="dcterms:W3CDTF">2015-06-29T11:19:54Z</dcterms:modified>
  <cp:revision>86</cp:revision>
  <dc:subject/>
  <dc:title>ПОВТОРИТЕЛЬНО-ОБОБЩАЮЩИЙ   УРОК ЗА КУРС 7 КЛАССА</dc:title>
</cp:coreProperties>
</file>