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19BB-B9CC-4601-9EBF-A7D37651C0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1A4-ECCE-4AD0-B044-CB3AD7B570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018-4A7A-4C31-8ECC-A91A2CA8E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475B-28DF-4326-9688-89D9D37AC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760-B2FB-4192-89C2-012524F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5DD-3337-4672-BE9D-F913364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A6507-BD10-44AF-BE78-7A649B43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AE7D-EF0E-4543-AD6F-3FC7EFD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026C7-69EE-452B-968E-0B78DD93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BED2-20AF-4005-BEC4-523207A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C6104-66B2-4A62-ACCB-A72409EC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A3222-BC01-49CF-9F95-9D83690F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56C9E-1129-4BF1-B4A1-D9A6472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24DC2-92FC-4FF3-88D3-81EBBD09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63417-E515-4A47-A477-52754B31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20006-4266-43E1-A4D0-895EC30C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0A1-39AB-4A0D-96EC-7A306D27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A952B-1223-4ACE-9969-0070623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C011-8238-4C0A-A986-B5711637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A756-CF74-4070-944E-E233AF2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1A190-34BA-4F9B-9CD0-34DE495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72C3D-1B6D-42A0-93E3-19FB2E12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D37A2-4B02-46AD-9EE1-738F967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D3500-0C84-477F-B70C-316C1CD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F8DBC-4598-4F14-AE63-DF303BA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06A6-00CC-4631-ADB2-4E9082F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4EAA-B9DF-4563-87DD-07B4D1A4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416-FA14-4A53-8FD4-457550D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3A5B8-FC54-4047-983A-1A80B629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1CBA-1875-4515-8E7C-224A3CAC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D8C26-6B58-401A-8DE2-0C7FCFD4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A6349-5B84-4778-83FD-69B8714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094F4-3EE4-45C9-AAF6-5EC79ACA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4CE1D-544E-4DE1-BF5E-DF157A6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69B04-6C7D-4F2B-8AA7-8FF92AD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6A05-371A-4E07-A818-4B70E32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3D41F-0487-4675-81D8-2F042654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98ED-4AE6-4965-9750-D64A1577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7C2C-063E-4C6A-B748-AAF15792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C2A91-5119-49FA-9B89-EA403424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F0744-2138-4414-ABA0-57525852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2E4D-25A0-4B26-A9B9-661347FB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0F39F-FF36-4C69-ACE6-0607E583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295BF-6D94-4E1C-A12C-A6521CBF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52162-D803-4B9E-A860-D14615EC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7D776-C0BD-4067-B96C-1BD9E76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9810A-38E0-4994-91C6-2B719821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47196-AB11-41F1-B57D-06CC7314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DA342-E074-4E47-AB6D-14EEF07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D18A-0C5C-4128-A2A4-4AA31A24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F559D-ABD5-4896-8F35-666175C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CBCDD-0C1B-46D6-8133-76B7DAC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37703-E5F2-41E6-BE32-53A6203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3D3DA-565D-4B79-B147-E8F03924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C76DE-EFDC-4B7E-A4BE-22890C93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9AE-0BB2-4D8B-8DA2-DA6B9B2C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686-2864-4A96-8300-07DA6054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8D79-67B3-4817-84AA-CC1A21A5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3717-99B2-4D14-8605-159B0DD2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E226-479D-4297-AB38-8C04CE7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11D-A493-4DD7-9D64-77028F6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C3C4-9EA7-4450-BA4C-44E420AB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4EA8-562C-44A7-AC5B-C3F5CD65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4967-045F-473F-B42C-AC53FD70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5268-4322-4E0F-B30B-389B1BBA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757F-3C47-44A3-AF49-BE2EEA4E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7136-B2E5-4DD9-9652-84E4705D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57D72-EE26-4CF4-AFCD-8F71C1A8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1EFE-3D8C-482E-A72C-D38B9C1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956B-59AA-421F-A28B-B71759A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AEB5-E326-4315-B4C4-A4A9FB6F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FD7-A6F2-43B6-8BB9-3F5C059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F87A-870C-4F86-BAB2-14011728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DD21-CD12-404B-8F56-094A723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A593-D11C-4B0F-A386-134C9F2D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A957-FB3C-46F5-8EDC-7A0F8CD9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B2AA-CC6B-469E-B43B-141ADE3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3F9A-59C4-46D2-917A-BBC31F00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19E4-33B0-4536-BC7F-BE38467B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33E4-D0B9-49C0-AE39-B4E508A4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1E99-5A1E-45DD-9D31-4FF63F3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2D68-B4B5-4881-A1BB-9C3FC80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3C4-1FB5-4677-ABC6-D8413735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2B8C-6E9D-4187-BDC4-8EAD3E9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D245-28C6-459C-8F42-978CB98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05A71-AFF7-4113-8347-30C905C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C705-FC51-4A93-BBF4-07DA3E5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A126-6C9F-4FCA-A8AC-2D923E1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015EF-58BE-41AB-9107-908CABC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8BA5-EDC8-40D7-A82D-05144E2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51AB-6E55-49C9-8BFC-4FE857E1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EDD8-F85F-48E3-A7D2-9C49733F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C0E59-6E02-4A6E-A46B-8F9DAAE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26F-8FC7-43F2-97F3-B1631B66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6B0D-8BA4-4F31-BB16-FF2B8B61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20ABE-4B6E-4962-8DE0-991A6B0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3D47-4EEA-4C12-B362-4334F4F0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43E9-D0A5-4B75-87A9-9DC81686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DCCA-0DD9-46E9-BF57-F714DB78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AA56-82FE-4DC3-BB39-293373E3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FBC7-FA6A-4EFC-9565-E326606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ECC4-58BA-46A2-97D7-EC882FF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BDF8-3834-4F56-8D2B-A9BB0FC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3AD2-0EA9-494B-B2C5-A5543689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3B7-0DD4-450D-8666-BE316474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F7B8-221F-4CD2-B3AA-BE8DAC85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9AC3-C971-4D1B-BF0C-5E5ACF80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5B65-9979-4737-A7A5-9D26BEBB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391C-2D5B-4209-A223-FB389F1E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BC59-6155-4886-9980-C8B78C1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6CF5-C2AD-4A92-A2E9-F4ACB6DF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FAB3-095E-485D-9C16-FC1C1CE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48811-F32C-4FB1-B7C7-1088F6C2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C8A6-29F3-4256-AD20-1A67D60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D769-6B41-4AE5-B3C8-BCE37A0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A62-E779-4C91-BA34-4410F53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D041D-642F-4561-BAB9-5B7A51D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C719-96FC-4406-B29A-242F4045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AE2A2-CE44-4EFE-87E6-D8828F6E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4BF1-CD08-4399-8DBD-BC40176C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490E0-B268-4A4D-AE43-A82B59B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BD629-97F1-4AE4-A6D4-146DC6B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86F35-BC9F-4E7E-AB5F-17EC1CC6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8A11-0113-49B0-81B4-D72EFD7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D752-ABC8-427A-9B39-43C4B01D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79A8-91A3-453B-BA77-53D39D7A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8EC-14B6-4C9B-BBA2-8D6FF253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A8A4-A3AB-4499-87FD-35983170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0B4F-9D5B-4133-8604-9539127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696D-ABBC-4424-87CB-7C34A51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F2DA-AAAB-4151-AE16-902C3567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A8D1-6076-4144-8864-EE211489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8384E-E526-4F0F-8311-09E216C7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9B86C-1115-4B1F-B94F-F0A9001F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296C-8CA3-43DE-9516-324D113D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AEBFA-EA1A-4F7B-AED2-D1209B9E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5980-4CC8-4368-8129-04465B6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1BF-D390-4857-B565-59ED5BD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45C7-9196-4F6D-9BD4-CD78C535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FB78-050C-4796-807E-874D8F9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D9B38-AB42-421D-A591-EF25BFC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1E1A-114A-407F-8670-A98ACB9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D657E-9789-4291-BC9F-E509026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35E5-76E9-4619-AC03-F86B0A29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B5A5-ECA8-4C05-BD37-25B5814E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FC512-7C63-4418-92A3-07CC637F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9EDF0-EA16-46DD-873C-DB296A4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220B-3DB9-4309-A4C8-EA88175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90B-1AC9-4F61-A219-B3D473517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51A-4C78-4364-8D16-2A17A1DD01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0AD0-4595-412D-851C-C69CAECA65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326-3C50-4D4B-976D-FD10281CAC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DBC-885E-48C2-8D77-8489C1FA7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93E-EF91-4423-9796-B6E3B3F23E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32F3-4677-40E5-9B81-E9225C9912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6C93-0BC0-493F-A771-A679120A9A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C9B5-4A7D-494C-B4B8-030E22F4A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7EF-6535-45B0-BE01-398FD22AA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6376-A72E-4214-98FB-8E7E28B7B3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295-BB77-483B-995F-EBF25B9AE3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-92160"/>
            <a:ext cx="6931080" cy="3036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C:\Documents and Settings\Администратор\Рабочий стол\main.jpg"/>
          <p:cNvPicPr/>
          <p:nvPr/>
        </p:nvPicPr>
        <p:blipFill>
          <a:blip r:embed="rId2"/>
          <a:srcRect l="34279" t="0" r="18589" b="0"/>
          <a:stretch/>
        </p:blipFill>
        <p:spPr>
          <a:xfrm>
            <a:off x="571680" y="2357280"/>
            <a:ext cx="8143560" cy="4143600"/>
          </a:xfrm>
          <a:prstGeom prst="rect">
            <a:avLst/>
          </a:prstGeom>
          <a:ln w="0">
            <a:noFill/>
          </a:ln>
        </p:spPr>
      </p:pic>
      <p:pic>
        <p:nvPicPr>
          <p:cNvPr id="501" name="Прямоугольник 4" descr=""/>
          <p:cNvPicPr/>
          <p:nvPr/>
        </p:nvPicPr>
        <p:blipFill>
          <a:blip r:embed="rId3"/>
          <a:stretch/>
        </p:blipFill>
        <p:spPr>
          <a:xfrm>
            <a:off x="2998800" y="6168960"/>
            <a:ext cx="69310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C:\Documents and Settings\Администратор\Рабочий стол\Новая вагоны\ресоран.jpg"/>
          <p:cNvPicPr/>
          <p:nvPr/>
        </p:nvPicPr>
        <p:blipFill>
          <a:blip r:embed="rId1"/>
          <a:stretch/>
        </p:blipFill>
        <p:spPr>
          <a:xfrm>
            <a:off x="142920" y="500040"/>
            <a:ext cx="871524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Documents and Settings\Администратор\Рабочий стол\Новая вагоны\плацк.jpg"/>
          <p:cNvPicPr/>
          <p:nvPr/>
        </p:nvPicPr>
        <p:blipFill>
          <a:blip r:embed="rId1"/>
          <a:stretch/>
        </p:blipFill>
        <p:spPr>
          <a:xfrm>
            <a:off x="357120" y="357120"/>
            <a:ext cx="83901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5"/>
          <p:cNvSpPr txBox="1"/>
          <p:nvPr/>
        </p:nvSpPr>
        <p:spPr>
          <a:xfrm>
            <a:off x="1582560" y="5732640"/>
            <a:ext cx="561852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зови вид поезд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3" name="Picture 5" descr="C:\Documents and Settings\Администратор\Рабочий стол\Новая вагоны\состав груз.jpg"/>
          <p:cNvPicPr/>
          <p:nvPr/>
        </p:nvPicPr>
        <p:blipFill>
          <a:blip r:embed="rId3"/>
          <a:srcRect l="24608" t="33222" r="3322" b="4475"/>
          <a:stretch/>
        </p:blipFill>
        <p:spPr>
          <a:xfrm>
            <a:off x="849240" y="85680"/>
            <a:ext cx="756936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C:\Documents and Settings\Администратор\Рабочий стол\Новая вагоны\тепловоз пассаж.jpg"/>
          <p:cNvPicPr/>
          <p:nvPr/>
        </p:nvPicPr>
        <p:blipFill>
          <a:blip r:embed="rId1"/>
          <a:srcRect l="0" t="6409" r="6301" b="21079"/>
          <a:stretch/>
        </p:blipFill>
        <p:spPr>
          <a:xfrm>
            <a:off x="324000" y="299880"/>
            <a:ext cx="8569080" cy="5327640"/>
          </a:xfrm>
          <a:prstGeom prst="rect">
            <a:avLst/>
          </a:prstGeom>
          <a:ln w="0">
            <a:noFill/>
          </a:ln>
        </p:spPr>
      </p:pic>
      <p:sp>
        <p:nvSpPr>
          <p:cNvPr id="515" name="WordArt 5"/>
          <p:cNvSpPr txBox="1"/>
          <p:nvPr/>
        </p:nvSpPr>
        <p:spPr>
          <a:xfrm>
            <a:off x="1562040" y="5516640"/>
            <a:ext cx="561816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зови вид поез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WordArt 4"/>
          <p:cNvSpPr txBox="1"/>
          <p:nvPr/>
        </p:nvSpPr>
        <p:spPr>
          <a:xfrm>
            <a:off x="1071720" y="333360"/>
            <a:ext cx="7358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, ребята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7" name="Picture 3" descr="C:\Documents and Settings\Администратор\Рабочий стол\отправка.jpg"/>
          <p:cNvPicPr/>
          <p:nvPr/>
        </p:nvPicPr>
        <p:blipFill>
          <a:blip r:embed="rId3"/>
          <a:stretch/>
        </p:blipFill>
        <p:spPr>
          <a:xfrm>
            <a:off x="714240" y="1643040"/>
            <a:ext cx="77565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C:\Documents and Settings\Администратор\Рабочий стол\Новая вагоны\хоппер.jpg"/>
          <p:cNvPicPr/>
          <p:nvPr/>
        </p:nvPicPr>
        <p:blipFill>
          <a:blip r:embed="rId1"/>
          <a:stretch/>
        </p:blipFill>
        <p:spPr>
          <a:xfrm>
            <a:off x="928800" y="142920"/>
            <a:ext cx="7572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C:\Documents and Settings\Администратор\Рабочий стол\Новая вагоны\плптформа.jpg"/>
          <p:cNvPicPr/>
          <p:nvPr/>
        </p:nvPicPr>
        <p:blipFill>
          <a:blip r:embed="rId1"/>
          <a:srcRect l="0" t="11115" r="0" b="13887"/>
          <a:stretch/>
        </p:blipFill>
        <p:spPr>
          <a:xfrm>
            <a:off x="285840" y="714240"/>
            <a:ext cx="87422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C:\Documents and Settings\Администратор\Рабочий стол\Новая вагоны\цистерна.jpg"/>
          <p:cNvPicPr/>
          <p:nvPr/>
        </p:nvPicPr>
        <p:blipFill>
          <a:blip r:embed="rId1"/>
          <a:srcRect l="0" t="8656" r="7626" b="19452"/>
          <a:stretch/>
        </p:blipFill>
        <p:spPr>
          <a:xfrm>
            <a:off x="357120" y="357120"/>
            <a:ext cx="85885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C:\Documents and Settings\Администратор\Рабочий стол\кр.jpg"/>
          <p:cNvPicPr/>
          <p:nvPr/>
        </p:nvPicPr>
        <p:blipFill>
          <a:blip r:embed="rId1"/>
          <a:stretch/>
        </p:blipFill>
        <p:spPr>
          <a:xfrm>
            <a:off x="500040" y="571680"/>
            <a:ext cx="842976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" descr="C:\Documents and Settings\Администратор\Рабочий стол\1дум.jpg"/>
          <p:cNvPicPr/>
          <p:nvPr/>
        </p:nvPicPr>
        <p:blipFill>
          <a:blip r:embed="rId1"/>
          <a:srcRect l="9090" t="0" r="0" b="0"/>
          <a:stretch/>
        </p:blipFill>
        <p:spPr>
          <a:xfrm>
            <a:off x="142920" y="500040"/>
            <a:ext cx="8785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Администратор\Рабочий стол\Новая вагоны\почтово-юагаж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C:\Documents and Settings\Администратор\Рабочий стол\Новая вагоны\дверб купе.jpg"/>
          <p:cNvPicPr/>
          <p:nvPr/>
        </p:nvPicPr>
        <p:blipFill>
          <a:blip r:embed="rId1"/>
          <a:stretch/>
        </p:blipFill>
        <p:spPr>
          <a:xfrm>
            <a:off x="2143080" y="142920"/>
            <a:ext cx="5500800" cy="66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C:\Documents and Settings\Администратор\Рабочий стол\Новая вагоны\купе в поезде.jpg"/>
          <p:cNvPicPr/>
          <p:nvPr/>
        </p:nvPicPr>
        <p:blipFill>
          <a:blip r:embed="rId1"/>
          <a:stretch/>
        </p:blipFill>
        <p:spPr>
          <a:xfrm>
            <a:off x="357120" y="142920"/>
            <a:ext cx="8491680" cy="62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36:48Z</dcterms:created>
  <dc:creator>tusja</dc:creator>
  <dc:description/>
  <dc:language>en-US</dc:language>
  <cp:lastModifiedBy>Любовь</cp:lastModifiedBy>
  <dcterms:modified xsi:type="dcterms:W3CDTF">2016-11-13T11:13:09Z</dcterms:modified>
  <cp:revision>36</cp:revision>
  <dc:subject/>
  <dc:title>Слайд 1</dc:title>
</cp:coreProperties>
</file>