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A4EB-F3D2-45B7-B0A2-8C8C21835A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A205-9F5E-4BEE-B9AA-81B850CD37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95CE-FB4D-4DF2-82C8-34E30899C1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3CCA-1EC8-48BA-97B4-D647933A3C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731-16D5-4019-BFD3-450FBF82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8C3B-7BC9-4038-ACA5-3C383630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78B61-1676-4297-9963-4571E15C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9EF83-CE97-4EBC-BBF4-F7FE4D19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7598A-85DB-4C72-92E6-034273B7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ECB50-CDE2-48A9-9DF8-493978B8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83DDA-A3B2-44E0-A6A8-63E2F796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1520E-98AC-450C-8B6B-4A25D970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37DB9-C0F5-41F1-BD22-0429A85B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11079-7094-4A82-AECE-D9271985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DD136-245A-4F58-8CEA-2402BC98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7DA4F-6CF6-4D08-B156-DD694026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4F6-BDA0-4F54-8A2C-9A542825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C598E-02ED-43D7-9F1D-D85BE8EC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D1C32-6ACE-44D8-9062-981D8EB7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40867-78E1-4E4F-A9C2-30A03878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2FBC9-36C9-4D78-8731-6AEAF245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64589-53D8-4529-A72E-21EAB6DA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2A83E-A603-487D-B8AD-F39E3EF1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0BBE5-7A63-4C84-8839-156A569D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7756E-6B15-40F9-A010-6C1D5199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016B6-0E64-4A71-B157-3785DECB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8DDF1-A6D9-4145-97DB-0997A6FE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2011-9F79-44CB-A584-AD593BC7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BBBC5-EB15-4B09-8AE9-3738888A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E67BF-11A5-4A7A-A783-51D2A057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02275-44F4-487C-8C58-09FB128B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C323C-AA33-496E-A0D7-B2EA8B24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45617-E602-4474-B01B-14F482DD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FB766-4323-47CE-A551-73510AF0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3A31A-9B92-45A4-997B-A6B874E8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FFFD8-0601-49BB-A88B-90A609F0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11368-97DD-4BBE-BDCA-68B30837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EC0ED-7CCA-4E7D-8027-8B0F7F42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E778-2FBA-486D-B121-D3B6B2A0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CAD1F-EA98-4597-B542-00091A63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2414D-3229-4DD8-9A74-656FCC8B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38E3F-6A41-4DFD-8DB2-A67DF439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10777-966B-4CA0-A72B-F485FFCB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9E910-B904-481B-9BC8-D60B05DD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0E085-605D-44AD-AF27-C88771F1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61799-CFFD-43B9-B7A5-96D583D1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ADE8A-7320-4C29-AF8B-98A6EF2D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104B6-F8C4-4850-ABE6-030ED2F0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6B165-44A6-42F5-B56E-E5F17355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6701-0646-4A97-83CC-28FD3EF6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D4F41-D124-45EC-BEC2-D37F1075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8B3DB-54FB-48E2-8DFF-38353739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17E99-B15C-45FB-A63D-5341E546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B4CEC-C82B-4017-A478-DA65F3A1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92A43-36BE-47B7-BA46-A747D8B6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062B-673E-49D3-ABAA-5E8C65D8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B09F-EFFD-4F3D-9513-FC6A7336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CB90-DEA6-445C-AEBF-DEC433BB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FF21-1BCB-48AD-9ACC-B0A6CDF8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7CB8-6E23-4001-869A-67788CA2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B86-8C57-4665-9797-6A4EF990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9B65-5E03-4AC5-9BFA-96B0D9E8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1B40-D304-474E-A18D-01F4A9DE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41F8-7517-4A73-B56F-D74BAD9D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1E92-C48A-4F13-9473-56A59694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F4F4-2DFD-4A98-8ACB-91311247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C894F-C8AC-45BF-88C4-BD2B59E0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5BC01-64CB-4146-BB38-FCEC2DF6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76483-FFFE-4C5B-A775-F3B2A0CA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69BDE-4B80-4E67-AD79-1D54DA7A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42EDC-BFF8-485A-8844-644B6C81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FEE-B7BB-4AE2-9EF3-814A2C45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3FBC9-DAC9-4980-86EC-FC800912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C3990-3B88-481B-8D41-25361653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4B1E2-F101-41FA-8D94-E2313BCD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4B1D3-5ED5-4862-8CAC-8715A085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64770-9F0F-454B-B1C9-A517C78F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BABBB-45FE-4967-86E4-73D3A104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572E0-521C-4EB5-A804-65CC727E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D23F3-D352-431D-901B-24E3F5B5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07E04-0136-4162-A9EA-A6A3F061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A2797-94BD-46E2-9FBC-B700FCF8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DD63-222E-4248-B785-79FCED47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C08E4-2947-41C5-968E-85D78E0E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1AA1D-3A1E-496C-9FFB-64FCFC78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1D36E-A044-45E0-BE80-62861B02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55B4C-A5BA-416E-B518-BEC41D6D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B3B8E-14AD-40CD-81C0-B2ACD1B3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ED870-E463-400B-8B00-6CF920DE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8E23F-00B0-4A3D-8E96-8BAA7586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7B7C2-2BD9-4028-BA80-CB8B73EC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F0D16-E4FD-496F-800E-956DAA34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B5655-4012-429B-A14D-CF33DCD4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B47A-AFBE-48CB-9669-F6D0C8E4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F156F-8E3D-4964-9C9D-5A2ADC00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C20DB-BE70-4B8F-B639-5FE50126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127BB-0C2E-4CB6-99DC-4C817474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FA935-A6F1-46FE-8ED0-FF52AFE0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D4B27-CA50-4BB3-88FE-32C4B06E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38645-CCEE-4D4A-B081-B70442C6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C0CF0-AB6C-47EA-953A-F4384FF9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76A3C-63DD-4ED5-B165-B242BD6A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4270E-DE5E-4BC2-9F16-8EA92291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D04BF-611D-4ED0-89DE-E81B789C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572-C88C-4C73-B4A7-99BF9363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D9A95-A848-4032-BE44-3C46B764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8833C-6BA3-4DDC-83E5-5D5EC2BE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F80B4-64DB-4489-A3D3-F907EEFF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DBC12-903F-4BBD-BD55-8755098E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715FD-AA4B-4A58-8FF4-C8DD798A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74A28-DFD8-43E1-8C30-A6FD457F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15EBF-6757-4F06-A2A3-E774AF4B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603BE-B531-4B6F-BA5C-C3216328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8C1A6-366D-4F31-8F6A-1B2EF69F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EDA86-1B2F-4712-B010-9D748D22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060-8CF3-4D0D-90AF-1E6BE27E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7EC2F-99C8-4890-8742-71D24A27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319D1-FE31-431F-9016-BA66EAE6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B6870-1418-4D80-BAAA-60ACE002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0E657-1DCA-46D6-81FB-87933A68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7BCD0-2140-4B5A-845A-CBE58FE7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04AB1-0359-4DF7-BC5E-BC45C942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B2CA4-522A-49B0-8695-E955867E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D89EF-5937-4C0C-BDBD-8D4DE33E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67199-A26E-4B88-B708-EEC2A02F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98515-7979-4636-922D-C0CAD6AA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CFF-A806-41AA-8307-836E747B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B5DD4-059E-4E42-B43D-94188341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DF52C-7EC2-42EB-AC9E-AFB570BF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23F03-3207-42B4-9B43-05434DF5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F3112-3309-4EE5-9A2D-D8EC8730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D3C91-FED5-430E-91EF-2812BE21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23226-5748-404D-A8FA-A40F679E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EED10-EC73-4546-8F96-A884C43A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1DA3C-B8F3-40DA-94DA-FAB7BEE9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2D862-A3A0-43C5-AC48-E6524F81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036F2-F5C5-4BCD-BF6F-D3D53ED1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A89D-81D3-47F6-8D92-4D547282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1AFE9-53A4-4821-8523-8ED94F48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03727-CD13-4D73-8EC7-1D9D200B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8F07C-AEBC-49E8-8DAE-13A1ECE2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9E1EE-AE55-4108-B7B6-11CAE47F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1F6C5-BDC0-4E13-AECF-679B82B4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44DDC-62CB-4355-B5A2-CC2B0646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4E2EE-2395-411B-B8D3-E122FB01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905C5-BC11-44B3-9D60-4214DD6B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48A40-86F6-489C-928B-3A1D14EE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09DBD-5942-440B-B796-DF45980F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3FB0-1B60-4E90-B4FF-4B2074CE09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BB76-9E22-421A-92BB-BE912CBC40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C501-790A-499C-B0F3-809E7E3BD0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BF04-CF03-4E33-87B6-F3433DD282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6ADF-5ADA-4658-B1B9-ABCF345D45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47AC-D7FD-420A-B833-8ED65F01E2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2554-8E17-4F4C-A373-BF8131ADDD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FF4F-75F8-4D15-A7AD-7FA3372F11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BF81-83B5-4E25-9C7E-D86CF1A9CF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ADD5-4C71-46A7-B8ED-F59D88DB38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3C66-3B88-4B66-AF24-3558069030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54DD-F3E4-463E-9923-760B2BCC8D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Прямоугольник 3" descr=""/>
          <p:cNvPicPr/>
          <p:nvPr/>
        </p:nvPicPr>
        <p:blipFill>
          <a:blip r:embed="rId1"/>
          <a:stretch/>
        </p:blipFill>
        <p:spPr>
          <a:xfrm>
            <a:off x="1139760" y="-92160"/>
            <a:ext cx="6931080" cy="30369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6" descr="C:\Documents and Settings\Администратор\Рабочий стол\main.jpg"/>
          <p:cNvPicPr/>
          <p:nvPr/>
        </p:nvPicPr>
        <p:blipFill>
          <a:blip r:embed="rId2"/>
          <a:srcRect l="34279" t="0" r="18589" b="0"/>
          <a:stretch/>
        </p:blipFill>
        <p:spPr>
          <a:xfrm>
            <a:off x="571680" y="2357280"/>
            <a:ext cx="8143560" cy="4143600"/>
          </a:xfrm>
          <a:prstGeom prst="rect">
            <a:avLst/>
          </a:prstGeom>
          <a:ln w="0">
            <a:noFill/>
          </a:ln>
        </p:spPr>
      </p:pic>
      <p:pic>
        <p:nvPicPr>
          <p:cNvPr id="501" name="Прямоугольник 4" descr=""/>
          <p:cNvPicPr/>
          <p:nvPr/>
        </p:nvPicPr>
        <p:blipFill>
          <a:blip r:embed="rId3"/>
          <a:stretch/>
        </p:blipFill>
        <p:spPr>
          <a:xfrm>
            <a:off x="2998800" y="6168960"/>
            <a:ext cx="693108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C:\Documents and Settings\Администратор\Рабочий стол\Новая вагоны\ресоран.jpg"/>
          <p:cNvPicPr/>
          <p:nvPr/>
        </p:nvPicPr>
        <p:blipFill>
          <a:blip r:embed="rId1"/>
          <a:stretch/>
        </p:blipFill>
        <p:spPr>
          <a:xfrm>
            <a:off x="142920" y="500040"/>
            <a:ext cx="8715240" cy="60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C:\Documents and Settings\Администратор\Рабочий стол\Новая вагоны\плацк.jpg"/>
          <p:cNvPicPr/>
          <p:nvPr/>
        </p:nvPicPr>
        <p:blipFill>
          <a:blip r:embed="rId1"/>
          <a:stretch/>
        </p:blipFill>
        <p:spPr>
          <a:xfrm>
            <a:off x="357120" y="357120"/>
            <a:ext cx="839016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WordArt 5"/>
          <p:cNvSpPr txBox="1"/>
          <p:nvPr/>
        </p:nvSpPr>
        <p:spPr>
          <a:xfrm>
            <a:off x="1582560" y="5732640"/>
            <a:ext cx="5618520" cy="857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зови вид поезд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3" name="Picture 5" descr="C:\Documents and Settings\Администратор\Рабочий стол\Новая вагоны\состав груз.jpg"/>
          <p:cNvPicPr/>
          <p:nvPr/>
        </p:nvPicPr>
        <p:blipFill>
          <a:blip r:embed="rId3"/>
          <a:srcRect l="24608" t="33222" r="3322" b="4475"/>
          <a:stretch/>
        </p:blipFill>
        <p:spPr>
          <a:xfrm>
            <a:off x="849240" y="85680"/>
            <a:ext cx="7569360" cy="57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C:\Documents and Settings\Администратор\Рабочий стол\Новая вагоны\тепловоз пассаж.jpg"/>
          <p:cNvPicPr/>
          <p:nvPr/>
        </p:nvPicPr>
        <p:blipFill>
          <a:blip r:embed="rId1"/>
          <a:srcRect l="0" t="6409" r="6301" b="21079"/>
          <a:stretch/>
        </p:blipFill>
        <p:spPr>
          <a:xfrm>
            <a:off x="324000" y="299880"/>
            <a:ext cx="8569080" cy="5327640"/>
          </a:xfrm>
          <a:prstGeom prst="rect">
            <a:avLst/>
          </a:prstGeom>
          <a:ln w="0">
            <a:noFill/>
          </a:ln>
        </p:spPr>
      </p:pic>
      <p:sp>
        <p:nvSpPr>
          <p:cNvPr id="515" name="WordArt 5"/>
          <p:cNvSpPr txBox="1"/>
          <p:nvPr/>
        </p:nvSpPr>
        <p:spPr>
          <a:xfrm>
            <a:off x="1562040" y="5516640"/>
            <a:ext cx="5618160" cy="857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зови вид поез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WordArt 4"/>
          <p:cNvSpPr txBox="1"/>
          <p:nvPr/>
        </p:nvSpPr>
        <p:spPr>
          <a:xfrm>
            <a:off x="1071720" y="333360"/>
            <a:ext cx="73580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, ребята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7" name="Picture 3" descr="C:\Documents and Settings\Администратор\Рабочий стол\отправка.jpg"/>
          <p:cNvPicPr/>
          <p:nvPr/>
        </p:nvPicPr>
        <p:blipFill>
          <a:blip r:embed="rId3"/>
          <a:stretch/>
        </p:blipFill>
        <p:spPr>
          <a:xfrm>
            <a:off x="714240" y="1643040"/>
            <a:ext cx="77565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4" descr="C:\Documents and Settings\Администратор\Рабочий стол\Новая вагоны\хоппер.jpg"/>
          <p:cNvPicPr/>
          <p:nvPr/>
        </p:nvPicPr>
        <p:blipFill>
          <a:blip r:embed="rId1"/>
          <a:stretch/>
        </p:blipFill>
        <p:spPr>
          <a:xfrm>
            <a:off x="928800" y="142920"/>
            <a:ext cx="757224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4" descr="C:\Documents and Settings\Администратор\Рабочий стол\Новая вагоны\плптформа.jpg"/>
          <p:cNvPicPr/>
          <p:nvPr/>
        </p:nvPicPr>
        <p:blipFill>
          <a:blip r:embed="rId1"/>
          <a:srcRect l="0" t="11115" r="0" b="13887"/>
          <a:stretch/>
        </p:blipFill>
        <p:spPr>
          <a:xfrm>
            <a:off x="285840" y="714240"/>
            <a:ext cx="874224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C:\Documents and Settings\Администратор\Рабочий стол\Новая вагоны\цистерна.jpg"/>
          <p:cNvPicPr/>
          <p:nvPr/>
        </p:nvPicPr>
        <p:blipFill>
          <a:blip r:embed="rId1"/>
          <a:srcRect l="0" t="8656" r="7626" b="19452"/>
          <a:stretch/>
        </p:blipFill>
        <p:spPr>
          <a:xfrm>
            <a:off x="357120" y="357120"/>
            <a:ext cx="858852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3" descr="C:\Documents and Settings\Администратор\Рабочий стол\кр.jpg"/>
          <p:cNvPicPr/>
          <p:nvPr/>
        </p:nvPicPr>
        <p:blipFill>
          <a:blip r:embed="rId1"/>
          <a:stretch/>
        </p:blipFill>
        <p:spPr>
          <a:xfrm>
            <a:off x="500040" y="571680"/>
            <a:ext cx="842976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3" descr="C:\Documents and Settings\Администратор\Рабочий стол\1дум.jpg"/>
          <p:cNvPicPr/>
          <p:nvPr/>
        </p:nvPicPr>
        <p:blipFill>
          <a:blip r:embed="rId1"/>
          <a:srcRect l="9090" t="0" r="0" b="0"/>
          <a:stretch/>
        </p:blipFill>
        <p:spPr>
          <a:xfrm>
            <a:off x="142920" y="500040"/>
            <a:ext cx="878508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C:\Documents and Settings\Администратор\Рабочий стол\Новая вагоны\почтово-юагаж.jpg"/>
          <p:cNvPicPr/>
          <p:nvPr/>
        </p:nvPicPr>
        <p:blipFill>
          <a:blip r:embed="rId1"/>
          <a:stretch/>
        </p:blipFill>
        <p:spPr>
          <a:xfrm>
            <a:off x="357120" y="285840"/>
            <a:ext cx="857268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C:\Documents and Settings\Администратор\Рабочий стол\Новая вагоны\дверб купе.jpg"/>
          <p:cNvPicPr/>
          <p:nvPr/>
        </p:nvPicPr>
        <p:blipFill>
          <a:blip r:embed="rId1"/>
          <a:stretch/>
        </p:blipFill>
        <p:spPr>
          <a:xfrm>
            <a:off x="2143080" y="142920"/>
            <a:ext cx="5500800" cy="66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C:\Documents and Settings\Администратор\Рабочий стол\Новая вагоны\купе в поезде.jpg"/>
          <p:cNvPicPr/>
          <p:nvPr/>
        </p:nvPicPr>
        <p:blipFill>
          <a:blip r:embed="rId1"/>
          <a:stretch/>
        </p:blipFill>
        <p:spPr>
          <a:xfrm>
            <a:off x="357120" y="142920"/>
            <a:ext cx="8491680" cy="621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0:36:48Z</dcterms:created>
  <dc:creator>tusja</dc:creator>
  <dc:description/>
  <dc:language>en-US</dc:language>
  <cp:lastModifiedBy>Любовь</cp:lastModifiedBy>
  <dcterms:modified xsi:type="dcterms:W3CDTF">2016-11-13T11:13:09Z</dcterms:modified>
  <cp:revision>36</cp:revision>
  <dc:subject/>
  <dc:title>Слайд 1</dc:title>
</cp:coreProperties>
</file>