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8B46F-A5A0-4AA7-B62A-43EF9B699C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EB21-9DD5-44D6-BF16-E3F97BBEFB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8B94-BAC0-455B-B2E1-3DDD51842A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D685-E602-476A-9674-9E9B62580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95D-9887-4A70-BE6E-A6CAC1395B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3BF4-78A0-4CEE-B348-282FCA99AE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A3E-2E1E-4938-9241-36C231161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BC9C-5A60-4D47-A8A0-8183026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976D-4F4F-4952-9963-3DD9C898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053B-443E-4B9F-B6DC-E94C0DB7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46FE-E0BA-4795-A616-BA20CA5E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0D5F-8208-4521-B792-8113656E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F87-B3A6-4A39-9726-7025F4B4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679-7B53-4D7E-AB4D-3313C125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0E3-BCE5-4794-B3D4-20C0A875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5617-0A2C-4EFA-A374-80913B37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701-B5B2-4C4D-BA57-0342DB4E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BD1-D142-41E0-803F-8DBDA282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fffff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6BA4-494F-4511-9117-1E07CEB447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5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8840" y="1700280"/>
            <a:ext cx="843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и спички так, чтобы общее число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тало равным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5" descr="Спичка2.gif"/>
          <p:cNvPicPr/>
          <p:nvPr/>
        </p:nvPicPr>
        <p:blipFill>
          <a:blip r:embed="rId2"/>
          <a:stretch/>
        </p:blipFill>
        <p:spPr>
          <a:xfrm>
            <a:off x="3059280" y="4365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Спичка2.gif"/>
          <p:cNvPicPr/>
          <p:nvPr/>
        </p:nvPicPr>
        <p:blipFill>
          <a:blip r:embed="rId3"/>
          <a:stretch/>
        </p:blipFill>
        <p:spPr>
          <a:xfrm rot="3535800">
            <a:off x="3380760" y="3899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Спичка2.gif"/>
          <p:cNvPicPr/>
          <p:nvPr/>
        </p:nvPicPr>
        <p:blipFill>
          <a:blip r:embed="rId4"/>
          <a:stretch/>
        </p:blipFill>
        <p:spPr>
          <a:xfrm rot="7235400">
            <a:off x="2803680" y="38282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Спичка2.gif"/>
          <p:cNvPicPr/>
          <p:nvPr/>
        </p:nvPicPr>
        <p:blipFill>
          <a:blip r:embed="rId5"/>
          <a:stretch/>
        </p:blipFill>
        <p:spPr>
          <a:xfrm rot="3535800">
            <a:off x="3957120" y="4836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Спичка2.gif"/>
          <p:cNvPicPr/>
          <p:nvPr/>
        </p:nvPicPr>
        <p:blipFill>
          <a:blip r:embed="rId6"/>
          <a:stretch/>
        </p:blipFill>
        <p:spPr>
          <a:xfrm rot="7235400">
            <a:off x="2227680" y="4763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5" descr="Спичка2.gif"/>
          <p:cNvPicPr/>
          <p:nvPr/>
        </p:nvPicPr>
        <p:blipFill>
          <a:blip r:embed="rId7"/>
          <a:stretch/>
        </p:blipFill>
        <p:spPr>
          <a:xfrm rot="7235400">
            <a:off x="1651320" y="5771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5" descr="Спичка2.gif"/>
          <p:cNvPicPr/>
          <p:nvPr/>
        </p:nvPicPr>
        <p:blipFill>
          <a:blip r:embed="rId8"/>
          <a:stretch/>
        </p:blipFill>
        <p:spPr>
          <a:xfrm rot="3535800">
            <a:off x="4532760" y="5771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Спичка2.gif"/>
          <p:cNvPicPr/>
          <p:nvPr/>
        </p:nvPicPr>
        <p:blipFill>
          <a:blip r:embed="rId9"/>
          <a:stretch/>
        </p:blipFill>
        <p:spPr>
          <a:xfrm>
            <a:off x="2482920" y="522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63528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197820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313056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21164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5" descr="Спичка2.gif"/>
          <p:cNvPicPr/>
          <p:nvPr/>
        </p:nvPicPr>
        <p:blipFill>
          <a:blip r:embed="rId14"/>
          <a:stretch/>
        </p:blipFill>
        <p:spPr>
          <a:xfrm rot="3535800">
            <a:off x="280404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Спичка2.gif"/>
          <p:cNvPicPr/>
          <p:nvPr/>
        </p:nvPicPr>
        <p:blipFill>
          <a:blip r:embed="rId15"/>
          <a:stretch/>
        </p:blipFill>
        <p:spPr>
          <a:xfrm rot="3535800">
            <a:off x="229968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5" descr="Спичка2.gif"/>
          <p:cNvPicPr/>
          <p:nvPr/>
        </p:nvPicPr>
        <p:blipFill>
          <a:blip r:embed="rId16"/>
          <a:stretch/>
        </p:blipFill>
        <p:spPr>
          <a:xfrm rot="3535800">
            <a:off x="338076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Спичка2.gif"/>
          <p:cNvPicPr/>
          <p:nvPr/>
        </p:nvPicPr>
        <p:blipFill>
          <a:blip r:embed="rId17"/>
          <a:stretch/>
        </p:blipFill>
        <p:spPr>
          <a:xfrm rot="7235400">
            <a:off x="330696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5" descr="Спичка2.gif"/>
          <p:cNvPicPr/>
          <p:nvPr/>
        </p:nvPicPr>
        <p:blipFill>
          <a:blip r:embed="rId18"/>
          <a:stretch/>
        </p:blipFill>
        <p:spPr>
          <a:xfrm rot="7235400">
            <a:off x="2803680" y="569988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5" descr="Спичка2.gif"/>
          <p:cNvPicPr/>
          <p:nvPr/>
        </p:nvPicPr>
        <p:blipFill>
          <a:blip r:embed="rId19"/>
          <a:stretch/>
        </p:blipFill>
        <p:spPr>
          <a:xfrm rot="18035400">
            <a:off x="3957120" y="56995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9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0"/>
          <p:cNvSpPr/>
          <p:nvPr/>
        </p:nvSpPr>
        <p:spPr>
          <a:xfrm>
            <a:off x="2124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1"/>
          <p:cNvSpPr/>
          <p:nvPr/>
        </p:nvSpPr>
        <p:spPr>
          <a:xfrm>
            <a:off x="3276720" y="551664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2"/>
          <p:cNvSpPr/>
          <p:nvPr/>
        </p:nvSpPr>
        <p:spPr>
          <a:xfrm>
            <a:off x="4356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3"/>
          <p:cNvSpPr/>
          <p:nvPr/>
        </p:nvSpPr>
        <p:spPr>
          <a:xfrm rot="10800000">
            <a:off x="270036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4"/>
          <p:cNvSpPr/>
          <p:nvPr/>
        </p:nvSpPr>
        <p:spPr>
          <a:xfrm rot="10800000">
            <a:off x="378000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5"/>
          <p:cNvSpPr/>
          <p:nvPr/>
        </p:nvSpPr>
        <p:spPr>
          <a:xfrm>
            <a:off x="2700360" y="3789360"/>
            <a:ext cx="1800360" cy="1368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6"/>
          <p:cNvSpPr/>
          <p:nvPr/>
        </p:nvSpPr>
        <p:spPr>
          <a:xfrm>
            <a:off x="1692360" y="3284640"/>
            <a:ext cx="3816360" cy="3024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8"/>
          <p:cNvSpPr txBox="1"/>
          <p:nvPr/>
        </p:nvSpPr>
        <p:spPr>
          <a:xfrm>
            <a:off x="7380360" y="465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9" name="Picture 69" descr="0_96113_89b6302d_XL"/>
          <p:cNvPicPr/>
          <p:nvPr/>
        </p:nvPicPr>
        <p:blipFill>
          <a:blip r:embed="rId20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41858 -0.14074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394 C 0.02135 0.00834 0.0427 0.01505 0.06423 0.01829 C 0.08663 0.02732 0.10086 0.02639 0.12708 0.02778 C 0.15208 0.02709 0.17725 0.02709 0.20225 0.02616 C 0.22239 0.02524 0.24513 0.0169 0.2651 0.01343 C 0.26718 0.0125 0.26927 0.01111 0.27135 0.01042 C 0.27447 0.00903 0.28072 0.00718 0.28072 0.00741 C 0.28819 0.00139 0.29253 -0.00578 0.29965 -0.0118 C 0.30833 -0.01898 0.3151 -0.02731 0.32309 -0.03541 C 0.325 -0.03726 0.3276 -0.03819 0.32951 -0.04004 C 0.3342 -0.04537 0.33732 -0.05509 0.34513 -0.0574 C 0.35017 -0.05902 0.35572 -0.05926 0.36076 -0.06064 C 0.37204 -0.06342 0.38246 -0.06689 0.39375 -0.06851 C 0.40243 -0.07152 0.40694 -0.07801 0.41423 -0.08264 C 0.41805 -0.08541 0.42343 -0.08564 0.42673 -0.08912 C 0.43576 -0.09814 0.446 -0.10532 0.45503 -0.11435 C 0.45868 -0.11805 0.46163 -0.12245 0.46597 -0.12523 C 0.46909 -0.12754 0.47222 -0.12939 0.47534 -0.13171 C 0.47691 -0.13264 0.48003 -0.13472 0.48003 -0.13449 C 0.48333 -0.13981 0.4875 -0.14305 0.48958 -0.14907 C 0.48888 -0.15231 0.48541 -0.1662 0.48316 -0.16944 C 0.48229 -0.17106 0.47986 -0.17152 0.47847 -0.17268 C 0.47517 -0.17569 0.47222 -0.17893 0.46909 -0.18217 C 0.46788 -0.18333 0.46597 -0.18287 0.46441 -0.18356 C 0.45677 -0.1875 0.44878 -0.18981 0.44079 -0.19305 C 0.43385 -0.19606 0.42743 -0.20162 0.42048 -0.20416 C 0.41128 -0.20764 0.40017 -0.21018 0.39062 -0.21203 C 0.33107 -0.21041 0.34704 -0.21412 0.31215 -0.20254 C 0.30138 -0.19166 0.30642 -0.1956 0.29809 -0.19004 C 0.29618 -0.18703 0.29548 -0.18333 0.2934 -0.18055 C 0.29062 -0.17708 0.28385 -0.17106 0.28385 -0.17083 C 0.28055 -0.16111 0.2776 -0.15995 0.28715 -0.1537 C 0.28941 -0.14652 0.29218 -0.14583 0.29965 -0.14583 E">
                                      <p:cBhvr>
                                        <p:cTn id="1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4011 -0.10301 0.08073 -0.20579 0.13924 -0.22291 C 0.19844 -0.24004 0.30868 -0.12407 0.35347 -0.10278 C 0.39775 -0.08148 0.40174 -0.08842 0.40643 -0.09537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5600" y="1700280"/>
            <a:ext cx="82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спички так, чтобы образовалось 5 квадр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5" descr="Спичка2.gif"/>
          <p:cNvPicPr/>
          <p:nvPr/>
        </p:nvPicPr>
        <p:blipFill>
          <a:blip r:embed="rId2"/>
          <a:stretch/>
        </p:blipFill>
        <p:spPr>
          <a:xfrm>
            <a:off x="1403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Спичка2.gif"/>
          <p:cNvPicPr/>
          <p:nvPr/>
        </p:nvPicPr>
        <p:blipFill>
          <a:blip r:embed="rId3"/>
          <a:stretch/>
        </p:blipFill>
        <p:spPr>
          <a:xfrm>
            <a:off x="1403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Спичка2.gif"/>
          <p:cNvPicPr/>
          <p:nvPr/>
        </p:nvPicPr>
        <p:blipFill>
          <a:blip r:embed="rId4"/>
          <a:stretch/>
        </p:blipFill>
        <p:spPr>
          <a:xfrm>
            <a:off x="1547640" y="314172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5" descr="Спичка2.gif"/>
          <p:cNvPicPr/>
          <p:nvPr/>
        </p:nvPicPr>
        <p:blipFill>
          <a:blip r:embed="rId5"/>
          <a:stretch/>
        </p:blipFill>
        <p:spPr>
          <a:xfrm>
            <a:off x="270036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5" descr="Спичка2.gif"/>
          <p:cNvPicPr/>
          <p:nvPr/>
        </p:nvPicPr>
        <p:blipFill>
          <a:blip r:embed="rId6"/>
          <a:stretch/>
        </p:blipFill>
        <p:spPr>
          <a:xfrm>
            <a:off x="147636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5" descr="Спичка2.gif"/>
          <p:cNvPicPr/>
          <p:nvPr/>
        </p:nvPicPr>
        <p:blipFill>
          <a:blip r:embed="rId7"/>
          <a:stretch/>
        </p:blipFill>
        <p:spPr>
          <a:xfrm>
            <a:off x="385128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627280" y="65977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4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2"/>
          <p:cNvSpPr txBox="1"/>
          <p:nvPr/>
        </p:nvSpPr>
        <p:spPr>
          <a:xfrm>
            <a:off x="7380360" y="4653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3" name="Рисунок 15" descr="Спичка2.gif"/>
          <p:cNvPicPr/>
          <p:nvPr/>
        </p:nvPicPr>
        <p:blipFill>
          <a:blip r:embed="rId9"/>
          <a:stretch/>
        </p:blipFill>
        <p:spPr>
          <a:xfrm>
            <a:off x="1403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70836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48436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859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859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48436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255600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78000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708360" y="551664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3708360" y="4365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4859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1547640" y="429264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Спичка2.gif"/>
          <p:cNvPicPr/>
          <p:nvPr/>
        </p:nvPicPr>
        <p:blipFill>
          <a:blip r:embed="rId21"/>
          <a:stretch/>
        </p:blipFill>
        <p:spPr>
          <a:xfrm>
            <a:off x="3851280" y="42926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Спичка2.gif"/>
          <p:cNvPicPr/>
          <p:nvPr/>
        </p:nvPicPr>
        <p:blipFill>
          <a:blip r:embed="rId22"/>
          <a:stretch/>
        </p:blipFill>
        <p:spPr>
          <a:xfrm>
            <a:off x="2627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5" descr="Спичка2.gif"/>
          <p:cNvPicPr/>
          <p:nvPr/>
        </p:nvPicPr>
        <p:blipFill>
          <a:blip r:embed="rId23"/>
          <a:stretch/>
        </p:blipFill>
        <p:spPr>
          <a:xfrm>
            <a:off x="3851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Спичка2.gif"/>
          <p:cNvPicPr/>
          <p:nvPr/>
        </p:nvPicPr>
        <p:blipFill>
          <a:blip r:embed="rId24"/>
          <a:stretch/>
        </p:blipFill>
        <p:spPr>
          <a:xfrm>
            <a:off x="147636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Спичка2.gif"/>
          <p:cNvPicPr/>
          <p:nvPr/>
        </p:nvPicPr>
        <p:blipFill>
          <a:blip r:embed="rId25"/>
          <a:stretch/>
        </p:blipFill>
        <p:spPr>
          <a:xfrm>
            <a:off x="2700360" y="429264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2"/>
          <p:cNvSpPr/>
          <p:nvPr/>
        </p:nvSpPr>
        <p:spPr>
          <a:xfrm>
            <a:off x="161928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3"/>
          <p:cNvSpPr/>
          <p:nvPr/>
        </p:nvSpPr>
        <p:spPr>
          <a:xfrm>
            <a:off x="392436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4"/>
          <p:cNvSpPr/>
          <p:nvPr/>
        </p:nvSpPr>
        <p:spPr>
          <a:xfrm>
            <a:off x="2771640" y="4508640"/>
            <a:ext cx="8654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61928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6"/>
          <p:cNvSpPr/>
          <p:nvPr/>
        </p:nvSpPr>
        <p:spPr>
          <a:xfrm>
            <a:off x="392436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7" descr="0_96113_89b6302d_XL"/>
          <p:cNvPicPr/>
          <p:nvPr/>
        </p:nvPicPr>
        <p:blipFill>
          <a:blip r:embed="rId26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41736 0.08403 E">
                                      <p:cBhvr>
                                        <p:cTn id="5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362E-019 L 0.27552 -0.19954 E">
                                      <p:cBhvr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63004 -0.17847 E">
                                      <p:cBhvr>
                                        <p:cTn id="7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40157 -0.45139 E">
                                      <p:cBhvr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21040" y="1773360"/>
            <a:ext cx="60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ложить одну спичку так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лучилось верн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5" descr="Спичка2.gif"/>
          <p:cNvPicPr/>
          <p:nvPr/>
        </p:nvPicPr>
        <p:blipFill>
          <a:blip r:embed="rId2"/>
          <a:stretch/>
        </p:blipFill>
        <p:spPr>
          <a:xfrm rot="7320000">
            <a:off x="1508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5" descr="Спичка2.gif"/>
          <p:cNvPicPr/>
          <p:nvPr/>
        </p:nvPicPr>
        <p:blipFill>
          <a:blip r:embed="rId3"/>
          <a:stretch/>
        </p:blipFill>
        <p:spPr>
          <a:xfrm>
            <a:off x="4932360" y="342900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5" descr="Спичка2.gif"/>
          <p:cNvPicPr/>
          <p:nvPr/>
        </p:nvPicPr>
        <p:blipFill>
          <a:blip r:embed="rId4"/>
          <a:stretch/>
        </p:blipFill>
        <p:spPr>
          <a:xfrm rot="4694400">
            <a:off x="3884760" y="5051880"/>
            <a:ext cx="1067040" cy="1256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5" descr="Спичка2.gif"/>
          <p:cNvPicPr/>
          <p:nvPr/>
        </p:nvPicPr>
        <p:blipFill>
          <a:blip r:embed="rId5"/>
          <a:stretch/>
        </p:blipFill>
        <p:spPr>
          <a:xfrm rot="4321800">
            <a:off x="136476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Спичка2.gif"/>
          <p:cNvPicPr/>
          <p:nvPr/>
        </p:nvPicPr>
        <p:blipFill>
          <a:blip r:embed="rId6"/>
          <a:stretch/>
        </p:blipFill>
        <p:spPr>
          <a:xfrm>
            <a:off x="3132000" y="3141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5" descr="Спичка2.gif"/>
          <p:cNvPicPr/>
          <p:nvPr/>
        </p:nvPicPr>
        <p:blipFill>
          <a:blip r:embed="rId7"/>
          <a:stretch/>
        </p:blipFill>
        <p:spPr>
          <a:xfrm>
            <a:off x="406872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55600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5" descr="Спичка2.gif"/>
          <p:cNvPicPr/>
          <p:nvPr/>
        </p:nvPicPr>
        <p:blipFill>
          <a:blip r:embed="rId9"/>
          <a:stretch/>
        </p:blipFill>
        <p:spPr>
          <a:xfrm rot="14490000">
            <a:off x="1508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5" descr="Спичка2.gif"/>
          <p:cNvPicPr/>
          <p:nvPr/>
        </p:nvPicPr>
        <p:blipFill>
          <a:blip r:embed="rId10"/>
          <a:stretch/>
        </p:blipFill>
        <p:spPr>
          <a:xfrm rot="6505800">
            <a:off x="4172040" y="505188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5" descr="Спичка2.gif"/>
          <p:cNvPicPr/>
          <p:nvPr/>
        </p:nvPicPr>
        <p:blipFill>
          <a:blip r:embed="rId11"/>
          <a:stretch/>
        </p:blipFill>
        <p:spPr>
          <a:xfrm rot="17062800">
            <a:off x="1724400" y="505188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6372360" y="3141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2627280" y="35733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843280" y="5013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4932360" y="378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5" descr="Спичка2.gif"/>
          <p:cNvPicPr/>
          <p:nvPr/>
        </p:nvPicPr>
        <p:blipFill>
          <a:blip r:embed="rId16"/>
          <a:stretch/>
        </p:blipFill>
        <p:spPr>
          <a:xfrm rot="7320000">
            <a:off x="3740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Спичка2.gif"/>
          <p:cNvPicPr/>
          <p:nvPr/>
        </p:nvPicPr>
        <p:blipFill>
          <a:blip r:embed="rId17"/>
          <a:stretch/>
        </p:blipFill>
        <p:spPr>
          <a:xfrm rot="14490000">
            <a:off x="3740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5003640" y="486900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644364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500364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5" descr="Спичка2.gif"/>
          <p:cNvPicPr/>
          <p:nvPr/>
        </p:nvPicPr>
        <p:blipFill>
          <a:blip r:embed="rId21"/>
          <a:stretch/>
        </p:blipFill>
        <p:spPr>
          <a:xfrm rot="7320000">
            <a:off x="640584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5" descr="Спичка2.gif"/>
          <p:cNvPicPr/>
          <p:nvPr/>
        </p:nvPicPr>
        <p:blipFill>
          <a:blip r:embed="rId22"/>
          <a:stretch/>
        </p:blipFill>
        <p:spPr>
          <a:xfrm rot="14490000">
            <a:off x="640620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4" descr="0_96113_89b6302d_XL"/>
          <p:cNvPicPr/>
          <p:nvPr/>
        </p:nvPicPr>
        <p:blipFill>
          <a:blip r:embed="rId2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07083 -1.85185E-006 E">
                                      <p:cBhvr>
                                        <p:cTn id="1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8.14815E-006 L 0.07883 8.14815E-006 E">
                                      <p:cBhvr>
                                        <p:cTn id="11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974520" y="1557360"/>
            <a:ext cx="50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ложить 4 спички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чтобы получилось 3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7380360" y="429264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2195640" y="3068640"/>
            <a:ext cx="20872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3348000" y="4292640"/>
            <a:ext cx="2087640" cy="19429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5" descr="Спичка2.gif"/>
          <p:cNvPicPr/>
          <p:nvPr/>
        </p:nvPicPr>
        <p:blipFill>
          <a:blip r:embed="rId2"/>
          <a:stretch/>
        </p:blipFill>
        <p:spPr>
          <a:xfrm>
            <a:off x="2050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5" descr="Спичка2.gif"/>
          <p:cNvPicPr/>
          <p:nvPr/>
        </p:nvPicPr>
        <p:blipFill>
          <a:blip r:embed="rId3"/>
          <a:stretch/>
        </p:blipFill>
        <p:spPr>
          <a:xfrm>
            <a:off x="2195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Спичка2.gif"/>
          <p:cNvPicPr/>
          <p:nvPr/>
        </p:nvPicPr>
        <p:blipFill>
          <a:blip r:embed="rId4"/>
          <a:stretch/>
        </p:blipFill>
        <p:spPr>
          <a:xfrm>
            <a:off x="212400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5" descr="Спичка2.gif"/>
          <p:cNvPicPr/>
          <p:nvPr/>
        </p:nvPicPr>
        <p:blipFill>
          <a:blip r:embed="rId5"/>
          <a:stretch/>
        </p:blipFill>
        <p:spPr>
          <a:xfrm>
            <a:off x="4427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Спичка2.gif"/>
          <p:cNvPicPr/>
          <p:nvPr/>
        </p:nvPicPr>
        <p:blipFill>
          <a:blip r:embed="rId6"/>
          <a:stretch/>
        </p:blipFill>
        <p:spPr>
          <a:xfrm>
            <a:off x="2050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Спичка2.gif"/>
          <p:cNvPicPr/>
          <p:nvPr/>
        </p:nvPicPr>
        <p:blipFill>
          <a:blip r:embed="rId7"/>
          <a:stretch/>
        </p:blipFill>
        <p:spPr>
          <a:xfrm>
            <a:off x="5506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Спичка2.gif"/>
          <p:cNvPicPr/>
          <p:nvPr/>
        </p:nvPicPr>
        <p:blipFill>
          <a:blip r:embed="rId8"/>
          <a:stretch/>
        </p:blipFill>
        <p:spPr>
          <a:xfrm>
            <a:off x="3203640" y="407664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Спичка2.gif"/>
          <p:cNvPicPr/>
          <p:nvPr/>
        </p:nvPicPr>
        <p:blipFill>
          <a:blip r:embed="rId9"/>
          <a:stretch/>
        </p:blipFill>
        <p:spPr>
          <a:xfrm>
            <a:off x="5506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5506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050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427640" y="6308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35600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3274920" y="2852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3274920" y="5084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27492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348000" y="4003560"/>
            <a:ext cx="1066680" cy="12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4"/>
          <p:cNvSpPr/>
          <p:nvPr/>
        </p:nvSpPr>
        <p:spPr>
          <a:xfrm>
            <a:off x="3419640" y="414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5" descr="0_96113_89b6302d_XL"/>
          <p:cNvPicPr/>
          <p:nvPr/>
        </p:nvPicPr>
        <p:blipFill>
          <a:blip r:embed="rId18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00468 0.16944 E">
                                      <p:cBhvr>
                                        <p:cTn id="12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2483 0.00625 E">
                                      <p:cBhvr>
                                        <p:cTn id="12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1.38889E-006 -0.17847 E">
                                      <p:cBhvr>
                                        <p:cTn id="12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8.67362E-019 L 0.11823 8.67362E-019 E">
                                      <p:cBhvr>
                                        <p:cTn id="12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4"/>
          <p:cNvSpPr txBox="1"/>
          <p:nvPr/>
        </p:nvSpPr>
        <p:spPr>
          <a:xfrm>
            <a:off x="503280" y="136440"/>
            <a:ext cx="5043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омашнее задан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5760" y="1484280"/>
            <a:ext cx="75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Расположите 8 спичек так, чтобы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треугольника и квадрат, располага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пички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1" descr="Спичка2.gif"/>
          <p:cNvPicPr/>
          <p:nvPr/>
        </p:nvPicPr>
        <p:blipFill>
          <a:blip r:embed="rId2"/>
          <a:stretch/>
        </p:blipFill>
        <p:spPr>
          <a:xfrm>
            <a:off x="140328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1" descr="Спичка2.gif"/>
          <p:cNvPicPr/>
          <p:nvPr/>
        </p:nvPicPr>
        <p:blipFill>
          <a:blip r:embed="rId3"/>
          <a:stretch/>
        </p:blipFill>
        <p:spPr>
          <a:xfrm>
            <a:off x="212400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1" descr="Спичка2.gif"/>
          <p:cNvPicPr/>
          <p:nvPr/>
        </p:nvPicPr>
        <p:blipFill>
          <a:blip r:embed="rId4"/>
          <a:stretch/>
        </p:blipFill>
        <p:spPr>
          <a:xfrm>
            <a:off x="2627280" y="328464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1" descr="Спичка2.gif"/>
          <p:cNvPicPr/>
          <p:nvPr/>
        </p:nvPicPr>
        <p:blipFill>
          <a:blip r:embed="rId5"/>
          <a:stretch/>
        </p:blipFill>
        <p:spPr>
          <a:xfrm>
            <a:off x="1763640" y="3357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Спичка2.gif"/>
          <p:cNvPicPr/>
          <p:nvPr/>
        </p:nvPicPr>
        <p:blipFill>
          <a:blip r:embed="rId6"/>
          <a:stretch/>
        </p:blipFill>
        <p:spPr>
          <a:xfrm>
            <a:off x="2916360" y="3141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1" descr="Спичка2.gif"/>
          <p:cNvPicPr/>
          <p:nvPr/>
        </p:nvPicPr>
        <p:blipFill>
          <a:blip r:embed="rId7"/>
          <a:stretch/>
        </p:blipFill>
        <p:spPr>
          <a:xfrm>
            <a:off x="1116000" y="3068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1" descr="Спичка2.gif"/>
          <p:cNvPicPr/>
          <p:nvPr/>
        </p:nvPicPr>
        <p:blipFill>
          <a:blip r:embed="rId8"/>
          <a:stretch/>
        </p:blipFill>
        <p:spPr>
          <a:xfrm>
            <a:off x="755640" y="335772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1" descr="Спичка2.gif"/>
          <p:cNvPicPr/>
          <p:nvPr/>
        </p:nvPicPr>
        <p:blipFill>
          <a:blip r:embed="rId9"/>
          <a:stretch/>
        </p:blipFill>
        <p:spPr>
          <a:xfrm>
            <a:off x="324000" y="3213000"/>
            <a:ext cx="217440" cy="33022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6"/>
          <p:cNvSpPr/>
          <p:nvPr/>
        </p:nvSpPr>
        <p:spPr>
          <a:xfrm flipH="1" rot="3729000">
            <a:off x="3623400" y="1879200"/>
            <a:ext cx="1368360" cy="252072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6" descr="Спичка2.gif"/>
          <p:cNvPicPr/>
          <p:nvPr/>
        </p:nvPicPr>
        <p:blipFill>
          <a:blip r:embed="rId10"/>
          <a:stretch/>
        </p:blipFill>
        <p:spPr>
          <a:xfrm rot="3594000">
            <a:off x="4714560" y="2257200"/>
            <a:ext cx="208080" cy="3132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6" descr="Спичка2.gif"/>
          <p:cNvPicPr/>
          <p:nvPr/>
        </p:nvPicPr>
        <p:blipFill>
          <a:blip r:embed="rId11"/>
          <a:stretch/>
        </p:blipFill>
        <p:spPr>
          <a:xfrm rot="19989600">
            <a:off x="3277800" y="2831760"/>
            <a:ext cx="190440" cy="30607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6" descr="Спичка2.gif"/>
          <p:cNvPicPr/>
          <p:nvPr/>
        </p:nvPicPr>
        <p:blipFill>
          <a:blip r:embed="rId12"/>
          <a:stretch/>
        </p:blipFill>
        <p:spPr>
          <a:xfrm rot="19961400">
            <a:off x="5151600" y="3481200"/>
            <a:ext cx="209520" cy="3132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6" descr="Спичка2.gif"/>
          <p:cNvPicPr/>
          <p:nvPr/>
        </p:nvPicPr>
        <p:blipFill>
          <a:blip r:embed="rId13"/>
          <a:stretch/>
        </p:blipFill>
        <p:spPr>
          <a:xfrm rot="3594000">
            <a:off x="3921840" y="4136400"/>
            <a:ext cx="216000" cy="3132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2"/>
          <p:cNvSpPr/>
          <p:nvPr/>
        </p:nvSpPr>
        <p:spPr>
          <a:xfrm flipH="1" rot="14377800">
            <a:off x="3706920" y="5157360"/>
            <a:ext cx="136836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3"/>
          <p:cNvSpPr/>
          <p:nvPr/>
        </p:nvSpPr>
        <p:spPr>
          <a:xfrm flipH="1" rot="9133200">
            <a:off x="5362920" y="3499200"/>
            <a:ext cx="1368720" cy="252144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4"/>
          <p:cNvSpPr/>
          <p:nvPr/>
        </p:nvSpPr>
        <p:spPr>
          <a:xfrm flipH="1" rot="19938000">
            <a:off x="2050560" y="3573360"/>
            <a:ext cx="136872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 rot="19929600">
            <a:off x="3850920" y="4292640"/>
            <a:ext cx="1046160" cy="100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0.33472 0.0007 E">
                                      <p:cBhvr>
                                        <p:cTn id="15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17726 -0.27223 E">
                                      <p:cBhvr>
                                        <p:cTn id="157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L 0.23628 0.23078 E">
                                      <p:cBhvr>
                                        <p:cTn id="16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6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441 -0.01041 E">
                                      <p:cBhvr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15:49Z</dcterms:created>
  <dc:creator>Мама</dc:creator>
  <dc:description/>
  <dc:language>en-US</dc:language>
  <cp:lastModifiedBy>Admin</cp:lastModifiedBy>
  <dcterms:modified xsi:type="dcterms:W3CDTF">2015-06-26T12:44:03Z</dcterms:modified>
  <cp:revision>19</cp:revision>
  <dc:subject/>
  <dc:title>Слайд 1</dc:title>
</cp:coreProperties>
</file>