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627-0D6F-412D-B73C-21C0990E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3FB-F383-4A7B-ACA9-CD01E4E7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4AD-A87E-497D-A7C9-AC606AD9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E74-7122-4D4C-B99C-A3773D8B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6195-FCC5-4A8B-BE61-523547B1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6E62-71CD-4BBA-BFA7-4C56B034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152F-6488-42A9-B5A9-9D1B32BE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F24C-2B58-4FE9-98C6-79D47174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543E-E4AD-417C-A1E3-7DE938FD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C879-DA49-43A1-8C1C-09CC38FD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2311-6603-4D41-9E88-91B4325A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64B-AB85-4800-8D7C-BDE26888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3C5E-478E-4890-A257-4F133E64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1271-56E4-4F44-A339-4621700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317E-62A0-49ED-A0FA-BE48C6F4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636D-6004-4599-90F2-6D9B6B10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E8C1-6DAE-414B-B62A-E1FFA51C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43C-634C-409B-97F2-8FC45B45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07E-FDBA-452F-9AFF-702FD23C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F60-C064-4FED-8163-987750CB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5B1-5CB4-4C2A-97D2-847F7767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30CA-E668-4169-9013-EDA16A63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C68-022A-429E-B482-EAAB5606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982-4067-4824-9BDE-70A92D1E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D6F9-5E80-4FCB-BE9F-B1910AD3A2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FAAB-C991-408C-B2EE-9BC2CEEC04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3;&#1077;&#1082;&#1090;&#1088;&#1080;&#1095;&#1077;&#1089;&#1082;&#1080;&#1081;_&#1090;&#1086;&#1082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3"/>
          <p:cNvSpPr/>
          <p:nvPr/>
        </p:nvSpPr>
        <p:spPr>
          <a:xfrm>
            <a:off x="304920" y="129528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, НАУКИ И МОЛОДЁЖНОЙ ПОЛИТИКИ КРАСНОДАРСКОГО КРА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 КРАСНОДАРСКОГО КРА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КРАСНОДАРСКИЙ МОНТАЖНЫЙ ТЕХНИКУМ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304920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МА ЗАНЯТИЯ: «ВЫПРЯМИТЕ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4648320" y="403848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Разработал: преподаватель спец.дисцип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Тиунов Сергей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3106800" y="5564520"/>
            <a:ext cx="293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Times New Roman"/>
              </a:rPr>
              <a:t>Краснод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Times New Roman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ЫПРЯМИТЕ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прямит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электрического то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— преобразователь электрической энергии; механическое, электровакуумное, полупроводниковое или другое устройство, предназначенное для преобразования переменного входного электрического тока в постоянный выходной электрический т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Выпрямители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 переменного напряж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ются в блоках питания радиоэлектронных устройств для преобразования переменного напряжения в постоян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хема любого выпрямителя состоит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Силовой трансформат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устройство для понижения или повышения напряжения питающей сети и гальванической развязки сети с аппарату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ыпрямительный элемент (вентиль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меющий одностороннюю проводимость – для преобразования переменного напряжения в пульсирующе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Фильт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ля сглаживания пульсирующего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лассификация выпрямител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о схеме выпрямл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днополупериодные, двухполупериодные, мостовые, с удвоением (умножением) напряжения, многофазные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о типу выпрямительного элемен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ламповые(кенотронные), полупроводниковые, газотронные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о величине выпрямленного напряж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низкого напряжения и высо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о назначени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для питания анодных цепей, цепей экранирующих сеток, цепей управляющих сеток, коллекторных цепей транзисторов, для зарядки аккумуляторо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характеристики выпрямителей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оминальное напряжение постоянного то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оминальный выпрямленный ток I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апряжение сети Uс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ульс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Частота пульс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Коэффициент пульс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Коэффициент фильтр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Колебания (нестабильность) напряжения на выходе выпрям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днополупериодный выпрямитель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2 - Напряжение на вторичной обмотке трансформа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н – Напряжение на нагруз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н0 – Напряжение на нагрузке при отсутствии конденс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ow2_15odno"/>
          <p:cNvPicPr/>
          <p:nvPr/>
        </p:nvPicPr>
        <p:blipFill>
          <a:blip r:embed="rId1"/>
          <a:stretch/>
        </p:blipFill>
        <p:spPr>
          <a:xfrm>
            <a:off x="457200" y="1676520"/>
            <a:ext cx="8001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вухполупериодный выпрямитель с нулевой точ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2 - Напряжение на одной половине вторичной обмотки трансформа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н – Напряжение на нагруз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н0 – Напряжение на нагрузке при отсутствии конденса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ow2_15dwuh"/>
          <p:cNvPicPr/>
          <p:nvPr/>
        </p:nvPicPr>
        <p:blipFill>
          <a:blip r:embed="rId1"/>
          <a:stretch/>
        </p:blipFill>
        <p:spPr>
          <a:xfrm>
            <a:off x="457200" y="1628640"/>
            <a:ext cx="80773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остовая схема выпрямителя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2 - Напряжение вторичной обмотки трансформа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н – Напряжение на нагруз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н0 – Напряжение на нагрузке при отсутствии конденс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pow2_15most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ы диодов в мостовой схеме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рямителя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Ris9"/>
          <p:cNvPicPr/>
          <p:nvPr/>
        </p:nvPicPr>
        <p:blipFill>
          <a:blip r:embed="rId1"/>
          <a:srcRect l="0" t="0" r="0" b="5575"/>
          <a:stretch/>
        </p:blipFill>
        <p:spPr>
          <a:xfrm>
            <a:off x="1295280" y="1143000"/>
            <a:ext cx="6172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ж</dc:creator>
  <dc:description/>
  <dc:language>en-US</dc:language>
  <cp:lastModifiedBy>Серж</cp:lastModifiedBy>
  <dcterms:modified xsi:type="dcterms:W3CDTF">2018-06-21T16:41:1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