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700-80A7-4DBA-AA2F-1AB6EC1E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3D5-2BC1-4A29-A300-F6C64711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96E-34EC-4943-9BA7-D275DC9A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EF3-8821-462D-9947-9885BC5F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EB3-E1F1-4552-9F47-399A903C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8154-2A41-457F-8EA6-E1F77DC6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606B-3204-4454-AF0E-9C58FA9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285-FC2F-419A-BF06-7D26FB1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27FE-0FA3-45BF-A02B-4B7D2D6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F6D7-2511-44D0-AA8A-1495DAB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7FA5-FFC9-4246-B0AD-911E617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F0A-82CC-46BB-B83C-9D747A9D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4041-AF5F-482A-9C79-A14DC02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0059-E51D-4C89-A583-4587901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3DE8-6FA4-45E0-9410-B0D42F6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1ACD-A0E8-4F70-9E9A-83EA9636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32FD-F58E-4C04-8786-EB11BDD4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7D4-7C4E-4053-BA90-7D680102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331-93F4-4000-8BC7-6156756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993-86D1-443E-B1EE-6B58F278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3FD-4828-496B-BDCC-6B104117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465-86AF-41E4-A994-46AF3F9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96F-983A-476D-B4FE-8FC7E75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7B3-2BF2-4E97-8910-82E8CA3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4BB9-F703-4DF6-BD3E-1A9C4CE161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AD41-6C17-406A-B543-5370EE799F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0;&#1095;&#1077;&#1089;&#1082;&#1080;&#1081;_&#1090;&#1086;&#108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304920" y="129528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, НАУКИ И МОЛОДЁЖНОЙ ПОЛИТИКИ КРАСНОДАРСК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КРАСНОДАРСКОГО КР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КРАСНОДАРСКИЙ МОНТАЖНЫЙ ТЕХНИКУМ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304920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МА ЗАНЯТИЯ: «ВЫПРЯМИ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4648320" y="40384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работал: преподаватель спец.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Тиунов Сергей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3106800" y="5564520"/>
            <a:ext cx="293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Times New Roman"/>
              </a:rPr>
              <a:t>Краснод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Arial"/>
                <a:ea typeface="Times New Roman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ЫПРЯМ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прям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электрического то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— преобразователь электрической энергии; механическое, электровакуумное, полупроводниковое или другое устройство, предназначенное для преобразования переменного входного электрического тока в постоянный выходной электрический 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Выпрямители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 переменного напряж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ются в блоках питания радиоэлектронных устройств для преобразования переменного напряжения в постоян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хема любого выпрямителя состоит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иловой трансформат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стройство для понижения или повышения напряжения питающей сети и гальванической развязки сети с аппара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ыпрямительный элемент (вентиль)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ющий одностороннюю проводимость – для преобразования переменного напряжения в пульсирующе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Фильт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ля сглаживания пульсирующего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лассификация выпрямител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схеме выпрямл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днополупериодные, двухполупериодные, мостовые, с удвоением (умножением) напряжения, многофазны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типу выпрямительного элемен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ламповые(кенотронные), полупроводниковые, газотронные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величине выпрямленного напряж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изкого напряжения и высо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 назначен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для питания анодных цепей, цепей экранирующих сеток, цепей управляющих сеток, коллекторных цепей транзисторов, для зарядки аккумулятор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характеристики выпрямителей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оминальное напряжение постоянного то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оминальный выпрямленный ток I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Напряжение сети U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ульс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Частота пульс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эффициент пульс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эффициент фильтр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лебания (нестабильность) напряжения на выходе выпрям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днополупериодный выпрямитель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на вторичной обмотке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w2_15odno"/>
          <p:cNvPicPr/>
          <p:nvPr/>
        </p:nvPicPr>
        <p:blipFill>
          <a:blip r:embed="rId1"/>
          <a:stretch/>
        </p:blipFill>
        <p:spPr>
          <a:xfrm>
            <a:off x="457200" y="1676520"/>
            <a:ext cx="8001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вухполупериодный выпрямитель с нулевой точ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на одной половине вторичной обмотки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ow2_15dwuh"/>
          <p:cNvPicPr/>
          <p:nvPr/>
        </p:nvPicPr>
        <p:blipFill>
          <a:blip r:embed="rId1"/>
          <a:stretch/>
        </p:blipFill>
        <p:spPr>
          <a:xfrm>
            <a:off x="457200" y="1628640"/>
            <a:ext cx="80773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остовая схема выпрямителя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2 - Напряжение вторичной обмотки трансформ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 – Напряжение на нагруз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н0 – Напряжение на нагрузке при отсутствии конденс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ow2_15most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ы диодов в мостовой схеме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рямителя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Ris9"/>
          <p:cNvPicPr/>
          <p:nvPr/>
        </p:nvPicPr>
        <p:blipFill>
          <a:blip r:embed="rId1"/>
          <a:srcRect l="0" t="0" r="0" b="5575"/>
          <a:stretch/>
        </p:blipFill>
        <p:spPr>
          <a:xfrm>
            <a:off x="1295280" y="1143000"/>
            <a:ext cx="6172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ж</dc:creator>
  <dc:description/>
  <dc:language>en-US</dc:language>
  <cp:lastModifiedBy>Серж</cp:lastModifiedBy>
  <dcterms:modified xsi:type="dcterms:W3CDTF">2018-06-21T16:41:16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