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D4DA-8681-4158-BAB4-F62369967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8A1F-8B64-4EDA-BCB8-B8D84AC2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5163-8B13-4399-A1AF-596A190A5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D44-F554-40B3-8F61-17E65823C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8E4-D1CD-4548-802E-FFB6499C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65CA-9A66-4A13-893C-64714B532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9364-E93E-44CE-AB9B-B78EA9DB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5853-237C-41D7-B831-BBE6FB787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B78B-FD34-4EC2-BA0F-2F3A3C52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7558-A0B8-41F1-A7AA-A7793782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BC63-48A4-408A-89AC-8C871FA6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75FC-E03C-48BF-BC64-2AC0102A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D22C-2A3A-4E66-AE97-82557C6AF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70c0"/>
                </a:solidFill>
                <a:latin typeface="Calibri Light"/>
              </a:rPr>
              <a:t>Задача на сообщающиеся сосуды.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792000" y="1968120"/>
            <a:ext cx="418320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Дано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16см = 0,16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13600 кг/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800 кг/м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Найт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- ?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64000" y="173304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Решение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Запишем формулу для давления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 ρgh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По условию задачи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ли 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g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 = 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g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тсюда    h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= (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рт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) / ρ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Calibri"/>
              </a:rPr>
              <a:t>н = 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,7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Ответ:  h</a:t>
            </a:r>
            <a:r>
              <a:rPr b="0" lang="ru-RU" sz="2600" spc="-1" strike="noStrike" baseline="-25000">
                <a:solidFill>
                  <a:srgbClr val="ff0000"/>
                </a:solidFill>
                <a:latin typeface="Calibri"/>
              </a:rPr>
              <a:t>н = </a:t>
            </a:r>
            <a:r>
              <a:rPr b="0" lang="ru-RU" sz="2600" spc="-1" strike="noStrike">
                <a:solidFill>
                  <a:srgbClr val="ff0000"/>
                </a:solidFill>
                <a:latin typeface="Calibri"/>
              </a:rPr>
              <a:t>2,7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792000" y="214200"/>
            <a:ext cx="1002996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4444"/>
                </a:solidFill>
                <a:latin typeface="Arial"/>
                <a:ea typeface="Times New Roman"/>
              </a:rPr>
              <a:t>Какую высоту должен иметь столб нефти, чтобы уравновесить в сообщающихся сосудах столб ртути высотой 16см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 advTm="128000"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4" dur="1" fill="hold"/>
                                  <p:tgtEl>
                                    <p:spTgt spid="43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5T18:24:06Z</dcterms:created>
  <dc:creator>Ekaterina</dc:creator>
  <dc:description/>
  <dc:language>en-US</dc:language>
  <cp:lastModifiedBy>User</cp:lastModifiedBy>
  <dcterms:modified xsi:type="dcterms:W3CDTF">2018-02-09T07:26:45Z</dcterms:modified>
  <cp:revision>11</cp:revision>
  <dc:subject/>
  <dc:title>Задача на сообщающиеся сосуды.</dc:title>
</cp:coreProperties>
</file>