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38B2-2337-4742-957E-9F816E857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36EB-B824-4646-9B2B-8C24BB6C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98E6-0074-476E-B60F-5826C9E0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8287-5EC4-441F-941D-4D7EC8A2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596D-1F1E-478C-8778-EB88A21D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136F-0426-4778-ABCB-3A2949CC2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7511-61EC-47FB-BCF5-4AF21E1C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55DC-E75B-4663-9138-372C964F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322F-065E-4543-8FD2-AC1FDD4C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6C0-87EB-429C-A3F3-81C236E2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E654-799C-4522-80B5-97EB5D15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75B-1524-4C3C-9E6B-9ACF2167C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A5E2-14EE-4535-8BD1-31AE5C25D0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 Light"/>
              </a:rPr>
              <a:t>Задача на сообщающиеся сосуды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92000" y="1968120"/>
            <a:ext cx="41832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ано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16см = 0,16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13600 кг/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800 кг/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Най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173304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пишем формулу для давлени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 ρ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условию 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юда    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 (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/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 =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,7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Ответ:  h</a:t>
            </a:r>
            <a:r>
              <a:rPr b="0" lang="ru-RU" sz="2600" spc="-1" strike="noStrike" baseline="-25000">
                <a:solidFill>
                  <a:srgbClr val="ff0000"/>
                </a:solidFill>
                <a:latin typeface="Calibri"/>
              </a:rPr>
              <a:t>н = 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2,7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792000" y="214200"/>
            <a:ext cx="10029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акую высоту должен иметь столб нефти, чтобы уравновесить в сообщающихся сосудах столб ртути высотой 16с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8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4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8:24:06Z</dcterms:created>
  <dc:creator>Ekaterina</dc:creator>
  <dc:description/>
  <dc:language>en-US</dc:language>
  <cp:lastModifiedBy>User</cp:lastModifiedBy>
  <dcterms:modified xsi:type="dcterms:W3CDTF">2018-02-09T07:26:45Z</dcterms:modified>
  <cp:revision>11</cp:revision>
  <dc:subject/>
  <dc:title>Задача на сообщающиеся сосуды.</dc:title>
</cp:coreProperties>
</file>