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F27-86A2-463D-903B-888AF470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A870-5C77-45D7-85AF-46148B13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9F4D-44B3-498E-A372-4EE2736A1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B1C-5FCE-4767-8B60-6089715F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6251-4F9F-4484-B3D4-44916C8F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FAA4-FD83-432C-A4C1-AA57E092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7060-3374-46CD-9A96-10637E7E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2D06-D368-412A-A0EC-089D317E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86FF-2B7F-4C53-957D-4C5BE43C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FC6CD-5888-45F0-A8B1-B8ECEC9D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18DF-EE69-40A1-9D8B-B3DD7A2E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E678-9B44-44AE-A37A-135219FF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58C-519E-4FEB-9499-2D6E6F897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1D931-5F8B-4310-B261-A9142043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CF4B-D5CC-4F61-A701-85508C6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495D-5E58-4698-9DDD-5FC0D808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54D65-E029-422F-9194-80AD838A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F37-F39E-45D7-8DC4-F6611DBD5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B8F8-26F8-4D60-A6AA-CF3C91F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B7C-9719-48B6-A88C-43233CAB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21C7-7DB3-44E8-8B27-BC0B3BD2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CFA-8A0C-463C-88F4-3809E7A9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5049-FE39-4D8B-9C3B-542889BC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8B92-B5E9-4831-82B3-B9745E57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FF5C80-2398-462E-A864-B2859FD20B67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270E5B-6A22-450F-9CE6-A8D731CBCC1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78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7200" spc="-1" strike="noStrike">
                <a:solidFill>
                  <a:srgbClr val="ff0000"/>
                </a:solidFill>
                <a:latin typeface="Calibri Light"/>
              </a:rPr>
              <a:t>Задачи на движение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407520"/>
            <a:ext cx="105152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отоциклист выехал из пункта А в пункт Б. Если он будет ехать со скоростью 50 км/час, то он опоздает на 2 часа, если со скоростью 65 км/час, то он приедет на час раньше назначенного срока. Найдите расстояние между пунктами А и Б и время, которое затратит мотоциклист если приедет в назначенный срок(не раньше не позже)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374400"/>
            <a:ext cx="10515240" cy="58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2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ракан Валентин объявил, что умеет бегать со скоростью 50 м/мин. Ему не поверили, и правильно: на самом деле Валентин всё перепутал и думал, что в метре 60 сантиметров, а в минуте 100 секунд. С какой скоростью (в "нормальных" м/мин) бегает таракан Валентин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838080" y="621360"/>
            <a:ext cx="1051524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3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тя идёт от дома до школы ровно 6 минут, а его брат Коля – 8 минут. Коля вышел из дома на 1 минуту раньше Пети. Сколько минут потребуется Пети, чтобы догнать брата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838080" y="209160"/>
            <a:ext cx="1051524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4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з двух городов, расстояние между которыми 100 км, одновременно выехали навстречу друг другу два велосипедист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корости которых 12 км/ч и 14 км/ч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им будет расстояние между велосипедистами через 3 часа после начала их движения? 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407520"/>
            <a:ext cx="1051524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5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9.00 Юра вышел из дома и пошёл по прямой дороге со скоростью 6 км/ч. Через некоторое время он развернулся и с той же скоростью пошёл домой. В 12.00 Юре оставалось до дома два километра. На каком расстоянии от дома он развернулся?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838080" y="440640"/>
            <a:ext cx="10515240" cy="573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Задача 6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аленький Мук и королевский скороход соревновались в беге по дорожке длиной 30 км, которая шла вокруг большого луга. По условиям соревнования, выигрывает тот, кто обгонит другого, пробежав на круг больше. Скороход делает круг за 10 мин., а Маленький Мук – за 6 мин. Оба бегут равномерно. Через сколько минут Маленький Мук обгонит скорохода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8080" y="330480"/>
            <a:ext cx="10515240" cy="58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Катер проплыл 72 км между пристанями по течению реки за 2 часа, а против течения – за 3 часа. За сколько часов это расстояние проплывут плоты? 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  <Words>196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9T08:40:58Z</dcterms:created>
  <dc:creator>Admin</dc:creator>
  <dc:description/>
  <dc:language>en-US</dc:language>
  <cp:lastModifiedBy>Admin</cp:lastModifiedBy>
  <dcterms:modified xsi:type="dcterms:W3CDTF">2015-06-29T10:57:29Z</dcterms:modified>
  <cp:revision>8</cp:revision>
  <dc:subject/>
  <dc:title>Задачи на движение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8</vt:r8>
  </property>
</Properties>
</file>