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0C6A-50B3-4E94-A1A9-077BB53E5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99E-9A41-48EF-8BFE-C7DA7699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BFBC-9B75-4007-89C0-A24E51C7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37AD-27C9-46AA-9E1E-F4D65BCB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2DC6-721E-4E22-9839-EAAD62E8D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B795-BD2E-4222-B7F7-7C24B486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584F1-A32E-4F03-8094-891518C2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688A-26CE-49FA-A9EF-F9725E1F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89469-DCA7-4AC5-8A6F-4F251618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F103A-C674-46AD-BE10-97B36A4A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2DA5-D602-48EF-B24E-90C34B51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D22-618A-4B6B-90C0-36AD9240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22D4-0277-409D-80E2-4DC56556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5E02D-9C16-4390-9546-5FE1BE12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C3A38-04DC-4AEE-A821-4AB75952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6F11-E7AA-4F6D-B517-1BDDE245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5991B-AA8D-47FA-A07E-D9BAA6CF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933B-FFBF-4E2F-9104-BFADD55D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853-5E4F-4F25-B015-B5DE30D4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A27B-5608-4396-9CA0-836B66F5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49A3-CFEE-4DAC-85DF-A992B40EE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167D-B01C-418D-81A8-C0BE58F8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E317-D928-43EB-9D11-37B438F6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09F1-84A4-4B15-BC1F-55FDB052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3711B6-919D-40FD-BA30-435E87E9DE6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6659FA-9A50-4B71-8267-0F091E2918A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78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7200" spc="-1" strike="noStrike">
                <a:solidFill>
                  <a:srgbClr val="ff0000"/>
                </a:solidFill>
                <a:latin typeface="Calibri Light"/>
              </a:rPr>
              <a:t>Задачи на движение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38080" y="407520"/>
            <a:ext cx="105152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а 1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тоциклист выехал из пункта А в пункт Б. Если он будет ехать со скоростью 50 км/час, то он опоздает на 2 часа, если со скоростью 65 км/час, то он приедет на час раньше назначенного срока. Найдите расстояние между пунктами А и Б и время, которое затратит мотоциклист если приедет в назначенный срок(не раньше не позже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38080" y="374400"/>
            <a:ext cx="105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а 2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аракан Валентин объявил, что умеет бегать со скоростью 50 м/мин. Ему не поверили, и правильно: на самом деле Валентин всё перепутал и думал, что в метре 60 сантиметров, а в минуте 100 секунд. С какой скоростью (в "нормальных" м/мин) бегает таракан Валентин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8080" y="621360"/>
            <a:ext cx="1051524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а 3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тя идёт от дома до школы ровно 6 минут, а его брат Коля – 8 минут. Коля вышел из дома на 1 минуту раньше Пети. Сколько минут потребуется Пети, чтобы догнать брата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838080" y="209160"/>
            <a:ext cx="1051524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а 4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 двух городов, расстояние между которыми 100 км, одновременно выехали навстречу друг другу два велосипедиста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корости которых 12 км/ч и 14 км/ч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м будет расстояние между велосипедистами через 3 часа после начала их движения? 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407520"/>
            <a:ext cx="105152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а 5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9.00 Юра вышел из дома и пошёл по прямой дороге со скоростью 6 км/ч. Через некоторое время он развернулся и с той же скоростью пошёл домой. В 12.00 Юре оставалось до дома два километра. На каком расстоянии от дома он развернулся?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38080" y="440640"/>
            <a:ext cx="1051524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а 6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ленький Мук и королевский скороход соревновались в беге по дорожке длиной 30 км, которая шла вокруг большого луга. По условиям соревнования, выигрывает тот, кто обгонит другого, пробежав на круг больше. Скороход делает круг за 10 мин., а Маленький Мук – за 6 мин. Оба бегут равномерно. Через сколько минут Маленький Мук обгонит скорохода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8080" y="330480"/>
            <a:ext cx="10515240" cy="58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машнее задани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атер проплыл 72 км между пристанями по течению реки за 2 часа, а против течения – за 3 часа. За сколько часов это расстояние проплывут плоты?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  <Words>196</Words>
  <Paragraphs>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9T08:40:58Z</dcterms:created>
  <dc:creator>Admin</dc:creator>
  <dc:description/>
  <dc:language>en-US</dc:language>
  <cp:lastModifiedBy>Admin</cp:lastModifiedBy>
  <dcterms:modified xsi:type="dcterms:W3CDTF">2015-06-29T10:57:29Z</dcterms:modified>
  <cp:revision>8</cp:revision>
  <dc:subject/>
  <dc:title>Задачи на движе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8</vt:r8>
  </property>
</Properties>
</file>