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3C3F-B0CA-46D7-8590-8264A60AE82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1A87-4543-4D34-A75B-8C6D8B3A5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B54-8AC3-4195-AEC1-0160B157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C62C-4C67-439C-B958-4ED4C742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4C560-5B3E-43BD-B8AA-12D48043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92D48-82C2-4E3A-B60D-4C2B872C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4D44D-EB0E-439D-AAA3-A6D16A7A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ACBE35-BD3B-46FD-BFB7-100CC04E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30D31-0D68-4EE9-B2B7-0C58D302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1E3110-F329-4685-9629-4068B9934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66D0F-696F-4F59-8A3B-7E1CAE0B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08C4B-01F3-4984-9BAE-998D9ED8F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31A13A-43A3-4147-8503-CFD91C1E9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5F9DB-D2A1-4AC1-A51A-290BE974F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2F8-818D-4B15-B89E-BE78B113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0D9A6-2809-4407-BD28-F5651BDB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D3FC7-B36F-48D1-A628-F6F1C9CE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2F16EE-8015-4D66-9A4D-78B2BA20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2A5054-5A68-4419-AA3D-2DEE9AF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A5104-5192-4E70-8D6D-BC34C18F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35C6E-FC4C-4A7C-AE5C-1025065F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A3DF2-7FFE-4628-8CD5-AFFB5891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A3473-FE75-4893-B222-A949A891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B92AB-165E-4C7F-A7D3-281B512E5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FC1F-6C27-4EED-A8A3-237EE8D1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EDC-1DFC-4927-A1CE-271D2AE89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2D3D6-6AEB-4AC3-93D6-7013D577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02F85-0DD7-44F1-85E0-1F21F1D3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2E7F11-9D8F-4359-A742-BAC7FB53F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0389E-2E51-455D-91D2-7302FA18A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88C79B-A784-466C-8994-FA583A11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016D4-5147-4822-AC31-EF477BB9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0A7AFE-E7DD-4A2B-A1D6-CC79A77C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CBB402-A6ED-4BA0-BC5C-CF4F1C3B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460EE-1C8B-4588-87D1-5FCDBF52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EE3EB-5D73-4999-AC22-0E556A4D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5C1D-7E8A-4331-B773-333A5A799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23F30E-7896-47AF-AA70-AA60673E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F86C6-EEC4-4AB5-B805-923365F5D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D0AF3-621E-4A79-B8B0-978C57446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BF7AE-45B7-44D8-8643-38607E548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0C4CD-EAFB-40AF-AE94-EAE4C476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47D71-CB06-4E99-AB6B-A97977D8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437D1-FA2E-4257-ACFA-B6BDB9A02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5E254F-5BB3-49C1-A5D5-059C0DC2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CD6B2A-6BC7-46E9-9ACC-16FF26CE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17B96-0685-460C-99B0-4D0570E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7B66-3AD3-4063-A62D-CBCC7E876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66E54-6261-4A5E-AA72-C193E72E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F76C1C-4297-46D3-AB88-52BBFBAD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54DBAE-B565-492A-BB7A-7D4D13AE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066E0-3FCC-45FE-A67B-5CAD09AB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25470-8AEC-4DC0-B942-F56D9CDED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6FE5-79A6-4BF8-82FC-213B1D4B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EFE2-0971-4FD6-9944-72BEAE18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AC350-006A-4B97-9A51-4C699C130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1611-E0CF-431F-BFB7-BE110E8E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B0F3-7451-407F-BFE8-12FE1327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4A9B-6F51-459E-8812-4C7029A7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DCB4-FC69-4D1D-98D5-5ACDE70F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778-4743-461D-A492-6C007B81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DD25-FE96-4845-9AEA-4D32C181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7598-D8A8-482A-9299-3CDAB98D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86E1-3790-462A-B05D-EA251ECD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AA1B1-ECA2-4EB7-BDAC-A5A7FD71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440D-A637-4B0B-9306-DE99F764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DAE54-8EBE-4254-A008-E870BFFE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1EB0E-320F-4F24-B2CF-5A2C9097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6FC6F-4A2A-4401-BB5A-CBCF6058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96B4-0423-4A5F-B244-BAA7AC9E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5D71F-5FED-44AB-A67A-2D67CBF4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DAA48-9756-4FDB-BC62-3D8D5837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ECB1-4969-4E3F-BE9B-378B884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61E23-4BFD-47D6-A21D-3D9AF7C53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1167-7564-4943-BDE6-A424EC62A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9E7A2-F016-4039-8EFF-59101F36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6A2E-D547-48CD-B8F4-ACD8EC37B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AE7C7-01EE-4F1B-A24A-E1029B73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62C9A-578E-4BCA-961C-287CFA3F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0BAAF-F3B3-4659-9523-904A794D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391-1371-496E-B709-D5B37BFF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58787-81B3-4009-ADDC-35685DC37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9AB45-3E25-4D99-AC5B-DA1ABA1F6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CFCA-14A1-45DC-B04D-D92E8CB7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9E68F-7F34-4EC1-9106-D4D2393F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E6B16-AFDB-4047-B654-92C4AE3C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13263-D902-405B-B627-004CF9383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A437-37AE-4801-BD2F-AFD1784D0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F6C32-8570-451A-9EC7-E9F53811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982E-EC4D-40BC-96D6-1D5B3DAE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FDE2D-8CE8-4754-93D1-FB79813F7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4E0-5674-4B66-8C0D-1B7F709A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8C57A-5D3F-4BC7-A96D-7F0573C2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8054-4844-423D-8465-00E1B791F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91FC3-9DCC-4BE0-9242-54DE0BE20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57B8B-7FEB-4CBE-B2F9-2DA2D3F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3F9FE-2543-41C5-8D59-F12A2A4EB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18E8A-CCD2-4CEC-9573-9054CD28C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49E55-F39F-4448-8289-73C84531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21D13-D28A-46A2-A802-33888869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0B4C0-ADD8-4098-9793-18B9386D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4EAEA-694F-45C1-8E32-4E82F436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CCBB-3CB4-4ACF-B983-89042E77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3467D-96DA-40AD-89A0-FEBADB40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67327-7450-4B24-B9CA-307A8DCB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1421D-7B66-45F1-832C-F9E60F31D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B00FD-4A1D-456D-B595-2F49575C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EFD50-0870-4D09-A75C-2B3CB2D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1F92D-0D6A-473F-88E2-DF6F1515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DF9A8-14F2-4DD5-B36F-B8E10973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E8F75A-5516-460A-A035-E84F7969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A5CC7-EB22-451B-95DD-B3A9A36F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D8485-99AD-4597-B9AC-03A9B3A9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0EC-E387-4E04-BF14-3FB90FCB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81CD8-185B-4BE3-9BFB-0611D435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E19F6-36DF-4EDB-893D-F966081D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597871-D6C4-42D9-9603-83C413F95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22046-5F7C-45A1-84A7-ADC3E7D9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ACFE8-4F1F-4EDE-9021-061A7E4F3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5D9BE-4CAC-4BC9-85E4-96AC2D4C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667B2-07FE-4EFA-B225-78AF30DC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EFB43-723B-4B61-A340-F4953C0D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ACDFF-837C-4977-AD51-AB14B048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69DE6-037B-470F-B66D-D4E56C4D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72F-E6BA-494E-B76B-8FC3E7F7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91BED-30CB-4FA9-BEB1-9396450D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A695E1-F701-456D-8117-D124539A4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1904A-ADC3-4145-A761-3DDE37CD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8D4DD-9B1E-485A-AA1F-9D6DD0FE5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0BE07-D58A-4A1C-9222-525BCE6E8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E1928-F61E-48EA-9F0A-42B73558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0F361-885D-417E-8509-EF036F823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0D90F-BA7C-49C0-A198-409FEF86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BA41A-9808-4E0B-A772-C6CAE72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CBD0B1-3EC3-4091-B0C6-33AE2262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0F0-6092-4660-A3A8-D30EA7C9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BAE6D-EF75-4E9F-8937-15AEA26C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4239E-ECDE-44E8-AC1A-095167D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D2F31-F3AF-458A-A919-F3FC4E96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CEC43-C2F1-4C8E-9966-6574663F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C5D3-5B60-4831-8A0D-1424B6D0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FC0BD-16FF-43D5-8C9C-86D7F7E0A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D6CC29-569D-4B52-98EC-A2565D6FC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7413D-6F7D-4642-9FB3-AADBF31D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011EC0-6EA7-4335-80C0-FCFA364B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4C382-6801-4C09-A675-15C632884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2051-CD0D-4445-9A76-3B5598EF3D6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7D06-2F2E-434C-ACB9-CD0EF60500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8931-246A-4092-91C5-24743604C18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EF384-12AC-4AE0-889A-6C1D78FBA9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2F55-6352-4D6C-BB26-29E7DBC6F7F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409DB-1A1A-4BD0-99CD-8121C48ACE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ACCF-5266-4C27-8CFB-AEFA1A01979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E705-9821-4067-B665-C73D1C1E78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6B23-597B-4B44-9D60-3A77BFA4275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DD71E-58E9-49B0-9C2E-56B80FC57B3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A0F5-A9D3-415A-992F-A6572576BD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59CF-3E34-4D76-BEB2-C20E8167559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66880" y="14475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rbel"/>
              </a:rPr>
              <a:t>ТЕМА УРОКА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294920" y="35812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0e04"/>
                </a:solidFill>
                <a:latin typeface="Corbel"/>
              </a:rPr>
              <a:t>Введение.</a:t>
            </a: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Corbel"/>
              </a:rPr>
              <a:t>Русский язык как развивающееся явление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Определите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ое из данных слов старше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тинки - кроссовки; шуба - куртка; спартакиада - олимпиада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ие формы рода выделенных существительных являются устаревшими?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 Он сидел у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оял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и перелистывал ноты (А. Чехов) - И на покорную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оял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властительно ложились руки. (А. Блок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2. Ветка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топол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уже выбросила бледно-желтые клейкие листочки. (Б. Полевой) - За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тополью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высокой я вижу там окно. (М. Лермонтов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3. Жаркое солнце смотрит в зеленоватое море, точно сквозь тонкую серую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уаль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М. Горький) - Лицо Анны было закрыто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уалем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Л. Толстой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1242720" y="1066680"/>
            <a:ext cx="63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msmincho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"/>
          <p:cNvSpPr/>
          <p:nvPr/>
        </p:nvSpPr>
        <p:spPr>
          <a:xfrm>
            <a:off x="938880" y="2971800"/>
            <a:ext cx="77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smincho"/>
              </a:rPr>
              <a:t>Да и мне не вернуть этих снов э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smincho"/>
              </a:rPr>
              <a:t>веры глубо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02920" y="-171720"/>
            <a:ext cx="74977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08000" y="-316080"/>
          <a:ext cx="9036000" cy="7194600"/>
        </p:xfrm>
        <a:graphic>
          <a:graphicData uri="http://schemas.openxmlformats.org/drawingml/2006/table">
            <a:tbl>
              <a:tblPr/>
              <a:tblGrid>
                <a:gridCol w="720720"/>
                <a:gridCol w="2906640"/>
                <a:gridCol w="3149640"/>
                <a:gridCol w="22590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РФОГРА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..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ас..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..надлеж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Шиповни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ед..не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ри..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..льбер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рав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В)дале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ид..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..вес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..уны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теж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гласись или опровергн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6858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Соч..тать – И, есть суфф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Комари..ый - Н. нет суфф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ч..вка – О, в суфф. под ударени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Мяч..м – О, в окончании под ударени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Кваше..ый – НН, суф. ЕН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(Не)весел – слитно, есть синони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Ничуть (не)лучший – слитно, есть сино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(Н..)кто не знал –Е, безуд. полож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Как(будто) – дефис, суффик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Почему? Сколько орфограмм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горае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–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гор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ь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ливае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–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лив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ь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сс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тилае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–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сс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тил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ь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Мне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здорови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1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каком случае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 выйд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годую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проси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измен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2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акой глагол совершенного вида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еретягива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ринима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Раздае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Выбер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3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каком ряду в обоих словах пишется одна и та же буква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Выгон…т, расстел…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Раста…л, они терп…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н спрашива…т, накле…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оддерж…м, он бре…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4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каком ряду в обоих словах пишется 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пугаеш…ся, поднимает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Сбереч…, угадывает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Надо трудит…ся, заслушаеш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одстереч…, слышит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rbel"/>
              </a:rPr>
              <a:t>В каком примере пропущена буква </a:t>
            </a:r>
            <a:r>
              <a:rPr b="1" i="1" lang="ru-RU" sz="3600" spc="-1" strike="noStrike">
                <a:solidFill>
                  <a:srgbClr val="a50021"/>
                </a:solidFill>
                <a:latin typeface="Corbel"/>
              </a:rPr>
              <a:t>Е</a:t>
            </a:r>
            <a:r>
              <a:rPr b="1" lang="ru-RU" sz="3200" spc="-1" strike="noStrike">
                <a:solidFill>
                  <a:srgbClr val="660066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1) Заунывный ветер гон..т стаю туч на край небес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2) Немедленно выйд..те из комнаты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3) В решете воды не удерж..ш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4) Серебристый стел..тся ковыль вокруг пеще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WordArt 4"/>
          <p:cNvSpPr txBox="1"/>
          <p:nvPr/>
        </p:nvSpPr>
        <p:spPr>
          <a:xfrm>
            <a:off x="6443640" y="189000"/>
            <a:ext cx="46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2991600" y="765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Виссарион Григорьевич Белинск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114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«Язык живет вместе с жизнью народ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формите высказывание как предложение с прямой реч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9" name="Picture 4" descr="86eb75f01adbc7243b32a8e83e0ff078"/>
          <p:cNvPicPr/>
          <p:nvPr/>
        </p:nvPicPr>
        <p:blipFill>
          <a:blip r:embed="rId1"/>
          <a:stretch/>
        </p:blipFill>
        <p:spPr>
          <a:xfrm>
            <a:off x="914400" y="1828800"/>
            <a:ext cx="297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orbel"/>
              </a:rPr>
              <a:t>6. В каком варианте ответа правильно указаны все примеры, где на месте пропуска пишется</a:t>
            </a:r>
            <a:r>
              <a:rPr b="1" lang="ru-RU" sz="2500" spc="-1" strike="noStrike">
                <a:solidFill>
                  <a:srgbClr val="6600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Corbel"/>
              </a:rPr>
              <a:t>Ь</a:t>
            </a:r>
            <a:r>
              <a:rPr b="1" lang="ru-RU" sz="2500" spc="-1" strike="noStrike">
                <a:solidFill>
                  <a:srgbClr val="660066"/>
                </a:solidFill>
                <a:latin typeface="Corbel"/>
              </a:rPr>
              <a:t>?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а) Земля будет менят..ся с каждым век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б) По утрам мне хорошо работает..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в) Я стал спускат..ся по склону го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г) Кто смерти не боит..ся, того и пуля сторонит..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а, г            3) в, 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а, в           4) а, в, 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5992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Corbel"/>
              </a:rPr>
              <a:t>    </a:t>
            </a:r>
            <a:r>
              <a:rPr b="0" i="1" lang="ru-RU" sz="3200" spc="-1" strike="noStrike">
                <a:solidFill>
                  <a:srgbClr val="660066"/>
                </a:solidFill>
                <a:latin typeface="Corbel"/>
              </a:rPr>
              <a:t>7.Укажите неверное объяснение  орфограмм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990360" y="16002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МОЩ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сущ. жен. рода, 3-е ск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)</a:t>
            </a:r>
            <a:r>
              <a:rPr b="0" lang="ru-RU" sz="3200" spc="-1" strike="noStrike">
                <a:solidFill>
                  <a:srgbClr val="0066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СТРИЧ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неопр. форма глаг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)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УЗНАЕШ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глагол 2-го лица един.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)</a:t>
            </a:r>
            <a:r>
              <a:rPr b="0" lang="ru-RU" sz="3200" spc="-1" strike="noStrike">
                <a:solidFill>
                  <a:srgbClr val="0066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ОТРЕЖ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неопред. форма г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ве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-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–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–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–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–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–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–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им и объясни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спредели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412640"/>
            <a:ext cx="82296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                            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ч..т, плеч..м, ч..порный, ж..луди, тренаж..р, зайч..нок, стереж..т, суш..ный, корч..вка, поч..т, трещ..тка, ож..г руку, сильный ож..г, ш..рох, холщ..вый, мальч..нка, врач..м, ш..ковый, туш..нка, калач..м, грузович..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бери примеры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4839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Ь после шип – не пишется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ключение (любое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О-Ё после шип. (Ё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Ы-И после Ц (И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Ы-И после прист. (И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Черед.гл – ударение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Черед.гл. – лексич. знач.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Ь после шип. –пишется 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800000"/>
                </a:solidFill>
                <a:latin typeface="Corbel"/>
              </a:rPr>
              <a:t>Домашнее зад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9047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пр.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нать, почему изменяется язы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Русский язык как развивающееся явление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271c"/>
                </a:solidFill>
                <a:latin typeface="Corbel"/>
              </a:rPr>
              <a:t>     </a:t>
            </a:r>
            <a:r>
              <a:rPr b="1" i="1" lang="ru-RU" sz="2400" spc="-1" strike="noStrike">
                <a:solidFill>
                  <a:srgbClr val="4f271c"/>
                </a:solidFill>
                <a:latin typeface="Corbel"/>
              </a:rPr>
              <a:t>Любой язык развивается в процессе развития обще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обогащается словарный запас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изменяются морфологические нормы языка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появляются новые синтаксические конструкции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закрепляются новые нормы произношения и написания сл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rbel"/>
              </a:rPr>
              <a:t>Факторы, влияющие на изменение словарного состава языка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циально-политические изменения в жизни обществ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имствования из иностранных язы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культуры, науки и техник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ширение экономических и политических связей с другими народ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Внимание - вопрос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23619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rbel"/>
              </a:rPr>
              <a:t>Какая наука занимается изучением словарного состава языка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76160" y="96480"/>
            <a:ext cx="6413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равильно!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4300" spc="-1" strike="noStrike">
                <a:solidFill>
                  <a:srgbClr val="800000"/>
                </a:solidFill>
                <a:latin typeface="Corbel"/>
              </a:rPr>
              <a:t>ЛЕКСИК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520" y="228564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Слова, вышедшие из употребления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бричка, камзол и д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Слова, недавно вошедшие в словарный состав русского языка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рейтинг, программист и д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- Как они называютс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15824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rbel"/>
              </a:rPr>
              <a:t>Расширение лексического состава языка за счет употребления в речи переосмысленных слов и выражений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48960" y="1752120"/>
            <a:ext cx="7661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 ХІХ веке слово 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утренник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имело только одно значение. В словаре Даля читаем: «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утренник – это весенний или осенний ночной мороз».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А какое лексическое значение имеет это слово сегодня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orbel"/>
              </a:rPr>
              <a:t>Изменения в области фонетики и грамматик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8377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русском языке звука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[ф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и буквы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не было. Все слова, начинающееся на букву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заимствованные. Звук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[ф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появился в нашем языке только в ХІІ - ХІІІ веках в результате процесса оглушения в таких словах, как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лавка[лафка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ов[роф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и др.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романе А.С. Пушкина «Евгений Онегин», можно прочитать: «в постелю с бала едет он». Неужели писатель ошибся? Конечно, нет. Дело в том, что в 19 веке слова постель не было, а употреблялось существительное І склонения – посте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800000"/>
                </a:solidFill>
                <a:latin typeface="Corbel"/>
              </a:rPr>
              <a:t>Русский алфави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3" name="Picture 4" descr="5141c8a783c8bba81faf12749f3232ee"/>
          <p:cNvPicPr/>
          <p:nvPr/>
        </p:nvPicPr>
        <p:blipFill>
          <a:blip r:embed="rId1"/>
          <a:stretch/>
        </p:blipFill>
        <p:spPr>
          <a:xfrm>
            <a:off x="304920" y="2362320"/>
            <a:ext cx="2819160" cy="3886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8a14339f4e05e859c9485a546de6c0b5"/>
          <p:cNvPicPr/>
          <p:nvPr/>
        </p:nvPicPr>
        <p:blipFill>
          <a:blip r:embed="rId2"/>
          <a:stretch/>
        </p:blipFill>
        <p:spPr>
          <a:xfrm>
            <a:off x="3352680" y="1600200"/>
            <a:ext cx="2648160" cy="3733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d5fa62d9202a4edcbf90d398e6398c6f"/>
          <p:cNvPicPr/>
          <p:nvPr/>
        </p:nvPicPr>
        <p:blipFill>
          <a:blip r:embed="rId3"/>
          <a:stretch/>
        </p:blipFill>
        <p:spPr>
          <a:xfrm>
            <a:off x="6324480" y="1143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scrn_big_1"/>
          <p:cNvPicPr/>
          <p:nvPr/>
        </p:nvPicPr>
        <p:blipFill>
          <a:blip r:embed="rId4"/>
          <a:stretch/>
        </p:blipFill>
        <p:spPr>
          <a:xfrm>
            <a:off x="6248520" y="2971800"/>
            <a:ext cx="2576520" cy="35053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533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ица (86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3124080" y="5303880"/>
            <a:ext cx="29718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реформа произошла при  Петре Пер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ую азбуку называли «гражданицей» или «гражданк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5791320" y="3049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реформа русского языка произошла в 1917-1918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мз</dc:creator>
  <dc:description/>
  <dc:language>en-US</dc:language>
  <cp:lastModifiedBy>User</cp:lastModifiedBy>
  <dcterms:modified xsi:type="dcterms:W3CDTF">2018-06-21T23:48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