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4D8E-FC7F-47DB-94F2-16FB913F177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D9273-D83B-4184-B029-23100BAF35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5D24-8774-4926-822A-65B82B92A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2E67-CC66-48DA-A7B7-B023E4D4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AFDD69-A2D2-4C26-9DAC-A4868A89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B65502-0D02-4962-9080-A115F70DB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105769-8294-4DDD-8D8E-6C17A53D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C93CCB-140D-494F-BBEA-E3ECCF46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52CCB-E1BF-4CB9-8518-07F48381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9C93A-00A0-42A3-AAC8-64164F2A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51EC8-8F9A-408E-9476-8AFDD367F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FEBD00-B7C3-4E8F-8786-B735B1354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BD10FA-C935-4929-BED2-33AEA674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D7E4F3-AD8E-48A1-AD6B-542000204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C8D-D57F-4A53-ABC1-DDE43E2D7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3D7B1C-1AD3-47C9-A44C-3DDA69F9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2AFB0-118F-44D8-B755-6BDB3FCB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73BD29-AF2D-41A4-8CE9-E0DF9A15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E18A22-8030-4A8E-B2F3-101CDA92D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33601-1624-4651-9645-0A30F0EB8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E781BF-1F41-4739-A9EC-92795FA97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603FFF-FCF9-44D8-A776-C0569056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F06F76-64FB-47EA-B275-D65DEB68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0418C-D23E-4C18-8D2E-3A820697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C7A0D2-C49E-48C0-8F0E-63385EFD4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A6F-034B-4BD4-814D-8AD5F462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71AC7-3FFA-40D0-9DF2-D8301A7E7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16B86-6571-4F30-BE30-776C8617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5B1DD-CD0D-4E0E-9D5D-0EE20EE9C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88998A-449C-42C9-9C2D-0B67F3E6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3FFA4-6C7B-461B-A56A-0E3E4635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982E7-9DD5-4370-B08F-814744E9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399F14-1BA9-41C0-AA69-B78989B83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5CC7ED-760B-4C66-9774-970BBD39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FE725-5810-4631-B9FA-30816212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2BB336-AF26-4BAB-87C6-038EBD0D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1FE17-45BC-4A9F-AFF5-5A2031F49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00F950-96CD-4230-A6EE-FD11C024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479FE6-BDBA-47D3-9E01-14CC2175D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EC4C8-A0FA-4D8C-B666-6845D7AED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A52F1-5532-4847-AF21-5B58F958B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2A424-4E29-465C-BFA9-DEA54178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C30EF-7ACE-4CCE-B6AA-E8981D1A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C40C06-3434-48DF-9E9D-7A1E2A12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49A6F2-0FE4-4387-99B4-7F545A41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6612AE-DE43-484A-B13E-31725206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561BA-9A63-4818-98FD-1F87B18F7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9533-6BFF-41A2-900E-9E01A60D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2F086-955D-4298-B2B3-B181B28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5E29F-A9F2-4FD1-AFCC-CC0C5A99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ACCC5-D176-41E0-BFBE-5C91250B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F9F8E-458F-4831-A7D4-84CD8C1C5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F74122-BF4E-4C74-ABA3-B8641C1B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74ED-8FB4-4D05-8799-AB7DE4F1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F9D9-3F9D-474F-892A-BB84008B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4456-9FF0-4E45-80CF-F01A39A2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C256-DD7B-4034-B1A1-8E19BE65A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62371-4A17-4EAC-9A46-E7C0F308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D349-1DA1-42F0-B296-85FE9EF8A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1944D-5B4F-493B-98EF-140092C9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95A52-04B7-4710-9224-DB07D07F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563CB-21CA-4C27-96ED-BB4DADA6C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709D9-20F2-47DF-A0B8-1A86D88A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15AA1-A130-4F8E-8F54-435C0721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EFDBB-C360-4F0F-B03F-13C82DF7D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97D6E-398A-434D-BF2A-B31379CC0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16195-AFF3-481A-8AA5-865911E4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33F07-D085-44C4-81D0-D3ADC734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63E29-8B6C-4703-9726-3170F35F8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1D0-2710-4E4A-8DC9-903C3968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C275-DDE0-4886-B7AA-6AC865CC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5DC06-706B-4085-8B94-6A639026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57C67-1789-4669-AE1B-AD851A79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9EA2B-5F7C-4129-945A-1C1E751C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4C2C7-07ED-461F-982C-35BEC395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F8E73-B6BA-415E-98BC-0F2C8680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E9D5A-833C-4531-A320-9960C81C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B1570-F1F2-475B-8CAA-EE93B920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C063-56D5-4465-8965-4C6B0DA61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5AE043-AB48-4406-A96B-FD4FD877E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8A1-FD51-4817-8A3B-11BF65D31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DBA07-4028-4F4F-A4CF-8CD050ACD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C34C-4864-4601-A603-5D687E883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ACBC6-C53E-440E-B925-72E5AE074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446EE-9147-4680-8C1E-2E018BD07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884A61-FE8E-4CAC-8922-3A9275111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5BFA06-F26C-4EA7-A42A-8C625D90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64CAC-D27F-42B3-90F7-01FE53C4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CCBE-0E3D-42E0-8AA4-C44A11FFF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21605-97BE-42AA-B142-CF20393C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6A850-03CC-4350-B75B-55514556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CB45-E81B-4AB9-A911-5FE97E2A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AD7D9-F8B1-4CF8-ADB4-2B974D736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06049-501F-4594-AEE7-216FA37A5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0B14A-144D-4950-8BA5-F7CDEAEF3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84919-DBAC-43D6-AEA7-2100B408F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10C45-8AF9-4992-ADF9-BB5BAC90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8C774-3E1A-4237-ACFA-24A219D1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0D37C-DD16-41C0-9FC2-9E765DCEC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18107-826A-4C31-BE23-B6D2FDD34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7E6974-9324-4FBD-ABEA-5D652C063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C4318D-E3DF-44E5-A30E-E8AF69AD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779-0AA1-4E89-91F9-717C1297F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31FC1-9371-4E77-A6F3-2B949E8C9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95F31-F643-42CE-BD0F-FD6DFAD92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BFFF2-E070-42FB-A54E-0DC18188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324174-8AD5-4AEB-86A7-0D2C1FD4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BCB74E-A307-4B35-9011-2E8236C3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BBAA0-52B0-47B4-A36A-944D24CF9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0C24F-4372-49F3-A19E-82DDBF1E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C29D4-CA82-40CC-B12A-EFF782C3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FBD7D-8E8C-4A12-B382-C19DFC25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FDAE5-0708-4A26-81F8-47FC6B2A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D1C-1C03-462D-B33D-3E34F550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C7805-5151-4A67-B94D-DBAC5E90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60FAB-9F28-47D6-98BA-F29169030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18AE5-3990-4C1C-BF07-E26D8E13D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54640-54D2-4D24-BFF0-6E9FC4F7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969ED-6D0E-447F-A559-079361D5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0548C-A664-40B2-B518-575C214B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9BC76-BAE2-4602-9C4A-F618F663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23AAD-353E-458F-8048-6556BA18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9A4BCC-22D0-4590-B5E9-4CCB1DFB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24997-3CCE-4960-B4D1-40A54191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984-0383-43BC-9FEF-41E8E7329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9376B7-A892-4F7B-B368-FA4A561D6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882F5-2348-4AB5-90B7-F607CFABE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56FA6-31D7-4CD7-BA14-22DF92C7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E5F30-518C-4D08-8508-C01322056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7726E-4B13-45EB-AD94-078E1CE9E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38B3B5-68AA-43CE-91DA-BB21ADFA1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5F30FA-56D9-4918-96EF-C2E40590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FE7F2-62BE-476F-97FE-2F10CF6C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BE519-9F94-4C5F-B827-A74B42D1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D858C-AFD2-4A80-9698-3E6613E5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90B3-CC85-492F-B9E7-D6498A5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D3FD75-CAC7-4DB5-B9E6-F8186CCD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0C4AC-9E4A-4051-9E43-20AB4F882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D7925F-6EA1-4AA0-B6AF-ED41208DC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A3058A-B5FD-4614-B222-20823EB2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98F1F-9D37-4075-98EE-3A0887972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EF79D-80EC-44E2-AEB5-441A49EDA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097599-D7A7-43EA-A48F-FB0A1D16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1C7E0B-EE29-4794-962B-8DDC28876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8CB48E-7823-41B5-8A4A-25109226D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AE466-A3E5-475E-A55A-EB08BF1E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D364-0C33-4CAC-AF95-89525592E1D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417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C446-3889-4186-95E9-08E725A50C9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465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8750-BE06-42AE-A6DE-5695F4DB28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ACB2-6B76-4EE6-8728-A3AEBD8F312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214E-E534-4578-A74A-E9DFB60BDEC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0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E1FED-2910-45A3-843C-2173B2D35C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51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5E50E-E1FF-486B-8359-8C90E74F6CC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198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DC6CD-2EEA-40EA-8396-0A57B9F4F05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AAAE-E5C8-4B19-B9B1-0DA0748768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287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3B39-2AA1-49A4-83A3-6B6CB452E1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AB7-5F24-42B4-9630-6C3F922803E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CB5C3-5287-4E07-8EE8-BB05231D522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666880" y="1447560"/>
            <a:ext cx="4191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Corbel"/>
              </a:rPr>
              <a:t>ТЕМА УРОКА:</a:t>
            </a:r>
            <a:endParaRPr b="0" lang="en-US" sz="4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294920" y="3581280"/>
            <a:ext cx="7162920" cy="19051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20e04"/>
                </a:solidFill>
                <a:latin typeface="Corbel"/>
              </a:rPr>
              <a:t>Введение.</a:t>
            </a:r>
            <a:r>
              <a:rPr b="0" lang="ru-RU" sz="4000" spc="-1" strike="noStrike">
                <a:solidFill>
                  <a:srgbClr val="320e04"/>
                </a:solidFill>
                <a:latin typeface="Corbel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Corbel"/>
              </a:rPr>
              <a:t>Русский язык как развивающееся явление.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Определите…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акое из данных слов старше: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ботинки - кроссовки; шуба - куртка; спартакиада - олимпиада?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акие формы рода выделенных существительных являются устаревшими?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. Он сидел у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оял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и перелистывал ноты (А. Чехов) - И на покорную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ояль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властительно ложились руки. (А. Блок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2. Ветка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тополя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уже выбросила бледно-желтые клейкие листочки. (Б. Полевой) - За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тополью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высокой я вижу там окно. (М. Лермонтов)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57480" indent="-276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3. Жаркое солнце смотрит в зеленоватое море, точно сквозь тонкую серую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вуаль.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М. Горький) - Лицо Анны было закрыто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вуалем.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 (Л. Толстой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Box 1"/>
          <p:cNvSpPr/>
          <p:nvPr/>
        </p:nvSpPr>
        <p:spPr>
          <a:xfrm>
            <a:off x="1242720" y="1066680"/>
            <a:ext cx="63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  <a:ea typeface="msmincho"/>
              </a:rPr>
              <a:t>Синтаксический разб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"/>
          <p:cNvSpPr/>
          <p:nvPr/>
        </p:nvSpPr>
        <p:spPr>
          <a:xfrm>
            <a:off x="938880" y="2971800"/>
            <a:ext cx="77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smincho"/>
              </a:rPr>
              <a:t>Да и мне не вернуть этих снов это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msmincho"/>
              </a:rPr>
              <a:t>веры глубоко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02920" y="-171720"/>
            <a:ext cx="7497720" cy="68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900" spc="-1" strike="noStrike">
              <a:solidFill>
                <a:srgbClr val="572314"/>
              </a:solidFill>
              <a:latin typeface="Corbel"/>
            </a:endParaRPr>
          </a:p>
        </p:txBody>
      </p:sp>
      <p:graphicFrame>
        <p:nvGraphicFramePr>
          <p:cNvPr id="595" name=""/>
          <p:cNvGraphicFramePr/>
          <p:nvPr/>
        </p:nvGraphicFramePr>
        <p:xfrm>
          <a:off x="108000" y="-316080"/>
          <a:ext cx="9036000" cy="7194600"/>
        </p:xfrm>
        <a:graphic>
          <a:graphicData uri="http://schemas.openxmlformats.org/drawingml/2006/table">
            <a:tbl>
              <a:tblPr/>
              <a:tblGrid>
                <a:gridCol w="720720"/>
                <a:gridCol w="2906640"/>
                <a:gridCol w="3149640"/>
                <a:gridCol w="225900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СЛОВ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ОРФОГРАМ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Извес..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ас..ны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..надлежа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«Шиповни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5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оед..не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тари..о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7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М..льбер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Справ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9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(В)дале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0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Вид..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н..веск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2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..уны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астеж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гласись или опровергни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457200" y="685800"/>
            <a:ext cx="8229600" cy="45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 Соч..тать – И, есть суфф. А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Комари..ый - Н. нет суфф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Реч..вка – О, в суфф. под ударени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Мяч..м – О, в окончании под ударение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Кваше..ый – НН, суф. ЕНН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(Не)весел – слитно, есть синони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Ничуть (не)лучший – слитно, есть синон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(Н..)кто не знал –Е, безуд. полож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9. Как(будто) – дефис, суффикс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262800" indent="-203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c00000"/>
                </a:solidFill>
                <a:latin typeface="Corbel"/>
              </a:rPr>
              <a:t>Почему? Сколько орфограмм?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згорае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ся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–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згора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ьс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зливае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ся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–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злива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ьс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сс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тилае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ся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–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 ра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сс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тила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ьс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Мне 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не</a:t>
            </a:r>
            <a:r>
              <a:rPr b="1" lang="ru-RU" sz="4000" spc="-1" strike="noStrike">
                <a:solidFill>
                  <a:srgbClr val="0000ff"/>
                </a:solidFill>
                <a:latin typeface="Corbel"/>
              </a:rPr>
              <a:t>здорови</a:t>
            </a:r>
            <a:r>
              <a:rPr b="1" lang="ru-RU" sz="4000" spc="-1" strike="noStrike" u="sng">
                <a:solidFill>
                  <a:srgbClr val="c00000"/>
                </a:solidFill>
                <a:uFillTx/>
                <a:latin typeface="Corbel"/>
              </a:rPr>
              <a:t>тся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Corbel"/>
              </a:rPr>
              <a:t>1.Задания в рамках ЕГЭ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В каком случае НЕ со словом пишется слитно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(не) выйд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(не)годую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(не)проси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(не)измени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Corbel"/>
              </a:rPr>
              <a:t>2.Задания в рамках ЕГЭ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Какой глагол совершенного вида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Перетягива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Принимае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Раздае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Выбер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Corbel"/>
              </a:rPr>
              <a:t>3.Задания в рамках ЕГЭ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В каком ряду в обоих словах пишется одна и та же буква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Выгон…т, расстел…м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Раста…л, они терп…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Он спрашива…т, накле…л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Поддерж…м, он бре…т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ff"/>
                </a:solidFill>
                <a:latin typeface="Corbel"/>
              </a:rPr>
              <a:t>4.Задания в рамках ЕГЭ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В каком ряду в обоих словах пишется Ь?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Испугаеш…ся, поднимает…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Сбереч…, угадывает…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Надо трудит…ся, заслушаеш…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orbel"/>
              </a:rPr>
              <a:t>Подстереч…, слышит…ся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Corbel"/>
              </a:rPr>
              <a:t>В каком примере пропущена буква </a:t>
            </a:r>
            <a:r>
              <a:rPr b="1" i="1" lang="ru-RU" sz="3600" spc="-1" strike="noStrike">
                <a:solidFill>
                  <a:srgbClr val="a50021"/>
                </a:solidFill>
                <a:latin typeface="Corbel"/>
              </a:rPr>
              <a:t>Е</a:t>
            </a:r>
            <a:r>
              <a:rPr b="1" lang="ru-RU" sz="3200" spc="-1" strike="noStrike">
                <a:solidFill>
                  <a:srgbClr val="660066"/>
                </a:solidFill>
                <a:latin typeface="Corbe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1) Заунывный ветер гон..т стаю туч на край небес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2) Немедленно выйд..те из комнаты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3) В решете воды не удерж..ш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	</a:t>
            </a:r>
            <a:r>
              <a:rPr b="1" i="1" lang="ru-RU" sz="3200" spc="-1" strike="noStrike">
                <a:solidFill>
                  <a:srgbClr val="003300"/>
                </a:solidFill>
                <a:latin typeface="Corbel"/>
              </a:rPr>
              <a:t>4) Серебристый стел..тся ковыль вокруг пещеры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9" name="WordArt 4"/>
          <p:cNvSpPr txBox="1"/>
          <p:nvPr/>
        </p:nvSpPr>
        <p:spPr>
          <a:xfrm>
            <a:off x="6443640" y="189000"/>
            <a:ext cx="4608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5</a:t>
            </a:r>
            <a:endParaRPr b="0" i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0" name="TextBox 1"/>
          <p:cNvSpPr/>
          <p:nvPr/>
        </p:nvSpPr>
        <p:spPr>
          <a:xfrm>
            <a:off x="2991600" y="76500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  <a:ea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rbel"/>
              </a:rPr>
              <a:t>Виссарион Григорьевич Белинский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114440" y="19810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«Язык живет вместе с жизнью народа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entury Schoolbook"/>
              </a:rPr>
              <a:t>Оформите высказывание как предложение с прямой речью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569" name="Picture 4" descr="86eb75f01adbc7243b32a8e83e0ff078"/>
          <p:cNvPicPr/>
          <p:nvPr/>
        </p:nvPicPr>
        <p:blipFill>
          <a:blip r:embed="rId1"/>
          <a:stretch/>
        </p:blipFill>
        <p:spPr>
          <a:xfrm>
            <a:off x="914400" y="1828800"/>
            <a:ext cx="2971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60066"/>
                </a:solidFill>
                <a:latin typeface="Corbel"/>
              </a:rPr>
              <a:t>6. В каком варианте ответа правильно указаны все примеры, где на месте пропуска пишется</a:t>
            </a:r>
            <a:r>
              <a:rPr b="1" lang="ru-RU" sz="2500" spc="-1" strike="noStrike">
                <a:solidFill>
                  <a:srgbClr val="660066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Corbel"/>
              </a:rPr>
              <a:t>Ь</a:t>
            </a:r>
            <a:r>
              <a:rPr b="1" lang="ru-RU" sz="2500" spc="-1" strike="noStrike">
                <a:solidFill>
                  <a:srgbClr val="660066"/>
                </a:solidFill>
                <a:latin typeface="Corbel"/>
              </a:rPr>
              <a:t>?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rbel"/>
              </a:rPr>
              <a:t>а) Земля будет менят..ся с каждым веком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rbel"/>
              </a:rPr>
              <a:t>б) По утрам мне хорошо работает..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rbel"/>
              </a:rPr>
              <a:t>в) Я стал спускат..ся по склону горы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ff"/>
                </a:solidFill>
                <a:latin typeface="Corbel"/>
              </a:rPr>
              <a:t>г) Кто смерти не боит..ся, того и пуля сторонит..с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а, г            3) в, 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980640" indent="-5281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Corbel"/>
              </a:rPr>
              <a:t>а, в           4) а, в, г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990360" y="259920"/>
            <a:ext cx="7707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0066"/>
                </a:solidFill>
                <a:latin typeface="Corbel"/>
              </a:rPr>
              <a:t>    </a:t>
            </a:r>
            <a:r>
              <a:rPr b="0" i="1" lang="ru-RU" sz="3200" spc="-1" strike="noStrike">
                <a:solidFill>
                  <a:srgbClr val="660066"/>
                </a:solidFill>
                <a:latin typeface="Corbel"/>
              </a:rPr>
              <a:t>7.Укажите неверное объяснение  орфограммы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990360" y="160020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) </a:t>
            </a:r>
            <a:r>
              <a:rPr b="1" lang="ru-RU" sz="3200" spc="-1" strike="noStrike">
                <a:solidFill>
                  <a:srgbClr val="006600"/>
                </a:solidFill>
                <a:latin typeface="Corbel"/>
              </a:rPr>
              <a:t>МОЩ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Ь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 – сущ. жен. рода, 3-е ск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)</a:t>
            </a:r>
            <a:r>
              <a:rPr b="0" lang="ru-RU" sz="3200" spc="-1" strike="noStrike">
                <a:solidFill>
                  <a:srgbClr val="0066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Corbel"/>
              </a:rPr>
              <a:t>СТРИЧ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Ь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 – неопр. форма глагола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) </a:t>
            </a:r>
            <a:r>
              <a:rPr b="1" lang="ru-RU" sz="3200" spc="-1" strike="noStrike">
                <a:solidFill>
                  <a:srgbClr val="006600"/>
                </a:solidFill>
                <a:latin typeface="Corbel"/>
              </a:rPr>
              <a:t>УЗНАЕШ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Ь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 – глагол 2-го лица един.ч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)</a:t>
            </a:r>
            <a:r>
              <a:rPr b="0" lang="ru-RU" sz="3200" spc="-1" strike="noStrike">
                <a:solidFill>
                  <a:srgbClr val="0066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6600"/>
                </a:solidFill>
                <a:latin typeface="Corbel"/>
              </a:rPr>
              <a:t>ОТРЕЖ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Ь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 – неопред. форма гл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твет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-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–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–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– 3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–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– 2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 – 4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верим и объясни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спределить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457200" y="1412640"/>
            <a:ext cx="8229600" cy="48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                                  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ч..т, плеч..м, ч..порный, ж..луди, тренаж..р, зайч..нок, стереж..т, суш..ный, корч..вка, поч..т, трещ..тка, ож..г руку, сильный ож..г, ш..рох, холщ..вый, мальч..нка, врач..м, ш..ковый, туш..нка, калач..м, грузович..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дбери примеры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457200" y="14839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1.Ь после шип – не пишется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2. Исключение (любое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3. О-Ё после шип. (Ё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4. Ы-И после Ц (И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5. Ы-И после прист. (И)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6. Черед.гл – ударение –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7. Черед.гл. – лексич. знач.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8. Ь после шип. –пишется -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800000"/>
                </a:solidFill>
                <a:latin typeface="Corbel"/>
              </a:rPr>
              <a:t>Домашнее задание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190476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пр.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нать, почему изменяется язык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orbel"/>
              </a:rPr>
              <a:t>Русский язык как развивающееся явление.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f271c"/>
                </a:solidFill>
                <a:latin typeface="Corbel"/>
              </a:rPr>
              <a:t>     </a:t>
            </a:r>
            <a:r>
              <a:rPr b="1" i="1" lang="ru-RU" sz="2400" spc="-1" strike="noStrike">
                <a:solidFill>
                  <a:srgbClr val="4f271c"/>
                </a:solidFill>
                <a:latin typeface="Corbel"/>
              </a:rPr>
              <a:t>Любой язык развивается в процессе развития общества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обогащается словарный запас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изменяются морфологические нормы языка,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появляются новые синтаксические конструкции,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- закрепляются новые нормы произношения и написания сл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3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rbel"/>
              </a:rPr>
              <a:t>Факторы, влияющие на изменение словарного состава языка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оциально-политические изменения в жизни общества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Заимствования из иностранных языков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звитие культуры, науки и техники;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ширение экономических и политических связей с другими народ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Внимание - вопрос!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609480" y="2361960"/>
            <a:ext cx="74678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00"/>
                </a:solidFill>
                <a:latin typeface="Corbel"/>
              </a:rPr>
              <a:t>Какая наука занимается изучением словарного состава языка?</a:t>
            </a:r>
            <a:endParaRPr b="0" lang="en-US" sz="4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1676160" y="96480"/>
            <a:ext cx="641340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ff0000"/>
                </a:solidFill>
                <a:latin typeface="Corbel"/>
              </a:rPr>
              <a:t>Правильно!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r>
              <a:rPr b="1" lang="ru-RU" sz="4300" spc="-1" strike="noStrike">
                <a:solidFill>
                  <a:srgbClr val="800000"/>
                </a:solidFill>
                <a:latin typeface="Corbel"/>
              </a:rPr>
              <a:t>ЛЕКСИКА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80520" y="2285640"/>
            <a:ext cx="8534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Corbel"/>
              </a:rPr>
              <a:t>Слова, вышедшие из употребления: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бричка, камзол и др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1" lang="ru-RU" sz="3200" spc="-1" strike="noStrike">
                <a:solidFill>
                  <a:srgbClr val="800000"/>
                </a:solidFill>
                <a:latin typeface="Corbel"/>
              </a:rPr>
              <a:t>Слова, недавно вошедшие в словарный состав русского языка: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рейтинг, программист и др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orbel"/>
              </a:rPr>
              <a:t>- Как они называются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158240" cy="15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Corbel"/>
              </a:rPr>
              <a:t>Расширение лексического состава языка за счет употребления в речи переосмысленных слов и выражений.</a:t>
            </a: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48960" y="1752120"/>
            <a:ext cx="7661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 algn="ctr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в ХІХ веке слово </a:t>
            </a:r>
            <a:r>
              <a:rPr b="0" i="1" lang="ru-RU" sz="4000" spc="-1" strike="noStrike">
                <a:solidFill>
                  <a:srgbClr val="000000"/>
                </a:solidFill>
                <a:latin typeface="Corbel"/>
              </a:rPr>
              <a:t>утренник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имело только одно значение. В словаре Даля читаем: «</a:t>
            </a:r>
            <a:r>
              <a:rPr b="0" i="1" lang="ru-RU" sz="4000" spc="-1" strike="noStrike" u="sng">
                <a:solidFill>
                  <a:srgbClr val="000000"/>
                </a:solidFill>
                <a:uFillTx/>
                <a:latin typeface="Corbel"/>
              </a:rPr>
              <a:t>утренник – это весенний или осенний ночной мороз».</a:t>
            </a:r>
            <a:r>
              <a:rPr b="0" lang="ru-RU" sz="40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4000" spc="-1" strike="noStrike">
                <a:solidFill>
                  <a:srgbClr val="ff0000"/>
                </a:solidFill>
                <a:latin typeface="Corbel"/>
              </a:rPr>
              <a:t>А какое лексическое значение имеет это слово сегодня?</a:t>
            </a:r>
            <a:endParaRPr b="0" lang="en-US" sz="4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800000"/>
                </a:solidFill>
                <a:latin typeface="Corbel"/>
              </a:rPr>
              <a:t>Изменения в области фонетики и грамматики</a:t>
            </a: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.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8377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русском языке звука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[ф]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и буквы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не было. Все слова, начинающееся на букву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Ф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, заимствованные. Звук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[ф]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появился в нашем языке только в ХІІ - ХІІІ веках в результате процесса оглушения в таких словах, как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лавка[лафка]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ров[роф]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и др.;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 романе А.С. Пушкина «Евгений Онегин», можно прочитать: «в постелю с бала едет он». Неужели писатель ошибся? Конечно, нет. Дело в том, что в 19 веке слова постель не было, а употреблялось существительное І склонения – постеля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31680" y="96840"/>
            <a:ext cx="715788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800000"/>
                </a:solidFill>
                <a:latin typeface="Corbel"/>
              </a:rPr>
              <a:t>Русский алфави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583" name="Picture 4" descr="5141c8a783c8bba81faf12749f3232ee"/>
          <p:cNvPicPr/>
          <p:nvPr/>
        </p:nvPicPr>
        <p:blipFill>
          <a:blip r:embed="rId1"/>
          <a:stretch/>
        </p:blipFill>
        <p:spPr>
          <a:xfrm>
            <a:off x="304920" y="2362320"/>
            <a:ext cx="2819160" cy="38862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5" descr="8a14339f4e05e859c9485a546de6c0b5"/>
          <p:cNvPicPr/>
          <p:nvPr/>
        </p:nvPicPr>
        <p:blipFill>
          <a:blip r:embed="rId2"/>
          <a:stretch/>
        </p:blipFill>
        <p:spPr>
          <a:xfrm>
            <a:off x="3352680" y="1600200"/>
            <a:ext cx="2648160" cy="373392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6" descr="d5fa62d9202a4edcbf90d398e6398c6f"/>
          <p:cNvPicPr/>
          <p:nvPr/>
        </p:nvPicPr>
        <p:blipFill>
          <a:blip r:embed="rId3"/>
          <a:stretch/>
        </p:blipFill>
        <p:spPr>
          <a:xfrm>
            <a:off x="6324480" y="114300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7" descr="scrn_big_1"/>
          <p:cNvPicPr/>
          <p:nvPr/>
        </p:nvPicPr>
        <p:blipFill>
          <a:blip r:embed="rId4"/>
          <a:stretch/>
        </p:blipFill>
        <p:spPr>
          <a:xfrm>
            <a:off x="6248520" y="2971800"/>
            <a:ext cx="2576520" cy="3505320"/>
          </a:xfrm>
          <a:prstGeom prst="rect">
            <a:avLst/>
          </a:prstGeom>
          <a:ln w="0">
            <a:noFill/>
          </a:ln>
        </p:spPr>
      </p:pic>
      <p:sp>
        <p:nvSpPr>
          <p:cNvPr id="587" name="Text Box 8"/>
          <p:cNvSpPr/>
          <p:nvPr/>
        </p:nvSpPr>
        <p:spPr>
          <a:xfrm>
            <a:off x="533520" y="1828800"/>
            <a:ext cx="24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ириллица (863 г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9"/>
          <p:cNvSpPr/>
          <p:nvPr/>
        </p:nvSpPr>
        <p:spPr>
          <a:xfrm>
            <a:off x="3124080" y="5303880"/>
            <a:ext cx="297180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вая реформа произошла при  Петре Перв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акую азбуку называли «гражданицей» или «гражданкой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0"/>
          <p:cNvSpPr/>
          <p:nvPr/>
        </p:nvSpPr>
        <p:spPr>
          <a:xfrm>
            <a:off x="5791320" y="3049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торая реформа русского языка произошла в 1917-1918 го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фмз</dc:creator>
  <dc:description/>
  <dc:language>en-US</dc:language>
  <cp:lastModifiedBy>User</cp:lastModifiedBy>
  <dcterms:modified xsi:type="dcterms:W3CDTF">2018-06-21T23:48:4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