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359D-E26C-45F5-8368-DC1F7D9A5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A20D-F2ED-4B07-9099-5A470793A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0002-ADA0-4699-AD2F-CA140FE7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4F5-8B27-45D2-B741-5C62475D8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C42E-26E7-45E8-98B6-80249D65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78AE-70AB-4487-8D25-49ED572B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752E-CFDD-41DE-8542-71A23A71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9206-6F8C-4DC9-A5C1-A9083856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C49D-33EA-4A9E-BACA-CACDE361C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174-A663-4B71-AB80-10CFDFCE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FBC-8B25-4545-AEFF-59A68E7B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768E-9FB7-4965-B1F0-28520CE8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2124-E4C1-4053-8034-4D45E895F8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Brutroehre_Riparia_riparia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dufuture.biz/index.php?title=&#1060;&#1072;&#1081;&#1083;:29-03-011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857160" y="1714680"/>
            <a:ext cx="77868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13180a"/>
                </a:solidFill>
                <a:latin typeface="Arial"/>
              </a:rPr>
              <a:t>А. Плещее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3180a"/>
                </a:solidFill>
                <a:latin typeface="Arial"/>
              </a:rPr>
              <a:t>«Сельская песенка»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3180a"/>
                </a:solidFill>
                <a:latin typeface="Arial"/>
              </a:rPr>
              <a:t>А. Май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3180a"/>
                </a:solidFill>
                <a:latin typeface="Arial"/>
              </a:rPr>
              <a:t>«Ласточка примчалась…», «Вес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Содержимое 4"/>
          <p:cNvSpPr/>
          <p:nvPr/>
        </p:nvSpPr>
        <p:spPr>
          <a:xfrm>
            <a:off x="960480" y="5187960"/>
            <a:ext cx="7319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Monotype Corsiva"/>
              </a:rPr>
              <a:t>Ласточка    под   кровлю – к    счаст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Monotype Corsiva"/>
              </a:rPr>
              <a:t>Одна    ласточка    весны   не  дел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Кирилл и Ксения\Desktop\Ксюня\ШКОЛА\№89\Чтение\images.jpg"/>
          <p:cNvPicPr/>
          <p:nvPr/>
        </p:nvPicPr>
        <p:blipFill>
          <a:blip r:embed="rId2"/>
          <a:stretch/>
        </p:blipFill>
        <p:spPr>
          <a:xfrm>
            <a:off x="1174680" y="641520"/>
            <a:ext cx="6864480" cy="42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Кирилл и Ксения\Desktop\Ксюня\ШКОЛА\№89\Чтение\8258_big.jpg"/>
          <p:cNvPicPr/>
          <p:nvPr/>
        </p:nvPicPr>
        <p:blipFill>
          <a:blip r:embed="rId3"/>
          <a:stretch/>
        </p:blipFill>
        <p:spPr>
          <a:xfrm>
            <a:off x="1174680" y="638280"/>
            <a:ext cx="6888240" cy="425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Кирилл и Ксения\Desktop\Ксюня\ШКОЛА\№89\Чтение\80417.jpg"/>
          <p:cNvPicPr/>
          <p:nvPr/>
        </p:nvPicPr>
        <p:blipFill>
          <a:blip r:embed="rId4"/>
          <a:stretch/>
        </p:blipFill>
        <p:spPr>
          <a:xfrm>
            <a:off x="1174680" y="638280"/>
            <a:ext cx="6888240" cy="425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upload.wikimedia.org/wikipedia/commons/thumb/1/1e/Brutroehre_Riparia_riparia.JPG/250px-Brutroehre_Riparia_ripari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74680" y="620640"/>
            <a:ext cx="688824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29-03-09.jpg"/>
          <p:cNvPicPr/>
          <p:nvPr/>
        </p:nvPicPr>
        <p:blipFill>
          <a:blip r:embed="rId2"/>
          <a:stretch/>
        </p:blipFill>
        <p:spPr>
          <a:xfrm>
            <a:off x="426960" y="585720"/>
            <a:ext cx="8290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29-03-01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5600" y="1844640"/>
            <a:ext cx="62928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1"/>
          <p:cNvSpPr/>
          <p:nvPr/>
        </p:nvSpPr>
        <p:spPr>
          <a:xfrm>
            <a:off x="1785960" y="285840"/>
            <a:ext cx="55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Мини-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Автор стихотворений «Весна», «Сельская песенка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А.Барто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А.Плещеев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b050"/>
                </a:solidFill>
                <a:latin typeface="Calibri"/>
              </a:rPr>
              <a:t>Ф.Тютче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Время года, которое описывает поэт А.Плещее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Весна,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зима,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700" spc="-1" strike="noStrike">
                <a:solidFill>
                  <a:srgbClr val="00b050"/>
                </a:solidFill>
                <a:latin typeface="Calibri"/>
              </a:rPr>
              <a:t>осен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Название птиц из стихотворения «Весна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Ласточки,  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воробьи,  </a:t>
            </a:r>
            <a:r>
              <a:rPr b="1" lang="ru-RU" sz="2700" spc="-1" strike="noStrike">
                <a:solidFill>
                  <a:srgbClr val="00b050"/>
                </a:solidFill>
                <a:latin typeface="Calibri"/>
              </a:rPr>
              <a:t>соловь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Что является источником творческого вдохновения А.Н.Плещеева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Природа,   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солнце,   </a:t>
            </a:r>
            <a:r>
              <a:rPr b="1" lang="ru-RU" sz="2700" spc="-1" strike="noStrike">
                <a:solidFill>
                  <a:srgbClr val="00b050"/>
                </a:solidFill>
                <a:latin typeface="Calibri"/>
              </a:rPr>
              <a:t>птиц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3"/>
          <p:cNvSpPr/>
          <p:nvPr/>
        </p:nvSpPr>
        <p:spPr>
          <a:xfrm>
            <a:off x="8072280" y="2143080"/>
            <a:ext cx="357480" cy="34308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4"/>
          <p:cNvSpPr/>
          <p:nvPr/>
        </p:nvSpPr>
        <p:spPr>
          <a:xfrm>
            <a:off x="8072280" y="3000240"/>
            <a:ext cx="35748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"/>
          <p:cNvSpPr/>
          <p:nvPr/>
        </p:nvSpPr>
        <p:spPr>
          <a:xfrm>
            <a:off x="8072280" y="3929040"/>
            <a:ext cx="357480" cy="34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6"/>
          <p:cNvSpPr/>
          <p:nvPr/>
        </p:nvSpPr>
        <p:spPr>
          <a:xfrm>
            <a:off x="8072280" y="5072040"/>
            <a:ext cx="35748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0" y="1000080"/>
            <a:ext cx="942984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Как называется третий раздел учебника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Стихотворения каких авторов вы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читали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Какое стихотворение понравилось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больше? Почему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чтите пословицу и объясните ее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значение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500" spc="-1" strike="noStrike">
                <a:solidFill>
                  <a:srgbClr val="000000"/>
                </a:solidFill>
                <a:latin typeface="Arial"/>
              </a:rPr>
              <a:t>Весна да осень – на дню погод восемь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214280" y="328608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.65-66, наизусть по выбору, подготовить иллюстрацию к любому из стихотворений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user\Рабочий стол\7c5071883bb30ae4fa197a4f66497907.jpg"/>
          <p:cNvPicPr/>
          <p:nvPr/>
        </p:nvPicPr>
        <p:blipFill>
          <a:blip r:embed="rId2"/>
          <a:stretch/>
        </p:blipFill>
        <p:spPr>
          <a:xfrm>
            <a:off x="285840" y="357120"/>
            <a:ext cx="2857320" cy="352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user\Рабочий стол\o-pr.jpg"/>
          <p:cNvPicPr/>
          <p:nvPr/>
        </p:nvPicPr>
        <p:blipFill>
          <a:blip r:embed="rId3"/>
          <a:stretch/>
        </p:blipFill>
        <p:spPr>
          <a:xfrm>
            <a:off x="1857240" y="2714760"/>
            <a:ext cx="283860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user\Рабочий стол\09.jpg"/>
          <p:cNvPicPr/>
          <p:nvPr/>
        </p:nvPicPr>
        <p:blipFill>
          <a:blip r:embed="rId4"/>
          <a:stretch/>
        </p:blipFill>
        <p:spPr>
          <a:xfrm>
            <a:off x="4286160" y="500040"/>
            <a:ext cx="2428920" cy="319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user\Рабочий стол\85455.jpg"/>
          <p:cNvPicPr/>
          <p:nvPr/>
        </p:nvPicPr>
        <p:blipFill>
          <a:blip r:embed="rId5"/>
          <a:stretch/>
        </p:blipFill>
        <p:spPr>
          <a:xfrm>
            <a:off x="5929200" y="2357280"/>
            <a:ext cx="3017880" cy="42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785880" y="1285920"/>
            <a:ext cx="77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чтите чистоговор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-та-та – у нас дом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ы-ты-ты – сметану съели всю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и-ти-ти – съели кашу всю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ё-тё-тё – отложили мы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-то-то – стали мы играть в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ть-ать-ать – мы идем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т-ат-ат – берем с собой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714240" y="1214280"/>
            <a:ext cx="807264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тите целыми слов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             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н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у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6"/>
          <p:cNvSpPr/>
          <p:nvPr/>
        </p:nvSpPr>
        <p:spPr>
          <a:xfrm flipV="1">
            <a:off x="1785960" y="2214720"/>
            <a:ext cx="1143000" cy="64296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9"/>
          <p:cNvSpPr/>
          <p:nvPr/>
        </p:nvSpPr>
        <p:spPr>
          <a:xfrm flipV="1">
            <a:off x="1714680" y="2571840"/>
            <a:ext cx="1143000" cy="42840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0"/>
          <p:cNvSpPr/>
          <p:nvPr/>
        </p:nvSpPr>
        <p:spPr>
          <a:xfrm flipV="1">
            <a:off x="1714680" y="2999880"/>
            <a:ext cx="1214280" cy="7164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>
            <a:off x="1714680" y="3143160"/>
            <a:ext cx="1143000" cy="28584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8"/>
          <p:cNvSpPr/>
          <p:nvPr/>
        </p:nvSpPr>
        <p:spPr>
          <a:xfrm flipV="1">
            <a:off x="1714680" y="4500360"/>
            <a:ext cx="1285560" cy="28548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9"/>
          <p:cNvSpPr/>
          <p:nvPr/>
        </p:nvSpPr>
        <p:spPr>
          <a:xfrm>
            <a:off x="1714680" y="4929120"/>
            <a:ext cx="1214280" cy="180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0"/>
          <p:cNvSpPr/>
          <p:nvPr/>
        </p:nvSpPr>
        <p:spPr>
          <a:xfrm>
            <a:off x="1643040" y="5072040"/>
            <a:ext cx="1428840" cy="35712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1"/>
          <p:cNvSpPr/>
          <p:nvPr/>
        </p:nvSpPr>
        <p:spPr>
          <a:xfrm>
            <a:off x="1500120" y="5143680"/>
            <a:ext cx="1571760" cy="78552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март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571680" y="85716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ясните значение сл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ни 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аше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 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лей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 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297880" y="1928880"/>
            <a:ext cx="39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хожая в из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577960" y="250020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расив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2586960" y="3071880"/>
            <a:ext cx="58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ольше всего нрав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357120" y="400068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тите слова, сначала по слогам, а затем целыми слов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м-ча-лась – примчала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мурь-ся – хмур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Сени – нежилая часть деревенского дома. "/>
          <p:cNvPicPr/>
          <p:nvPr/>
        </p:nvPicPr>
        <p:blipFill>
          <a:blip r:embed="rId2"/>
          <a:srcRect l="18462" t="4260" r="13590" b="5579"/>
          <a:stretch/>
        </p:blipFill>
        <p:spPr>
          <a:xfrm>
            <a:off x="1254240" y="312840"/>
            <a:ext cx="663552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rcRect l="6055" t="2446" r="11307" b="0"/>
          <a:stretch/>
        </p:blipFill>
        <p:spPr>
          <a:xfrm>
            <a:off x="984240" y="504720"/>
            <a:ext cx="66121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rcRect l="12433" t="3076" r="17181" b="0"/>
          <a:stretch/>
        </p:blipFill>
        <p:spPr>
          <a:xfrm>
            <a:off x="1403280" y="679320"/>
            <a:ext cx="637236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8:17:27Z</dcterms:created>
  <dc:creator>Admin</dc:creator>
  <dc:description/>
  <dc:language>en-US</dc:language>
  <cp:lastModifiedBy>Алекс</cp:lastModifiedBy>
  <dcterms:modified xsi:type="dcterms:W3CDTF">2018-06-22T15:26:24Z</dcterms:modified>
  <cp:revision>21</cp:revision>
  <dc:subject/>
  <dc:title>Слайд 1</dc:title>
</cp:coreProperties>
</file>