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AE53C-080F-444D-BA48-A195F7DF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040ED-F0D9-456E-BD09-C6DB2DFDC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35B6-9599-449E-A1C0-4A9475D4D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36595-E94E-42BA-B88A-CA3BE81AE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5027-A6EE-4B0E-BCFD-3C56AA4B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91ABE-80C8-4947-8D6A-BBB65C5B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2A7D-AC78-401D-87D8-66080D29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5FD5-D8D9-45BD-9942-13C86ABF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2933-A9CD-40C4-BC29-8C98E365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9215-7714-4100-8CD0-0D96A778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C0C1-A67C-4E9C-9389-C85A3987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6FECC-CA12-4664-952F-73CB3FE9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A54B1-36BB-4848-9856-A9C4C81D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6CB8-3860-4F94-B80E-75743776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C858-261D-456D-B2E3-B5FDA1D3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571B-FDE8-4765-B558-5B3AC246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368F5-CA8C-4299-87E2-F36771EAB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DCC48-C518-4964-8B1E-E0B3B0DF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060DE-B4BB-4871-BDB4-464FBF4A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D040B-3E03-4E11-9B3F-D60A2B61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D5B1A-31DB-40D8-A277-B7705F4D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D170C-E57B-4C38-9A9F-97E1AE3F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B0FE-ADE5-4D55-8555-ECAF52E1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2DEEB-76EF-46A6-BD32-48D6E1EC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D870-7993-45AC-9E2D-564DE83250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9353-83D3-42F3-9C8C-148AB0FD3E4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эпбук- инновационный метод развития до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36600" y="5371920"/>
            <a:ext cx="59547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КДОУ Вознесенский детский са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оспитатель С.В.Журавле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IMG_2639"/>
          <p:cNvPicPr/>
          <p:nvPr/>
        </p:nvPicPr>
        <p:blipFill>
          <a:blip r:embed="rId1"/>
          <a:stretch/>
        </p:blipFill>
        <p:spPr>
          <a:xfrm>
            <a:off x="250920" y="981000"/>
            <a:ext cx="3713040" cy="278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G_2640"/>
          <p:cNvPicPr/>
          <p:nvPr/>
        </p:nvPicPr>
        <p:blipFill>
          <a:blip r:embed="rId2"/>
          <a:stretch/>
        </p:blipFill>
        <p:spPr>
          <a:xfrm>
            <a:off x="4140360" y="907920"/>
            <a:ext cx="4752720" cy="356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MG_2641"/>
          <p:cNvPicPr/>
          <p:nvPr/>
        </p:nvPicPr>
        <p:blipFill>
          <a:blip r:embed="rId3"/>
          <a:stretch/>
        </p:blipFill>
        <p:spPr>
          <a:xfrm>
            <a:off x="1547640" y="3825720"/>
            <a:ext cx="3764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Лэпбук «Занимательная 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еометрические фигуры в стихах (закрепление знаний о геометрических фигур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еометрические пазлы (формирование умений правильно называть геометрические фигуры, развитие зрительной памяти, мышления, мелкой моторики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ппликация из геометрических фигур (формирование умений у детей сравнивать форму изображенного предмета с геометрическими фигурами и подбирать предметы по геометрическому образ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ифры в стихах (закреплять знания состава числа в пределах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 фигуру из спичек (упражнять детей в умении решать задачи путем целенаправленных практических проб и обдумывания хода ре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абиринт (развивать мышление, логику, мелкую моторику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едини  по точкам (развитие мелкой моторики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селая математика (закрепление навыков счета в пределах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konspekt-matematika-v-sredney-gruppe-zadacha-fiksikov-5"/>
          <p:cNvPicPr/>
          <p:nvPr/>
        </p:nvPicPr>
        <p:blipFill>
          <a:blip r:embed="rId1"/>
          <a:stretch/>
        </p:blipFill>
        <p:spPr>
          <a:xfrm>
            <a:off x="6572160" y="4071960"/>
            <a:ext cx="228276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lide-1"/>
          <p:cNvPicPr/>
          <p:nvPr/>
        </p:nvPicPr>
        <p:blipFill>
          <a:blip r:embed="rId2"/>
          <a:stretch/>
        </p:blipFill>
        <p:spPr>
          <a:xfrm>
            <a:off x="826920" y="4929120"/>
            <a:ext cx="1800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IMG_2688"/>
          <p:cNvPicPr/>
          <p:nvPr/>
        </p:nvPicPr>
        <p:blipFill>
          <a:blip r:embed="rId1"/>
          <a:stretch/>
        </p:blipFill>
        <p:spPr>
          <a:xfrm>
            <a:off x="0" y="603360"/>
            <a:ext cx="5724360" cy="429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G_2692"/>
          <p:cNvPicPr/>
          <p:nvPr/>
        </p:nvPicPr>
        <p:blipFill>
          <a:blip r:embed="rId2"/>
          <a:stretch/>
        </p:blipFill>
        <p:spPr>
          <a:xfrm>
            <a:off x="4643280" y="388764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_2687"/>
          <p:cNvPicPr/>
          <p:nvPr/>
        </p:nvPicPr>
        <p:blipFill>
          <a:blip r:embed="rId3"/>
          <a:stretch/>
        </p:blipFill>
        <p:spPr>
          <a:xfrm>
            <a:off x="6235560" y="260280"/>
            <a:ext cx="2489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. Блохина, Т. Лиханова «Лэпбук- «наколенная книг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Журнал «Обруч» №4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Гатовская Д.А. «Лэпбук как средство обучения в условиях ФГОС»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урнал «Дошкольное образование» №11 2014 г., №5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айт «Это интересно!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ika.ru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Интернет-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00007d"/>
                </a:solidFill>
                <a:latin typeface="Times New Roman"/>
              </a:rPr>
              <a:t>Интерактивные п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дной из новых форм организации образовательной деятельности, которая охватывает все образовательные области в соответствии с ФГОС ДО и способствует достижению поставленных целей путем объединения совместных усилий, является лэпб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эпбук – новейший способ организации учебной деятельности с дошкольниками. Это игра, творчество, познание и исследование нового, повторение и закрепление изученного, систематизация знаний и просто интересный вид совместной деятельности воспитателя 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ставляю несколько своих лэпбуков для средне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_2574"/>
          <p:cNvPicPr/>
          <p:nvPr/>
        </p:nvPicPr>
        <p:blipFill>
          <a:blip r:embed="rId1"/>
          <a:stretch/>
        </p:blipFill>
        <p:spPr>
          <a:xfrm>
            <a:off x="324000" y="4653000"/>
            <a:ext cx="1660320" cy="220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G_2638"/>
          <p:cNvPicPr/>
          <p:nvPr/>
        </p:nvPicPr>
        <p:blipFill>
          <a:blip r:embed="rId2"/>
          <a:stretch/>
        </p:blipFill>
        <p:spPr>
          <a:xfrm>
            <a:off x="2268360" y="4653000"/>
            <a:ext cx="164160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IMG_2687"/>
          <p:cNvPicPr/>
          <p:nvPr/>
        </p:nvPicPr>
        <p:blipFill>
          <a:blip r:embed="rId3"/>
          <a:stretch/>
        </p:blipFill>
        <p:spPr>
          <a:xfrm>
            <a:off x="4211640" y="4638600"/>
            <a:ext cx="1666800" cy="221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G_2620"/>
          <p:cNvPicPr/>
          <p:nvPr/>
        </p:nvPicPr>
        <p:blipFill>
          <a:blip r:embed="rId4"/>
          <a:stretch/>
        </p:blipFill>
        <p:spPr>
          <a:xfrm>
            <a:off x="6227640" y="4653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356760"/>
            <a:ext cx="4465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Лэпбук «Мир сказ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980640"/>
            <a:ext cx="81867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Цель 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 развитие всех компонентов устной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актическое овладение нормами речи на приме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русских народных сказ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Образовательные задачи: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закрепить и упорядочить накопленные детьми знания о русских народных сказках;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воспитывать культуру речи, учить детей рассуждать, развивать умения применять свои знания в бесе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развивать мышление, воображение, внимание, усидчивость и мелкую моторику;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учить инсценировать эпизоды ска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 обогащать словарный зап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развивать желание выполнять совместные игровые зада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 лэпбуке представлены :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Дидактические игры, речевые игры, стихи о сказочных героях и сказках, раскраски, театр плоскостной, маски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акая необычная дидактическая книжка привлекает внимание детей, они не раз возвращаются к ней, чтобы поиграть, посмотреть, закрепить полученные знания,  ведь именно сказки являются прекрасным материалом для обучения развитию речи детей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&amp;Kcy;&amp;ucy;&amp;rcy;&amp;ocy;&amp;chcy;&amp;kcy;&amp;acy; &amp;Rcy;&amp;yacy;&amp;bcy;&amp;acy;"/>
          <p:cNvPicPr/>
          <p:nvPr/>
        </p:nvPicPr>
        <p:blipFill>
          <a:blip r:embed="rId1"/>
          <a:stretch/>
        </p:blipFill>
        <p:spPr>
          <a:xfrm>
            <a:off x="6778800" y="-6480"/>
            <a:ext cx="20113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IMG_2575"/>
          <p:cNvPicPr/>
          <p:nvPr/>
        </p:nvPicPr>
        <p:blipFill>
          <a:blip r:embed="rId1"/>
          <a:stretch/>
        </p:blipFill>
        <p:spPr>
          <a:xfrm>
            <a:off x="539640" y="476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IMG_2581"/>
          <p:cNvPicPr/>
          <p:nvPr/>
        </p:nvPicPr>
        <p:blipFill>
          <a:blip r:embed="rId2"/>
          <a:stretch/>
        </p:blipFill>
        <p:spPr>
          <a:xfrm>
            <a:off x="4716360" y="7300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IMG_2616"/>
          <p:cNvPicPr/>
          <p:nvPr/>
        </p:nvPicPr>
        <p:blipFill>
          <a:blip r:embed="rId3"/>
          <a:stretch/>
        </p:blipFill>
        <p:spPr>
          <a:xfrm>
            <a:off x="179280" y="361620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IMG_2589"/>
          <p:cNvPicPr/>
          <p:nvPr/>
        </p:nvPicPr>
        <p:blipFill>
          <a:blip r:embed="rId4"/>
          <a:stretch/>
        </p:blipFill>
        <p:spPr>
          <a:xfrm>
            <a:off x="5148360" y="4043520"/>
            <a:ext cx="367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9250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Лэпбук «Армия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213920"/>
            <a:ext cx="7693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Формирование у детей среднего возраста представлений о Российск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формировать у детей знания о Российской Армии и представления об особенностях военной служ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расширить знания о родах войск, военной техн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оспитывать чувство гордости за свою армию и вызвать желание быть похожими на сильных российских во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роводить работу с родителями, привлекая их к патриотическому воспитанию детей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8" descr=""/>
          <p:cNvPicPr/>
          <p:nvPr/>
        </p:nvPicPr>
        <p:blipFill>
          <a:blip r:embed="rId1"/>
          <a:stretch/>
        </p:blipFill>
        <p:spPr>
          <a:xfrm>
            <a:off x="214200" y="4429080"/>
            <a:ext cx="1776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7924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держание лэпбука: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Военные симв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Военные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Памятные д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Памятники воинам 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Ордена и наг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Рас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5651640" y="1347840"/>
            <a:ext cx="316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IMG_2620"/>
          <p:cNvPicPr/>
          <p:nvPr/>
        </p:nvPicPr>
        <p:blipFill>
          <a:blip r:embed="rId1"/>
          <a:stretch/>
        </p:blipFill>
        <p:spPr>
          <a:xfrm>
            <a:off x="611280" y="33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MG_2622"/>
          <p:cNvPicPr/>
          <p:nvPr/>
        </p:nvPicPr>
        <p:blipFill>
          <a:blip r:embed="rId2"/>
          <a:stretch/>
        </p:blipFill>
        <p:spPr>
          <a:xfrm>
            <a:off x="324000" y="33577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G_2623"/>
          <p:cNvPicPr/>
          <p:nvPr/>
        </p:nvPicPr>
        <p:blipFill>
          <a:blip r:embed="rId3"/>
          <a:stretch/>
        </p:blipFill>
        <p:spPr>
          <a:xfrm>
            <a:off x="5651640" y="40464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IMG_2626"/>
          <p:cNvPicPr/>
          <p:nvPr/>
        </p:nvPicPr>
        <p:blipFill>
          <a:blip r:embed="rId4"/>
          <a:stretch/>
        </p:blipFill>
        <p:spPr>
          <a:xfrm>
            <a:off x="4572000" y="36720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Лэпбук «Ю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матическая папка является дидактическим пособием для закрепления у детей знаний о ПД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 страницах папки размещены кармашки, в которых собрана информация по данной теме, с учётом интересов дете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нное дидактическое пособие является развивающим средством обучения, содержит материал для организации коллективной творческой деятельности, коммуникативного развития детей, игров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nak---Ostorozhno-deti--"/>
          <p:cNvPicPr/>
          <p:nvPr/>
        </p:nvPicPr>
        <p:blipFill>
          <a:blip r:embed="rId1"/>
          <a:stretch/>
        </p:blipFill>
        <p:spPr>
          <a:xfrm>
            <a:off x="6588000" y="4884840"/>
            <a:ext cx="2160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Цель лэпб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Формировать систему знаний, умений и навыков детей по правилам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40388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адачи лэпбу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накомить детей с правилами дорожного движения, правилами перехода проезжей части, дорожными знаками,; учить детей предвидеть опасное событие, уметь  его избе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азвивающи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вать осторожность, внимательность, самостоятельность, ответственность и осмотрительность на дороге;  способствовать развитию коммуникативн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ечев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вать связную речь детей, расширять и активизировать активный  словар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ывать навыки личной безопасности, чувство самосохранения, чувство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2645"/>
          <p:cNvPicPr/>
          <p:nvPr/>
        </p:nvPicPr>
        <p:blipFill>
          <a:blip r:embed="rId1"/>
          <a:stretch/>
        </p:blipFill>
        <p:spPr>
          <a:xfrm>
            <a:off x="468360" y="3087720"/>
            <a:ext cx="3598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4:46:14Z</dcterms:created>
  <dc:creator>СветлаНА</dc:creator>
  <dc:description/>
  <dc:language>en-US</dc:language>
  <cp:lastModifiedBy>СветлаНА</cp:lastModifiedBy>
  <dcterms:modified xsi:type="dcterms:W3CDTF">2018-06-22T13:15:31Z</dcterms:modified>
  <cp:revision>25</cp:revision>
  <dc:subject/>
  <dc:title>Методическое пособие - ЛЭПБ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