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39278-E080-4B56-830E-705079082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F2892-AB86-4F72-853D-C0C95BA8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B0BA7-3081-4880-B9F3-069A578E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F044D-8B72-4FAF-88AE-59627149C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425C3-6FD1-42A6-B8FE-28598DFF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531E-EC40-4E6C-9C44-3C06079FB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079C-3E6E-4907-9750-BBE5354DD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1FA6-A047-4148-ADF9-1B8ECFE66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2DEF8-5263-47F2-B18C-1A060E02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DFDC-7FF3-44D1-B9CF-84A670FCF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D41F0-8D3B-444E-BFFD-50A976A1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2E1C2-C2BC-4356-ABC9-4D8BE158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A69A-2AC7-4E39-A08B-83470C5F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1A6AB-FC98-43A9-91E0-4CE639488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98C94-790C-4622-9C54-2AB9822F1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DD89-E570-4C6C-B1B1-6D1484621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8B39-E9BC-43AB-9A5F-909B9146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4BDF8-1C6E-4384-BB5E-BF04DAB09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4BAAE-F871-48D9-AFF5-7FAD3B6F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BE387-7D49-4376-B3CE-1CA92A98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2D166-8D6C-467A-BAD6-059013AC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D9470-4944-447A-9AF6-FB17ED43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FAC90-D379-4136-AE60-BAF4A80B4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49A6A-895F-4232-BACF-BE315CD2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6EE96-61F0-4E85-BBC8-5FFD31B6AAF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E06B-30C7-469B-B549-D894B2F47A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Лэпбук- инновационный метод развития дошкольни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036600" y="5371920"/>
            <a:ext cx="5954760" cy="6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МКДОУ Вознесенский детский са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Воспитатель С.В.Журавле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IMG_2639"/>
          <p:cNvPicPr/>
          <p:nvPr/>
        </p:nvPicPr>
        <p:blipFill>
          <a:blip r:embed="rId1"/>
          <a:stretch/>
        </p:blipFill>
        <p:spPr>
          <a:xfrm>
            <a:off x="250920" y="981000"/>
            <a:ext cx="3713040" cy="2782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IMG_2640"/>
          <p:cNvPicPr/>
          <p:nvPr/>
        </p:nvPicPr>
        <p:blipFill>
          <a:blip r:embed="rId2"/>
          <a:stretch/>
        </p:blipFill>
        <p:spPr>
          <a:xfrm>
            <a:off x="4140360" y="907920"/>
            <a:ext cx="4752720" cy="35640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IMG_2641"/>
          <p:cNvPicPr/>
          <p:nvPr/>
        </p:nvPicPr>
        <p:blipFill>
          <a:blip r:embed="rId3"/>
          <a:stretch/>
        </p:blipFill>
        <p:spPr>
          <a:xfrm>
            <a:off x="1547640" y="3825720"/>
            <a:ext cx="376416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cc"/>
                </a:solidFill>
                <a:latin typeface="Times New Roman"/>
              </a:rPr>
              <a:t>Лэпбук «Занимательная матема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держа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еометрические фигуры в стихах (закрепление знаний о геометрических фигурах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еометрические пазлы (формирование умений правильно называть геометрические фигуры, развитие зрительной памяти, мышления, мелкой моторики ру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ппликация из геометрических фигур (формирование умений у детей сравнивать форму изображенного предмета с геометрическими фигурами и подбирать предметы по геометрическому образц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Цифры в стихах (закреплять знания состава числа в пределах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бери фигуру из спичек (упражнять детей в умении решать задачи путем целенаправленных практических проб и обдумывания хода решения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абиринт (развивать мышление, логику, мелкую моторику ру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оедини  по точкам (развитие мелкой моторики рук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еселая математика (закрепление навыков счета в пределах 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konspekt-matematika-v-sredney-gruppe-zadacha-fiksikov-5"/>
          <p:cNvPicPr/>
          <p:nvPr/>
        </p:nvPicPr>
        <p:blipFill>
          <a:blip r:embed="rId1"/>
          <a:stretch/>
        </p:blipFill>
        <p:spPr>
          <a:xfrm>
            <a:off x="6572160" y="4071960"/>
            <a:ext cx="2282760" cy="2786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slide-1"/>
          <p:cNvPicPr/>
          <p:nvPr/>
        </p:nvPicPr>
        <p:blipFill>
          <a:blip r:embed="rId2"/>
          <a:stretch/>
        </p:blipFill>
        <p:spPr>
          <a:xfrm>
            <a:off x="826920" y="4929120"/>
            <a:ext cx="180036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IMG_2688"/>
          <p:cNvPicPr/>
          <p:nvPr/>
        </p:nvPicPr>
        <p:blipFill>
          <a:blip r:embed="rId1"/>
          <a:stretch/>
        </p:blipFill>
        <p:spPr>
          <a:xfrm>
            <a:off x="0" y="603360"/>
            <a:ext cx="5724360" cy="4290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IMG_2692"/>
          <p:cNvPicPr/>
          <p:nvPr/>
        </p:nvPicPr>
        <p:blipFill>
          <a:blip r:embed="rId2"/>
          <a:stretch/>
        </p:blipFill>
        <p:spPr>
          <a:xfrm>
            <a:off x="4643280" y="388764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IMG_2687"/>
          <p:cNvPicPr/>
          <p:nvPr/>
        </p:nvPicPr>
        <p:blipFill>
          <a:blip r:embed="rId3"/>
          <a:stretch/>
        </p:blipFill>
        <p:spPr>
          <a:xfrm>
            <a:off x="6235560" y="260280"/>
            <a:ext cx="24894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Используемая литерату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. Е. Блохина, Т. Лиханова «Лэпбук- «наколенная книг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. Журнал «Обруч» №4 20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. Гатовская Д.А. «Лэпбук как средство обучения в условиях ФГОС» 20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. Журнал «Дошкольное образование» №11 2014 г., №5 2015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Сайт «Это интересно!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vika.ru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 Интернет-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4400" spc="-1" strike="noStrike">
                <a:solidFill>
                  <a:srgbClr val="00007d"/>
                </a:solidFill>
                <a:latin typeface="Times New Roman"/>
              </a:rPr>
              <a:t>Интерактивные пап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Одной из новых форм организации образовательной деятельности, которая охватывает все образовательные области в соответствии с ФГОС ДО и способствует достижению поставленных целей путем объединения совместных усилий, является лэпбу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Лэпбук – новейший способ организации учебной деятельности с дошкольниками. Это игра, творчество, познание и исследование нового, повторение и закрепление изученного, систематизация знаний и просто интересный вид совместной деятельности воспитателя и ребен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</a:rPr>
              <a:t>Представляю несколько своих лэпбуков для средней групп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IMG_2574"/>
          <p:cNvPicPr/>
          <p:nvPr/>
        </p:nvPicPr>
        <p:blipFill>
          <a:blip r:embed="rId1"/>
          <a:stretch/>
        </p:blipFill>
        <p:spPr>
          <a:xfrm>
            <a:off x="324000" y="4653000"/>
            <a:ext cx="1660320" cy="2205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IMG_2638"/>
          <p:cNvPicPr/>
          <p:nvPr/>
        </p:nvPicPr>
        <p:blipFill>
          <a:blip r:embed="rId2"/>
          <a:stretch/>
        </p:blipFill>
        <p:spPr>
          <a:xfrm>
            <a:off x="2268360" y="4653000"/>
            <a:ext cx="1641600" cy="2205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IMG_2687"/>
          <p:cNvPicPr/>
          <p:nvPr/>
        </p:nvPicPr>
        <p:blipFill>
          <a:blip r:embed="rId3"/>
          <a:stretch/>
        </p:blipFill>
        <p:spPr>
          <a:xfrm>
            <a:off x="4211640" y="4638600"/>
            <a:ext cx="1666800" cy="2219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IMG_2620"/>
          <p:cNvPicPr/>
          <p:nvPr/>
        </p:nvPicPr>
        <p:blipFill>
          <a:blip r:embed="rId4"/>
          <a:stretch/>
        </p:blipFill>
        <p:spPr>
          <a:xfrm>
            <a:off x="6227640" y="4653000"/>
            <a:ext cx="2743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68000" y="356760"/>
            <a:ext cx="44658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Лэпбук «Мир сказ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9680" y="980640"/>
            <a:ext cx="8186760" cy="55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Цель :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 развитие всех компонентов устной реч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практическое овладение нормами речи на пример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русских народных сказок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Образовательные задачи: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- закрепить и упорядочить накопленные детьми знания о русских народных сказках;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- воспитывать культуру речи, учить детей рассуждать, развивать умения применять свои знания в бесе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- развивать мышление, воображение, внимание, усидчивость и мелкую моторику;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- учить инсценировать эпизоды сказо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-  обогащать словарный запа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- развивать желание выполнять совместные игровые задания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3300"/>
                </a:solidFill>
                <a:latin typeface="Times New Roman"/>
              </a:rPr>
              <a:t>В лэпбуке представлены :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Дидактические игры, речевые игры, стихи о сказочных героях и сказках, раскраски, театр плоскостной, маски.</a:t>
            </a:r>
            <a:br>
              <a:rPr sz="1800"/>
            </a:br>
            <a:r>
              <a:rPr b="0" lang="ru-RU" sz="1800" spc="-1" strike="noStrike">
                <a:solidFill>
                  <a:srgbClr val="003300"/>
                </a:solidFill>
                <a:latin typeface="Times New Roman"/>
              </a:rPr>
              <a:t>Такая необычная дидактическая книжка привлекает внимание детей, они не раз возвращаются к ней, чтобы поиграть, посмотреть, закрепить полученные знания,  ведь именно сказки являются прекрасным материалом для обучения развитию речи детей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&amp;Kcy;&amp;ucy;&amp;rcy;&amp;ocy;&amp;chcy;&amp;kcy;&amp;acy; &amp;Rcy;&amp;yacy;&amp;bcy;&amp;acy;"/>
          <p:cNvPicPr/>
          <p:nvPr/>
        </p:nvPicPr>
        <p:blipFill>
          <a:blip r:embed="rId1"/>
          <a:stretch/>
        </p:blipFill>
        <p:spPr>
          <a:xfrm>
            <a:off x="6778800" y="-6480"/>
            <a:ext cx="201132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IMG_2575"/>
          <p:cNvPicPr/>
          <p:nvPr/>
        </p:nvPicPr>
        <p:blipFill>
          <a:blip r:embed="rId1"/>
          <a:stretch/>
        </p:blipFill>
        <p:spPr>
          <a:xfrm>
            <a:off x="539640" y="476280"/>
            <a:ext cx="3961080" cy="2970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IMG_2581"/>
          <p:cNvPicPr/>
          <p:nvPr/>
        </p:nvPicPr>
        <p:blipFill>
          <a:blip r:embed="rId2"/>
          <a:stretch/>
        </p:blipFill>
        <p:spPr>
          <a:xfrm>
            <a:off x="4716360" y="73008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IMG_2616"/>
          <p:cNvPicPr/>
          <p:nvPr/>
        </p:nvPicPr>
        <p:blipFill>
          <a:blip r:embed="rId3"/>
          <a:stretch/>
        </p:blipFill>
        <p:spPr>
          <a:xfrm>
            <a:off x="179280" y="3616200"/>
            <a:ext cx="4321440" cy="32418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IMG_2589"/>
          <p:cNvPicPr/>
          <p:nvPr/>
        </p:nvPicPr>
        <p:blipFill>
          <a:blip r:embed="rId4"/>
          <a:stretch/>
        </p:blipFill>
        <p:spPr>
          <a:xfrm>
            <a:off x="5148360" y="4043520"/>
            <a:ext cx="36716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9250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6600"/>
                </a:solidFill>
                <a:latin typeface="Times New Roman"/>
              </a:rPr>
              <a:t>Лэпбук «Армия Росс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00000" y="1213920"/>
            <a:ext cx="76932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: Формирование у детей среднего возраста представлений о Российской Арм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формировать у детей знания о Российской Армии и представления об особенностях военной служб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расширить знания о родах войск, военной техни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воспитывать чувство гордости за свою армию и вызвать желание быть похожими на сильных российских воин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проводить работу с родителями, привлекая их к патриотическому воспитанию детей в семь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Рисунок 8" descr=""/>
          <p:cNvPicPr/>
          <p:nvPr/>
        </p:nvPicPr>
        <p:blipFill>
          <a:blip r:embed="rId1"/>
          <a:stretch/>
        </p:blipFill>
        <p:spPr>
          <a:xfrm>
            <a:off x="214200" y="4429080"/>
            <a:ext cx="177660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5280" y="285480"/>
            <a:ext cx="79246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Times New Roman"/>
              </a:rPr>
              <a:t>                     </a:t>
            </a: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Содержание лэпбука:</a:t>
            </a:r>
            <a:r>
              <a:rPr b="0" lang="ru-RU" sz="36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Военные симв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Зага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Военные профе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Памятные д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Памятники воинам В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Ордена и награ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Times New Roman"/>
              </a:rPr>
              <a:t>Раскрас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7" descr=""/>
          <p:cNvPicPr/>
          <p:nvPr/>
        </p:nvPicPr>
        <p:blipFill>
          <a:blip r:embed="rId1"/>
          <a:stretch/>
        </p:blipFill>
        <p:spPr>
          <a:xfrm>
            <a:off x="5651640" y="1347840"/>
            <a:ext cx="316836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9" descr="IMG_2620"/>
          <p:cNvPicPr/>
          <p:nvPr/>
        </p:nvPicPr>
        <p:blipFill>
          <a:blip r:embed="rId1"/>
          <a:stretch/>
        </p:blipFill>
        <p:spPr>
          <a:xfrm>
            <a:off x="611280" y="333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IMG_2622"/>
          <p:cNvPicPr/>
          <p:nvPr/>
        </p:nvPicPr>
        <p:blipFill>
          <a:blip r:embed="rId2"/>
          <a:stretch/>
        </p:blipFill>
        <p:spPr>
          <a:xfrm>
            <a:off x="324000" y="3357720"/>
            <a:ext cx="4176720" cy="3132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IMG_2623"/>
          <p:cNvPicPr/>
          <p:nvPr/>
        </p:nvPicPr>
        <p:blipFill>
          <a:blip r:embed="rId3"/>
          <a:stretch/>
        </p:blipFill>
        <p:spPr>
          <a:xfrm>
            <a:off x="5651640" y="404640"/>
            <a:ext cx="2376360" cy="3168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2" descr="IMG_2626"/>
          <p:cNvPicPr/>
          <p:nvPr/>
        </p:nvPicPr>
        <p:blipFill>
          <a:blip r:embed="rId4"/>
          <a:stretch/>
        </p:blipFill>
        <p:spPr>
          <a:xfrm>
            <a:off x="4572000" y="3672000"/>
            <a:ext cx="4248000" cy="31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</a:rPr>
              <a:t>Лэпбук «ЮИД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Тематическая папка является дидактическим пособием для закрепления у детей знаний о ПД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На страницах папки размещены кармашки, в которых собрана информация по данной теме, с учётом интересов детей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</a:rPr>
              <a:t>Данное дидактическое пособие является развивающим средством обучения, содержит материал для организации коллективной творческой деятельности, коммуникативного развития детей, игровые технолог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Znak---Ostorozhno-deti--"/>
          <p:cNvPicPr/>
          <p:nvPr/>
        </p:nvPicPr>
        <p:blipFill>
          <a:blip r:embed="rId1"/>
          <a:stretch/>
        </p:blipFill>
        <p:spPr>
          <a:xfrm>
            <a:off x="6588000" y="4884840"/>
            <a:ext cx="216072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50920" y="76464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Times New Roman"/>
              </a:rPr>
              <a:t>Цель лэпбу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imes New Roman"/>
              </a:rPr>
              <a:t>Формировать систему знаний, умений и навыков детей по правилам дорожно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0" y="836280"/>
            <a:ext cx="403884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Times New Roman"/>
                <a:ea typeface="Times New Roman"/>
              </a:rPr>
              <a:t>Задачи лэпбук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Образовательные</a:t>
            </a:r>
            <a:r>
              <a:rPr b="0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 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знакомить детей с правилами дорожного движения, правилами перехода проезжей части, дорожными знаками,; учить детей предвидеть опасное событие, уметь  его избег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Развивающие</a:t>
            </a:r>
            <a:r>
              <a:rPr b="0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 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вать осторожность, внимательность, самостоятельность, ответственность и осмотрительность на дороге;  способствовать развитию коммуникативных навык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Речевые</a:t>
            </a:r>
            <a:r>
              <a:rPr b="0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 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вивать связную речь детей, расширять и активизировать активный  словарь де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 u="sng">
                <a:solidFill>
                  <a:srgbClr val="000099"/>
                </a:solidFill>
                <a:uFillTx/>
                <a:latin typeface="Times New Roman"/>
                <a:ea typeface="Times New Roman"/>
              </a:rPr>
              <a:t>Воспитательные</a:t>
            </a:r>
            <a:r>
              <a:rPr b="0" i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 </a:t>
            </a:r>
            <a:r>
              <a:rPr b="0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спитывать навыки личной безопасности, чувство самосохранения, чувство ответствен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7" descr="IMG_2645"/>
          <p:cNvPicPr/>
          <p:nvPr/>
        </p:nvPicPr>
        <p:blipFill>
          <a:blip r:embed="rId1"/>
          <a:stretch/>
        </p:blipFill>
        <p:spPr>
          <a:xfrm>
            <a:off x="468360" y="3087720"/>
            <a:ext cx="3598920" cy="27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27T14:46:14Z</dcterms:created>
  <dc:creator>СветлаНА</dc:creator>
  <dc:description/>
  <dc:language>en-US</dc:language>
  <cp:lastModifiedBy>СветлаНА</cp:lastModifiedBy>
  <dcterms:modified xsi:type="dcterms:W3CDTF">2018-06-22T13:15:31Z</dcterms:modified>
  <cp:revision>25</cp:revision>
  <dc:subject/>
  <dc:title>Методическое пособие - ЛЭПБУ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