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0699D-0EAB-4086-A389-D0351DAA99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AD916-EEF1-4510-96F0-E748136014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32E89-3FB5-4635-AEBB-1620B45B13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822240" y="0"/>
            <a:ext cx="5613480" cy="4210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AB3-2693-4CA4-A178-3D0A0444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B65-07C8-4E71-9634-CB13E01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417-67CD-4962-B951-6A0CC5E8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2AA-1323-4860-A570-5C75B279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8D9-7BCE-4634-B48C-3DCBA055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26D-BB1F-4322-8034-90F141A3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8DE-D1BD-4CE5-8030-72CE3342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1CD-E8E0-4316-BCEB-A2C9C4FC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557-C183-4314-BDEE-5485A72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0CC-A764-49FF-A621-E6993446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F9B-133C-4868-B2DD-3DCC28C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999-91AE-4394-BFDF-2188FC9E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BE8590-1DD1-42C8-B1EC-146608C1FA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584360" y="2484360"/>
            <a:ext cx="65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рок  математик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сканирование0000"/>
          <p:cNvPicPr/>
          <p:nvPr/>
        </p:nvPicPr>
        <p:blipFill>
          <a:blip r:embed="rId1"/>
          <a:stretch/>
        </p:blipFill>
        <p:spPr>
          <a:xfrm>
            <a:off x="5683320" y="2208240"/>
            <a:ext cx="4151160" cy="4929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1512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2360" y="2279520"/>
            <a:ext cx="5073840" cy="45244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бры максимальная скорость   1 км в минут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кое время она преодолеет 3 к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D49B-166D-4439-A5BD-8719DFA86E13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1512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600" y="2493720"/>
            <a:ext cx="5627520" cy="45622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расстояние    в 180 км пролетает за 3 ч. Какова  скорость пчел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6216480" y="2771640"/>
            <a:ext cx="3221280" cy="3135600"/>
          </a:xfrm>
          <a:prstGeom prst="rect">
            <a:avLst/>
          </a:prstGeom>
          <a:ln w="0">
            <a:noFill/>
          </a:ln>
        </p:spPr>
      </p:pic>
      <p:sp>
        <p:nvSpPr>
          <p:cNvPr id="84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52B4B-BFFE-4666-8FDA-660CEB0A5B27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15127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5503680" cy="41162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 лучший бегун в мире.    Найдите его скорость,    если она в 2 раза больше скорости пчел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сканирование0000"/>
          <p:cNvPicPr/>
          <p:nvPr/>
        </p:nvPicPr>
        <p:blipFill>
          <a:blip r:embed="rId1"/>
          <a:stretch/>
        </p:blipFill>
        <p:spPr>
          <a:xfrm>
            <a:off x="6397560" y="2208240"/>
            <a:ext cx="3500640" cy="421488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5C34E-7AA4-441B-845E-8E74E5F50F15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2687400"/>
            <a:ext cx="8988480" cy="16794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,  25,  3,  60,  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A631-A386-4AF6-B066-66817CC0A7BC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07880" y="4535640"/>
            <a:ext cx="66358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503280"/>
            <a:ext cx="9074160" cy="7048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160" y="1993680"/>
            <a:ext cx="9644040" cy="50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 двух городов навстречу друг другу вышли два поезда. Скорость первого – 70 км/ч, скорость второго – на 10 км/ч меньше. Через 4 часа поезда встретились.        Каково расстояние между город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 двух городов навстречу друг другу вышли два поезда. Скорость первого – 70 км/ч, скорость второго – на 10 км/ч больше. Через 280 км пути первый поезд встретился со вторым.        Каково расстояние между город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3427F-4A23-4715-A446-0EE54CBE0918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7520" y="2351160"/>
            <a:ext cx="8989920" cy="39924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за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-10=60 (км/ч) – скорость 2 по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+60=130 (км/ч) –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сближе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*4=520 (км)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гор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520 км между городам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0CFB-BAA6-4F6A-AB91-CC89AC90863D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1206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6360" y="2207880"/>
            <a:ext cx="9286920" cy="41749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задач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:70=4 (ч) –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+10=80 (км/ч) – скорость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+80=150 (км/ч) – скорость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лижени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1400" indent="-671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*4=600 (км) – расстояние общ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1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600 км между гор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7ECD5-985A-4EE0-80AA-8924DD1F9366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152280"/>
            <a:ext cx="6615000" cy="1206720"/>
          </a:xfrm>
          <a:prstGeom prst="rect">
            <a:avLst/>
          </a:prstGeom>
          <a:ln w="0">
            <a:noFill/>
          </a:ln>
        </p:spPr>
      </p:pic>
      <p:pic>
        <p:nvPicPr>
          <p:cNvPr id="103" name="Таблица 2" descr=""/>
          <p:cNvPicPr/>
          <p:nvPr/>
        </p:nvPicPr>
        <p:blipFill>
          <a:blip r:embed="rId2"/>
          <a:stretch/>
        </p:blipFill>
        <p:spPr>
          <a:xfrm>
            <a:off x="182520" y="1206360"/>
            <a:ext cx="9644040" cy="6035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Dokument\Ольга\Рисунки, картинки\Форум материнство 2 марта\921_b.gif"/>
          <p:cNvPicPr/>
          <p:nvPr/>
        </p:nvPicPr>
        <p:blipFill>
          <a:blip r:embed="rId3"/>
          <a:stretch/>
        </p:blipFill>
        <p:spPr>
          <a:xfrm>
            <a:off x="1325520" y="2708280"/>
            <a:ext cx="2143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в классе"/>
          <p:cNvPicPr/>
          <p:nvPr/>
        </p:nvPicPr>
        <p:blipFill>
          <a:blip r:embed="rId1"/>
          <a:stretch/>
        </p:blipFill>
        <p:spPr>
          <a:xfrm>
            <a:off x="0" y="4494240"/>
            <a:ext cx="2851200" cy="306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6ce8903bff01"/>
          <p:cNvPicPr/>
          <p:nvPr/>
        </p:nvPicPr>
        <p:blipFill>
          <a:blip r:embed="rId2"/>
          <a:stretch/>
        </p:blipFill>
        <p:spPr>
          <a:xfrm>
            <a:off x="8058240" y="4805280"/>
            <a:ext cx="1346040" cy="2754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>
            <a:off x="1309680" y="922320"/>
            <a:ext cx="7461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284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b2b2b2"/>
                  </a:outerShdw>
                </a:effectLst>
                <a:latin typeface="Impact"/>
              </a:rPr>
              <a:t>Домашнее задание</a:t>
            </a:r>
            <a:endParaRPr b="0" lang="en-US" sz="4000" spc="1" strike="noStrike">
              <a:ln w="284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b2b2b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5" descr="kniga12"/>
          <p:cNvPicPr/>
          <p:nvPr/>
        </p:nvPicPr>
        <p:blipFill>
          <a:blip r:embed="rId5"/>
          <a:stretch/>
        </p:blipFill>
        <p:spPr>
          <a:xfrm rot="20904600">
            <a:off x="1122480" y="1471320"/>
            <a:ext cx="6746760" cy="4761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 rot="20763600">
            <a:off x="2258640" y="3017880"/>
            <a:ext cx="45943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ookman Old Style"/>
              </a:rPr>
              <a:t>Уч.  с. 28 №97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Bookman Old Style"/>
              </a:rPr>
              <a:t>р.т.  с. 13 №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0494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новенный 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4160" y="1493640"/>
            <a:ext cx="9501120" cy="57150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частное чисел 420 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ьте 70 в 5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рихуйте  число, в котором 60 сотен и 3 един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72 больше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е 460 и половину от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у чисел 380 и 4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е 540 на 4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ую оценку ученика  умножь на количество дней в апреле меся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ьте количество углов в прямоугольнике на наименьшее четырехзначное 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79524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937640" y="1389240"/>
            <a:ext cx="79344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7342200" y="306360"/>
            <a:ext cx="793800" cy="685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8"/>
          <p:cNvSpPr txBox="1"/>
          <p:nvPr/>
        </p:nvSpPr>
        <p:spPr>
          <a:xfrm>
            <a:off x="2341440" y="2668680"/>
            <a:ext cx="64296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d2db9"/>
                </a:solidFill>
                <a:latin typeface="Impact"/>
              </a:rPr>
              <a:t>Спасибо за урок 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2d2db9"/>
              </a:solidFill>
              <a:latin typeface="Impact"/>
              <a:ea typeface="Impact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4160" y="2136600"/>
            <a:ext cx="9501120" cy="44294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10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5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-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1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80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00 -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6003 –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000 -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82160" y="207720"/>
            <a:ext cx="5016600" cy="65005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стория человечества знает много разносторонне одаренных людей. И среди них на одно из первых мест надо постави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еликого русского ученого Михаила Васильевича Ломоносо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портрет Ломоносова"/>
          <p:cNvPicPr/>
          <p:nvPr/>
        </p:nvPicPr>
        <p:blipFill>
          <a:blip r:embed="rId1"/>
          <a:stretch/>
        </p:blipFill>
        <p:spPr>
          <a:xfrm>
            <a:off x="5329080" y="993600"/>
            <a:ext cx="4569120" cy="575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для контр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2136240"/>
            <a:ext cx="9069480" cy="435780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йти неизвестный множител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слагаемо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делим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ый дел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уменьшаем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вестное вычитаем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76360" y="2410920"/>
            <a:ext cx="4457520" cy="4172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х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(62 – 12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х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 2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 х 40 = (62-12)х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  =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13080" y="178920"/>
            <a:ext cx="4459320" cy="3745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 10 = 400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 10 =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200 :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 х 10 = 400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0  =  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Грустный Ох"/>
          <p:cNvPicPr/>
          <p:nvPr/>
        </p:nvPicPr>
        <p:blipFill>
          <a:blip r:embed="rId1"/>
          <a:stretch/>
        </p:blipFill>
        <p:spPr>
          <a:xfrm>
            <a:off x="-216000" y="0"/>
            <a:ext cx="2808360" cy="2381400"/>
          </a:xfrm>
          <a:prstGeom prst="rect">
            <a:avLst/>
          </a:prstGeom>
          <a:ln w="0">
            <a:noFill/>
          </a:ln>
        </p:spPr>
      </p:pic>
      <p:sp>
        <p:nvSpPr>
          <p:cNvPr id="62" name="Line 8"/>
          <p:cNvSpPr/>
          <p:nvPr/>
        </p:nvSpPr>
        <p:spPr>
          <a:xfrm>
            <a:off x="100800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5545080" y="2484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Веселый Ах"/>
          <p:cNvPicPr/>
          <p:nvPr/>
        </p:nvPicPr>
        <p:blipFill>
          <a:blip r:embed="rId2"/>
          <a:stretch/>
        </p:blipFill>
        <p:spPr>
          <a:xfrm>
            <a:off x="6912000" y="3203640"/>
            <a:ext cx="2832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1779480"/>
            <a:ext cx="4299120" cy="12146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9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S = v</a:t>
            </a:r>
            <a:r>
              <a:rPr b="1" i="1" lang="ru-RU" sz="7900" spc="-1" strike="noStrike">
                <a:solidFill>
                  <a:srgbClr val="2d2db9"/>
                </a:solidFill>
                <a:latin typeface="Times New Roman"/>
              </a:rPr>
              <a:t> .</a:t>
            </a: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t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19200" y="1763280"/>
            <a:ext cx="4457880" cy="122868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9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t = S : v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097600" y="3700440"/>
            <a:ext cx="3595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2897280" y="4414680"/>
            <a:ext cx="3647880" cy="1220400"/>
          </a:xfrm>
          <a:prstGeom prst="rect">
            <a:avLst/>
          </a:prstGeom>
          <a:noFill/>
          <a:ln w="93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900" spc="-1" strike="noStrike">
                <a:solidFill>
                  <a:srgbClr val="2d2db9"/>
                </a:solidFill>
                <a:latin typeface="Times New Roman"/>
              </a:rPr>
              <a:t>v = S : t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502920"/>
            <a:ext cx="9074160" cy="12049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0840" y="2350800"/>
            <a:ext cx="5619600" cy="394812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д со скорост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/с бежал 5 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расстояние он преодоле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сканирование0000"/>
          <p:cNvPicPr/>
          <p:nvPr/>
        </p:nvPicPr>
        <p:blipFill>
          <a:blip r:embed="rId1"/>
          <a:stretch/>
        </p:blipFill>
        <p:spPr>
          <a:xfrm>
            <a:off x="6216480" y="2065320"/>
            <a:ext cx="3610080" cy="437508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03FCD-061F-4290-B5DC-37DF7B3CF3F6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279000"/>
            <a:ext cx="9074160" cy="142884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турн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2000" y="2279160"/>
            <a:ext cx="5504040" cy="4071960"/>
          </a:xfrm>
          <a:prstGeom prst="rect">
            <a:avLst/>
          </a:prstGeom>
          <a:noFill/>
          <a:ln w="9360">
            <a:solidFill>
              <a:srgbClr val="2d2db9"/>
            </a:solidFill>
            <a:round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лопа может пробежать    75 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3 с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корость антилоп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сканирование0000"/>
          <p:cNvPicPr/>
          <p:nvPr/>
        </p:nvPicPr>
        <p:blipFill>
          <a:blip r:embed="rId1"/>
          <a:stretch/>
        </p:blipFill>
        <p:spPr>
          <a:xfrm>
            <a:off x="5796000" y="1922400"/>
            <a:ext cx="395928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8809E-E8A3-428F-9D49-2D6349585EC8}" type="slidenum">
              <a:rPr b="0" lang="ru-RU" sz="1400" spc="-1" strike="noStrike">
                <a:solidFill>
                  <a:srgbClr val="bfbfb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>Ольга</dc:creator>
  <dc:description/>
  <dc:language>en-US</dc:language>
  <cp:lastModifiedBy>Ольга</cp:lastModifiedBy>
  <dcterms:modified xsi:type="dcterms:W3CDTF">2013-04-18T13:51:21Z</dcterms:modified>
  <cp:revision>25</cp:revision>
  <dc:subject/>
  <dc:title>Слайд 1</dc:title>
</cp:coreProperties>
</file>