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9D798-87B8-4D5B-8805-92BA7A2257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0512D-594B-4246-A87F-598EA61783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D1A8D-0EDE-4DA2-A450-6D5FADBFA1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822240" y="0"/>
            <a:ext cx="5613480" cy="4210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162-C16B-4822-A735-037A4A85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F21-C1A6-4FB0-A5D3-C10E9F45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E69-2CEA-4D75-8298-B7F5EEAE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488-AE54-4C7C-B74E-DDFEAB08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847-06B0-4499-A916-084BCB00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903-44A5-49A3-B584-96A1961B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709-B553-445E-B793-BAC44E01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F24-4417-4C32-B97D-182147A4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B63-B381-4FC1-9AB7-46BB582E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227-BB3E-4BDA-94D2-4717E1BF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97D-4446-4AA0-A325-CF2EAF2B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C46-6259-4E91-A3DD-A58E6DB8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F751CE-725F-438C-AABA-EA5BDE2536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584360" y="2484360"/>
            <a:ext cx="65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рок  математик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сканирование0000"/>
          <p:cNvPicPr/>
          <p:nvPr/>
        </p:nvPicPr>
        <p:blipFill>
          <a:blip r:embed="rId1"/>
          <a:stretch/>
        </p:blipFill>
        <p:spPr>
          <a:xfrm>
            <a:off x="5683320" y="2208240"/>
            <a:ext cx="4151160" cy="4929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503280"/>
            <a:ext cx="9074160" cy="15127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тур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2360" y="2279520"/>
            <a:ext cx="5073840" cy="452448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ебры максимальная скорость   1 км в минут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кое время она преодолеет 3 к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DA36D-2AA4-487F-A693-7D9B97AF81C6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503280"/>
            <a:ext cx="9074160" cy="15127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тур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6600" y="2493720"/>
            <a:ext cx="5627520" cy="456228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ела расстояние    в 180 км пролетает за 3 ч. Какова  скорость пчел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6216480" y="2771640"/>
            <a:ext cx="3221280" cy="3135600"/>
          </a:xfrm>
          <a:prstGeom prst="rect">
            <a:avLst/>
          </a:prstGeom>
          <a:ln w="0">
            <a:noFill/>
          </a:ln>
        </p:spPr>
      </p:pic>
      <p:sp>
        <p:nvSpPr>
          <p:cNvPr id="84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238AD-C848-433B-B25F-27EF0015CD63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503280"/>
            <a:ext cx="9074160" cy="15127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тур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6600" y="2603520"/>
            <a:ext cx="5503680" cy="41162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ус лучший бегун в мире.    Найдите его скорость,    если она в 2 раза больше скорости пчелы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сканирование0000"/>
          <p:cNvPicPr/>
          <p:nvPr/>
        </p:nvPicPr>
        <p:blipFill>
          <a:blip r:embed="rId1"/>
          <a:stretch/>
        </p:blipFill>
        <p:spPr>
          <a:xfrm>
            <a:off x="6397560" y="2208240"/>
            <a:ext cx="3500640" cy="421488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C70EA-5AD2-49C2-990F-0287821A1958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2687400"/>
            <a:ext cx="8988480" cy="16794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,  25,  3,  60,  1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45854-A684-431F-9386-5A371AA188F0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107880" y="4535640"/>
            <a:ext cx="66358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03280"/>
            <a:ext cx="9074160" cy="70488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160" y="1993680"/>
            <a:ext cx="9644040" cy="50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 двух городов навстречу друг другу вышли два поезда. Скорость первого – 70 км/ч, скорость второго – на 10 км/ч меньше. Через 4 часа поезда встретились.        Каково расстояние между город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 двух городов навстречу друг другу вышли два поезда. Скорость первого – 70 км/ч, скорость второго – на 10 км/ч больше. Через 280 км пути первый поезд встретился со вторым.        Каково расстояние между город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03C8A-A22C-4908-9216-7B993C5AACD5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7520" y="2351160"/>
            <a:ext cx="8989920" cy="39924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67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зад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-10=60 (км/ч) – скорость 2 по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+60=130 (км/ч) –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сближе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*4=520 (км)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гор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520 км между городами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C6EB5-D12C-4385-8388-2E1DD5E8B5AF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12068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6360" y="2207880"/>
            <a:ext cx="9286920" cy="41749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67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задач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:70=4 (ч) –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+10=80 (км/ч) – скорость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+80=150 (км/ч) – скорость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лижения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*4=600 (км) – расстояние общ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600 км между гор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F1FB3-E130-43E4-B5B6-365567669FCE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152280"/>
            <a:ext cx="6615000" cy="1206720"/>
          </a:xfrm>
          <a:prstGeom prst="rect">
            <a:avLst/>
          </a:prstGeom>
          <a:ln w="0">
            <a:noFill/>
          </a:ln>
        </p:spPr>
      </p:pic>
      <p:pic>
        <p:nvPicPr>
          <p:cNvPr id="103" name="Таблица 2" descr=""/>
          <p:cNvPicPr/>
          <p:nvPr/>
        </p:nvPicPr>
        <p:blipFill>
          <a:blip r:embed="rId2"/>
          <a:stretch/>
        </p:blipFill>
        <p:spPr>
          <a:xfrm>
            <a:off x="182520" y="1206360"/>
            <a:ext cx="9644040" cy="6035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:\Dokument\Ольга\Рисунки, картинки\Форум материнство 2 марта\921_b.gif"/>
          <p:cNvPicPr/>
          <p:nvPr/>
        </p:nvPicPr>
        <p:blipFill>
          <a:blip r:embed="rId3"/>
          <a:stretch/>
        </p:blipFill>
        <p:spPr>
          <a:xfrm>
            <a:off x="1325520" y="2708280"/>
            <a:ext cx="2143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в классе"/>
          <p:cNvPicPr/>
          <p:nvPr/>
        </p:nvPicPr>
        <p:blipFill>
          <a:blip r:embed="rId1"/>
          <a:stretch/>
        </p:blipFill>
        <p:spPr>
          <a:xfrm>
            <a:off x="0" y="4494240"/>
            <a:ext cx="2851200" cy="3065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6ce8903bff01"/>
          <p:cNvPicPr/>
          <p:nvPr/>
        </p:nvPicPr>
        <p:blipFill>
          <a:blip r:embed="rId2"/>
          <a:stretch/>
        </p:blipFill>
        <p:spPr>
          <a:xfrm>
            <a:off x="8058240" y="4805280"/>
            <a:ext cx="1346040" cy="27543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4"/>
          <p:cNvSpPr txBox="1"/>
          <p:nvPr/>
        </p:nvSpPr>
        <p:spPr>
          <a:xfrm>
            <a:off x="1309680" y="922320"/>
            <a:ext cx="7461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284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b2b2b2"/>
                  </a:outerShdw>
                </a:effectLst>
                <a:latin typeface="Impact"/>
              </a:rPr>
              <a:t>Домашнее задание</a:t>
            </a:r>
            <a:endParaRPr b="0" lang="en-US" sz="4000" spc="1" strike="noStrike">
              <a:ln w="284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b2b2b2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5" descr="kniga12"/>
          <p:cNvPicPr/>
          <p:nvPr/>
        </p:nvPicPr>
        <p:blipFill>
          <a:blip r:embed="rId5"/>
          <a:stretch/>
        </p:blipFill>
        <p:spPr>
          <a:xfrm rot="20904600">
            <a:off x="1122480" y="1471320"/>
            <a:ext cx="6746760" cy="4761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 rot="20763600">
            <a:off x="2258640" y="3017880"/>
            <a:ext cx="459432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Bookman Old Style"/>
              </a:rPr>
              <a:t>Уч.  с. 28 №97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Bookman Old Style"/>
              </a:rPr>
              <a:t>р.т.  с. 13 №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0494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новенный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4160" y="1493640"/>
            <a:ext cx="9501120" cy="57150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частное чисел 420 и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ьте 70 в 50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рихуйте  число, в котором 60 сотен и 3 един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72 больше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те 460 и половину от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у чисел 380 и 4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е 540 на 4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мую оценку ученика  умножь на количество дней в апреле меся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ьте количество углов в прямоугольнике на наименьшее четырехзначное 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6548400" y="1587600"/>
            <a:ext cx="79524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7937640" y="1389240"/>
            <a:ext cx="79344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7342200" y="306360"/>
            <a:ext cx="793800" cy="685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8"/>
          <p:cNvSpPr txBox="1"/>
          <p:nvPr/>
        </p:nvSpPr>
        <p:spPr>
          <a:xfrm>
            <a:off x="2341440" y="2668680"/>
            <a:ext cx="642960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2db9"/>
                </a:solidFill>
                <a:latin typeface="Impact"/>
              </a:rPr>
              <a:t>Спасибо за урок 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2d2db9"/>
              </a:soli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4160" y="2136600"/>
            <a:ext cx="9501120" cy="44294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10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50 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-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10 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00 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00 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003 –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4000 -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82160" y="207720"/>
            <a:ext cx="5016600" cy="65005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стория человечества знает много разносторонне одаренных людей. И среди них на одно из первых мест надо постави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еликого русского ученого Михаила Васильевича Ломонос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портрет Ломоносова"/>
          <p:cNvPicPr/>
          <p:nvPr/>
        </p:nvPicPr>
        <p:blipFill>
          <a:blip r:embed="rId1"/>
          <a:stretch/>
        </p:blipFill>
        <p:spPr>
          <a:xfrm>
            <a:off x="5329080" y="993600"/>
            <a:ext cx="4569120" cy="575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для контр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2136240"/>
            <a:ext cx="9069480" cy="43578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неизвестный множител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ое слагаемо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ое делим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ый дел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ое уменьшаем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ое вычитаем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76360" y="2410920"/>
            <a:ext cx="4457520" cy="4172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х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=(62 – 12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х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х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=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= 20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х 40 = (62-12)х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0  =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13080" y="178920"/>
            <a:ext cx="4459320" cy="3745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 10 = 400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х 10 =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200 :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 х 10 = 400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0  = 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Грустный Ох"/>
          <p:cNvPicPr/>
          <p:nvPr/>
        </p:nvPicPr>
        <p:blipFill>
          <a:blip r:embed="rId1"/>
          <a:stretch/>
        </p:blipFill>
        <p:spPr>
          <a:xfrm>
            <a:off x="-216000" y="0"/>
            <a:ext cx="2808360" cy="2381400"/>
          </a:xfrm>
          <a:prstGeom prst="rect">
            <a:avLst/>
          </a:prstGeom>
          <a:ln w="0">
            <a:noFill/>
          </a:ln>
        </p:spPr>
      </p:pic>
      <p:sp>
        <p:nvSpPr>
          <p:cNvPr id="62" name="Line 8"/>
          <p:cNvSpPr/>
          <p:nvPr/>
        </p:nvSpPr>
        <p:spPr>
          <a:xfrm>
            <a:off x="1008000" y="4572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5545080" y="2484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Веселый Ах"/>
          <p:cNvPicPr/>
          <p:nvPr/>
        </p:nvPicPr>
        <p:blipFill>
          <a:blip r:embed="rId2"/>
          <a:stretch/>
        </p:blipFill>
        <p:spPr>
          <a:xfrm>
            <a:off x="6912000" y="3203640"/>
            <a:ext cx="2832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1779480"/>
            <a:ext cx="4299120" cy="1214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9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i="1" lang="en-US" sz="7900" spc="-1" strike="noStrike">
                <a:solidFill>
                  <a:srgbClr val="2d2db9"/>
                </a:solidFill>
                <a:latin typeface="Times New Roman"/>
              </a:rPr>
              <a:t>S = v</a:t>
            </a:r>
            <a:r>
              <a:rPr b="1" i="1" lang="ru-RU" sz="7900" spc="-1" strike="noStrike">
                <a:solidFill>
                  <a:srgbClr val="2d2db9"/>
                </a:solidFill>
                <a:latin typeface="Times New Roman"/>
              </a:rPr>
              <a:t> .</a:t>
            </a:r>
            <a:r>
              <a:rPr b="1" i="1" lang="en-US" sz="7900" spc="-1" strike="noStrike">
                <a:solidFill>
                  <a:srgbClr val="2d2db9"/>
                </a:solidFill>
                <a:latin typeface="Times New Roman"/>
              </a:rPr>
              <a:t>t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19200" y="1763280"/>
            <a:ext cx="4457880" cy="122868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9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i="1" lang="en-US" sz="7900" spc="-1" strike="noStrike">
                <a:solidFill>
                  <a:srgbClr val="2d2db9"/>
                </a:solidFill>
                <a:latin typeface="Times New Roman"/>
              </a:rPr>
              <a:t>t = S : v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5097600" y="3700440"/>
            <a:ext cx="3595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2897280" y="4414680"/>
            <a:ext cx="3647880" cy="1220400"/>
          </a:xfrm>
          <a:prstGeom prst="rect">
            <a:avLst/>
          </a:prstGeom>
          <a:noFill/>
          <a:ln w="93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900" spc="-1" strike="noStrike">
                <a:solidFill>
                  <a:srgbClr val="2d2db9"/>
                </a:solidFill>
                <a:latin typeface="Times New Roman"/>
              </a:rPr>
              <a:t>v = S : t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502920"/>
            <a:ext cx="9074160" cy="12049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тур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0840" y="2350800"/>
            <a:ext cx="5619600" cy="39481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рд со скорость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м/с бежал 5 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расстояние он преодоле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сканирование0000"/>
          <p:cNvPicPr/>
          <p:nvPr/>
        </p:nvPicPr>
        <p:blipFill>
          <a:blip r:embed="rId1"/>
          <a:stretch/>
        </p:blipFill>
        <p:spPr>
          <a:xfrm>
            <a:off x="6216480" y="2065320"/>
            <a:ext cx="3610080" cy="437508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F9F3E-A778-4EB9-9F73-DB36BE8D3C36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279000"/>
            <a:ext cx="9074160" cy="14288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тур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2000" y="2279160"/>
            <a:ext cx="5504040" cy="407196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лопа может пробежать    75 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3 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скорость антилоп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сканирование0000"/>
          <p:cNvPicPr/>
          <p:nvPr/>
        </p:nvPicPr>
        <p:blipFill>
          <a:blip r:embed="rId1"/>
          <a:stretch/>
        </p:blipFill>
        <p:spPr>
          <a:xfrm>
            <a:off x="5796000" y="1922400"/>
            <a:ext cx="3959280" cy="514368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BAB91-0117-4334-AB7E-08A6203A1574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>Ольга</dc:creator>
  <dc:description/>
  <dc:language>en-US</dc:language>
  <cp:lastModifiedBy>Ольга</cp:lastModifiedBy>
  <dcterms:modified xsi:type="dcterms:W3CDTF">2013-04-18T13:51:21Z</dcterms:modified>
  <cp:revision>25</cp:revision>
  <dc:subject/>
  <dc:title>Слайд 1</dc:title>
</cp:coreProperties>
</file>