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2515-376A-43CC-8603-DD7C5F97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9DB-CDB5-4F04-9859-67D54C2BC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F366-05B7-497B-B1AC-A2ADBEC4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FB3-1ED1-45DD-A8F6-14F2AA81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D15F-4639-4A66-83BE-8751D2208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4F55-5E5D-4456-83BC-8631C2612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B8C-BEEE-40A9-837C-FE99B556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9B49-0C8F-492E-8B6A-6A57C31C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0025-C1C9-42B2-A072-A5A7874C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BC26-7201-4681-8ECA-1A3F57C0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7EB-181B-41FF-A966-89496F9F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5A3-2EAC-4CA5-B59F-7089364C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8DF30-773F-4F8D-BC5A-FB57F4D3377C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одготовила студентка группы 11г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олозюк ю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652760" y="2755800"/>
            <a:ext cx="70340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90400" y="2930040"/>
            <a:ext cx="3981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угольник, самозвучащий ударный музыкальный инструмент- стальной прут, согнутый в виде треугольника, по которому ударяют палочко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меняется в оркестрах и инструментальных ансамблях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5834160" y="3251160"/>
            <a:ext cx="190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22080" y="3458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ермудский треугольник – район в Атлантическом океане, в котором происходят якобы таинственные исчезновения морских и воздушных суд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2"/>
          <a:stretch/>
        </p:blipFill>
        <p:spPr>
          <a:xfrm>
            <a:off x="3319560" y="4152960"/>
            <a:ext cx="4116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угольники в одежде: различные головные убо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треугольники, колпаки, косынк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1957320" y="2693880"/>
            <a:ext cx="5238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9240" y="22698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еловек различает окружающие его предметы по форм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орма, в основе построения которой лежат сочетание симметрии и золотого сечения, способствует наилучшему зрительному восприятию и появлению ощущения красоты и гармони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4795920" y="1960560"/>
            <a:ext cx="3670200" cy="38797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3"/>
          <a:stretch/>
        </p:blipFill>
        <p:spPr>
          <a:xfrm>
            <a:off x="785880" y="2257560"/>
            <a:ext cx="4010040" cy="4236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4"/>
          <a:stretch/>
        </p:blipFill>
        <p:spPr>
          <a:xfrm>
            <a:off x="1143000" y="2643120"/>
            <a:ext cx="5000760" cy="5286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5"/>
          <a:stretch/>
        </p:blipFill>
        <p:spPr>
          <a:xfrm>
            <a:off x="4522680" y="1960560"/>
            <a:ext cx="425160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"/>
          <p:cNvPicPr/>
          <p:nvPr/>
        </p:nvPicPr>
        <p:blipFill>
          <a:blip r:embed="rId6"/>
          <a:stretch/>
        </p:blipFill>
        <p:spPr>
          <a:xfrm>
            <a:off x="3881520" y="0"/>
            <a:ext cx="5000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3392640" y="4533840"/>
            <a:ext cx="3416040" cy="217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58920" y="2203200"/>
            <a:ext cx="4279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имметрия буквально пронизывает весь ми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то не любовался симметричными формами снежинок, кристаллов, листьев, цветов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имметричны животные, птицы, рыбы, насекомы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3"/>
          <a:stretch/>
        </p:blipFill>
        <p:spPr>
          <a:xfrm>
            <a:off x="6291360" y="2203560"/>
            <a:ext cx="2327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8840" y="2599920"/>
            <a:ext cx="3828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Золотое сече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( золотая пропорция, деление в крайнем и среднем отношении) – деление непрерывной величины на две части в таком соотношении, при котором меньшая часть так относится к большей, как большая ко всей величин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олотое сечение можно увидеть и в спирал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4087800" y="2705040"/>
            <a:ext cx="4572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32880" y="1828440"/>
            <a:ext cx="412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Характерные черты растений и их развития является спиральнос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ирально закручиваются усики растений, по спирали происходит рост ткани в стволах деревье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иральные движения ( нутации) наблюдаются при росте корней и побег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4916520" y="1995480"/>
            <a:ext cx="3124080" cy="2009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2384280" y="4152960"/>
            <a:ext cx="3021120" cy="1896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4"/>
          <a:stretch/>
        </p:blipFill>
        <p:spPr>
          <a:xfrm>
            <a:off x="6062760" y="364500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67960" y="3579840"/>
            <a:ext cx="45882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сители информации молекулы ДНК – также скручены в спира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5226120" y="3906720"/>
            <a:ext cx="259560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2438280" y="4297320"/>
            <a:ext cx="211788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44040" y="2731680"/>
            <a:ext cx="365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смотрим на сосновую шишк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ешуйки на её поверхности расположены строго закономерно – по двум спиралям, которые пересекаются приблизительно под прямым угл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5348160" y="32893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21800" y="3579480"/>
            <a:ext cx="4334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корзинках подсолнечника семена также расположены по двум спиралям, их число составляет обычно 34 и 55 , 55 и 89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десь вновь мы видим закономерное сочетание чисел Фибоначчи, расположенных рядом 2/3, 3/5 и т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5056200" y="3579840"/>
            <a:ext cx="3219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22080" y="22809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ссмотренную закономерность расположения листьев, чешуек, семян называют филлотаксис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20:10:40Z</dcterms:created>
  <dc:creator>марина тарасова</dc:creator>
  <dc:description/>
  <dc:language>en-US</dc:language>
  <cp:lastModifiedBy>Ирина Игоревна Егорова</cp:lastModifiedBy>
  <dcterms:modified xsi:type="dcterms:W3CDTF">2018-06-22T05:28:14Z</dcterms:modified>
  <cp:revision>8</cp:revision>
  <dc:subject/>
  <dc:title>PowerPoint Presentation</dc:title>
</cp:coreProperties>
</file>