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9.jpeg" ContentType="image/jpeg"/>
  <Override PartName="/ppt/media/image26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5.png" ContentType="image/png"/>
  <Override PartName="/ppt/media/image10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9.png" ContentType="image/png"/>
  <Override PartName="/ppt/media/image17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6BF6-4384-4D17-B775-48A036AA4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7171-1480-4245-8B3F-2CC3BBD4D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5B28-5600-4215-A151-20389A5E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012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7000" y="18284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3324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012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7000" y="410148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89FD-D3A4-4CC9-98CA-2BC11349B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11D6-4934-401F-B0B8-9DDACB232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CD1D-08FD-4176-92AD-F58EF481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8A8A-CFE5-4127-B452-49F792A59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5C93-D113-40AC-8B6C-743BE708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3324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A9DD-DACF-40DD-AC01-A9F99044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C39C-A254-46CC-93E8-216A4EFB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0148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656E-538C-480E-89E1-19C2D157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3324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8284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33240" y="410148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098-462F-4999-A934-D63DF972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324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6236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274C-A18D-4B72-B5DF-B0F4C7DF676E}" type="slidenum"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Подготовила студентка группы 11г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404040"/>
                </a:solidFill>
                <a:latin typeface="Calibri"/>
              </a:rPr>
              <a:t>Полозюк юл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1652760" y="2755800"/>
            <a:ext cx="7034040" cy="9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590400" y="2930040"/>
            <a:ext cx="3981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реугольник, самозвучащий ударный музыкальный инструмент- стальной прут, согнутый в виде треугольника, по которому ударяют палочкой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рименяется в оркестрах и инструментальных ансамблях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3" descr=""/>
          <p:cNvPicPr/>
          <p:nvPr/>
        </p:nvPicPr>
        <p:blipFill>
          <a:blip r:embed="rId2"/>
          <a:stretch/>
        </p:blipFill>
        <p:spPr>
          <a:xfrm>
            <a:off x="5834160" y="3251160"/>
            <a:ext cx="1904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22080" y="3458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Бермудский треугольник – район в Атлантическом океане, в котором происходят якобы таинственные исчезновения морских и воздушных судов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Рисунок 3" descr=""/>
          <p:cNvPicPr/>
          <p:nvPr/>
        </p:nvPicPr>
        <p:blipFill>
          <a:blip r:embed="rId2"/>
          <a:stretch/>
        </p:blipFill>
        <p:spPr>
          <a:xfrm>
            <a:off x="3319560" y="4152960"/>
            <a:ext cx="41162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33240" y="182844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Треугольники в одежде: различные головные уборы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- треугольники, колпаки, косынки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Рисунок 3" descr=""/>
          <p:cNvPicPr/>
          <p:nvPr/>
        </p:nvPicPr>
        <p:blipFill>
          <a:blip r:embed="rId2"/>
          <a:stretch/>
        </p:blipFill>
        <p:spPr>
          <a:xfrm>
            <a:off x="1957320" y="2693880"/>
            <a:ext cx="523872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579240" y="22698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Человек различает окружающие его предметы по форм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Форма, в основе построения которой лежат сочетание симметрии и золотого сечения, способствует наилучшему зрительному восприятию и появлению ощущения красоты и гармонии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4795920" y="1960560"/>
            <a:ext cx="3670200" cy="387972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"/>
          <p:cNvPicPr/>
          <p:nvPr/>
        </p:nvPicPr>
        <p:blipFill>
          <a:blip r:embed="rId3"/>
          <a:stretch/>
        </p:blipFill>
        <p:spPr>
          <a:xfrm>
            <a:off x="785880" y="2257560"/>
            <a:ext cx="4010040" cy="42368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5" descr=""/>
          <p:cNvPicPr/>
          <p:nvPr/>
        </p:nvPicPr>
        <p:blipFill>
          <a:blip r:embed="rId4"/>
          <a:stretch/>
        </p:blipFill>
        <p:spPr>
          <a:xfrm>
            <a:off x="1143000" y="2643120"/>
            <a:ext cx="5000760" cy="52866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6" descr=""/>
          <p:cNvPicPr/>
          <p:nvPr/>
        </p:nvPicPr>
        <p:blipFill>
          <a:blip r:embed="rId5"/>
          <a:stretch/>
        </p:blipFill>
        <p:spPr>
          <a:xfrm>
            <a:off x="4522680" y="1960560"/>
            <a:ext cx="4251600" cy="449568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8" descr=""/>
          <p:cNvPicPr/>
          <p:nvPr/>
        </p:nvPicPr>
        <p:blipFill>
          <a:blip r:embed="rId6"/>
          <a:stretch/>
        </p:blipFill>
        <p:spPr>
          <a:xfrm>
            <a:off x="3881520" y="0"/>
            <a:ext cx="5000400" cy="52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4" descr=""/>
          <p:cNvPicPr/>
          <p:nvPr/>
        </p:nvPicPr>
        <p:blipFill>
          <a:blip r:embed="rId2"/>
          <a:stretch/>
        </p:blipFill>
        <p:spPr>
          <a:xfrm>
            <a:off x="3392640" y="4533840"/>
            <a:ext cx="3416040" cy="21700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58920" y="2203200"/>
            <a:ext cx="42796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имметрия буквально пронизывает весь мир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Кто не любовался симметричными формами снежинок, кристаллов, листьев, цветов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имметричны животные, птицы, рыбы, насекомы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3" descr=""/>
          <p:cNvPicPr/>
          <p:nvPr/>
        </p:nvPicPr>
        <p:blipFill>
          <a:blip r:embed="rId3"/>
          <a:stretch/>
        </p:blipFill>
        <p:spPr>
          <a:xfrm>
            <a:off x="6291360" y="2203560"/>
            <a:ext cx="23270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258840" y="2599920"/>
            <a:ext cx="3828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alibri"/>
              </a:rPr>
              <a:t>Золотое сечение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( золотая пропорция, деление в крайнем и среднем отношении) – деление непрерывной величины на две части в таком соотношении, при котором меньшая часть так относится к большей, как большая ко всей величин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Золотое сечение можно увидеть и в спирали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Рисунок 3" descr=""/>
          <p:cNvPicPr/>
          <p:nvPr/>
        </p:nvPicPr>
        <p:blipFill>
          <a:blip r:embed="rId2"/>
          <a:stretch/>
        </p:blipFill>
        <p:spPr>
          <a:xfrm>
            <a:off x="4087800" y="2705040"/>
            <a:ext cx="4572000" cy="29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32880" y="1828440"/>
            <a:ext cx="41259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Характерные черты растений и их развития является спиральность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пирально закручиваются усики растений, по спирали происходит рост ткани в стволах деревьев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Спиральные движения ( нутации) наблюдаются при росте корней и побегов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Рисунок 3" descr=""/>
          <p:cNvPicPr/>
          <p:nvPr/>
        </p:nvPicPr>
        <p:blipFill>
          <a:blip r:embed="rId2"/>
          <a:stretch/>
        </p:blipFill>
        <p:spPr>
          <a:xfrm>
            <a:off x="4916520" y="1995480"/>
            <a:ext cx="3124080" cy="200988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4" descr=""/>
          <p:cNvPicPr/>
          <p:nvPr/>
        </p:nvPicPr>
        <p:blipFill>
          <a:blip r:embed="rId3"/>
          <a:stretch/>
        </p:blipFill>
        <p:spPr>
          <a:xfrm>
            <a:off x="2384280" y="4152960"/>
            <a:ext cx="3021120" cy="189684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5" descr=""/>
          <p:cNvPicPr/>
          <p:nvPr/>
        </p:nvPicPr>
        <p:blipFill>
          <a:blip r:embed="rId4"/>
          <a:stretch/>
        </p:blipFill>
        <p:spPr>
          <a:xfrm>
            <a:off x="6062760" y="3645000"/>
            <a:ext cx="21859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767960" y="3579840"/>
            <a:ext cx="4588200" cy="15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Носители информации молекулы ДНК – также скручены в спираль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Рисунок 3" descr=""/>
          <p:cNvPicPr/>
          <p:nvPr/>
        </p:nvPicPr>
        <p:blipFill>
          <a:blip r:embed="rId2"/>
          <a:stretch/>
        </p:blipFill>
        <p:spPr>
          <a:xfrm>
            <a:off x="5226120" y="3906720"/>
            <a:ext cx="2595600" cy="1568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4" descr=""/>
          <p:cNvPicPr/>
          <p:nvPr/>
        </p:nvPicPr>
        <p:blipFill>
          <a:blip r:embed="rId3"/>
          <a:stretch/>
        </p:blipFill>
        <p:spPr>
          <a:xfrm>
            <a:off x="2438280" y="4297320"/>
            <a:ext cx="211788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44040" y="2731680"/>
            <a:ext cx="36529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Посмотрим на сосновую шишку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Чешуйки на её поверхности расположены строго закономерно – по двум спиралям, которые пересекаются приблизительно под прямым углом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Рисунок 3" descr=""/>
          <p:cNvPicPr/>
          <p:nvPr/>
        </p:nvPicPr>
        <p:blipFill>
          <a:blip r:embed="rId2"/>
          <a:stretch/>
        </p:blipFill>
        <p:spPr>
          <a:xfrm>
            <a:off x="5348160" y="3289320"/>
            <a:ext cx="161928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21800" y="3579480"/>
            <a:ext cx="43340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В корзинках подсолнечника семена также расположены по двум спиралям, их число составляет обычно 34 и 55 , 55 и 89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Здесь вновь мы видим закономерное сочетание чисел Фибоначчи, расположенных рядом 2/3, 3/5 и тд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2"/>
          <a:stretch/>
        </p:blipFill>
        <p:spPr>
          <a:xfrm>
            <a:off x="5056200" y="3579840"/>
            <a:ext cx="32194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22080" y="22809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Рассмотренную закономерность расположения листьев, чешуек, семян называют филлотаксисом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8T20:10:40Z</dcterms:created>
  <dc:creator>марина тарасова</dc:creator>
  <dc:description/>
  <dc:language>en-US</dc:language>
  <cp:lastModifiedBy>Ирина Игоревна Егорова</cp:lastModifiedBy>
  <dcterms:modified xsi:type="dcterms:W3CDTF">2018-06-22T05:28:14Z</dcterms:modified>
  <cp:revision>8</cp:revision>
  <dc:subject/>
  <dc:title>PowerPoint Presentation</dc:title>
</cp:coreProperties>
</file>