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6.jpeg" ContentType="image/jpeg"/>
  <Override PartName="/ppt/media/image19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20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6928C-CCAE-4DDB-A4A3-94E554F90E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B2B7-007E-42CD-A2D2-F8946BE57A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99E0-E03B-4334-86AA-CF58DE529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1E72-84F6-42F7-9E39-B19DF163A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F66-90F1-443D-9AEE-5F61C081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2AAB-DF98-4899-9C50-43A06281D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E960-4896-45D2-95D4-495BAB63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3DD94-9F2A-4950-8A96-81E232D3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2464-8BCC-4D38-A52B-0A235D02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9A8E-4675-442C-908D-77D70219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3C89-0842-4FC1-A1E5-DFE4B3F9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E2E8-AC3F-408C-88F9-2A3CCCB8B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56E1-C11D-4CA9-9B9C-62101550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B2E-0593-4755-93CB-53E2F214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04EB-7EEF-4D44-AA92-390A698B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5A48-7A33-4D2A-AAF1-CDCBF18EC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95D9E-DD11-4255-90C4-A8B4C87A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7E57-BBC6-44FF-8E99-9061CDB3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8BB6-B77C-450D-820F-F584BBC11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EDB17-FA64-4A7A-97CF-CD9A7E135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78E2A-776A-47AA-AA2E-89F488390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35FC6-2C7A-422E-A96E-1E777FBE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384B0-49AD-47E8-866B-88E8782F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56E23-982F-4F03-A969-FD2E5EC51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C83-8053-4C66-8D7C-42F4E49E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4B76E-5C09-4CAB-8366-4E0E0858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AB5F5-0F46-425D-AF7A-818FDA6D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24756-2BFC-41DF-AE2F-34960C0A6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B009F5-6B15-4D90-B469-BA189E6A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FEBBC8-99A0-4B3D-9810-3AFB0EAFE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1777E-AB9F-4B70-9664-672300AE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9A1EF-883B-4213-ABEA-DADE949C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AB43D-0324-40A3-B006-4770BC3E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B8369-E464-475E-9B66-8B42E6F56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2106D-5D4C-41B0-844D-8DB4A53B1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2F31-53C9-4C9C-BD8C-FC954243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F0E7A-1146-4D66-B1B0-7636169D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CFBCA-F0C2-4322-804E-15D67985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EFD72-2014-45A0-B8AA-F80C5B6E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3CCC5-0CFB-4EB5-8551-B1CA3FE1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B3A8B-9D8F-4657-82E0-C37BA5D09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A2A21-F0CD-4D3B-8D54-DE437C63C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35A93-5EA3-49EC-8558-0250363E1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B7672-EF0F-4A79-BDE4-A9F43079E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AB7A83-2BD4-40F3-8B08-DCFC388A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7A78-C7C2-4A81-B777-1539BE38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1B2-C82F-4C53-8762-C2B3C5C4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6DC-3AC3-442C-BBE6-F842B752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92E4-5D34-44F0-97CD-5A79B953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E355-585C-4872-B618-DCA9AC53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6E349-E693-4033-A31D-A97845B2A363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53FCC-3E2E-49FF-90F8-9FAD452E4EF2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7B63-D1A8-4F3B-92FB-140EB2D623B9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30DB-3DF6-4745-98A7-5A4639E5FAE1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5"/>
          <p:cNvSpPr/>
          <p:nvPr/>
        </p:nvSpPr>
        <p:spPr>
          <a:xfrm>
            <a:off x="971640" y="476280"/>
            <a:ext cx="573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7f31"/>
                </a:solidFill>
                <a:latin typeface="Monotype Corsiva"/>
                <a:ea typeface="Cambria Math"/>
              </a:rPr>
              <a:t>Муниципальное </a:t>
            </a:r>
            <a:r>
              <a:rPr b="1" lang="en-US" sz="1800" spc="-1" strike="noStrike">
                <a:solidFill>
                  <a:srgbClr val="2d7f31"/>
                </a:solidFill>
                <a:latin typeface="Arial"/>
                <a:ea typeface="Cambria Math"/>
              </a:rPr>
              <a:t>казенное </a:t>
            </a:r>
            <a:r>
              <a:rPr b="1" lang="en-US" sz="1800" spc="-1" strike="noStrike">
                <a:solidFill>
                  <a:srgbClr val="2d7f31"/>
                </a:solidFill>
                <a:latin typeface="Monotype Corsiva"/>
                <a:ea typeface="Cambria Math"/>
              </a:rPr>
              <a:t>дошкольное образовательное учреждени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7f31"/>
                </a:solidFill>
                <a:latin typeface="Arial"/>
                <a:ea typeface="Cambria Math"/>
              </a:rPr>
              <a:t>Вознесенский детский с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"/>
          <p:cNvSpPr/>
          <p:nvPr/>
        </p:nvSpPr>
        <p:spPr>
          <a:xfrm>
            <a:off x="428760" y="5214960"/>
            <a:ext cx="33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7f31"/>
                </a:solidFill>
                <a:latin typeface="Monotype Corsiva"/>
                <a:ea typeface="Cambria Math"/>
              </a:rPr>
              <a:t>Выполнен воспитател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7f31"/>
                </a:solidFill>
                <a:latin typeface="Monotype Corsiva"/>
                <a:ea typeface="Cambria Math"/>
              </a:rPr>
              <a:t>      </a:t>
            </a:r>
            <a:r>
              <a:rPr b="1" lang="en-US" sz="1800" spc="-1" strike="noStrike">
                <a:solidFill>
                  <a:srgbClr val="2d7f31"/>
                </a:solidFill>
                <a:latin typeface="Monotype Corsiva"/>
                <a:ea typeface="Cambria Math"/>
              </a:rPr>
              <a:t>С.В.Журавле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00000" y="2088720"/>
            <a:ext cx="55436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4f81bd"/>
                </a:solidFill>
                <a:latin typeface="Arial"/>
              </a:rPr>
              <a:t>Педагогический проек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4f81bd"/>
                </a:solidFill>
                <a:latin typeface="Arial"/>
              </a:rPr>
              <a:t>для средней груп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0504d"/>
                </a:solidFill>
                <a:latin typeface="Arial"/>
              </a:rPr>
              <a:t>«Мир сказок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4" descr=""/>
          <p:cNvPicPr/>
          <p:nvPr/>
        </p:nvPicPr>
        <p:blipFill>
          <a:blip r:embed="rId2"/>
          <a:stretch/>
        </p:blipFill>
        <p:spPr>
          <a:xfrm>
            <a:off x="468360" y="0"/>
            <a:ext cx="8242200" cy="10605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 txBox="1"/>
          <p:nvPr/>
        </p:nvSpPr>
        <p:spPr>
          <a:xfrm>
            <a:off x="395280" y="9810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138960" indent="-13896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Courier New"/>
              </a:rPr>
              <a:t>Вместе с детьми готовились к конкурсу рисунков и поделок «Моя любимая сказка», досуговому мероприятию «Мир сказок», изготавливали книжки-малышки «Читаем дома сказки»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8960" indent="-13896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Courier New"/>
              </a:rPr>
              <a:t>Принимали участие в изготовлении пособий, дидактических игр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8960" indent="-13896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Courier New"/>
              </a:rPr>
              <a:t>Оказывали помощь в проведении выставок, экскурсий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8960" indent="-138960">
              <a:spcBef>
                <a:spcPts val="499"/>
              </a:spcBef>
              <a:buClr>
                <a:srgbClr val="0033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4427640" y="3457440"/>
            <a:ext cx="4321080" cy="3238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684360" y="3357720"/>
            <a:ext cx="3743280" cy="2808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Прямоугольник 1" descr=""/>
          <p:cNvPicPr/>
          <p:nvPr/>
        </p:nvPicPr>
        <p:blipFill>
          <a:blip r:embed="rId2"/>
          <a:stretch/>
        </p:blipFill>
        <p:spPr>
          <a:xfrm>
            <a:off x="1328760" y="201600"/>
            <a:ext cx="7254720" cy="974880"/>
          </a:xfrm>
          <a:prstGeom prst="rect">
            <a:avLst/>
          </a:prstGeom>
          <a:ln w="0">
            <a:noFill/>
          </a:ln>
        </p:spPr>
      </p:pic>
      <p:sp>
        <p:nvSpPr>
          <p:cNvPr id="210" name="Прямоугольник 7"/>
          <p:cNvSpPr/>
          <p:nvPr/>
        </p:nvSpPr>
        <p:spPr>
          <a:xfrm>
            <a:off x="1763640" y="1052640"/>
            <a:ext cx="59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Выставка совместных с родителями детских творческих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Досуг  «Мир сказок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Обобщение опыта работы</a:t>
            </a:r>
            <a:r>
              <a:rPr b="0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8"/>
          <p:cNvSpPr/>
          <p:nvPr/>
        </p:nvSpPr>
        <p:spPr>
          <a:xfrm>
            <a:off x="1763640" y="2637000"/>
            <a:ext cx="5854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Родители стали проявлять интерес к мероприятиям речевой направленности в ДОУ,</a:t>
            </a:r>
            <a:r>
              <a:rPr b="1" lang="en-US" sz="2400" spc="-1" strike="noStrike">
                <a:solidFill>
                  <a:srgbClr val="ff0000"/>
                </a:solidFill>
                <a:latin typeface="Monotype Corsiva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стали посещать библиотеку с деть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9" descr="&amp;Vcy; &amp;Vcy;&amp;ocy;&amp;rcy;&amp;ocy;&amp;ncy;&amp;iecy;&amp;zhcy;&amp;iecy; &amp;scy;&amp;tcy;&amp;acy;&amp;rcy;&amp;tcy;&amp;ocy;&amp;vcy;&amp;acy;&amp;lcy; &amp;kcy;&amp;ocy;&amp;ncy;&amp;kcy;&amp;ucy;&amp;rcy;&amp;scy; &amp;ncy;&amp;acy; &amp;lcy;&amp;ucy;&amp;chcy;&amp;shcy;&amp;icy;&amp;jcy; &amp;rcy;&amp;icy;&amp;scy;&amp;ucy;&amp;ncy;&amp;ocy;&amp;kcy; &amp;kcy; &amp;rcy;&amp;ucy;&amp;scy;&amp;scy;&amp;kcy;&amp;ocy;&amp;jcy; &amp;ncy;&amp;acy;&amp;rcy;&amp;ocy;&amp;dcy;&amp;ncy;&amp;ocy;&amp;jcy; &amp;scy;&amp;kcy;&amp;acy;&amp;zcy;&amp;kcy;&amp;iecy; - &amp;Ncy;&amp;ocy;&amp;vcy;&amp;ocy;&amp;scy;&amp;tcy;&amp;icy; - &amp;Mcy;&amp;Ocy;&amp;IOcy;. Online &amp;Vcy;&amp;ocy;&amp;rcy;&amp;ocy;&amp;ncy;&amp;iecy;&amp;zhcy;"/>
          <p:cNvPicPr/>
          <p:nvPr/>
        </p:nvPicPr>
        <p:blipFill>
          <a:blip r:embed="rId3"/>
          <a:stretch/>
        </p:blipFill>
        <p:spPr>
          <a:xfrm>
            <a:off x="7454880" y="1484280"/>
            <a:ext cx="1689120" cy="1728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&amp;Pcy;&amp;ocy;&amp;dcy;&amp;iecy;&amp;lcy;&amp;kcy;&amp;icy; &amp;ncy;&amp;acy; &amp;tcy;&amp;iecy;&amp;mcy;&amp;ucy; &amp;rcy;&amp;ucy;&amp;scy;&amp;scy;&amp;kcy;&amp;acy;&amp;yacy; &amp;ncy;&amp;acy;&amp;rcy;&amp;ocy;&amp;dcy;&amp;ncy;&amp;acy;&amp;yacy; &amp;scy;&amp;kcy;&amp;acy;&amp;zcy;&amp;kcy;&amp;acy; &amp;scy;&amp;vcy;&amp;ocy;&amp;icy;&amp;mcy;&amp;icy; &amp;rcy;&amp;ucy;&amp;kcy;&amp;acy;&amp;mcy;&amp;icy;"/>
          <p:cNvPicPr/>
          <p:nvPr/>
        </p:nvPicPr>
        <p:blipFill>
          <a:blip r:embed="rId4"/>
          <a:stretch/>
        </p:blipFill>
        <p:spPr>
          <a:xfrm>
            <a:off x="0" y="4508640"/>
            <a:ext cx="2028960" cy="215424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Прямоугольник 6"/>
          <p:cNvSpPr/>
          <p:nvPr/>
        </p:nvSpPr>
        <p:spPr>
          <a:xfrm>
            <a:off x="971640" y="404640"/>
            <a:ext cx="7232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d520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d5207"/>
                </a:solidFill>
                <a:latin typeface="Times New Roman"/>
                <a:ea typeface="Courier New"/>
              </a:rPr>
              <a:t>Таким образом, сказка является неиссякаемым источником народной мудрости в воспитании детей в целом и развитии речи в частности. Постепенно у детей формируется готовность к более глубокому восприятию русской народной литерату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ad520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d5207"/>
                </a:solidFill>
                <a:latin typeface="Times New Roman"/>
                <a:ea typeface="Courier New"/>
              </a:rPr>
              <a:t>В дальнейшем в своей работе я продолжу использовать сказку и другие виды детской литературы   и внедрять  их во все виды  детской дея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643280" y="3446640"/>
            <a:ext cx="4048200" cy="30366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042920" y="3895560"/>
            <a:ext cx="3600360" cy="27054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Прямоугольник 6"/>
          <p:cNvSpPr/>
          <p:nvPr/>
        </p:nvSpPr>
        <p:spPr>
          <a:xfrm>
            <a:off x="1571760" y="1428840"/>
            <a:ext cx="678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Заголовок 6" descr=""/>
          <p:cNvPicPr/>
          <p:nvPr/>
        </p:nvPicPr>
        <p:blipFill>
          <a:blip r:embed="rId2"/>
          <a:stretch/>
        </p:blipFill>
        <p:spPr>
          <a:xfrm>
            <a:off x="450720" y="311040"/>
            <a:ext cx="8242560" cy="9320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 txBox="1"/>
          <p:nvPr/>
        </p:nvSpPr>
        <p:spPr>
          <a:xfrm>
            <a:off x="1402920" y="1268280"/>
            <a:ext cx="700092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Много веков назад, когда ещё не было письменности, возникло устное народное творчество, выполняющее ту же роль, какую в дальнейшем выполняла литература. Для детей народ создал замечательные сказки, песенки, загадки, поговорки. Произведения народного творчества не утратили своего воздействия на ребенка и в наши дни. В устных произведениях нашли отражение глубокие нравственные идеи, мечты и убеждения народ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Times New Roman"/>
              </a:rPr>
              <a:t>К сожалению, на сегодняшний день, наши дети воспитываются не на сказках, а на современных мультфильмах. Большинство родителей не находят времени сесть с ребенком и почитать книгу. Детские психологи считают это большим упущением взрослых в воспитании своих детей. Анкетирование родителей и опрос детей нашей группы показали, что дома чтению детских книг уделяется очень мало времени. На самом деле сказка представляет собой одно из самых древних средств нравственного, эстетического воспитания, а так же формируют поведенческие стереотипы будущих членов взрослого общества и является важнейшим источником развития речи. Поэтому я решила уделить немного больше времени именно русским народным сказкам в развитии и воспитании наших детей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785880" y="3339720"/>
            <a:ext cx="764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9280" indent="-179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55640" y="1628640"/>
            <a:ext cx="7572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0000"/>
                </a:solidFill>
                <a:latin typeface="Times New Roman"/>
              </a:rPr>
              <a:t>Работая над проблемой связной речи на занятиях по русским народным сказкам, я пришла к выводу, что планомерное, систематическое использование русских народных сказок является эффективным средством развития связной речи. Русские народные сказки обеспечивают высокую эффективность в работе по развитию связной речи детей, поскольку раскрывают перед ними меткость и выразительность языка, показывают, как богата родная речь юмором, живыми и образными выражениями. Присущая необычайная простота, яркость, образность, особенность повторно воспроизводить одни и те же речевые формы и образы заставляют выдвигать сказки как фактор развития связной речи детей. Из сказки ребенок узнает много новых слов, образных выражений, его речь обогащается эмоциональной и поэтической лексикой. Сказка помогает детям излагать свое отношение к прослушанному, используя сравнения, метафоры, эпитеты и другие средства образной выразительности.</a:t>
            </a:r>
            <a:r>
              <a:rPr b="1" lang="en-US" sz="1800" spc="-1" strike="noStrike">
                <a:solidFill>
                  <a:srgbClr val="6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6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5" descr="&amp;Kcy;&amp;ucy;&amp;rcy;&amp;ocy;&amp;chcy;&amp;kcy;&amp;acy; &amp;Rcy;&amp;yacy;&amp;bcy;&amp;acy;"/>
          <p:cNvPicPr/>
          <p:nvPr/>
        </p:nvPicPr>
        <p:blipFill>
          <a:blip r:embed="rId2"/>
          <a:stretch/>
        </p:blipFill>
        <p:spPr>
          <a:xfrm>
            <a:off x="7132680" y="4973760"/>
            <a:ext cx="2011320" cy="18842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1543320" y="528840"/>
            <a:ext cx="64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d8838"/>
                </a:solidFill>
                <a:latin typeface="Arial"/>
              </a:rPr>
              <a:t>Сказки являются важнейшим источни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d8838"/>
                </a:solidFill>
                <a:latin typeface="Arial"/>
              </a:rPr>
              <a:t>развития  детской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1"/>
          <p:cNvSpPr/>
          <p:nvPr/>
        </p:nvSpPr>
        <p:spPr>
          <a:xfrm>
            <a:off x="3643200" y="82872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Прямоугольник 2" descr=""/>
          <p:cNvPicPr/>
          <p:nvPr/>
        </p:nvPicPr>
        <p:blipFill>
          <a:blip r:embed="rId2"/>
          <a:stretch/>
        </p:blipFill>
        <p:spPr>
          <a:xfrm>
            <a:off x="1603440" y="274680"/>
            <a:ext cx="2146320" cy="8650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"/>
          <p:cNvSpPr/>
          <p:nvPr/>
        </p:nvSpPr>
        <p:spPr>
          <a:xfrm>
            <a:off x="1428840" y="3176640"/>
            <a:ext cx="692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 marL="179280" indent="-179280" algn="just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d661f"/>
                </a:solidFill>
                <a:latin typeface="Times New Roman"/>
                <a:ea typeface="Arial"/>
              </a:rPr>
              <a:t>развивать активную речь детей и пополнять их словарный запас</a:t>
            </a:r>
            <a:r>
              <a:rPr b="1" i="1" lang="en-US" sz="2400" spc="-1" strike="noStrike">
                <a:solidFill>
                  <a:srgbClr val="ad661f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9280" indent="-179280" algn="just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d661f"/>
                </a:solidFill>
                <a:latin typeface="Times New Roman"/>
                <a:ea typeface="Arial"/>
              </a:rPr>
              <a:t>показать красоту русского языка через устное народное творчество, выраженное в сказках</a:t>
            </a:r>
            <a:r>
              <a:rPr b="0" i="1" lang="en-US" sz="2000" spc="-1" strike="noStrike">
                <a:solidFill>
                  <a:srgbClr val="ad661f"/>
                </a:solidFill>
                <a:latin typeface="Times New Roman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ad661f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 algn="just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d661f"/>
                </a:solidFill>
                <a:latin typeface="Times New Roman"/>
              </a:rPr>
              <a:t>привлекать родителей к сотрудничеству в педагогическом процессе через совместную творческую деятельность</a:t>
            </a:r>
            <a:r>
              <a:rPr b="0" i="1" lang="en-US" sz="2000" spc="-1" strike="noStrike">
                <a:solidFill>
                  <a:srgbClr val="ad661f"/>
                </a:solidFill>
                <a:latin typeface="Times New Roman"/>
              </a:rPr>
              <a:t> </a:t>
            </a:r>
            <a:r>
              <a:rPr b="1" i="1" lang="en-US" sz="2000" spc="-1" strike="noStrike">
                <a:solidFill>
                  <a:srgbClr val="ad661f"/>
                </a:solidFill>
                <a:latin typeface="Times New Roman"/>
                <a:ea typeface="Courier New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Прямоугольник 6" descr=""/>
          <p:cNvPicPr/>
          <p:nvPr/>
        </p:nvPicPr>
        <p:blipFill>
          <a:blip r:embed="rId6"/>
          <a:stretch/>
        </p:blipFill>
        <p:spPr>
          <a:xfrm>
            <a:off x="1316160" y="2200320"/>
            <a:ext cx="2238120" cy="871560"/>
          </a:xfrm>
          <a:prstGeom prst="rect">
            <a:avLst/>
          </a:prstGeom>
          <a:ln w="0">
            <a:noFill/>
          </a:ln>
        </p:spPr>
      </p:pic>
      <p:sp>
        <p:nvSpPr>
          <p:cNvPr id="185" name="Прямоугольник 7"/>
          <p:cNvSpPr/>
          <p:nvPr/>
        </p:nvSpPr>
        <p:spPr>
          <a:xfrm>
            <a:off x="3571920" y="476280"/>
            <a:ext cx="5103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 indent="-1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74806"/>
                </a:solidFill>
                <a:latin typeface="Agency FB"/>
              </a:rPr>
              <a:t>спроектировать и  внедрить в практику систему работы по развитию речи детей с использованием форм и методов работы со сказкой в различных видах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&amp;Dcy;&amp;iecy;&amp;tcy;&amp;scy;&amp;kcy;&amp;acy;&amp;yacy; &amp;acy;&amp;fcy;&amp;icy;&amp;shcy;&amp;acy; &amp;scy; 15 &amp;pcy;&amp;ocy; 17 &amp;mcy;&amp;acy;&amp;rcy;&amp;tcy;&amp;acy;: &amp;bcy;&amp;lcy;&amp;icy;&amp;ncy;&amp;ycy;, &amp;khcy;&amp;ocy;&amp;rcy;&amp;ocy;&amp;vcy;&amp;ocy;&amp;dcy;&amp;ycy;, &amp;khcy;&amp;acy;&amp;scy;&amp;kcy;&amp;icy;! : &amp;TScy;&amp;iecy;&amp;ncy;&amp;tcy;&amp;rcy; &amp;Dcy;&amp;iecy;&amp;lcy;&amp;ocy;&amp;vcy;&amp;ocy;&amp;jcy; &amp;Icy;&amp;ncy;&amp;fcy;&amp;ocy;&amp;rcy;&amp;mcy;&amp;acy;&amp;tscy;&amp;icy;&amp;icy;. &amp;Bcy;&amp;icy;&amp;zcy;&amp;ncy;&amp;iecy;&amp;scy;-&amp;ncy;&amp;ocy;&amp;vcy;&amp;ocy;&amp;scy;&amp;tcy;&amp;icy; &amp;Pcy;&amp;scy;&amp;kcy;&amp;ocy;&amp;vcy;&amp;acy; &amp;icy; &amp;ocy;&amp;bcy;&amp;lcy;&amp;acy;&amp;scy;&amp;tcy;&amp;icy;. / &amp;TScy;&amp;Dcy;&amp;Icy;."/>
          <p:cNvPicPr/>
          <p:nvPr/>
        </p:nvPicPr>
        <p:blipFill>
          <a:blip r:embed="rId2"/>
          <a:stretch/>
        </p:blipFill>
        <p:spPr>
          <a:xfrm>
            <a:off x="5291280" y="4363920"/>
            <a:ext cx="2189160" cy="2024280"/>
          </a:xfrm>
          <a:prstGeom prst="rect">
            <a:avLst/>
          </a:prstGeom>
          <a:ln w="0">
            <a:noFill/>
          </a:ln>
        </p:spPr>
      </p:pic>
      <p:pic>
        <p:nvPicPr>
          <p:cNvPr id="187" name="Заголовок 4" descr=""/>
          <p:cNvPicPr/>
          <p:nvPr/>
        </p:nvPicPr>
        <p:blipFill>
          <a:blip r:embed="rId3"/>
          <a:stretch/>
        </p:blipFill>
        <p:spPr>
          <a:xfrm>
            <a:off x="450720" y="79200"/>
            <a:ext cx="8242560" cy="1067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899640" y="981000"/>
            <a:ext cx="6815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Courier New"/>
              </a:rPr>
              <a:t> </a:t>
            </a:r>
            <a:r>
              <a:rPr b="0" i="1" lang="en-US" sz="2000" spc="-1" strike="noStrike">
                <a:solidFill>
                  <a:srgbClr val="003300"/>
                </a:solidFill>
                <a:latin typeface="Times New Roman"/>
                <a:ea typeface="Courier New"/>
              </a:rPr>
              <a:t>Все дети проявляют интерес к самостоятельным инсценировкам сказок, обыгрыванию сказок при помощи различных видов театра, самостоятельному сочинению сказок. Значительно обогатился  их словарный запас, успешно развивается диалогическая речь. Большинство детей охотно вступают в ролевой диалог с воспитателем и сверстниками, участвуют в коллективном разговоре даже малоговорящие дети. Благодаря использованию разнообразных форм и методов работы со сказкой, овладевают произношением звуков, активно подражают образам животных, используют двигательные и танцевальные движения, большинство детей пользуются интонационными средствами вырази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Прямоугольник 3"/>
          <p:cNvSpPr/>
          <p:nvPr/>
        </p:nvSpPr>
        <p:spPr>
          <a:xfrm>
            <a:off x="1508040" y="1440000"/>
            <a:ext cx="68407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Долгосрочный: </a:t>
            </a:r>
            <a:r>
              <a:rPr b="0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с 1 сентября 2017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по 30 августа 2018 г.</a:t>
            </a:r>
            <a:r>
              <a:rPr b="1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Прямоугольник 5" descr=""/>
          <p:cNvPicPr/>
          <p:nvPr/>
        </p:nvPicPr>
        <p:blipFill>
          <a:blip r:embed="rId2"/>
          <a:stretch/>
        </p:blipFill>
        <p:spPr>
          <a:xfrm>
            <a:off x="1828800" y="396720"/>
            <a:ext cx="6345360" cy="865440"/>
          </a:xfrm>
          <a:prstGeom prst="rect">
            <a:avLst/>
          </a:prstGeom>
          <a:ln w="0">
            <a:noFill/>
          </a:ln>
        </p:spPr>
      </p:pic>
      <p:sp>
        <p:nvSpPr>
          <p:cNvPr id="191" name="Прямоугольник 6"/>
          <p:cNvSpPr/>
          <p:nvPr/>
        </p:nvSpPr>
        <p:spPr>
          <a:xfrm>
            <a:off x="1285920" y="4572000"/>
            <a:ext cx="69832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d5207"/>
                </a:solidFill>
                <a:latin typeface="Monotype Corsiva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ad5207"/>
                </a:solidFill>
                <a:latin typeface="Times New Roman"/>
                <a:ea typeface="Times New Roman"/>
              </a:rPr>
              <a:t>дети средней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5207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d5207"/>
                </a:solidFill>
                <a:latin typeface="Times New Roman"/>
                <a:ea typeface="Times New Roman"/>
              </a:rPr>
              <a:t>родит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Прямоугольник 7" descr=""/>
          <p:cNvPicPr/>
          <p:nvPr/>
        </p:nvPicPr>
        <p:blipFill>
          <a:blip r:embed="rId3"/>
          <a:stretch/>
        </p:blipFill>
        <p:spPr>
          <a:xfrm>
            <a:off x="1420920" y="2127240"/>
            <a:ext cx="6711840" cy="871560"/>
          </a:xfrm>
          <a:prstGeom prst="rect">
            <a:avLst/>
          </a:prstGeom>
          <a:ln w="0">
            <a:noFill/>
          </a:ln>
        </p:spPr>
      </p:pic>
      <p:sp>
        <p:nvSpPr>
          <p:cNvPr id="193" name="Прямоугольник 8"/>
          <p:cNvSpPr/>
          <p:nvPr/>
        </p:nvSpPr>
        <p:spPr>
          <a:xfrm>
            <a:off x="1285920" y="3098880"/>
            <a:ext cx="716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600" indent="449280"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5207"/>
                </a:solidFill>
                <a:latin typeface="Monotype Corsiva"/>
                <a:ea typeface="Courier New"/>
              </a:rPr>
              <a:t>Практико-ориентированный, группо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Прямоугольник 9" descr=""/>
          <p:cNvPicPr/>
          <p:nvPr/>
        </p:nvPicPr>
        <p:blipFill>
          <a:blip r:embed="rId4"/>
          <a:stretch/>
        </p:blipFill>
        <p:spPr>
          <a:xfrm>
            <a:off x="1352520" y="3560760"/>
            <a:ext cx="6993000" cy="865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Прямоугольник 1" descr=""/>
          <p:cNvPicPr/>
          <p:nvPr/>
        </p:nvPicPr>
        <p:blipFill>
          <a:blip r:embed="rId2"/>
          <a:stretch/>
        </p:blipFill>
        <p:spPr>
          <a:xfrm>
            <a:off x="938160" y="401760"/>
            <a:ext cx="5065920" cy="75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755640" y="1268280"/>
          <a:ext cx="7602480" cy="5295960"/>
        </p:xfrm>
        <a:graphic>
          <a:graphicData uri="http://schemas.openxmlformats.org/drawingml/2006/table">
            <a:tbl>
              <a:tblPr/>
              <a:tblGrid>
                <a:gridCol w="2071800"/>
                <a:gridCol w="5530680"/>
              </a:tblGrid>
              <a:tr h="331920">
                <a:tc>
                  <a:txBody>
                    <a:bodyPr lIns="20880" rIns="20880" tIns="0" bIns="0" anchor="t">
                      <a:noAutofit/>
                    </a:bodyPr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Этапы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Содержание раб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5320">
                <a:tc>
                  <a:txBody>
                    <a:bodyPr lIns="20880" rIns="20880" tIns="0" bIns="0" anchor="t">
                      <a:noAutofit/>
                    </a:bodyPr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Подготовите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376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Изучение методической литературы по теме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376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Подбор методической и художественной литературы, иллюстраций, карт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376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Анкетирование родител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376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Подбор и оформление консультативного материала для работы с родителями по тем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376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Разработка плана работы с деть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37609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8720">
                <a:tc>
                  <a:txBody>
                    <a:bodyPr lIns="20880" rIns="20880" tIns="0" bIns="0" anchor="t">
                      <a:noAutofit/>
                    </a:bodyPr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Практическ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Заключительны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0880" rIns="20880" tIns="0" bIns="0" anchor="t">
                      <a:noAutofit/>
                    </a:bodyPr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Непосредственная образовательная деятель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Экскурсии и посещения библиотеки, игры, чтение художественной литературы, просмотр сказ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Консультации по тем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Драматизация сказ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Художественное творчеств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Изготовление атрибутов для дидактических игр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Конкурс семейных творческих работ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Выставка совместных с родителями детских творческих рабо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Досуг  «Мир сказок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Презентация проект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12600" indent="-12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Обобщение опыта работы</a:t>
                      </a:r>
                      <a:r>
                        <a:rPr b="0" lang="en-US" sz="1400" spc="-1" strike="noStrike">
                          <a:solidFill>
                            <a:srgbClr val="ad5207"/>
                          </a:solidFill>
                          <a:latin typeface="Monotype Corsiva"/>
                          <a:ea typeface="Courier New"/>
                        </a:rPr>
                        <a:t>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0880" marR="208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714240" y="5286240"/>
          <a:ext cx="7610760" cy="1214640"/>
        </p:xfrm>
        <a:graphic>
          <a:graphicData uri="http://schemas.openxmlformats.org/drawingml/2006/table">
            <a:tbl>
              <a:tblPr/>
              <a:tblGrid>
                <a:gridCol w="7610760"/>
              </a:tblGrid>
              <a:tr h="121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                             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0504d"/>
                </a:solidFill>
                <a:latin typeface="Times New Roman"/>
              </a:rPr>
              <a:t>Обогащение развивающей сред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6000" y="1125000"/>
            <a:ext cx="75708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в книжный уголок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 – внесение русских народных сказок, иллюстрированных разными художниками; иллюстраций, открыток с изображением героев сказок по мере изучения;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в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речевую зону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– внесение дидактических и настольно-печатных игр по теме; изготовление и постепенное внесение театров ( плоскостной, настольный, на палочках, перчаточный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в </a:t>
            </a: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игровую зону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 – маски, элементы костюмов героев сказок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imes New Roman"/>
              </a:rPr>
              <a:t>в ИЗО </a:t>
            </a: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– раскраски с изображением сюжетов и героев русских народных сказок, материалы для творческих работ, лэпбук «Мир сказок», репродукции картин по русским народным сказкам.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50920" y="3933720"/>
            <a:ext cx="2982960" cy="22384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3348000" y="3716280"/>
            <a:ext cx="2610000" cy="19573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6084720" y="4005360"/>
            <a:ext cx="291636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Заголовок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4" name=""/>
          <p:cNvGraphicFramePr/>
          <p:nvPr/>
        </p:nvGraphicFramePr>
        <p:xfrm>
          <a:off x="1214280" y="1214280"/>
          <a:ext cx="7444080" cy="5375520"/>
        </p:xfrm>
        <a:graphic>
          <a:graphicData uri="http://schemas.openxmlformats.org/drawingml/2006/table">
            <a:tbl>
              <a:tblPr/>
              <a:tblGrid>
                <a:gridCol w="2818080"/>
                <a:gridCol w="4626000"/>
              </a:tblGrid>
              <a:tr h="7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бразовательные обла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69240"/>
                      </a:solidFill>
                    </a:lnL>
                    <a:lnR>
                      <a:noFill/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Формы организации образовательной деятельност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f69240"/>
                      </a:solidFill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13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о-коммуникатив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69240"/>
                      </a:solidFill>
                    </a:lnL>
                    <a:lnR>
                      <a:noFill/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нсценировки сказок «Теремок», «Реп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Д/ игры:«Собери картинку», «Кто в теремочке живет?»,«Сказки перепутались», «Угадай по контуру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f69240"/>
                      </a:solidFill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навательн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69240"/>
                      </a:solidFill>
                    </a:lnL>
                    <a:lnR>
                      <a:noFill/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ОД «На поляне сказок», «Незнайка заблудился» , беседы «На кого из сказочных героев я похож?»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f69240"/>
                      </a:solidFill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</a:tr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чевое развити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69240"/>
                      </a:solidFill>
                    </a:lnL>
                    <a:lnR>
                      <a:noFill/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Пересказывание сказок, слушание, заучивание наизусть, чтение сказок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f69240"/>
                      </a:solidFill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удожественно-эстетическ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69240"/>
                      </a:solidFill>
                    </a:lnL>
                    <a:lnR>
                      <a:noFill/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ОД «Нарисуй сказку», аппликация «Заюшкина избушка», лепка «Колобок и все, все, вс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f69240"/>
                      </a:solidFill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</a:tr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ое разви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f69240"/>
                      </a:solidFill>
                    </a:lnL>
                    <a:lnR>
                      <a:noFill/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НОД, пальчиковая гимнастика, подвижные игры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f69240"/>
                      </a:solidFill>
                    </a:lnR>
                    <a:lnT w="4320">
                      <a:solidFill>
                        <a:srgbClr val="f69240"/>
                      </a:solidFill>
                    </a:lnT>
                    <a:lnB w="4320">
                      <a:solidFill>
                        <a:srgbClr val="f6924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08T16:01:14Z</dcterms:created>
  <dc:creator>Елена</dc:creator>
  <dc:description/>
  <dc:language>en-US</dc:language>
  <cp:lastModifiedBy>СветлаНА</cp:lastModifiedBy>
  <dcterms:modified xsi:type="dcterms:W3CDTF">2018-06-22T13:03:08Z</dcterms:modified>
  <cp:revision>157</cp:revision>
  <dc:subject/>
  <dc:title>Название презентации</dc:title>
</cp:coreProperties>
</file>