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6.jpeg" ContentType="image/jpeg"/>
  <Override PartName="/ppt/media/image19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BFDF-FA54-4B8A-A963-8B0CD41CCBB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94A46-BCBD-4B31-992F-2BE9E05171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BE75-5547-4E60-9F1D-F7C3B109B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DBC3-836E-40B8-AB11-CA48F0AA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B21-BADE-4A28-9ED6-E29D422F5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5A33-2C5E-4FDE-82D2-D098CC26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B854-7589-402A-AF11-4BE61BDB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AA25-64CD-48CF-B5F9-51B3ABA1C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2CB4-E921-4217-8C6F-98C9F4650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1464-AC38-4EB6-BCC5-82BF85D6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18C9-2001-46F2-9EE7-3B336860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72526-F2EE-4374-9DC0-8D5C9B2A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8B292-DDCD-47C4-A74A-0A598B99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E17-ACAE-44CF-82A5-B6962AF53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2AE67-1B09-4920-AE8A-16B20672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8694-2303-435E-9A3C-25546D01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25A1-A1B9-4A59-816E-8CD0C71E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E33E-0C37-4E41-90A1-C92003BFF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5487-D9D9-450F-94B0-D7CDF6F82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68EAA-447E-4383-9307-14F6094F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245DE-3946-4AB7-811B-7043C70ED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5EFE91-8375-45A8-B49E-E5BE0A2D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2E807-8BA3-46B3-A594-6F4CA16F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25F6D-3655-4973-B9A8-6A4EA4E8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39F5-A4EA-4697-AED9-7C75D2E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CB2A0-F3EF-4A43-8BC0-EBAA435D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B6812-52BA-47FD-95EA-D6DBDC4E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DA6B-24FA-4D6B-8770-C5EC0711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F741-109D-4D34-8174-4DF9E0E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78E18-9364-4C23-AE26-2DC805BBE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EF5D3-921F-4687-864D-5B40F0DC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24699-0561-4CA2-B2B2-318F7471B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65A62-CD59-483E-B2DC-C9BC896C6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8DF56-392B-4A54-A789-39B75024C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3553-9ED1-4B80-8FEF-B212F9A7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A05-4C3C-439A-8ACC-D56DF51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7FBD0-F1EF-4C73-9A94-B4C259C4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5211B-D56B-4FCE-BC13-EE24F8ED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24B33-8272-457A-B7C3-BC11595F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EAEC85-6F68-47A9-8FC2-5472732A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83D6B-CE5C-495C-A5AD-92791D17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0723E-D19D-4A4D-A2F2-6A1BD4FF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14F11-1F67-4628-9FCF-1C4B8D515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55EB4-5C9E-4208-83C4-F4033226C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3C2A0-60E1-4BF1-A110-036CFF28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3785-4C54-455E-BE2B-3131AECD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63FA-5B68-4469-BCBC-45FCDBCA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B9A-D05C-42B3-8533-AF69BD23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8488-7A7B-4466-8296-79E93F68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305-B322-4B56-9E02-17FF4DFD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07162-90CE-4940-8967-6CCF607F7B9D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49E3-AF37-4269-B4D2-1DE70A22C8C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11724-CA26-478B-848B-A7294CE00E1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DF01F-4AF1-46A3-A9B6-FE1A71648DD5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971640" y="476280"/>
            <a:ext cx="57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Муниципальное </a:t>
            </a:r>
            <a:r>
              <a:rPr b="1" lang="en-US" sz="1800" spc="-1" strike="noStrike">
                <a:solidFill>
                  <a:srgbClr val="2d7f31"/>
                </a:solidFill>
                <a:latin typeface="Arial"/>
                <a:ea typeface="Cambria Math"/>
              </a:rPr>
              <a:t>казенное </a:t>
            </a: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дошкольное образовательное учрежд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7f31"/>
                </a:solidFill>
                <a:latin typeface="Arial"/>
                <a:ea typeface="Cambria Math"/>
              </a:rPr>
              <a:t>Вознесенский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428760" y="521496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Выполнен воспитател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      </a:t>
            </a: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С.В.Журав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088720"/>
            <a:ext cx="5543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f81bd"/>
                </a:solidFill>
                <a:latin typeface="Arial"/>
              </a:rPr>
              <a:t>Педагогический 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f81bd"/>
                </a:solidFill>
                <a:latin typeface="Arial"/>
              </a:rPr>
              <a:t>для средн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504d"/>
                </a:solidFill>
                <a:latin typeface="Arial"/>
              </a:rPr>
              <a:t>«Мир сказ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4" descr=""/>
          <p:cNvPicPr/>
          <p:nvPr/>
        </p:nvPicPr>
        <p:blipFill>
          <a:blip r:embed="rId2"/>
          <a:stretch/>
        </p:blipFill>
        <p:spPr>
          <a:xfrm>
            <a:off x="468360" y="0"/>
            <a:ext cx="8242200" cy="1060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395280" y="981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38960" indent="-1389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Вместе с детьми готовились к конкурсу рисунков и поделок «Моя любимая сказка», досуговому мероприятию «Мир сказок», изготавливали книжки-малышки «Читаем дома сказк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8960" indent="-13896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Принимали участие в изготовлении пособий, дидактических иг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8960" indent="-1389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Оказывали помощь в проведении выставок, экскурс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8960" indent="-13896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4427640" y="3457440"/>
            <a:ext cx="4321080" cy="3238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684360" y="3357720"/>
            <a:ext cx="374328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1" descr=""/>
          <p:cNvPicPr/>
          <p:nvPr/>
        </p:nvPicPr>
        <p:blipFill>
          <a:blip r:embed="rId2"/>
          <a:stretch/>
        </p:blipFill>
        <p:spPr>
          <a:xfrm>
            <a:off x="1328760" y="201600"/>
            <a:ext cx="7254720" cy="97488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7"/>
          <p:cNvSpPr/>
          <p:nvPr/>
        </p:nvSpPr>
        <p:spPr>
          <a:xfrm>
            <a:off x="1763640" y="105264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Выставка совместных с родителями детских творче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Досуг  «Мир сказ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Обобщение опыта работы</a:t>
            </a:r>
            <a:r>
              <a:rPr b="0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8"/>
          <p:cNvSpPr/>
          <p:nvPr/>
        </p:nvSpPr>
        <p:spPr>
          <a:xfrm>
            <a:off x="1763640" y="2637000"/>
            <a:ext cx="585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Родители стали проявлять интерес к мероприятиям речевой направленности в ДОУ,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стали посещать библиотеку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&amp;Vcy; &amp;Vcy;&amp;ocy;&amp;rcy;&amp;ocy;&amp;ncy;&amp;iecy;&amp;zhcy;&amp;iecy; &amp;scy;&amp;tcy;&amp;acy;&amp;rcy;&amp;tcy;&amp;ocy;&amp;vcy;&amp;acy;&amp;lcy; &amp;kcy;&amp;ocy;&amp;ncy;&amp;kcy;&amp;ucy;&amp;rcy;&amp;scy; &amp;ncy;&amp;acy; &amp;lcy;&amp;ucy;&amp;chcy;&amp;shcy;&amp;icy;&amp;jcy; &amp;rcy;&amp;icy;&amp;scy;&amp;ucy;&amp;ncy;&amp;ocy;&amp;kcy; &amp;kcy; &amp;rcy;&amp;ucy;&amp;scy;&amp;scy;&amp;kcy;&amp;ocy;&amp;jcy; &amp;ncy;&amp;acy;&amp;rcy;&amp;ocy;&amp;dcy;&amp;ncy;&amp;ocy;&amp;jcy; &amp;scy;&amp;kcy;&amp;acy;&amp;zcy;&amp;kcy;&amp;iecy; - &amp;Ncy;&amp;ocy;&amp;vcy;&amp;ocy;&amp;scy;&amp;tcy;&amp;icy; - &amp;Mcy;&amp;Ocy;&amp;IOcy;. Online &amp;Vcy;&amp;ocy;&amp;rcy;&amp;ocy;&amp;ncy;&amp;iecy;&amp;zhcy;"/>
          <p:cNvPicPr/>
          <p:nvPr/>
        </p:nvPicPr>
        <p:blipFill>
          <a:blip r:embed="rId3"/>
          <a:stretch/>
        </p:blipFill>
        <p:spPr>
          <a:xfrm>
            <a:off x="7454880" y="1484280"/>
            <a:ext cx="1689120" cy="172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&amp;Pcy;&amp;ocy;&amp;dcy;&amp;iecy;&amp;lcy;&amp;kcy;&amp;icy; &amp;ncy;&amp;acy; &amp;tcy;&amp;iecy;&amp;mcy;&amp;ucy; &amp;rcy;&amp;ucy;&amp;scy;&amp;scy;&amp;kcy;&amp;acy;&amp;yacy; &amp;ncy;&amp;acy;&amp;rcy;&amp;ocy;&amp;dcy;&amp;ncy;&amp;acy;&amp;yacy; &amp;scy;&amp;kcy;&amp;acy;&amp;zcy;&amp;kcy;&amp;acy; &amp;scy;&amp;vcy;&amp;ocy;&amp;icy;&amp;mcy;&amp;icy; &amp;rcy;&amp;ucy;&amp;kcy;&amp;acy;&amp;mcy;&amp;icy;"/>
          <p:cNvPicPr/>
          <p:nvPr/>
        </p:nvPicPr>
        <p:blipFill>
          <a:blip r:embed="rId4"/>
          <a:stretch/>
        </p:blipFill>
        <p:spPr>
          <a:xfrm>
            <a:off x="0" y="4508640"/>
            <a:ext cx="2028960" cy="215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971640" y="404640"/>
            <a:ext cx="7232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d52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5207"/>
                </a:solidFill>
                <a:latin typeface="Times New Roman"/>
                <a:ea typeface="Courier New"/>
              </a:rPr>
              <a:t>Таким образом, сказка является неиссякаемым источником народной мудрости в воспитании детей в целом и развитии речи в частности. Постепенно у детей формируется готовность к более глубокому восприятию русской народн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d52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5207"/>
                </a:solidFill>
                <a:latin typeface="Times New Roman"/>
                <a:ea typeface="Courier New"/>
              </a:rPr>
              <a:t>В дальнейшем в своей работе я продолжу использовать сказку и другие виды детской литературы   и внедрять  их во все виды 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3280" y="3446640"/>
            <a:ext cx="4048200" cy="3036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042920" y="3895560"/>
            <a:ext cx="3600360" cy="2705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"/>
          <p:cNvSpPr/>
          <p:nvPr/>
        </p:nvSpPr>
        <p:spPr>
          <a:xfrm>
            <a:off x="1571760" y="142884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Заголовок 6" descr=""/>
          <p:cNvPicPr/>
          <p:nvPr/>
        </p:nvPicPr>
        <p:blipFill>
          <a:blip r:embed="rId2"/>
          <a:stretch/>
        </p:blipFill>
        <p:spPr>
          <a:xfrm>
            <a:off x="450720" y="311040"/>
            <a:ext cx="8242560" cy="932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402920" y="1268280"/>
            <a:ext cx="700092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Много веков назад, когда ещё не было письменности, возникло устное народное творчество, выполняющее ту же роль, какую в дальнейшем выполняла литература. Для детей народ создал замечательные сказки, песенки, загадки, поговорки. Произведения народного творчества не утратили своего воздействия на ребенка и в наши дни. В устных произведениях нашли отражение глубокие нравственные идеи, мечты и убеждения народ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К сожалению, на сегодняшний день, наши дети воспитываются не на сказках, а на современных мультфильмах. Большинство родителей не находят времени сесть с ребенком и почитать книгу. Детские психологи считают это большим упущением взрослых в воспитании своих детей. Анкетирование родителей и опрос детей нашей группы показали, что дома чтению детских книг уделяется очень мало времени. На самом деле сказка представляет собой одно из самых древних средств нравственного, эстетического воспитания, а так же формируют поведенческие стереотипы будущих членов взрослого общества и является важнейшим источником развития речи. Поэтому я решила уделить немного больше времени именно русским народным сказкам в развитии и воспитании наших дете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85880" y="3339720"/>
            <a:ext cx="76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55640" y="162864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0000"/>
                </a:solidFill>
                <a:latin typeface="Times New Roman"/>
              </a:rPr>
              <a:t>Работая над проблемой связной речи на занятиях по русским народным сказкам, я пришла к выводу, что планомерное, систематическое использование русских народных сказок является эффективным средством развития связной речи. Русские народные сказки обеспечивают высокую эффективность в работе по развитию связной речи детей, поскольку раскрывают перед ними меткость и выразительность языка, показывают, как богата родная речь юмором, живыми и образными выражениями. Присущая необычайная простота, яркость, образность, особенность повторно воспроизводить одни и те же речевые формы и образы заставляют выдвигать сказки как фактор развития связной речи детей. Из сказки ребенок узнает много новых слов, образных выражений, его речь обогащается эмоциональной и поэтической лексикой. Сказка помогает детям излагать свое отношение к прослушанному, используя сравнения, метафоры, эпитеты и другие средства образной выразительности.</a:t>
            </a:r>
            <a:r>
              <a:rPr b="1" lang="en-US" sz="1800" spc="-1" strike="noStrike">
                <a:solidFill>
                  <a:srgbClr val="6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&amp;Kcy;&amp;ucy;&amp;rcy;&amp;ocy;&amp;chcy;&amp;kcy;&amp;acy; &amp;Rcy;&amp;yacy;&amp;bcy;&amp;acy;"/>
          <p:cNvPicPr/>
          <p:nvPr/>
        </p:nvPicPr>
        <p:blipFill>
          <a:blip r:embed="rId2"/>
          <a:stretch/>
        </p:blipFill>
        <p:spPr>
          <a:xfrm>
            <a:off x="7132680" y="4973760"/>
            <a:ext cx="2011320" cy="1884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43320" y="52884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d8838"/>
                </a:solidFill>
                <a:latin typeface="Arial"/>
              </a:rPr>
              <a:t>Сказки являются важнейшим источ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d8838"/>
                </a:solidFill>
                <a:latin typeface="Arial"/>
              </a:rPr>
              <a:t>развития  детск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3643200" y="8287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2" descr=""/>
          <p:cNvPicPr/>
          <p:nvPr/>
        </p:nvPicPr>
        <p:blipFill>
          <a:blip r:embed="rId2"/>
          <a:stretch/>
        </p:blipFill>
        <p:spPr>
          <a:xfrm>
            <a:off x="1603440" y="274680"/>
            <a:ext cx="2146320" cy="8650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428840" y="3176640"/>
            <a:ext cx="692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79280" indent="-179280" algn="just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661f"/>
                </a:solidFill>
                <a:latin typeface="Times New Roman"/>
                <a:ea typeface="Arial"/>
              </a:rPr>
              <a:t>развивать активную речь детей и пополнять их словарный запас</a:t>
            </a:r>
            <a:r>
              <a:rPr b="1" i="1" lang="en-US" sz="2400" spc="-1" strike="noStrike">
                <a:solidFill>
                  <a:srgbClr val="ad661f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9280" indent="-179280" algn="just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661f"/>
                </a:solidFill>
                <a:latin typeface="Times New Roman"/>
                <a:ea typeface="Arial"/>
              </a:rPr>
              <a:t>показать красоту русского языка через устное народное творчество, выраженное в сказках</a:t>
            </a:r>
            <a:r>
              <a:rPr b="0" i="1" lang="en-US" sz="2000" spc="-1" strike="noStrike">
                <a:solidFill>
                  <a:srgbClr val="ad661f"/>
                </a:solidFill>
                <a:latin typeface="Times New Roman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ad661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661f"/>
                </a:solidFill>
                <a:latin typeface="Times New Roman"/>
              </a:rPr>
              <a:t>привлекать родителей к сотрудничеству в педагогическом процессе через совместную творческую деятельность</a:t>
            </a:r>
            <a:r>
              <a:rPr b="0" i="1" lang="en-US" sz="2000" spc="-1" strike="noStrike">
                <a:solidFill>
                  <a:srgbClr val="ad661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ad661f"/>
                </a:solidFill>
                <a:latin typeface="Times New Roman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Прямоугольник 6" descr=""/>
          <p:cNvPicPr/>
          <p:nvPr/>
        </p:nvPicPr>
        <p:blipFill>
          <a:blip r:embed="rId6"/>
          <a:stretch/>
        </p:blipFill>
        <p:spPr>
          <a:xfrm>
            <a:off x="1316160" y="2200320"/>
            <a:ext cx="2238120" cy="8715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7"/>
          <p:cNvSpPr/>
          <p:nvPr/>
        </p:nvSpPr>
        <p:spPr>
          <a:xfrm>
            <a:off x="3571920" y="476280"/>
            <a:ext cx="510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74806"/>
                </a:solidFill>
                <a:latin typeface="Agency FB"/>
              </a:rPr>
              <a:t>спроектировать и  внедрить в практику систему работы по развитию речи детей с использованием форм и методов работы со сказкой в различных вида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&amp;Dcy;&amp;iecy;&amp;tcy;&amp;scy;&amp;kcy;&amp;acy;&amp;yacy; &amp;acy;&amp;fcy;&amp;icy;&amp;shcy;&amp;acy; &amp;scy; 15 &amp;pcy;&amp;ocy; 17 &amp;mcy;&amp;acy;&amp;rcy;&amp;tcy;&amp;acy;: &amp;bcy;&amp;lcy;&amp;icy;&amp;ncy;&amp;ycy;, &amp;khcy;&amp;ocy;&amp;rcy;&amp;ocy;&amp;vcy;&amp;ocy;&amp;dcy;&amp;ycy;, &amp;khcy;&amp;acy;&amp;scy;&amp;kcy;&amp;icy;! : &amp;TScy;&amp;iecy;&amp;ncy;&amp;tcy;&amp;rcy; &amp;Dcy;&amp;iecy;&amp;lcy;&amp;ocy;&amp;vcy;&amp;ocy;&amp;jcy; &amp;Icy;&amp;ncy;&amp;fcy;&amp;ocy;&amp;rcy;&amp;mcy;&amp;acy;&amp;tscy;&amp;icy;&amp;icy;. &amp;Bcy;&amp;icy;&amp;zcy;&amp;ncy;&amp;iecy;&amp;scy;-&amp;ncy;&amp;ocy;&amp;vcy;&amp;ocy;&amp;scy;&amp;tcy;&amp;icy; &amp;Pcy;&amp;scy;&amp;kcy;&amp;ocy;&amp;vcy;&amp;acy; &amp;icy; &amp;ocy;&amp;bcy;&amp;lcy;&amp;acy;&amp;scy;&amp;tcy;&amp;icy;. / &amp;TScy;&amp;Dcy;&amp;Icy;."/>
          <p:cNvPicPr/>
          <p:nvPr/>
        </p:nvPicPr>
        <p:blipFill>
          <a:blip r:embed="rId2"/>
          <a:stretch/>
        </p:blipFill>
        <p:spPr>
          <a:xfrm>
            <a:off x="5291280" y="4363920"/>
            <a:ext cx="2189160" cy="2024280"/>
          </a:xfrm>
          <a:prstGeom prst="rect">
            <a:avLst/>
          </a:prstGeom>
          <a:ln w="0">
            <a:noFill/>
          </a:ln>
        </p:spPr>
      </p:pic>
      <p:pic>
        <p:nvPicPr>
          <p:cNvPr id="187" name="Заголовок 4" descr=""/>
          <p:cNvPicPr/>
          <p:nvPr/>
        </p:nvPicPr>
        <p:blipFill>
          <a:blip r:embed="rId3"/>
          <a:stretch/>
        </p:blipFill>
        <p:spPr>
          <a:xfrm>
            <a:off x="450720" y="79200"/>
            <a:ext cx="8242560" cy="1067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899640" y="981000"/>
            <a:ext cx="681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Все дети проявляют интерес к самостоятельным инсценировкам сказок, обыгрыванию сказок при помощи различных видов театра, самостоятельному сочинению сказок. Значительно обогатился  их словарный запас, успешно развивается диалогическая речь. Большинство детей охотно вступают в ролевой диалог с воспитателем и сверстниками, участвуют в коллективном разговоре даже малоговорящие дети. Благодаря использованию разнообразных форм и методов работы со сказкой, овладевают произношением звуков, активно подражают образам животных, используют двигательные и танцевальные движения, большинство детей пользуются интонационными средствами вырази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3"/>
          <p:cNvSpPr/>
          <p:nvPr/>
        </p:nvSpPr>
        <p:spPr>
          <a:xfrm>
            <a:off x="1508040" y="1440000"/>
            <a:ext cx="6840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Долгосрочный: </a:t>
            </a:r>
            <a:r>
              <a:rPr b="0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с 1 сентября 201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по 30 августа 2018 г.</a:t>
            </a: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Прямоугольник 5" descr=""/>
          <p:cNvPicPr/>
          <p:nvPr/>
        </p:nvPicPr>
        <p:blipFill>
          <a:blip r:embed="rId2"/>
          <a:stretch/>
        </p:blipFill>
        <p:spPr>
          <a:xfrm>
            <a:off x="1828800" y="396720"/>
            <a:ext cx="6345360" cy="8654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1285920" y="4572000"/>
            <a:ext cx="6983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5207"/>
                </a:solidFill>
                <a:latin typeface="Monotype Corsiv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ad5207"/>
                </a:solidFill>
                <a:latin typeface="Times New Roman"/>
                <a:ea typeface="Times New Roman"/>
              </a:rPr>
              <a:t>дети средне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5207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5207"/>
                </a:solidFill>
                <a:latin typeface="Times New Roman"/>
                <a:ea typeface="Times New Roman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оугольник 7" descr=""/>
          <p:cNvPicPr/>
          <p:nvPr/>
        </p:nvPicPr>
        <p:blipFill>
          <a:blip r:embed="rId3"/>
          <a:stretch/>
        </p:blipFill>
        <p:spPr>
          <a:xfrm>
            <a:off x="1420920" y="2127240"/>
            <a:ext cx="6711840" cy="87156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8"/>
          <p:cNvSpPr/>
          <p:nvPr/>
        </p:nvSpPr>
        <p:spPr>
          <a:xfrm>
            <a:off x="1285920" y="3098880"/>
            <a:ext cx="71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44928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Практико-ориентированный, 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Прямоугольник 9" descr=""/>
          <p:cNvPicPr/>
          <p:nvPr/>
        </p:nvPicPr>
        <p:blipFill>
          <a:blip r:embed="rId4"/>
          <a:stretch/>
        </p:blipFill>
        <p:spPr>
          <a:xfrm>
            <a:off x="1352520" y="3560760"/>
            <a:ext cx="6993000" cy="86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2"/>
          <a:stretch/>
        </p:blipFill>
        <p:spPr>
          <a:xfrm>
            <a:off x="938160" y="401760"/>
            <a:ext cx="5065920" cy="75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755640" y="1268280"/>
          <a:ext cx="7602480" cy="5295960"/>
        </p:xfrm>
        <a:graphic>
          <a:graphicData uri="http://schemas.openxmlformats.org/drawingml/2006/table">
            <a:tbl>
              <a:tblPr/>
              <a:tblGrid>
                <a:gridCol w="2071800"/>
                <a:gridCol w="5530680"/>
              </a:tblGrid>
              <a:tr h="331920"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Этап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Содержани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Изучение методической литературы по тем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одбор методической и художественной литературы, иллюстраций, карт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Анкетирование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одбор и оформление консультативного материала для работы с родителями по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Разработка плана работы с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720"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ракт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Заключ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Непосредственная образовательная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Экскурсии и посещения библиотеки, игры, чтение художественной литературы, просмотр сказ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Консультации по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Драматизация сказ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Художественное творчеств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Изготовление атрибутов для дидактических и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Конкурс семейных творческих работ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Выставка совместных с родителями детских твор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Досуг  «Мир сказо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резентация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Обобщение опыта работы</a:t>
                      </a:r>
                      <a:r>
                        <a:rPr b="0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14240" y="5286240"/>
          <a:ext cx="7610760" cy="1214640"/>
        </p:xfrm>
        <a:graphic>
          <a:graphicData uri="http://schemas.openxmlformats.org/drawingml/2006/table">
            <a:tbl>
              <a:tblPr/>
              <a:tblGrid>
                <a:gridCol w="761076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504d"/>
                </a:solidFill>
                <a:latin typeface="Times New Roman"/>
              </a:rPr>
              <a:t>Обогащение развивающей ср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570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в книжный уголок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 – внесение русских народных сказок, иллюстрированных разными художниками; иллюстраций, открыток с изображением героев сказок по мере изучения;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речевую зону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– внесение дидактических и настольно-печатных игр по теме; изготовление и постепенное внесение театров ( плоскостной, настольный, на палочках, перчаточный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игровую зону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 – маски, элементы костюмов героев сказок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в ИЗО 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– раскраски с изображением сюжетов и героев русских народных сказок, материалы для творческих работ, лэпбук «Мир сказок», репродукции картин по русским народным сказкам.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982960" cy="2238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348000" y="3716280"/>
            <a:ext cx="2610000" cy="1957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6084720" y="4005360"/>
            <a:ext cx="29163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214280" y="1214280"/>
          <a:ext cx="7444080" cy="5375520"/>
        </p:xfrm>
        <a:graphic>
          <a:graphicData uri="http://schemas.openxmlformats.org/drawingml/2006/table">
            <a:tbl>
              <a:tblPr/>
              <a:tblGrid>
                <a:gridCol w="2818080"/>
                <a:gridCol w="4626000"/>
              </a:tblGrid>
              <a:tr h="7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бразовательные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ормы организации образователь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коммуникатив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нсценировки сказок «Теремок», «Реп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/ игры:«Собери картинку», «Кто в теремочке живет?»,«Сказки перепутались», «Угадай по контур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ОД «На поляне сказок», «Незнайка заблудился» , беседы «На кого из сказочных героев я похож?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ресказывание сказок, слушание, заучивание наизусть, чтение сказ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ОД «Нарисуй сказку», аппликация «Заюшкина избушка», лепка «Колобок и все, все, вс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ОД, пальчиковая гимнастика, подвижные иг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6:01:14Z</dcterms:created>
  <dc:creator>Елена</dc:creator>
  <dc:description/>
  <dc:language>en-US</dc:language>
  <cp:lastModifiedBy>СветлаНА</cp:lastModifiedBy>
  <dcterms:modified xsi:type="dcterms:W3CDTF">2018-06-22T13:03:08Z</dcterms:modified>
  <cp:revision>157</cp:revision>
  <dc:subject/>
  <dc:title>Название презентации</dc:title>
</cp:coreProperties>
</file>