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gif" ContentType="image/gif"/>
  <Override PartName="/ppt/media/image7.png" ContentType="image/png"/>
  <Override PartName="/ppt/media/image4.gif" ContentType="image/gif"/>
  <Override PartName="/ppt/media/chimes.wav" ContentType="audio/x-wav"/>
  <Override PartName="/ppt/media/image8.png" ContentType="image/png"/>
  <Override PartName="/ppt/media/image5.jpeg" ContentType="image/jpeg"/>
  <Override PartName="/ppt/media/image6.gif" ContentType="image/gif"/>
  <Override PartName="/ppt/media/image11.gif" ContentType="image/gif"/>
  <Override PartName="/ppt/media/image9.png" ContentType="image/png"/>
  <Override PartName="/ppt/media/image10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ED6E-6838-439D-9A80-B566C1161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F473-A51B-4135-98D8-CF4E51E59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B7AA-B1F1-4ED5-8AB5-623989523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7C6E-D4CF-4EC7-9E94-BFD500591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E19A-DD7E-49D2-9BC3-09A60DC5E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C63C-F17F-4CB6-B535-F6A7E6F81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C813-37D5-4F0C-B4A0-0B7A9B2E2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FA16-2104-4E26-800F-A10DB124B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CAF6-5232-4A42-88B9-BC17EA3F1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F35E-47EA-4FCE-A38D-358FB4BB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EBC2-E8FA-4A94-8CA0-D75786755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83A1-F389-4078-8173-3E286DFC4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4E4F5-4063-4878-A34B-E7D83B4804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6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6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6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1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1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1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1.xm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gif"/><Relationship Id="rId3" Type="http://schemas.openxmlformats.org/officeDocument/2006/relationships/slide" Target="slide21.xml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1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1.xm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1.xm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1.xm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2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2.xm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2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2.xml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2.xml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2.xml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2.xml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2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2.xml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6.xml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6.xml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6.xml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Rectangle 8"/>
          <p:cNvSpPr/>
          <p:nvPr/>
        </p:nvSpPr>
        <p:spPr>
          <a:xfrm>
            <a:off x="1547640" y="260280"/>
            <a:ext cx="583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БПОУ  г. Москвы « Первый Московский образовательный комплекс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1116000" y="3878280"/>
            <a:ext cx="73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ff99"/>
                </a:solidFill>
                <a:latin typeface="Arial"/>
              </a:rPr>
              <a:t>(Внеклассное мероприятие по математике для обучающихся 1-2 курс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324000" y="1341360"/>
            <a:ext cx="845820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ff99"/>
                </a:solidFill>
                <a:latin typeface="Arial"/>
              </a:rPr>
              <a:t>Викторина</a:t>
            </a:r>
            <a:br>
              <a:rPr sz="4000"/>
            </a:br>
            <a:r>
              <a:rPr b="1" lang="ru-RU" sz="7200" spc="-1" strike="noStrike">
                <a:solidFill>
                  <a:srgbClr val="99ff99"/>
                </a:solidFill>
                <a:latin typeface="Arial"/>
              </a:rPr>
              <a:t>«Своя  игра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932360" y="4941720"/>
            <a:ext cx="374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подаватель: Егорова  И.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995640" y="609300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18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51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2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8" name="Text Box 11"/>
          <p:cNvSpPr/>
          <p:nvPr/>
        </p:nvSpPr>
        <p:spPr>
          <a:xfrm>
            <a:off x="7308720" y="54936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1 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2"/>
          <p:cNvSpPr/>
          <p:nvPr/>
        </p:nvSpPr>
        <p:spPr>
          <a:xfrm>
            <a:off x="900000" y="1989000"/>
            <a:ext cx="7344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Многогранник из Египта – это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13">
            <a:hlinkClick r:id="rId2" action="ppaction://hlinksldjump"/>
          </p:cNvPr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WordArt 14"/>
          <p:cNvSpPr txBox="1"/>
          <p:nvPr/>
        </p:nvSpPr>
        <p:spPr>
          <a:xfrm>
            <a:off x="3132000" y="4797360"/>
            <a:ext cx="2592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пирамида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62" name="Rectangle 19"/>
          <p:cNvSpPr/>
          <p:nvPr/>
        </p:nvSpPr>
        <p:spPr>
          <a:xfrm>
            <a:off x="539640" y="189000"/>
            <a:ext cx="6624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еомет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Рисунок 9" descr="arxit6.jpg"/>
          <p:cNvPicPr/>
          <p:nvPr/>
        </p:nvPicPr>
        <p:blipFill>
          <a:blip r:embed="rId3"/>
          <a:stretch/>
        </p:blipFill>
        <p:spPr>
          <a:xfrm>
            <a:off x="6084720" y="4724280"/>
            <a:ext cx="1828800" cy="1252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65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3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2" name="Text Box 11"/>
          <p:cNvSpPr/>
          <p:nvPr/>
        </p:nvSpPr>
        <p:spPr>
          <a:xfrm>
            <a:off x="7308720" y="54936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1 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13">
            <a:hlinkClick r:id="rId2" action="ppaction://hlinksldjump"/>
          </p:cNvPr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WordArt 14"/>
          <p:cNvSpPr txBox="1"/>
          <p:nvPr/>
        </p:nvSpPr>
        <p:spPr>
          <a:xfrm>
            <a:off x="5796000" y="4941720"/>
            <a:ext cx="1655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Ромб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75" name="Rectangle 25"/>
          <p:cNvSpPr/>
          <p:nvPr/>
        </p:nvSpPr>
        <p:spPr>
          <a:xfrm>
            <a:off x="539640" y="189000"/>
            <a:ext cx="6624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еомет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7"/>
          <p:cNvSpPr/>
          <p:nvPr/>
        </p:nvSpPr>
        <p:spPr>
          <a:xfrm>
            <a:off x="900000" y="1989000"/>
            <a:ext cx="74170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Назовите геометрическую фигуру  на петлицах высших офицеров Красной Армии в беспогонную эпох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78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539640" y="189000"/>
            <a:ext cx="6624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гадай слово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1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Text Box 11"/>
          <p:cNvSpPr/>
          <p:nvPr/>
        </p:nvSpPr>
        <p:spPr>
          <a:xfrm>
            <a:off x="7308720" y="54936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1 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2"/>
          <p:cNvSpPr/>
          <p:nvPr/>
        </p:nvSpPr>
        <p:spPr>
          <a:xfrm>
            <a:off x="684360" y="1773360"/>
            <a:ext cx="2089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be600"/>
                </a:solidFill>
                <a:latin typeface="Arial"/>
              </a:rPr>
              <a:t>Твердо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13">
            <a:hlinkClick r:id="rId2" action="ppaction://hlinksldjump"/>
          </p:cNvPr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5"/>
          <p:cNvSpPr/>
          <p:nvPr/>
        </p:nvSpPr>
        <p:spPr>
          <a:xfrm>
            <a:off x="2700360" y="1773360"/>
            <a:ext cx="2160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be600"/>
                </a:solidFill>
                <a:latin typeface="Arial"/>
              </a:rPr>
              <a:t>жидко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6"/>
          <p:cNvSpPr/>
          <p:nvPr/>
        </p:nvSpPr>
        <p:spPr>
          <a:xfrm>
            <a:off x="4716360" y="1773360"/>
            <a:ext cx="3384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be600"/>
                </a:solidFill>
                <a:latin typeface="Arial"/>
              </a:rPr>
              <a:t>газообразно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7"/>
          <p:cNvSpPr/>
          <p:nvPr/>
        </p:nvSpPr>
        <p:spPr>
          <a:xfrm>
            <a:off x="826920" y="2565360"/>
            <a:ext cx="1944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be600"/>
                </a:solidFill>
                <a:latin typeface="Arial"/>
              </a:rPr>
              <a:t>голо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8"/>
          <p:cNvSpPr/>
          <p:nvPr/>
        </p:nvSpPr>
        <p:spPr>
          <a:xfrm>
            <a:off x="2411280" y="2565360"/>
            <a:ext cx="25196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be600"/>
                </a:solidFill>
                <a:latin typeface="Arial"/>
              </a:rPr>
              <a:t>мертво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9"/>
          <p:cNvSpPr/>
          <p:nvPr/>
        </p:nvSpPr>
        <p:spPr>
          <a:xfrm>
            <a:off x="4427640" y="2565360"/>
            <a:ext cx="3960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be600"/>
                </a:solidFill>
                <a:latin typeface="Arial"/>
              </a:rPr>
              <a:t>геометрическое…</a:t>
            </a:r>
            <a:r>
              <a:rPr b="0" lang="ru-RU" sz="3200" spc="-1" strike="noStrike">
                <a:solidFill>
                  <a:srgbClr val="ebe6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20"/>
          <p:cNvSpPr/>
          <p:nvPr/>
        </p:nvSpPr>
        <p:spPr>
          <a:xfrm>
            <a:off x="5076720" y="3933720"/>
            <a:ext cx="2665440" cy="86364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00"/>
                </a:solidFill>
                <a:latin typeface="Times New Roman"/>
              </a:rPr>
              <a:t>тел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8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279" nodeType="clickEffect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96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8"/>
          <p:cNvSpPr/>
          <p:nvPr/>
        </p:nvSpPr>
        <p:spPr>
          <a:xfrm>
            <a:off x="539640" y="189000"/>
            <a:ext cx="6624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гадай сло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2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4" name="Text Box 11"/>
          <p:cNvSpPr/>
          <p:nvPr/>
        </p:nvSpPr>
        <p:spPr>
          <a:xfrm>
            <a:off x="7308720" y="54936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1 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13">
            <a:hlinkClick r:id="rId2" action="ppaction://hlinksldjump"/>
          </p:cNvPr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6"/>
          <p:cNvSpPr/>
          <p:nvPr/>
        </p:nvSpPr>
        <p:spPr>
          <a:xfrm>
            <a:off x="684360" y="1773360"/>
            <a:ext cx="2592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be600"/>
                </a:solidFill>
                <a:latin typeface="Arial"/>
              </a:rPr>
              <a:t>Служебна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7"/>
          <p:cNvSpPr/>
          <p:nvPr/>
        </p:nvSpPr>
        <p:spPr>
          <a:xfrm>
            <a:off x="3419640" y="1773360"/>
            <a:ext cx="2160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be600"/>
                </a:solidFill>
                <a:latin typeface="Arial"/>
              </a:rPr>
              <a:t>главна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8"/>
          <p:cNvSpPr/>
          <p:nvPr/>
        </p:nvSpPr>
        <p:spPr>
          <a:xfrm>
            <a:off x="5364000" y="1781280"/>
            <a:ext cx="3384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be600"/>
                </a:solidFill>
                <a:latin typeface="Arial"/>
              </a:rPr>
              <a:t>важна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9"/>
          <p:cNvSpPr/>
          <p:nvPr/>
        </p:nvSpPr>
        <p:spPr>
          <a:xfrm>
            <a:off x="755640" y="2565360"/>
            <a:ext cx="2376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be600"/>
                </a:solidFill>
                <a:latin typeface="Arial"/>
              </a:rPr>
              <a:t>основна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3419640" y="2565360"/>
            <a:ext cx="3600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be600"/>
                </a:solidFill>
                <a:latin typeface="Arial"/>
              </a:rPr>
              <a:t>монотонна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1"/>
          <p:cNvSpPr/>
          <p:nvPr/>
        </p:nvSpPr>
        <p:spPr>
          <a:xfrm>
            <a:off x="755640" y="3357720"/>
            <a:ext cx="3960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be600"/>
                </a:solidFill>
                <a:latin typeface="Arial"/>
              </a:rPr>
              <a:t>возрастающ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2"/>
          <p:cNvSpPr/>
          <p:nvPr/>
        </p:nvSpPr>
        <p:spPr>
          <a:xfrm>
            <a:off x="3995640" y="3357720"/>
            <a:ext cx="30974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be600"/>
                </a:solidFill>
                <a:latin typeface="Arial"/>
              </a:rPr>
              <a:t>убывающ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826920" y="4076640"/>
            <a:ext cx="3961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be600"/>
                </a:solidFill>
                <a:latin typeface="Arial"/>
              </a:rPr>
              <a:t>периодическ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4"/>
          <p:cNvSpPr/>
          <p:nvPr/>
        </p:nvSpPr>
        <p:spPr>
          <a:xfrm>
            <a:off x="4356000" y="4052880"/>
            <a:ext cx="3961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be600"/>
                </a:solidFill>
                <a:latin typeface="Arial"/>
              </a:rPr>
              <a:t>линейна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25"/>
          <p:cNvSpPr/>
          <p:nvPr/>
        </p:nvSpPr>
        <p:spPr>
          <a:xfrm>
            <a:off x="5364000" y="5013360"/>
            <a:ext cx="2665440" cy="86364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00"/>
                </a:solidFill>
                <a:latin typeface="Times New Roman"/>
              </a:rPr>
              <a:t>функ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0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331" nodeType="clickEffect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17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539640" y="189000"/>
            <a:ext cx="6624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слов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1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5" name="Text Box 11"/>
          <p:cNvSpPr/>
          <p:nvPr/>
        </p:nvSpPr>
        <p:spPr>
          <a:xfrm>
            <a:off x="7308720" y="54936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1 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2"/>
          <p:cNvSpPr/>
          <p:nvPr/>
        </p:nvSpPr>
        <p:spPr>
          <a:xfrm>
            <a:off x="611280" y="2205000"/>
            <a:ext cx="8064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Как заканчивается известная пословица: «Ясно, как…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13">
            <a:hlinkClick r:id="rId2" action="ppaction://hlinksldjump"/>
          </p:cNvPr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WordArt 15"/>
          <p:cNvSpPr txBox="1"/>
          <p:nvPr/>
        </p:nvSpPr>
        <p:spPr>
          <a:xfrm>
            <a:off x="4500720" y="4076640"/>
            <a:ext cx="3097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дважды  два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0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30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Rectangle 7"/>
          <p:cNvSpPr/>
          <p:nvPr/>
        </p:nvSpPr>
        <p:spPr>
          <a:xfrm>
            <a:off x="1042920" y="117360"/>
            <a:ext cx="7777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Своя игра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                  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I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 отборочный ту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8"/>
          <p:cNvSpPr/>
          <p:nvPr/>
        </p:nvSpPr>
        <p:spPr>
          <a:xfrm>
            <a:off x="179280" y="80316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9"/>
          <p:cNvSpPr/>
          <p:nvPr/>
        </p:nvSpPr>
        <p:spPr>
          <a:xfrm>
            <a:off x="826920" y="1484280"/>
            <a:ext cx="739152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ак называется популярная в 1930-е годы акробатическая фигура, составленная спортсменами, стоящими друг на друг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илинд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зм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рами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ону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1">
            <a:hlinkClick r:id="" action="ppaction://hlinkshowjump?jump=nextslide"/>
          </p:cNvPr>
          <p:cNvSpPr/>
          <p:nvPr/>
        </p:nvSpPr>
        <p:spPr>
          <a:xfrm>
            <a:off x="8354880" y="6270480"/>
            <a:ext cx="611280" cy="405000"/>
          </a:xfrm>
          <a:custGeom>
            <a:avLst/>
            <a:gdLst>
              <a:gd name="textAreaLeft" fmla="*/ 25920 w 611280"/>
              <a:gd name="textAreaRight" fmla="*/ 585360 w 6112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32592" h="21600">
                <a:moveTo>
                  <a:pt x="0" y="0"/>
                </a:moveTo>
                <a:lnTo>
                  <a:pt x="32592" y="0"/>
                </a:lnTo>
                <a:lnTo>
                  <a:pt x="32592" y="21600"/>
                </a:lnTo>
                <a:lnTo>
                  <a:pt x="0" y="21600"/>
                </a:lnTo>
                <a:close/>
              </a:path>
              <a:path fill="lightenLess" w="32592" h="21600">
                <a:moveTo>
                  <a:pt x="0" y="0"/>
                </a:moveTo>
                <a:lnTo>
                  <a:pt x="32592" y="0"/>
                </a:lnTo>
                <a:lnTo>
                  <a:pt x="31192" y="1400"/>
                </a:lnTo>
                <a:lnTo>
                  <a:pt x="1400" y="1400"/>
                </a:lnTo>
                <a:close/>
              </a:path>
              <a:path fill="darken" w="32592" h="21600">
                <a:moveTo>
                  <a:pt x="32592" y="0"/>
                </a:moveTo>
                <a:lnTo>
                  <a:pt x="32592" y="21600"/>
                </a:lnTo>
                <a:lnTo>
                  <a:pt x="31192" y="20200"/>
                </a:lnTo>
                <a:lnTo>
                  <a:pt x="31192" y="1400"/>
                </a:lnTo>
                <a:close/>
              </a:path>
              <a:path fill="darkenLess" w="32592" h="21600">
                <a:moveTo>
                  <a:pt x="325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92" y="20200"/>
                </a:lnTo>
                <a:close/>
              </a:path>
              <a:path fill="lighten" w="325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92" h="21600">
                <a:moveTo>
                  <a:pt x="9289" y="3794"/>
                </a:moveTo>
                <a:lnTo>
                  <a:pt x="23302" y="10800"/>
                </a:lnTo>
                <a:lnTo>
                  <a:pt x="928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12">
            <a:hlinkClick r:id="rId1" action="ppaction://hlinksldjump"/>
          </p:cNvPr>
          <p:cNvSpPr/>
          <p:nvPr/>
        </p:nvSpPr>
        <p:spPr>
          <a:xfrm>
            <a:off x="179280" y="189000"/>
            <a:ext cx="505080" cy="576000"/>
          </a:xfrm>
          <a:custGeom>
            <a:avLst/>
            <a:gdLst>
              <a:gd name="textAreaLeft" fmla="*/ 32760 w 505080"/>
              <a:gd name="textAreaRight" fmla="*/ 472680 w 50508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631">
                <a:moveTo>
                  <a:pt x="0" y="0"/>
                </a:moveTo>
                <a:lnTo>
                  <a:pt x="21600" y="0"/>
                </a:lnTo>
                <a:lnTo>
                  <a:pt x="21600" y="24631"/>
                </a:lnTo>
                <a:lnTo>
                  <a:pt x="0" y="24631"/>
                </a:lnTo>
                <a:close/>
              </a:path>
              <a:path fill="lightenLess" w="21600" h="24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31">
                <a:moveTo>
                  <a:pt x="21600" y="0"/>
                </a:moveTo>
                <a:lnTo>
                  <a:pt x="21600" y="24631"/>
                </a:lnTo>
                <a:lnTo>
                  <a:pt x="20200" y="23231"/>
                </a:lnTo>
                <a:lnTo>
                  <a:pt x="20200" y="1400"/>
                </a:lnTo>
                <a:close/>
              </a:path>
              <a:path fill="darkenLess" w="21600" h="24631">
                <a:moveTo>
                  <a:pt x="21600" y="24631"/>
                </a:moveTo>
                <a:lnTo>
                  <a:pt x="0" y="24631"/>
                </a:lnTo>
                <a:lnTo>
                  <a:pt x="1400" y="23231"/>
                </a:lnTo>
                <a:lnTo>
                  <a:pt x="20200" y="23231"/>
                </a:lnTo>
                <a:close/>
              </a:path>
              <a:path fill="lighten" w="21600" h="24631">
                <a:moveTo>
                  <a:pt x="0" y="24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31"/>
                </a:lnTo>
                <a:close/>
              </a:path>
              <a:path fill="darken" w="21600" h="24631">
                <a:moveTo>
                  <a:pt x="10800" y="5352"/>
                </a:moveTo>
                <a:lnTo>
                  <a:pt x="13376" y="7964"/>
                </a:lnTo>
                <a:lnTo>
                  <a:pt x="13376" y="6223"/>
                </a:lnTo>
                <a:lnTo>
                  <a:pt x="15152" y="6223"/>
                </a:lnTo>
                <a:lnTo>
                  <a:pt x="15152" y="9739"/>
                </a:lnTo>
                <a:lnTo>
                  <a:pt x="17763" y="12315"/>
                </a:lnTo>
                <a:lnTo>
                  <a:pt x="16109" y="12315"/>
                </a:lnTo>
                <a:lnTo>
                  <a:pt x="16109" y="19505"/>
                </a:lnTo>
                <a:lnTo>
                  <a:pt x="5491" y="19505"/>
                </a:lnTo>
                <a:lnTo>
                  <a:pt x="5491" y="12315"/>
                </a:lnTo>
                <a:lnTo>
                  <a:pt x="3837" y="12315"/>
                </a:lnTo>
                <a:close/>
              </a:path>
              <a:path fill="darkenLess" w="21600" h="24631">
                <a:moveTo>
                  <a:pt x="13376" y="7964"/>
                </a:moveTo>
                <a:lnTo>
                  <a:pt x="13376" y="6223"/>
                </a:lnTo>
                <a:lnTo>
                  <a:pt x="15152" y="6223"/>
                </a:lnTo>
                <a:lnTo>
                  <a:pt x="15152" y="9739"/>
                </a:lnTo>
                <a:close/>
              </a:path>
              <a:path fill="darkenLess" w="21600" h="24631">
                <a:moveTo>
                  <a:pt x="9877" y="15814"/>
                </a:moveTo>
                <a:lnTo>
                  <a:pt x="11723" y="15814"/>
                </a:lnTo>
                <a:lnTo>
                  <a:pt x="11723" y="19505"/>
                </a:lnTo>
                <a:lnTo>
                  <a:pt x="16109" y="19505"/>
                </a:lnTo>
                <a:lnTo>
                  <a:pt x="16109" y="12315"/>
                </a:lnTo>
                <a:lnTo>
                  <a:pt x="5491" y="12315"/>
                </a:lnTo>
                <a:lnTo>
                  <a:pt x="5491" y="19505"/>
                </a:lnTo>
                <a:lnTo>
                  <a:pt x="9877" y="1950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5" dur="5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ffcc"/>
                                      </p:to>
                                    </p:animClr>
                                    <p:animClr clrSpc="rgb">
                                      <p:cBhvr>
                                        <p:cTn id="376" dur="5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ffcc"/>
                                      </p:to>
                                    </p:animClr>
                                    <p:set>
                                      <p:cBhvr>
                                        <p:cTn id="377" dur="5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40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Rectangle 7"/>
          <p:cNvSpPr/>
          <p:nvPr/>
        </p:nvSpPr>
        <p:spPr>
          <a:xfrm>
            <a:off x="1042920" y="117360"/>
            <a:ext cx="7777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Своя игра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                  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I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 отборочный ту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8"/>
          <p:cNvSpPr/>
          <p:nvPr/>
        </p:nvSpPr>
        <p:spPr>
          <a:xfrm>
            <a:off x="179280" y="80316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9"/>
          <p:cNvSpPr/>
          <p:nvPr/>
        </p:nvSpPr>
        <p:spPr>
          <a:xfrm>
            <a:off x="826920" y="1484280"/>
            <a:ext cx="739152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Что напоминает геометрическое тело, называющееся тор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бли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гали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ендел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бат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11">
            <a:hlinkClick r:id="" action="ppaction://hlinkshowjump?jump=nextslide"/>
          </p:cNvPr>
          <p:cNvSpPr/>
          <p:nvPr/>
        </p:nvSpPr>
        <p:spPr>
          <a:xfrm>
            <a:off x="8354880" y="6270480"/>
            <a:ext cx="611280" cy="405000"/>
          </a:xfrm>
          <a:custGeom>
            <a:avLst/>
            <a:gdLst>
              <a:gd name="textAreaLeft" fmla="*/ 25920 w 611280"/>
              <a:gd name="textAreaRight" fmla="*/ 585360 w 6112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32592" h="21600">
                <a:moveTo>
                  <a:pt x="0" y="0"/>
                </a:moveTo>
                <a:lnTo>
                  <a:pt x="32592" y="0"/>
                </a:lnTo>
                <a:lnTo>
                  <a:pt x="32592" y="21600"/>
                </a:lnTo>
                <a:lnTo>
                  <a:pt x="0" y="21600"/>
                </a:lnTo>
                <a:close/>
              </a:path>
              <a:path fill="lightenLess" w="32592" h="21600">
                <a:moveTo>
                  <a:pt x="0" y="0"/>
                </a:moveTo>
                <a:lnTo>
                  <a:pt x="32592" y="0"/>
                </a:lnTo>
                <a:lnTo>
                  <a:pt x="31192" y="1400"/>
                </a:lnTo>
                <a:lnTo>
                  <a:pt x="1400" y="1400"/>
                </a:lnTo>
                <a:close/>
              </a:path>
              <a:path fill="darken" w="32592" h="21600">
                <a:moveTo>
                  <a:pt x="32592" y="0"/>
                </a:moveTo>
                <a:lnTo>
                  <a:pt x="32592" y="21600"/>
                </a:lnTo>
                <a:lnTo>
                  <a:pt x="31192" y="20200"/>
                </a:lnTo>
                <a:lnTo>
                  <a:pt x="31192" y="1400"/>
                </a:lnTo>
                <a:close/>
              </a:path>
              <a:path fill="darkenLess" w="32592" h="21600">
                <a:moveTo>
                  <a:pt x="325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92" y="20200"/>
                </a:lnTo>
                <a:close/>
              </a:path>
              <a:path fill="lighten" w="325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92" h="21600">
                <a:moveTo>
                  <a:pt x="9289" y="3794"/>
                </a:moveTo>
                <a:lnTo>
                  <a:pt x="23302" y="10800"/>
                </a:lnTo>
                <a:lnTo>
                  <a:pt x="928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14">
            <a:hlinkClick r:id="rId1" action="ppaction://hlinksldjump"/>
          </p:cNvPr>
          <p:cNvSpPr/>
          <p:nvPr/>
        </p:nvSpPr>
        <p:spPr>
          <a:xfrm>
            <a:off x="179280" y="189000"/>
            <a:ext cx="505080" cy="576000"/>
          </a:xfrm>
          <a:custGeom>
            <a:avLst/>
            <a:gdLst>
              <a:gd name="textAreaLeft" fmla="*/ 32760 w 505080"/>
              <a:gd name="textAreaRight" fmla="*/ 472680 w 50508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631">
                <a:moveTo>
                  <a:pt x="0" y="0"/>
                </a:moveTo>
                <a:lnTo>
                  <a:pt x="21600" y="0"/>
                </a:lnTo>
                <a:lnTo>
                  <a:pt x="21600" y="24631"/>
                </a:lnTo>
                <a:lnTo>
                  <a:pt x="0" y="24631"/>
                </a:lnTo>
                <a:close/>
              </a:path>
              <a:path fill="lightenLess" w="21600" h="24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31">
                <a:moveTo>
                  <a:pt x="21600" y="0"/>
                </a:moveTo>
                <a:lnTo>
                  <a:pt x="21600" y="24631"/>
                </a:lnTo>
                <a:lnTo>
                  <a:pt x="20200" y="23231"/>
                </a:lnTo>
                <a:lnTo>
                  <a:pt x="20200" y="1400"/>
                </a:lnTo>
                <a:close/>
              </a:path>
              <a:path fill="darkenLess" w="21600" h="24631">
                <a:moveTo>
                  <a:pt x="21600" y="24631"/>
                </a:moveTo>
                <a:lnTo>
                  <a:pt x="0" y="24631"/>
                </a:lnTo>
                <a:lnTo>
                  <a:pt x="1400" y="23231"/>
                </a:lnTo>
                <a:lnTo>
                  <a:pt x="20200" y="23231"/>
                </a:lnTo>
                <a:close/>
              </a:path>
              <a:path fill="lighten" w="21600" h="24631">
                <a:moveTo>
                  <a:pt x="0" y="24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31"/>
                </a:lnTo>
                <a:close/>
              </a:path>
              <a:path fill="darken" w="21600" h="24631">
                <a:moveTo>
                  <a:pt x="10800" y="5352"/>
                </a:moveTo>
                <a:lnTo>
                  <a:pt x="13376" y="7964"/>
                </a:lnTo>
                <a:lnTo>
                  <a:pt x="13376" y="6223"/>
                </a:lnTo>
                <a:lnTo>
                  <a:pt x="15152" y="6223"/>
                </a:lnTo>
                <a:lnTo>
                  <a:pt x="15152" y="9739"/>
                </a:lnTo>
                <a:lnTo>
                  <a:pt x="17763" y="12315"/>
                </a:lnTo>
                <a:lnTo>
                  <a:pt x="16109" y="12315"/>
                </a:lnTo>
                <a:lnTo>
                  <a:pt x="16109" y="19505"/>
                </a:lnTo>
                <a:lnTo>
                  <a:pt x="5491" y="19505"/>
                </a:lnTo>
                <a:lnTo>
                  <a:pt x="5491" y="12315"/>
                </a:lnTo>
                <a:lnTo>
                  <a:pt x="3837" y="12315"/>
                </a:lnTo>
                <a:close/>
              </a:path>
              <a:path fill="darkenLess" w="21600" h="24631">
                <a:moveTo>
                  <a:pt x="13376" y="7964"/>
                </a:moveTo>
                <a:lnTo>
                  <a:pt x="13376" y="6223"/>
                </a:lnTo>
                <a:lnTo>
                  <a:pt x="15152" y="6223"/>
                </a:lnTo>
                <a:lnTo>
                  <a:pt x="15152" y="9739"/>
                </a:lnTo>
                <a:close/>
              </a:path>
              <a:path fill="darkenLess" w="21600" h="24631">
                <a:moveTo>
                  <a:pt x="9877" y="15814"/>
                </a:moveTo>
                <a:lnTo>
                  <a:pt x="11723" y="15814"/>
                </a:lnTo>
                <a:lnTo>
                  <a:pt x="11723" y="19505"/>
                </a:lnTo>
                <a:lnTo>
                  <a:pt x="16109" y="19505"/>
                </a:lnTo>
                <a:lnTo>
                  <a:pt x="16109" y="12315"/>
                </a:lnTo>
                <a:lnTo>
                  <a:pt x="5491" y="12315"/>
                </a:lnTo>
                <a:lnTo>
                  <a:pt x="5491" y="19505"/>
                </a:lnTo>
                <a:lnTo>
                  <a:pt x="9877" y="1950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4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ffcc"/>
                                      </p:to>
                                    </p:animClr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ffcc"/>
                                      </p:to>
                                    </p:animClr>
                                    <p:set>
                                      <p:cBhvr>
                                        <p:cTn id="406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50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Rectangle 7"/>
          <p:cNvSpPr/>
          <p:nvPr/>
        </p:nvSpPr>
        <p:spPr>
          <a:xfrm>
            <a:off x="1042920" y="117360"/>
            <a:ext cx="7777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Своя игра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                  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I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 отборочный ту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8"/>
          <p:cNvSpPr/>
          <p:nvPr/>
        </p:nvSpPr>
        <p:spPr>
          <a:xfrm>
            <a:off x="179280" y="80316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9"/>
          <p:cNvSpPr/>
          <p:nvPr/>
        </p:nvSpPr>
        <p:spPr>
          <a:xfrm>
            <a:off x="826920" y="1484280"/>
            <a:ext cx="792180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акой геометрический термин произошёл от греческого 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«измерение вокруг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имет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ощад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ё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поверх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10">
            <a:hlinkClick r:id="rId1" action="ppaction://hlinksldjump"/>
          </p:cNvPr>
          <p:cNvSpPr/>
          <p:nvPr/>
        </p:nvSpPr>
        <p:spPr>
          <a:xfrm>
            <a:off x="179280" y="189000"/>
            <a:ext cx="505080" cy="576000"/>
          </a:xfrm>
          <a:custGeom>
            <a:avLst/>
            <a:gdLst>
              <a:gd name="textAreaLeft" fmla="*/ 32760 w 505080"/>
              <a:gd name="textAreaRight" fmla="*/ 472680 w 50508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631">
                <a:moveTo>
                  <a:pt x="0" y="0"/>
                </a:moveTo>
                <a:lnTo>
                  <a:pt x="21600" y="0"/>
                </a:lnTo>
                <a:lnTo>
                  <a:pt x="21600" y="24631"/>
                </a:lnTo>
                <a:lnTo>
                  <a:pt x="0" y="24631"/>
                </a:lnTo>
                <a:close/>
              </a:path>
              <a:path fill="lightenLess" w="21600" h="24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31">
                <a:moveTo>
                  <a:pt x="21600" y="0"/>
                </a:moveTo>
                <a:lnTo>
                  <a:pt x="21600" y="24631"/>
                </a:lnTo>
                <a:lnTo>
                  <a:pt x="20200" y="23231"/>
                </a:lnTo>
                <a:lnTo>
                  <a:pt x="20200" y="1400"/>
                </a:lnTo>
                <a:close/>
              </a:path>
              <a:path fill="darkenLess" w="21600" h="24631">
                <a:moveTo>
                  <a:pt x="21600" y="24631"/>
                </a:moveTo>
                <a:lnTo>
                  <a:pt x="0" y="24631"/>
                </a:lnTo>
                <a:lnTo>
                  <a:pt x="1400" y="23231"/>
                </a:lnTo>
                <a:lnTo>
                  <a:pt x="20200" y="23231"/>
                </a:lnTo>
                <a:close/>
              </a:path>
              <a:path fill="lighten" w="21600" h="24631">
                <a:moveTo>
                  <a:pt x="0" y="24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31"/>
                </a:lnTo>
                <a:close/>
              </a:path>
              <a:path fill="darken" w="21600" h="24631">
                <a:moveTo>
                  <a:pt x="10800" y="5352"/>
                </a:moveTo>
                <a:lnTo>
                  <a:pt x="13376" y="7964"/>
                </a:lnTo>
                <a:lnTo>
                  <a:pt x="13376" y="6223"/>
                </a:lnTo>
                <a:lnTo>
                  <a:pt x="15152" y="6223"/>
                </a:lnTo>
                <a:lnTo>
                  <a:pt x="15152" y="9739"/>
                </a:lnTo>
                <a:lnTo>
                  <a:pt x="17763" y="12315"/>
                </a:lnTo>
                <a:lnTo>
                  <a:pt x="16109" y="12315"/>
                </a:lnTo>
                <a:lnTo>
                  <a:pt x="16109" y="19505"/>
                </a:lnTo>
                <a:lnTo>
                  <a:pt x="5491" y="19505"/>
                </a:lnTo>
                <a:lnTo>
                  <a:pt x="5491" y="12315"/>
                </a:lnTo>
                <a:lnTo>
                  <a:pt x="3837" y="12315"/>
                </a:lnTo>
                <a:close/>
              </a:path>
              <a:path fill="darkenLess" w="21600" h="24631">
                <a:moveTo>
                  <a:pt x="13376" y="7964"/>
                </a:moveTo>
                <a:lnTo>
                  <a:pt x="13376" y="6223"/>
                </a:lnTo>
                <a:lnTo>
                  <a:pt x="15152" y="6223"/>
                </a:lnTo>
                <a:lnTo>
                  <a:pt x="15152" y="9739"/>
                </a:lnTo>
                <a:close/>
              </a:path>
              <a:path fill="darkenLess" w="21600" h="24631">
                <a:moveTo>
                  <a:pt x="9877" y="15814"/>
                </a:moveTo>
                <a:lnTo>
                  <a:pt x="11723" y="15814"/>
                </a:lnTo>
                <a:lnTo>
                  <a:pt x="11723" y="19505"/>
                </a:lnTo>
                <a:lnTo>
                  <a:pt x="16109" y="19505"/>
                </a:lnTo>
                <a:lnTo>
                  <a:pt x="16109" y="12315"/>
                </a:lnTo>
                <a:lnTo>
                  <a:pt x="5491" y="12315"/>
                </a:lnTo>
                <a:lnTo>
                  <a:pt x="5491" y="19505"/>
                </a:lnTo>
                <a:lnTo>
                  <a:pt x="9877" y="1950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11">
            <a:hlinkClick r:id="" action="ppaction://hlinkshowjump?jump=nextslide"/>
          </p:cNvPr>
          <p:cNvSpPr/>
          <p:nvPr/>
        </p:nvSpPr>
        <p:spPr>
          <a:xfrm>
            <a:off x="8354880" y="6270480"/>
            <a:ext cx="611280" cy="405000"/>
          </a:xfrm>
          <a:custGeom>
            <a:avLst/>
            <a:gdLst>
              <a:gd name="textAreaLeft" fmla="*/ 25920 w 611280"/>
              <a:gd name="textAreaRight" fmla="*/ 585360 w 6112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32592" h="21600">
                <a:moveTo>
                  <a:pt x="0" y="0"/>
                </a:moveTo>
                <a:lnTo>
                  <a:pt x="32592" y="0"/>
                </a:lnTo>
                <a:lnTo>
                  <a:pt x="32592" y="21600"/>
                </a:lnTo>
                <a:lnTo>
                  <a:pt x="0" y="21600"/>
                </a:lnTo>
                <a:close/>
              </a:path>
              <a:path fill="lightenLess" w="32592" h="21600">
                <a:moveTo>
                  <a:pt x="0" y="0"/>
                </a:moveTo>
                <a:lnTo>
                  <a:pt x="32592" y="0"/>
                </a:lnTo>
                <a:lnTo>
                  <a:pt x="31192" y="1400"/>
                </a:lnTo>
                <a:lnTo>
                  <a:pt x="1400" y="1400"/>
                </a:lnTo>
                <a:close/>
              </a:path>
              <a:path fill="darken" w="32592" h="21600">
                <a:moveTo>
                  <a:pt x="32592" y="0"/>
                </a:moveTo>
                <a:lnTo>
                  <a:pt x="32592" y="21600"/>
                </a:lnTo>
                <a:lnTo>
                  <a:pt x="31192" y="20200"/>
                </a:lnTo>
                <a:lnTo>
                  <a:pt x="31192" y="1400"/>
                </a:lnTo>
                <a:close/>
              </a:path>
              <a:path fill="darkenLess" w="32592" h="21600">
                <a:moveTo>
                  <a:pt x="325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92" y="20200"/>
                </a:lnTo>
                <a:close/>
              </a:path>
              <a:path fill="lighten" w="325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92" h="21600">
                <a:moveTo>
                  <a:pt x="9289" y="3794"/>
                </a:moveTo>
                <a:lnTo>
                  <a:pt x="23302" y="10800"/>
                </a:lnTo>
                <a:lnTo>
                  <a:pt x="928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ffcc"/>
                                      </p:to>
                                    </p:animClr>
                                    <p:animClr clrSpc="rgb">
                                      <p:cBhvr>
                                        <p:cTn id="434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ffcc"/>
                                      </p:to>
                                    </p:animClr>
                                    <p:set>
                                      <p:cBhvr>
                                        <p:cTn id="435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60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Rectangle 7"/>
          <p:cNvSpPr/>
          <p:nvPr/>
        </p:nvSpPr>
        <p:spPr>
          <a:xfrm>
            <a:off x="1042920" y="117360"/>
            <a:ext cx="7777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Своя игра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                  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I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 отборочный ту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8"/>
          <p:cNvSpPr/>
          <p:nvPr/>
        </p:nvSpPr>
        <p:spPr>
          <a:xfrm>
            <a:off x="179280" y="80316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9"/>
          <p:cNvSpPr/>
          <p:nvPr/>
        </p:nvSpPr>
        <p:spPr>
          <a:xfrm>
            <a:off x="826920" y="1484280"/>
            <a:ext cx="792180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ак называется отрезок прямой, соединяющий две какие-либо 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очки окружности?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диу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куща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р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10">
            <a:hlinkClick r:id="rId1" action="ppaction://hlinksldjump"/>
          </p:cNvPr>
          <p:cNvSpPr/>
          <p:nvPr/>
        </p:nvSpPr>
        <p:spPr>
          <a:xfrm>
            <a:off x="179280" y="189000"/>
            <a:ext cx="505080" cy="576000"/>
          </a:xfrm>
          <a:custGeom>
            <a:avLst/>
            <a:gdLst>
              <a:gd name="textAreaLeft" fmla="*/ 32760 w 505080"/>
              <a:gd name="textAreaRight" fmla="*/ 472680 w 50508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631">
                <a:moveTo>
                  <a:pt x="0" y="0"/>
                </a:moveTo>
                <a:lnTo>
                  <a:pt x="21600" y="0"/>
                </a:lnTo>
                <a:lnTo>
                  <a:pt x="21600" y="24631"/>
                </a:lnTo>
                <a:lnTo>
                  <a:pt x="0" y="24631"/>
                </a:lnTo>
                <a:close/>
              </a:path>
              <a:path fill="lightenLess" w="21600" h="24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31">
                <a:moveTo>
                  <a:pt x="21600" y="0"/>
                </a:moveTo>
                <a:lnTo>
                  <a:pt x="21600" y="24631"/>
                </a:lnTo>
                <a:lnTo>
                  <a:pt x="20200" y="23231"/>
                </a:lnTo>
                <a:lnTo>
                  <a:pt x="20200" y="1400"/>
                </a:lnTo>
                <a:close/>
              </a:path>
              <a:path fill="darkenLess" w="21600" h="24631">
                <a:moveTo>
                  <a:pt x="21600" y="24631"/>
                </a:moveTo>
                <a:lnTo>
                  <a:pt x="0" y="24631"/>
                </a:lnTo>
                <a:lnTo>
                  <a:pt x="1400" y="23231"/>
                </a:lnTo>
                <a:lnTo>
                  <a:pt x="20200" y="23231"/>
                </a:lnTo>
                <a:close/>
              </a:path>
              <a:path fill="lighten" w="21600" h="24631">
                <a:moveTo>
                  <a:pt x="0" y="24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31"/>
                </a:lnTo>
                <a:close/>
              </a:path>
              <a:path fill="darken" w="21600" h="24631">
                <a:moveTo>
                  <a:pt x="10800" y="5352"/>
                </a:moveTo>
                <a:lnTo>
                  <a:pt x="13376" y="7964"/>
                </a:lnTo>
                <a:lnTo>
                  <a:pt x="13376" y="6223"/>
                </a:lnTo>
                <a:lnTo>
                  <a:pt x="15152" y="6223"/>
                </a:lnTo>
                <a:lnTo>
                  <a:pt x="15152" y="9739"/>
                </a:lnTo>
                <a:lnTo>
                  <a:pt x="17763" y="12315"/>
                </a:lnTo>
                <a:lnTo>
                  <a:pt x="16109" y="12315"/>
                </a:lnTo>
                <a:lnTo>
                  <a:pt x="16109" y="19505"/>
                </a:lnTo>
                <a:lnTo>
                  <a:pt x="5491" y="19505"/>
                </a:lnTo>
                <a:lnTo>
                  <a:pt x="5491" y="12315"/>
                </a:lnTo>
                <a:lnTo>
                  <a:pt x="3837" y="12315"/>
                </a:lnTo>
                <a:close/>
              </a:path>
              <a:path fill="darkenLess" w="21600" h="24631">
                <a:moveTo>
                  <a:pt x="13376" y="7964"/>
                </a:moveTo>
                <a:lnTo>
                  <a:pt x="13376" y="6223"/>
                </a:lnTo>
                <a:lnTo>
                  <a:pt x="15152" y="6223"/>
                </a:lnTo>
                <a:lnTo>
                  <a:pt x="15152" y="9739"/>
                </a:lnTo>
                <a:close/>
              </a:path>
              <a:path fill="darkenLess" w="21600" h="24631">
                <a:moveTo>
                  <a:pt x="9877" y="15814"/>
                </a:moveTo>
                <a:lnTo>
                  <a:pt x="11723" y="15814"/>
                </a:lnTo>
                <a:lnTo>
                  <a:pt x="11723" y="19505"/>
                </a:lnTo>
                <a:lnTo>
                  <a:pt x="16109" y="19505"/>
                </a:lnTo>
                <a:lnTo>
                  <a:pt x="16109" y="12315"/>
                </a:lnTo>
                <a:lnTo>
                  <a:pt x="5491" y="12315"/>
                </a:lnTo>
                <a:lnTo>
                  <a:pt x="5491" y="19505"/>
                </a:lnTo>
                <a:lnTo>
                  <a:pt x="9877" y="1950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7" dur="500" fill="hold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ffcc"/>
                                      </p:to>
                                    </p:animClr>
                                    <p:animClr clrSpc="rgb">
                                      <p:cBhvr>
                                        <p:cTn id="458" dur="500" fill="hold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ffcc"/>
                                      </p:to>
                                    </p:animClr>
                                    <p:set>
                                      <p:cBhvr>
                                        <p:cTn id="459" dur="500" fill="hold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69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8"/>
          <p:cNvSpPr/>
          <p:nvPr/>
        </p:nvSpPr>
        <p:spPr>
          <a:xfrm>
            <a:off x="539640" y="189000"/>
            <a:ext cx="6624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ара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1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77" name="Text Box 11"/>
          <p:cNvSpPr/>
          <p:nvPr/>
        </p:nvSpPr>
        <p:spPr>
          <a:xfrm>
            <a:off x="7308720" y="54936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1 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2"/>
          <p:cNvSpPr/>
          <p:nvPr/>
        </p:nvSpPr>
        <p:spPr>
          <a:xfrm>
            <a:off x="468360" y="1484280"/>
            <a:ext cx="8064360" cy="26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Коль в треугольнике угол пря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Я называюсь его сторо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Букву последнюю мне поменять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Буду, как ветер, вас по морю мч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13">
            <a:hlinkClick r:id="rId2" action="ppaction://hlinksldjump"/>
          </p:cNvPr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WordArt 14"/>
          <p:cNvSpPr txBox="1"/>
          <p:nvPr/>
        </p:nvSpPr>
        <p:spPr>
          <a:xfrm>
            <a:off x="3203640" y="5013360"/>
            <a:ext cx="381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Катет - катер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0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8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4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5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7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Rectangle 9"/>
          <p:cNvSpPr/>
          <p:nvPr/>
        </p:nvSpPr>
        <p:spPr>
          <a:xfrm>
            <a:off x="1042920" y="117360"/>
            <a:ext cx="7777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Своя игра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                  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 отборочный ту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1"/>
          <p:cNvSpPr/>
          <p:nvPr/>
        </p:nvSpPr>
        <p:spPr>
          <a:xfrm>
            <a:off x="179280" y="80316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2"/>
          <p:cNvSpPr/>
          <p:nvPr/>
        </p:nvSpPr>
        <p:spPr>
          <a:xfrm>
            <a:off x="826920" y="1484280"/>
            <a:ext cx="739152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ак называется знаменитая картина Пабло Пикасс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Девочка на трапеции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) «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вочка на шаре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Девочка на куб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4">
            <a:hlinkClick r:id="" action="ppaction://hlinkshowjump?jump=nextslide"/>
          </p:cNvPr>
          <p:cNvSpPr/>
          <p:nvPr/>
        </p:nvSpPr>
        <p:spPr>
          <a:xfrm>
            <a:off x="8354880" y="6270480"/>
            <a:ext cx="611280" cy="405000"/>
          </a:xfrm>
          <a:custGeom>
            <a:avLst/>
            <a:gdLst>
              <a:gd name="textAreaLeft" fmla="*/ 25920 w 611280"/>
              <a:gd name="textAreaRight" fmla="*/ 585360 w 6112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32592" h="21600">
                <a:moveTo>
                  <a:pt x="0" y="0"/>
                </a:moveTo>
                <a:lnTo>
                  <a:pt x="32592" y="0"/>
                </a:lnTo>
                <a:lnTo>
                  <a:pt x="32592" y="21600"/>
                </a:lnTo>
                <a:lnTo>
                  <a:pt x="0" y="21600"/>
                </a:lnTo>
                <a:close/>
              </a:path>
              <a:path fill="lightenLess" w="32592" h="21600">
                <a:moveTo>
                  <a:pt x="0" y="0"/>
                </a:moveTo>
                <a:lnTo>
                  <a:pt x="32592" y="0"/>
                </a:lnTo>
                <a:lnTo>
                  <a:pt x="31192" y="1400"/>
                </a:lnTo>
                <a:lnTo>
                  <a:pt x="1400" y="1400"/>
                </a:lnTo>
                <a:close/>
              </a:path>
              <a:path fill="darken" w="32592" h="21600">
                <a:moveTo>
                  <a:pt x="32592" y="0"/>
                </a:moveTo>
                <a:lnTo>
                  <a:pt x="32592" y="21600"/>
                </a:lnTo>
                <a:lnTo>
                  <a:pt x="31192" y="20200"/>
                </a:lnTo>
                <a:lnTo>
                  <a:pt x="31192" y="1400"/>
                </a:lnTo>
                <a:close/>
              </a:path>
              <a:path fill="darkenLess" w="32592" h="21600">
                <a:moveTo>
                  <a:pt x="325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92" y="20200"/>
                </a:lnTo>
                <a:close/>
              </a:path>
              <a:path fill="lighten" w="325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92" h="21600">
                <a:moveTo>
                  <a:pt x="9289" y="3794"/>
                </a:moveTo>
                <a:lnTo>
                  <a:pt x="23302" y="10800"/>
                </a:lnTo>
                <a:lnTo>
                  <a:pt x="928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5">
            <a:hlinkClick r:id="rId1" action="ppaction://hlinksldjump"/>
          </p:cNvPr>
          <p:cNvSpPr/>
          <p:nvPr/>
        </p:nvSpPr>
        <p:spPr>
          <a:xfrm>
            <a:off x="179280" y="189000"/>
            <a:ext cx="505080" cy="576000"/>
          </a:xfrm>
          <a:custGeom>
            <a:avLst/>
            <a:gdLst>
              <a:gd name="textAreaLeft" fmla="*/ 32760 w 505080"/>
              <a:gd name="textAreaRight" fmla="*/ 472680 w 50508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631">
                <a:moveTo>
                  <a:pt x="0" y="0"/>
                </a:moveTo>
                <a:lnTo>
                  <a:pt x="21600" y="0"/>
                </a:lnTo>
                <a:lnTo>
                  <a:pt x="21600" y="24631"/>
                </a:lnTo>
                <a:lnTo>
                  <a:pt x="0" y="24631"/>
                </a:lnTo>
                <a:close/>
              </a:path>
              <a:path fill="lightenLess" w="21600" h="24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31">
                <a:moveTo>
                  <a:pt x="21600" y="0"/>
                </a:moveTo>
                <a:lnTo>
                  <a:pt x="21600" y="24631"/>
                </a:lnTo>
                <a:lnTo>
                  <a:pt x="20200" y="23231"/>
                </a:lnTo>
                <a:lnTo>
                  <a:pt x="20200" y="1400"/>
                </a:lnTo>
                <a:close/>
              </a:path>
              <a:path fill="darkenLess" w="21600" h="24631">
                <a:moveTo>
                  <a:pt x="21600" y="24631"/>
                </a:moveTo>
                <a:lnTo>
                  <a:pt x="0" y="24631"/>
                </a:lnTo>
                <a:lnTo>
                  <a:pt x="1400" y="23231"/>
                </a:lnTo>
                <a:lnTo>
                  <a:pt x="20200" y="23231"/>
                </a:lnTo>
                <a:close/>
              </a:path>
              <a:path fill="lighten" w="21600" h="24631">
                <a:moveTo>
                  <a:pt x="0" y="24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31"/>
                </a:lnTo>
                <a:close/>
              </a:path>
              <a:path fill="darken" w="21600" h="24631">
                <a:moveTo>
                  <a:pt x="10800" y="5352"/>
                </a:moveTo>
                <a:lnTo>
                  <a:pt x="13376" y="7964"/>
                </a:lnTo>
                <a:lnTo>
                  <a:pt x="13376" y="6223"/>
                </a:lnTo>
                <a:lnTo>
                  <a:pt x="15152" y="6223"/>
                </a:lnTo>
                <a:lnTo>
                  <a:pt x="15152" y="9739"/>
                </a:lnTo>
                <a:lnTo>
                  <a:pt x="17763" y="12315"/>
                </a:lnTo>
                <a:lnTo>
                  <a:pt x="16109" y="12315"/>
                </a:lnTo>
                <a:lnTo>
                  <a:pt x="16109" y="19505"/>
                </a:lnTo>
                <a:lnTo>
                  <a:pt x="5491" y="19505"/>
                </a:lnTo>
                <a:lnTo>
                  <a:pt x="5491" y="12315"/>
                </a:lnTo>
                <a:lnTo>
                  <a:pt x="3837" y="12315"/>
                </a:lnTo>
                <a:close/>
              </a:path>
              <a:path fill="darkenLess" w="21600" h="24631">
                <a:moveTo>
                  <a:pt x="13376" y="7964"/>
                </a:moveTo>
                <a:lnTo>
                  <a:pt x="13376" y="6223"/>
                </a:lnTo>
                <a:lnTo>
                  <a:pt x="15152" y="6223"/>
                </a:lnTo>
                <a:lnTo>
                  <a:pt x="15152" y="9739"/>
                </a:lnTo>
                <a:close/>
              </a:path>
              <a:path fill="darkenLess" w="21600" h="24631">
                <a:moveTo>
                  <a:pt x="9877" y="15814"/>
                </a:moveTo>
                <a:lnTo>
                  <a:pt x="11723" y="15814"/>
                </a:lnTo>
                <a:lnTo>
                  <a:pt x="11723" y="19505"/>
                </a:lnTo>
                <a:lnTo>
                  <a:pt x="16109" y="19505"/>
                </a:lnTo>
                <a:lnTo>
                  <a:pt x="16109" y="12315"/>
                </a:lnTo>
                <a:lnTo>
                  <a:pt x="5491" y="12315"/>
                </a:lnTo>
                <a:lnTo>
                  <a:pt x="5491" y="19505"/>
                </a:lnTo>
                <a:lnTo>
                  <a:pt x="9877" y="1950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ffcc"/>
                                      </p:to>
                                    </p:animClr>
                                    <p:animClr clrSpc="rgb">
                                      <p:cBhvr>
                                        <p:cTn id="23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cc"/>
                                      </p:to>
                                    </p:animClr>
                                    <p:set>
                                      <p:cBhvr>
                                        <p:cTn id="24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82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8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WordArt 9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2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89" name="Text Box 10"/>
          <p:cNvSpPr/>
          <p:nvPr/>
        </p:nvSpPr>
        <p:spPr>
          <a:xfrm>
            <a:off x="7308720" y="54936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1 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1"/>
          <p:cNvSpPr/>
          <p:nvPr/>
        </p:nvSpPr>
        <p:spPr>
          <a:xfrm>
            <a:off x="1403280" y="1844640"/>
            <a:ext cx="4608720" cy="26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 глухим шипящим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Кругл, как мяч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о звонким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Как огонь, горяч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WordArt 13"/>
          <p:cNvSpPr txBox="1"/>
          <p:nvPr/>
        </p:nvSpPr>
        <p:spPr>
          <a:xfrm>
            <a:off x="3492360" y="4941720"/>
            <a:ext cx="2880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Шар - жар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292" name="Rectangle 14"/>
          <p:cNvSpPr/>
          <p:nvPr/>
        </p:nvSpPr>
        <p:spPr>
          <a:xfrm>
            <a:off x="539640" y="189000"/>
            <a:ext cx="6624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ара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15">
            <a:hlinkClick r:id="rId2" action="ppaction://hlinksldjump"/>
          </p:cNvPr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0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95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WordArt 9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3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02" name="Text Box 10"/>
          <p:cNvSpPr/>
          <p:nvPr/>
        </p:nvSpPr>
        <p:spPr>
          <a:xfrm>
            <a:off x="7308720" y="54936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1 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1"/>
          <p:cNvSpPr/>
          <p:nvPr/>
        </p:nvSpPr>
        <p:spPr>
          <a:xfrm>
            <a:off x="611280" y="2060640"/>
            <a:ext cx="8064360" cy="26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Читаем мы направо смело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Геометрическое те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рочтем же справа мы налево -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Увидим разновидность дре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WordArt 13"/>
          <p:cNvSpPr txBox="1"/>
          <p:nvPr/>
        </p:nvSpPr>
        <p:spPr>
          <a:xfrm>
            <a:off x="4932360" y="5157720"/>
            <a:ext cx="2376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Куб - бук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305" name="Rectangle 14"/>
          <p:cNvSpPr/>
          <p:nvPr/>
        </p:nvSpPr>
        <p:spPr>
          <a:xfrm>
            <a:off x="539640" y="189000"/>
            <a:ext cx="6624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ара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15">
            <a:hlinkClick r:id="rId2" action="ppaction://hlinksldjump"/>
          </p:cNvPr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0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08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8"/>
          <p:cNvSpPr/>
          <p:nvPr/>
        </p:nvSpPr>
        <p:spPr>
          <a:xfrm>
            <a:off x="539640" y="189000"/>
            <a:ext cx="6624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еометрия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3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16" name="Text Box 11"/>
          <p:cNvSpPr/>
          <p:nvPr/>
        </p:nvSpPr>
        <p:spPr>
          <a:xfrm>
            <a:off x="7308720" y="54936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2 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WordArt 14"/>
          <p:cNvSpPr txBox="1"/>
          <p:nvPr/>
        </p:nvSpPr>
        <p:spPr>
          <a:xfrm>
            <a:off x="3348000" y="4941720"/>
            <a:ext cx="4896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скрещивающихся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318" name="Text Box 12"/>
          <p:cNvSpPr/>
          <p:nvPr/>
        </p:nvSpPr>
        <p:spPr>
          <a:xfrm>
            <a:off x="611280" y="2205000"/>
            <a:ext cx="806436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Каких прямых на плоскости не существует, а в пространстве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они есть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18">
            <a:hlinkClick r:id="rId2" action="ppaction://hlinksldjump"/>
          </p:cNvPr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21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8"/>
          <p:cNvSpPr/>
          <p:nvPr/>
        </p:nvSpPr>
        <p:spPr>
          <a:xfrm>
            <a:off x="539640" y="189000"/>
            <a:ext cx="6624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колько?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2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29" name="Text Box 11"/>
          <p:cNvSpPr/>
          <p:nvPr/>
        </p:nvSpPr>
        <p:spPr>
          <a:xfrm>
            <a:off x="7308720" y="54936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2 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2"/>
          <p:cNvSpPr/>
          <p:nvPr/>
        </p:nvSpPr>
        <p:spPr>
          <a:xfrm>
            <a:off x="611280" y="2205000"/>
            <a:ext cx="80643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Сколько музыкантов в квинтет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24" descr="arg-5-25-trans-y"/>
          <p:cNvPicPr/>
          <p:nvPr/>
        </p:nvPicPr>
        <p:blipFill>
          <a:blip r:embed="rId2"/>
          <a:stretch/>
        </p:blipFill>
        <p:spPr>
          <a:xfrm>
            <a:off x="4859280" y="3573360"/>
            <a:ext cx="1679760" cy="2087640"/>
          </a:xfrm>
          <a:prstGeom prst="rect">
            <a:avLst/>
          </a:prstGeom>
          <a:ln w="0">
            <a:noFill/>
          </a:ln>
        </p:spPr>
      </p:pic>
      <p:sp>
        <p:nvSpPr>
          <p:cNvPr id="332" name="AutoShape 25">
            <a:hlinkClick r:id="rId3" action="ppaction://hlinksldjump"/>
          </p:cNvPr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0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34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8"/>
          <p:cNvSpPr/>
          <p:nvPr/>
        </p:nvSpPr>
        <p:spPr>
          <a:xfrm>
            <a:off x="539640" y="189000"/>
            <a:ext cx="6624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колько?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3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42" name="Text Box 11"/>
          <p:cNvSpPr/>
          <p:nvPr/>
        </p:nvSpPr>
        <p:spPr>
          <a:xfrm>
            <a:off x="7308720" y="54936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2 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2"/>
          <p:cNvSpPr/>
          <p:nvPr/>
        </p:nvSpPr>
        <p:spPr>
          <a:xfrm>
            <a:off x="611280" y="2205000"/>
            <a:ext cx="80643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а сколько градусов могут поворачивать голову сов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WordArt 14"/>
          <p:cNvSpPr txBox="1"/>
          <p:nvPr/>
        </p:nvSpPr>
        <p:spPr>
          <a:xfrm>
            <a:off x="6156360" y="4365720"/>
            <a:ext cx="1440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270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345" name="WordArt 21"/>
          <p:cNvSpPr txBox="1"/>
          <p:nvPr/>
        </p:nvSpPr>
        <p:spPr>
          <a:xfrm>
            <a:off x="7667640" y="4292640"/>
            <a:ext cx="2174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0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346" name="AutoShape 22">
            <a:hlinkClick r:id="rId2" action="ppaction://hlinksldjump"/>
          </p:cNvPr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0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48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8"/>
          <p:cNvSpPr/>
          <p:nvPr/>
        </p:nvSpPr>
        <p:spPr>
          <a:xfrm>
            <a:off x="539640" y="189000"/>
            <a:ext cx="6624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атематические  омони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1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56" name="Text Box 11"/>
          <p:cNvSpPr/>
          <p:nvPr/>
        </p:nvSpPr>
        <p:spPr>
          <a:xfrm>
            <a:off x="7308720" y="54936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2 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2"/>
          <p:cNvSpPr/>
          <p:nvPr/>
        </p:nvSpPr>
        <p:spPr>
          <a:xfrm>
            <a:off x="826920" y="2133720"/>
            <a:ext cx="7561440" cy="18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е только художник, но и линия, дающая наглядное представление о характере изменения функции.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WordArt 17"/>
          <p:cNvSpPr txBox="1"/>
          <p:nvPr/>
        </p:nvSpPr>
        <p:spPr>
          <a:xfrm>
            <a:off x="5003640" y="4508640"/>
            <a:ext cx="2519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график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359" name="AutoShape 18">
            <a:hlinkClick r:id="rId2" action="ppaction://hlinksldjump"/>
          </p:cNvPr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0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61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2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68" name="Text Box 11"/>
          <p:cNvSpPr/>
          <p:nvPr/>
        </p:nvSpPr>
        <p:spPr>
          <a:xfrm>
            <a:off x="7308720" y="54936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2 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2"/>
          <p:cNvSpPr/>
          <p:nvPr/>
        </p:nvSpPr>
        <p:spPr>
          <a:xfrm>
            <a:off x="468360" y="1700280"/>
            <a:ext cx="806436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е только звание, ранг, чин, но и цифровое или буквенное выражение, показывающее, сколько раз число (или величина) умножается само на себя.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WordArt 14"/>
          <p:cNvSpPr txBox="1"/>
          <p:nvPr/>
        </p:nvSpPr>
        <p:spPr>
          <a:xfrm>
            <a:off x="5508720" y="4797360"/>
            <a:ext cx="244800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степень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371" name="Rectangle 16"/>
          <p:cNvSpPr/>
          <p:nvPr/>
        </p:nvSpPr>
        <p:spPr>
          <a:xfrm>
            <a:off x="539640" y="189000"/>
            <a:ext cx="6624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атематические  омони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17">
            <a:hlinkClick r:id="rId2" action="ppaction://hlinksldjump"/>
          </p:cNvPr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nodeType="clickEffect" fill="hold">
                      <p:stCondLst>
                        <p:cond delay="0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74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3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81" name="Text Box 11"/>
          <p:cNvSpPr/>
          <p:nvPr/>
        </p:nvSpPr>
        <p:spPr>
          <a:xfrm>
            <a:off x="7308720" y="54936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2 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2"/>
          <p:cNvSpPr/>
          <p:nvPr/>
        </p:nvSpPr>
        <p:spPr>
          <a:xfrm>
            <a:off x="1403280" y="2133720"/>
            <a:ext cx="6553440" cy="23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е только углубление, пазуха, длинный замкнутый канал в анатомии, но и тригонометри-ческая функция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WordArt 14"/>
          <p:cNvSpPr txBox="1"/>
          <p:nvPr/>
        </p:nvSpPr>
        <p:spPr>
          <a:xfrm>
            <a:off x="5940360" y="4724280"/>
            <a:ext cx="158436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синус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384" name="Rectangle 16"/>
          <p:cNvSpPr/>
          <p:nvPr/>
        </p:nvSpPr>
        <p:spPr>
          <a:xfrm>
            <a:off x="539640" y="189000"/>
            <a:ext cx="6624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атематические  омони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17">
            <a:hlinkClick r:id="rId2" action="ppaction://hlinksldjump"/>
          </p:cNvPr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0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87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Rectangle 7"/>
          <p:cNvSpPr/>
          <p:nvPr/>
        </p:nvSpPr>
        <p:spPr>
          <a:xfrm>
            <a:off x="1042920" y="117360"/>
            <a:ext cx="7777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Своя игра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                  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II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 отборочный ту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8"/>
          <p:cNvSpPr/>
          <p:nvPr/>
        </p:nvSpPr>
        <p:spPr>
          <a:xfrm>
            <a:off x="179280" y="80316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9"/>
          <p:cNvSpPr/>
          <p:nvPr/>
        </p:nvSpPr>
        <p:spPr>
          <a:xfrm>
            <a:off x="395280" y="2060640"/>
            <a:ext cx="849780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акую форму имеет наша Галакти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арообразну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иральну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ллиптическу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10">
            <a:hlinkClick r:id="" action="ppaction://hlinkshowjump?jump=nextslide"/>
          </p:cNvPr>
          <p:cNvSpPr/>
          <p:nvPr/>
        </p:nvSpPr>
        <p:spPr>
          <a:xfrm>
            <a:off x="8354880" y="6270480"/>
            <a:ext cx="611280" cy="405000"/>
          </a:xfrm>
          <a:custGeom>
            <a:avLst/>
            <a:gdLst>
              <a:gd name="textAreaLeft" fmla="*/ 25920 w 611280"/>
              <a:gd name="textAreaRight" fmla="*/ 585360 w 6112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32592" h="21600">
                <a:moveTo>
                  <a:pt x="0" y="0"/>
                </a:moveTo>
                <a:lnTo>
                  <a:pt x="32592" y="0"/>
                </a:lnTo>
                <a:lnTo>
                  <a:pt x="32592" y="21600"/>
                </a:lnTo>
                <a:lnTo>
                  <a:pt x="0" y="21600"/>
                </a:lnTo>
                <a:close/>
              </a:path>
              <a:path fill="lightenLess" w="32592" h="21600">
                <a:moveTo>
                  <a:pt x="0" y="0"/>
                </a:moveTo>
                <a:lnTo>
                  <a:pt x="32592" y="0"/>
                </a:lnTo>
                <a:lnTo>
                  <a:pt x="31192" y="1400"/>
                </a:lnTo>
                <a:lnTo>
                  <a:pt x="1400" y="1400"/>
                </a:lnTo>
                <a:close/>
              </a:path>
              <a:path fill="darken" w="32592" h="21600">
                <a:moveTo>
                  <a:pt x="32592" y="0"/>
                </a:moveTo>
                <a:lnTo>
                  <a:pt x="32592" y="21600"/>
                </a:lnTo>
                <a:lnTo>
                  <a:pt x="31192" y="20200"/>
                </a:lnTo>
                <a:lnTo>
                  <a:pt x="31192" y="1400"/>
                </a:lnTo>
                <a:close/>
              </a:path>
              <a:path fill="darkenLess" w="32592" h="21600">
                <a:moveTo>
                  <a:pt x="325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92" y="20200"/>
                </a:lnTo>
                <a:close/>
              </a:path>
              <a:path fill="lighten" w="325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92" h="21600">
                <a:moveTo>
                  <a:pt x="9289" y="3794"/>
                </a:moveTo>
                <a:lnTo>
                  <a:pt x="23302" y="10800"/>
                </a:lnTo>
                <a:lnTo>
                  <a:pt x="928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11">
            <a:hlinkClick r:id="rId1" action="ppaction://hlinksldjump"/>
          </p:cNvPr>
          <p:cNvSpPr/>
          <p:nvPr/>
        </p:nvSpPr>
        <p:spPr>
          <a:xfrm>
            <a:off x="179280" y="189000"/>
            <a:ext cx="505080" cy="576000"/>
          </a:xfrm>
          <a:custGeom>
            <a:avLst/>
            <a:gdLst>
              <a:gd name="textAreaLeft" fmla="*/ 32760 w 505080"/>
              <a:gd name="textAreaRight" fmla="*/ 472680 w 50508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631">
                <a:moveTo>
                  <a:pt x="0" y="0"/>
                </a:moveTo>
                <a:lnTo>
                  <a:pt x="21600" y="0"/>
                </a:lnTo>
                <a:lnTo>
                  <a:pt x="21600" y="24631"/>
                </a:lnTo>
                <a:lnTo>
                  <a:pt x="0" y="24631"/>
                </a:lnTo>
                <a:close/>
              </a:path>
              <a:path fill="lightenLess" w="21600" h="24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31">
                <a:moveTo>
                  <a:pt x="21600" y="0"/>
                </a:moveTo>
                <a:lnTo>
                  <a:pt x="21600" y="24631"/>
                </a:lnTo>
                <a:lnTo>
                  <a:pt x="20200" y="23231"/>
                </a:lnTo>
                <a:lnTo>
                  <a:pt x="20200" y="1400"/>
                </a:lnTo>
                <a:close/>
              </a:path>
              <a:path fill="darkenLess" w="21600" h="24631">
                <a:moveTo>
                  <a:pt x="21600" y="24631"/>
                </a:moveTo>
                <a:lnTo>
                  <a:pt x="0" y="24631"/>
                </a:lnTo>
                <a:lnTo>
                  <a:pt x="1400" y="23231"/>
                </a:lnTo>
                <a:lnTo>
                  <a:pt x="20200" y="23231"/>
                </a:lnTo>
                <a:close/>
              </a:path>
              <a:path fill="lighten" w="21600" h="24631">
                <a:moveTo>
                  <a:pt x="0" y="24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31"/>
                </a:lnTo>
                <a:close/>
              </a:path>
              <a:path fill="darken" w="21600" h="24631">
                <a:moveTo>
                  <a:pt x="10800" y="5352"/>
                </a:moveTo>
                <a:lnTo>
                  <a:pt x="13376" y="7964"/>
                </a:lnTo>
                <a:lnTo>
                  <a:pt x="13376" y="6223"/>
                </a:lnTo>
                <a:lnTo>
                  <a:pt x="15152" y="6223"/>
                </a:lnTo>
                <a:lnTo>
                  <a:pt x="15152" y="9739"/>
                </a:lnTo>
                <a:lnTo>
                  <a:pt x="17763" y="12315"/>
                </a:lnTo>
                <a:lnTo>
                  <a:pt x="16109" y="12315"/>
                </a:lnTo>
                <a:lnTo>
                  <a:pt x="16109" y="19505"/>
                </a:lnTo>
                <a:lnTo>
                  <a:pt x="5491" y="19505"/>
                </a:lnTo>
                <a:lnTo>
                  <a:pt x="5491" y="12315"/>
                </a:lnTo>
                <a:lnTo>
                  <a:pt x="3837" y="12315"/>
                </a:lnTo>
                <a:close/>
              </a:path>
              <a:path fill="darkenLess" w="21600" h="24631">
                <a:moveTo>
                  <a:pt x="13376" y="7964"/>
                </a:moveTo>
                <a:lnTo>
                  <a:pt x="13376" y="6223"/>
                </a:lnTo>
                <a:lnTo>
                  <a:pt x="15152" y="6223"/>
                </a:lnTo>
                <a:lnTo>
                  <a:pt x="15152" y="9739"/>
                </a:lnTo>
                <a:close/>
              </a:path>
              <a:path fill="darkenLess" w="21600" h="24631">
                <a:moveTo>
                  <a:pt x="9877" y="15814"/>
                </a:moveTo>
                <a:lnTo>
                  <a:pt x="11723" y="15814"/>
                </a:lnTo>
                <a:lnTo>
                  <a:pt x="11723" y="19505"/>
                </a:lnTo>
                <a:lnTo>
                  <a:pt x="16109" y="19505"/>
                </a:lnTo>
                <a:lnTo>
                  <a:pt x="16109" y="12315"/>
                </a:lnTo>
                <a:lnTo>
                  <a:pt x="5491" y="12315"/>
                </a:lnTo>
                <a:lnTo>
                  <a:pt x="5491" y="19505"/>
                </a:lnTo>
                <a:lnTo>
                  <a:pt x="9877" y="1950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13" dur="50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-1,-52)"/>
                                      </p:to>
                                    </p:set>
                                    <p:set>
                                      <p:cBhvr>
                                        <p:cTn id="614" dur="50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-1,-52)"/>
                                      </p:to>
                                    </p:set>
                                    <p:set>
                                      <p:cBhvr>
                                        <p:cTn id="615" dur="50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97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Rectangle 7"/>
          <p:cNvSpPr/>
          <p:nvPr/>
        </p:nvSpPr>
        <p:spPr>
          <a:xfrm>
            <a:off x="1042920" y="117360"/>
            <a:ext cx="7777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Своя игра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                  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II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 отборочный ту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8"/>
          <p:cNvSpPr/>
          <p:nvPr/>
        </p:nvSpPr>
        <p:spPr>
          <a:xfrm>
            <a:off x="179280" y="80316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9"/>
          <p:cNvSpPr/>
          <p:nvPr/>
        </p:nvSpPr>
        <p:spPr>
          <a:xfrm>
            <a:off x="611280" y="1916280"/>
            <a:ext cx="78483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азвание какого геометрического тела произошло от греческих слов 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«валик»,  «каток»?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а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у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илин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10">
            <a:hlinkClick r:id="" action="ppaction://hlinkshowjump?jump=nextslide"/>
          </p:cNvPr>
          <p:cNvSpPr/>
          <p:nvPr/>
        </p:nvSpPr>
        <p:spPr>
          <a:xfrm>
            <a:off x="8354880" y="6270480"/>
            <a:ext cx="611280" cy="405000"/>
          </a:xfrm>
          <a:custGeom>
            <a:avLst/>
            <a:gdLst>
              <a:gd name="textAreaLeft" fmla="*/ 25920 w 611280"/>
              <a:gd name="textAreaRight" fmla="*/ 585360 w 6112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32592" h="21600">
                <a:moveTo>
                  <a:pt x="0" y="0"/>
                </a:moveTo>
                <a:lnTo>
                  <a:pt x="32592" y="0"/>
                </a:lnTo>
                <a:lnTo>
                  <a:pt x="32592" y="21600"/>
                </a:lnTo>
                <a:lnTo>
                  <a:pt x="0" y="21600"/>
                </a:lnTo>
                <a:close/>
              </a:path>
              <a:path fill="lightenLess" w="32592" h="21600">
                <a:moveTo>
                  <a:pt x="0" y="0"/>
                </a:moveTo>
                <a:lnTo>
                  <a:pt x="32592" y="0"/>
                </a:lnTo>
                <a:lnTo>
                  <a:pt x="31192" y="1400"/>
                </a:lnTo>
                <a:lnTo>
                  <a:pt x="1400" y="1400"/>
                </a:lnTo>
                <a:close/>
              </a:path>
              <a:path fill="darken" w="32592" h="21600">
                <a:moveTo>
                  <a:pt x="32592" y="0"/>
                </a:moveTo>
                <a:lnTo>
                  <a:pt x="32592" y="21600"/>
                </a:lnTo>
                <a:lnTo>
                  <a:pt x="31192" y="20200"/>
                </a:lnTo>
                <a:lnTo>
                  <a:pt x="31192" y="1400"/>
                </a:lnTo>
                <a:close/>
              </a:path>
              <a:path fill="darkenLess" w="32592" h="21600">
                <a:moveTo>
                  <a:pt x="325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92" y="20200"/>
                </a:lnTo>
                <a:close/>
              </a:path>
              <a:path fill="lighten" w="325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92" h="21600">
                <a:moveTo>
                  <a:pt x="9289" y="3794"/>
                </a:moveTo>
                <a:lnTo>
                  <a:pt x="23302" y="10800"/>
                </a:lnTo>
                <a:lnTo>
                  <a:pt x="928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12">
            <a:hlinkClick r:id="rId1" action="ppaction://hlinksldjump"/>
          </p:cNvPr>
          <p:cNvSpPr/>
          <p:nvPr/>
        </p:nvSpPr>
        <p:spPr>
          <a:xfrm>
            <a:off x="179280" y="189000"/>
            <a:ext cx="505080" cy="576000"/>
          </a:xfrm>
          <a:custGeom>
            <a:avLst/>
            <a:gdLst>
              <a:gd name="textAreaLeft" fmla="*/ 32760 w 505080"/>
              <a:gd name="textAreaRight" fmla="*/ 472680 w 50508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631">
                <a:moveTo>
                  <a:pt x="0" y="0"/>
                </a:moveTo>
                <a:lnTo>
                  <a:pt x="21600" y="0"/>
                </a:lnTo>
                <a:lnTo>
                  <a:pt x="21600" y="24631"/>
                </a:lnTo>
                <a:lnTo>
                  <a:pt x="0" y="24631"/>
                </a:lnTo>
                <a:close/>
              </a:path>
              <a:path fill="lightenLess" w="21600" h="24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31">
                <a:moveTo>
                  <a:pt x="21600" y="0"/>
                </a:moveTo>
                <a:lnTo>
                  <a:pt x="21600" y="24631"/>
                </a:lnTo>
                <a:lnTo>
                  <a:pt x="20200" y="23231"/>
                </a:lnTo>
                <a:lnTo>
                  <a:pt x="20200" y="1400"/>
                </a:lnTo>
                <a:close/>
              </a:path>
              <a:path fill="darkenLess" w="21600" h="24631">
                <a:moveTo>
                  <a:pt x="21600" y="24631"/>
                </a:moveTo>
                <a:lnTo>
                  <a:pt x="0" y="24631"/>
                </a:lnTo>
                <a:lnTo>
                  <a:pt x="1400" y="23231"/>
                </a:lnTo>
                <a:lnTo>
                  <a:pt x="20200" y="23231"/>
                </a:lnTo>
                <a:close/>
              </a:path>
              <a:path fill="lighten" w="21600" h="24631">
                <a:moveTo>
                  <a:pt x="0" y="24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31"/>
                </a:lnTo>
                <a:close/>
              </a:path>
              <a:path fill="darken" w="21600" h="24631">
                <a:moveTo>
                  <a:pt x="10800" y="5352"/>
                </a:moveTo>
                <a:lnTo>
                  <a:pt x="13376" y="7964"/>
                </a:lnTo>
                <a:lnTo>
                  <a:pt x="13376" y="6223"/>
                </a:lnTo>
                <a:lnTo>
                  <a:pt x="15152" y="6223"/>
                </a:lnTo>
                <a:lnTo>
                  <a:pt x="15152" y="9739"/>
                </a:lnTo>
                <a:lnTo>
                  <a:pt x="17763" y="12315"/>
                </a:lnTo>
                <a:lnTo>
                  <a:pt x="16109" y="12315"/>
                </a:lnTo>
                <a:lnTo>
                  <a:pt x="16109" y="19505"/>
                </a:lnTo>
                <a:lnTo>
                  <a:pt x="5491" y="19505"/>
                </a:lnTo>
                <a:lnTo>
                  <a:pt x="5491" y="12315"/>
                </a:lnTo>
                <a:lnTo>
                  <a:pt x="3837" y="12315"/>
                </a:lnTo>
                <a:close/>
              </a:path>
              <a:path fill="darkenLess" w="21600" h="24631">
                <a:moveTo>
                  <a:pt x="13376" y="7964"/>
                </a:moveTo>
                <a:lnTo>
                  <a:pt x="13376" y="6223"/>
                </a:lnTo>
                <a:lnTo>
                  <a:pt x="15152" y="6223"/>
                </a:lnTo>
                <a:lnTo>
                  <a:pt x="15152" y="9739"/>
                </a:lnTo>
                <a:close/>
              </a:path>
              <a:path fill="darkenLess" w="21600" h="24631">
                <a:moveTo>
                  <a:pt x="9877" y="15814"/>
                </a:moveTo>
                <a:lnTo>
                  <a:pt x="11723" y="15814"/>
                </a:lnTo>
                <a:lnTo>
                  <a:pt x="11723" y="19505"/>
                </a:lnTo>
                <a:lnTo>
                  <a:pt x="16109" y="19505"/>
                </a:lnTo>
                <a:lnTo>
                  <a:pt x="16109" y="12315"/>
                </a:lnTo>
                <a:lnTo>
                  <a:pt x="5491" y="12315"/>
                </a:lnTo>
                <a:lnTo>
                  <a:pt x="5491" y="19505"/>
                </a:lnTo>
                <a:lnTo>
                  <a:pt x="9877" y="1950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7" dur="500" fill="hold"/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ffcc"/>
                                      </p:to>
                                    </p:animClr>
                                    <p:animClr clrSpc="rgb">
                                      <p:cBhvr>
                                        <p:cTn id="638" dur="500" fill="hold"/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ffcc"/>
                                      </p:to>
                                    </p:animClr>
                                    <p:set>
                                      <p:cBhvr>
                                        <p:cTn id="639" dur="500" fill="hold"/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2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Line 8"/>
          <p:cNvSpPr/>
          <p:nvPr/>
        </p:nvSpPr>
        <p:spPr>
          <a:xfrm>
            <a:off x="179280" y="79200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900000" y="1268280"/>
            <a:ext cx="739152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акой формы глазное яблоко с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арообразно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бическо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ическо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ирамидаль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2">
            <a:hlinkClick r:id="" action="ppaction://hlinkshowjump?jump=nextslide"/>
          </p:cNvPr>
          <p:cNvSpPr/>
          <p:nvPr/>
        </p:nvSpPr>
        <p:spPr>
          <a:xfrm>
            <a:off x="8354880" y="6270480"/>
            <a:ext cx="611280" cy="405000"/>
          </a:xfrm>
          <a:custGeom>
            <a:avLst/>
            <a:gdLst>
              <a:gd name="textAreaLeft" fmla="*/ 25920 w 611280"/>
              <a:gd name="textAreaRight" fmla="*/ 585360 w 6112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32592" h="21600">
                <a:moveTo>
                  <a:pt x="0" y="0"/>
                </a:moveTo>
                <a:lnTo>
                  <a:pt x="32592" y="0"/>
                </a:lnTo>
                <a:lnTo>
                  <a:pt x="32592" y="21600"/>
                </a:lnTo>
                <a:lnTo>
                  <a:pt x="0" y="21600"/>
                </a:lnTo>
                <a:close/>
              </a:path>
              <a:path fill="lightenLess" w="32592" h="21600">
                <a:moveTo>
                  <a:pt x="0" y="0"/>
                </a:moveTo>
                <a:lnTo>
                  <a:pt x="32592" y="0"/>
                </a:lnTo>
                <a:lnTo>
                  <a:pt x="31192" y="1400"/>
                </a:lnTo>
                <a:lnTo>
                  <a:pt x="1400" y="1400"/>
                </a:lnTo>
                <a:close/>
              </a:path>
              <a:path fill="darken" w="32592" h="21600">
                <a:moveTo>
                  <a:pt x="32592" y="0"/>
                </a:moveTo>
                <a:lnTo>
                  <a:pt x="32592" y="21600"/>
                </a:lnTo>
                <a:lnTo>
                  <a:pt x="31192" y="20200"/>
                </a:lnTo>
                <a:lnTo>
                  <a:pt x="31192" y="1400"/>
                </a:lnTo>
                <a:close/>
              </a:path>
              <a:path fill="darkenLess" w="32592" h="21600">
                <a:moveTo>
                  <a:pt x="325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92" y="20200"/>
                </a:lnTo>
                <a:close/>
              </a:path>
              <a:path fill="lighten" w="325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92" h="21600">
                <a:moveTo>
                  <a:pt x="9289" y="3794"/>
                </a:moveTo>
                <a:lnTo>
                  <a:pt x="23302" y="10800"/>
                </a:lnTo>
                <a:lnTo>
                  <a:pt x="928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3"/>
          <p:cNvSpPr/>
          <p:nvPr/>
        </p:nvSpPr>
        <p:spPr>
          <a:xfrm>
            <a:off x="1042920" y="117360"/>
            <a:ext cx="7777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Своя игра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                  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 отборочный ту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4">
            <a:hlinkClick r:id="rId1" action="ppaction://hlinksldjump"/>
          </p:cNvPr>
          <p:cNvSpPr/>
          <p:nvPr/>
        </p:nvSpPr>
        <p:spPr>
          <a:xfrm>
            <a:off x="179280" y="189000"/>
            <a:ext cx="505080" cy="576000"/>
          </a:xfrm>
          <a:custGeom>
            <a:avLst/>
            <a:gdLst>
              <a:gd name="textAreaLeft" fmla="*/ 32760 w 505080"/>
              <a:gd name="textAreaRight" fmla="*/ 472680 w 50508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631">
                <a:moveTo>
                  <a:pt x="0" y="0"/>
                </a:moveTo>
                <a:lnTo>
                  <a:pt x="21600" y="0"/>
                </a:lnTo>
                <a:lnTo>
                  <a:pt x="21600" y="24631"/>
                </a:lnTo>
                <a:lnTo>
                  <a:pt x="0" y="24631"/>
                </a:lnTo>
                <a:close/>
              </a:path>
              <a:path fill="lightenLess" w="21600" h="24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31">
                <a:moveTo>
                  <a:pt x="21600" y="0"/>
                </a:moveTo>
                <a:lnTo>
                  <a:pt x="21600" y="24631"/>
                </a:lnTo>
                <a:lnTo>
                  <a:pt x="20200" y="23231"/>
                </a:lnTo>
                <a:lnTo>
                  <a:pt x="20200" y="1400"/>
                </a:lnTo>
                <a:close/>
              </a:path>
              <a:path fill="darkenLess" w="21600" h="24631">
                <a:moveTo>
                  <a:pt x="21600" y="24631"/>
                </a:moveTo>
                <a:lnTo>
                  <a:pt x="0" y="24631"/>
                </a:lnTo>
                <a:lnTo>
                  <a:pt x="1400" y="23231"/>
                </a:lnTo>
                <a:lnTo>
                  <a:pt x="20200" y="23231"/>
                </a:lnTo>
                <a:close/>
              </a:path>
              <a:path fill="lighten" w="21600" h="24631">
                <a:moveTo>
                  <a:pt x="0" y="24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31"/>
                </a:lnTo>
                <a:close/>
              </a:path>
              <a:path fill="darken" w="21600" h="24631">
                <a:moveTo>
                  <a:pt x="10800" y="5352"/>
                </a:moveTo>
                <a:lnTo>
                  <a:pt x="13376" y="7964"/>
                </a:lnTo>
                <a:lnTo>
                  <a:pt x="13376" y="6223"/>
                </a:lnTo>
                <a:lnTo>
                  <a:pt x="15152" y="6223"/>
                </a:lnTo>
                <a:lnTo>
                  <a:pt x="15152" y="9739"/>
                </a:lnTo>
                <a:lnTo>
                  <a:pt x="17763" y="12315"/>
                </a:lnTo>
                <a:lnTo>
                  <a:pt x="16109" y="12315"/>
                </a:lnTo>
                <a:lnTo>
                  <a:pt x="16109" y="19505"/>
                </a:lnTo>
                <a:lnTo>
                  <a:pt x="5491" y="19505"/>
                </a:lnTo>
                <a:lnTo>
                  <a:pt x="5491" y="12315"/>
                </a:lnTo>
                <a:lnTo>
                  <a:pt x="3837" y="12315"/>
                </a:lnTo>
                <a:close/>
              </a:path>
              <a:path fill="darkenLess" w="21600" h="24631">
                <a:moveTo>
                  <a:pt x="13376" y="7964"/>
                </a:moveTo>
                <a:lnTo>
                  <a:pt x="13376" y="6223"/>
                </a:lnTo>
                <a:lnTo>
                  <a:pt x="15152" y="6223"/>
                </a:lnTo>
                <a:lnTo>
                  <a:pt x="15152" y="9739"/>
                </a:lnTo>
                <a:close/>
              </a:path>
              <a:path fill="darkenLess" w="21600" h="24631">
                <a:moveTo>
                  <a:pt x="9877" y="15814"/>
                </a:moveTo>
                <a:lnTo>
                  <a:pt x="11723" y="15814"/>
                </a:lnTo>
                <a:lnTo>
                  <a:pt x="11723" y="19505"/>
                </a:lnTo>
                <a:lnTo>
                  <a:pt x="16109" y="19505"/>
                </a:lnTo>
                <a:lnTo>
                  <a:pt x="16109" y="12315"/>
                </a:lnTo>
                <a:lnTo>
                  <a:pt x="5491" y="12315"/>
                </a:lnTo>
                <a:lnTo>
                  <a:pt x="5491" y="19505"/>
                </a:lnTo>
                <a:lnTo>
                  <a:pt x="9877" y="1950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ffcc"/>
                                      </p:to>
                                    </p:animClr>
                                    <p:animClr clrSpc="rgb">
                                      <p:cBhvr>
                                        <p:cTn id="52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cc"/>
                                      </p:to>
                                    </p:animClr>
                                    <p:set>
                                      <p:cBhvr>
                                        <p:cTn id="53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07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Rectangle 7"/>
          <p:cNvSpPr/>
          <p:nvPr/>
        </p:nvSpPr>
        <p:spPr>
          <a:xfrm>
            <a:off x="1042920" y="117360"/>
            <a:ext cx="7777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Своя игра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                  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II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 отборочный ту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8"/>
          <p:cNvSpPr/>
          <p:nvPr/>
        </p:nvSpPr>
        <p:spPr>
          <a:xfrm>
            <a:off x="179280" y="80316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9"/>
          <p:cNvSpPr/>
          <p:nvPr/>
        </p:nvSpPr>
        <p:spPr>
          <a:xfrm>
            <a:off x="611280" y="1916280"/>
            <a:ext cx="784836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ак называют точку пересечения медиан треугольник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нтроид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нтурио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нтрифуг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нтав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10">
            <a:hlinkClick r:id="" action="ppaction://hlinkshowjump?jump=nextslide"/>
          </p:cNvPr>
          <p:cNvSpPr/>
          <p:nvPr/>
        </p:nvSpPr>
        <p:spPr>
          <a:xfrm>
            <a:off x="8354880" y="6270480"/>
            <a:ext cx="611280" cy="405000"/>
          </a:xfrm>
          <a:custGeom>
            <a:avLst/>
            <a:gdLst>
              <a:gd name="textAreaLeft" fmla="*/ 25920 w 611280"/>
              <a:gd name="textAreaRight" fmla="*/ 585360 w 6112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32592" h="21600">
                <a:moveTo>
                  <a:pt x="0" y="0"/>
                </a:moveTo>
                <a:lnTo>
                  <a:pt x="32592" y="0"/>
                </a:lnTo>
                <a:lnTo>
                  <a:pt x="32592" y="21600"/>
                </a:lnTo>
                <a:lnTo>
                  <a:pt x="0" y="21600"/>
                </a:lnTo>
                <a:close/>
              </a:path>
              <a:path fill="lightenLess" w="32592" h="21600">
                <a:moveTo>
                  <a:pt x="0" y="0"/>
                </a:moveTo>
                <a:lnTo>
                  <a:pt x="32592" y="0"/>
                </a:lnTo>
                <a:lnTo>
                  <a:pt x="31192" y="1400"/>
                </a:lnTo>
                <a:lnTo>
                  <a:pt x="1400" y="1400"/>
                </a:lnTo>
                <a:close/>
              </a:path>
              <a:path fill="darken" w="32592" h="21600">
                <a:moveTo>
                  <a:pt x="32592" y="0"/>
                </a:moveTo>
                <a:lnTo>
                  <a:pt x="32592" y="21600"/>
                </a:lnTo>
                <a:lnTo>
                  <a:pt x="31192" y="20200"/>
                </a:lnTo>
                <a:lnTo>
                  <a:pt x="31192" y="1400"/>
                </a:lnTo>
                <a:close/>
              </a:path>
              <a:path fill="darkenLess" w="32592" h="21600">
                <a:moveTo>
                  <a:pt x="325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92" y="20200"/>
                </a:lnTo>
                <a:close/>
              </a:path>
              <a:path fill="lighten" w="325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92" h="21600">
                <a:moveTo>
                  <a:pt x="9289" y="3794"/>
                </a:moveTo>
                <a:lnTo>
                  <a:pt x="23302" y="10800"/>
                </a:lnTo>
                <a:lnTo>
                  <a:pt x="928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12">
            <a:hlinkClick r:id="rId1" action="ppaction://hlinksldjump"/>
          </p:cNvPr>
          <p:cNvSpPr/>
          <p:nvPr/>
        </p:nvSpPr>
        <p:spPr>
          <a:xfrm>
            <a:off x="179280" y="189000"/>
            <a:ext cx="505080" cy="576000"/>
          </a:xfrm>
          <a:custGeom>
            <a:avLst/>
            <a:gdLst>
              <a:gd name="textAreaLeft" fmla="*/ 32760 w 505080"/>
              <a:gd name="textAreaRight" fmla="*/ 472680 w 50508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631">
                <a:moveTo>
                  <a:pt x="0" y="0"/>
                </a:moveTo>
                <a:lnTo>
                  <a:pt x="21600" y="0"/>
                </a:lnTo>
                <a:lnTo>
                  <a:pt x="21600" y="24631"/>
                </a:lnTo>
                <a:lnTo>
                  <a:pt x="0" y="24631"/>
                </a:lnTo>
                <a:close/>
              </a:path>
              <a:path fill="lightenLess" w="21600" h="24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31">
                <a:moveTo>
                  <a:pt x="21600" y="0"/>
                </a:moveTo>
                <a:lnTo>
                  <a:pt x="21600" y="24631"/>
                </a:lnTo>
                <a:lnTo>
                  <a:pt x="20200" y="23231"/>
                </a:lnTo>
                <a:lnTo>
                  <a:pt x="20200" y="1400"/>
                </a:lnTo>
                <a:close/>
              </a:path>
              <a:path fill="darkenLess" w="21600" h="24631">
                <a:moveTo>
                  <a:pt x="21600" y="24631"/>
                </a:moveTo>
                <a:lnTo>
                  <a:pt x="0" y="24631"/>
                </a:lnTo>
                <a:lnTo>
                  <a:pt x="1400" y="23231"/>
                </a:lnTo>
                <a:lnTo>
                  <a:pt x="20200" y="23231"/>
                </a:lnTo>
                <a:close/>
              </a:path>
              <a:path fill="lighten" w="21600" h="24631">
                <a:moveTo>
                  <a:pt x="0" y="24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31"/>
                </a:lnTo>
                <a:close/>
              </a:path>
              <a:path fill="darken" w="21600" h="24631">
                <a:moveTo>
                  <a:pt x="10800" y="5352"/>
                </a:moveTo>
                <a:lnTo>
                  <a:pt x="13376" y="7964"/>
                </a:lnTo>
                <a:lnTo>
                  <a:pt x="13376" y="6223"/>
                </a:lnTo>
                <a:lnTo>
                  <a:pt x="15152" y="6223"/>
                </a:lnTo>
                <a:lnTo>
                  <a:pt x="15152" y="9739"/>
                </a:lnTo>
                <a:lnTo>
                  <a:pt x="17763" y="12315"/>
                </a:lnTo>
                <a:lnTo>
                  <a:pt x="16109" y="12315"/>
                </a:lnTo>
                <a:lnTo>
                  <a:pt x="16109" y="19505"/>
                </a:lnTo>
                <a:lnTo>
                  <a:pt x="5491" y="19505"/>
                </a:lnTo>
                <a:lnTo>
                  <a:pt x="5491" y="12315"/>
                </a:lnTo>
                <a:lnTo>
                  <a:pt x="3837" y="12315"/>
                </a:lnTo>
                <a:close/>
              </a:path>
              <a:path fill="darkenLess" w="21600" h="24631">
                <a:moveTo>
                  <a:pt x="13376" y="7964"/>
                </a:moveTo>
                <a:lnTo>
                  <a:pt x="13376" y="6223"/>
                </a:lnTo>
                <a:lnTo>
                  <a:pt x="15152" y="6223"/>
                </a:lnTo>
                <a:lnTo>
                  <a:pt x="15152" y="9739"/>
                </a:lnTo>
                <a:close/>
              </a:path>
              <a:path fill="darkenLess" w="21600" h="24631">
                <a:moveTo>
                  <a:pt x="9877" y="15814"/>
                </a:moveTo>
                <a:lnTo>
                  <a:pt x="11723" y="15814"/>
                </a:lnTo>
                <a:lnTo>
                  <a:pt x="11723" y="19505"/>
                </a:lnTo>
                <a:lnTo>
                  <a:pt x="16109" y="19505"/>
                </a:lnTo>
                <a:lnTo>
                  <a:pt x="16109" y="12315"/>
                </a:lnTo>
                <a:lnTo>
                  <a:pt x="5491" y="12315"/>
                </a:lnTo>
                <a:lnTo>
                  <a:pt x="5491" y="19505"/>
                </a:lnTo>
                <a:lnTo>
                  <a:pt x="9877" y="1950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6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ffcc"/>
                                      </p:to>
                                    </p:animClr>
                                    <p:animClr clrSpc="rgb">
                                      <p:cBhvr>
                                        <p:cTn id="667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ffcc"/>
                                      </p:to>
                                    </p:animClr>
                                    <p:set>
                                      <p:cBhvr>
                                        <p:cTn id="668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17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1" name="Rectangle 7"/>
          <p:cNvSpPr/>
          <p:nvPr/>
        </p:nvSpPr>
        <p:spPr>
          <a:xfrm>
            <a:off x="1042920" y="117360"/>
            <a:ext cx="7777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Своя игра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                  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II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 отборочный ту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8"/>
          <p:cNvSpPr/>
          <p:nvPr/>
        </p:nvSpPr>
        <p:spPr>
          <a:xfrm>
            <a:off x="179280" y="80316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9"/>
          <p:cNvSpPr/>
          <p:nvPr/>
        </p:nvSpPr>
        <p:spPr>
          <a:xfrm>
            <a:off x="611280" y="1916280"/>
            <a:ext cx="784836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ак называется наименьшее количество, наименьшая величин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юш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ютель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ниму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аксиму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11">
            <a:hlinkClick r:id="rId1" action="ppaction://hlinksldjump"/>
          </p:cNvPr>
          <p:cNvSpPr/>
          <p:nvPr/>
        </p:nvSpPr>
        <p:spPr>
          <a:xfrm>
            <a:off x="179280" y="189000"/>
            <a:ext cx="505080" cy="576000"/>
          </a:xfrm>
          <a:custGeom>
            <a:avLst/>
            <a:gdLst>
              <a:gd name="textAreaLeft" fmla="*/ 32760 w 505080"/>
              <a:gd name="textAreaRight" fmla="*/ 472680 w 50508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631">
                <a:moveTo>
                  <a:pt x="0" y="0"/>
                </a:moveTo>
                <a:lnTo>
                  <a:pt x="21600" y="0"/>
                </a:lnTo>
                <a:lnTo>
                  <a:pt x="21600" y="24631"/>
                </a:lnTo>
                <a:lnTo>
                  <a:pt x="0" y="24631"/>
                </a:lnTo>
                <a:close/>
              </a:path>
              <a:path fill="lightenLess" w="21600" h="24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31">
                <a:moveTo>
                  <a:pt x="21600" y="0"/>
                </a:moveTo>
                <a:lnTo>
                  <a:pt x="21600" y="24631"/>
                </a:lnTo>
                <a:lnTo>
                  <a:pt x="20200" y="23231"/>
                </a:lnTo>
                <a:lnTo>
                  <a:pt x="20200" y="1400"/>
                </a:lnTo>
                <a:close/>
              </a:path>
              <a:path fill="darkenLess" w="21600" h="24631">
                <a:moveTo>
                  <a:pt x="21600" y="24631"/>
                </a:moveTo>
                <a:lnTo>
                  <a:pt x="0" y="24631"/>
                </a:lnTo>
                <a:lnTo>
                  <a:pt x="1400" y="23231"/>
                </a:lnTo>
                <a:lnTo>
                  <a:pt x="20200" y="23231"/>
                </a:lnTo>
                <a:close/>
              </a:path>
              <a:path fill="lighten" w="21600" h="24631">
                <a:moveTo>
                  <a:pt x="0" y="24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31"/>
                </a:lnTo>
                <a:close/>
              </a:path>
              <a:path fill="darken" w="21600" h="24631">
                <a:moveTo>
                  <a:pt x="10800" y="5352"/>
                </a:moveTo>
                <a:lnTo>
                  <a:pt x="13376" y="7964"/>
                </a:lnTo>
                <a:lnTo>
                  <a:pt x="13376" y="6223"/>
                </a:lnTo>
                <a:lnTo>
                  <a:pt x="15152" y="6223"/>
                </a:lnTo>
                <a:lnTo>
                  <a:pt x="15152" y="9739"/>
                </a:lnTo>
                <a:lnTo>
                  <a:pt x="17763" y="12315"/>
                </a:lnTo>
                <a:lnTo>
                  <a:pt x="16109" y="12315"/>
                </a:lnTo>
                <a:lnTo>
                  <a:pt x="16109" y="19505"/>
                </a:lnTo>
                <a:lnTo>
                  <a:pt x="5491" y="19505"/>
                </a:lnTo>
                <a:lnTo>
                  <a:pt x="5491" y="12315"/>
                </a:lnTo>
                <a:lnTo>
                  <a:pt x="3837" y="12315"/>
                </a:lnTo>
                <a:close/>
              </a:path>
              <a:path fill="darkenLess" w="21600" h="24631">
                <a:moveTo>
                  <a:pt x="13376" y="7964"/>
                </a:moveTo>
                <a:lnTo>
                  <a:pt x="13376" y="6223"/>
                </a:lnTo>
                <a:lnTo>
                  <a:pt x="15152" y="6223"/>
                </a:lnTo>
                <a:lnTo>
                  <a:pt x="15152" y="9739"/>
                </a:lnTo>
                <a:close/>
              </a:path>
              <a:path fill="darkenLess" w="21600" h="24631">
                <a:moveTo>
                  <a:pt x="9877" y="15814"/>
                </a:moveTo>
                <a:lnTo>
                  <a:pt x="11723" y="15814"/>
                </a:lnTo>
                <a:lnTo>
                  <a:pt x="11723" y="19505"/>
                </a:lnTo>
                <a:lnTo>
                  <a:pt x="16109" y="19505"/>
                </a:lnTo>
                <a:lnTo>
                  <a:pt x="16109" y="12315"/>
                </a:lnTo>
                <a:lnTo>
                  <a:pt x="5491" y="12315"/>
                </a:lnTo>
                <a:lnTo>
                  <a:pt x="5491" y="19505"/>
                </a:lnTo>
                <a:lnTo>
                  <a:pt x="9877" y="1950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4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4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5" dur="500" fill="hold"/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ffcc"/>
                                      </p:to>
                                    </p:animClr>
                                    <p:animClr clrSpc="rgb">
                                      <p:cBhvr>
                                        <p:cTn id="696" dur="500" fill="hold"/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ffcc"/>
                                      </p:to>
                                    </p:animClr>
                                    <p:set>
                                      <p:cBhvr>
                                        <p:cTn id="697" dur="500" fill="hold"/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6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8"/>
          <p:cNvSpPr/>
          <p:nvPr/>
        </p:nvSpPr>
        <p:spPr>
          <a:xfrm>
            <a:off x="1258920" y="189000"/>
            <a:ext cx="590544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бусы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1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4" name="Text Box 11"/>
          <p:cNvSpPr/>
          <p:nvPr/>
        </p:nvSpPr>
        <p:spPr>
          <a:xfrm>
            <a:off x="7308720" y="54936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3 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13">
            <a:hlinkClick r:id="rId2" action="ppaction://hlinksldjump"/>
          </p:cNvPr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WordArt 14"/>
          <p:cNvSpPr txBox="1"/>
          <p:nvPr/>
        </p:nvSpPr>
        <p:spPr>
          <a:xfrm>
            <a:off x="3851280" y="5373720"/>
            <a:ext cx="1584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Угол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437" name="Picture 15" descr="rebus_3"/>
          <p:cNvPicPr/>
          <p:nvPr/>
        </p:nvPicPr>
        <p:blipFill>
          <a:blip r:embed="rId3"/>
          <a:stretch/>
        </p:blipFill>
        <p:spPr>
          <a:xfrm>
            <a:off x="395280" y="1628640"/>
            <a:ext cx="820908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39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2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46" name="Text Box 11"/>
          <p:cNvSpPr/>
          <p:nvPr/>
        </p:nvSpPr>
        <p:spPr>
          <a:xfrm>
            <a:off x="7308720" y="54936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3 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WordArt 14"/>
          <p:cNvSpPr txBox="1"/>
          <p:nvPr/>
        </p:nvSpPr>
        <p:spPr>
          <a:xfrm>
            <a:off x="2987640" y="5229360"/>
            <a:ext cx="2592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Диаметр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448" name="AutoShape 15">
            <a:hlinkClick r:id="rId2" action="ppaction://hlinksldjump"/>
          </p:cNvPr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6"/>
          <p:cNvSpPr/>
          <p:nvPr/>
        </p:nvSpPr>
        <p:spPr>
          <a:xfrm>
            <a:off x="1979640" y="189000"/>
            <a:ext cx="50403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бусы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17" descr="rebus_32"/>
          <p:cNvPicPr/>
          <p:nvPr/>
        </p:nvPicPr>
        <p:blipFill>
          <a:blip r:embed="rId3"/>
          <a:stretch/>
        </p:blipFill>
        <p:spPr>
          <a:xfrm>
            <a:off x="611280" y="1557360"/>
            <a:ext cx="795816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52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3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59" name="Text Box 11"/>
          <p:cNvSpPr/>
          <p:nvPr/>
        </p:nvSpPr>
        <p:spPr>
          <a:xfrm>
            <a:off x="7308720" y="54936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3 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utoShape 16">
            <a:hlinkClick r:id="rId2" action="ppaction://hlinksldjump"/>
          </p:cNvPr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17"/>
          <p:cNvSpPr/>
          <p:nvPr/>
        </p:nvSpPr>
        <p:spPr>
          <a:xfrm>
            <a:off x="539640" y="189000"/>
            <a:ext cx="6624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бусы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Picture 18" descr="rebus_8"/>
          <p:cNvPicPr/>
          <p:nvPr/>
        </p:nvPicPr>
        <p:blipFill>
          <a:blip r:embed="rId3"/>
          <a:stretch/>
        </p:blipFill>
        <p:spPr>
          <a:xfrm>
            <a:off x="395280" y="1700280"/>
            <a:ext cx="8424720" cy="2973240"/>
          </a:xfrm>
          <a:prstGeom prst="rect">
            <a:avLst/>
          </a:prstGeom>
          <a:ln w="0">
            <a:noFill/>
          </a:ln>
        </p:spPr>
      </p:pic>
      <p:sp>
        <p:nvSpPr>
          <p:cNvPr id="463" name="WordArt 19"/>
          <p:cNvSpPr txBox="1"/>
          <p:nvPr/>
        </p:nvSpPr>
        <p:spPr>
          <a:xfrm>
            <a:off x="2916360" y="5229360"/>
            <a:ext cx="4032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Лобачевский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5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8"/>
          <p:cNvSpPr/>
          <p:nvPr/>
        </p:nvSpPr>
        <p:spPr>
          <a:xfrm>
            <a:off x="1116000" y="189000"/>
            <a:ext cx="60483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ссеянный математик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1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73" name="Text Box 11"/>
          <p:cNvSpPr/>
          <p:nvPr/>
        </p:nvSpPr>
        <p:spPr>
          <a:xfrm>
            <a:off x="7308720" y="54936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3 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2"/>
          <p:cNvSpPr/>
          <p:nvPr/>
        </p:nvSpPr>
        <p:spPr>
          <a:xfrm>
            <a:off x="611280" y="2205000"/>
            <a:ext cx="8064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Хотел написать главное занятие врачей, а получился разрез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WordArt 14"/>
          <p:cNvSpPr txBox="1"/>
          <p:nvPr/>
        </p:nvSpPr>
        <p:spPr>
          <a:xfrm>
            <a:off x="2987640" y="4941720"/>
            <a:ext cx="4608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Лечение - сечение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476" name="AutoShape 15">
            <a:hlinkClick r:id="rId2" action="ppaction://hlinksldjump"/>
          </p:cNvPr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nodeType="clickEffect" fill="hold">
                      <p:stCondLst>
                        <p:cond delay="0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78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2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85" name="Text Box 11"/>
          <p:cNvSpPr/>
          <p:nvPr/>
        </p:nvSpPr>
        <p:spPr>
          <a:xfrm>
            <a:off x="7308720" y="54936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3 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12"/>
          <p:cNvSpPr/>
          <p:nvPr/>
        </p:nvSpPr>
        <p:spPr>
          <a:xfrm>
            <a:off x="395280" y="1916280"/>
            <a:ext cx="835200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Хотел написать  название зимнего христианского праздника,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а получилось равенство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WordArt 14"/>
          <p:cNvSpPr txBox="1"/>
          <p:nvPr/>
        </p:nvSpPr>
        <p:spPr>
          <a:xfrm>
            <a:off x="2195640" y="5013360"/>
            <a:ext cx="5905440" cy="5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Рождество - тождество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488" name="AutoShape 15">
            <a:hlinkClick r:id="rId2" action="ppaction://hlinksldjump"/>
          </p:cNvPr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16"/>
          <p:cNvSpPr/>
          <p:nvPr/>
        </p:nvSpPr>
        <p:spPr>
          <a:xfrm>
            <a:off x="1116000" y="189000"/>
            <a:ext cx="60483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ссеянный математик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nodeType="clickEffect" fill="hold">
                      <p:stCondLst>
                        <p:cond delay="0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91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3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98" name="Text Box 11"/>
          <p:cNvSpPr/>
          <p:nvPr/>
        </p:nvSpPr>
        <p:spPr>
          <a:xfrm>
            <a:off x="7308720" y="54936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3 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2"/>
          <p:cNvSpPr/>
          <p:nvPr/>
        </p:nvSpPr>
        <p:spPr>
          <a:xfrm>
            <a:off x="539640" y="2349360"/>
            <a:ext cx="806472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Хотел написать название вознаграждения в коммерции, а получилось геометрическое тело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WordArt 14"/>
          <p:cNvSpPr txBox="1"/>
          <p:nvPr/>
        </p:nvSpPr>
        <p:spPr>
          <a:xfrm>
            <a:off x="3132000" y="5013360"/>
            <a:ext cx="3024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Бонус - конус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501" name="AutoShape 15">
            <a:hlinkClick r:id="rId2" action="ppaction://hlinksldjump"/>
          </p:cNvPr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16"/>
          <p:cNvSpPr/>
          <p:nvPr/>
        </p:nvSpPr>
        <p:spPr>
          <a:xfrm>
            <a:off x="1332000" y="260280"/>
            <a:ext cx="60483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ссеянный математик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nodeType="clickEffect" fill="hold">
                      <p:stCondLst>
                        <p:cond delay="0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04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8"/>
          <p:cNvSpPr/>
          <p:nvPr/>
        </p:nvSpPr>
        <p:spPr>
          <a:xfrm>
            <a:off x="1187280" y="189000"/>
            <a:ext cx="597708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здесущая математика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1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12" name="Text Box 11"/>
          <p:cNvSpPr/>
          <p:nvPr/>
        </p:nvSpPr>
        <p:spPr>
          <a:xfrm>
            <a:off x="7308720" y="54936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3 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12"/>
          <p:cNvSpPr/>
          <p:nvPr/>
        </p:nvSpPr>
        <p:spPr>
          <a:xfrm>
            <a:off x="611280" y="2205000"/>
            <a:ext cx="806436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Над каким предприятием можно увидеть вывеску с надписью «сто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WordArt 14"/>
          <p:cNvSpPr txBox="1"/>
          <p:nvPr/>
        </p:nvSpPr>
        <p:spPr>
          <a:xfrm>
            <a:off x="2556000" y="4581360"/>
            <a:ext cx="5256000" cy="11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Станция  технического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обслуживания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515" name="AutoShape 15">
            <a:hlinkClick r:id="rId2" action="ppaction://hlinksldjump"/>
          </p:cNvPr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nodeType="clickEffect" fill="hold">
                      <p:stCondLst>
                        <p:cond delay="0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7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8"/>
          <p:cNvSpPr/>
          <p:nvPr/>
        </p:nvSpPr>
        <p:spPr>
          <a:xfrm>
            <a:off x="539640" y="189000"/>
            <a:ext cx="6624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овесное  сложение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2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25" name="Text Box 11"/>
          <p:cNvSpPr/>
          <p:nvPr/>
        </p:nvSpPr>
        <p:spPr>
          <a:xfrm>
            <a:off x="7308720" y="54936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3 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12"/>
          <p:cNvSpPr/>
          <p:nvPr/>
        </p:nvSpPr>
        <p:spPr>
          <a:xfrm>
            <a:off x="611280" y="2205000"/>
            <a:ext cx="806436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Певческий коллектив +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+ Положительный ответ =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= Отрезок в окружности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WordArt 14"/>
          <p:cNvSpPr txBox="1"/>
          <p:nvPr/>
        </p:nvSpPr>
        <p:spPr>
          <a:xfrm>
            <a:off x="3132000" y="4797360"/>
            <a:ext cx="4392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Хор + Да  = Хорда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528" name="AutoShape 15">
            <a:hlinkClick r:id="rId2" action="ppaction://hlinksldjump"/>
          </p:cNvPr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nodeType="clickEffect" fill="hold">
                      <p:stCondLst>
                        <p:cond delay="0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2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Line 8"/>
          <p:cNvSpPr/>
          <p:nvPr/>
        </p:nvSpPr>
        <p:spPr>
          <a:xfrm>
            <a:off x="179280" y="80316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0"/>
          <p:cNvSpPr/>
          <p:nvPr/>
        </p:nvSpPr>
        <p:spPr>
          <a:xfrm>
            <a:off x="468360" y="1413000"/>
            <a:ext cx="799128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акова сумма  числа вершин и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ебер куб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16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)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1">
            <a:hlinkClick r:id="rId1" action="ppaction://hlinksldjump"/>
          </p:cNvPr>
          <p:cNvSpPr/>
          <p:nvPr/>
        </p:nvSpPr>
        <p:spPr>
          <a:xfrm>
            <a:off x="179280" y="189000"/>
            <a:ext cx="505080" cy="576000"/>
          </a:xfrm>
          <a:custGeom>
            <a:avLst/>
            <a:gdLst>
              <a:gd name="textAreaLeft" fmla="*/ 32760 w 505080"/>
              <a:gd name="textAreaRight" fmla="*/ 472680 w 50508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631">
                <a:moveTo>
                  <a:pt x="0" y="0"/>
                </a:moveTo>
                <a:lnTo>
                  <a:pt x="21600" y="0"/>
                </a:lnTo>
                <a:lnTo>
                  <a:pt x="21600" y="24631"/>
                </a:lnTo>
                <a:lnTo>
                  <a:pt x="0" y="24631"/>
                </a:lnTo>
                <a:close/>
              </a:path>
              <a:path fill="lightenLess" w="21600" h="24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31">
                <a:moveTo>
                  <a:pt x="21600" y="0"/>
                </a:moveTo>
                <a:lnTo>
                  <a:pt x="21600" y="24631"/>
                </a:lnTo>
                <a:lnTo>
                  <a:pt x="20200" y="23231"/>
                </a:lnTo>
                <a:lnTo>
                  <a:pt x="20200" y="1400"/>
                </a:lnTo>
                <a:close/>
              </a:path>
              <a:path fill="darkenLess" w="21600" h="24631">
                <a:moveTo>
                  <a:pt x="21600" y="24631"/>
                </a:moveTo>
                <a:lnTo>
                  <a:pt x="0" y="24631"/>
                </a:lnTo>
                <a:lnTo>
                  <a:pt x="1400" y="23231"/>
                </a:lnTo>
                <a:lnTo>
                  <a:pt x="20200" y="23231"/>
                </a:lnTo>
                <a:close/>
              </a:path>
              <a:path fill="lighten" w="21600" h="24631">
                <a:moveTo>
                  <a:pt x="0" y="24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31"/>
                </a:lnTo>
                <a:close/>
              </a:path>
              <a:path fill="darken" w="21600" h="24631">
                <a:moveTo>
                  <a:pt x="10800" y="5352"/>
                </a:moveTo>
                <a:lnTo>
                  <a:pt x="13376" y="7964"/>
                </a:lnTo>
                <a:lnTo>
                  <a:pt x="13376" y="6223"/>
                </a:lnTo>
                <a:lnTo>
                  <a:pt x="15152" y="6223"/>
                </a:lnTo>
                <a:lnTo>
                  <a:pt x="15152" y="9739"/>
                </a:lnTo>
                <a:lnTo>
                  <a:pt x="17763" y="12315"/>
                </a:lnTo>
                <a:lnTo>
                  <a:pt x="16109" y="12315"/>
                </a:lnTo>
                <a:lnTo>
                  <a:pt x="16109" y="19505"/>
                </a:lnTo>
                <a:lnTo>
                  <a:pt x="5491" y="19505"/>
                </a:lnTo>
                <a:lnTo>
                  <a:pt x="5491" y="12315"/>
                </a:lnTo>
                <a:lnTo>
                  <a:pt x="3837" y="12315"/>
                </a:lnTo>
                <a:close/>
              </a:path>
              <a:path fill="darkenLess" w="21600" h="24631">
                <a:moveTo>
                  <a:pt x="13376" y="7964"/>
                </a:moveTo>
                <a:lnTo>
                  <a:pt x="13376" y="6223"/>
                </a:lnTo>
                <a:lnTo>
                  <a:pt x="15152" y="6223"/>
                </a:lnTo>
                <a:lnTo>
                  <a:pt x="15152" y="9739"/>
                </a:lnTo>
                <a:close/>
              </a:path>
              <a:path fill="darkenLess" w="21600" h="24631">
                <a:moveTo>
                  <a:pt x="9877" y="15814"/>
                </a:moveTo>
                <a:lnTo>
                  <a:pt x="11723" y="15814"/>
                </a:lnTo>
                <a:lnTo>
                  <a:pt x="11723" y="19505"/>
                </a:lnTo>
                <a:lnTo>
                  <a:pt x="16109" y="19505"/>
                </a:lnTo>
                <a:lnTo>
                  <a:pt x="16109" y="12315"/>
                </a:lnTo>
                <a:lnTo>
                  <a:pt x="5491" y="12315"/>
                </a:lnTo>
                <a:lnTo>
                  <a:pt x="5491" y="19505"/>
                </a:lnTo>
                <a:lnTo>
                  <a:pt x="9877" y="1950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2">
            <a:hlinkClick r:id="" action="ppaction://hlinkshowjump?jump=nextslide"/>
          </p:cNvPr>
          <p:cNvSpPr/>
          <p:nvPr/>
        </p:nvSpPr>
        <p:spPr>
          <a:xfrm>
            <a:off x="8354880" y="6270480"/>
            <a:ext cx="611280" cy="405000"/>
          </a:xfrm>
          <a:custGeom>
            <a:avLst/>
            <a:gdLst>
              <a:gd name="textAreaLeft" fmla="*/ 25920 w 611280"/>
              <a:gd name="textAreaRight" fmla="*/ 585360 w 6112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32592" h="21600">
                <a:moveTo>
                  <a:pt x="0" y="0"/>
                </a:moveTo>
                <a:lnTo>
                  <a:pt x="32592" y="0"/>
                </a:lnTo>
                <a:lnTo>
                  <a:pt x="32592" y="21600"/>
                </a:lnTo>
                <a:lnTo>
                  <a:pt x="0" y="21600"/>
                </a:lnTo>
                <a:close/>
              </a:path>
              <a:path fill="lightenLess" w="32592" h="21600">
                <a:moveTo>
                  <a:pt x="0" y="0"/>
                </a:moveTo>
                <a:lnTo>
                  <a:pt x="32592" y="0"/>
                </a:lnTo>
                <a:lnTo>
                  <a:pt x="31192" y="1400"/>
                </a:lnTo>
                <a:lnTo>
                  <a:pt x="1400" y="1400"/>
                </a:lnTo>
                <a:close/>
              </a:path>
              <a:path fill="darken" w="32592" h="21600">
                <a:moveTo>
                  <a:pt x="32592" y="0"/>
                </a:moveTo>
                <a:lnTo>
                  <a:pt x="32592" y="21600"/>
                </a:lnTo>
                <a:lnTo>
                  <a:pt x="31192" y="20200"/>
                </a:lnTo>
                <a:lnTo>
                  <a:pt x="31192" y="1400"/>
                </a:lnTo>
                <a:close/>
              </a:path>
              <a:path fill="darkenLess" w="32592" h="21600">
                <a:moveTo>
                  <a:pt x="325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92" y="20200"/>
                </a:lnTo>
                <a:close/>
              </a:path>
              <a:path fill="lighten" w="325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92" h="21600">
                <a:moveTo>
                  <a:pt x="9289" y="3794"/>
                </a:moveTo>
                <a:lnTo>
                  <a:pt x="23302" y="10800"/>
                </a:lnTo>
                <a:lnTo>
                  <a:pt x="928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3"/>
          <p:cNvSpPr/>
          <p:nvPr/>
        </p:nvSpPr>
        <p:spPr>
          <a:xfrm>
            <a:off x="1042920" y="117360"/>
            <a:ext cx="7777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Своя игра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                  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 отборочный ту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ffcc"/>
                                      </p:to>
                                    </p:animClr>
                                    <p:animClr clrSpc="rgb">
                                      <p:cBhvr>
                                        <p:cTn id="91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cc"/>
                                      </p:to>
                                    </p:animClr>
                                    <p:set>
                                      <p:cBhvr>
                                        <p:cTn id="92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0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4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3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37" name="Text Box 11"/>
          <p:cNvSpPr/>
          <p:nvPr/>
        </p:nvSpPr>
        <p:spPr>
          <a:xfrm>
            <a:off x="7308720" y="54936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3 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2"/>
          <p:cNvSpPr/>
          <p:nvPr/>
        </p:nvSpPr>
        <p:spPr>
          <a:xfrm>
            <a:off x="324000" y="2060640"/>
            <a:ext cx="8497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Какими единицами массы можно расплачиваться за покупки?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15">
            <a:hlinkClick r:id="rId2" action="ppaction://hlinksldjump"/>
          </p:cNvPr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16"/>
          <p:cNvSpPr/>
          <p:nvPr/>
        </p:nvSpPr>
        <p:spPr>
          <a:xfrm>
            <a:off x="1187280" y="189000"/>
            <a:ext cx="597708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здесущая математика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WordArt 17"/>
          <p:cNvSpPr txBox="1"/>
          <p:nvPr/>
        </p:nvSpPr>
        <p:spPr>
          <a:xfrm>
            <a:off x="3059280" y="4653000"/>
            <a:ext cx="3024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Фунтами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nodeType="clickEffect" fill="hold">
                      <p:stCondLst>
                        <p:cond delay="0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4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3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7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15"/>
          <p:cNvSpPr/>
          <p:nvPr/>
        </p:nvSpPr>
        <p:spPr>
          <a:xfrm>
            <a:off x="1187280" y="260280"/>
            <a:ext cx="6624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Расшифровка»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16"/>
          <p:cNvSpPr/>
          <p:nvPr/>
        </p:nvSpPr>
        <p:spPr>
          <a:xfrm>
            <a:off x="528120" y="2038320"/>
            <a:ext cx="81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ПО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2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Л;      ТУ 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3,14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 ЦА;       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80:2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 А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32">
            <a:hlinkClick r:id="" action="ppaction://hlinkshowjump?jump=nextslide"/>
          </p:cNvPr>
          <p:cNvSpPr/>
          <p:nvPr/>
        </p:nvSpPr>
        <p:spPr>
          <a:xfrm>
            <a:off x="8459640" y="6270480"/>
            <a:ext cx="540000" cy="405000"/>
          </a:xfrm>
          <a:custGeom>
            <a:avLst/>
            <a:gdLst>
              <a:gd name="textAreaLeft" fmla="*/ 25920 w 540000"/>
              <a:gd name="textAreaRight" fmla="*/ 514080 w 54000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0" y="3794"/>
                </a:moveTo>
                <a:lnTo>
                  <a:pt x="21403" y="10800"/>
                </a:lnTo>
                <a:lnTo>
                  <a:pt x="739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WordArt 33"/>
          <p:cNvSpPr txBox="1"/>
          <p:nvPr/>
        </p:nvSpPr>
        <p:spPr>
          <a:xfrm>
            <a:off x="395280" y="3500280"/>
            <a:ext cx="2016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по два л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552" name="WordArt 34"/>
          <p:cNvSpPr txBox="1"/>
          <p:nvPr/>
        </p:nvSpPr>
        <p:spPr>
          <a:xfrm>
            <a:off x="3419640" y="3573360"/>
            <a:ext cx="2304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ту пи ца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553" name="WordArt 35"/>
          <p:cNvSpPr txBox="1"/>
          <p:nvPr/>
        </p:nvSpPr>
        <p:spPr>
          <a:xfrm>
            <a:off x="6659640" y="3500280"/>
            <a:ext cx="1800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сорок а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6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55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8"/>
          <p:cNvSpPr/>
          <p:nvPr/>
        </p:nvSpPr>
        <p:spPr>
          <a:xfrm>
            <a:off x="971640" y="189000"/>
            <a:ext cx="6192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овесное сложение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1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63" name="Text Box 11"/>
          <p:cNvSpPr/>
          <p:nvPr/>
        </p:nvSpPr>
        <p:spPr>
          <a:xfrm>
            <a:off x="7093080" y="54936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фин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12"/>
          <p:cNvSpPr/>
          <p:nvPr/>
        </p:nvSpPr>
        <p:spPr>
          <a:xfrm>
            <a:off x="611280" y="2205000"/>
            <a:ext cx="8064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Нота + Множество деревьев =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= Древнегреческий математик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utoShape 13">
            <a:hlinkClick r:id="rId2" action="ppaction://hlinksldjump"/>
          </p:cNvPr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WordArt 14"/>
          <p:cNvSpPr txBox="1"/>
          <p:nvPr/>
        </p:nvSpPr>
        <p:spPr>
          <a:xfrm>
            <a:off x="2771640" y="4941720"/>
            <a:ext cx="3888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Фа - Лес = Фалес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nodeType="clickEffect" fill="hold">
                      <p:stCondLst>
                        <p:cond delay="0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8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68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2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75" name="Text Box 11"/>
          <p:cNvSpPr/>
          <p:nvPr/>
        </p:nvSpPr>
        <p:spPr>
          <a:xfrm>
            <a:off x="7020000" y="549360"/>
            <a:ext cx="11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фин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12"/>
          <p:cNvSpPr/>
          <p:nvPr/>
        </p:nvSpPr>
        <p:spPr>
          <a:xfrm>
            <a:off x="539640" y="1916280"/>
            <a:ext cx="806472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толетие + Математический бублик = = Отрезок определенной длины и направления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AutoShape 13"/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WordArt 14"/>
          <p:cNvSpPr txBox="1"/>
          <p:nvPr/>
        </p:nvSpPr>
        <p:spPr>
          <a:xfrm>
            <a:off x="2340000" y="4724280"/>
            <a:ext cx="47530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Век + Тор = Вектор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579" name="Rectangle 16"/>
          <p:cNvSpPr/>
          <p:nvPr/>
        </p:nvSpPr>
        <p:spPr>
          <a:xfrm>
            <a:off x="971640" y="189000"/>
            <a:ext cx="6192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овесное сложение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nodeType="clickEffect" fill="hold">
                      <p:stCondLst>
                        <p:cond delay="0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3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81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8"/>
          <p:cNvSpPr/>
          <p:nvPr/>
        </p:nvSpPr>
        <p:spPr>
          <a:xfrm>
            <a:off x="539640" y="189000"/>
            <a:ext cx="6624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атематическая анаграм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2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89" name="Text Box 11"/>
          <p:cNvSpPr/>
          <p:nvPr/>
        </p:nvSpPr>
        <p:spPr>
          <a:xfrm>
            <a:off x="7020000" y="549360"/>
            <a:ext cx="11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фин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12"/>
          <p:cNvSpPr/>
          <p:nvPr/>
        </p:nvSpPr>
        <p:spPr>
          <a:xfrm>
            <a:off x="539640" y="1916280"/>
            <a:ext cx="806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КОТ +  САН + ГЕН    </a:t>
            </a:r>
            <a:r>
              <a:rPr b="1" lang="ru-RU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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 тригонометрическая функция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AutoShape 13"/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WordArt 14"/>
          <p:cNvSpPr txBox="1"/>
          <p:nvPr/>
        </p:nvSpPr>
        <p:spPr>
          <a:xfrm>
            <a:off x="3276720" y="4365720"/>
            <a:ext cx="2952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Котангенс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4" dur="indefinite" restart="never" nodeType="tmRoot">
          <p:childTnLst>
            <p:seq>
              <p:cTn id="875" dur="indefinite" nodeType="mainSeq">
                <p:childTnLst>
                  <p:par>
                    <p:cTn id="876" nodeType="clickEffect" fill="hold">
                      <p:stCondLst>
                        <p:cond delay="0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8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94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8"/>
          <p:cNvSpPr/>
          <p:nvPr/>
        </p:nvSpPr>
        <p:spPr>
          <a:xfrm>
            <a:off x="539640" y="189000"/>
            <a:ext cx="6624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атематика в лиц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1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02" name="Text Box 11"/>
          <p:cNvSpPr/>
          <p:nvPr/>
        </p:nvSpPr>
        <p:spPr>
          <a:xfrm>
            <a:off x="7093080" y="54936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фин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12"/>
          <p:cNvSpPr/>
          <p:nvPr/>
        </p:nvSpPr>
        <p:spPr>
          <a:xfrm>
            <a:off x="611280" y="1844640"/>
            <a:ext cx="820872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О какой науке Цицерон сказал: «Греки изучали её, чтобы познать мир, а римляне – чтобы измерять земельные участки»?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AutoShape 13"/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WordArt 14"/>
          <p:cNvSpPr txBox="1"/>
          <p:nvPr/>
        </p:nvSpPr>
        <p:spPr>
          <a:xfrm>
            <a:off x="3348000" y="5084640"/>
            <a:ext cx="3240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О геометрии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nodeType="clickEffect" fill="hold">
                      <p:stCondLst>
                        <p:cond delay="0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3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07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1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2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14" name="Text Box 11"/>
          <p:cNvSpPr/>
          <p:nvPr/>
        </p:nvSpPr>
        <p:spPr>
          <a:xfrm>
            <a:off x="7093080" y="54936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фин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12"/>
          <p:cNvSpPr/>
          <p:nvPr/>
        </p:nvSpPr>
        <p:spPr>
          <a:xfrm>
            <a:off x="611280" y="1844640"/>
            <a:ext cx="806436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Кому принадлежат эти строки: «Математику уже затем учить надо, что она ум в порядок приводит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AutoShape 13"/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WordArt 14"/>
          <p:cNvSpPr txBox="1"/>
          <p:nvPr/>
        </p:nvSpPr>
        <p:spPr>
          <a:xfrm>
            <a:off x="2268360" y="4941720"/>
            <a:ext cx="4392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М. В. Ломоносову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618" name="Rectangle 15"/>
          <p:cNvSpPr/>
          <p:nvPr/>
        </p:nvSpPr>
        <p:spPr>
          <a:xfrm>
            <a:off x="539640" y="189000"/>
            <a:ext cx="6624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атематика в лиц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nodeType="clickEffect" fill="hold">
                      <p:stCondLst>
                        <p:cond delay="0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8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20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4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3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27" name="Text Box 11"/>
          <p:cNvSpPr/>
          <p:nvPr/>
        </p:nvSpPr>
        <p:spPr>
          <a:xfrm>
            <a:off x="7093080" y="54936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фин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12"/>
          <p:cNvSpPr/>
          <p:nvPr/>
        </p:nvSpPr>
        <p:spPr>
          <a:xfrm>
            <a:off x="611280" y="2205000"/>
            <a:ext cx="806436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Кто  в 15 книгах под общим  названием «Начала»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подвел итог 300-летнему развитию греческой  математики?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AutoShape 13"/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WordArt 14"/>
          <p:cNvSpPr txBox="1"/>
          <p:nvPr/>
        </p:nvSpPr>
        <p:spPr>
          <a:xfrm>
            <a:off x="3564000" y="5300640"/>
            <a:ext cx="2160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Евклид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631" name="Rectangle 15"/>
          <p:cNvSpPr/>
          <p:nvPr/>
        </p:nvSpPr>
        <p:spPr>
          <a:xfrm>
            <a:off x="539640" y="189000"/>
            <a:ext cx="6624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атематика в лиц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nodeType="clickEffect" fill="hold">
                      <p:stCondLst>
                        <p:cond delay="0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3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33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7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8"/>
          <p:cNvSpPr/>
          <p:nvPr/>
        </p:nvSpPr>
        <p:spPr>
          <a:xfrm>
            <a:off x="1187280" y="189000"/>
            <a:ext cx="597708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дним словом - фразу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1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41" name="Text Box 11"/>
          <p:cNvSpPr/>
          <p:nvPr/>
        </p:nvSpPr>
        <p:spPr>
          <a:xfrm>
            <a:off x="7093080" y="54936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фин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12"/>
          <p:cNvSpPr/>
          <p:nvPr/>
        </p:nvSpPr>
        <p:spPr>
          <a:xfrm>
            <a:off x="611280" y="2205000"/>
            <a:ext cx="806436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«Третья степень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первой буквы алфавита» - 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государство в Америке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AutoShape 13"/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WordArt 14"/>
          <p:cNvSpPr txBox="1"/>
          <p:nvPr/>
        </p:nvSpPr>
        <p:spPr>
          <a:xfrm>
            <a:off x="2340000" y="5013360"/>
            <a:ext cx="5327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Куб - а     Куба  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645" name="Rectangle 15"/>
          <p:cNvSpPr/>
          <p:nvPr/>
        </p:nvSpPr>
        <p:spPr>
          <a:xfrm>
            <a:off x="5067000" y="4949280"/>
            <a:ext cx="50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Wingdings 3"/>
                <a:ea typeface="Wingdings 3"/>
              </a:rPr>
              <a:t>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nodeType="clickEffect" fill="hold">
                      <p:stCondLst>
                        <p:cond delay="0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6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9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47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1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2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54" name="Text Box 11"/>
          <p:cNvSpPr/>
          <p:nvPr/>
        </p:nvSpPr>
        <p:spPr>
          <a:xfrm>
            <a:off x="7093080" y="54936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фин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12"/>
          <p:cNvSpPr/>
          <p:nvPr/>
        </p:nvSpPr>
        <p:spPr>
          <a:xfrm>
            <a:off x="611280" y="2205000"/>
            <a:ext cx="806436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«Гектар, на котором ничего не выросло» -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наркотик из индийской конопли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AutoShape 13"/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WordArt 14"/>
          <p:cNvSpPr txBox="1"/>
          <p:nvPr/>
        </p:nvSpPr>
        <p:spPr>
          <a:xfrm>
            <a:off x="1763640" y="5229360"/>
            <a:ext cx="59040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Га - шиш       Гашиш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658" name="Rectangle 17"/>
          <p:cNvSpPr/>
          <p:nvPr/>
        </p:nvSpPr>
        <p:spPr>
          <a:xfrm>
            <a:off x="1187280" y="189000"/>
            <a:ext cx="597708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дним словом - фразу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18"/>
          <p:cNvSpPr/>
          <p:nvPr/>
        </p:nvSpPr>
        <p:spPr>
          <a:xfrm>
            <a:off x="4851000" y="5228640"/>
            <a:ext cx="50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Wingdings 3"/>
                <a:ea typeface="Wingdings 3"/>
              </a:rPr>
              <a:t>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nodeType="clickEffect" fill="hold">
                      <p:stCondLst>
                        <p:cond delay="0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2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5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2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Line 8"/>
          <p:cNvSpPr/>
          <p:nvPr/>
        </p:nvSpPr>
        <p:spPr>
          <a:xfrm>
            <a:off x="179280" y="80316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395280" y="1773360"/>
            <a:ext cx="8497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акой из четырёхугольник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е является параллелограмм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вадра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мб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ямоугольни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апе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1">
            <a:hlinkClick r:id="rId1" action="ppaction://hlinksldjump"/>
          </p:cNvPr>
          <p:cNvSpPr/>
          <p:nvPr/>
        </p:nvSpPr>
        <p:spPr>
          <a:xfrm>
            <a:off x="179280" y="189000"/>
            <a:ext cx="505080" cy="576000"/>
          </a:xfrm>
          <a:custGeom>
            <a:avLst/>
            <a:gdLst>
              <a:gd name="textAreaLeft" fmla="*/ 32760 w 505080"/>
              <a:gd name="textAreaRight" fmla="*/ 472680 w 50508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631">
                <a:moveTo>
                  <a:pt x="0" y="0"/>
                </a:moveTo>
                <a:lnTo>
                  <a:pt x="21600" y="0"/>
                </a:lnTo>
                <a:lnTo>
                  <a:pt x="21600" y="24631"/>
                </a:lnTo>
                <a:lnTo>
                  <a:pt x="0" y="24631"/>
                </a:lnTo>
                <a:close/>
              </a:path>
              <a:path fill="lightenLess" w="21600" h="24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31">
                <a:moveTo>
                  <a:pt x="21600" y="0"/>
                </a:moveTo>
                <a:lnTo>
                  <a:pt x="21600" y="24631"/>
                </a:lnTo>
                <a:lnTo>
                  <a:pt x="20200" y="23231"/>
                </a:lnTo>
                <a:lnTo>
                  <a:pt x="20200" y="1400"/>
                </a:lnTo>
                <a:close/>
              </a:path>
              <a:path fill="darkenLess" w="21600" h="24631">
                <a:moveTo>
                  <a:pt x="21600" y="24631"/>
                </a:moveTo>
                <a:lnTo>
                  <a:pt x="0" y="24631"/>
                </a:lnTo>
                <a:lnTo>
                  <a:pt x="1400" y="23231"/>
                </a:lnTo>
                <a:lnTo>
                  <a:pt x="20200" y="23231"/>
                </a:lnTo>
                <a:close/>
              </a:path>
              <a:path fill="lighten" w="21600" h="24631">
                <a:moveTo>
                  <a:pt x="0" y="24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31"/>
                </a:lnTo>
                <a:close/>
              </a:path>
              <a:path fill="darken" w="21600" h="24631">
                <a:moveTo>
                  <a:pt x="10800" y="5352"/>
                </a:moveTo>
                <a:lnTo>
                  <a:pt x="13376" y="7964"/>
                </a:lnTo>
                <a:lnTo>
                  <a:pt x="13376" y="6223"/>
                </a:lnTo>
                <a:lnTo>
                  <a:pt x="15152" y="6223"/>
                </a:lnTo>
                <a:lnTo>
                  <a:pt x="15152" y="9739"/>
                </a:lnTo>
                <a:lnTo>
                  <a:pt x="17763" y="12315"/>
                </a:lnTo>
                <a:lnTo>
                  <a:pt x="16109" y="12315"/>
                </a:lnTo>
                <a:lnTo>
                  <a:pt x="16109" y="19505"/>
                </a:lnTo>
                <a:lnTo>
                  <a:pt x="5491" y="19505"/>
                </a:lnTo>
                <a:lnTo>
                  <a:pt x="5491" y="12315"/>
                </a:lnTo>
                <a:lnTo>
                  <a:pt x="3837" y="12315"/>
                </a:lnTo>
                <a:close/>
              </a:path>
              <a:path fill="darkenLess" w="21600" h="24631">
                <a:moveTo>
                  <a:pt x="13376" y="7964"/>
                </a:moveTo>
                <a:lnTo>
                  <a:pt x="13376" y="6223"/>
                </a:lnTo>
                <a:lnTo>
                  <a:pt x="15152" y="6223"/>
                </a:lnTo>
                <a:lnTo>
                  <a:pt x="15152" y="9739"/>
                </a:lnTo>
                <a:close/>
              </a:path>
              <a:path fill="darkenLess" w="21600" h="24631">
                <a:moveTo>
                  <a:pt x="9877" y="15814"/>
                </a:moveTo>
                <a:lnTo>
                  <a:pt x="11723" y="15814"/>
                </a:lnTo>
                <a:lnTo>
                  <a:pt x="11723" y="19505"/>
                </a:lnTo>
                <a:lnTo>
                  <a:pt x="16109" y="19505"/>
                </a:lnTo>
                <a:lnTo>
                  <a:pt x="16109" y="12315"/>
                </a:lnTo>
                <a:lnTo>
                  <a:pt x="5491" y="12315"/>
                </a:lnTo>
                <a:lnTo>
                  <a:pt x="5491" y="19505"/>
                </a:lnTo>
                <a:lnTo>
                  <a:pt x="9877" y="1950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2">
            <a:hlinkClick r:id="" action="ppaction://hlinkshowjump?jump=nextslide"/>
          </p:cNvPr>
          <p:cNvSpPr/>
          <p:nvPr/>
        </p:nvSpPr>
        <p:spPr>
          <a:xfrm>
            <a:off x="8354880" y="6270480"/>
            <a:ext cx="611280" cy="405000"/>
          </a:xfrm>
          <a:custGeom>
            <a:avLst/>
            <a:gdLst>
              <a:gd name="textAreaLeft" fmla="*/ 25920 w 611280"/>
              <a:gd name="textAreaRight" fmla="*/ 585360 w 6112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32592" h="21600">
                <a:moveTo>
                  <a:pt x="0" y="0"/>
                </a:moveTo>
                <a:lnTo>
                  <a:pt x="32592" y="0"/>
                </a:lnTo>
                <a:lnTo>
                  <a:pt x="32592" y="21600"/>
                </a:lnTo>
                <a:lnTo>
                  <a:pt x="0" y="21600"/>
                </a:lnTo>
                <a:close/>
              </a:path>
              <a:path fill="lightenLess" w="32592" h="21600">
                <a:moveTo>
                  <a:pt x="0" y="0"/>
                </a:moveTo>
                <a:lnTo>
                  <a:pt x="32592" y="0"/>
                </a:lnTo>
                <a:lnTo>
                  <a:pt x="31192" y="1400"/>
                </a:lnTo>
                <a:lnTo>
                  <a:pt x="1400" y="1400"/>
                </a:lnTo>
                <a:close/>
              </a:path>
              <a:path fill="darken" w="32592" h="21600">
                <a:moveTo>
                  <a:pt x="32592" y="0"/>
                </a:moveTo>
                <a:lnTo>
                  <a:pt x="32592" y="21600"/>
                </a:lnTo>
                <a:lnTo>
                  <a:pt x="31192" y="20200"/>
                </a:lnTo>
                <a:lnTo>
                  <a:pt x="31192" y="1400"/>
                </a:lnTo>
                <a:close/>
              </a:path>
              <a:path fill="darkenLess" w="32592" h="21600">
                <a:moveTo>
                  <a:pt x="325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92" y="20200"/>
                </a:lnTo>
                <a:close/>
              </a:path>
              <a:path fill="lighten" w="325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92" h="21600">
                <a:moveTo>
                  <a:pt x="9289" y="3794"/>
                </a:moveTo>
                <a:lnTo>
                  <a:pt x="23302" y="10800"/>
                </a:lnTo>
                <a:lnTo>
                  <a:pt x="928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3"/>
          <p:cNvSpPr/>
          <p:nvPr/>
        </p:nvSpPr>
        <p:spPr>
          <a:xfrm>
            <a:off x="1042920" y="117360"/>
            <a:ext cx="7777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Своя игра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                  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 отборочный ту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ffcc"/>
                                      </p:to>
                                    </p:animClr>
                                    <p:animClr clrSpc="rgb">
                                      <p:cBhvr>
                                        <p:cTn id="120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cc"/>
                                      </p:to>
                                    </p:animClr>
                                    <p:set>
                                      <p:cBhvr>
                                        <p:cTn id="121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61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5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3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68" name="Text Box 11"/>
          <p:cNvSpPr/>
          <p:nvPr/>
        </p:nvSpPr>
        <p:spPr>
          <a:xfrm>
            <a:off x="7093080" y="54936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фин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12"/>
          <p:cNvSpPr/>
          <p:nvPr/>
        </p:nvSpPr>
        <p:spPr>
          <a:xfrm>
            <a:off x="611280" y="2205000"/>
            <a:ext cx="806436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«Танцевальное движение единицы объема» -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инструментарий живописца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AutoShape 13"/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WordArt 14"/>
          <p:cNvSpPr txBox="1"/>
          <p:nvPr/>
        </p:nvSpPr>
        <p:spPr>
          <a:xfrm>
            <a:off x="1763640" y="5084640"/>
            <a:ext cx="5977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Па - литра      Палитра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672" name="Rectangle 17"/>
          <p:cNvSpPr/>
          <p:nvPr/>
        </p:nvSpPr>
        <p:spPr>
          <a:xfrm>
            <a:off x="1187280" y="189000"/>
            <a:ext cx="597708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дним словом - фразу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18"/>
          <p:cNvSpPr/>
          <p:nvPr/>
        </p:nvSpPr>
        <p:spPr>
          <a:xfrm>
            <a:off x="4777920" y="5012640"/>
            <a:ext cx="50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Wingdings 3"/>
                <a:ea typeface="Wingdings 3"/>
              </a:rPr>
              <a:t>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nodeType="clickEffect" fill="hold">
                      <p:stCondLst>
                        <p:cond delay="0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nodeType="clickEffect" fill="hold">
                      <p:stCondLst>
                        <p:cond delay="indefinite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8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75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9" name="WordArt 14"/>
          <p:cNvSpPr txBox="1"/>
          <p:nvPr/>
        </p:nvSpPr>
        <p:spPr>
          <a:xfrm>
            <a:off x="1332000" y="476280"/>
            <a:ext cx="684036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бед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80" name="Picture 16" descr="stars"/>
          <p:cNvPicPr/>
          <p:nvPr/>
        </p:nvPicPr>
        <p:blipFill>
          <a:blip r:embed="rId1"/>
          <a:stretch/>
        </p:blipFill>
        <p:spPr>
          <a:xfrm>
            <a:off x="3276720" y="2925720"/>
            <a:ext cx="2458800" cy="227664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17" descr="b1"/>
          <p:cNvPicPr/>
          <p:nvPr/>
        </p:nvPicPr>
        <p:blipFill>
          <a:blip r:embed="rId2"/>
          <a:stretch/>
        </p:blipFill>
        <p:spPr>
          <a:xfrm rot="1256400">
            <a:off x="5508360" y="3068640"/>
            <a:ext cx="1771560" cy="251928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18" descr="b1"/>
          <p:cNvPicPr/>
          <p:nvPr/>
        </p:nvPicPr>
        <p:blipFill>
          <a:blip r:embed="rId3"/>
          <a:stretch/>
        </p:blipFill>
        <p:spPr>
          <a:xfrm rot="20162400">
            <a:off x="1979640" y="3298680"/>
            <a:ext cx="177156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4"/>
          <p:cNvSpPr/>
          <p:nvPr/>
        </p:nvSpPr>
        <p:spPr>
          <a:xfrm>
            <a:off x="250920" y="1700280"/>
            <a:ext cx="8675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геева И.Д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анимательные материалы по информатике и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математике. Методическое пособие.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.: ТЦ Сфера, 2005. – 240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одическая разработка «Ребусы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авченко Е.М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Мурманская обл.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Полярные Зори, МОУ гимназия № 1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gu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Картинки  http://www.gifpark.su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2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Line 8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2"/>
          <p:cNvSpPr/>
          <p:nvPr/>
        </p:nvSpPr>
        <p:spPr>
          <a:xfrm>
            <a:off x="539640" y="189000"/>
            <a:ext cx="6624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гадки с математическим уклоном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3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WordArt 14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1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7308720" y="54936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1 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1619280" y="1916280"/>
            <a:ext cx="59040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Семи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цветный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полукру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Из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семи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широких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ду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WordArt 17"/>
          <p:cNvSpPr txBox="1"/>
          <p:nvPr/>
        </p:nvSpPr>
        <p:spPr>
          <a:xfrm>
            <a:off x="2484360" y="4869000"/>
            <a:ext cx="1800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Радуга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03" name="AutoShape 18">
            <a:hlinkClick r:id="rId2" action="ppaction://hlinksldjump"/>
          </p:cNvPr>
          <p:cNvSpPr/>
          <p:nvPr/>
        </p:nvSpPr>
        <p:spPr>
          <a:xfrm>
            <a:off x="179280" y="6165720"/>
            <a:ext cx="505080" cy="5032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77" h="21600">
                <a:moveTo>
                  <a:pt x="0" y="0"/>
                </a:moveTo>
                <a:lnTo>
                  <a:pt x="21677" y="0"/>
                </a:lnTo>
                <a:lnTo>
                  <a:pt x="21677" y="21600"/>
                </a:lnTo>
                <a:lnTo>
                  <a:pt x="0" y="21600"/>
                </a:lnTo>
                <a:close/>
              </a:path>
              <a:path fill="lightenLess" w="21677" h="21600">
                <a:moveTo>
                  <a:pt x="0" y="0"/>
                </a:moveTo>
                <a:lnTo>
                  <a:pt x="21677" y="0"/>
                </a:lnTo>
                <a:lnTo>
                  <a:pt x="20277" y="1400"/>
                </a:lnTo>
                <a:lnTo>
                  <a:pt x="1400" y="1400"/>
                </a:lnTo>
                <a:close/>
              </a:path>
              <a:path fill="darken" w="21677" h="21600">
                <a:moveTo>
                  <a:pt x="21677" y="0"/>
                </a:moveTo>
                <a:lnTo>
                  <a:pt x="21677" y="21600"/>
                </a:lnTo>
                <a:lnTo>
                  <a:pt x="20277" y="20200"/>
                </a:lnTo>
                <a:lnTo>
                  <a:pt x="20277" y="1400"/>
                </a:lnTo>
                <a:close/>
              </a:path>
              <a:path fill="darkenLess" w="21677" h="21600">
                <a:moveTo>
                  <a:pt x="21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7" y="20200"/>
                </a:lnTo>
                <a:close/>
              </a:path>
              <a:path fill="lighten" w="21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7" h="21600">
                <a:moveTo>
                  <a:pt x="10839" y="3837"/>
                </a:moveTo>
                <a:lnTo>
                  <a:pt x="13415" y="6448"/>
                </a:lnTo>
                <a:lnTo>
                  <a:pt x="13415" y="4707"/>
                </a:lnTo>
                <a:lnTo>
                  <a:pt x="15190" y="4707"/>
                </a:lnTo>
                <a:lnTo>
                  <a:pt x="15190" y="8224"/>
                </a:lnTo>
                <a:lnTo>
                  <a:pt x="17802" y="10800"/>
                </a:lnTo>
                <a:lnTo>
                  <a:pt x="16148" y="10800"/>
                </a:lnTo>
                <a:lnTo>
                  <a:pt x="16148" y="17989"/>
                </a:lnTo>
                <a:lnTo>
                  <a:pt x="5529" y="17989"/>
                </a:lnTo>
                <a:lnTo>
                  <a:pt x="5529" y="10800"/>
                </a:lnTo>
                <a:lnTo>
                  <a:pt x="3876" y="10800"/>
                </a:lnTo>
                <a:close/>
              </a:path>
              <a:path fill="darkenLess" w="21677" h="21600">
                <a:moveTo>
                  <a:pt x="13415" y="6448"/>
                </a:moveTo>
                <a:lnTo>
                  <a:pt x="13415" y="4707"/>
                </a:lnTo>
                <a:lnTo>
                  <a:pt x="15190" y="4707"/>
                </a:lnTo>
                <a:lnTo>
                  <a:pt x="15190" y="8224"/>
                </a:lnTo>
                <a:close/>
              </a:path>
              <a:path fill="darkenLess" w="21677" h="21600">
                <a:moveTo>
                  <a:pt x="9916" y="14299"/>
                </a:moveTo>
                <a:lnTo>
                  <a:pt x="11761" y="14299"/>
                </a:lnTo>
                <a:lnTo>
                  <a:pt x="11761" y="17989"/>
                </a:lnTo>
                <a:lnTo>
                  <a:pt x="16148" y="17989"/>
                </a:lnTo>
                <a:lnTo>
                  <a:pt x="16148" y="10800"/>
                </a:lnTo>
                <a:lnTo>
                  <a:pt x="5529" y="10800"/>
                </a:lnTo>
                <a:lnTo>
                  <a:pt x="5529" y="17989"/>
                </a:lnTo>
                <a:lnTo>
                  <a:pt x="9916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0" descr="r1"/>
          <p:cNvPicPr/>
          <p:nvPr/>
        </p:nvPicPr>
        <p:blipFill>
          <a:blip r:embed="rId3"/>
          <a:stretch/>
        </p:blipFill>
        <p:spPr>
          <a:xfrm>
            <a:off x="4716360" y="4005360"/>
            <a:ext cx="2808360" cy="14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6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2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308720" y="54936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1 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611280" y="1557360"/>
            <a:ext cx="5545080" cy="29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Шевелились у цвет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Все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 четыре 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лепест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Я сорвать его хотел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Он вспорхнул и улете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4">
            <a:hlinkClick r:id="rId2" action="ppaction://hlinksldjump"/>
          </p:cNvPr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WordArt 17"/>
          <p:cNvSpPr txBox="1"/>
          <p:nvPr/>
        </p:nvSpPr>
        <p:spPr>
          <a:xfrm>
            <a:off x="2484360" y="5013360"/>
            <a:ext cx="2664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Бабочка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17" name="Rectangle 19"/>
          <p:cNvSpPr/>
          <p:nvPr/>
        </p:nvSpPr>
        <p:spPr>
          <a:xfrm>
            <a:off x="539640" y="189000"/>
            <a:ext cx="6624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гадки с математическим уклоном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3" descr="B_Fly20"/>
          <p:cNvPicPr/>
          <p:nvPr/>
        </p:nvPicPr>
        <p:blipFill>
          <a:blip r:embed="rId3"/>
          <a:stretch/>
        </p:blipFill>
        <p:spPr>
          <a:xfrm>
            <a:off x="5651640" y="4292640"/>
            <a:ext cx="215892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0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3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7308720" y="54936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1 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611280" y="2205000"/>
            <a:ext cx="8064360" cy="12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Два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стоят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, два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лежат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, пятый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ходит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Шестой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водит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, седьмой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песенки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поет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3">
            <a:hlinkClick r:id="rId2" action="ppaction://hlinksldjump"/>
          </p:cNvPr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WordArt 14"/>
          <p:cNvSpPr txBox="1"/>
          <p:nvPr/>
        </p:nvSpPr>
        <p:spPr>
          <a:xfrm>
            <a:off x="3348000" y="5013360"/>
            <a:ext cx="1800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Дверь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31" name="Rectangle 30"/>
          <p:cNvSpPr/>
          <p:nvPr/>
        </p:nvSpPr>
        <p:spPr>
          <a:xfrm>
            <a:off x="539640" y="189000"/>
            <a:ext cx="6624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гадки с математическим уклоном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1" descr="d7"/>
          <p:cNvPicPr/>
          <p:nvPr/>
        </p:nvPicPr>
        <p:blipFill>
          <a:blip r:embed="rId3"/>
          <a:stretch/>
        </p:blipFill>
        <p:spPr>
          <a:xfrm>
            <a:off x="5796000" y="4365720"/>
            <a:ext cx="97164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34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1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1" name="Text Box 11"/>
          <p:cNvSpPr/>
          <p:nvPr/>
        </p:nvSpPr>
        <p:spPr>
          <a:xfrm>
            <a:off x="7308720" y="54936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1 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2"/>
          <p:cNvSpPr/>
          <p:nvPr/>
        </p:nvSpPr>
        <p:spPr>
          <a:xfrm>
            <a:off x="468360" y="1484280"/>
            <a:ext cx="8064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ЗА_ _ _ _ _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(процесс заострения предме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3">
            <a:hlinkClick r:id="rId2" action="ppaction://hlinksldjump"/>
          </p:cNvPr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WordArt 14"/>
          <p:cNvSpPr txBox="1"/>
          <p:nvPr/>
        </p:nvSpPr>
        <p:spPr>
          <a:xfrm>
            <a:off x="5435640" y="5445000"/>
            <a:ext cx="2160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точка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45" name="Text Box 28"/>
          <p:cNvSpPr/>
          <p:nvPr/>
        </p:nvSpPr>
        <p:spPr>
          <a:xfrm>
            <a:off x="468360" y="2205000"/>
            <a:ext cx="8064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ВЫ_ _ _ _ _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(конструктивный элемент одежд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9"/>
          <p:cNvSpPr/>
          <p:nvPr/>
        </p:nvSpPr>
        <p:spPr>
          <a:xfrm>
            <a:off x="468360" y="2924280"/>
            <a:ext cx="8064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ФОР_ _ _ _ _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(часть ок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0"/>
          <p:cNvSpPr/>
          <p:nvPr/>
        </p:nvSpPr>
        <p:spPr>
          <a:xfrm>
            <a:off x="468360" y="3645000"/>
            <a:ext cx="8064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ЛАС_ _ _ _ _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(птиц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1"/>
          <p:cNvSpPr/>
          <p:nvPr/>
        </p:nvSpPr>
        <p:spPr>
          <a:xfrm>
            <a:off x="468360" y="4365720"/>
            <a:ext cx="8064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КИС_ _ _ _ _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(инструмент художни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2"/>
          <p:cNvSpPr/>
          <p:nvPr/>
        </p:nvSpPr>
        <p:spPr>
          <a:xfrm>
            <a:off x="539640" y="189000"/>
            <a:ext cx="6624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еомет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0T11:02:27Z</dcterms:created>
  <dc:creator>Customer</dc:creator>
  <dc:description/>
  <dc:language>en-US</dc:language>
  <cp:lastModifiedBy>Ирина Игоревна Егорова</cp:lastModifiedBy>
  <dcterms:modified xsi:type="dcterms:W3CDTF">2018-06-22T06:38:24Z</dcterms:modified>
  <cp:revision>80</cp:revision>
  <dc:subject/>
  <dc:title>Слайд 1</dc:title>
</cp:coreProperties>
</file>