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gif" ContentType="image/gif"/>
  <Override PartName="/ppt/media/chimes.wav" ContentType="audio/x-wav"/>
  <Override PartName="/ppt/media/image8.png" ContentType="image/png"/>
  <Override PartName="/ppt/media/image5.jpeg" ContentType="image/jpeg"/>
  <Override PartName="/ppt/media/image6.gif" ContentType="image/gif"/>
  <Override PartName="/ppt/media/image11.gif" ContentType="image/gif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86D7-F33F-418C-A381-AAF1959B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32D-E2BB-4C47-9134-60D12DB5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7F6-3B05-4A6D-AA28-7BD37102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20D-EFD0-4442-8C9A-F5A84272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CBE-2D1C-412C-9904-9B79E8E0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A13-59B6-4305-97D9-574DEA80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2F97-B034-409B-A620-10399903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066C-863A-463D-9317-7C410490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2068-387C-4F7F-91C4-0E29DD1E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C93-7EF0-4208-AF0F-7D63EB3C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860-6AC9-4DBE-A785-B8D04999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CFD-4428-47A7-8E06-B9928F6A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05D4-CF05-401E-A06B-CA28E8C4D4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2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8"/>
          <p:cNvSpPr/>
          <p:nvPr/>
        </p:nvSpPr>
        <p:spPr>
          <a:xfrm>
            <a:off x="1547640" y="260280"/>
            <a:ext cx="583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БПОУ  г. Москвы « Первый Московский образовательный комплек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116000" y="3878280"/>
            <a:ext cx="73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(Внеклассное мероприятие по математике для обучающихся 1-2 курс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24000" y="1341360"/>
            <a:ext cx="84582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99"/>
                </a:solidFill>
                <a:latin typeface="Arial"/>
              </a:rPr>
              <a:t>Викторина</a:t>
            </a:r>
            <a:br>
              <a:rPr sz="4000"/>
            </a:br>
            <a:r>
              <a:rPr b="1" lang="ru-RU" sz="7200" spc="-1" strike="noStrike">
                <a:solidFill>
                  <a:srgbClr val="99ff99"/>
                </a:solidFill>
                <a:latin typeface="Arial"/>
              </a:rPr>
              <a:t>«Своя  игр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932360" y="494172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подаватель: Егорова  И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995640" y="6093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900000" y="1989000"/>
            <a:ext cx="73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Многогранник из Египта – э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14"/>
          <p:cNvSpPr txBox="1"/>
          <p:nvPr/>
        </p:nvSpPr>
        <p:spPr>
          <a:xfrm>
            <a:off x="3132000" y="479736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ирамид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9" descr="arxit6.jpg"/>
          <p:cNvPicPr/>
          <p:nvPr/>
        </p:nvPicPr>
        <p:blipFill>
          <a:blip r:embed="rId3"/>
          <a:stretch/>
        </p:blipFill>
        <p:spPr>
          <a:xfrm>
            <a:off x="6084720" y="4724280"/>
            <a:ext cx="1828800" cy="125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5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14"/>
          <p:cNvSpPr txBox="1"/>
          <p:nvPr/>
        </p:nvSpPr>
        <p:spPr>
          <a:xfrm>
            <a:off x="5796000" y="4941720"/>
            <a:ext cx="165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омб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75" name="Rectangle 25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900000" y="1989000"/>
            <a:ext cx="7417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Назовите геометрическую фигуру  на петлицах высших офицеров Красной Армии в беспогонную эпох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8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гадай слово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684360" y="1773360"/>
            <a:ext cx="2089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Тверд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2700360" y="1773360"/>
            <a:ext cx="2160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жидк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716360" y="1773360"/>
            <a:ext cx="338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газообразн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826920" y="2565360"/>
            <a:ext cx="194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гол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2411280" y="2565360"/>
            <a:ext cx="2519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мертв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4427640" y="2565360"/>
            <a:ext cx="3960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геометрическое…</a:t>
            </a:r>
            <a:r>
              <a:rPr b="0" lang="ru-RU" sz="3200" spc="-1" strike="noStrike">
                <a:solidFill>
                  <a:srgbClr val="ebe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5076720" y="3933720"/>
            <a:ext cx="2665440" cy="8636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те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6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гадай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684360" y="1773360"/>
            <a:ext cx="259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Служеб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419640" y="1773360"/>
            <a:ext cx="216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глав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5364000" y="1781280"/>
            <a:ext cx="338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важ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755640" y="2565360"/>
            <a:ext cx="2376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основ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3419640" y="2565360"/>
            <a:ext cx="360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монотон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755640" y="3357720"/>
            <a:ext cx="3960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возрастающ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3995640" y="3357720"/>
            <a:ext cx="3097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убывающ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826920" y="4076640"/>
            <a:ext cx="396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периодичес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4356000" y="4052880"/>
            <a:ext cx="396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линейна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5"/>
          <p:cNvSpPr/>
          <p:nvPr/>
        </p:nvSpPr>
        <p:spPr>
          <a:xfrm>
            <a:off x="5364000" y="5013360"/>
            <a:ext cx="2665440" cy="8636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функ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ов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11280" y="2205000"/>
            <a:ext cx="80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 заканчивается известная пословица: «Ясно, как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15"/>
          <p:cNvSpPr txBox="1"/>
          <p:nvPr/>
        </p:nvSpPr>
        <p:spPr>
          <a:xfrm>
            <a:off x="4500720" y="4076640"/>
            <a:ext cx="3097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дважды  дв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826920" y="1484280"/>
            <a:ext cx="73915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 называется популярная в 1930-е годы акробатическая фигура, составленная спортсменами, стоящими друг на друг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линд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рами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н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1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2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376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826920" y="1484280"/>
            <a:ext cx="739152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напоминает геометрическое тело, называющееся тор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бл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гал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нде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бат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1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4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406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826920" y="1484280"/>
            <a:ext cx="7921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ой геометрический термин произошёл от греческого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измерение вокруг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мет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ё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поверх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0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1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435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826920" y="1484280"/>
            <a:ext cx="79218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называется отрезок прямой, соединяющий две какие-либо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чки окружности?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кущ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459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9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468360" y="1484280"/>
            <a:ext cx="80643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ль в треугольнике угол пря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Я называюсь его сторо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укву последнюю мне поменя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уду, как ветер, вас по морю м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WordArt 14"/>
          <p:cNvSpPr txBox="1"/>
          <p:nvPr/>
        </p:nvSpPr>
        <p:spPr>
          <a:xfrm>
            <a:off x="3203640" y="5013360"/>
            <a:ext cx="381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атет - катер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4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9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826920" y="1484280"/>
            <a:ext cx="73915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 называется знаменитая картина Пабло Пикасс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вочка на трапеци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«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а на шаре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вочка на куб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animClr clrSpc="rgb">
                                      <p:cBhvr>
                                        <p:cTn id="2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set>
                                      <p:cBhvr>
                                        <p:cTn id="2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WordArt 9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1403280" y="1844640"/>
            <a:ext cx="460872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 глухим шипящи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ругл, как мяч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 звонки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ак огонь, горя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13"/>
          <p:cNvSpPr txBox="1"/>
          <p:nvPr/>
        </p:nvSpPr>
        <p:spPr>
          <a:xfrm>
            <a:off x="3492360" y="4941720"/>
            <a:ext cx="288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Шар - жар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5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WordArt 9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611280" y="2060640"/>
            <a:ext cx="80643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итаем мы направо смел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еометрическое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чтем же справа мы налево 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видим разновидность др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WordArt 13"/>
          <p:cNvSpPr txBox="1"/>
          <p:nvPr/>
        </p:nvSpPr>
        <p:spPr>
          <a:xfrm>
            <a:off x="4932360" y="5157720"/>
            <a:ext cx="23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уб - бук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8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WordArt 14"/>
          <p:cNvSpPr txBox="1"/>
          <p:nvPr/>
        </p:nvSpPr>
        <p:spPr>
          <a:xfrm>
            <a:off x="3348000" y="4941720"/>
            <a:ext cx="489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крещивающихся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их прямых на плоскости не существует, а в пространстве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ни ес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8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?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611280" y="2205000"/>
            <a:ext cx="8064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колько музыкантов в квинте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4" descr="arg-5-25-trans-y"/>
          <p:cNvPicPr/>
          <p:nvPr/>
        </p:nvPicPr>
        <p:blipFill>
          <a:blip r:embed="rId2"/>
          <a:stretch/>
        </p:blipFill>
        <p:spPr>
          <a:xfrm>
            <a:off x="4859280" y="3573360"/>
            <a:ext cx="1679760" cy="208764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25">
            <a:hlinkClick r:id="rId3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34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?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611280" y="2205000"/>
            <a:ext cx="8064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 сколько градусов могут поворачивать голову со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WordArt 14"/>
          <p:cNvSpPr txBox="1"/>
          <p:nvPr/>
        </p:nvSpPr>
        <p:spPr>
          <a:xfrm>
            <a:off x="6156360" y="4365720"/>
            <a:ext cx="14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270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45" name="WordArt 21"/>
          <p:cNvSpPr txBox="1"/>
          <p:nvPr/>
        </p:nvSpPr>
        <p:spPr>
          <a:xfrm>
            <a:off x="7667640" y="4292640"/>
            <a:ext cx="217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0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46" name="AutoShape 22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48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ие  ом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826920" y="2133720"/>
            <a:ext cx="756144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 только художник, но и линия, дающая наглядное представление о характере изменения функции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17"/>
          <p:cNvSpPr txBox="1"/>
          <p:nvPr/>
        </p:nvSpPr>
        <p:spPr>
          <a:xfrm>
            <a:off x="5003640" y="4508640"/>
            <a:ext cx="251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рафик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59" name="AutoShape 18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2"/>
          <p:cNvSpPr/>
          <p:nvPr/>
        </p:nvSpPr>
        <p:spPr>
          <a:xfrm>
            <a:off x="468360" y="1700280"/>
            <a:ext cx="80643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 только звание, ранг, чин, но и цифровое или буквенное выражение, показывающее, сколько раз число (или величина) умножается само на себя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WordArt 14"/>
          <p:cNvSpPr txBox="1"/>
          <p:nvPr/>
        </p:nvSpPr>
        <p:spPr>
          <a:xfrm>
            <a:off x="5508720" y="4797360"/>
            <a:ext cx="2448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тепень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71" name="Rectangle 16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ие  ом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7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4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1403280" y="2133720"/>
            <a:ext cx="655344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 только углубление, пазуха, длинный замкнутый канал в анатомии, но и тригонометри-ческая функция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WordArt 14"/>
          <p:cNvSpPr txBox="1"/>
          <p:nvPr/>
        </p:nvSpPr>
        <p:spPr>
          <a:xfrm>
            <a:off x="5940360" y="4724280"/>
            <a:ext cx="1584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инус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ие  ом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7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8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395280" y="2060640"/>
            <a:ext cx="8497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ую форму имеет наша Галакт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ообразну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ральну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липтическ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0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1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,-52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,-52)"/>
                                      </p:to>
                                    </p:set>
                                    <p:set>
                                      <p:cBhvr>
                                        <p:cTn id="615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9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611280" y="1916280"/>
            <a:ext cx="784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звание какого геометрического тела произошло от греческих слов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валик»,  «каток»?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лин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0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7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638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639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8"/>
          <p:cNvSpPr/>
          <p:nvPr/>
        </p:nvSpPr>
        <p:spPr>
          <a:xfrm>
            <a:off x="179280" y="79200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900000" y="1268280"/>
            <a:ext cx="73915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ой формы глазное яблоко 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ообразн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бическ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ическ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ирамидаль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4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611280" y="1916280"/>
            <a:ext cx="78483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называют точку пересечения медиан треугольни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ои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урио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ифу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ав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0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2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667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668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611280" y="1916280"/>
            <a:ext cx="78483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называется наименьшее количество, наименьшая велич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юш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ютель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у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ксим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1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5" dur="5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696" dur="5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697" dur="5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6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1258920" y="189000"/>
            <a:ext cx="5905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бусы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WordArt 14"/>
          <p:cNvSpPr txBox="1"/>
          <p:nvPr/>
        </p:nvSpPr>
        <p:spPr>
          <a:xfrm>
            <a:off x="3851280" y="5373720"/>
            <a:ext cx="158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Угол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37" name="Picture 15" descr="rebus_3"/>
          <p:cNvPicPr/>
          <p:nvPr/>
        </p:nvPicPr>
        <p:blipFill>
          <a:blip r:embed="rId3"/>
          <a:stretch/>
        </p:blipFill>
        <p:spPr>
          <a:xfrm>
            <a:off x="395280" y="1628640"/>
            <a:ext cx="82090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9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WordArt 14"/>
          <p:cNvSpPr txBox="1"/>
          <p:nvPr/>
        </p:nvSpPr>
        <p:spPr>
          <a:xfrm>
            <a:off x="2987640" y="522936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Диаметр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48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6"/>
          <p:cNvSpPr/>
          <p:nvPr/>
        </p:nvSpPr>
        <p:spPr>
          <a:xfrm>
            <a:off x="1979640" y="189000"/>
            <a:ext cx="5040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бусы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7" descr="rebus_32"/>
          <p:cNvPicPr/>
          <p:nvPr/>
        </p:nvPicPr>
        <p:blipFill>
          <a:blip r:embed="rId3"/>
          <a:stretch/>
        </p:blipFill>
        <p:spPr>
          <a:xfrm>
            <a:off x="611280" y="1557360"/>
            <a:ext cx="79581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9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6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7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бусы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18" descr="rebus_8"/>
          <p:cNvPicPr/>
          <p:nvPr/>
        </p:nvPicPr>
        <p:blipFill>
          <a:blip r:embed="rId3"/>
          <a:stretch/>
        </p:blipFill>
        <p:spPr>
          <a:xfrm>
            <a:off x="395280" y="1700280"/>
            <a:ext cx="8424720" cy="2973240"/>
          </a:xfrm>
          <a:prstGeom prst="rect">
            <a:avLst/>
          </a:prstGeom>
          <a:ln w="0">
            <a:noFill/>
          </a:ln>
        </p:spPr>
      </p:pic>
      <p:sp>
        <p:nvSpPr>
          <p:cNvPr id="463" name="WordArt 19"/>
          <p:cNvSpPr txBox="1"/>
          <p:nvPr/>
        </p:nvSpPr>
        <p:spPr>
          <a:xfrm>
            <a:off x="2916360" y="5229360"/>
            <a:ext cx="403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Лобачевский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1116000" y="189000"/>
            <a:ext cx="6048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еянный математик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3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611280" y="2205000"/>
            <a:ext cx="80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Хотел написать главное занятие врачей, а получился разрез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WordArt 14"/>
          <p:cNvSpPr txBox="1"/>
          <p:nvPr/>
        </p:nvSpPr>
        <p:spPr>
          <a:xfrm>
            <a:off x="2987640" y="4941720"/>
            <a:ext cx="4608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Лечение - сечение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76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0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8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395280" y="1916280"/>
            <a:ext cx="8352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Хотел написать  название зимнего христианского праздника,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 получилось равенство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WordArt 14"/>
          <p:cNvSpPr txBox="1"/>
          <p:nvPr/>
        </p:nvSpPr>
        <p:spPr>
          <a:xfrm>
            <a:off x="2195640" y="5013360"/>
            <a:ext cx="59054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ождество - тождество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88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6"/>
          <p:cNvSpPr/>
          <p:nvPr/>
        </p:nvSpPr>
        <p:spPr>
          <a:xfrm>
            <a:off x="1116000" y="189000"/>
            <a:ext cx="6048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еянный математик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8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2"/>
          <p:cNvSpPr/>
          <p:nvPr/>
        </p:nvSpPr>
        <p:spPr>
          <a:xfrm>
            <a:off x="539640" y="2349360"/>
            <a:ext cx="8064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Хотел написать название вознаграждения в коммерции, а получилось геометрическое тело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WordArt 14"/>
          <p:cNvSpPr txBox="1"/>
          <p:nvPr/>
        </p:nvSpPr>
        <p:spPr>
          <a:xfrm>
            <a:off x="3132000" y="5013360"/>
            <a:ext cx="302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Бонус - конус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01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6"/>
          <p:cNvSpPr/>
          <p:nvPr/>
        </p:nvSpPr>
        <p:spPr>
          <a:xfrm>
            <a:off x="1332000" y="260280"/>
            <a:ext cx="6048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еянный математик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0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4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8"/>
          <p:cNvSpPr/>
          <p:nvPr/>
        </p:nvSpPr>
        <p:spPr>
          <a:xfrm>
            <a:off x="1187280" y="189000"/>
            <a:ext cx="59770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здесущая математик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д каким предприятием можно увидеть вывеску с надписью «сто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14"/>
          <p:cNvSpPr txBox="1"/>
          <p:nvPr/>
        </p:nvSpPr>
        <p:spPr>
          <a:xfrm>
            <a:off x="2556000" y="4581360"/>
            <a:ext cx="525600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танция  технического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обслуживания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15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0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ое  сложение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5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евческий коллектив +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+ Положительный ответ =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= Отрезок в окружности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WordArt 14"/>
          <p:cNvSpPr txBox="1"/>
          <p:nvPr/>
        </p:nvSpPr>
        <p:spPr>
          <a:xfrm>
            <a:off x="3132000" y="4797360"/>
            <a:ext cx="43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Хор + Да  = Хорд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28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0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468360" y="1413000"/>
            <a:ext cx="79912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ова сумма  числа вершин и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бер куб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324000" y="2060640"/>
            <a:ext cx="8497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акими единицами массы можно расплачиваться за покупки?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6"/>
          <p:cNvSpPr/>
          <p:nvPr/>
        </p:nvSpPr>
        <p:spPr>
          <a:xfrm>
            <a:off x="1187280" y="189000"/>
            <a:ext cx="59770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здесущая математик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WordArt 17"/>
          <p:cNvSpPr txBox="1"/>
          <p:nvPr/>
        </p:nvSpPr>
        <p:spPr>
          <a:xfrm>
            <a:off x="3059280" y="465300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унтами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0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3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5"/>
          <p:cNvSpPr/>
          <p:nvPr/>
        </p:nvSpPr>
        <p:spPr>
          <a:xfrm>
            <a:off x="1187280" y="26028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Расшифровка»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6"/>
          <p:cNvSpPr/>
          <p:nvPr/>
        </p:nvSpPr>
        <p:spPr>
          <a:xfrm>
            <a:off x="528120" y="2038320"/>
            <a:ext cx="81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Л;      ТУ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,14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ЦА;    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0:2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А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2">
            <a:hlinkClick r:id="" action="ppaction://hlinkshowjump?jump=nextslide"/>
          </p:cNvPr>
          <p:cNvSpPr/>
          <p:nvPr/>
        </p:nvSpPr>
        <p:spPr>
          <a:xfrm>
            <a:off x="8459640" y="6270480"/>
            <a:ext cx="540000" cy="40500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WordArt 33"/>
          <p:cNvSpPr txBox="1"/>
          <p:nvPr/>
        </p:nvSpPr>
        <p:spPr>
          <a:xfrm>
            <a:off x="395280" y="3500280"/>
            <a:ext cx="201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о два л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52" name="WordArt 34"/>
          <p:cNvSpPr txBox="1"/>
          <p:nvPr/>
        </p:nvSpPr>
        <p:spPr>
          <a:xfrm>
            <a:off x="3419640" y="3573360"/>
            <a:ext cx="230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ту пи ц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53" name="WordArt 35"/>
          <p:cNvSpPr txBox="1"/>
          <p:nvPr/>
        </p:nvSpPr>
        <p:spPr>
          <a:xfrm>
            <a:off x="6659640" y="3500280"/>
            <a:ext cx="180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орок 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5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971640" y="189000"/>
            <a:ext cx="61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ое сложение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611280" y="2205000"/>
            <a:ext cx="80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ота + Множество деревьев =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= Древнегреческий математик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WordArt 14"/>
          <p:cNvSpPr txBox="1"/>
          <p:nvPr/>
        </p:nvSpPr>
        <p:spPr>
          <a:xfrm>
            <a:off x="2771640" y="4941720"/>
            <a:ext cx="388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а - Лес = Фалес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0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8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7020000" y="54936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2"/>
          <p:cNvSpPr/>
          <p:nvPr/>
        </p:nvSpPr>
        <p:spPr>
          <a:xfrm>
            <a:off x="539640" y="1916280"/>
            <a:ext cx="8064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толетие + Математический бублик = = Отрезок определенной длины и направлени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WordArt 14"/>
          <p:cNvSpPr txBox="1"/>
          <p:nvPr/>
        </p:nvSpPr>
        <p:spPr>
          <a:xfrm>
            <a:off x="2340000" y="4724280"/>
            <a:ext cx="4753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Век + Тор = Вектор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79" name="Rectangle 16"/>
          <p:cNvSpPr/>
          <p:nvPr/>
        </p:nvSpPr>
        <p:spPr>
          <a:xfrm>
            <a:off x="971640" y="189000"/>
            <a:ext cx="61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ое сложение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ая ана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9" name="Text Box 11"/>
          <p:cNvSpPr/>
          <p:nvPr/>
        </p:nvSpPr>
        <p:spPr>
          <a:xfrm>
            <a:off x="7020000" y="54936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2"/>
          <p:cNvSpPr/>
          <p:nvPr/>
        </p:nvSpPr>
        <p:spPr>
          <a:xfrm>
            <a:off x="539640" y="1916280"/>
            <a:ext cx="806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Т +  САН + ГЕН    </a:t>
            </a:r>
            <a:r>
              <a:rPr b="1" lang="ru-RU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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тригонометрическая функция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WordArt 14"/>
          <p:cNvSpPr txBox="1"/>
          <p:nvPr/>
        </p:nvSpPr>
        <p:spPr>
          <a:xfrm>
            <a:off x="3276720" y="4365720"/>
            <a:ext cx="29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отангенс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nodeType="clickEffect" fill="hold">
                      <p:stCondLst>
                        <p:cond delay="0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4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ка в л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611280" y="1844640"/>
            <a:ext cx="82087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 какой науке Цицерон сказал: «Греки изучали её, чтобы познать мир, а римляне – чтобы измерять земельные участки»?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WordArt 14"/>
          <p:cNvSpPr txBox="1"/>
          <p:nvPr/>
        </p:nvSpPr>
        <p:spPr>
          <a:xfrm>
            <a:off x="3348000" y="5084640"/>
            <a:ext cx="324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О геометрии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0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4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2"/>
          <p:cNvSpPr/>
          <p:nvPr/>
        </p:nvSpPr>
        <p:spPr>
          <a:xfrm>
            <a:off x="611280" y="1844640"/>
            <a:ext cx="8064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му принадлежат эти строки: «Математику уже затем учить надо, что она ум в порядок приводит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WordArt 14"/>
          <p:cNvSpPr txBox="1"/>
          <p:nvPr/>
        </p:nvSpPr>
        <p:spPr>
          <a:xfrm>
            <a:off x="2268360" y="4941720"/>
            <a:ext cx="43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. В. Ломоносову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18" name="Rectangle 15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ка в л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0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2"/>
          <p:cNvSpPr/>
          <p:nvPr/>
        </p:nvSpPr>
        <p:spPr>
          <a:xfrm>
            <a:off x="611280" y="2205000"/>
            <a:ext cx="8064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то  в 15 книгах под общим  названием «Начала»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двел итог 300-летнему развитию греческой  математики?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WordArt 14"/>
          <p:cNvSpPr txBox="1"/>
          <p:nvPr/>
        </p:nvSpPr>
        <p:spPr>
          <a:xfrm>
            <a:off x="3564000" y="5300640"/>
            <a:ext cx="216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Евклид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31" name="Rectangle 15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ка в л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0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33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1187280" y="189000"/>
            <a:ext cx="59770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 словом - фразу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1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Третья степень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ервой буквы алфавита» - 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государство в Америке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WordArt 14"/>
          <p:cNvSpPr txBox="1"/>
          <p:nvPr/>
        </p:nvSpPr>
        <p:spPr>
          <a:xfrm>
            <a:off x="2340000" y="5013360"/>
            <a:ext cx="53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уб - а     Куба  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45" name="Rectangle 15"/>
          <p:cNvSpPr/>
          <p:nvPr/>
        </p:nvSpPr>
        <p:spPr>
          <a:xfrm>
            <a:off x="5067000" y="4949280"/>
            <a:ext cx="5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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4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4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Гектар, на котором ничего не выросло» -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ркотик из индийской конопли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WordArt 14"/>
          <p:cNvSpPr txBox="1"/>
          <p:nvPr/>
        </p:nvSpPr>
        <p:spPr>
          <a:xfrm>
            <a:off x="1763640" y="5229360"/>
            <a:ext cx="5904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а - шиш       Гашиш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1187280" y="189000"/>
            <a:ext cx="59770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 словом - фразу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8"/>
          <p:cNvSpPr/>
          <p:nvPr/>
        </p:nvSpPr>
        <p:spPr>
          <a:xfrm>
            <a:off x="4851000" y="5228640"/>
            <a:ext cx="5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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0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395280" y="1773360"/>
            <a:ext cx="84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ой из четырёхуголь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 является параллелограмм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ямоуголь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пе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1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2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6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8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Танцевальное движение единицы объема» -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нструментарий живописца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WordArt 14"/>
          <p:cNvSpPr txBox="1"/>
          <p:nvPr/>
        </p:nvSpPr>
        <p:spPr>
          <a:xfrm>
            <a:off x="1763640" y="5084640"/>
            <a:ext cx="597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а - литра      Палитр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72" name="Rectangle 17"/>
          <p:cNvSpPr/>
          <p:nvPr/>
        </p:nvSpPr>
        <p:spPr>
          <a:xfrm>
            <a:off x="1187280" y="189000"/>
            <a:ext cx="59770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 словом - фразу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8"/>
          <p:cNvSpPr/>
          <p:nvPr/>
        </p:nvSpPr>
        <p:spPr>
          <a:xfrm>
            <a:off x="4777920" y="5012640"/>
            <a:ext cx="5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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0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5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WordArt 14"/>
          <p:cNvSpPr txBox="1"/>
          <p:nvPr/>
        </p:nvSpPr>
        <p:spPr>
          <a:xfrm>
            <a:off x="1332000" y="476280"/>
            <a:ext cx="6840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бед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0" name="Picture 16" descr="stars"/>
          <p:cNvPicPr/>
          <p:nvPr/>
        </p:nvPicPr>
        <p:blipFill>
          <a:blip r:embed="rId1"/>
          <a:stretch/>
        </p:blipFill>
        <p:spPr>
          <a:xfrm>
            <a:off x="3276720" y="2925720"/>
            <a:ext cx="2458800" cy="22766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7" descr="b1"/>
          <p:cNvPicPr/>
          <p:nvPr/>
        </p:nvPicPr>
        <p:blipFill>
          <a:blip r:embed="rId2"/>
          <a:stretch/>
        </p:blipFill>
        <p:spPr>
          <a:xfrm rot="1256400">
            <a:off x="5508360" y="3068640"/>
            <a:ext cx="1771560" cy="251928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8" descr="b1"/>
          <p:cNvPicPr/>
          <p:nvPr/>
        </p:nvPicPr>
        <p:blipFill>
          <a:blip r:embed="rId3"/>
          <a:stretch/>
        </p:blipFill>
        <p:spPr>
          <a:xfrm rot="20162400">
            <a:off x="1979640" y="3298680"/>
            <a:ext cx="17715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250920" y="1700280"/>
            <a:ext cx="867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геева И.Д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нимательные материалы по информатике и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математике. Методическое пособие.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.: ТЦ Сфера, 2005. – 240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ческая разработка «Ребусы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авченко Е.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урманская обл.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Полярные Зори, МОУ гимназия № 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g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Картинки  http://www.gifpark.s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8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и с математическим уклоном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14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1619280" y="1916280"/>
            <a:ext cx="5904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еми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цветны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полук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з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семи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широких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д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17"/>
          <p:cNvSpPr txBox="1"/>
          <p:nvPr/>
        </p:nvSpPr>
        <p:spPr>
          <a:xfrm>
            <a:off x="2484360" y="4869000"/>
            <a:ext cx="180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адуг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03" name="AutoShape 18">
            <a:hlinkClick r:id="rId2" action="ppaction://hlinksldjump"/>
          </p:cNvPr>
          <p:cNvSpPr/>
          <p:nvPr/>
        </p:nvSpPr>
        <p:spPr>
          <a:xfrm>
            <a:off x="179280" y="61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10839" y="3837"/>
                </a:moveTo>
                <a:lnTo>
                  <a:pt x="13415" y="6448"/>
                </a:ln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lnTo>
                  <a:pt x="17802" y="10800"/>
                </a:lnTo>
                <a:lnTo>
                  <a:pt x="16148" y="10800"/>
                </a:lnTo>
                <a:lnTo>
                  <a:pt x="16148" y="17989"/>
                </a:lnTo>
                <a:lnTo>
                  <a:pt x="5529" y="17989"/>
                </a:lnTo>
                <a:lnTo>
                  <a:pt x="5529" y="10800"/>
                </a:lnTo>
                <a:lnTo>
                  <a:pt x="3876" y="10800"/>
                </a:lnTo>
                <a:close/>
              </a:path>
              <a:path fill="darkenLess" w="21677" h="21600">
                <a:moveTo>
                  <a:pt x="13415" y="6448"/>
                </a:move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close/>
              </a:path>
              <a:path fill="darkenLess" w="21677" h="21600">
                <a:moveTo>
                  <a:pt x="9916" y="14299"/>
                </a:moveTo>
                <a:lnTo>
                  <a:pt x="11761" y="14299"/>
                </a:lnTo>
                <a:lnTo>
                  <a:pt x="11761" y="17989"/>
                </a:lnTo>
                <a:lnTo>
                  <a:pt x="16148" y="17989"/>
                </a:lnTo>
                <a:lnTo>
                  <a:pt x="16148" y="10800"/>
                </a:lnTo>
                <a:lnTo>
                  <a:pt x="5529" y="10800"/>
                </a:lnTo>
                <a:lnTo>
                  <a:pt x="5529" y="17989"/>
                </a:lnTo>
                <a:lnTo>
                  <a:pt x="991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0" descr="r1"/>
          <p:cNvPicPr/>
          <p:nvPr/>
        </p:nvPicPr>
        <p:blipFill>
          <a:blip r:embed="rId3"/>
          <a:stretch/>
        </p:blipFill>
        <p:spPr>
          <a:xfrm>
            <a:off x="4716360" y="4005360"/>
            <a:ext cx="28083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6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611280" y="1557360"/>
            <a:ext cx="554508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Шевелились у цв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с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четыре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лепес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Я сорвать его хотел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н вспорхнул и улет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4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7"/>
          <p:cNvSpPr txBox="1"/>
          <p:nvPr/>
        </p:nvSpPr>
        <p:spPr>
          <a:xfrm>
            <a:off x="2484360" y="5013360"/>
            <a:ext cx="266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Бабочк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и с математическим уклоном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3" descr="B_Fly20"/>
          <p:cNvPicPr/>
          <p:nvPr/>
        </p:nvPicPr>
        <p:blipFill>
          <a:blip r:embed="rId3"/>
          <a:stretch/>
        </p:blipFill>
        <p:spPr>
          <a:xfrm>
            <a:off x="5651640" y="4292640"/>
            <a:ext cx="21589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1280" y="2205000"/>
            <a:ext cx="806436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ва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тоя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, два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лежа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, пятый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ходи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Шестой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оди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, седьмой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есенк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е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14"/>
          <p:cNvSpPr txBox="1"/>
          <p:nvPr/>
        </p:nvSpPr>
        <p:spPr>
          <a:xfrm>
            <a:off x="3348000" y="5013360"/>
            <a:ext cx="180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Дверь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1" name="Rectangle 30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и с математическим уклоном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1" descr="d7"/>
          <p:cNvPicPr/>
          <p:nvPr/>
        </p:nvPicPr>
        <p:blipFill>
          <a:blip r:embed="rId3"/>
          <a:stretch/>
        </p:blipFill>
        <p:spPr>
          <a:xfrm>
            <a:off x="5796000" y="4365720"/>
            <a:ext cx="9716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4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468360" y="1484280"/>
            <a:ext cx="806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ЗА_ _ _ _ _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процесс заострения предме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4"/>
          <p:cNvSpPr txBox="1"/>
          <p:nvPr/>
        </p:nvSpPr>
        <p:spPr>
          <a:xfrm>
            <a:off x="5435640" y="544500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точк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45" name="Text Box 28"/>
          <p:cNvSpPr/>
          <p:nvPr/>
        </p:nvSpPr>
        <p:spPr>
          <a:xfrm>
            <a:off x="468360" y="2205000"/>
            <a:ext cx="806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Ы_ _ _ _ _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конструктивный элемент одежд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9"/>
          <p:cNvSpPr/>
          <p:nvPr/>
        </p:nvSpPr>
        <p:spPr>
          <a:xfrm>
            <a:off x="468360" y="2924280"/>
            <a:ext cx="806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ФОР_ _ _ _ _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часть ок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0"/>
          <p:cNvSpPr/>
          <p:nvPr/>
        </p:nvSpPr>
        <p:spPr>
          <a:xfrm>
            <a:off x="468360" y="3645000"/>
            <a:ext cx="806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ЛАС_ _ _ _ _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пт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468360" y="4365720"/>
            <a:ext cx="806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ИС_ _ _ _ _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инструмент художн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2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1:02:27Z</dcterms:created>
  <dc:creator>Customer</dc:creator>
  <dc:description/>
  <dc:language>en-US</dc:language>
  <cp:lastModifiedBy>Ирина Игоревна Егорова</cp:lastModifiedBy>
  <dcterms:modified xsi:type="dcterms:W3CDTF">2018-06-22T06:38:24Z</dcterms:modified>
  <cp:revision>80</cp:revision>
  <dc:subject/>
  <dc:title>Слайд 1</dc:title>
</cp:coreProperties>
</file>