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806-F979-4AC0-9E99-46D78D15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C99-B537-4225-A596-0982B322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4D1-2530-4FAF-85EB-3C73C13F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DF0-F447-4530-8980-DBC5951E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66F-0C1F-4177-BB92-807BE056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EBA-305A-42F7-A265-E184AEB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24D-8817-44D2-A873-BD942C00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17E-59E6-4AC9-9089-1B11364C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A19-9919-43A0-8BDA-44BA20F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E7F-6FA9-45B2-B2DF-8878956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0D2-8D65-49C0-BE7C-1AC245E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479-8D58-4449-9B95-858D9A1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942-45BC-452B-9EFF-8E9B80A1F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щита детей от преступных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ягательств и их вовлеч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 противоправную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ятельность в сети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00280" y="4285800"/>
            <a:ext cx="54295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Зильберс Марина Майгоновна, педагог-психо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svopi.ru/uploads/posts/2016-01/1452239816_7.jpg"/>
          <p:cNvPicPr/>
          <p:nvPr/>
        </p:nvPicPr>
        <p:blipFill>
          <a:blip r:embed="rId1"/>
          <a:stretch/>
        </p:blipFill>
        <p:spPr>
          <a:xfrm>
            <a:off x="214200" y="4071960"/>
            <a:ext cx="3357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85840" y="142920"/>
            <a:ext cx="455904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vesti-ukr.com/img/forall/u/4/70/22222.png"/>
          <p:cNvPicPr/>
          <p:nvPr/>
        </p:nvPicPr>
        <p:blipFill>
          <a:blip r:embed="rId2"/>
          <a:srcRect l="2777" t="21128" r="20837" b="14083"/>
          <a:stretch/>
        </p:blipFill>
        <p:spPr>
          <a:xfrm>
            <a:off x="3571920" y="26431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ешние признаки: когда бить тревог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857160"/>
            <a:ext cx="8643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ъяснимое желание похудеть, сильная критика в адрес полны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чение кофе, ранний утренний подъем (если за подростком такого раньше не наблюдалос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черной мрачной одежды, возможно, с символами, ассоциирующимися со смер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запное изменение внешности: выбривание висков, окрашивание волос в неестественные т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на теле следов порезов, ожогов и иных признако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леновредитель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ая вовлеченность в виртуальный мир, увлеченная переписка в Сети (часто с малознакомыми людь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ычный сленг в переписке, которым ребенок раньше не пользова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ытие доступа к девайсам, установка дополнительных паролей на домашнем компьютере, использование браузеров, предоставляющих возможность анонимного просмотра стран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страстие к мобильным приложениям с внутренними ча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71600" y="428760"/>
            <a:ext cx="4614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унки странного характера (перевернутые кресты, сатанинские звезды, масонские зна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идеи установить в спальне зеркало напротив кр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леченность мистическими фильмами и сценами жестокости и наси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жиданное желание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делать татуиров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о странными симво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аз от общения с родителями и маскировка своих проблем и пережи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ttps://im0-tub-ru.yandex.net/i?id=a0ce6339a037189fd0fd81404b358687-l&amp;n=13"/>
          <p:cNvPicPr/>
          <p:nvPr/>
        </p:nvPicPr>
        <p:blipFill>
          <a:blip r:embed="rId1"/>
          <a:stretch/>
        </p:blipFill>
        <p:spPr>
          <a:xfrm>
            <a:off x="214200" y="142920"/>
            <a:ext cx="3214800" cy="2684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myvisions.org/wp-content/uploads/2016/10/Blue-ink-tiny-whale-tattoo-on-wrist.jpg"/>
          <p:cNvPicPr/>
          <p:nvPr/>
        </p:nvPicPr>
        <p:blipFill>
          <a:blip r:embed="rId2"/>
          <a:stretch/>
        </p:blipFill>
        <p:spPr>
          <a:xfrm>
            <a:off x="285840" y="2928960"/>
            <a:ext cx="2428920" cy="1933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s://otvet.imgsmail.ru/download/54198618_4c757aebbe8dddc7a85452996321c53d_800.png"/>
          <p:cNvPicPr/>
          <p:nvPr/>
        </p:nvPicPr>
        <p:blipFill>
          <a:blip r:embed="rId3"/>
          <a:stretch/>
        </p:blipFill>
        <p:spPr>
          <a:xfrm>
            <a:off x="1428840" y="4500720"/>
            <a:ext cx="2627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делать ро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сли дети калечат себя, то в первую очередь, нужно обратиться к детскому психиатру, так как это может являться симптомом психического заболе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все дети, которые себе приносят физический вред, боль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биться внимания можно миллионом других способов, а вредительство своему здоровью —это край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ее компетентными в этом вопросе являются врачи-психиатры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елать, если родители заметили своего ребенка с порезами на теле, рисунками китов на ру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14200" y="2786040"/>
            <a:ext cx="2857680" cy="3071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https://i.ytimg.com/vi/c-iC30TOC18/maxresdefault.jpg"/>
          <p:cNvPicPr/>
          <p:nvPr/>
        </p:nvPicPr>
        <p:blipFill>
          <a:blip r:embed="rId2"/>
          <a:srcRect l="55694" t="0" r="0" b="31559"/>
          <a:stretch/>
        </p:blipFill>
        <p:spPr>
          <a:xfrm>
            <a:off x="1928880" y="4214880"/>
            <a:ext cx="263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выявления и предотвращения возможных проблем родител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уе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ресоваться жизнью своего чада, особенно подросткового возраста, не переходя при этом к тотальному контролю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ожно больше участвовать в процессе его социализации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ещать школу, знакомиться с друзьями и их родителями, организовывать семейный досуг, уметь быть не только воспитателем, но и надежным другом для своего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ться проводить много времени всей семь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https://im0-tub-ru.yandex.net/i?id=182456ae8a644b9ee214541d0c5844c4-l&amp;n=13"/>
          <p:cNvPicPr/>
          <p:nvPr/>
        </p:nvPicPr>
        <p:blipFill>
          <a:blip r:embed="rId1"/>
          <a:stretch/>
        </p:blipFill>
        <p:spPr>
          <a:xfrm>
            <a:off x="4214880" y="1785960"/>
            <a:ext cx="450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ЕТЫ РОДИТЕЛЯ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840" y="1143000"/>
            <a:ext cx="73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ще интересуйтесь как де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рисматривайтес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, к его поведению, настроению и мироощуще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знайте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какие сайты он заходит, чем интересуется и занимается помимо школьных обязанностей, какие видеоролики смотрит, что снимает на свой смартфо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йте это мягко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 категоричной форме, чтобы не спровоцировать закрытость и уход ребенка в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первые советы, с которых можно на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енок только начинает открывать для себя интернет-пространство, расскажите о том,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о имеет и темную сторо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-10 год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бб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 важно, что он делает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еты кораблей или макраме, хо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атральный кружок или пох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лжно быть что-то помимо уче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29360" y="2786040"/>
            <a:ext cx="7570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http://women-things.ru/wp-content/uploads/2015/08/Podrostki-i-roditeli.jpg"/>
          <p:cNvPicPr/>
          <p:nvPr/>
        </p:nvPicPr>
        <p:blipFill>
          <a:blip r:embed="rId1"/>
          <a:stretch/>
        </p:blipFill>
        <p:spPr>
          <a:xfrm>
            <a:off x="5357880" y="4572000"/>
            <a:ext cx="3357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удьте рядом с детьми, чтобы они могли обратиться к вам со своей проблемой.  Самое главное в управлении безопасностью детей в Интернете – это доверительное  живое общение с ребё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http://grodno-best.info/wp-content/uploads/2016/05/vsem-dovolny.jpg"/>
          <p:cNvPicPr/>
          <p:nvPr/>
        </p:nvPicPr>
        <p:blipFill>
          <a:blip r:embed="rId1"/>
          <a:stretch/>
        </p:blipFill>
        <p:spPr>
          <a:xfrm>
            <a:off x="1428840" y="3214800"/>
            <a:ext cx="62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, это лучший помощник для самообразования, а также он помогает общаться людям со всех уголков план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Интернет может стать и источником опасности, особенно это касается детей и подростков, которые наиболее подвержены влиянию глобальной се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https://im0-tub-ru.yandex.net/i?id=64eb3a43eb6d5c5ea4c9f5369bcd0220-l&amp;n=13"/>
          <p:cNvPicPr/>
          <p:nvPr/>
        </p:nvPicPr>
        <p:blipFill>
          <a:blip r:embed="rId1"/>
          <a:stretch/>
        </p:blipFill>
        <p:spPr>
          <a:xfrm>
            <a:off x="357120" y="1643040"/>
            <a:ext cx="4395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у угрожает опасн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114300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й уязвимой группой являются подростки. Они хотят уйти из-под контроля родителей и завязать новые отношения вне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ддержки и понимания нет ни в школе, ни дома, то ребенок ищет себе подобных, - тех, кому плох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496286"/>
          <p:cNvPicPr/>
          <p:nvPr/>
        </p:nvPicPr>
        <p:blipFill>
          <a:blip r:embed="rId1"/>
          <a:stretch/>
        </p:blipFill>
        <p:spPr>
          <a:xfrm>
            <a:off x="357120" y="1500120"/>
            <a:ext cx="37148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уязвимые для злоумышленников эт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, подростки, кому в семьях некомфорт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то стремится попробовать всё новое, связанное с острыми ощуще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ивно ищущие внимания и привяз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нтар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инокие или брош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ого взрослые могут легко обма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те, кого привлекает субкультура, выходящая за рамки понимания их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Спасите своего ребенка, пока не поздно: все о подростковом суициде и «группах смерти»"/>
          <p:cNvPicPr/>
          <p:nvPr/>
        </p:nvPicPr>
        <p:blipFill>
          <a:blip r:embed="rId1"/>
          <a:stretch/>
        </p:blipFill>
        <p:spPr>
          <a:xfrm>
            <a:off x="4500720" y="2214720"/>
            <a:ext cx="4500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ёнок в соцсетях: что должно насторожить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ичка вашего ребенка в социальных сетях способна рассказать о нем мног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ите внимание на псевдоним, аватарку (главная фотография профиля), открытость или закрытость аккаунта, группы, в которых состоит  ребёнок, а также на то, чем наполнена страница: видеозаписи, фотографии и друз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589b1423dbf52-screenshot-138"/>
          <p:cNvPicPr/>
          <p:nvPr/>
        </p:nvPicPr>
        <p:blipFill>
          <a:blip r:embed="rId1"/>
          <a:stretch/>
        </p:blipFill>
        <p:spPr>
          <a:xfrm>
            <a:off x="4500720" y="1214280"/>
            <a:ext cx="4429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рывание ли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руками либо одеждой на фотографиях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монстрирование указательного паль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на таких снимках, загруженных в социальные сети, символизируют суицидальные мыс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ёнок размещает у себя на странице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, иллюстрации на тему самоунижения и нанесения себе травм и порез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это плохой зна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асными считаются такие символы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дузы, кошки, бабочки, единороги, съемки с высоты, крыш и черда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также изображение того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ты плывут ввер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братите внимание, не упоминает ли он в общении с кем-либо фразу «море китов группа смер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па подозрительных «друзей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явившихся за короткое время, свидетельствует о том, что ребёнок попал в опасную комп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мерное увлечение копированием на своей страничке строчек из некоторых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ихотвор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апример, С. Есенина и И. Бродского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вященных смерти, а также цитат из мистических кни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олжно насторожить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ение на страничках социальных сет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анной депрессивной музы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собенно музыкальных направлений, пропагандирующих печаль и смерть) — один из ярких «симптомов» суицидальных накло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едует проследить, размещает ли ребёнок у себя на страничке подобные 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зображения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s://img08.rl0.ru/pgc/-x-i/582b34d5-4c80-8116-4c80-81588ddafc8f.photo.0.jpg"/>
          <p:cNvPicPr/>
          <p:nvPr/>
        </p:nvPicPr>
        <p:blipFill>
          <a:blip r:embed="rId1"/>
          <a:stretch/>
        </p:blipFill>
        <p:spPr>
          <a:xfrm>
            <a:off x="285840" y="928800"/>
            <a:ext cx="8286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s://img03.rl0.ru/pgc/-x-i/582b34e0-2e86-b0c8-2e86-b086539c217a.photo.0.jpg"/>
          <p:cNvPicPr/>
          <p:nvPr/>
        </p:nvPicPr>
        <p:blipFill>
          <a:blip r:embed="rId1"/>
          <a:stretch/>
        </p:blipFill>
        <p:spPr>
          <a:xfrm>
            <a:off x="285840" y="500040"/>
            <a:ext cx="857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амоубийства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17:11:16Z</dcterms:created>
  <dc:creator>Марина</dc:creator>
  <dc:description/>
  <dc:language>en-US</dc:language>
  <cp:lastModifiedBy>Марина</cp:lastModifiedBy>
  <dcterms:modified xsi:type="dcterms:W3CDTF">2017-03-19T15:52:44Z</dcterms:modified>
  <cp:revision>20</cp:revision>
  <dc:subject/>
  <dc:title>Защита детей от преступных  посягательств и их вовлечения  в противоправную  деятельность в сети INTERNET</dc:title>
</cp:coreProperties>
</file>