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D48A9-A304-4E0C-A729-BE6F08DDBE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9BB6-E594-44D9-A191-0DBE54D204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CA5-8C06-4EAB-BA5B-B86E1104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1555-B653-4317-8DA3-CA65F095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73F-04BB-482D-8159-96FAA437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D72-19A6-44C7-99F4-F69855C6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5D29-3AB8-43C8-A89F-B224212C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E6E3-AE31-4552-96BF-01986EC5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BE07-5B9B-45E1-82DA-D33D53B1A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BB9-0843-40D2-8ECC-DC82A8CE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24A3-7F86-4C4E-89B1-6AE1F3AD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D9E8-2953-4DEA-BE10-010AA5C9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90D0-31A4-428E-933A-6F033851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8BB3-E865-4A38-B59E-18C31CBB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6738-A97B-4832-8845-BB25246EB4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earningapps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Learningapp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earningapps.org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rcRect l="0" t="2527" r="0" b="24870"/>
          <a:stretch/>
        </p:blipFill>
        <p:spPr>
          <a:xfrm>
            <a:off x="950760" y="1500120"/>
            <a:ext cx="7242480" cy="4000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интерактивных технологий позволя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56800" y="1999800"/>
            <a:ext cx="78296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ндивидуализировать    учебный    процесс,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блегчить   усвоение   учебного материал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ктивизировать познавательную деятельность обучающихс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 интерактивных заданий в LearningApps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-соревнование «Ска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0" t="12919" r="0" b="32195"/>
          <a:stretch/>
        </p:blipFill>
        <p:spPr>
          <a:xfrm>
            <a:off x="857160" y="1785960"/>
            <a:ext cx="7858080" cy="3929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-соревнование «Ска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0" t="13549" r="0" b="34340"/>
          <a:stretch/>
        </p:blipFill>
        <p:spPr>
          <a:xfrm>
            <a:off x="950760" y="2000160"/>
            <a:ext cx="7550280" cy="3786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-соревнование «Ска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0" t="12696" r="0" b="31183"/>
          <a:stretch/>
        </p:blipFill>
        <p:spPr>
          <a:xfrm>
            <a:off x="950760" y="1928880"/>
            <a:ext cx="7407360" cy="3786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е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0" t="13574" r="0" b="31183"/>
          <a:stretch/>
        </p:blipFill>
        <p:spPr>
          <a:xfrm>
            <a:off x="928800" y="2071800"/>
            <a:ext cx="7407000" cy="3786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хочет стать миллионером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0" t="14672" r="0" b="31464"/>
          <a:stretch/>
        </p:blipFill>
        <p:spPr>
          <a:xfrm>
            <a:off x="950760" y="1714680"/>
            <a:ext cx="7242480" cy="3786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находится это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0" t="5684" r="0" b="31183"/>
          <a:stretch/>
        </p:blipFill>
        <p:spPr>
          <a:xfrm>
            <a:off x="950760" y="1857240"/>
            <a:ext cx="7242480" cy="3929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вышеперечисленные шаблоны при помощи инструмент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етка приложений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объединять в коллекции и создавать так называемые комплексы упражн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ыми играми / упражнениями можно поделиться (опубликовать для всех пользователей ресурса), «привязать», скачать или отослать по электронной поч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7:25:15Z</dcterms:created>
  <dc:creator>Я</dc:creator>
  <dc:description/>
  <dc:language>en-US</dc:language>
  <cp:lastModifiedBy>Admin</cp:lastModifiedBy>
  <dcterms:modified xsi:type="dcterms:W3CDTF">2018-06-23T10:51:24Z</dcterms:modified>
  <cp:revision>70</cp:revision>
  <dc:subject/>
  <dc:title>Сервис Learningapps.org инструкция по работе.</dc:title>
</cp:coreProperties>
</file>