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D3B1-8853-45F9-A3AB-6B3932927BB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EE1C-CFC1-47AA-9C88-3BF6D4A759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1F02-2A53-42A4-A1D1-7B7B09F4B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E204-E2C0-49C6-A437-4A541700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F784-C75F-4293-9380-0669442C7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A6BD-46E7-4C9F-A555-23304184F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3294-87F0-452D-BDC9-CC1AA53E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63D7-8447-47EF-8D61-7EEA6894C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30C-C957-45C5-BCDF-02F6CD0F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C1E-ACF6-466C-AE7C-04FCD0E2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CA87-6923-47CA-A2A9-FF009500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E084-BF0C-4327-AB77-F871266EB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DF18-D40C-4105-B1E5-7739A9CE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AC4E-BDDC-49B0-B7FB-1C60D1A2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41BC6-9D5F-4E2E-A82F-54766E4535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learningapps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ьзование Learningapps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learningapps.org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внеуроч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rcRect l="0" t="2527" r="0" b="24870"/>
          <a:stretch/>
        </p:blipFill>
        <p:spPr>
          <a:xfrm>
            <a:off x="950760" y="1500120"/>
            <a:ext cx="7242480" cy="4000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спользование интерактивных технологий позволя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56800" y="1999800"/>
            <a:ext cx="782964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индивидуализировать    учебный    процесс, 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облегчить   усвоение   учебного материала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активизировать познавательную деятельность обучающихся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меры интерактивных заданий в LearningApps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-соревнование «Ска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rcRect l="0" t="12919" r="0" b="32195"/>
          <a:stretch/>
        </p:blipFill>
        <p:spPr>
          <a:xfrm>
            <a:off x="857160" y="1785960"/>
            <a:ext cx="7858080" cy="3929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-соревнование «Ска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rcRect l="0" t="13549" r="0" b="34340"/>
          <a:stretch/>
        </p:blipFill>
        <p:spPr>
          <a:xfrm>
            <a:off x="950760" y="2000160"/>
            <a:ext cx="7550280" cy="3786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гра-соревнование «Скач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rcRect l="0" t="12696" r="0" b="31183"/>
          <a:stretch/>
        </p:blipFill>
        <p:spPr>
          <a:xfrm>
            <a:off x="950760" y="1928880"/>
            <a:ext cx="7407360" cy="3786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ел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0" t="13574" r="0" b="31183"/>
          <a:stretch/>
        </p:blipFill>
        <p:spPr>
          <a:xfrm>
            <a:off x="928800" y="2071800"/>
            <a:ext cx="7407000" cy="3786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то хочет стать миллионером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rcRect l="0" t="14672" r="0" b="31464"/>
          <a:stretch/>
        </p:blipFill>
        <p:spPr>
          <a:xfrm>
            <a:off x="950760" y="1714680"/>
            <a:ext cx="7242480" cy="378612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находится это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"/>
          <p:cNvPicPr/>
          <p:nvPr/>
        </p:nvPicPr>
        <p:blipFill>
          <a:blip r:embed="rId1"/>
          <a:srcRect l="0" t="5684" r="0" b="31183"/>
          <a:stretch/>
        </p:blipFill>
        <p:spPr>
          <a:xfrm>
            <a:off x="950760" y="1857240"/>
            <a:ext cx="7242480" cy="3929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85520" y="1600200"/>
            <a:ext cx="790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 вышеперечисленные шаблоны при помощи инструмент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Сетка приложений»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объединять в коллекции и создавать так называемые комплексы упражн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отовыми играми / упражнениями можно поделиться (опубликовать для всех пользователей ресурса), «привязать», скачать или отослать по электронной поч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9T07:25:15Z</dcterms:created>
  <dc:creator>Я</dc:creator>
  <dc:description/>
  <dc:language>en-US</dc:language>
  <cp:lastModifiedBy>Admin</cp:lastModifiedBy>
  <dcterms:modified xsi:type="dcterms:W3CDTF">2018-06-23T10:51:24Z</dcterms:modified>
  <cp:revision>70</cp:revision>
  <dc:subject/>
  <dc:title>Сервис Learningapps.org инструкция по работе.</dc:title>
</cp:coreProperties>
</file>