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4.png" ContentType="image/png"/>
  <Override PartName="/ppt/media/image23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4.png" ContentType="image/png"/>
  <Override PartName="/ppt/media/image1.wmf" ContentType="image/x-wmf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4F97-0C5E-4BA1-8758-EEAF71F5A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A99-3B00-47EE-A9B3-7F86646A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8D59-7487-49A6-BFF0-46A74827C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8247-DA06-498B-A698-8AC4F09B2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9F2E7-3C0D-4883-BC6A-3A9F309D7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A2DB-1964-4AEC-BA6A-13EC6451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74022-8B61-4044-812A-99A553F4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EE06-C31E-4321-A40C-1B7EF7BC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1663-7563-47DD-A414-05752152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6417B-1BD1-4589-A17E-D69909C1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8F56-77A2-4937-8793-21629CBF1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4FC6-EC5F-43C1-9633-4DF7F147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D4E5-34D1-44C8-8688-B052CA047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DAB98-BC1A-4AB8-AAA1-281B6A29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1AD34-A945-4945-850D-3B6691AB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6E8F-0F0A-42C4-BABC-2226A6415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DA91-AE9C-4682-A4F5-685EA7407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3A421-1C23-4D45-9EC1-94057F9A9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C3F4C-6D0F-40A4-9B13-374096A10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99414-3AF5-4519-8AB6-4B9D4D6B0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9F5C3-C303-47A3-973B-FA56F0A0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7B684-93AA-4F46-AF0B-6EC825691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9D0A-92B1-4BE8-8440-4373A80EB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4EE5E-D869-4D8D-B5CC-A60A8AF8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F8FA0-6D72-4E85-BE18-960BE1E8B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E8ED46-5C3C-4F52-9375-12BC0E8B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EE799-D562-435A-A39B-6FA68BA8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FFF30-FC45-4112-833E-503F95DF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1A8112-E1F5-4D44-B21F-4AC124055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DF52B-F3FF-4599-BA44-750DE526F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46E0F7-B1FD-424D-8642-23799FCC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44D2FC-F647-43C1-B275-B1DD00E5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84580-E71F-48A7-9047-174E5D19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33B7-2C29-41E2-A474-8EA43897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A4A5E-3EB6-4A47-AE03-783B7131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5BE327-DA56-4D40-9506-79799496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22017-3ABF-4253-9331-3CC7CFC6E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A67B4A-A696-4F7B-9CA6-6717744C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660EF-83CF-4FEC-8917-BCA2A95C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7E6E7-94D4-4BED-891D-07A3BE3C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62D4D-B2EC-4E18-86A1-96258A16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33B9D-B1A6-4C9A-90C8-7F0823EB6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6460F-EDFC-421E-9060-66D6955E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072D-B8CE-4273-B3B3-2E01D739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EA43-1F9D-4F95-A5C2-6EBBB5BB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77E5-5F72-410C-8C93-9030AF2B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36D2-C0EA-41BE-AF64-9C26DB029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33FE-8DC0-4A5E-960D-350E2BFD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37.xml"/><Relationship Id="rId35" Type="http://schemas.openxmlformats.org/officeDocument/2006/relationships/slideLayout" Target="../slideLayouts/slideLayout38.xml"/><Relationship Id="rId36" Type="http://schemas.openxmlformats.org/officeDocument/2006/relationships/slideLayout" Target="../slideLayouts/slideLayout39.xml"/><Relationship Id="rId37" Type="http://schemas.openxmlformats.org/officeDocument/2006/relationships/slideLayout" Target="../slideLayouts/slideLayout40.xml"/><Relationship Id="rId38" Type="http://schemas.openxmlformats.org/officeDocument/2006/relationships/slideLayout" Target="../slideLayouts/slideLayout41.xml"/><Relationship Id="rId39" Type="http://schemas.openxmlformats.org/officeDocument/2006/relationships/slideLayout" Target="../slideLayouts/slideLayout42.xml"/><Relationship Id="rId40" Type="http://schemas.openxmlformats.org/officeDocument/2006/relationships/slideLayout" Target="../slideLayouts/slideLayout43.xml"/><Relationship Id="rId41" Type="http://schemas.openxmlformats.org/officeDocument/2006/relationships/slideLayout" Target="../slideLayouts/slideLayout44.xml"/><Relationship Id="rId42" Type="http://schemas.openxmlformats.org/officeDocument/2006/relationships/slideLayout" Target="../slideLayouts/slideLayout45.xml"/><Relationship Id="rId43" Type="http://schemas.openxmlformats.org/officeDocument/2006/relationships/slideLayout" Target="../slideLayouts/slideLayout46.xml"/><Relationship Id="rId44" Type="http://schemas.openxmlformats.org/officeDocument/2006/relationships/slideLayout" Target="../slideLayouts/slideLayout47.xml"/><Relationship Id="rId4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2D90-A36F-412A-B58D-B88DF2591DF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BD38B-00E3-4C44-8D1E-4F175FD6CD4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6D5C-9807-4225-97C0-537D9802742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34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5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36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237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38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39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40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41" name="Freeform 10"/>
                    <p:cNvSpPr/>
                    <p:nvPr/>
                  </p:nvSpPr>
                  <p:spPr>
                    <a:xfrm rot="16200000">
                      <a:off x="8742960" y="-37080"/>
                      <a:ext cx="20196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Freeform 11"/>
                    <p:cNvSpPr/>
                    <p:nvPr/>
                  </p:nvSpPr>
                  <p:spPr>
                    <a:xfrm rot="16200000">
                      <a:off x="8752320" y="94320"/>
                      <a:ext cx="141480" cy="22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3" name="Oval 12"/>
                  <p:cNvSpPr/>
                  <p:nvPr/>
                </p:nvSpPr>
                <p:spPr>
                  <a:xfrm rot="16200000">
                    <a:off x="8823960" y="129240"/>
                    <a:ext cx="2844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13"/>
                  <p:cNvSpPr/>
                  <p:nvPr/>
                </p:nvSpPr>
                <p:spPr>
                  <a:xfrm rot="16200000">
                    <a:off x="8757720" y="72360"/>
                    <a:ext cx="428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Freeform 14"/>
                  <p:cNvSpPr/>
                  <p:nvPr/>
                </p:nvSpPr>
                <p:spPr>
                  <a:xfrm rot="16200000">
                    <a:off x="8828640" y="59760"/>
                    <a:ext cx="64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5"/>
                  <p:cNvSpPr/>
                  <p:nvPr/>
                </p:nvSpPr>
                <p:spPr>
                  <a:xfrm rot="16200000">
                    <a:off x="8898120" y="109440"/>
                    <a:ext cx="23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 rot="16200000">
                    <a:off x="8823960" y="191520"/>
                    <a:ext cx="6336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Freeform 17"/>
                  <p:cNvSpPr/>
                  <p:nvPr/>
                </p:nvSpPr>
                <p:spPr>
                  <a:xfrm rot="16200000">
                    <a:off x="8772480" y="167040"/>
                    <a:ext cx="3780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49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0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1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2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3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4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5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6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57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8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59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0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1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2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3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4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5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6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7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8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9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0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1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2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3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4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5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6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277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8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79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0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1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2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3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4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5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6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87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0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11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12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D9124-BCA6-4785-8A44-E82B52C8A89E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4"/>
    <p:sldLayoutId id="2147483689" r:id="rId35"/>
    <p:sldLayoutId id="2147483690" r:id="rId36"/>
    <p:sldLayoutId id="2147483691" r:id="rId37"/>
    <p:sldLayoutId id="2147483692" r:id="rId38"/>
    <p:sldLayoutId id="2147483693" r:id="rId39"/>
    <p:sldLayoutId id="2147483694" r:id="rId40"/>
    <p:sldLayoutId id="2147483695" r:id="rId41"/>
    <p:sldLayoutId id="2147483696" r:id="rId42"/>
    <p:sldLayoutId id="2147483697" r:id="rId43"/>
    <p:sldLayoutId id="2147483698" r:id="rId44"/>
    <p:sldLayoutId id="2147483699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3.jpeg"/><Relationship Id="rId8" Type="http://schemas.openxmlformats.org/officeDocument/2006/relationships/image" Target="../media/image14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4.png"/><Relationship Id="rId6" Type="http://schemas.openxmlformats.org/officeDocument/2006/relationships/image" Target="../media/image18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6.png"/><Relationship Id="rId7" Type="http://schemas.openxmlformats.org/officeDocument/2006/relationships/image" Target="../media/image18.png"/><Relationship Id="rId8" Type="http://schemas.openxmlformats.org/officeDocument/2006/relationships/image" Target="../media/image25.pn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2.png"/><Relationship Id="rId6" Type="http://schemas.openxmlformats.org/officeDocument/2006/relationships/image" Target="../media/image14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9.png"/><Relationship Id="rId5" Type="http://schemas.openxmlformats.org/officeDocument/2006/relationships/image" Target="../media/image18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20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8.png"/><Relationship Id="rId5" Type="http://schemas.openxmlformats.org/officeDocument/2006/relationships/image" Target="../media/image21.jpe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Педагогический проект</a:t>
            </a:r>
            <a:br>
              <a:rPr sz="3600"/>
            </a:br>
            <a:r>
              <a:rPr b="0" lang="ru-RU" sz="3600" spc="-1" strike="noStrike">
                <a:solidFill>
                  <a:srgbClr val="f7d47d"/>
                </a:solidFill>
                <a:latin typeface="Arial"/>
              </a:rPr>
              <a:t>«Городецкие узоры»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30" name="Picture 3" descr="Гордецкая роспись3-"/>
          <p:cNvPicPr/>
          <p:nvPr/>
        </p:nvPicPr>
        <p:blipFill>
          <a:blip r:embed="rId1"/>
          <a:stretch/>
        </p:blipFill>
        <p:spPr>
          <a:xfrm rot="973200">
            <a:off x="5392440" y="2960640"/>
            <a:ext cx="1888920" cy="28177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4" descr="Гордецкая роспись2-"/>
          <p:cNvPicPr/>
          <p:nvPr/>
        </p:nvPicPr>
        <p:blipFill>
          <a:blip r:embed="rId2"/>
          <a:stretch/>
        </p:blipFill>
        <p:spPr>
          <a:xfrm>
            <a:off x="2971800" y="1752480"/>
            <a:ext cx="2019240" cy="3179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3" descr="Гордецкая роспись1-"/>
          <p:cNvPicPr/>
          <p:nvPr/>
        </p:nvPicPr>
        <p:blipFill>
          <a:blip r:embed="rId3"/>
          <a:stretch/>
        </p:blipFill>
        <p:spPr>
          <a:xfrm rot="20658000">
            <a:off x="609120" y="2819160"/>
            <a:ext cx="1960560" cy="305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сновной этап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04560" y="1598760"/>
            <a:ext cx="73450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Формы и методы работы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Игровая деятельность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ознавательное развитие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Продуктивная деятельность;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Работа с родителями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3" name="Picture 4" descr="36"/>
          <p:cNvPicPr/>
          <p:nvPr/>
        </p:nvPicPr>
        <p:blipFill>
          <a:blip r:embed="rId5"/>
          <a:stretch/>
        </p:blipFill>
        <p:spPr>
          <a:xfrm>
            <a:off x="5181480" y="2743200"/>
            <a:ext cx="3962520" cy="41148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4" descr="1"/>
          <p:cNvPicPr/>
          <p:nvPr/>
        </p:nvPicPr>
        <p:blipFill>
          <a:blip r:embed="rId6"/>
          <a:srcRect l="51408" t="0" r="0" b="41716"/>
          <a:stretch/>
        </p:blipFill>
        <p:spPr>
          <a:xfrm rot="2624400">
            <a:off x="6400440" y="304920"/>
            <a:ext cx="2117880" cy="21430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" descr="G:\полхов\1.png"/>
          <p:cNvPicPr/>
          <p:nvPr/>
        </p:nvPicPr>
        <p:blipFill>
          <a:blip r:embed="rId7"/>
          <a:srcRect l="49616" t="9266" r="4786" b="46350"/>
          <a:stretch/>
        </p:blipFill>
        <p:spPr>
          <a:xfrm>
            <a:off x="1752480" y="4800600"/>
            <a:ext cx="207180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Игровая деятельность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Сюжетно-ролевые игры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Экскурсия по городецкому музею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Семья ремесленников из Городц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2f1311"/>
                </a:solidFill>
                <a:latin typeface="Arial"/>
              </a:rPr>
              <a:t>Дидактические игры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Составь узор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Обведи и раскрась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Узнай элементы узор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Найди пару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78" name="Picture 4" descr="14"/>
          <p:cNvPicPr/>
          <p:nvPr/>
        </p:nvPicPr>
        <p:blipFill>
          <a:blip r:embed="rId7"/>
          <a:stretch/>
        </p:blipFill>
        <p:spPr>
          <a:xfrm>
            <a:off x="6400800" y="2895480"/>
            <a:ext cx="2743200" cy="35766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2" descr="G:\полхов\1.png"/>
          <p:cNvPicPr/>
          <p:nvPr/>
        </p:nvPicPr>
        <p:blipFill>
          <a:blip r:embed="rId8"/>
          <a:srcRect l="0" t="58728" r="57983" b="0"/>
          <a:stretch/>
        </p:blipFill>
        <p:spPr>
          <a:xfrm>
            <a:off x="5638680" y="60948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3" descr="G:\полхов\1.png"/>
          <p:cNvPicPr/>
          <p:nvPr/>
        </p:nvPicPr>
        <p:blipFill>
          <a:blip r:embed="rId9"/>
          <a:srcRect l="49616" t="9266" r="4786" b="46350"/>
          <a:stretch/>
        </p:blipFill>
        <p:spPr>
          <a:xfrm>
            <a:off x="3657600" y="4876920"/>
            <a:ext cx="2071800" cy="15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знавательное развитие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«Знакомство с Городецкой росписью», посещение выставки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Беседа  «В гостях у городецких мастеров»,  - рассказ об истории промысл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ссматривание иллюстраций об истории промысла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азучивание песен, стихов, потешек, сочинение сказок по теме: «Наш весёлый Городец»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3" name="Picture 13" descr="G:\ГОРОДЕЦ\111\59.jpg"/>
          <p:cNvPicPr/>
          <p:nvPr/>
        </p:nvPicPr>
        <p:blipFill>
          <a:blip r:embed="rId5"/>
          <a:stretch/>
        </p:blipFill>
        <p:spPr>
          <a:xfrm>
            <a:off x="6883560" y="1828800"/>
            <a:ext cx="2260440" cy="89805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3" descr="G:\полхов\1.png"/>
          <p:cNvPicPr/>
          <p:nvPr/>
        </p:nvPicPr>
        <p:blipFill>
          <a:blip r:embed="rId6"/>
          <a:srcRect l="49616" t="9266" r="4786" b="46350"/>
          <a:stretch/>
        </p:blipFill>
        <p:spPr>
          <a:xfrm>
            <a:off x="3352680" y="5105520"/>
            <a:ext cx="2071800" cy="15602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2" descr="G:\полхов\1.png"/>
          <p:cNvPicPr/>
          <p:nvPr/>
        </p:nvPicPr>
        <p:blipFill>
          <a:blip r:embed="rId7"/>
          <a:srcRect l="0" t="58728" r="57983" b="0"/>
          <a:stretch/>
        </p:blipFill>
        <p:spPr>
          <a:xfrm>
            <a:off x="6781680" y="304920"/>
            <a:ext cx="2052720" cy="15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9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f7d47d"/>
                </a:solidFill>
                <a:latin typeface="Arial"/>
              </a:rPr>
              <a:t>Продуктивная деятельность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Пластилинография  «Узор на  полосе  из  бутонов и  листьев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исование «Узор на  панно  из  бутонов и  листьев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Аппликация «Узор на коне-качалке»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исование «Роспись Городецкой уточки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исование  «Узор на кухонной доске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88" name="Picture 4" descr="1"/>
          <p:cNvPicPr/>
          <p:nvPr/>
        </p:nvPicPr>
        <p:blipFill>
          <a:blip r:embed="rId6"/>
          <a:srcRect l="51408" t="0" r="0" b="41716"/>
          <a:stretch/>
        </p:blipFill>
        <p:spPr>
          <a:xfrm rot="2624400">
            <a:off x="7025760" y="304920"/>
            <a:ext cx="2117880" cy="2143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3" descr="G:\полхов\1.png"/>
          <p:cNvPicPr/>
          <p:nvPr/>
        </p:nvPicPr>
        <p:blipFill>
          <a:blip r:embed="rId7"/>
          <a:srcRect l="49616" t="9266" r="4786" b="46350"/>
          <a:stretch/>
        </p:blipFill>
        <p:spPr>
          <a:xfrm>
            <a:off x="762120" y="4724280"/>
            <a:ext cx="2071440" cy="156060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4" descr="G:\ГОРОДЕЦ\111\53.jpg"/>
          <p:cNvPicPr/>
          <p:nvPr/>
        </p:nvPicPr>
        <p:blipFill>
          <a:blip r:embed="rId8"/>
          <a:stretch/>
        </p:blipFill>
        <p:spPr>
          <a:xfrm>
            <a:off x="5715000" y="4086360"/>
            <a:ext cx="3429000" cy="27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Работа с родителями:</a:t>
            </a: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Доклад на родительском собрании «Влияние народных промыслов на эстетическое воспитание детей дошкольного возраст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Консультации для родителей «Народные игры в семье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Рекомендации родителям «Закрепление дома освоенных элементов росписи Городца»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f1311"/>
                </a:solidFill>
                <a:latin typeface="Arial"/>
              </a:rPr>
              <a:t>Выставка работ, выполненных совместно с   детьми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93" name="Picture 4" descr="36"/>
          <p:cNvPicPr/>
          <p:nvPr/>
        </p:nvPicPr>
        <p:blipFill>
          <a:blip r:embed="rId5"/>
          <a:stretch/>
        </p:blipFill>
        <p:spPr>
          <a:xfrm>
            <a:off x="6705720" y="4368960"/>
            <a:ext cx="2438280" cy="24890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2" descr="G:\полхов\1.png"/>
          <p:cNvPicPr/>
          <p:nvPr/>
        </p:nvPicPr>
        <p:blipFill>
          <a:blip r:embed="rId6"/>
          <a:srcRect l="0" t="58728" r="57983" b="0"/>
          <a:stretch/>
        </p:blipFill>
        <p:spPr>
          <a:xfrm>
            <a:off x="1295280" y="472428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G:\полхов\1.png"/>
          <p:cNvPicPr/>
          <p:nvPr/>
        </p:nvPicPr>
        <p:blipFill>
          <a:blip r:embed="rId7"/>
          <a:srcRect l="49616" t="9266" r="4786" b="46350"/>
          <a:stretch/>
        </p:blipFill>
        <p:spPr>
          <a:xfrm>
            <a:off x="3733920" y="5297400"/>
            <a:ext cx="207144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резентация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азвлечение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«Как в волшебном Городце»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98" name="Picture 4" descr="г1"/>
          <p:cNvPicPr/>
          <p:nvPr/>
        </p:nvPicPr>
        <p:blipFill>
          <a:blip r:embed="rId1"/>
          <a:stretch/>
        </p:blipFill>
        <p:spPr>
          <a:xfrm>
            <a:off x="990720" y="3429000"/>
            <a:ext cx="5257800" cy="34290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9" descr="33"/>
          <p:cNvPicPr/>
          <p:nvPr/>
        </p:nvPicPr>
        <p:blipFill>
          <a:blip r:embed="rId2"/>
          <a:stretch/>
        </p:blipFill>
        <p:spPr>
          <a:xfrm>
            <a:off x="6429240" y="228600"/>
            <a:ext cx="2714760" cy="4300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0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Тип проекта: </a:t>
            </a: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Творческий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Срок проведения проекта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1311"/>
                </a:solidFill>
                <a:latin typeface="Arial"/>
              </a:rPr>
              <a:t>          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ноябрь– декабрь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35" name="Picture 13" descr="13"/>
          <p:cNvPicPr/>
          <p:nvPr/>
        </p:nvPicPr>
        <p:blipFill>
          <a:blip r:embed="rId1"/>
          <a:srcRect l="49616" t="0" r="0" b="0"/>
          <a:stretch/>
        </p:blipFill>
        <p:spPr>
          <a:xfrm rot="21399000">
            <a:off x="0" y="2437920"/>
            <a:ext cx="1809720" cy="223200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6" descr="50"/>
          <p:cNvPicPr/>
          <p:nvPr/>
        </p:nvPicPr>
        <p:blipFill>
          <a:blip r:embed="rId2"/>
          <a:stretch/>
        </p:blipFill>
        <p:spPr>
          <a:xfrm rot="275400">
            <a:off x="5790960" y="2361960"/>
            <a:ext cx="1954080" cy="21128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5" descr="G:\ГОРОДЕЦ\111\19.jpg"/>
          <p:cNvPicPr/>
          <p:nvPr/>
        </p:nvPicPr>
        <p:blipFill>
          <a:blip r:embed="rId3"/>
          <a:srcRect l="2362" t="11655" r="47254" b="0"/>
          <a:stretch/>
        </p:blipFill>
        <p:spPr>
          <a:xfrm rot="771000">
            <a:off x="4190760" y="4114800"/>
            <a:ext cx="1942920" cy="235908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9" descr="18"/>
          <p:cNvPicPr/>
          <p:nvPr/>
        </p:nvPicPr>
        <p:blipFill>
          <a:blip r:embed="rId4"/>
          <a:stretch/>
        </p:blipFill>
        <p:spPr>
          <a:xfrm>
            <a:off x="1752480" y="3809880"/>
            <a:ext cx="1941480" cy="252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Актуальность обусловлен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 наше время мало внимания уделяется знакомству детей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 различными видами декоративно-прикладного искусства и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 народными традициями. В основной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бщеобразовательной программе дошкольного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бразования «ОТ РОЖДЕНИЯ ДО ШКОЛЫ» / под ред. Н. Е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ераксы,    Т. С.  Комаровой,     М. А.   Васильевой  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едостаточно      раскрыты      условия   формирования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творческого воображения у детей с   использованием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народного промысла «Городца».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оэтому необходима практическая разработка условий,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оптимизирующих процесс развития художественных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способностей и творческого воображения у детей среднего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возраста с использованием приёмов Городецкого</a:t>
            </a: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marL="294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1311"/>
                </a:solidFill>
                <a:latin typeface="Arial"/>
              </a:rPr>
              <a:t>промысла.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1" name="Picture 5" descr="49"/>
          <p:cNvPicPr/>
          <p:nvPr/>
        </p:nvPicPr>
        <p:blipFill>
          <a:blip r:embed="rId1"/>
          <a:stretch/>
        </p:blipFill>
        <p:spPr>
          <a:xfrm>
            <a:off x="7162920" y="3581280"/>
            <a:ext cx="1511280" cy="14256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2" descr="G:\полхов\1.png"/>
          <p:cNvPicPr/>
          <p:nvPr/>
        </p:nvPicPr>
        <p:blipFill>
          <a:blip r:embed="rId2"/>
          <a:srcRect l="0" t="58728" r="57983" b="0"/>
          <a:stretch/>
        </p:blipFill>
        <p:spPr>
          <a:xfrm>
            <a:off x="6858000" y="228600"/>
            <a:ext cx="2052720" cy="156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Участники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ети средней группы;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родители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едагоги групп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5" name="Picture 4" descr="г1"/>
          <p:cNvPicPr/>
          <p:nvPr/>
        </p:nvPicPr>
        <p:blipFill>
          <a:blip r:embed="rId4"/>
          <a:stretch/>
        </p:blipFill>
        <p:spPr>
          <a:xfrm>
            <a:off x="990720" y="3505320"/>
            <a:ext cx="5410080" cy="28954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4" descr="1"/>
          <p:cNvPicPr/>
          <p:nvPr/>
        </p:nvPicPr>
        <p:blipFill>
          <a:blip r:embed="rId5"/>
          <a:srcRect l="51408" t="0" r="0" b="41716"/>
          <a:stretch/>
        </p:blipFill>
        <p:spPr>
          <a:xfrm rot="2624400">
            <a:off x="6552720" y="228600"/>
            <a:ext cx="21178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Цель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знакомить детей с народным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ромыслом  «Городецкая роспись».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49" name="Picture 5" descr="г2"/>
          <p:cNvPicPr/>
          <p:nvPr/>
        </p:nvPicPr>
        <p:blipFill>
          <a:blip r:embed="rId1"/>
          <a:stretch/>
        </p:blipFill>
        <p:spPr>
          <a:xfrm>
            <a:off x="990720" y="3352680"/>
            <a:ext cx="5715000" cy="267984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4" descr="1"/>
          <p:cNvPicPr/>
          <p:nvPr/>
        </p:nvPicPr>
        <p:blipFill>
          <a:blip r:embed="rId2"/>
          <a:srcRect l="51408" t="0" r="0" b="41716"/>
          <a:stretch/>
        </p:blipFill>
        <p:spPr>
          <a:xfrm rot="2624400">
            <a:off x="6781320" y="0"/>
            <a:ext cx="2117880" cy="21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7d47d"/>
                </a:solidFill>
                <a:latin typeface="Arial"/>
              </a:rPr>
              <a:t>Задачи проекта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1. Формировать у детей интерес к народно-прикладному искусству «Городецкой росписи»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2. Знакомить  с характерными особенностями городецкой техники росписи дерева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3. Освоение детьми основных приёмов и элементов Городецкой роспис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3" name="Picture 13" descr="13"/>
          <p:cNvPicPr/>
          <p:nvPr/>
        </p:nvPicPr>
        <p:blipFill>
          <a:blip r:embed="rId1"/>
          <a:srcRect l="49616" t="0" r="0" b="0"/>
          <a:stretch/>
        </p:blipFill>
        <p:spPr>
          <a:xfrm rot="21399000">
            <a:off x="7162560" y="4266720"/>
            <a:ext cx="1809720" cy="22320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3" descr="G:\полхов\1.png"/>
          <p:cNvPicPr/>
          <p:nvPr/>
        </p:nvPicPr>
        <p:blipFill>
          <a:blip r:embed="rId2"/>
          <a:srcRect l="49616" t="9266" r="4786" b="46350"/>
          <a:stretch/>
        </p:blipFill>
        <p:spPr>
          <a:xfrm>
            <a:off x="7072200" y="228600"/>
            <a:ext cx="207180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Ожидаемый результат: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формированный интерес у детей к народно-прикладному искусству «Городецкая роспись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Знания характерных особенностей  «Городецкой росписи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Умение  создавать выразительные узоры на бумаге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57" name="Picture 7" descr="72"/>
          <p:cNvPicPr/>
          <p:nvPr/>
        </p:nvPicPr>
        <p:blipFill>
          <a:blip r:embed="rId4"/>
          <a:stretch/>
        </p:blipFill>
        <p:spPr>
          <a:xfrm>
            <a:off x="5562720" y="4648320"/>
            <a:ext cx="2990880" cy="22096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3" descr="G:\полхов\1.png"/>
          <p:cNvPicPr/>
          <p:nvPr/>
        </p:nvPicPr>
        <p:blipFill>
          <a:blip r:embed="rId5"/>
          <a:srcRect l="49616" t="9266" r="4786" b="46350"/>
          <a:stretch/>
        </p:blipFill>
        <p:spPr>
          <a:xfrm>
            <a:off x="1905120" y="5297400"/>
            <a:ext cx="2071440" cy="156060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G:\полхов\1.png"/>
          <p:cNvPicPr/>
          <p:nvPr/>
        </p:nvPicPr>
        <p:blipFill>
          <a:blip r:embed="rId6"/>
          <a:srcRect l="0" t="58728" r="57983" b="0"/>
          <a:stretch/>
        </p:blipFill>
        <p:spPr>
          <a:xfrm>
            <a:off x="6629400" y="304920"/>
            <a:ext cx="2052720" cy="156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дготовительный этап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Донести до участников проекта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ажность данной темы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Создать развивающую среду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добрать материалы, игрушки, дидактические игр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организация в группе выставки  предметов Городецкого промысла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2" name="Picture 18" descr="G:\ГОРОДЕЦ\111\16.jpg"/>
          <p:cNvPicPr/>
          <p:nvPr/>
        </p:nvPicPr>
        <p:blipFill>
          <a:blip r:embed="rId3"/>
          <a:stretch/>
        </p:blipFill>
        <p:spPr>
          <a:xfrm>
            <a:off x="6477120" y="457200"/>
            <a:ext cx="2666880" cy="243828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2" descr="G:\полхов\1.png"/>
          <p:cNvPicPr/>
          <p:nvPr/>
        </p:nvPicPr>
        <p:blipFill>
          <a:blip r:embed="rId4"/>
          <a:srcRect l="0" t="58728" r="57983" b="0"/>
          <a:stretch/>
        </p:blipFill>
        <p:spPr>
          <a:xfrm>
            <a:off x="7091280" y="32004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3" descr="G:\полхов\1.png"/>
          <p:cNvPicPr/>
          <p:nvPr/>
        </p:nvPicPr>
        <p:blipFill>
          <a:blip r:embed="rId5"/>
          <a:srcRect l="49616" t="9266" r="4786" b="46350"/>
          <a:stretch/>
        </p:blipFill>
        <p:spPr>
          <a:xfrm>
            <a:off x="5638680" y="5297400"/>
            <a:ext cx="2071800" cy="156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7d47d"/>
                </a:solidFill>
                <a:latin typeface="Arial"/>
              </a:rPr>
              <a:t>Подготовительный этап.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подбор предметов по Городецкому промыслу, альбомов, художественной литературы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тематическая выставка: «Городецкая роспись»;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выставки работ, выполненные детьми и родителями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367" name="Picture 3" descr="G:\полхов\1.png"/>
          <p:cNvPicPr/>
          <p:nvPr/>
        </p:nvPicPr>
        <p:blipFill>
          <a:blip r:embed="rId4"/>
          <a:srcRect l="49616" t="9266" r="4786" b="46350"/>
          <a:stretch/>
        </p:blipFill>
        <p:spPr>
          <a:xfrm>
            <a:off x="4038480" y="5105520"/>
            <a:ext cx="2071800" cy="156024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15" descr="G:\ГОРОДЕЦ\111\11.jpg"/>
          <p:cNvPicPr/>
          <p:nvPr/>
        </p:nvPicPr>
        <p:blipFill>
          <a:blip r:embed="rId5"/>
          <a:stretch/>
        </p:blipFill>
        <p:spPr>
          <a:xfrm>
            <a:off x="6643800" y="2133720"/>
            <a:ext cx="2500200" cy="39621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G:\полхов\1.png"/>
          <p:cNvPicPr/>
          <p:nvPr/>
        </p:nvPicPr>
        <p:blipFill>
          <a:blip r:embed="rId6"/>
          <a:srcRect l="0" t="58728" r="57983" b="0"/>
          <a:stretch/>
        </p:blipFill>
        <p:spPr>
          <a:xfrm>
            <a:off x="7091280" y="152280"/>
            <a:ext cx="2052720" cy="1560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ome</cp:lastModifiedBy>
  <dcterms:modified xsi:type="dcterms:W3CDTF">2015-01-17T16:19:06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