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6AB-3C47-4B0D-977A-5BC2FA28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88E-19D7-49AC-B9EB-0FF5375C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3A3-E364-4D83-B17F-9C0F36E5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B81-DE72-458D-AD27-3B68E765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383F-6793-42EC-A13A-D2B0558D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35DB-2965-441D-94F7-115DB941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9750-F58D-4390-9F74-F978A846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0B88-6B9C-4DE2-B4D6-B8C0B1D2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DA4E-17BE-45CB-937C-65E7505F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4652-9D47-47C0-BC75-A94C3D0F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DEBB-CE59-4976-9261-62CE218A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CCA-7B46-4C56-8E85-F60DE138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80DA-7DC5-46B0-ACDA-E1F540A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E98E-51DB-45E7-8C21-A5D7522B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568C-3B73-4D51-8EAB-6E532C8B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D995-4AB1-4B2B-84B3-0102896B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2CF4-EFD9-4172-9644-CF466BE7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72BE2-05D2-4796-9B88-611E41EF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6D32-9E07-43A9-AA7C-2AF86AC5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4CBAD-056F-41AF-9D11-64ACF5F6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93B2-866D-418F-B405-AA660AD9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6526-CD0B-442A-B1B2-7131D7FF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183-5D1B-471A-8F9D-C6D8A6D5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6B70-7472-4F77-87B3-B9D643D1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24EE3-2A79-457B-B0D6-391CA531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6CAC3-57F2-4230-AC90-1617F58C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25A88-F561-4AD0-B16A-76F86BB6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E8DB-620B-4F60-8F57-7A7EBF06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2B0E2-3F98-4E0F-B5FA-34968E7C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A9E4-A146-4B4F-80BC-4415C905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5A0E3-5A59-4F57-95D8-9CFC5DC7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F340-46DA-4EA3-BF5D-C765495D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0990-87C8-4927-8060-71AB2C32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9A5-9D11-44A9-907D-99D1F3F2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BCBB0-1647-440A-9D45-39CA452C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04BDE-D9F8-43A8-9A76-EBB540D4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5B91E-918C-41E2-91F9-5C6E8ACB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1553F-ABD9-4566-92D4-5D2AE854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8424-2AE9-4EB9-862F-FDC61B2C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E3291-C462-4DC4-B5CD-BE21A1B6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7EF21-94C5-4337-B085-D5C881DF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6AC8-0605-4896-B0E6-8A947F84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1ECD0-BF96-4789-822E-D78B3D4B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FAADC-F82A-4765-BF8F-7AB8985D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FDC-DBC2-4C1A-AFBD-48205550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FAE92-8D6A-460F-A5BC-B22D6FA8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D6DB5-F5F9-4C79-BA6E-3043758E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ECCC2-0C42-411A-B055-B73C0756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9B523-3188-4C87-B1B5-65AA144D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FD93-122D-48BD-9E0A-E8DF028B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C1F8E-EE29-4028-A2B2-BB61DC93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371F5-B568-41B3-B803-3503E2E3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6375B-7D47-4FEB-A4E1-EDAA0B4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237DE-D1E2-4D96-9355-324EAB96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7DD32-50B0-48DD-97F4-C4DD8D50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0F6-1AF0-48A3-AF76-1B6261AA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D1955-F8F5-4085-BC49-913AB19C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7096F-3B55-4675-A430-7291AD43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C320C-F36F-4BA1-86A9-4ECE9CB6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4791C-108B-42B3-8D55-3B14680B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23C86-392E-4F1B-A34A-75CD8CD6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1754A-98DC-48D2-BE00-719D0127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D0279-C757-481B-9DD5-12F7EB76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8A550-E2C1-4E50-8042-954EA41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D1D7-77C9-4ACF-A388-36A0D5E7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50C20-608C-4FE4-9700-38AAEFC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703-268E-4FB6-8C60-D5B0F76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AEA41-9416-4C54-8C8E-1561847A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7E876-AB6B-4B44-96AA-A98E96B5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4A2C1-6635-40BC-8681-38E83CF9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A5FD5-4AF4-4B60-9BA8-08197555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0C8F2-70E9-467D-A278-E00BC602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3CF0-201F-4B5A-94F6-22E2B444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16F2E-EFC1-4C01-86DD-18760C29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E01DC-4252-40D1-A276-35E1D490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4D830-8441-42F5-B943-F8065D48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A4F08-AE42-48A8-97D2-E9119E46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ED9-07D5-42B0-B37C-E087A571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01296-DC82-486D-B580-BFAC3D2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2D3EC-FB66-4D18-B738-F50DB851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94595-8E34-4C22-9621-E778556D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2E7C9-B7A3-430F-9EF5-602C3103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DCC19-D79A-45A7-83A4-9F230C69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DD077-FA2B-4327-A111-F9821898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176E4-65C6-4027-AE99-B46C0555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B8CCF-C699-4901-A0F5-DD4E597A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E178A-E75A-43E3-A681-4FC4704C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1E10A-9175-468A-BF06-B1C23B5F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39D-5AC9-46B2-8869-E126A0C1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116E1-8796-4B06-BCDF-4EEF568A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92B35-28ED-443D-8D43-875680C9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98C9B-5DE8-4F86-8D65-F8D519B0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492F4-CE8B-471B-9301-FA2F7ADC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3F1A8-723D-4D39-9CCF-4031EB1F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1F50D-4122-4911-8DA3-C59865A5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82FC5-6C21-40EE-8D9F-6DD234E3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0C9D-978D-45E0-B880-C2DD09BC4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7741-2E0D-43D5-A413-9F410C5F0C93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8FD5-E58C-4B0F-A545-C12788DD2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13EA-F432-4196-A99F-BEDA00C73E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4E59-1332-4336-BA26-A3457EA87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7291-9348-4A27-9BED-372751B046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E1F7-3D7F-4424-B49B-14F89212E6DF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E43E-202E-4614-B46D-C07BFE505F8D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1547640"/>
            <a:ext cx="8242560" cy="390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65520" y="262080"/>
            <a:ext cx="4651560" cy="43956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5148000" y="1988640"/>
            <a:ext cx="39956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50021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icture 4"/>
          <p:cNvSpPr/>
          <p:nvPr/>
        </p:nvSpPr>
        <p:spPr>
          <a:xfrm>
            <a:off x="324000" y="836640"/>
            <a:ext cx="3671640" cy="504036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http://im3-tub-ru.yandex.net/i?id=55416770-16-72&amp;n=21"/>
          <p:cNvPicPr/>
          <p:nvPr/>
        </p:nvPicPr>
        <p:blipFill>
          <a:blip r:embed="rId2"/>
          <a:stretch/>
        </p:blipFill>
        <p:spPr>
          <a:xfrm>
            <a:off x="0" y="476280"/>
            <a:ext cx="4716360" cy="6351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1"/>
          <p:cNvSpPr/>
          <p:nvPr/>
        </p:nvSpPr>
        <p:spPr>
          <a:xfrm>
            <a:off x="1116000" y="2205000"/>
            <a:ext cx="70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68360" y="829080"/>
            <a:ext cx="80643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776"/>
                </a:solidFill>
                <a:latin typeface="Times New Roman"/>
                <a:ea typeface="Calibri"/>
              </a:rPr>
              <a:t>                </a:t>
            </a:r>
            <a:r>
              <a:rPr b="1" lang="ru-RU" sz="5400" spc="-1" strike="noStrike">
                <a:solidFill>
                  <a:srgbClr val="002776"/>
                </a:solidFill>
                <a:latin typeface="Times New Roman"/>
                <a:ea typeface="Calibri"/>
              </a:rPr>
              <a:t>Тропарь </a:t>
            </a:r>
            <a:r>
              <a:rPr b="1" lang="ru-RU" sz="5400" spc="-1" strike="noStrike">
                <a:solidFill>
                  <a:srgbClr val="002776"/>
                </a:solidFill>
                <a:latin typeface="Arial"/>
                <a:ea typeface="Calibri"/>
              </a:rPr>
              <a:t>–</a:t>
            </a:r>
            <a:r>
              <a:rPr b="1" lang="ru-RU" sz="5400" spc="-1" strike="noStrike">
                <a:solidFill>
                  <a:srgbClr val="002776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большое произведение в че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вятого или церковного празд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171360" y="115920"/>
            <a:ext cx="8728200" cy="12366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1834920" y="7389360"/>
            <a:ext cx="8281800" cy="19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Rectangle 4"/>
          <p:cNvSpPr/>
          <p:nvPr/>
        </p:nvSpPr>
        <p:spPr>
          <a:xfrm rot="20463000">
            <a:off x="539280" y="2420640"/>
            <a:ext cx="2592360" cy="576360"/>
          </a:xfrm>
          <a:prstGeom prst="rect">
            <a:avLst/>
          </a:prstGeom>
          <a:solidFill>
            <a:srgbClr val="00ff00"/>
          </a:solidFill>
          <a:ln w="381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ОИ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 rot="20142600">
            <a:off x="2987640" y="2492280"/>
            <a:ext cx="259236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 rot="21058800">
            <a:off x="5940000" y="1989000"/>
            <a:ext cx="2889360" cy="627120"/>
          </a:xfrm>
          <a:prstGeom prst="rect">
            <a:avLst/>
          </a:prstGeom>
          <a:solidFill>
            <a:srgbClr val="e400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Р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 rot="20142600">
            <a:off x="971640" y="3789000"/>
            <a:ext cx="1562040" cy="5763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1"/>
          <p:cNvSpPr/>
          <p:nvPr/>
        </p:nvSpPr>
        <p:spPr>
          <a:xfrm rot="20142600">
            <a:off x="6227640" y="3284640"/>
            <a:ext cx="2592360" cy="576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 rot="20142600">
            <a:off x="3419640" y="3860640"/>
            <a:ext cx="2592360" cy="57636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 rot="20744400">
            <a:off x="4932360" y="4868640"/>
            <a:ext cx="2592360" cy="5760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"/>
          <p:cNvSpPr/>
          <p:nvPr/>
        </p:nvSpPr>
        <p:spPr>
          <a:xfrm rot="21184200">
            <a:off x="1908000" y="5876640"/>
            <a:ext cx="2592720" cy="576360"/>
          </a:xfrm>
          <a:prstGeom prst="rect">
            <a:avLst/>
          </a:prstGeom>
          <a:solidFill>
            <a:srgbClr val="e400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5724360" y="5877000"/>
            <a:ext cx="2592720" cy="57636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КО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7"/>
          <p:cNvSpPr/>
          <p:nvPr/>
        </p:nvSpPr>
        <p:spPr>
          <a:xfrm rot="21184200">
            <a:off x="539640" y="4941360"/>
            <a:ext cx="2592360" cy="57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6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-6480" y="-171360"/>
            <a:ext cx="5767560" cy="403704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3" descr=""/>
          <p:cNvPicPr/>
          <p:nvPr/>
        </p:nvPicPr>
        <p:blipFill>
          <a:blip r:embed="rId2"/>
          <a:stretch/>
        </p:blipFill>
        <p:spPr>
          <a:xfrm>
            <a:off x="1305000" y="3998880"/>
            <a:ext cx="7607160" cy="28656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195480" y="2350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0" descr="лик-матери"/>
          <p:cNvPicPr/>
          <p:nvPr/>
        </p:nvPicPr>
        <p:blipFill>
          <a:blip r:embed="rId3"/>
          <a:stretch/>
        </p:blipFill>
        <p:spPr>
          <a:xfrm>
            <a:off x="5867280" y="404640"/>
            <a:ext cx="3276720" cy="3265560"/>
          </a:xfrm>
          <a:prstGeom prst="rect">
            <a:avLst/>
          </a:prstGeom>
          <a:ln w="0">
            <a:noFill/>
          </a:ln>
        </p:spPr>
      </p:pic>
      <p:sp>
        <p:nvSpPr>
          <p:cNvPr id="350" name="Picture 11"/>
          <p:cNvSpPr/>
          <p:nvPr/>
        </p:nvSpPr>
        <p:spPr>
          <a:xfrm rot="600000">
            <a:off x="4282560" y="2833200"/>
            <a:ext cx="41054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566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d2d2d2"/>
          </a:solidFill>
          <a:ln w="9360">
            <a:solidFill>
              <a:srgbClr val="c3dd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«Ave Maria»– лампада тиха,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В сердце готовы четыре стиха: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Чистая дева, скорбящая мать,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Душу проникла твоя благодать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Неба царица, не в блеске лучей,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В тихом предстань сновидении ей!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Ave Maria – лампада тиха,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Я прошептал все четыре стиха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49e"/>
                </a:solidFill>
                <a:latin typeface="Century Gothic"/>
              </a:rPr>
              <a:t>                                                                                 </a:t>
            </a:r>
            <a:r>
              <a:rPr b="0" lang="ru-RU" sz="2600" spc="-1" strike="noStrike">
                <a:solidFill>
                  <a:srgbClr val="00349e"/>
                </a:solidFill>
                <a:latin typeface="Century Gothic"/>
              </a:rPr>
              <a:t>Афанасий Фет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www.sinergia-lib.ru/userfiles/image/kompozitor/shubert.jpg"/>
          <p:cNvPicPr/>
          <p:nvPr/>
        </p:nvPicPr>
        <p:blipFill>
          <a:blip r:embed="rId1"/>
          <a:stretch/>
        </p:blipFill>
        <p:spPr>
          <a:xfrm>
            <a:off x="1979640" y="1341360"/>
            <a:ext cx="4968720" cy="5300640"/>
          </a:xfrm>
          <a:prstGeom prst="rect">
            <a:avLst/>
          </a:prstGeom>
          <a:ln w="0">
            <a:noFill/>
          </a:ln>
        </p:spPr>
      </p:pic>
      <p:pic>
        <p:nvPicPr>
          <p:cNvPr id="354" name="Заголовок 1" descr=""/>
          <p:cNvPicPr/>
          <p:nvPr/>
        </p:nvPicPr>
        <p:blipFill>
          <a:blip r:embed="rId2"/>
          <a:stretch/>
        </p:blipFill>
        <p:spPr>
          <a:xfrm>
            <a:off x="450720" y="139680"/>
            <a:ext cx="8242560" cy="153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3486240" y="73080"/>
            <a:ext cx="5207040" cy="1487520"/>
          </a:xfrm>
          <a:prstGeom prst="rect">
            <a:avLst/>
          </a:prstGeom>
          <a:ln w="0">
            <a:noFill/>
          </a:ln>
        </p:spPr>
      </p:pic>
      <p:pic>
        <p:nvPicPr>
          <p:cNvPr id="356" name="Maria Callas - Ave Maria (mp3ostrov.com).mp3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ttp://www.repro-tableaux.com/kunst/raffael_eigntl_rafaello_santi/297_v1.jpg"/>
          <p:cNvPicPr/>
          <p:nvPr/>
        </p:nvPicPr>
        <p:blipFill>
          <a:blip r:embed="rId3"/>
          <a:stretch/>
        </p:blipFill>
        <p:spPr>
          <a:xfrm>
            <a:off x="250920" y="1125360"/>
            <a:ext cx="4681440" cy="547236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4932360" y="1989000"/>
            <a:ext cx="374328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Рафаэль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н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yarsky"/>
              </a:rPr>
              <a:t>Сикстинская Мадон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75936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1494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http://www.berix.ru/uploads/gorod/txt/4675-s.jpg"/>
          <p:cNvPicPr/>
          <p:nvPr/>
        </p:nvPicPr>
        <p:blipFill>
          <a:blip r:embed="rId2"/>
          <a:stretch/>
        </p:blipFill>
        <p:spPr>
          <a:xfrm>
            <a:off x="1547640" y="1341360"/>
            <a:ext cx="6120000" cy="5086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4133880" y="390600"/>
            <a:ext cx="4724280" cy="1457280"/>
          </a:xfrm>
          <a:prstGeom prst="rect">
            <a:avLst/>
          </a:prstGeom>
          <a:ln w="0">
            <a:noFill/>
          </a:ln>
        </p:spPr>
      </p:pic>
      <p:pic>
        <p:nvPicPr>
          <p:cNvPr id="362" name="Записанный звук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eb47f05b56341a.mp3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06"/>
          <p:cNvPicPr/>
          <p:nvPr/>
        </p:nvPicPr>
        <p:blipFill>
          <a:blip r:embed="rId4"/>
          <a:stretch/>
        </p:blipFill>
        <p:spPr>
          <a:xfrm>
            <a:off x="0" y="333360"/>
            <a:ext cx="4716360" cy="6524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65" name="Прямоугольник 5"/>
          <p:cNvSpPr/>
          <p:nvPr/>
        </p:nvSpPr>
        <p:spPr>
          <a:xfrm>
            <a:off x="4788000" y="298296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bd3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5bd3"/>
                </a:solidFill>
                <a:latin typeface="Arial"/>
              </a:rPr>
              <a:t>В. Васнец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yarsky"/>
              </a:rPr>
              <a:t>«Богомате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yarsky"/>
              </a:rPr>
              <a:t>с младенц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6099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9" descr="i"/>
          <p:cNvPicPr/>
          <p:nvPr/>
        </p:nvPicPr>
        <p:blipFill>
          <a:blip r:embed="rId1"/>
          <a:stretch/>
        </p:blipFill>
        <p:spPr>
          <a:xfrm>
            <a:off x="324000" y="1052640"/>
            <a:ext cx="3552840" cy="46083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0" y="333360"/>
            <a:ext cx="42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776"/>
                </a:solidFill>
                <a:latin typeface="Arial"/>
              </a:rPr>
              <a:t>«Умил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3"/>
          <p:cNvPicPr/>
          <p:nvPr/>
        </p:nvPicPr>
        <p:blipFill>
          <a:blip r:embed="rId2"/>
          <a:stretch/>
        </p:blipFill>
        <p:spPr>
          <a:xfrm>
            <a:off x="4856040" y="1268280"/>
            <a:ext cx="3571920" cy="453708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4"/>
          <p:cNvSpPr/>
          <p:nvPr/>
        </p:nvSpPr>
        <p:spPr>
          <a:xfrm flipH="1">
            <a:off x="3491640" y="573732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002776"/>
                </a:solidFill>
                <a:latin typeface="Arial"/>
              </a:rPr>
              <a:t>Неувядаемый цв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4"/>
          <p:cNvPicPr/>
          <p:nvPr/>
        </p:nvPicPr>
        <p:blipFill>
          <a:blip r:embed="rId1"/>
          <a:stretch/>
        </p:blipFill>
        <p:spPr>
          <a:xfrm>
            <a:off x="324000" y="1125360"/>
            <a:ext cx="4103640" cy="547236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0" y="40464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776"/>
                </a:solidFill>
                <a:latin typeface="Arial"/>
              </a:rPr>
              <a:t>«Милостлив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http://www.zyorna.ru/userfiles/opisanie_icon/vsehskorbradost.jpg"/>
          <p:cNvPicPr/>
          <p:nvPr/>
        </p:nvPicPr>
        <p:blipFill>
          <a:blip r:embed="rId2"/>
          <a:stretch/>
        </p:blipFill>
        <p:spPr>
          <a:xfrm>
            <a:off x="4788000" y="1484280"/>
            <a:ext cx="4068720" cy="496908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 flipH="1">
            <a:off x="4788000" y="18900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49e"/>
                </a:solidFill>
                <a:latin typeface="Arial"/>
              </a:rPr>
              <a:t>«Всех скорбящих рад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7:19:36Z</dcterms:created>
  <dc:creator>***</dc:creator>
  <dc:description/>
  <dc:language>en-US</dc:language>
  <cp:lastModifiedBy>1</cp:lastModifiedBy>
  <dcterms:modified xsi:type="dcterms:W3CDTF">2015-11-18T17:14:21Z</dcterms:modified>
  <cp:revision>33</cp:revision>
  <dc:subject/>
  <dc:title>Можем ли мы увидеть музыку? Тема урока:»Образ матери в музыке</dc:title>
</cp:coreProperties>
</file>