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68F-9F3F-4585-B6CD-66FBD31F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69C-C6E1-4B84-9B27-810B9E2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ECA-9343-4628-8675-0C08D839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8D0-57C4-4B6C-BA7E-38E00F52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BE8D-5237-475A-AE3B-9BFC9D89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14B4-90CD-4F27-B175-F19640D0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44C1-644B-458C-85CC-3EE0E9A4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F0CB-9D73-454B-82DE-DA0D8FEE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97C-5300-47F5-975A-B4BE6175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EB05-881A-487B-ADE0-DD5F24D9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C200-40D8-40C5-95BC-3346C20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341-3C8E-4FBE-BDB3-ADCF1541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B6A7-E0C7-4C85-83DD-AFC28DC5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6FC6-9F84-4B47-B28D-9D82B141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A333-47B4-4C8D-AE9A-FA339127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66CA-BCAC-40D7-A649-12C33E60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AA23-50A1-4311-B985-F6837B65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3725-7CD1-4531-8BB7-60EB10F6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9947-DF2B-4B05-ABD5-9ED5D5BB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607C-0503-4A8B-97F9-06464C7A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DD48-EFF8-4440-8F6D-CE4D1EB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03DE-5ACE-4677-8169-3A3381D0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33B-00BA-4081-98EF-B20C7BF9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AD4A-8285-42CF-9E44-A93BD33E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BE11-9BFC-4791-9899-C9F64C78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4AA0-1E98-480A-862B-AD022509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287B1-A486-468E-AF4C-8B88B8D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8BC0-7F18-4B94-B8DC-FC133417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642D-378C-47ED-9DC0-121FCF07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1905-6E6D-42E6-BAE1-6B9AD3D5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3382-746E-492B-AF1A-8388CC3F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1424-25FD-47DF-B555-AA3D2AFC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A0E8-7F2C-4ADF-A311-FD02EFC1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6F5-FD67-4486-8AC7-ED07F264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185D-9BF1-483E-8424-E9D0987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2983-FC48-491C-87A1-F6FA540F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AF29-0224-4417-9CC5-55BBF51D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9FE7-8C94-469F-B0D3-D574668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A8B27-07BD-4A2C-AB06-470D351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0F1E-E100-402C-912A-C882C52F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BB31-44EF-4FF2-9429-44F99893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0A16-5780-4F61-AF65-0875C630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37A1A-0D08-453F-9DC1-25DEB3BB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078E8-B687-4CC8-AA62-BFC8C96E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AA1-BFB5-4CD0-9B9D-FC7BF094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DCDB-EA45-44E8-B2A1-97FF27AA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04CA-DAF1-4069-9026-728EEF23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A3496-E741-413A-B797-887FCCF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DD2DD-E116-4FF1-9B2D-D7F01C56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E6845-34E3-47AE-87A5-40E3982C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AF23-4DC2-4AC5-91CC-8A26E6C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715C-3EF1-4B08-8DFB-78CE9340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9759A-E348-4387-BEED-B1F5FCEB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B801-B97F-4C22-83FA-2C977753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7A61D-71EC-4032-B6E6-98848677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8AF-EC98-4D72-8A01-B3A6C362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0E32-E818-4A59-B42C-C101CE47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E9F25-6829-4B4D-93DD-8E24A578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1E63-145E-4505-B8E2-38659116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FAA0-572E-4081-A57A-BE18C043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1B545-7ECB-4DDF-88A5-C1AAA8D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4784-3A3B-4054-9691-3D3AECDC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DCC1-F0B8-4C12-9E36-76899E81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F6D31-B943-4D5E-BFAB-F05B02A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47D53-0DB1-4285-868F-775451AC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C025-3117-49F4-B820-C90C67D9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762-99BD-4C92-9199-4B986E16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7AE53-7F8A-47D0-8F3E-CB31AB54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6F970-1218-4D80-9BB8-BFD2A2A8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FAAD-EB25-4443-B7E4-69149979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8EB21-B3BB-42E4-A5FF-C7CC6BAE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66874-D077-44C7-91BC-41EDA87E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D6037-4BB7-4695-876D-9DB59C03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C01C9-0123-4CAA-A979-B3A6E44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9BD42-1481-4A98-8198-DD11B589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5C72F-0334-4A25-B5F9-DC58EA8F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F738-0F7D-42BF-8984-7A02B9A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2C1-FB4F-4ADF-8DEC-24C1FA46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F4969-B31E-46CE-94FA-36AEE60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FDA1-5D8F-454A-BCA4-E770C22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F5F41-3163-4FB8-91E7-1F6E78EA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B549A-8434-49BD-B41C-C42766F5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A9BF6-3B41-46CC-BDBE-3C84D02D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038B-C8B0-4EC4-AFF4-4666B747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81AB-AD0A-472A-8ED3-30B2B9D6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8122-8C67-4D5B-8F71-83B9AD9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68EB7-88F5-4880-AB05-2D4DEAE4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2809D-4598-4A2F-B8B3-7C8F86A3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7D7-346A-4A5D-AAE7-BCD4A30A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EF68-0FF1-4489-A6F0-1AC41696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4A975-88AA-4631-81D3-76E174F9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F43D-356C-4C0E-9A5F-35C8034B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F010B-BD41-413F-B92B-F55932E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46829-9CCD-4909-87CB-1B1A08CB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D0735-5DE3-4111-8733-17C3D423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A3E5B-80C8-4641-8C7B-E0241630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8786-6BA5-42F9-A526-2BBA4D4FF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AC5-B4DA-4407-BAAB-273BD428D8E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4B88-C17C-4065-9FBA-4088839FA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CA88-3F34-4009-B850-4F3FB2657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BDD2-B393-47E1-B67A-0D45FD634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72D1-0593-43F7-9FC3-15580286B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1DC-E8F2-4707-A7C9-B454025F35F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693E-76E7-4041-A478-D07BA47C829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1547640"/>
            <a:ext cx="8242560" cy="390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65520" y="262080"/>
            <a:ext cx="4651560" cy="43956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5148000" y="1988640"/>
            <a:ext cx="3995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icture 4"/>
          <p:cNvSpPr/>
          <p:nvPr/>
        </p:nvSpPr>
        <p:spPr>
          <a:xfrm>
            <a:off x="324000" y="836640"/>
            <a:ext cx="3671640" cy="504036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http://im3-tub-ru.yandex.net/i?id=55416770-16-72&amp;n=21"/>
          <p:cNvPicPr/>
          <p:nvPr/>
        </p:nvPicPr>
        <p:blipFill>
          <a:blip r:embed="rId2"/>
          <a:stretch/>
        </p:blipFill>
        <p:spPr>
          <a:xfrm>
            <a:off x="0" y="476280"/>
            <a:ext cx="4716360" cy="635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"/>
          <p:cNvSpPr/>
          <p:nvPr/>
        </p:nvSpPr>
        <p:spPr>
          <a:xfrm>
            <a:off x="1116000" y="2205000"/>
            <a:ext cx="70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68360" y="829080"/>
            <a:ext cx="80643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776"/>
                </a:solidFill>
                <a:latin typeface="Times New Roman"/>
                <a:ea typeface="Calibri"/>
              </a:rPr>
              <a:t>                </a:t>
            </a:r>
            <a:r>
              <a:rPr b="1" lang="ru-RU" sz="5400" spc="-1" strike="noStrike">
                <a:solidFill>
                  <a:srgbClr val="002776"/>
                </a:solidFill>
                <a:latin typeface="Times New Roman"/>
                <a:ea typeface="Calibri"/>
              </a:rPr>
              <a:t>Тропарь </a:t>
            </a:r>
            <a:r>
              <a:rPr b="1" lang="ru-RU" sz="5400" spc="-1" strike="noStrike">
                <a:solidFill>
                  <a:srgbClr val="002776"/>
                </a:solidFill>
                <a:latin typeface="Arial"/>
                <a:ea typeface="Calibri"/>
              </a:rPr>
              <a:t>–</a:t>
            </a:r>
            <a:r>
              <a:rPr b="1" lang="ru-RU" sz="5400" spc="-1" strike="noStrike">
                <a:solidFill>
                  <a:srgbClr val="002776"/>
                </a:solidFill>
                <a:latin typeface="Times New Roman"/>
                <a:ea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большое произведение в че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вятого или церковного празд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71360" y="115920"/>
            <a:ext cx="8728200" cy="12366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834920" y="7389360"/>
            <a:ext cx="828180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Rectangle 4"/>
          <p:cNvSpPr/>
          <p:nvPr/>
        </p:nvSpPr>
        <p:spPr>
          <a:xfrm rot="20463000">
            <a:off x="539280" y="2420640"/>
            <a:ext cx="2592360" cy="576360"/>
          </a:xfrm>
          <a:prstGeom prst="rect">
            <a:avLst/>
          </a:prstGeom>
          <a:solidFill>
            <a:srgbClr val="00ff00"/>
          </a:solidFill>
          <a:ln w="381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О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 rot="20142600">
            <a:off x="2987640" y="2492280"/>
            <a:ext cx="259236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 rot="21058800">
            <a:off x="5940000" y="1989000"/>
            <a:ext cx="2889360" cy="627120"/>
          </a:xfrm>
          <a:prstGeom prst="rect">
            <a:avLst/>
          </a:prstGeom>
          <a:solidFill>
            <a:srgbClr val="e400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Р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 rot="20142600">
            <a:off x="971640" y="3789000"/>
            <a:ext cx="1562040" cy="5763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 rot="20142600">
            <a:off x="6227640" y="3284640"/>
            <a:ext cx="2592360" cy="57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 rot="20142600">
            <a:off x="3419640" y="3860640"/>
            <a:ext cx="2592360" cy="57636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 rot="20744400">
            <a:off x="4932360" y="4868640"/>
            <a:ext cx="2592360" cy="5760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 rot="21184200">
            <a:off x="1908000" y="5876640"/>
            <a:ext cx="2592720" cy="576360"/>
          </a:xfrm>
          <a:prstGeom prst="rect">
            <a:avLst/>
          </a:prstGeom>
          <a:solidFill>
            <a:srgbClr val="e4005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5724360" y="5877000"/>
            <a:ext cx="2592720" cy="57636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7"/>
          <p:cNvSpPr/>
          <p:nvPr/>
        </p:nvSpPr>
        <p:spPr>
          <a:xfrm rot="21184200">
            <a:off x="539640" y="4941360"/>
            <a:ext cx="2592360" cy="57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6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-6480" y="-171360"/>
            <a:ext cx="5767560" cy="403704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3" descr=""/>
          <p:cNvPicPr/>
          <p:nvPr/>
        </p:nvPicPr>
        <p:blipFill>
          <a:blip r:embed="rId2"/>
          <a:stretch/>
        </p:blipFill>
        <p:spPr>
          <a:xfrm>
            <a:off x="1305000" y="3998880"/>
            <a:ext cx="7607160" cy="28656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5"/>
          <p:cNvSpPr/>
          <p:nvPr/>
        </p:nvSpPr>
        <p:spPr>
          <a:xfrm>
            <a:off x="195480" y="235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0" descr="лик-матери"/>
          <p:cNvPicPr/>
          <p:nvPr/>
        </p:nvPicPr>
        <p:blipFill>
          <a:blip r:embed="rId3"/>
          <a:stretch/>
        </p:blipFill>
        <p:spPr>
          <a:xfrm>
            <a:off x="5867280" y="404640"/>
            <a:ext cx="3276720" cy="3265560"/>
          </a:xfrm>
          <a:prstGeom prst="rect">
            <a:avLst/>
          </a:prstGeom>
          <a:ln w="0">
            <a:noFill/>
          </a:ln>
        </p:spPr>
      </p:pic>
      <p:sp>
        <p:nvSpPr>
          <p:cNvPr id="350" name="Picture 11"/>
          <p:cNvSpPr/>
          <p:nvPr/>
        </p:nvSpPr>
        <p:spPr>
          <a:xfrm rot="600000">
            <a:off x="4282560" y="2833200"/>
            <a:ext cx="41054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566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d2d2d2"/>
          </a:solidFill>
          <a:ln w="9360">
            <a:solidFill>
              <a:srgbClr val="c3dd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«Ave Maria»– лампада тиха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В сердце готовы четыре стиха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Чистая дева, скорбящая мать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Душу проникла твоя благодать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Неба царица, не в блеске лучей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В тихом предстань сновидении ей!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Ave Maria – лампада тиха,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               </a:t>
            </a:r>
            <a:r>
              <a:rPr b="1" lang="ru-RU" sz="2600" spc="-1" strike="noStrike">
                <a:solidFill>
                  <a:srgbClr val="00349e"/>
                </a:solidFill>
                <a:latin typeface="Century Gothic"/>
              </a:rPr>
              <a:t>Я прошептал все четыре стиха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49e"/>
                </a:solidFill>
                <a:latin typeface="Century Gothic"/>
              </a:rPr>
              <a:t>                                                                                 </a:t>
            </a:r>
            <a:r>
              <a:rPr b="0" lang="ru-RU" sz="2600" spc="-1" strike="noStrike">
                <a:solidFill>
                  <a:srgbClr val="00349e"/>
                </a:solidFill>
                <a:latin typeface="Century Gothic"/>
              </a:rPr>
              <a:t>Афанасий Фет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www.sinergia-lib.ru/userfiles/image/kompozitor/shubert.jpg"/>
          <p:cNvPicPr/>
          <p:nvPr/>
        </p:nvPicPr>
        <p:blipFill>
          <a:blip r:embed="rId1"/>
          <a:stretch/>
        </p:blipFill>
        <p:spPr>
          <a:xfrm>
            <a:off x="1979640" y="1341360"/>
            <a:ext cx="4968720" cy="5300640"/>
          </a:xfrm>
          <a:prstGeom prst="rect">
            <a:avLst/>
          </a:prstGeom>
          <a:ln w="0">
            <a:noFill/>
          </a:ln>
        </p:spPr>
      </p:pic>
      <p:pic>
        <p:nvPicPr>
          <p:cNvPr id="354" name="Заголовок 1" descr=""/>
          <p:cNvPicPr/>
          <p:nvPr/>
        </p:nvPicPr>
        <p:blipFill>
          <a:blip r:embed="rId2"/>
          <a:stretch/>
        </p:blipFill>
        <p:spPr>
          <a:xfrm>
            <a:off x="450720" y="139680"/>
            <a:ext cx="8242560" cy="153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3486240" y="73080"/>
            <a:ext cx="5207040" cy="1487520"/>
          </a:xfrm>
          <a:prstGeom prst="rect">
            <a:avLst/>
          </a:prstGeom>
          <a:ln w="0">
            <a:noFill/>
          </a:ln>
        </p:spPr>
      </p:pic>
      <p:pic>
        <p:nvPicPr>
          <p:cNvPr id="356" name="Maria Callas - Ave Maria (mp3ostrov.com).mp3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www.repro-tableaux.com/kunst/raffael_eigntl_rafaello_santi/297_v1.jpg"/>
          <p:cNvPicPr/>
          <p:nvPr/>
        </p:nvPicPr>
        <p:blipFill>
          <a:blip r:embed="rId3"/>
          <a:stretch/>
        </p:blipFill>
        <p:spPr>
          <a:xfrm>
            <a:off x="250920" y="1125360"/>
            <a:ext cx="4681440" cy="547236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4932360" y="1989000"/>
            <a:ext cx="374328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афаэль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Boyarsky"/>
              </a:rPr>
              <a:t>Сикстинская Мадон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75936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494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http://www.berix.ru/uploads/gorod/txt/4675-s.jpg"/>
          <p:cNvPicPr/>
          <p:nvPr/>
        </p:nvPicPr>
        <p:blipFill>
          <a:blip r:embed="rId2"/>
          <a:stretch/>
        </p:blipFill>
        <p:spPr>
          <a:xfrm>
            <a:off x="1547640" y="1341360"/>
            <a:ext cx="6120000" cy="508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133880" y="390600"/>
            <a:ext cx="4724280" cy="1457280"/>
          </a:xfrm>
          <a:prstGeom prst="rect">
            <a:avLst/>
          </a:prstGeom>
          <a:ln w="0">
            <a:noFill/>
          </a:ln>
        </p:spPr>
      </p:pic>
      <p:pic>
        <p:nvPicPr>
          <p:cNvPr id="362" name="Записанный звук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3" name="eb47f05b56341a.mp3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06"/>
          <p:cNvPicPr/>
          <p:nvPr/>
        </p:nvPicPr>
        <p:blipFill>
          <a:blip r:embed="rId4"/>
          <a:stretch/>
        </p:blipFill>
        <p:spPr>
          <a:xfrm>
            <a:off x="0" y="333360"/>
            <a:ext cx="4716360" cy="6524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65" name="Прямоугольник 5"/>
          <p:cNvSpPr/>
          <p:nvPr/>
        </p:nvSpPr>
        <p:spPr>
          <a:xfrm>
            <a:off x="4788000" y="298296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bd3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5bd3"/>
                </a:solidFill>
                <a:latin typeface="Arial"/>
              </a:rPr>
              <a:t>В. Васне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yarsky"/>
              </a:rPr>
              <a:t>«Богоматер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yarsky"/>
              </a:rPr>
              <a:t>с младенц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6099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" descr="i"/>
          <p:cNvPicPr/>
          <p:nvPr/>
        </p:nvPicPr>
        <p:blipFill>
          <a:blip r:embed="rId1"/>
          <a:stretch/>
        </p:blipFill>
        <p:spPr>
          <a:xfrm>
            <a:off x="324000" y="1052640"/>
            <a:ext cx="3552840" cy="46083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0" y="33336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776"/>
                </a:solidFill>
                <a:latin typeface="Arial"/>
              </a:rPr>
              <a:t>«Умил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3"/>
          <p:cNvPicPr/>
          <p:nvPr/>
        </p:nvPicPr>
        <p:blipFill>
          <a:blip r:embed="rId2"/>
          <a:stretch/>
        </p:blipFill>
        <p:spPr>
          <a:xfrm>
            <a:off x="4856040" y="1268280"/>
            <a:ext cx="3571920" cy="453708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4"/>
          <p:cNvSpPr/>
          <p:nvPr/>
        </p:nvSpPr>
        <p:spPr>
          <a:xfrm flipH="1">
            <a:off x="3491640" y="57373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776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002776"/>
                </a:solidFill>
                <a:latin typeface="Arial"/>
              </a:rPr>
              <a:t>Неувядаемый цв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4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54723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0" y="40464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776"/>
                </a:solidFill>
                <a:latin typeface="Arial"/>
              </a:rPr>
              <a:t>«Милостлива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http://www.zyorna.ru/userfiles/opisanie_icon/vsehskorbradost.jpg"/>
          <p:cNvPicPr/>
          <p:nvPr/>
        </p:nvPicPr>
        <p:blipFill>
          <a:blip r:embed="rId2"/>
          <a:stretch/>
        </p:blipFill>
        <p:spPr>
          <a:xfrm>
            <a:off x="4788000" y="1484280"/>
            <a:ext cx="4068720" cy="496908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 flipH="1">
            <a:off x="4788000" y="18900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49e"/>
                </a:solidFill>
                <a:latin typeface="Arial"/>
              </a:rPr>
              <a:t>«Всех скорбящих рад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7:19:36Z</dcterms:created>
  <dc:creator>***</dc:creator>
  <dc:description/>
  <dc:language>en-US</dc:language>
  <cp:lastModifiedBy>1</cp:lastModifiedBy>
  <dcterms:modified xsi:type="dcterms:W3CDTF">2015-11-18T17:14:21Z</dcterms:modified>
  <cp:revision>33</cp:revision>
  <dc:subject/>
  <dc:title>Можем ли мы увидеть музыку? Тема урока:»Образ матери в музыке</dc:title>
</cp:coreProperties>
</file>