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2397-159B-41E2-B244-0E2CB486B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B4E7-9768-46CA-9AEB-F2DBFF00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236-3476-4604-AA00-CAFF313F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5F7-B95A-4009-875E-85C663AF9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70D0-4C46-4FE6-A24B-3C89AEA59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47E90-27B0-46DB-A1F3-739C33BC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055A2-03D4-4A83-8F9F-8BAD42CD9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5B5D-99E6-45C4-88EF-DB67320E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A1F9-7E84-46D8-9434-FB7FC3FC7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A550-CF94-47A5-9D16-7076A0E4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DE01-ED5C-440A-82CE-3A4994CE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3BEB-D481-49D6-A1EB-77121E5D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8293F-53FB-4FA8-8957-4B491725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1917A-DAD1-4194-8347-4E02D0F0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A275-ABC4-484E-9A81-249561A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33FA-2420-4933-94DD-91262ECA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349E-7774-4731-9421-90799735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E44E-5036-43C8-B7EC-E61B00FE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F161-4457-4D89-8483-3C5F1F51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F41-CF82-479E-953A-08D6EA61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5698-9BE3-40AB-8AF9-91852B4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5F0-79F3-4668-A59C-0268FD6A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267C-6E7D-4020-B2D3-A4005163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66CF-9E5E-41B7-9056-10EDDA17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376B1-D335-401F-BFEB-5A0ECD6DA2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81FE-65B9-4A77-8E51-598AD3A5EB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Дидактическая игра как средство развития речи дошкольник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77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предполо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849480" cy="295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933800" cy="4216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384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бесе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67080" cy="3105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267080" cy="311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4267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уктура дидактической игры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ая зада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гровая зада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гровые дей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авила иг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езультат (подведение итого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77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дактическая иг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буждает детей к общению друг с друг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пособствует закреплению навыков пользования инициативной речь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пособствует совершенствованию разговор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пособствует обогащению словар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оказывает влияние на формирование грамматического строя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дактическая игра — одна из форм обучаемого воздействия педагогов на ребенк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 то же время игра — основной вид деятельности детей. Таким образом, игра реализуе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бучающу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которую преследует педагог) и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грову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ради которой действует ребенок) це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путешеств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1796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68360" y="1486080"/>
            <a:ext cx="3657600" cy="537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500720" y="1341360"/>
            <a:ext cx="3816360" cy="268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572000" y="4076640"/>
            <a:ext cx="37450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87640" y="2349360"/>
            <a:ext cx="3927240" cy="419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55640" y="134136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716360" y="1413000"/>
            <a:ext cx="3919680" cy="48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55640" y="4221000"/>
            <a:ext cx="3600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844640"/>
            <a:ext cx="4267440" cy="4108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19640" y="1700280"/>
            <a:ext cx="3670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поруч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3927600" cy="4191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716360" y="1916280"/>
            <a:ext cx="42102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15:04:35Z</dcterms:created>
  <dc:creator>User</dc:creator>
  <dc:description/>
  <dc:language>en-US</dc:language>
  <cp:lastModifiedBy>User</cp:lastModifiedBy>
  <dcterms:modified xsi:type="dcterms:W3CDTF">2016-11-28T15:49:47Z</dcterms:modified>
  <cp:revision>2</cp:revision>
  <dc:subject/>
  <dc:title>Дидактическая игра как средство развития речи дошкольников</dc:title>
</cp:coreProperties>
</file>