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jpeg" ContentType="image/jpeg"/>
  <Override PartName="/ppt/media/image13.jpeg" ContentType="image/jpeg"/>
  <Override PartName="/ppt/media/image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6.jpeg" ContentType="image/jpeg"/>
  <Override PartName="/ppt/media/image10.png" ContentType="image/png"/>
  <Override PartName="/ppt/media/image18.jpeg" ContentType="image/jpeg"/>
  <Override PartName="/ppt/media/image17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487F-8DDF-479F-AAAB-BC56A146C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D9F-0B6D-4470-96FB-D0F87B24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89D8-0F70-4713-812A-B3C92E831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74CC-4143-4A43-A7B9-5CCCCE855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851F-12C0-4844-98F8-497CC910A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40F19-EA27-4E3C-B5A6-3E3241DB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CE6B6-0EC7-458B-B744-BCA12FB1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8FCDF-7E4B-4686-92F8-DC005ED9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13A4-33C7-488E-9693-0EAADEB0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3F7D-941C-48B9-B7F6-C37A1874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8ACE-3BDF-430E-909B-DE4B7BDA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082-A497-4EB7-9BF9-AF7F4BA63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C08B-F895-4611-9DDC-5728EF04D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9055C-E324-4BBA-BCE9-BDC98948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D96F5-DD2C-4CAE-954E-4EDCC4F3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712F8-7E9D-47AD-A7C7-5BE57B158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3BA6A-6E55-4908-B269-3AD2F1444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1C4-2BD4-417C-A7D5-842D85B13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9126-203A-4508-916C-79943942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2758-33C2-4D19-B4FE-D1DF07C32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F1C0-703D-4166-B609-8E9CAB01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F2F1-AFCF-445D-A0DE-653AB074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80A-4B4E-4013-B49C-8E5657E4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9D11-4DC2-4D04-B1B5-58B21D7F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80F1-67B7-4E41-A9F6-21DFAB4A00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6206-6C82-482D-B7D6-F8D6F90271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Дидактическая игра как средство развития речи дошкольников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55640" y="1268280"/>
            <a:ext cx="7777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ы предполож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11280" y="2060640"/>
            <a:ext cx="3849480" cy="2954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356000" y="184464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ы загад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4933800" cy="4216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384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ы бесед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4267080" cy="3105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427640" y="1628640"/>
            <a:ext cx="4267080" cy="311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556000" y="3573360"/>
            <a:ext cx="42670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труктура дидактической игры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дактическая задач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гровая задач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гровые действ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правила игр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езультат (подведение итогов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7777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дактическая игр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буждает детей к общению друг с друг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способствует закреплению навыков пользования инициативной речью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способствует совершенствованию разговорной реч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способствует обогащению словар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оказывает влияние на формирование грамматического строя язы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Дидактическая игра — одна из форм обучаемого воздействия педагогов на ребенка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В то же время игра — основной вид деятельности детей. Таким образом, игра реализует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обучающу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которую преследует педагог) и </a:t>
            </a: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игровую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ради которой действует ребенок) цел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ы путешеств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91796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468360" y="1486080"/>
            <a:ext cx="3657600" cy="5371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5"/>
          <a:stretch/>
        </p:blipFill>
        <p:spPr>
          <a:xfrm>
            <a:off x="4500720" y="1341360"/>
            <a:ext cx="3816360" cy="268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4572000" y="4076640"/>
            <a:ext cx="374508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838080" y="4076280"/>
            <a:ext cx="3927600" cy="20192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787640" y="2349360"/>
            <a:ext cx="3927240" cy="4191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755640" y="1341360"/>
            <a:ext cx="3809880" cy="2743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4716360" y="1413000"/>
            <a:ext cx="3919680" cy="489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755640" y="4221000"/>
            <a:ext cx="3600360" cy="22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3808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826920" y="1844640"/>
            <a:ext cx="4267440" cy="4108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5219640" y="1700280"/>
            <a:ext cx="36702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ы поруче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00000" y="2205000"/>
            <a:ext cx="3927600" cy="41911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917960" y="1904760"/>
            <a:ext cx="3927600" cy="41907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3816360" cy="4176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716360" y="1916280"/>
            <a:ext cx="42102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8T15:04:35Z</dcterms:created>
  <dc:creator>User</dc:creator>
  <dc:description/>
  <dc:language>en-US</dc:language>
  <cp:lastModifiedBy>User</cp:lastModifiedBy>
  <dcterms:modified xsi:type="dcterms:W3CDTF">2016-11-28T15:49:47Z</dcterms:modified>
  <cp:revision>2</cp:revision>
  <dc:subject/>
  <dc:title>Дидактическая игра как средство развития речи дошкольников</dc:title>
</cp:coreProperties>
</file>