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CC7-12B1-4F6B-8283-8C4CBDEB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67B-6BF9-4FC5-9629-64E0B412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18B-EFBA-429A-ADA4-EFE46502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5FC-D6CB-440C-BAFC-61F46B43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350A-9E0A-4D50-9B01-C19CE021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82F-B154-42F5-8A93-24BDB0D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7F8-C294-4434-B732-5C754D6E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7FA7-659C-48EA-A03D-59F27E20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9AD2-00F3-4D6C-BC60-D3A9581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83A1-1C73-4402-9C34-8F349978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3337-F3C5-4E02-8422-7F56B0DF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674-98DE-4F18-9279-6DA76479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A16-C9E0-4990-8097-06BCE8F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C527-3BB7-408A-8BE0-816E2C9D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905-B2D5-4A6F-88A5-4F470BC9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BBCB-D10E-4AA4-90D9-33DFED74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C111-173B-4B75-86B7-227685D7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0660-7608-4A1E-93FC-1A109EE2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F606-ED06-4309-A97A-D04F4442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2DD6-FC9E-4110-8A07-B7BDCC35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4B27-834A-4FF7-9204-0922F013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568D-D38A-47D5-B358-4E992111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678-22A5-474E-A14D-E1A20ACA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40F7-102F-42F7-AC81-A80312F8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A783-3F61-4891-96F7-0D8782F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8002-DBB9-4199-BFAB-9CDF6BE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05F5-A74F-4C37-8556-D755D62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263B-7778-4F39-AC29-DD8506CA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1A42-3F02-4FAC-AE56-7AD875C9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9457-E19D-434F-8A94-BC5EFE1B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3A32-B4BC-4601-A72F-266BFC08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F621C-7D0F-4F6B-8F59-33C1B80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CD951-0C68-4A2E-9763-9E4249D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890-18B0-4B34-B260-49A1D9FA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5D07-9778-427B-BF22-AAE4C68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9F58-388B-4639-B7D3-AB163522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9705-21A2-4078-BB38-D31EDAC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0C64-D61A-45E3-937C-8E6BAA29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A2103-7960-430F-B8CD-F9F6F777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3EA0-4869-46BA-BD99-83B0BAA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14C5-4B4D-4CF9-899A-0854B85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9001-074A-45A2-9319-6825C09B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0456-58FB-4DE3-A01E-CE1681FC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EEA5-E63A-4C24-AC84-CDD054E1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2F7-4595-4867-AFB6-3A0D963C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8CA5-9DEF-4D38-83FA-82ED5FE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0858-7AC6-4F93-AA42-7F6FA2F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4AF6-E7CB-4DF5-9623-3E3372C7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0D67-EE2F-4F09-B657-7448B4D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706C-2D52-41CD-928D-71B8267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00294-BF2F-4F4C-9C7C-6EE44F9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628A-8972-4747-B5AD-0965919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8F9C-20BF-433A-AFB7-E56FCBD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3F54-C305-47CC-B2E6-8E11020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D931-51FD-4F37-BF54-79D39E55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D49-C84E-4252-86E8-B8FA6BD1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77658-BC96-4297-AEFD-A08ADDB8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D1B-8DD6-43A8-BB4A-586C42B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2D8-D74C-4D19-B2A5-2374C71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D27-1651-4A7F-B9F7-4CC3155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16000" y="228600"/>
            <a:ext cx="11747520" cy="6387840"/>
            <a:chOff x="216000" y="228600"/>
            <a:chExt cx="11747520" cy="63878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16000" y="228600"/>
              <a:ext cx="11747520" cy="63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600"/>
              <a:ext cx="11721960" cy="63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469520" y="630684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E0C-45FC-44BA-815D-EEEC71CDF8CE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1244520" y="1219320"/>
            <a:ext cx="9690120" cy="4406760"/>
            <a:chOff x="1244520" y="1219320"/>
            <a:chExt cx="9690120" cy="44067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1244520" y="1219320"/>
              <a:ext cx="9690120" cy="44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3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0910-E616-48FA-99E0-EEAC85367BF9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1244520" y="1219320"/>
            <a:ext cx="9690120" cy="4406760"/>
            <a:chOff x="1244520" y="1219320"/>
            <a:chExt cx="9690120" cy="44067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1244520" y="1219320"/>
              <a:ext cx="9690120" cy="44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6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984F-B13C-4039-8F73-B6DF2236DC04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246240" y="237960"/>
            <a:ext cx="85309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93200" y="622260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F73C-DC81-4680-BB30-C91EC92B7E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96440" y="6227280"/>
            <a:ext cx="14637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2DC-4AF8-454A-8A09-330E34CF4B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aduga.name/?tag=&#1089;&#1083;&#1086;&#1074;&#1072;&#1088;&#1085;&#1099;&#1077;-&#1089;&#1083;&#1086;&#1074;&#1072;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Franklin Gothic Medium"/>
              </a:rPr>
              <a:t>РАБОТА СО СЛОВАРНЫМИ СЛОВАМИ В НАЧАЛЬНОЙ ШКОЛЕ</a:t>
            </a:r>
            <a:endParaRPr b="0" lang="en-US" sz="61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Подготовила: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Сироткина Д.А.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722160" y="147600"/>
            <a:ext cx="1012032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1000080" y="0"/>
            <a:ext cx="101919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406440" y="74520"/>
            <a:ext cx="1094724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62626"/>
                </a:solidFill>
                <a:latin typeface="Century Gothic"/>
              </a:rPr>
              <a:t>Еще больше картинок </a:t>
            </a:r>
            <a:br>
              <a:rPr sz="4300"/>
            </a:br>
            <a:endParaRPr b="0" lang="en-US" sz="43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49100"/>
                </a:solidFill>
                <a:uFillTx/>
                <a:latin typeface="Century Gothic"/>
                <a:hlinkClick r:id="rId1"/>
              </a:rPr>
              <a:t>http://raduga.name/?tag=%D1%81%D0%BB%D0%BE%D0%B2%D0%B0%D1%80%D0%BD%D1%8B%D0%B5-%D1%81%D0%BB%D0%BE%D0%B2%D0%B0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0" y="0"/>
            <a:ext cx="1193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0" y="0"/>
            <a:ext cx="1219212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Картинки по запросу словарные слова картинки"/>
          <p:cNvPicPr/>
          <p:nvPr/>
        </p:nvPicPr>
        <p:blipFill>
          <a:blip r:embed="rId2"/>
          <a:stretch/>
        </p:blipFill>
        <p:spPr>
          <a:xfrm>
            <a:off x="0" y="173160"/>
            <a:ext cx="1135368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66680" y="2103120"/>
            <a:ext cx="10058400" cy="42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списывать слова в различном порядке: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 в порядке возрастания количества слогов,по родам, по числам, по частям речи и т.д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3933720" y="2711520"/>
            <a:ext cx="6313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Medium"/>
              </a:rPr>
              <a:t>2 класс 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Medium"/>
              </a:rPr>
              <a:t>Что- среда- спасибо-понедельни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Franklin Gothic Medium"/>
              </a:rPr>
              <a:t>Даша сказала мне «спасибо» в понедельник за то, что я ей помогла в сред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Franklin Gothic Medium"/>
              </a:rPr>
              <a:t>Составить предложение по цепочке сл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Medium"/>
              </a:rPr>
              <a:t>Корабль    корабл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38080" y="1027080"/>
            <a:ext cx="10515600" cy="435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Разбор слова по составу,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 составление словообразовательных цепочек и образование новых слов от данног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1928880" y="5986440"/>
            <a:ext cx="7300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22"/>
                </a:solidFill>
                <a:latin typeface="Arial"/>
              </a:rPr>
              <a:t>Билет- билетёр- безбилетны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4" name="Picture 2" descr="Картинки по запросу билет"/>
          <p:cNvPicPr/>
          <p:nvPr/>
        </p:nvPicPr>
        <p:blipFill>
          <a:blip r:embed="rId1"/>
          <a:stretch/>
        </p:blipFill>
        <p:spPr>
          <a:xfrm>
            <a:off x="1168560" y="2354400"/>
            <a:ext cx="90820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Изменение слова по падежам.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И.п. компьюте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Р.п. компьютер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Д.п. компьюте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В.п. компьюте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Т.п. компьютеро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П.п. о компьютер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Franklin Gothic Medium"/>
              </a:rPr>
              <a:t>Выделить окончания, произвести морфологический разбо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100400" y="450720"/>
          <a:ext cx="7826400" cy="6126120"/>
        </p:xfrm>
        <a:graphic>
          <a:graphicData uri="http://schemas.openxmlformats.org/drawingml/2006/table">
            <a:tbl>
              <a:tblPr/>
              <a:tblGrid>
                <a:gridCol w="1957680"/>
                <a:gridCol w="1955520"/>
                <a:gridCol w="1957320"/>
                <a:gridCol w="1955880"/>
              </a:tblGrid>
              <a:tr h="612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м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буз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н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т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ет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д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ч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урный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вня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ц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ст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даш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ман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оф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а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церт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идо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н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 (окончание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б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вед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ков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рец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х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к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ята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ги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х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ка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д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У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чит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ль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Х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о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бл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г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Rectangle 4"/>
          <p:cNvSpPr/>
          <p:nvPr/>
        </p:nvSpPr>
        <p:spPr>
          <a:xfrm>
            <a:off x="264960" y="344520"/>
            <a:ext cx="3659400" cy="129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-6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Arial"/>
              </a:rPr>
              <a:t>Словарные слова 1 клас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0440" y="222120"/>
            <a:ext cx="10701360" cy="581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Мнемонический метод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 – ассоциативное запоминание слов. Трудное написание необходимо  связать с ярким ассоциативным образом, который вспоминается при написании данного слова из словаря. Образ должен помочь правильно написать орфограмму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Прямоугольник 4"/>
          <p:cNvSpPr/>
          <p:nvPr/>
        </p:nvSpPr>
        <p:spPr>
          <a:xfrm>
            <a:off x="2293920" y="4205160"/>
            <a:ext cx="130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УЖ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8904960" y="4033800"/>
            <a:ext cx="80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Gothic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1" name="Picture 10" descr="Картинки по запросу стол"/>
          <p:cNvPicPr/>
          <p:nvPr/>
        </p:nvPicPr>
        <p:blipFill>
          <a:blip r:embed="rId1"/>
          <a:stretch/>
        </p:blipFill>
        <p:spPr>
          <a:xfrm>
            <a:off x="3916440" y="3127320"/>
            <a:ext cx="4475160" cy="2448000"/>
          </a:xfrm>
          <a:prstGeom prst="rect">
            <a:avLst/>
          </a:prstGeom>
          <a:ln w="0">
            <a:noFill/>
          </a:ln>
        </p:spPr>
      </p:pic>
      <p:sp>
        <p:nvSpPr>
          <p:cNvPr id="292" name="Блок-схема: процесс 10"/>
          <p:cNvSpPr/>
          <p:nvPr/>
        </p:nvSpPr>
        <p:spPr>
          <a:xfrm>
            <a:off x="5022720" y="3718080"/>
            <a:ext cx="115920" cy="1741320"/>
          </a:xfrm>
          <a:prstGeom prst="flowChartProcess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Блок-схема: процесс 11"/>
          <p:cNvSpPr/>
          <p:nvPr/>
        </p:nvSpPr>
        <p:spPr>
          <a:xfrm>
            <a:off x="7213680" y="3718080"/>
            <a:ext cx="129960" cy="1857240"/>
          </a:xfrm>
          <a:prstGeom prst="flowChartProcess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Прямая соединительная линия 15"/>
          <p:cNvSpPr/>
          <p:nvPr/>
        </p:nvSpPr>
        <p:spPr>
          <a:xfrm flipV="1">
            <a:off x="5079960" y="3717720"/>
            <a:ext cx="2232000" cy="1741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1001880" y="693720"/>
            <a:ext cx="9361440" cy="497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Как подобрать образ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Записываем слово из словаря,  выделяем другим цветом (подчеркиваем, обводим) слог, который вызывает трудности при написании. Находим ассоциативный образ, связанный со словом из словаря и записываем его напротив словарного слова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рман – дыр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лории в с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л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Обратите внимание, ассоциативный образ обязательно должен быть связан с сомнительным словом каким-то общим признаком: подобие по цвету, форме, месту расположения, звучанию, вкусу, действию, материалу, назначению, количеству и т.д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В написании ассоциативного образа должна быть под ударением буква, которая является сомнительной в словарном слове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пуст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яц любит 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пусту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пуста – з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яц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73200" y="285480"/>
            <a:ext cx="10515600" cy="74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нарисовать рисунок 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через сомнительную орфограмму, который объясняет написание словарного слова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-944640" y="1449360"/>
            <a:ext cx="29480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3" name="Рисунок 8" descr=""/>
          <p:cNvPicPr/>
          <p:nvPr/>
        </p:nvPicPr>
        <p:blipFill>
          <a:blip r:embed="rId1"/>
          <a:stretch/>
        </p:blipFill>
        <p:spPr>
          <a:xfrm>
            <a:off x="3193920" y="1131840"/>
            <a:ext cx="4527720" cy="436572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9"/>
          <p:cNvSpPr/>
          <p:nvPr/>
        </p:nvSpPr>
        <p:spPr>
          <a:xfrm>
            <a:off x="1258920" y="5583240"/>
            <a:ext cx="7719840" cy="70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Ценность данного метода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 в том, что у каждого ребёнка свой ассоциативный образ, который помогает запомнить слов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38080" y="721800"/>
            <a:ext cx="10515600" cy="435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объединять слова из словаря в словосочетания и предложения</a:t>
            </a: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 на основе одинаковых орфограмм: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канонада в Канаде;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имитация миграции;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аппетит после аппендицита;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Gothic"/>
              </a:rPr>
              <a:t>у Аллы аллергия.</a:t>
            </a: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7" name="Picture 2" descr="Картинки по запросу аллергия"/>
          <p:cNvPicPr/>
          <p:nvPr/>
        </p:nvPicPr>
        <p:blipFill>
          <a:blip r:embed="rId1"/>
          <a:stretch/>
        </p:blipFill>
        <p:spPr>
          <a:xfrm>
            <a:off x="7153200" y="3021120"/>
            <a:ext cx="4686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08120" y="1027080"/>
            <a:ext cx="10515600" cy="435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одбор фразеологизмов и стихотворений со словом из словаря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Он на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вокзал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 есть всегд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К нему приходят поезд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Двойное «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»содержит о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И называется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еррон.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С. Михалков)     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Побежал он на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еррон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Влез в отцепленный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вагон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С. Маршак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0" name="Picture 2" descr="Картинки по запросу перрон"/>
          <p:cNvPicPr/>
          <p:nvPr/>
        </p:nvPicPr>
        <p:blipFill>
          <a:blip r:embed="rId1"/>
          <a:stretch/>
        </p:blipFill>
        <p:spPr>
          <a:xfrm>
            <a:off x="7419960" y="3549600"/>
            <a:ext cx="4200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8080" y="444240"/>
            <a:ext cx="10515600" cy="20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Можно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написать слова,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стихотворения или нарисовать мнемонические рисунки 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на разноцветных стикерах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и наклеить их на видные места в своей комнате. Они постоянно будут попадаться на глаза, что поможет быстро запомнить словарные слова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3" name="Picture 2" descr="Картинки по запросу доска со стикерами"/>
          <p:cNvPicPr/>
          <p:nvPr/>
        </p:nvPicPr>
        <p:blipFill>
          <a:blip r:embed="rId1"/>
          <a:stretch/>
        </p:blipFill>
        <p:spPr>
          <a:xfrm>
            <a:off x="838080" y="254016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Картинки по запросу доска со стикерами"/>
          <p:cNvPicPr/>
          <p:nvPr/>
        </p:nvPicPr>
        <p:blipFill>
          <a:blip r:embed="rId2"/>
          <a:stretch/>
        </p:blipFill>
        <p:spPr>
          <a:xfrm>
            <a:off x="5967360" y="2738520"/>
            <a:ext cx="5157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6720" y="380880"/>
          <a:ext cx="11398320" cy="6477120"/>
        </p:xfrm>
        <a:graphic>
          <a:graphicData uri="http://schemas.openxmlformats.org/drawingml/2006/table">
            <a:tbl>
              <a:tblPr/>
              <a:tblGrid>
                <a:gridCol w="2757600"/>
                <a:gridCol w="2881440"/>
                <a:gridCol w="2879640"/>
                <a:gridCol w="2879640"/>
              </a:tblGrid>
              <a:tr h="6477120"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бус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ь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л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ёз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ыст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ад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л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рни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ч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й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брь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кто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г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с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и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Ж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зо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к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ие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р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уй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а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й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ин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ир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и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ль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зин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ц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т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т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ж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е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в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у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фи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Н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щи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жд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нажды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тя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ц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жи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л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д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з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ятн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т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нок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ос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ий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н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тяб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ь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0" rIns="756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 (окончание)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й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б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а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а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зор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н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рищ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У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Ф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или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ль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вер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у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ва</a:t>
                      </a: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Щ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щав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ь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г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4087440" y="28800"/>
            <a:ext cx="3132720" cy="5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-6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  <a:ea typeface="Arial"/>
              </a:rPr>
              <a:t>Словарные слова 2 клас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34800" y="523800"/>
          <a:ext cx="11522160" cy="6648480"/>
        </p:xfrm>
        <a:graphic>
          <a:graphicData uri="http://schemas.openxmlformats.org/drawingml/2006/table">
            <a:tbl>
              <a:tblPr/>
              <a:tblGrid>
                <a:gridCol w="2881440"/>
                <a:gridCol w="2879640"/>
                <a:gridCol w="2881440"/>
                <a:gridCol w="2879640"/>
              </a:tblGrid>
              <a:tr h="6648480"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п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тит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тек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Б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ж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тек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от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инки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ки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д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ет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т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у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ок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х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ячи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в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ктор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Ж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ё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ты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от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есь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ый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дар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ст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тоф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юл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лл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тив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и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бай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байнё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ью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ёр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л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ть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ц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ази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н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д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н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л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л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к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ь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ёс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рец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х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н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сс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и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жн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д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ом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аз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ы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ца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ет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з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яни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ни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ат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нок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С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ах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вер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к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в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г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дня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нь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а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440" rIns="64440" tIns="32040" bIns="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к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кт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а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л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йбус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У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ж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л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а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ай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Ф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у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л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Х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кк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й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о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й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вер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Ш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с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ёр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Э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скурсия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br>
                        <a:rPr sz="1200"/>
                      </a:b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64440" marR="64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Rectangle 1"/>
          <p:cNvSpPr/>
          <p:nvPr/>
        </p:nvSpPr>
        <p:spPr>
          <a:xfrm>
            <a:off x="409680" y="286560"/>
            <a:ext cx="5437080" cy="4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-6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Arial"/>
              </a:rPr>
              <a:t>Словарные слова 3 клас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8080" y="1825200"/>
            <a:ext cx="10515600" cy="196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Работа по заучиванию слов из словаря 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должна проводиться систематически: заниматься следует по 15-20 минут ежедневно. Стоит брать для запоминания от 5 до 20 слов в неделю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66640" y="365040"/>
            <a:ext cx="10787040" cy="581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При первоначальном знакомстве со словом проводится основательная работ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читаем слово, проговариваем его по слогам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объясняем его значение (если не знаем значение слова, обращаемся к толковому словарю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ставим ударение, выделяем другим цветом трудную букву, делим слова на слоги и на слоги для переноса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подбираем однокоренные слова, составляем словосочетания, предложения с этим словом, подбираем синонимы, антонимы, загадки, поговорки, стихотворения с данным словом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записываем слова в орфографический словарик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93720" y="823680"/>
            <a:ext cx="10515600" cy="435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Можно составить 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рассказ из группы слов из словаря.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 Следует подбирать слова более близкие по смыслу, из одной тематической группы, например: тетрадь, карандаш, пенал, портфель, класс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52440" y="2928960"/>
            <a:ext cx="894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222"/>
                </a:solidFill>
                <a:latin typeface="Franklin Gothic Medium"/>
              </a:rPr>
              <a:t>Наш класс большой и светлый. Девочки и мальчики очень дружные и хорошие ребята. Перед уроками дежурные раздают тетради. Ученики готовят к уроку пеналы и карандаши. Все вещи у них аккуратно лежат в портфелях. Учитель входит в класс и начинает урок.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38080" y="1825560"/>
            <a:ext cx="10515600" cy="19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Работа с изображениями слов из словаря: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just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использование картинок с изображением предметов, ребенок записывает названия предметов, изображённых на картинк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66680" y="2103120"/>
            <a:ext cx="10058400" cy="3932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" descr=""/>
          <p:cNvPicPr/>
          <p:nvPr/>
        </p:nvPicPr>
        <p:blipFill>
          <a:blip r:embed="rId2"/>
          <a:stretch/>
        </p:blipFill>
        <p:spPr>
          <a:xfrm>
            <a:off x="498600" y="146160"/>
            <a:ext cx="10604520" cy="65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7T19:04:50Z</dcterms:created>
  <dc:creator>Ксюша</dc:creator>
  <dc:description/>
  <dc:language>en-US</dc:language>
  <cp:lastModifiedBy>Кожурин Роман</cp:lastModifiedBy>
  <dcterms:modified xsi:type="dcterms:W3CDTF">2018-06-24T18:16:10Z</dcterms:modified>
  <cp:revision>17</cp:revision>
  <dc:subject/>
  <dc:title>Презентация PowerPoint</dc:title>
</cp:coreProperties>
</file>