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12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7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721D8-AEAF-4BF5-BCC7-46E65D7FA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2103120"/>
            <a:ext cx="100584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66680" y="4157280"/>
            <a:ext cx="100584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342DB-0CBD-4763-AAE7-CEE495D00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3120"/>
            <a:ext cx="4908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220800" y="2103120"/>
            <a:ext cx="4908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66680" y="4157280"/>
            <a:ext cx="4908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220800" y="4157280"/>
            <a:ext cx="4908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D557A-6D82-4679-AAEF-BCF7E1694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6680" y="2103120"/>
            <a:ext cx="323856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467600" y="2103120"/>
            <a:ext cx="323856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7868520" y="2103120"/>
            <a:ext cx="323856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66680" y="4157280"/>
            <a:ext cx="323856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467600" y="4157280"/>
            <a:ext cx="323856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7868520" y="4157280"/>
            <a:ext cx="323856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64700-14CD-4E02-900A-C15B8E025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1CD79-37A5-44F0-A6F3-9469C9DB7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066680" y="2103120"/>
            <a:ext cx="1005840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A951A-B403-41BC-8024-E001FBAF8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3120"/>
            <a:ext cx="1005840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DEF2F-4C93-4321-B830-356FAAF29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6680" y="2103120"/>
            <a:ext cx="49082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220800" y="2103120"/>
            <a:ext cx="49082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304B5-9141-4951-97EF-B7D8DB2B9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F0317-5B55-482A-ABA4-312FECC1B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1066680" y="642960"/>
            <a:ext cx="10058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E8AD6-6D48-4922-A9A5-A0951969C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6680" y="2103120"/>
            <a:ext cx="4908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20800" y="2103120"/>
            <a:ext cx="49082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6680" y="4157280"/>
            <a:ext cx="4908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6238C-1E41-4D79-84C8-E1BD359DE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66680" y="2103120"/>
            <a:ext cx="1005840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12859-F1E9-4EAE-A9DB-95171FB6C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2103120"/>
            <a:ext cx="49082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220800" y="2103120"/>
            <a:ext cx="4908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20800" y="4157280"/>
            <a:ext cx="4908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091FC-141D-4C26-B609-077746E86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3120"/>
            <a:ext cx="4908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6220800" y="2103120"/>
            <a:ext cx="4908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157280"/>
            <a:ext cx="100584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22883-313A-451B-81E9-932461B3F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2103120"/>
            <a:ext cx="100584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1066680" y="4157280"/>
            <a:ext cx="100584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DFE6A-CB98-493F-8173-6C9D82205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6680" y="2103120"/>
            <a:ext cx="4908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220800" y="2103120"/>
            <a:ext cx="4908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066680" y="4157280"/>
            <a:ext cx="4908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220800" y="4157280"/>
            <a:ext cx="4908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C2317-EE09-4EEF-BC5A-A0A9701DF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680" y="2103120"/>
            <a:ext cx="323856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467600" y="2103120"/>
            <a:ext cx="323856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7868520" y="2103120"/>
            <a:ext cx="323856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1066680" y="4157280"/>
            <a:ext cx="323856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4467600" y="4157280"/>
            <a:ext cx="323856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7868520" y="4157280"/>
            <a:ext cx="323856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72EB0-8AB1-4B60-B27F-0FBD8FB3F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0EE158-3E03-49C6-9816-0EE607AA8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066680" y="2103120"/>
            <a:ext cx="1005840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B4800F-987C-443D-ACE0-AA888B8E8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680" y="2103120"/>
            <a:ext cx="1005840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FD91C5-AB09-4F48-BDA4-F1733EB74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66680" y="2103120"/>
            <a:ext cx="49082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6220800" y="2103120"/>
            <a:ext cx="49082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008CE4-AF80-4967-90EC-519C72122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E4E824-1EA0-4479-8E71-28D674A00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66680" y="2103120"/>
            <a:ext cx="1005840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56AF5-0838-4E14-8C18-0BE2400E0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1066680" y="642960"/>
            <a:ext cx="10058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DCA7A6-7C85-42FC-8493-ACE676995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66680" y="2103120"/>
            <a:ext cx="4908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6220800" y="2103120"/>
            <a:ext cx="49082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066680" y="4157280"/>
            <a:ext cx="4908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86289F-E250-45BA-8413-921704382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66680" y="2103120"/>
            <a:ext cx="49082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6220800" y="2103120"/>
            <a:ext cx="4908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220800" y="4157280"/>
            <a:ext cx="4908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ED8907-2103-40EB-9CBC-ABB049301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680" y="2103120"/>
            <a:ext cx="4908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6220800" y="2103120"/>
            <a:ext cx="4908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1066680" y="4157280"/>
            <a:ext cx="100584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00B33F-1227-43A8-9FFF-871A177E5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66680" y="2103120"/>
            <a:ext cx="100584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1066680" y="4157280"/>
            <a:ext cx="100584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5EE388-A866-4403-8652-F3EE04A6E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066680" y="2103120"/>
            <a:ext cx="4908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6220800" y="2103120"/>
            <a:ext cx="4908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1066680" y="4157280"/>
            <a:ext cx="4908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6220800" y="4157280"/>
            <a:ext cx="4908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4A7763-80BF-4498-BA0C-1719BC835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066680" y="2103120"/>
            <a:ext cx="323856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467600" y="2103120"/>
            <a:ext cx="323856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7868520" y="2103120"/>
            <a:ext cx="323856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1066680" y="4157280"/>
            <a:ext cx="323856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4467600" y="4157280"/>
            <a:ext cx="323856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7868520" y="4157280"/>
            <a:ext cx="323856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F21815-39FD-4AFC-A7E7-023360CF9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C5C1A9-73A7-440D-8A9C-F318BBBB6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1066680" y="2103120"/>
            <a:ext cx="1005840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32A5DE-ED9D-4FA0-8769-6DF30089C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2103120"/>
            <a:ext cx="1005840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5FF7D3-9FD6-49D7-80D3-0341C7DF9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66680" y="2103120"/>
            <a:ext cx="49082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220800" y="2103120"/>
            <a:ext cx="49082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1BF72-EB76-4520-ABE1-6541551A6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2103120"/>
            <a:ext cx="49082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6220800" y="2103120"/>
            <a:ext cx="49082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DE73B0-34B7-482F-B356-97417EABA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91E1A3-8550-4F63-A553-E9611071A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1066680" y="642960"/>
            <a:ext cx="10058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00CFCA-E702-4E22-818B-B0FA3EEBD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066680" y="2103120"/>
            <a:ext cx="4908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6220800" y="2103120"/>
            <a:ext cx="49082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1066680" y="4157280"/>
            <a:ext cx="4908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E72A06-16A6-4BAB-946E-4733A92B8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066680" y="2103120"/>
            <a:ext cx="49082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6220800" y="2103120"/>
            <a:ext cx="4908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220800" y="4157280"/>
            <a:ext cx="4908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FA3099-76BD-420E-B12A-7CC45DF5A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066680" y="2103120"/>
            <a:ext cx="4908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6220800" y="2103120"/>
            <a:ext cx="4908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1066680" y="4157280"/>
            <a:ext cx="100584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9BE289-07DA-4495-93CB-2D23BA85E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066680" y="2103120"/>
            <a:ext cx="100584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1066680" y="4157280"/>
            <a:ext cx="100584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561F99-F0CA-40F3-81C8-5FC20B540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066680" y="2103120"/>
            <a:ext cx="4908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220800" y="2103120"/>
            <a:ext cx="4908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1066680" y="4157280"/>
            <a:ext cx="4908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6220800" y="4157280"/>
            <a:ext cx="4908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A0E1C0-0DC5-4828-814A-04D4B38EB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2103120"/>
            <a:ext cx="323856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467600" y="2103120"/>
            <a:ext cx="323856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7868520" y="2103120"/>
            <a:ext cx="323856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1066680" y="4157280"/>
            <a:ext cx="323856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4467600" y="4157280"/>
            <a:ext cx="323856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7868520" y="4157280"/>
            <a:ext cx="323856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0D5580-0E7C-4B18-9EBA-1B069CFCE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8C7BFA-96F0-48B7-A6EA-EE5B6F5BC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E4B22-44B7-44C1-91D9-1E60E0A14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1066680" y="2103120"/>
            <a:ext cx="1005840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B2B46F-309B-461D-B6A2-AF4372F28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066680" y="2103120"/>
            <a:ext cx="1005840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0E1ECA-BF81-46A9-AA2A-B903AE787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066680" y="2103120"/>
            <a:ext cx="49082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220800" y="2103120"/>
            <a:ext cx="49082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7A8F64-2650-4D78-8870-04AF3F348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EC2645-082F-4A90-B4B1-60A8D7273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ubTitle"/>
          </p:nvPr>
        </p:nvSpPr>
        <p:spPr>
          <a:xfrm>
            <a:off x="1066680" y="642960"/>
            <a:ext cx="10058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D2CDA0-5A9D-46C2-9A42-32958E61D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066680" y="2103120"/>
            <a:ext cx="4908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6220800" y="2103120"/>
            <a:ext cx="49082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1066680" y="4157280"/>
            <a:ext cx="4908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35A74C-5A86-40C6-AB0E-81FFECA09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066680" y="2103120"/>
            <a:ext cx="49082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6220800" y="2103120"/>
            <a:ext cx="4908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220800" y="4157280"/>
            <a:ext cx="4908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D2884F-CAEB-4611-A599-63211ABDB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066680" y="2103120"/>
            <a:ext cx="4908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6220800" y="2103120"/>
            <a:ext cx="4908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1066680" y="4157280"/>
            <a:ext cx="100584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605427-EB38-4E12-B65C-2C323F0CB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066680" y="2103120"/>
            <a:ext cx="100584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1066680" y="4157280"/>
            <a:ext cx="100584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902876-7EF3-43A4-A788-2909273A2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066680" y="2103120"/>
            <a:ext cx="4908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6220800" y="2103120"/>
            <a:ext cx="4908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1066680" y="4157280"/>
            <a:ext cx="4908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6220800" y="4157280"/>
            <a:ext cx="4908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F311BF-1DB4-446E-B255-905A67498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66680" y="642960"/>
            <a:ext cx="10058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61585-73C4-4623-91BC-630B47C82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066680" y="2103120"/>
            <a:ext cx="323856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467600" y="2103120"/>
            <a:ext cx="323856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7868520" y="2103120"/>
            <a:ext cx="323856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1066680" y="4157280"/>
            <a:ext cx="323856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5" name="PlaceHolder 6"/>
          <p:cNvSpPr>
            <a:spLocks noGrp="1"/>
          </p:cNvSpPr>
          <p:nvPr>
            <p:ph/>
          </p:nvPr>
        </p:nvSpPr>
        <p:spPr>
          <a:xfrm>
            <a:off x="4467600" y="4157280"/>
            <a:ext cx="323856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6" name="PlaceHolder 7"/>
          <p:cNvSpPr>
            <a:spLocks noGrp="1"/>
          </p:cNvSpPr>
          <p:nvPr>
            <p:ph/>
          </p:nvPr>
        </p:nvSpPr>
        <p:spPr>
          <a:xfrm>
            <a:off x="7868520" y="4157280"/>
            <a:ext cx="323856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DB50BD-FFCC-4DF3-B831-A1B903D80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6680" y="2103120"/>
            <a:ext cx="4908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6220800" y="2103120"/>
            <a:ext cx="49082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66680" y="4157280"/>
            <a:ext cx="4908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D8B3F-136C-4760-B4CF-CC9C675BF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66680" y="2103120"/>
            <a:ext cx="49082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220800" y="2103120"/>
            <a:ext cx="4908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220800" y="4157280"/>
            <a:ext cx="4908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B07BE-825F-4D29-9483-C6EC5CA7E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66680" y="2103120"/>
            <a:ext cx="4908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220800" y="2103120"/>
            <a:ext cx="4908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66680" y="4157280"/>
            <a:ext cx="100584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31EDF-20BC-4644-B6DE-49EE65B49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216000" y="228600"/>
            <a:ext cx="11747520" cy="6387840"/>
            <a:chOff x="216000" y="228600"/>
            <a:chExt cx="11747520" cy="6387840"/>
          </a:xfrm>
        </p:grpSpPr>
        <p:pic>
          <p:nvPicPr>
            <p:cNvPr id="1" name="Rectangle 6" descr=""/>
            <p:cNvPicPr/>
            <p:nvPr/>
          </p:nvPicPr>
          <p:blipFill>
            <a:blip r:embed="rId2"/>
            <a:stretch/>
          </p:blipFill>
          <p:spPr>
            <a:xfrm>
              <a:off x="216000" y="228600"/>
              <a:ext cx="11747520" cy="638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235080" y="237600"/>
              <a:ext cx="11721960" cy="637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4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066680" y="2103120"/>
            <a:ext cx="1005840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1" marL="45720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2" marL="73008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3" marL="100476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4" marL="127944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5" marL="1279440" indent="-182520">
              <a:spcBef>
                <a:spcPts val="901"/>
              </a:spcBef>
              <a:buClr>
                <a:srgbClr val="000000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6" marL="1279440" indent="-182520">
              <a:spcBef>
                <a:spcPts val="901"/>
              </a:spcBef>
              <a:buClr>
                <a:srgbClr val="000000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274680" y="6306840"/>
            <a:ext cx="27432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40404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489120" y="6306840"/>
            <a:ext cx="52131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10469520" y="6306840"/>
            <a:ext cx="14637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40404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8707C-2D3C-457B-BBDB-AB38CC19FC9B}" type="slidenum">
              <a:rPr b="0" lang="en-US" sz="1000" spc="-1" strike="noStrike">
                <a:solidFill>
                  <a:srgbClr val="40404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2dbca"/>
            </a:gs>
            <a:gs pos="100000">
              <a:srgbClr val="c1bba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Rectangle 15"/>
          <p:cNvGrpSpPr/>
          <p:nvPr/>
        </p:nvGrpSpPr>
        <p:grpSpPr>
          <a:xfrm>
            <a:off x="0" y="0"/>
            <a:ext cx="12192120" cy="6858000"/>
            <a:chOff x="0" y="0"/>
            <a:chExt cx="12192120" cy="6858000"/>
          </a:xfrm>
        </p:grpSpPr>
        <p:pic>
          <p:nvPicPr>
            <p:cNvPr id="45" name="Rectangle 15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219212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0" y="0"/>
              <a:ext cx="12192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47" name="Rectangle 9"/>
          <p:cNvGrpSpPr/>
          <p:nvPr/>
        </p:nvGrpSpPr>
        <p:grpSpPr>
          <a:xfrm>
            <a:off x="1244520" y="1219320"/>
            <a:ext cx="9690120" cy="4406760"/>
            <a:chOff x="1244520" y="1219320"/>
            <a:chExt cx="9690120" cy="4406760"/>
          </a:xfrm>
        </p:grpSpPr>
        <p:pic>
          <p:nvPicPr>
            <p:cNvPr id="48" name="Rectangle 9" descr=""/>
            <p:cNvPicPr/>
            <p:nvPr/>
          </p:nvPicPr>
          <p:blipFill>
            <a:blip r:embed="rId3"/>
            <a:stretch/>
          </p:blipFill>
          <p:spPr>
            <a:xfrm>
              <a:off x="1244520" y="1219320"/>
              <a:ext cx="9690120" cy="440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1308240" y="1268280"/>
              <a:ext cx="9575640" cy="430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50" name="Rectangle 10"/>
          <p:cNvSpPr/>
          <p:nvPr/>
        </p:nvSpPr>
        <p:spPr>
          <a:xfrm>
            <a:off x="1447920" y="1411200"/>
            <a:ext cx="9296280" cy="4035600"/>
          </a:xfrm>
          <a:prstGeom prst="rect">
            <a:avLst/>
          </a:prstGeom>
          <a:noFill/>
          <a:ln cap="sq" w="648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" name="Rectangle 14"/>
          <p:cNvSpPr/>
          <p:nvPr/>
        </p:nvSpPr>
        <p:spPr>
          <a:xfrm>
            <a:off x="5135400" y="1268280"/>
            <a:ext cx="1920960" cy="730440"/>
          </a:xfrm>
          <a:prstGeom prst="rect">
            <a:avLst/>
          </a:prstGeom>
          <a:solidFill>
            <a:srgbClr val="e3de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52" name="Group 3"/>
          <p:cNvGrpSpPr/>
          <p:nvPr/>
        </p:nvGrpSpPr>
        <p:grpSpPr>
          <a:xfrm>
            <a:off x="5249880" y="1268280"/>
            <a:ext cx="1692360" cy="644760"/>
            <a:chOff x="5249880" y="1268280"/>
            <a:chExt cx="1692360" cy="644760"/>
          </a:xfrm>
        </p:grpSpPr>
        <p:sp>
          <p:nvSpPr>
            <p:cNvPr id="53" name="Straight Connector 16"/>
            <p:cNvSpPr/>
            <p:nvPr/>
          </p:nvSpPr>
          <p:spPr>
            <a:xfrm>
              <a:off x="5249880" y="1268280"/>
              <a:ext cx="0" cy="6397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4" name="Straight Connector 17"/>
            <p:cNvSpPr/>
            <p:nvPr/>
          </p:nvSpPr>
          <p:spPr>
            <a:xfrm>
              <a:off x="6942240" y="1268280"/>
              <a:ext cx="0" cy="6397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" name="Straight Connector 18"/>
            <p:cNvSpPr/>
            <p:nvPr/>
          </p:nvSpPr>
          <p:spPr>
            <a:xfrm>
              <a:off x="5249880" y="1913040"/>
              <a:ext cx="169236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4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1066680" y="2103120"/>
            <a:ext cx="1005840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1" marL="45720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2" marL="73008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3" marL="100476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4" marL="127944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5" marL="1279440" indent="-182520">
              <a:spcBef>
                <a:spcPts val="901"/>
              </a:spcBef>
              <a:buClr>
                <a:srgbClr val="000000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6" marL="1279440" indent="-182520">
              <a:spcBef>
                <a:spcPts val="901"/>
              </a:spcBef>
              <a:buClr>
                <a:srgbClr val="000000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5317920" y="1341360"/>
            <a:ext cx="1555560" cy="52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1454040" y="5211360"/>
            <a:ext cx="59054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8607600" y="5211360"/>
            <a:ext cx="21110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40404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61151-0457-492D-A126-CCAD7A2320F3}" type="slidenum">
              <a:rPr b="0" lang="en-US" sz="1000" spc="-1" strike="noStrike">
                <a:solidFill>
                  <a:srgbClr val="40404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2dbca"/>
            </a:gs>
            <a:gs pos="100000">
              <a:srgbClr val="c1bba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" name="Rectangle 21"/>
          <p:cNvGrpSpPr/>
          <p:nvPr/>
        </p:nvGrpSpPr>
        <p:grpSpPr>
          <a:xfrm>
            <a:off x="0" y="0"/>
            <a:ext cx="12192120" cy="6858000"/>
            <a:chOff x="0" y="0"/>
            <a:chExt cx="12192120" cy="6858000"/>
          </a:xfrm>
        </p:grpSpPr>
        <p:pic>
          <p:nvPicPr>
            <p:cNvPr id="98" name="Rectangle 21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219212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0" y="0"/>
              <a:ext cx="12192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00" name="Rectangle 22"/>
          <p:cNvGrpSpPr/>
          <p:nvPr/>
        </p:nvGrpSpPr>
        <p:grpSpPr>
          <a:xfrm>
            <a:off x="1244520" y="1219320"/>
            <a:ext cx="9690120" cy="4406760"/>
            <a:chOff x="1244520" y="1219320"/>
            <a:chExt cx="9690120" cy="4406760"/>
          </a:xfrm>
        </p:grpSpPr>
        <p:pic>
          <p:nvPicPr>
            <p:cNvPr id="101" name="Rectangle 22" descr=""/>
            <p:cNvPicPr/>
            <p:nvPr/>
          </p:nvPicPr>
          <p:blipFill>
            <a:blip r:embed="rId3"/>
            <a:stretch/>
          </p:blipFill>
          <p:spPr>
            <a:xfrm>
              <a:off x="1244520" y="1219320"/>
              <a:ext cx="9690120" cy="440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1308240" y="1268280"/>
              <a:ext cx="9575640" cy="430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03" name="Rectangle 23"/>
          <p:cNvSpPr/>
          <p:nvPr/>
        </p:nvSpPr>
        <p:spPr>
          <a:xfrm>
            <a:off x="1447920" y="1411200"/>
            <a:ext cx="9296280" cy="4035600"/>
          </a:xfrm>
          <a:prstGeom prst="rect">
            <a:avLst/>
          </a:prstGeom>
          <a:noFill/>
          <a:ln cap="sq" w="648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4" name="Rectangle 29"/>
          <p:cNvSpPr/>
          <p:nvPr/>
        </p:nvSpPr>
        <p:spPr>
          <a:xfrm>
            <a:off x="5135400" y="1268280"/>
            <a:ext cx="1920960" cy="730440"/>
          </a:xfrm>
          <a:prstGeom prst="rect">
            <a:avLst/>
          </a:prstGeom>
          <a:solidFill>
            <a:srgbClr val="e3de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105" name="Group 30"/>
          <p:cNvGrpSpPr/>
          <p:nvPr/>
        </p:nvGrpSpPr>
        <p:grpSpPr>
          <a:xfrm>
            <a:off x="5249880" y="1268280"/>
            <a:ext cx="1692360" cy="644760"/>
            <a:chOff x="5249880" y="1268280"/>
            <a:chExt cx="1692360" cy="644760"/>
          </a:xfrm>
        </p:grpSpPr>
        <p:sp>
          <p:nvSpPr>
            <p:cNvPr id="106" name="Straight Connector 31"/>
            <p:cNvSpPr/>
            <p:nvPr/>
          </p:nvSpPr>
          <p:spPr>
            <a:xfrm>
              <a:off x="5249880" y="1268280"/>
              <a:ext cx="0" cy="6397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7" name="Straight Connector 32"/>
            <p:cNvSpPr/>
            <p:nvPr/>
          </p:nvSpPr>
          <p:spPr>
            <a:xfrm>
              <a:off x="6942240" y="1268280"/>
              <a:ext cx="0" cy="6397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8" name="Straight Connector 33"/>
            <p:cNvSpPr/>
            <p:nvPr/>
          </p:nvSpPr>
          <p:spPr>
            <a:xfrm>
              <a:off x="5249880" y="1913040"/>
              <a:ext cx="169236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4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1066680" y="2103120"/>
            <a:ext cx="1005840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1" marL="45720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2" marL="73008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3" marL="100476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4" marL="127944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5" marL="1279440" indent="-182520">
              <a:spcBef>
                <a:spcPts val="901"/>
              </a:spcBef>
              <a:buClr>
                <a:srgbClr val="000000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6" marL="1279440" indent="-182520">
              <a:spcBef>
                <a:spcPts val="901"/>
              </a:spcBef>
              <a:buClr>
                <a:srgbClr val="000000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321160" y="1344240"/>
            <a:ext cx="155592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1453680" y="5211360"/>
            <a:ext cx="59072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8604000" y="5211360"/>
            <a:ext cx="2112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40404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94E92-B476-4C0C-91E5-E5F528F8A879}" type="slidenum">
              <a:rPr b="0" lang="en-US" sz="1000" spc="-1" strike="noStrike">
                <a:solidFill>
                  <a:srgbClr val="40404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5"/>
          <p:cNvSpPr/>
          <p:nvPr/>
        </p:nvSpPr>
        <p:spPr>
          <a:xfrm>
            <a:off x="246240" y="237960"/>
            <a:ext cx="8530920" cy="6382080"/>
          </a:xfrm>
          <a:prstGeom prst="rect">
            <a:avLst/>
          </a:prstGeom>
          <a:solidFill>
            <a:srgbClr val="e3de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1" name="Rectangle 14"/>
          <p:cNvSpPr/>
          <p:nvPr/>
        </p:nvSpPr>
        <p:spPr>
          <a:xfrm>
            <a:off x="9020160" y="237960"/>
            <a:ext cx="2925720" cy="638208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2" name="Rectangle 11"/>
          <p:cNvSpPr/>
          <p:nvPr/>
        </p:nvSpPr>
        <p:spPr>
          <a:xfrm>
            <a:off x="9158400" y="374760"/>
            <a:ext cx="2651040" cy="6108480"/>
          </a:xfrm>
          <a:prstGeom prst="rect">
            <a:avLst/>
          </a:prstGeom>
          <a:noFill/>
          <a:ln cap="sq"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4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1066680" y="2103120"/>
            <a:ext cx="1005840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1" marL="45720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2" marL="73008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3" marL="100476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4" marL="127944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5" marL="1279440" indent="-182520">
              <a:spcBef>
                <a:spcPts val="901"/>
              </a:spcBef>
              <a:buClr>
                <a:srgbClr val="000000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6" marL="1279440" indent="-182520">
              <a:spcBef>
                <a:spcPts val="901"/>
              </a:spcBef>
              <a:buClr>
                <a:srgbClr val="000000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dt" idx="10"/>
          </p:nvPr>
        </p:nvSpPr>
        <p:spPr>
          <a:xfrm>
            <a:off x="274680" y="6306840"/>
            <a:ext cx="27432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40404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 type="ftr" idx="11"/>
          </p:nvPr>
        </p:nvSpPr>
        <p:spPr>
          <a:xfrm>
            <a:off x="3489120" y="6306840"/>
            <a:ext cx="52131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 type="sldNum" idx="12"/>
          </p:nvPr>
        </p:nvSpPr>
        <p:spPr>
          <a:xfrm>
            <a:off x="10393200" y="6222600"/>
            <a:ext cx="14637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B38D0-C80E-4C62-977E-C056393916F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13"/>
          <p:cNvSpPr/>
          <p:nvPr/>
        </p:nvSpPr>
        <p:spPr>
          <a:xfrm>
            <a:off x="9020160" y="237960"/>
            <a:ext cx="2925720" cy="638208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5" name="Rectangle 9"/>
          <p:cNvSpPr/>
          <p:nvPr/>
        </p:nvSpPr>
        <p:spPr>
          <a:xfrm>
            <a:off x="9158400" y="374760"/>
            <a:ext cx="2651040" cy="6108480"/>
          </a:xfrm>
          <a:prstGeom prst="rect">
            <a:avLst/>
          </a:prstGeom>
          <a:noFill/>
          <a:ln cap="sq"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4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1066680" y="2103120"/>
            <a:ext cx="1005840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1" marL="45720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2" marL="73008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3" marL="100476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4" marL="127944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5" marL="1279440" indent="-182520">
              <a:spcBef>
                <a:spcPts val="901"/>
              </a:spcBef>
              <a:buClr>
                <a:srgbClr val="000000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6" marL="1279440" indent="-182520">
              <a:spcBef>
                <a:spcPts val="901"/>
              </a:spcBef>
              <a:buClr>
                <a:srgbClr val="000000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dt" idx="13"/>
          </p:nvPr>
        </p:nvSpPr>
        <p:spPr>
          <a:xfrm>
            <a:off x="274680" y="6306840"/>
            <a:ext cx="27432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ftr" idx="14"/>
          </p:nvPr>
        </p:nvSpPr>
        <p:spPr>
          <a:xfrm>
            <a:off x="3489120" y="6306840"/>
            <a:ext cx="52131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sldNum" idx="15"/>
          </p:nvPr>
        </p:nvSpPr>
        <p:spPr>
          <a:xfrm>
            <a:off x="10396440" y="6227280"/>
            <a:ext cx="1463760" cy="2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C6A8F-9DDD-442C-82DF-E7014006F8D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raduga.name/?tag=&#1089;&#1083;&#1086;&#1074;&#1072;&#1088;&#1085;&#1099;&#1077;-&#1089;&#1083;&#1086;&#1074;&#1072;" TargetMode="Externa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2dbca"/>
            </a:gs>
            <a:gs pos="100000">
              <a:srgbClr val="c1bba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563480" y="2093760"/>
            <a:ext cx="9070920" cy="258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8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100" spc="-1" strike="noStrike">
                <a:solidFill>
                  <a:srgbClr val="000000"/>
                </a:solidFill>
                <a:latin typeface="Franklin Gothic Medium"/>
              </a:rPr>
              <a:t>РАБОТА СО СЛОВАРНЫМИ СЛОВАМИ В НАЧАЛЬНОЙ ШКОЛЕ</a:t>
            </a:r>
            <a:endParaRPr b="0" lang="en-US" sz="61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563480" y="4681440"/>
            <a:ext cx="90709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Подготовила: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Сироткина Д.А.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262626"/>
              </a:solidFill>
              <a:latin typeface="Century Gothic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1066680" y="2103120"/>
            <a:ext cx="10058400" cy="393228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2" descr="Картинки по запросу словарные слова картинки"/>
          <p:cNvPicPr/>
          <p:nvPr/>
        </p:nvPicPr>
        <p:blipFill>
          <a:blip r:embed="rId2"/>
          <a:stretch/>
        </p:blipFill>
        <p:spPr>
          <a:xfrm>
            <a:off x="722160" y="147600"/>
            <a:ext cx="10120320" cy="74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262626"/>
              </a:solidFill>
              <a:latin typeface="Century Gothic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1066680" y="2103120"/>
            <a:ext cx="10058400" cy="393228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2" descr="Картинки по запросу словарные слова картинки"/>
          <p:cNvPicPr/>
          <p:nvPr/>
        </p:nvPicPr>
        <p:blipFill>
          <a:blip r:embed="rId2"/>
          <a:stretch/>
        </p:blipFill>
        <p:spPr>
          <a:xfrm>
            <a:off x="1000080" y="0"/>
            <a:ext cx="10191960" cy="678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262626"/>
              </a:solidFill>
              <a:latin typeface="Century Gothic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1066680" y="2103120"/>
            <a:ext cx="10058400" cy="393228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2" descr="Картинки по запросу словарные слова картинки"/>
          <p:cNvPicPr/>
          <p:nvPr/>
        </p:nvPicPr>
        <p:blipFill>
          <a:blip r:embed="rId2"/>
          <a:stretch/>
        </p:blipFill>
        <p:spPr>
          <a:xfrm>
            <a:off x="406440" y="74520"/>
            <a:ext cx="10947240" cy="678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262626"/>
                </a:solidFill>
                <a:latin typeface="Century Gothic"/>
              </a:rPr>
              <a:t>Еще больше картинок </a:t>
            </a:r>
            <a:br>
              <a:rPr sz="4300"/>
            </a:br>
            <a:endParaRPr b="0" lang="en-US" sz="43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1066680" y="2103120"/>
            <a:ext cx="10058400" cy="393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49100"/>
                </a:solidFill>
                <a:uFillTx/>
                <a:latin typeface="Century Gothic"/>
                <a:hlinkClick r:id="rId1"/>
              </a:rPr>
              <a:t>http://raduga.name/?tag=%D1%81%D0%BB%D0%BE%D0%B2%D0%B0%D1%80%D0%BD%D1%8B%D0%B5-%D1%81%D0%BB%D0%BE%D0%B2%D0%B0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  <a:p>
            <a:pPr marL="18252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262626"/>
              </a:solidFill>
              <a:latin typeface="Century Gothic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1"/>
          <a:stretch/>
        </p:blipFill>
        <p:spPr>
          <a:xfrm>
            <a:off x="1066680" y="2103120"/>
            <a:ext cx="10058400" cy="393228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2" descr="Картинки по запросу словарные слова картинки"/>
          <p:cNvPicPr/>
          <p:nvPr/>
        </p:nvPicPr>
        <p:blipFill>
          <a:blip r:embed="rId2"/>
          <a:stretch/>
        </p:blipFill>
        <p:spPr>
          <a:xfrm>
            <a:off x="0" y="0"/>
            <a:ext cx="11930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262626"/>
              </a:solidFill>
              <a:latin typeface="Century Gothic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1"/>
          <a:stretch/>
        </p:blipFill>
        <p:spPr>
          <a:xfrm>
            <a:off x="1066680" y="2103120"/>
            <a:ext cx="10058400" cy="393228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2" descr="Картинки по запросу словарные слова картинки"/>
          <p:cNvPicPr/>
          <p:nvPr/>
        </p:nvPicPr>
        <p:blipFill>
          <a:blip r:embed="rId2"/>
          <a:stretch/>
        </p:blipFill>
        <p:spPr>
          <a:xfrm>
            <a:off x="0" y="0"/>
            <a:ext cx="12192120" cy="700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262626"/>
              </a:solidFill>
              <a:latin typeface="Century Gothic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1066680" y="2103120"/>
            <a:ext cx="10058400" cy="393228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2" descr="Картинки по запросу словарные слова картинки"/>
          <p:cNvPicPr/>
          <p:nvPr/>
        </p:nvPicPr>
        <p:blipFill>
          <a:blip r:embed="rId2"/>
          <a:stretch/>
        </p:blipFill>
        <p:spPr>
          <a:xfrm>
            <a:off x="0" y="173160"/>
            <a:ext cx="11353680" cy="668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1066680" y="2103120"/>
            <a:ext cx="10058400" cy="4211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18252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Можно </a:t>
            </a: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списывать слова в различном порядке:</a:t>
            </a: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 в порядке возрастания количества слогов,по родам, по числам, по частям речи и т.д.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0" name="Прямоугольник 3"/>
          <p:cNvSpPr/>
          <p:nvPr/>
        </p:nvSpPr>
        <p:spPr>
          <a:xfrm>
            <a:off x="3933720" y="2711520"/>
            <a:ext cx="631368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Franklin Gothic Medium"/>
              </a:rPr>
              <a:t>2 класс :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Franklin Gothic Medium"/>
              </a:rPr>
              <a:t>Что- среда- спасибо-понедельник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Franklin Gothic Medium"/>
              </a:rPr>
              <a:t>Даша сказала мне «спасибо» в понедельник за то, что я ей помогла в среду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0000"/>
                </a:solidFill>
                <a:latin typeface="Franklin Gothic Medium"/>
              </a:rPr>
              <a:t>Составить предложение по цепочке слов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Franklin Gothic Medium"/>
              </a:rPr>
              <a:t>Корабль    корабли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838080" y="1027080"/>
            <a:ext cx="10515600" cy="4353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18252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Разбор слова по составу,</a:t>
            </a: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 составление словообразовательных цепочек и образование новых слов от данного.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18252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18252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3" name="Прямоугольник 3"/>
          <p:cNvSpPr/>
          <p:nvPr/>
        </p:nvSpPr>
        <p:spPr>
          <a:xfrm>
            <a:off x="1928880" y="5986440"/>
            <a:ext cx="7300800" cy="58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222222"/>
                </a:solidFill>
                <a:latin typeface="Arial"/>
              </a:rPr>
              <a:t>Билет- билетёр- безбилетный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284" name="Picture 2" descr="Картинки по запросу билет"/>
          <p:cNvPicPr/>
          <p:nvPr/>
        </p:nvPicPr>
        <p:blipFill>
          <a:blip r:embed="rId1"/>
          <a:stretch/>
        </p:blipFill>
        <p:spPr>
          <a:xfrm>
            <a:off x="1168560" y="2354400"/>
            <a:ext cx="9082080" cy="269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entury Gothic"/>
              </a:rPr>
              <a:t>Изменение слова по падежам.</a:t>
            </a:r>
            <a:endParaRPr b="0" lang="en-US" sz="4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1066680" y="2103120"/>
            <a:ext cx="10058400" cy="3932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182520" indent="-18252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Franklin Gothic Medium"/>
              </a:rPr>
              <a:t>И.п. компьютер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182520" indent="-18252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Franklin Gothic Medium"/>
              </a:rPr>
              <a:t>Р.п. компьютера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182520" indent="-18252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Franklin Gothic Medium"/>
              </a:rPr>
              <a:t>Д.п. компьютеру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182520" indent="-18252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Franklin Gothic Medium"/>
              </a:rPr>
              <a:t>В.п. компьютер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182520" indent="-18252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Franklin Gothic Medium"/>
              </a:rPr>
              <a:t>Т.п. компьютером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182520" indent="-18252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Franklin Gothic Medium"/>
              </a:rPr>
              <a:t>П.п. о компьютере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182520" indent="-18252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182520" indent="-18252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00"/>
                </a:solidFill>
                <a:latin typeface="Franklin Gothic Medium"/>
              </a:rPr>
              <a:t>Выделить окончания, произвести морфологический разбор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2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2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2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2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2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2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2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2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2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262626"/>
              </a:solidFill>
              <a:latin typeface="Century Gothic"/>
            </a:endParaRPr>
          </a:p>
        </p:txBody>
      </p:sp>
      <p:graphicFrame>
        <p:nvGraphicFramePr>
          <p:cNvPr id="240" name=""/>
          <p:cNvGraphicFramePr/>
          <p:nvPr/>
        </p:nvGraphicFramePr>
        <p:xfrm>
          <a:off x="4100400" y="450720"/>
          <a:ext cx="7826400" cy="6126120"/>
        </p:xfrm>
        <a:graphic>
          <a:graphicData uri="http://schemas.openxmlformats.org/drawingml/2006/table">
            <a:tbl>
              <a:tblPr/>
              <a:tblGrid>
                <a:gridCol w="1957680"/>
                <a:gridCol w="1955520"/>
                <a:gridCol w="1957320"/>
                <a:gridCol w="1955880"/>
              </a:tblGrid>
              <a:tr h="61268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А</a:t>
                      </a:r>
                      <a:br>
                        <a:rPr sz="1800"/>
                      </a:b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а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л</a:t>
                      </a: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ь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бом</a:t>
                      </a:r>
                      <a:br>
                        <a:rPr sz="1800"/>
                      </a:b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а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рбуз</a:t>
                      </a:r>
                      <a:br>
                        <a:rPr sz="1800"/>
                      </a:br>
                      <a:br>
                        <a:rPr sz="1800"/>
                      </a:b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Б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б</a:t>
                      </a: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а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р</a:t>
                      </a: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а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бан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б</a:t>
                      </a: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и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лет</a:t>
                      </a:r>
                      <a:br>
                        <a:rPr sz="1800"/>
                      </a:br>
                      <a:br>
                        <a:rPr sz="1800"/>
                      </a:b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В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в</a:t>
                      </a: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о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р</a:t>
                      </a: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о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бей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в</a:t>
                      </a: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о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р</a:t>
                      </a: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о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на</a:t>
                      </a:r>
                      <a:br>
                        <a:rPr sz="1800"/>
                      </a:br>
                      <a:br>
                        <a:rPr sz="1800"/>
                      </a:b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Г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г</a:t>
                      </a: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а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зета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гор</a:t>
                      </a: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од</a:t>
                      </a:r>
                      <a:br>
                        <a:rPr sz="1800"/>
                      </a:br>
                      <a:br>
                        <a:rPr sz="1800"/>
                      </a:b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Д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дев</a:t>
                      </a: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очк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а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д</a:t>
                      </a: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е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журный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д</a:t>
                      </a: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е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ревня</a:t>
                      </a:r>
                      <a:br>
                        <a:rPr sz="1800"/>
                      </a:br>
                      <a:br>
                        <a:rPr sz="1800"/>
                      </a:b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З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з</a:t>
                      </a: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а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во</a:t>
                      </a: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д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за</a:t>
                      </a: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яц</a:t>
                      </a:r>
                      <a:br>
                        <a:rPr sz="1800"/>
                      </a:br>
                      <a:br>
                        <a:rPr sz="1800"/>
                      </a:b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К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к</a:t>
                      </a: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а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нава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к</a:t>
                      </a: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а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пуста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к</a:t>
                      </a: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а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р</a:t>
                      </a: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а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ндаш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к</a:t>
                      </a: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а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рман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к</a:t>
                      </a: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а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ртоф</a:t>
                      </a: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е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л</a:t>
                      </a: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ь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кла</a:t>
                      </a: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сс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к</a:t>
                      </a: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о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нцерт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к</a:t>
                      </a: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о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ридор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к</a:t>
                      </a: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о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р</a:t>
                      </a: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о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ва</a:t>
                      </a:r>
                      <a:br>
                        <a:rPr sz="1800"/>
                      </a:br>
                      <a:br>
                        <a:rPr sz="1800"/>
                      </a:b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Л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л</a:t>
                      </a: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а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дон</a:t>
                      </a: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ь</a:t>
                      </a:r>
                      <a:br>
                        <a:rPr sz="1800"/>
                      </a:br>
                      <a:br>
                        <a:rPr sz="1800"/>
                      </a:b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М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м</a:t>
                      </a: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а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ш</a:t>
                      </a: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и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на</a:t>
                      </a:r>
                      <a:br>
                        <a:rPr sz="1800"/>
                      </a:b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М (окончание)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меб</a:t>
                      </a: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е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л</a:t>
                      </a: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ь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м</a:t>
                      </a: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е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дведь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м</a:t>
                      </a: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о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л</a:t>
                      </a: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о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ко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м</a:t>
                      </a: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о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рков</a:t>
                      </a: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ь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м</a:t>
                      </a: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о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ро</a:t>
                      </a: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з</a:t>
                      </a:r>
                      <a:br>
                        <a:rPr sz="1800"/>
                      </a:br>
                      <a:br>
                        <a:rPr sz="1800"/>
                      </a:b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О</a:t>
                      </a:r>
                      <a:br>
                        <a:rPr sz="1800"/>
                      </a:b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о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вра</a:t>
                      </a: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г</a:t>
                      </a:r>
                      <a:br>
                        <a:rPr sz="1800"/>
                      </a:b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о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гурец</a:t>
                      </a:r>
                      <a:br>
                        <a:rPr sz="1800"/>
                      </a:br>
                      <a:br>
                        <a:rPr sz="1800"/>
                      </a:b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П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п</a:t>
                      </a: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е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тух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пл</a:t>
                      </a: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а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ток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п</a:t>
                      </a: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о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года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п</a:t>
                      </a: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о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м</a:t>
                      </a: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и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дор</a:t>
                      </a:r>
                      <a:br>
                        <a:rPr sz="1800"/>
                      </a:br>
                      <a:br>
                        <a:rPr sz="1800"/>
                      </a:b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Р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р</a:t>
                      </a: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е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бята</a:t>
                      </a:r>
                      <a:br>
                        <a:rPr sz="1800"/>
                      </a:b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Р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од</a:t>
                      </a: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и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на</a:t>
                      </a:r>
                      <a:br>
                        <a:rPr sz="1800"/>
                      </a:br>
                      <a:br>
                        <a:rPr sz="1800"/>
                      </a:b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С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с</a:t>
                      </a: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а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поги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сах</a:t>
                      </a: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а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р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с</a:t>
                      </a: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о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бака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с</a:t>
                      </a: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о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рока</a:t>
                      </a:r>
                      <a:br>
                        <a:rPr sz="1800"/>
                      </a:br>
                      <a:br>
                        <a:rPr sz="1800"/>
                      </a:b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Т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т</a:t>
                      </a: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е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трад</a:t>
                      </a: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ь</a:t>
                      </a:r>
                      <a:br>
                        <a:rPr sz="1800"/>
                      </a:br>
                      <a:br>
                        <a:rPr sz="1800"/>
                      </a:b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У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уч</a:t>
                      </a: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е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ник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учит</a:t>
                      </a: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ель</a:t>
                      </a:r>
                      <a:br>
                        <a:rPr sz="1800"/>
                      </a:br>
                      <a:br>
                        <a:rPr sz="1800"/>
                      </a:b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Х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х</a:t>
                      </a: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о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р</a:t>
                      </a: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о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шо</a:t>
                      </a:r>
                      <a:br>
                        <a:rPr sz="1800"/>
                      </a:br>
                      <a:br>
                        <a:rPr sz="1800"/>
                      </a:b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Я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ябл</a:t>
                      </a: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о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ко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яг</a:t>
                      </a: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о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да</a:t>
                      </a:r>
                      <a:br>
                        <a:rPr sz="1800"/>
                      </a:b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я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зы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41" name="Rectangle 4"/>
          <p:cNvSpPr/>
          <p:nvPr/>
        </p:nvSpPr>
        <p:spPr>
          <a:xfrm>
            <a:off x="264960" y="344520"/>
            <a:ext cx="3659400" cy="129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-6192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80"/>
                </a:solidFill>
                <a:latin typeface="Arial"/>
                <a:ea typeface="Arial"/>
              </a:rPr>
              <a:t>Словарные слова 1 класс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460440" y="222120"/>
            <a:ext cx="10701360" cy="5811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18252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Мнемонический метод</a:t>
            </a: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 – ассоциативное запоминание слов. Трудное написание необходимо  связать с ярким ассоциативным образом, который вспоминается при написании данного слова из словаря. Образ должен помочь правильно написать орфограмму.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9" name="Прямоугольник 4"/>
          <p:cNvSpPr/>
          <p:nvPr/>
        </p:nvSpPr>
        <p:spPr>
          <a:xfrm>
            <a:off x="2293920" y="4205160"/>
            <a:ext cx="1306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entury Gothic"/>
              </a:rPr>
              <a:t>УЖ</a:t>
            </a:r>
            <a:endParaRPr b="0" lang="en-US" sz="6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0" name="Прямоугольник 5"/>
          <p:cNvSpPr/>
          <p:nvPr/>
        </p:nvSpPr>
        <p:spPr>
          <a:xfrm>
            <a:off x="8904960" y="4033800"/>
            <a:ext cx="802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Century Gothic"/>
              </a:rPr>
              <a:t>Н</a:t>
            </a:r>
            <a:endParaRPr b="0" lang="en-US" sz="66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291" name="Picture 10" descr="Картинки по запросу стол"/>
          <p:cNvPicPr/>
          <p:nvPr/>
        </p:nvPicPr>
        <p:blipFill>
          <a:blip r:embed="rId1"/>
          <a:stretch/>
        </p:blipFill>
        <p:spPr>
          <a:xfrm>
            <a:off x="3916440" y="3127320"/>
            <a:ext cx="4475160" cy="2448000"/>
          </a:xfrm>
          <a:prstGeom prst="rect">
            <a:avLst/>
          </a:prstGeom>
          <a:ln w="0">
            <a:noFill/>
          </a:ln>
        </p:spPr>
      </p:pic>
      <p:sp>
        <p:nvSpPr>
          <p:cNvPr id="292" name="Блок-схема: процесс 10"/>
          <p:cNvSpPr/>
          <p:nvPr/>
        </p:nvSpPr>
        <p:spPr>
          <a:xfrm>
            <a:off x="5022720" y="3718080"/>
            <a:ext cx="115920" cy="1741320"/>
          </a:xfrm>
          <a:prstGeom prst="flowChartProcess">
            <a:avLst/>
          </a:prstGeom>
          <a:solidFill>
            <a:srgbClr val="1cade4"/>
          </a:solidFill>
          <a:ln w="12600">
            <a:solidFill>
              <a:srgbClr val="117e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3" name="Блок-схема: процесс 11"/>
          <p:cNvSpPr/>
          <p:nvPr/>
        </p:nvSpPr>
        <p:spPr>
          <a:xfrm>
            <a:off x="7213680" y="3718080"/>
            <a:ext cx="129960" cy="1857240"/>
          </a:xfrm>
          <a:prstGeom prst="flowChartProcess">
            <a:avLst/>
          </a:prstGeom>
          <a:solidFill>
            <a:srgbClr val="1cade4"/>
          </a:solidFill>
          <a:ln w="12600">
            <a:solidFill>
              <a:srgbClr val="117e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4" name="Прямая соединительная линия 15"/>
          <p:cNvSpPr/>
          <p:nvPr/>
        </p:nvSpPr>
        <p:spPr>
          <a:xfrm flipV="1">
            <a:off x="5079960" y="3717720"/>
            <a:ext cx="2232000" cy="174132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262626"/>
              </a:solidFill>
              <a:latin typeface="Century Gothic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1"/>
          <a:stretch/>
        </p:blipFill>
        <p:spPr>
          <a:xfrm>
            <a:off x="1066680" y="2103120"/>
            <a:ext cx="10058400" cy="3932280"/>
          </a:xfrm>
          <a:prstGeom prst="rect">
            <a:avLst/>
          </a:prstGeom>
          <a:ln w="0">
            <a:noFill/>
          </a:ln>
        </p:spPr>
      </p:pic>
      <p:sp>
        <p:nvSpPr>
          <p:cNvPr id="297" name="Прямоугольник 3"/>
          <p:cNvSpPr/>
          <p:nvPr/>
        </p:nvSpPr>
        <p:spPr>
          <a:xfrm>
            <a:off x="1001880" y="693720"/>
            <a:ext cx="9361440" cy="4972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22222"/>
                </a:solidFill>
                <a:latin typeface="Arial"/>
              </a:rPr>
              <a:t>Как подобрать образ?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22222"/>
                </a:solidFill>
                <a:latin typeface="Arial"/>
              </a:rPr>
              <a:t>Записываем слово из словаря,  выделяем другим цветом (подчеркиваем, обводим) слог, который вызывает трудности при написании. Находим ассоциативный образ, связанный со словом из словаря и записываем его напротив словарного слова: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22222"/>
                </a:solidFill>
                <a:latin typeface="Arial"/>
              </a:rPr>
              <a:t>к</a:t>
            </a:r>
            <a:r>
              <a:rPr b="1" lang="en-US" sz="2000" spc="-1" strike="noStrike">
                <a:solidFill>
                  <a:srgbClr val="222222"/>
                </a:solidFill>
                <a:latin typeface="Arial"/>
              </a:rPr>
              <a:t>А</a:t>
            </a:r>
            <a:r>
              <a:rPr b="0" lang="en-US" sz="2000" spc="-1" strike="noStrike">
                <a:solidFill>
                  <a:srgbClr val="222222"/>
                </a:solidFill>
                <a:latin typeface="Arial"/>
              </a:rPr>
              <a:t>рман – дыр</a:t>
            </a:r>
            <a:r>
              <a:rPr b="1" lang="en-US" sz="2000" spc="-1" strike="noStrike">
                <a:solidFill>
                  <a:srgbClr val="222222"/>
                </a:solidFill>
                <a:latin typeface="Arial"/>
              </a:rPr>
              <a:t>А;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22222"/>
                </a:solidFill>
                <a:latin typeface="Arial"/>
              </a:rPr>
              <a:t>к</a:t>
            </a:r>
            <a:r>
              <a:rPr b="1" lang="en-US" sz="2000" spc="-1" strike="noStrike">
                <a:solidFill>
                  <a:srgbClr val="222222"/>
                </a:solidFill>
                <a:latin typeface="Arial"/>
              </a:rPr>
              <a:t>А</a:t>
            </a:r>
            <a:r>
              <a:rPr b="0" lang="en-US" sz="2000" spc="-1" strike="noStrike">
                <a:solidFill>
                  <a:srgbClr val="222222"/>
                </a:solidFill>
                <a:latin typeface="Arial"/>
              </a:rPr>
              <a:t>лории в с</a:t>
            </a:r>
            <a:r>
              <a:rPr b="1" lang="en-US" sz="2000" spc="-1" strike="noStrike">
                <a:solidFill>
                  <a:srgbClr val="222222"/>
                </a:solidFill>
                <a:latin typeface="Arial"/>
              </a:rPr>
              <a:t>А</a:t>
            </a:r>
            <a:r>
              <a:rPr b="0" lang="en-US" sz="2000" spc="-1" strike="noStrike">
                <a:solidFill>
                  <a:srgbClr val="222222"/>
                </a:solidFill>
                <a:latin typeface="Arial"/>
              </a:rPr>
              <a:t>ле.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22222"/>
                </a:solidFill>
                <a:latin typeface="Arial"/>
              </a:rPr>
              <a:t>Обратите внимание, ассоциативный образ обязательно должен быть связан с сомнительным словом каким-то общим признаком: подобие по цвету, форме, месту расположения, звучанию, вкусу, действию, материалу, назначению, количеству и т.д.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22222"/>
                </a:solidFill>
                <a:latin typeface="Arial"/>
              </a:rPr>
              <a:t>В написании ассоциативного образа должна быть под ударением буква, которая является сомнительной в словарном слове: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22222"/>
                </a:solidFill>
                <a:latin typeface="Arial"/>
              </a:rPr>
              <a:t>к</a:t>
            </a:r>
            <a:r>
              <a:rPr b="1" lang="en-US" sz="2000" spc="-1" strike="noStrike">
                <a:solidFill>
                  <a:srgbClr val="222222"/>
                </a:solidFill>
                <a:latin typeface="Arial"/>
              </a:rPr>
              <a:t>А</a:t>
            </a:r>
            <a:r>
              <a:rPr b="0" lang="en-US" sz="2000" spc="-1" strike="noStrike">
                <a:solidFill>
                  <a:srgbClr val="222222"/>
                </a:solidFill>
                <a:latin typeface="Arial"/>
              </a:rPr>
              <a:t>пуста;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22222"/>
                </a:solidFill>
                <a:latin typeface="Arial"/>
              </a:rPr>
              <a:t>з</a:t>
            </a:r>
            <a:r>
              <a:rPr b="1" lang="en-US" sz="2000" spc="-1" strike="noStrike">
                <a:solidFill>
                  <a:srgbClr val="222222"/>
                </a:solidFill>
                <a:latin typeface="Arial"/>
              </a:rPr>
              <a:t>А</a:t>
            </a:r>
            <a:r>
              <a:rPr b="0" lang="en-US" sz="2000" spc="-1" strike="noStrike">
                <a:solidFill>
                  <a:srgbClr val="222222"/>
                </a:solidFill>
                <a:latin typeface="Arial"/>
              </a:rPr>
              <a:t>яц любит к</a:t>
            </a:r>
            <a:r>
              <a:rPr b="1" lang="en-US" sz="2000" spc="-1" strike="noStrike">
                <a:solidFill>
                  <a:srgbClr val="222222"/>
                </a:solidFill>
                <a:latin typeface="Arial"/>
              </a:rPr>
              <a:t>А</a:t>
            </a:r>
            <a:r>
              <a:rPr b="0" lang="en-US" sz="2000" spc="-1" strike="noStrike">
                <a:solidFill>
                  <a:srgbClr val="222222"/>
                </a:solidFill>
                <a:latin typeface="Arial"/>
              </a:rPr>
              <a:t>пусту;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22222"/>
                </a:solidFill>
                <a:latin typeface="Arial"/>
              </a:rPr>
              <a:t>к</a:t>
            </a:r>
            <a:r>
              <a:rPr b="1" lang="en-US" sz="2000" spc="-1" strike="noStrike">
                <a:solidFill>
                  <a:srgbClr val="222222"/>
                </a:solidFill>
                <a:latin typeface="Arial"/>
              </a:rPr>
              <a:t>А</a:t>
            </a:r>
            <a:r>
              <a:rPr b="0" lang="en-US" sz="2000" spc="-1" strike="noStrike">
                <a:solidFill>
                  <a:srgbClr val="222222"/>
                </a:solidFill>
                <a:latin typeface="Arial"/>
              </a:rPr>
              <a:t>пуста – з</a:t>
            </a:r>
            <a:r>
              <a:rPr b="1" lang="en-US" sz="2000" spc="-1" strike="noStrike">
                <a:solidFill>
                  <a:srgbClr val="222222"/>
                </a:solidFill>
                <a:latin typeface="Arial"/>
              </a:rPr>
              <a:t>А</a:t>
            </a:r>
            <a:r>
              <a:rPr b="0" lang="en-US" sz="2000" spc="-1" strike="noStrike">
                <a:solidFill>
                  <a:srgbClr val="222222"/>
                </a:solidFill>
                <a:latin typeface="Arial"/>
              </a:rPr>
              <a:t>яц.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673200" y="285480"/>
            <a:ext cx="10515600" cy="74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18252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Можно </a:t>
            </a: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нарисовать рисунок </a:t>
            </a: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через сомнительную орфограмму, который объясняет написание словарного слова: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0" name="AutoShape 4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1" name="AutoShape 6"/>
          <p:cNvSpPr/>
          <p:nvPr/>
        </p:nvSpPr>
        <p:spPr>
          <a:xfrm>
            <a:off x="-944640" y="1449360"/>
            <a:ext cx="2948040" cy="29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2" name="AutoShape 8"/>
          <p:cNvSpPr/>
          <p:nvPr/>
        </p:nvSpPr>
        <p:spPr>
          <a:xfrm>
            <a:off x="216000" y="1584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303" name="Рисунок 8" descr=""/>
          <p:cNvPicPr/>
          <p:nvPr/>
        </p:nvPicPr>
        <p:blipFill>
          <a:blip r:embed="rId1"/>
          <a:stretch/>
        </p:blipFill>
        <p:spPr>
          <a:xfrm>
            <a:off x="3193920" y="1131840"/>
            <a:ext cx="4527720" cy="4365720"/>
          </a:xfrm>
          <a:prstGeom prst="rect">
            <a:avLst/>
          </a:prstGeom>
          <a:ln w="0">
            <a:noFill/>
          </a:ln>
        </p:spPr>
      </p:pic>
      <p:sp>
        <p:nvSpPr>
          <p:cNvPr id="304" name="Прямоугольник 9"/>
          <p:cNvSpPr/>
          <p:nvPr/>
        </p:nvSpPr>
        <p:spPr>
          <a:xfrm>
            <a:off x="1258920" y="5583240"/>
            <a:ext cx="7719840" cy="703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22222"/>
                </a:solidFill>
                <a:latin typeface="Arial"/>
              </a:rPr>
              <a:t>Ценность данного метода</a:t>
            </a:r>
            <a:r>
              <a:rPr b="0" lang="en-US" sz="2000" spc="-1" strike="noStrike">
                <a:solidFill>
                  <a:srgbClr val="222222"/>
                </a:solidFill>
                <a:latin typeface="Arial"/>
              </a:rPr>
              <a:t> в том, что у каждого ребёнка свой ассоциативный образ, который помогает запомнить слова.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838080" y="721800"/>
            <a:ext cx="10515600" cy="4351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182520" indent="-182520">
              <a:lnSpc>
                <a:spcPct val="90000"/>
              </a:lnSpc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entury Gothic"/>
              </a:rPr>
              <a:t>Можно </a:t>
            </a:r>
            <a:r>
              <a:rPr b="1" lang="en-US" sz="3300" spc="-1" strike="noStrike">
                <a:solidFill>
                  <a:srgbClr val="000000"/>
                </a:solidFill>
                <a:latin typeface="Century Gothic"/>
              </a:rPr>
              <a:t>объединять слова из словаря в словосочетания и предложения</a:t>
            </a:r>
            <a:r>
              <a:rPr b="0" lang="en-US" sz="3300" spc="-1" strike="noStrike">
                <a:solidFill>
                  <a:srgbClr val="000000"/>
                </a:solidFill>
                <a:latin typeface="Century Gothic"/>
              </a:rPr>
              <a:t> на основе одинаковых орфограмм:</a:t>
            </a:r>
            <a:endParaRPr b="0" lang="en-US" sz="3300" spc="-1" strike="noStrike">
              <a:solidFill>
                <a:srgbClr val="000000"/>
              </a:solidFill>
              <a:latin typeface="Century Gothic"/>
            </a:endParaRPr>
          </a:p>
          <a:p>
            <a:pPr marL="182520" indent="-18252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entury Gothic"/>
            </a:endParaRPr>
          </a:p>
          <a:p>
            <a:pPr marL="182520" indent="-18252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entury Gothic"/>
              </a:rPr>
              <a:t>канонада в Канаде;</a:t>
            </a:r>
            <a:endParaRPr b="0" lang="en-US" sz="3300" spc="-1" strike="noStrike">
              <a:solidFill>
                <a:srgbClr val="000000"/>
              </a:solidFill>
              <a:latin typeface="Century Gothic"/>
            </a:endParaRPr>
          </a:p>
          <a:p>
            <a:pPr marL="182520" indent="-18252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entury Gothic"/>
              </a:rPr>
              <a:t>имитация миграции;</a:t>
            </a:r>
            <a:endParaRPr b="0" lang="en-US" sz="3300" spc="-1" strike="noStrike">
              <a:solidFill>
                <a:srgbClr val="000000"/>
              </a:solidFill>
              <a:latin typeface="Century Gothic"/>
            </a:endParaRPr>
          </a:p>
          <a:p>
            <a:pPr marL="182520" indent="-18252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entury Gothic"/>
              </a:rPr>
              <a:t>аппетит после аппендицита;</a:t>
            </a:r>
            <a:endParaRPr b="0" lang="en-US" sz="3300" spc="-1" strike="noStrike">
              <a:solidFill>
                <a:srgbClr val="000000"/>
              </a:solidFill>
              <a:latin typeface="Century Gothic"/>
            </a:endParaRPr>
          </a:p>
          <a:p>
            <a:pPr marL="182520" indent="-18252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entury Gothic"/>
              </a:rPr>
              <a:t>у Аллы аллергия.</a:t>
            </a:r>
            <a:endParaRPr b="0" lang="en-US" sz="3300" spc="-1" strike="noStrike">
              <a:solidFill>
                <a:srgbClr val="000000"/>
              </a:solidFill>
              <a:latin typeface="Century Gothic"/>
            </a:endParaRPr>
          </a:p>
          <a:p>
            <a:pPr marL="182520" indent="-182520">
              <a:lnSpc>
                <a:spcPct val="90000"/>
              </a:lnSpc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307" name="Picture 2" descr="Картинки по запросу аллергия"/>
          <p:cNvPicPr/>
          <p:nvPr/>
        </p:nvPicPr>
        <p:blipFill>
          <a:blip r:embed="rId1"/>
          <a:stretch/>
        </p:blipFill>
        <p:spPr>
          <a:xfrm>
            <a:off x="7153200" y="3021120"/>
            <a:ext cx="468648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708120" y="1027080"/>
            <a:ext cx="10515600" cy="4353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18252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Подбор фразеологизмов и стихотворений со словом из словаря: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182520" indent="-1825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Он на </a:t>
            </a: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вокзале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 есть всегда,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182520" indent="-1825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К нему приходят поезда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182520" indent="-1825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Двойное «</a:t>
            </a: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р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»содержит он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182520" indent="-1825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И называется </a:t>
            </a: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перрон. 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(С. Михалков)      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18252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182520" indent="-1825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Побежал он на </a:t>
            </a: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перрон,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182520" indent="-1825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Влез в отцепленный </a:t>
            </a: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вагон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. (С. Маршак)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18252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310" name="Picture 2" descr="Картинки по запросу перрон"/>
          <p:cNvPicPr/>
          <p:nvPr/>
        </p:nvPicPr>
        <p:blipFill>
          <a:blip r:embed="rId1"/>
          <a:stretch/>
        </p:blipFill>
        <p:spPr>
          <a:xfrm>
            <a:off x="7419960" y="3549600"/>
            <a:ext cx="4200480" cy="27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838080" y="444240"/>
            <a:ext cx="10515600" cy="2095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Можно </a:t>
            </a: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написать слова, 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стихотворения или нарисовать мнемонические рисунки </a:t>
            </a: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на разноцветных стикерах 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и наклеить их на видные места в своей комнате. Они постоянно будут попадаться на глаза, что поможет быстро запомнить словарные слова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313" name="Picture 2" descr="Картинки по запросу доска со стикерами"/>
          <p:cNvPicPr/>
          <p:nvPr/>
        </p:nvPicPr>
        <p:blipFill>
          <a:blip r:embed="rId1"/>
          <a:stretch/>
        </p:blipFill>
        <p:spPr>
          <a:xfrm>
            <a:off x="838080" y="2540160"/>
            <a:ext cx="3936960" cy="393696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6" descr="Картинки по запросу доска со стикерами"/>
          <p:cNvPicPr/>
          <p:nvPr/>
        </p:nvPicPr>
        <p:blipFill>
          <a:blip r:embed="rId2"/>
          <a:stretch/>
        </p:blipFill>
        <p:spPr>
          <a:xfrm>
            <a:off x="5967360" y="2738520"/>
            <a:ext cx="515772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262626"/>
              </a:solidFill>
              <a:latin typeface="Century Gothic"/>
            </a:endParaRPr>
          </a:p>
        </p:txBody>
      </p:sp>
      <p:graphicFrame>
        <p:nvGraphicFramePr>
          <p:cNvPr id="243" name=""/>
          <p:cNvGraphicFramePr/>
          <p:nvPr/>
        </p:nvGraphicFramePr>
        <p:xfrm>
          <a:off x="396720" y="380880"/>
          <a:ext cx="11398320" cy="6477120"/>
        </p:xfrm>
        <a:graphic>
          <a:graphicData uri="http://schemas.openxmlformats.org/drawingml/2006/table">
            <a:tbl>
              <a:tblPr/>
              <a:tblGrid>
                <a:gridCol w="2757600"/>
                <a:gridCol w="2881440"/>
                <a:gridCol w="2879640"/>
                <a:gridCol w="2879640"/>
              </a:tblGrid>
              <a:tr h="6477120">
                <a:tc>
                  <a:txBody>
                    <a:bodyPr lIns="75600" rIns="75600" tIns="37800" bIns="37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А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а</a:t>
                      </a:r>
                      <a:r>
                        <a:rPr b="1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в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тобус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а</a:t>
                      </a:r>
                      <a:r>
                        <a:rPr b="1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в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т</a:t>
                      </a:r>
                      <a:r>
                        <a:rPr b="1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о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м</a:t>
                      </a:r>
                      <a:r>
                        <a:rPr b="1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об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иль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адр</a:t>
                      </a:r>
                      <a:r>
                        <a:rPr b="1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е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с</a:t>
                      </a:r>
                      <a:br>
                        <a:rPr sz="1400"/>
                      </a:br>
                      <a:r>
                        <a:rPr b="1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а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прель</a:t>
                      </a:r>
                      <a:br>
                        <a:rPr sz="1400"/>
                      </a:br>
                      <a:r>
                        <a:rPr b="1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Б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б</a:t>
                      </a:r>
                      <a:r>
                        <a:rPr b="1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е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рёза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быстр</a:t>
                      </a:r>
                      <a:r>
                        <a:rPr b="1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о</a:t>
                      </a:r>
                      <a:br>
                        <a:rPr sz="1400"/>
                      </a:br>
                      <a:br>
                        <a:rPr sz="1400"/>
                      </a:br>
                      <a:r>
                        <a:rPr b="1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В</a:t>
                      </a:r>
                      <a:br>
                        <a:rPr sz="1400"/>
                      </a:br>
                      <a:r>
                        <a:rPr b="1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вд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ру</a:t>
                      </a:r>
                      <a:r>
                        <a:rPr b="1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г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вес</a:t>
                      </a:r>
                      <a:r>
                        <a:rPr b="1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е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л</a:t>
                      </a:r>
                      <a:r>
                        <a:rPr b="1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о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вет</a:t>
                      </a:r>
                      <a:r>
                        <a:rPr b="1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е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р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в</a:t>
                      </a:r>
                      <a:r>
                        <a:rPr b="1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и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н</a:t>
                      </a:r>
                      <a:r>
                        <a:rPr b="1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о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град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в</a:t>
                      </a:r>
                      <a:r>
                        <a:rPr b="1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ок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зал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в</a:t>
                      </a:r>
                      <a:r>
                        <a:rPr b="1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о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скр</a:t>
                      </a:r>
                      <a:r>
                        <a:rPr b="1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е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сен</a:t>
                      </a:r>
                      <a:r>
                        <a:rPr b="1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ь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е</a:t>
                      </a:r>
                      <a:br>
                        <a:rPr sz="1400"/>
                      </a:br>
                      <a:r>
                        <a:rPr b="1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в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торник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вч</a:t>
                      </a:r>
                      <a:r>
                        <a:rPr b="1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е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ра</a:t>
                      </a:r>
                      <a:br>
                        <a:rPr sz="1400"/>
                      </a:br>
                      <a:r>
                        <a:rPr b="1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Г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г</a:t>
                      </a:r>
                      <a:r>
                        <a:rPr b="1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е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рой</a:t>
                      </a:r>
                      <a:br>
                        <a:rPr sz="1400"/>
                      </a:br>
                      <a:br>
                        <a:rPr sz="1400"/>
                      </a:br>
                      <a:r>
                        <a:rPr b="1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Д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д</a:t>
                      </a:r>
                      <a:r>
                        <a:rPr b="1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е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кабрь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д</a:t>
                      </a:r>
                      <a:r>
                        <a:rPr b="1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и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ректор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д</a:t>
                      </a:r>
                      <a:r>
                        <a:rPr b="1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о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рога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до св</a:t>
                      </a:r>
                      <a:r>
                        <a:rPr b="1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и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дани</a:t>
                      </a:r>
                      <a:r>
                        <a:rPr b="1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я</a:t>
                      </a:r>
                      <a:br>
                        <a:rPr sz="1400"/>
                      </a:br>
                      <a:r>
                        <a:rPr b="1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Ж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ж</a:t>
                      </a:r>
                      <a:r>
                        <a:rPr b="1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е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лезо</a:t>
                      </a:r>
                      <a:br>
                        <a:rPr sz="1400"/>
                      </a:br>
                      <a:br>
                        <a:rPr sz="1400"/>
                      </a:br>
                      <a:endParaRPr b="0" lang="en-US" sz="1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75600" marR="75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5600" rIns="75600" tIns="37800" bIns="37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З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за</a:t>
                      </a:r>
                      <a:r>
                        <a:rPr b="1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в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тра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за</a:t>
                      </a:r>
                      <a:r>
                        <a:rPr b="1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в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трак</a:t>
                      </a:r>
                      <a:br>
                        <a:rPr sz="1400"/>
                      </a:br>
                      <a:r>
                        <a:rPr b="1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з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дание</a:t>
                      </a:r>
                      <a:br>
                        <a:rPr sz="1400"/>
                      </a:br>
                      <a:r>
                        <a:rPr b="1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з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дра</a:t>
                      </a:r>
                      <a:r>
                        <a:rPr b="1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в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с</a:t>
                      </a:r>
                      <a:r>
                        <a:rPr b="1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т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вуй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з</a:t>
                      </a:r>
                      <a:r>
                        <a:rPr b="1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е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мл</a:t>
                      </a:r>
                      <a:r>
                        <a:rPr b="1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я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ника</a:t>
                      </a:r>
                      <a:br>
                        <a:rPr sz="1400"/>
                      </a:br>
                      <a:br>
                        <a:rPr sz="1400"/>
                      </a:br>
                      <a:r>
                        <a:rPr b="1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И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ин</a:t>
                      </a:r>
                      <a:r>
                        <a:rPr b="1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е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й</a:t>
                      </a:r>
                      <a:br>
                        <a:rPr sz="1400"/>
                      </a:br>
                      <a:br>
                        <a:rPr sz="1400"/>
                      </a:br>
                      <a:r>
                        <a:rPr b="1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К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к</a:t>
                      </a:r>
                      <a:r>
                        <a:rPr b="1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а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ртина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кв</a:t>
                      </a:r>
                      <a:r>
                        <a:rPr b="1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а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ртира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к</a:t>
                      </a:r>
                      <a:r>
                        <a:rPr b="1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о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мп</a:t>
                      </a:r>
                      <a:r>
                        <a:rPr b="1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ью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т</a:t>
                      </a:r>
                      <a:r>
                        <a:rPr b="1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е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р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к</a:t>
                      </a:r>
                      <a:r>
                        <a:rPr b="1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о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н</a:t>
                      </a:r>
                      <a:r>
                        <a:rPr b="1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ь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ки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к</a:t>
                      </a:r>
                      <a:r>
                        <a:rPr b="1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о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ра</a:t>
                      </a:r>
                      <a:r>
                        <a:rPr b="1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бль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к</a:t>
                      </a:r>
                      <a:r>
                        <a:rPr b="1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о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рзина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к</a:t>
                      </a:r>
                      <a:r>
                        <a:rPr b="1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о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см</a:t>
                      </a:r>
                      <a:r>
                        <a:rPr b="1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о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на</a:t>
                      </a:r>
                      <a:r>
                        <a:rPr b="1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в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т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косм</a:t>
                      </a:r>
                      <a:r>
                        <a:rPr b="1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о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с</a:t>
                      </a:r>
                      <a:br>
                        <a:rPr sz="1400"/>
                      </a:br>
                      <a:r>
                        <a:rPr b="1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Л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лес</a:t>
                      </a:r>
                      <a:r>
                        <a:rPr b="1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т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ница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л</a:t>
                      </a:r>
                      <a:r>
                        <a:rPr b="1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о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пата</a:t>
                      </a:r>
                      <a:br>
                        <a:rPr sz="1400"/>
                      </a:br>
                      <a:r>
                        <a:rPr b="1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М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мес</a:t>
                      </a:r>
                      <a:r>
                        <a:rPr b="1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я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ц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м</a:t>
                      </a:r>
                      <a:r>
                        <a:rPr b="1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е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чта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м</a:t>
                      </a:r>
                      <a:r>
                        <a:rPr b="1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о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рож</a:t>
                      </a:r>
                      <a:r>
                        <a:rPr b="1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ен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ое</a:t>
                      </a:r>
                      <a:br>
                        <a:rPr sz="1400"/>
                      </a:br>
                      <a:r>
                        <a:rPr b="1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Мо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сква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мул</a:t>
                      </a:r>
                      <a:r>
                        <a:rPr b="1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ь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тфил</a:t>
                      </a:r>
                      <a:r>
                        <a:rPr b="1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ь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м</a:t>
                      </a:r>
                      <a:br>
                        <a:rPr sz="1400"/>
                      </a:br>
                      <a:br>
                        <a:rPr sz="1400"/>
                      </a:br>
                      <a:endParaRPr b="0" lang="en-US" sz="1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75600" marR="75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5600" rIns="75600" tIns="37800" bIns="37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Н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н</a:t>
                      </a:r>
                      <a:r>
                        <a:rPr b="1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а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ро</a:t>
                      </a:r>
                      <a:r>
                        <a:rPr b="1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д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н</a:t>
                      </a:r>
                      <a:r>
                        <a:rPr b="1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о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яб</a:t>
                      </a:r>
                      <a:r>
                        <a:rPr b="1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рь</a:t>
                      </a:r>
                      <a:br>
                        <a:rPr sz="1400"/>
                      </a:br>
                      <a:r>
                        <a:rPr b="1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О</a:t>
                      </a:r>
                      <a:br>
                        <a:rPr sz="1400"/>
                      </a:br>
                      <a:r>
                        <a:rPr b="1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о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бе</a:t>
                      </a:r>
                      <a:r>
                        <a:rPr b="1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д</a:t>
                      </a:r>
                      <a:br>
                        <a:rPr sz="1400"/>
                      </a:br>
                      <a:r>
                        <a:rPr b="1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о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бл</a:t>
                      </a:r>
                      <a:r>
                        <a:rPr b="1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а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к</a:t>
                      </a:r>
                      <a:r>
                        <a:rPr b="1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о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ов</a:t>
                      </a:r>
                      <a:r>
                        <a:rPr b="1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о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щи</a:t>
                      </a:r>
                      <a:br>
                        <a:rPr sz="1400"/>
                      </a:br>
                      <a:r>
                        <a:rPr b="1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о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дежда</a:t>
                      </a:r>
                      <a:br>
                        <a:rPr sz="1400"/>
                      </a:br>
                      <a:r>
                        <a:rPr b="1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о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днажды</a:t>
                      </a:r>
                      <a:br>
                        <a:rPr sz="1400"/>
                      </a:br>
                      <a:r>
                        <a:rPr b="1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о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ктяб</a:t>
                      </a:r>
                      <a:r>
                        <a:rPr b="1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рь</a:t>
                      </a:r>
                      <a:br>
                        <a:rPr sz="1400"/>
                      </a:br>
                      <a:r>
                        <a:rPr b="1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о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тец</a:t>
                      </a:r>
                      <a:br>
                        <a:rPr sz="1400"/>
                      </a:br>
                      <a:r>
                        <a:rPr b="1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П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п</a:t>
                      </a:r>
                      <a:r>
                        <a:rPr b="1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а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л</a:t>
                      </a:r>
                      <a:r>
                        <a:rPr b="1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ь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то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па</a:t>
                      </a:r>
                      <a:r>
                        <a:rPr b="1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сс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ажир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п</a:t>
                      </a:r>
                      <a:r>
                        <a:rPr b="1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е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нал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пл</a:t>
                      </a:r>
                      <a:r>
                        <a:rPr b="1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а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ток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п</a:t>
                      </a:r>
                      <a:r>
                        <a:rPr b="1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о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н</a:t>
                      </a:r>
                      <a:r>
                        <a:rPr b="1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е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дел</a:t>
                      </a:r>
                      <a:r>
                        <a:rPr b="1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ь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ник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п</a:t>
                      </a:r>
                      <a:r>
                        <a:rPr b="1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о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суда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праз</a:t>
                      </a:r>
                      <a:r>
                        <a:rPr b="1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д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ник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пятн</a:t>
                      </a:r>
                      <a:r>
                        <a:rPr b="1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и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ца</a:t>
                      </a:r>
                      <a:br>
                        <a:rPr sz="1400"/>
                      </a:br>
                      <a:r>
                        <a:rPr b="1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Р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р</a:t>
                      </a:r>
                      <a:r>
                        <a:rPr b="1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а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бота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р</a:t>
                      </a:r>
                      <a:r>
                        <a:rPr b="1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и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сунок</a:t>
                      </a:r>
                      <a:br>
                        <a:rPr sz="1400"/>
                      </a:br>
                      <a:r>
                        <a:rPr b="1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Росс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ия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ру</a:t>
                      </a:r>
                      <a:r>
                        <a:rPr b="1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сс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кий</a:t>
                      </a:r>
                      <a:br>
                        <a:rPr sz="1400"/>
                      </a:br>
                      <a:r>
                        <a:rPr b="1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С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с</a:t>
                      </a:r>
                      <a:r>
                        <a:rPr b="1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е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годня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с</a:t>
                      </a:r>
                      <a:r>
                        <a:rPr b="1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е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нтяб</a:t>
                      </a:r>
                      <a:r>
                        <a:rPr b="1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рь</a:t>
                      </a:r>
                      <a:br>
                        <a:rPr sz="1400"/>
                      </a:br>
                      <a:endParaRPr b="0" lang="en-US" sz="1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75600" marR="75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5600" rIns="75600" tIns="37800" bIns="37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С (окончание)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скор</a:t>
                      </a:r>
                      <a:r>
                        <a:rPr b="1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о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с</a:t>
                      </a:r>
                      <a:r>
                        <a:rPr b="1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о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бака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с</a:t>
                      </a:r>
                      <a:r>
                        <a:rPr b="1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о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л</a:t>
                      </a:r>
                      <a:r>
                        <a:rPr b="1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о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вей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сп</a:t>
                      </a:r>
                      <a:r>
                        <a:rPr b="1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а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сибо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ср</a:t>
                      </a:r>
                      <a:r>
                        <a:rPr b="1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е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да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ст</a:t>
                      </a:r>
                      <a:r>
                        <a:rPr b="1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о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лица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су</a:t>
                      </a:r>
                      <a:r>
                        <a:rPr b="1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бб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ота</a:t>
                      </a:r>
                      <a:br>
                        <a:rPr sz="1400"/>
                      </a:br>
                      <a:br>
                        <a:rPr sz="1400"/>
                      </a:br>
                      <a:r>
                        <a:rPr b="1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Т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т</a:t>
                      </a:r>
                      <a:r>
                        <a:rPr b="1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е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л</a:t>
                      </a:r>
                      <a:r>
                        <a:rPr b="1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е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визор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т</a:t>
                      </a:r>
                      <a:r>
                        <a:rPr b="1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е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л</a:t>
                      </a:r>
                      <a:r>
                        <a:rPr b="1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е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фон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т</a:t>
                      </a:r>
                      <a:r>
                        <a:rPr b="1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о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варищ</a:t>
                      </a:r>
                      <a:br>
                        <a:rPr sz="1400"/>
                      </a:br>
                      <a:r>
                        <a:rPr b="1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У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уж</a:t>
                      </a:r>
                      <a:r>
                        <a:rPr b="1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и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н</a:t>
                      </a:r>
                      <a:br>
                        <a:rPr sz="1400"/>
                      </a:br>
                      <a:r>
                        <a:rPr b="1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Ф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ф</a:t>
                      </a:r>
                      <a:r>
                        <a:rPr b="1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а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милия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ф</a:t>
                      </a:r>
                      <a:r>
                        <a:rPr b="1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е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враль</a:t>
                      </a:r>
                      <a:br>
                        <a:rPr sz="1400"/>
                      </a:br>
                      <a:r>
                        <a:rPr b="1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Ч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ч</a:t>
                      </a:r>
                      <a:r>
                        <a:rPr b="1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е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твер</a:t>
                      </a:r>
                      <a:r>
                        <a:rPr b="1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г</a:t>
                      </a:r>
                      <a:br>
                        <a:rPr sz="1400"/>
                      </a:br>
                      <a:r>
                        <a:rPr b="1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ч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то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чу</a:t>
                      </a:r>
                      <a:r>
                        <a:rPr b="1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в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ства</a:t>
                      </a:r>
                      <a:br>
                        <a:rPr sz="1400"/>
                      </a:br>
                      <a:r>
                        <a:rPr b="1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Щ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щав</a:t>
                      </a:r>
                      <a:r>
                        <a:rPr b="1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е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ль</a:t>
                      </a:r>
                      <a:br>
                        <a:rPr sz="1400"/>
                      </a:br>
                      <a:br>
                        <a:rPr sz="1400"/>
                      </a:br>
                      <a:r>
                        <a:rPr b="1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Я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яг</a:t>
                      </a:r>
                      <a:r>
                        <a:rPr b="1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о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75600" marR="75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44" name="Rectangle 1"/>
          <p:cNvSpPr/>
          <p:nvPr/>
        </p:nvSpPr>
        <p:spPr>
          <a:xfrm>
            <a:off x="4087440" y="28800"/>
            <a:ext cx="3132720" cy="59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-6192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80"/>
                </a:solidFill>
                <a:latin typeface="Arial"/>
                <a:ea typeface="Arial"/>
              </a:rPr>
              <a:t>Словарные слова 2 класс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262626"/>
              </a:solidFill>
              <a:latin typeface="Century Gothic"/>
            </a:endParaRPr>
          </a:p>
        </p:txBody>
      </p:sp>
      <p:graphicFrame>
        <p:nvGraphicFramePr>
          <p:cNvPr id="246" name=""/>
          <p:cNvGraphicFramePr/>
          <p:nvPr/>
        </p:nvGraphicFramePr>
        <p:xfrm>
          <a:off x="334800" y="523800"/>
          <a:ext cx="11522160" cy="6648480"/>
        </p:xfrm>
        <a:graphic>
          <a:graphicData uri="http://schemas.openxmlformats.org/drawingml/2006/table">
            <a:tbl>
              <a:tblPr/>
              <a:tblGrid>
                <a:gridCol w="2881440"/>
                <a:gridCol w="2879640"/>
                <a:gridCol w="2881440"/>
                <a:gridCol w="2879640"/>
              </a:tblGrid>
              <a:tr h="6648480">
                <a:tc>
                  <a:txBody>
                    <a:bodyPr lIns="64440" rIns="64440" tIns="32040" bIns="320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А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а</a:t>
                      </a:r>
                      <a:r>
                        <a:rPr b="1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лл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ея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а</a:t>
                      </a:r>
                      <a:r>
                        <a:rPr b="1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пп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етит</a:t>
                      </a:r>
                      <a:br>
                        <a:rPr sz="1200"/>
                      </a:br>
                      <a:r>
                        <a:rPr b="1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а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птека</a:t>
                      </a:r>
                      <a:br>
                        <a:rPr sz="1200"/>
                      </a:br>
                      <a:r>
                        <a:rPr b="1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Б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б</a:t>
                      </a:r>
                      <a:r>
                        <a:rPr b="1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а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га</a:t>
                      </a:r>
                      <a:r>
                        <a:rPr b="1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ж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ба</a:t>
                      </a:r>
                      <a:r>
                        <a:rPr b="1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сс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е</a:t>
                      </a:r>
                      <a:r>
                        <a:rPr b="1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й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н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б</a:t>
                      </a:r>
                      <a:r>
                        <a:rPr b="1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и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бл</a:t>
                      </a:r>
                      <a:r>
                        <a:rPr b="1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и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отека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б</a:t>
                      </a:r>
                      <a:r>
                        <a:rPr b="1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о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лото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б</a:t>
                      </a:r>
                      <a:r>
                        <a:rPr b="1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о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тинки</a:t>
                      </a:r>
                      <a:br>
                        <a:rPr sz="1200"/>
                      </a:br>
                      <a:r>
                        <a:rPr b="1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В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в</a:t>
                      </a:r>
                      <a:r>
                        <a:rPr b="1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а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гон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вал</a:t>
                      </a:r>
                      <a:r>
                        <a:rPr b="1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е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нки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в</a:t>
                      </a:r>
                      <a:r>
                        <a:rPr b="1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е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зде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в</a:t>
                      </a:r>
                      <a:r>
                        <a:rPr b="1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и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н</a:t>
                      </a:r>
                      <a:r>
                        <a:rPr b="1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е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грет</a:t>
                      </a:r>
                      <a:br>
                        <a:rPr sz="1200"/>
                      </a:br>
                      <a:r>
                        <a:rPr b="1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вм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есте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в</a:t>
                      </a:r>
                      <a:r>
                        <a:rPr b="1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о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кру</a:t>
                      </a:r>
                      <a:r>
                        <a:rPr b="1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г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в</a:t>
                      </a:r>
                      <a:r>
                        <a:rPr b="1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о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сток</a:t>
                      </a:r>
                      <a:br>
                        <a:rPr sz="1200"/>
                      </a:br>
                      <a:r>
                        <a:rPr b="1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в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п</a:t>
                      </a:r>
                      <a:r>
                        <a:rPr b="1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е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р</a:t>
                      </a:r>
                      <a:r>
                        <a:rPr b="1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е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ди</a:t>
                      </a:r>
                      <a:br>
                        <a:rPr sz="1200"/>
                      </a:br>
                      <a:r>
                        <a:rPr b="1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в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ч</a:t>
                      </a:r>
                      <a:r>
                        <a:rPr b="1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е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ра</a:t>
                      </a:r>
                      <a:br>
                        <a:rPr sz="1200"/>
                      </a:br>
                      <a:r>
                        <a:rPr b="1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Г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г</a:t>
                      </a:r>
                      <a:r>
                        <a:rPr b="1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о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рох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г</a:t>
                      </a:r>
                      <a:r>
                        <a:rPr b="1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о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рячий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г</a:t>
                      </a:r>
                      <a:r>
                        <a:rPr b="1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о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тов</a:t>
                      </a:r>
                      <a:br>
                        <a:rPr sz="1200"/>
                      </a:br>
                      <a:r>
                        <a:rPr b="1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Д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д</a:t>
                      </a:r>
                      <a:r>
                        <a:rPr b="1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и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ректор</a:t>
                      </a:r>
                      <a:br>
                        <a:rPr sz="1200"/>
                      </a:br>
                      <a:br>
                        <a:rPr sz="1200"/>
                      </a:br>
                      <a:r>
                        <a:rPr b="1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Ж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ж</a:t>
                      </a:r>
                      <a:r>
                        <a:rPr b="1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ё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лтый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ж</a:t>
                      </a:r>
                      <a:r>
                        <a:rPr b="1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и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вотн</a:t>
                      </a:r>
                      <a:r>
                        <a:rPr b="1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о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е</a:t>
                      </a:r>
                      <a:br>
                        <a:rPr sz="1200"/>
                      </a:br>
                      <a:br>
                        <a:rPr sz="1200"/>
                      </a:br>
                      <a:r>
                        <a:rPr b="1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З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зап</a:t>
                      </a:r>
                      <a:r>
                        <a:rPr b="1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а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д</a:t>
                      </a:r>
                      <a:br>
                        <a:rPr sz="1200"/>
                      </a:br>
                      <a:r>
                        <a:rPr b="1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з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десь</a:t>
                      </a:r>
                      <a:br>
                        <a:rPr sz="1200"/>
                      </a:br>
                      <a:br>
                        <a:rPr sz="1200"/>
                      </a:br>
                      <a:endParaRPr b="0" lang="en-US" sz="1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64440" marR="64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440" rIns="64440" tIns="32040" bIns="320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И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инж</a:t>
                      </a:r>
                      <a:r>
                        <a:rPr b="1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е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н</a:t>
                      </a:r>
                      <a:r>
                        <a:rPr b="1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е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р</a:t>
                      </a:r>
                      <a:br>
                        <a:rPr sz="1200"/>
                      </a:br>
                      <a:r>
                        <a:rPr b="1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и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н</a:t>
                      </a:r>
                      <a:r>
                        <a:rPr b="1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е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ре</a:t>
                      </a:r>
                      <a:r>
                        <a:rPr b="1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сн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ый</a:t>
                      </a:r>
                      <a:br>
                        <a:rPr sz="1200"/>
                      </a:br>
                      <a:r>
                        <a:rPr b="1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К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к</a:t>
                      </a:r>
                      <a:r>
                        <a:rPr b="1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а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л</a:t>
                      </a:r>
                      <a:r>
                        <a:rPr b="1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е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ндарь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к</a:t>
                      </a:r>
                      <a:r>
                        <a:rPr b="1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а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пуста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к</a:t>
                      </a:r>
                      <a:r>
                        <a:rPr b="1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а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ртоф</a:t>
                      </a:r>
                      <a:r>
                        <a:rPr b="1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е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ль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к</a:t>
                      </a:r>
                      <a:r>
                        <a:rPr b="1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а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стрюля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к</a:t>
                      </a:r>
                      <a:r>
                        <a:rPr b="1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и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л</a:t>
                      </a:r>
                      <a:r>
                        <a:rPr b="1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о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гра</a:t>
                      </a:r>
                      <a:r>
                        <a:rPr b="1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мм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к</a:t>
                      </a:r>
                      <a:r>
                        <a:rPr b="1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олле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ктив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к</a:t>
                      </a:r>
                      <a:r>
                        <a:rPr b="1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о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ми</a:t>
                      </a:r>
                      <a:r>
                        <a:rPr b="1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сс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ия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к</a:t>
                      </a:r>
                      <a:r>
                        <a:rPr b="1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о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мбайн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к</a:t>
                      </a:r>
                      <a:r>
                        <a:rPr b="1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о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мбайнёр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к</a:t>
                      </a:r>
                      <a:r>
                        <a:rPr b="1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о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мп</a:t>
                      </a:r>
                      <a:r>
                        <a:rPr b="1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ью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т</a:t>
                      </a:r>
                      <a:r>
                        <a:rPr b="1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е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р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к</a:t>
                      </a:r>
                      <a:r>
                        <a:rPr b="1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о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стёр</a:t>
                      </a:r>
                      <a:br>
                        <a:rPr sz="1200"/>
                      </a:br>
                      <a:r>
                        <a:rPr b="1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К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ремль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кр</a:t>
                      </a:r>
                      <a:r>
                        <a:rPr b="1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о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вать</a:t>
                      </a:r>
                      <a:br>
                        <a:rPr sz="1200"/>
                      </a:br>
                      <a:r>
                        <a:rPr b="1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Л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лаг</a:t>
                      </a:r>
                      <a:r>
                        <a:rPr b="1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е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рь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лес</a:t>
                      </a:r>
                      <a:r>
                        <a:rPr b="1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т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ница</a:t>
                      </a:r>
                      <a:br>
                        <a:rPr sz="1200"/>
                      </a:br>
                      <a:r>
                        <a:rPr b="1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М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м</a:t>
                      </a:r>
                      <a:r>
                        <a:rPr b="1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а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газин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м</a:t>
                      </a:r>
                      <a:r>
                        <a:rPr b="1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а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лина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медл</a:t>
                      </a:r>
                      <a:r>
                        <a:rPr b="1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енн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о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м</a:t>
                      </a:r>
                      <a:r>
                        <a:rPr b="1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е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та</a:t>
                      </a:r>
                      <a:r>
                        <a:rPr b="1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лл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м</a:t>
                      </a:r>
                      <a:r>
                        <a:rPr b="1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е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тель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м</a:t>
                      </a:r>
                      <a:r>
                        <a:rPr b="1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е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тро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м</a:t>
                      </a:r>
                      <a:r>
                        <a:rPr b="1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о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л</a:t>
                      </a:r>
                      <a:r>
                        <a:rPr b="1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о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ток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м</a:t>
                      </a:r>
                      <a:r>
                        <a:rPr b="1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о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рко</a:t>
                      </a:r>
                      <a:r>
                        <a:rPr b="1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в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ь</a:t>
                      </a:r>
                      <a:br>
                        <a:rPr sz="1200"/>
                      </a:br>
                      <a:r>
                        <a:rPr b="1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Н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н</a:t>
                      </a:r>
                      <a:r>
                        <a:rPr b="1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а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за</a:t>
                      </a:r>
                      <a:r>
                        <a:rPr b="1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д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н</a:t>
                      </a:r>
                      <a:r>
                        <a:rPr b="1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а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лев</a:t>
                      </a:r>
                      <a:r>
                        <a:rPr b="1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о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н</a:t>
                      </a:r>
                      <a:r>
                        <a:rPr b="1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а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прав</a:t>
                      </a:r>
                      <a:r>
                        <a:rPr b="1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о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н</a:t>
                      </a:r>
                      <a:r>
                        <a:rPr b="1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а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ро</a:t>
                      </a:r>
                      <a:r>
                        <a:rPr b="1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д</a:t>
                      </a:r>
                      <a:br>
                        <a:rPr sz="1200"/>
                      </a:br>
                      <a:br>
                        <a:rPr sz="1200"/>
                      </a:br>
                      <a:endParaRPr b="0" lang="en-US" sz="1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64440" marR="64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440" rIns="64440" tIns="32040" bIns="320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О</a:t>
                      </a:r>
                      <a:br>
                        <a:rPr sz="1200"/>
                      </a:br>
                      <a:r>
                        <a:rPr b="1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о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вёс</a:t>
                      </a:r>
                      <a:br>
                        <a:rPr sz="1200"/>
                      </a:br>
                      <a:r>
                        <a:rPr b="1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о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г</a:t>
                      </a:r>
                      <a:r>
                        <a:rPr b="1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о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ро</a:t>
                      </a:r>
                      <a:r>
                        <a:rPr b="1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д</a:t>
                      </a:r>
                      <a:br>
                        <a:rPr sz="1200"/>
                      </a:br>
                      <a:r>
                        <a:rPr b="1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о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гурец</a:t>
                      </a:r>
                      <a:br>
                        <a:rPr sz="1200"/>
                      </a:br>
                      <a:r>
                        <a:rPr b="1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О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д</a:t>
                      </a:r>
                      <a:r>
                        <a:rPr b="1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есс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а</a:t>
                      </a:r>
                      <a:br>
                        <a:rPr sz="1200"/>
                      </a:br>
                      <a:r>
                        <a:rPr b="1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о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рех</a:t>
                      </a:r>
                      <a:br>
                        <a:rPr sz="1200"/>
                      </a:br>
                      <a:r>
                        <a:rPr b="1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о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сина</a:t>
                      </a:r>
                      <a:br>
                        <a:rPr sz="1200"/>
                      </a:br>
                      <a:r>
                        <a:rPr b="1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П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п</a:t>
                      </a:r>
                      <a:r>
                        <a:rPr b="1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асса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жир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п</a:t>
                      </a:r>
                      <a:r>
                        <a:rPr b="1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е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сок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п</a:t>
                      </a:r>
                      <a:r>
                        <a:rPr b="1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и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ро</a:t>
                      </a:r>
                      <a:r>
                        <a:rPr b="1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г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п</a:t>
                      </a:r>
                      <a:r>
                        <a:rPr b="1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и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рожн</a:t>
                      </a:r>
                      <a:r>
                        <a:rPr b="1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о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е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п</a:t>
                      </a:r>
                      <a:r>
                        <a:rPr b="1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о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беда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п</a:t>
                      </a:r>
                      <a:r>
                        <a:rPr b="1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о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года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п</a:t>
                      </a:r>
                      <a:r>
                        <a:rPr b="1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о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м</a:t>
                      </a:r>
                      <a:r>
                        <a:rPr b="1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и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дор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п</a:t>
                      </a:r>
                      <a:r>
                        <a:rPr b="1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о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том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праз</a:t>
                      </a:r>
                      <a:r>
                        <a:rPr b="1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д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ник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пр</a:t>
                      </a:r>
                      <a:r>
                        <a:rPr b="1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е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кра</a:t>
                      </a:r>
                      <a:r>
                        <a:rPr b="1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сн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ый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пш</a:t>
                      </a:r>
                      <a:r>
                        <a:rPr b="1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е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ница</a:t>
                      </a:r>
                      <a:br>
                        <a:rPr sz="1200"/>
                      </a:br>
                      <a:r>
                        <a:rPr b="1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Р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р</a:t>
                      </a:r>
                      <a:r>
                        <a:rPr b="1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а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кета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р</a:t>
                      </a:r>
                      <a:r>
                        <a:rPr b="1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асс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ка</a:t>
                      </a:r>
                      <a:r>
                        <a:rPr b="1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з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р</a:t>
                      </a:r>
                      <a:r>
                        <a:rPr b="1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асс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т</a:t>
                      </a:r>
                      <a:r>
                        <a:rPr b="1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о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яние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р</a:t>
                      </a:r>
                      <a:r>
                        <a:rPr b="1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а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стение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р</a:t>
                      </a:r>
                      <a:r>
                        <a:rPr b="1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е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шать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р</a:t>
                      </a:r>
                      <a:r>
                        <a:rPr b="1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и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сунок</a:t>
                      </a:r>
                      <a:br>
                        <a:rPr sz="1200"/>
                      </a:br>
                      <a:r>
                        <a:rPr b="1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С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сах</a:t>
                      </a:r>
                      <a:r>
                        <a:rPr b="1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а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р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сверс</a:t>
                      </a:r>
                      <a:r>
                        <a:rPr b="1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т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ник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сев</a:t>
                      </a:r>
                      <a:r>
                        <a:rPr b="1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е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р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с</a:t>
                      </a:r>
                      <a:r>
                        <a:rPr b="1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ег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одня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с</a:t>
                      </a:r>
                      <a:r>
                        <a:rPr b="1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и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рень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с</a:t>
                      </a:r>
                      <a:r>
                        <a:rPr b="1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о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л</a:t>
                      </a:r>
                      <a:r>
                        <a:rPr b="1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о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ма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ст</a:t>
                      </a:r>
                      <a:r>
                        <a:rPr b="1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о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лица</a:t>
                      </a:r>
                      <a:br>
                        <a:rPr sz="1200"/>
                      </a:br>
                      <a:br>
                        <a:rPr sz="1200"/>
                      </a:br>
                      <a:endParaRPr b="0" lang="en-US" sz="1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64440" marR="64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440" rIns="64440" tIns="32040" bIns="320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Т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т</a:t>
                      </a:r>
                      <a:r>
                        <a:rPr b="1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а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релка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т</a:t>
                      </a:r>
                      <a:r>
                        <a:rPr b="1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о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пор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тракт</a:t>
                      </a:r>
                      <a:r>
                        <a:rPr b="1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о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р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тр</a:t>
                      </a:r>
                      <a:r>
                        <a:rPr b="1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ам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вай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тр</a:t>
                      </a:r>
                      <a:r>
                        <a:rPr b="1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олл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ейбус</a:t>
                      </a:r>
                      <a:br>
                        <a:rPr sz="1200"/>
                      </a:br>
                      <a:br>
                        <a:rPr sz="1200"/>
                      </a:br>
                      <a:r>
                        <a:rPr b="1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У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уж</a:t>
                      </a:r>
                      <a:r>
                        <a:rPr b="1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и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н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ул</a:t>
                      </a:r>
                      <a:r>
                        <a:rPr b="1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и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ца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ур</a:t>
                      </a:r>
                      <a:r>
                        <a:rPr b="1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о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жай</a:t>
                      </a:r>
                      <a:br>
                        <a:rPr sz="1200"/>
                      </a:br>
                      <a:br>
                        <a:rPr sz="1200"/>
                      </a:br>
                      <a:r>
                        <a:rPr b="1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Ф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фу</a:t>
                      </a:r>
                      <a:r>
                        <a:rPr b="1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т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бол</a:t>
                      </a:r>
                      <a:br>
                        <a:rPr sz="1200"/>
                      </a:br>
                      <a:br>
                        <a:rPr sz="1200"/>
                      </a:br>
                      <a:r>
                        <a:rPr b="1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Х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х</a:t>
                      </a:r>
                      <a:r>
                        <a:rPr b="1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окк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ей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х</a:t>
                      </a:r>
                      <a:r>
                        <a:rPr b="1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о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рош</a:t>
                      </a:r>
                      <a:r>
                        <a:rPr b="1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и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й</a:t>
                      </a:r>
                      <a:br>
                        <a:rPr sz="1200"/>
                      </a:br>
                      <a:br>
                        <a:rPr sz="1200"/>
                      </a:br>
                      <a:r>
                        <a:rPr b="1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Ч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ч</a:t>
                      </a:r>
                      <a:r>
                        <a:rPr b="1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е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твер</a:t>
                      </a:r>
                      <a:r>
                        <a:rPr b="1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г</a:t>
                      </a:r>
                      <a:br>
                        <a:rPr sz="1200"/>
                      </a:br>
                      <a:br>
                        <a:rPr sz="1200"/>
                      </a:br>
                      <a:r>
                        <a:rPr b="1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Ш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ш</a:t>
                      </a:r>
                      <a:r>
                        <a:rPr b="1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осс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е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ш</a:t>
                      </a:r>
                      <a:r>
                        <a:rPr b="1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о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фёр</a:t>
                      </a:r>
                      <a:br>
                        <a:rPr sz="1200"/>
                      </a:br>
                      <a:br>
                        <a:rPr sz="1200"/>
                      </a:br>
                      <a:r>
                        <a:rPr b="1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Э</a:t>
                      </a:r>
                      <a:br>
                        <a:rPr sz="1200"/>
                      </a:br>
                      <a:r>
                        <a:rPr b="1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э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кскурсия</a:t>
                      </a:r>
                      <a:br>
                        <a:rPr sz="1200"/>
                      </a:br>
                      <a:br>
                        <a:rPr sz="1200"/>
                      </a:br>
                      <a:r>
                        <a:rPr b="1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Я</a:t>
                      </a:r>
                      <a:br>
                        <a:rPr sz="1200"/>
                      </a:br>
                      <a:r>
                        <a:rPr b="1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я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нвар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64440" marR="64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47" name="Rectangle 1"/>
          <p:cNvSpPr/>
          <p:nvPr/>
        </p:nvSpPr>
        <p:spPr>
          <a:xfrm>
            <a:off x="409680" y="286560"/>
            <a:ext cx="5437080" cy="472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-6192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80"/>
                </a:solidFill>
                <a:latin typeface="Arial"/>
                <a:ea typeface="Arial"/>
              </a:rPr>
              <a:t>Словарные слова 3 класс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838080" y="1825200"/>
            <a:ext cx="10515600" cy="1962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182520" indent="-182520" algn="just">
              <a:lnSpc>
                <a:spcPct val="90000"/>
              </a:lnSpc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Работа по заучиванию слов из словаря </a:t>
            </a: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должна проводиться систематически: заниматься следует по 15-20 минут ежедневно. Стоит брать для запоминания от 5 до 20 слов в неделю.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566640" y="365040"/>
            <a:ext cx="10787040" cy="5811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При первоначальном знакомстве со словом проводится основательная работа: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читаем слово, проговариваем его по слогам;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объясняем его значение (если не знаем значение слова, обращаемся к толковому словарю);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ставим ударение, выделяем другим цветом трудную букву, делим слова на слоги и на слоги для переноса;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подбираем однокоренные слова, составляем словосочетания, предложения с этим словом, подбираем синонимы, антонимы, загадки, поговорки, стихотворения с данным словом;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записываем слова в орфографический словарик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693720" y="823680"/>
            <a:ext cx="10515600" cy="4351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182520" indent="-182520" algn="just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Можно составить 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рассказ из группы слов из словаря.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  Следует подбирать слова более близкие по смыслу, из одной тематической группы, например: тетрадь, карандаш, пенал, портфель, класс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2" name="Прямоугольник 3"/>
          <p:cNvSpPr/>
          <p:nvPr/>
        </p:nvSpPr>
        <p:spPr>
          <a:xfrm>
            <a:off x="1252440" y="2928960"/>
            <a:ext cx="89409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222222"/>
                </a:solidFill>
                <a:latin typeface="Franklin Gothic Medium"/>
              </a:rPr>
              <a:t>Наш класс большой и светлый. Девочки и мальчики очень дружные и хорошие ребята. Перед уроками дежурные раздают тетради. Ученики готовят к уроку пеналы и карандаши. Все вещи у них аккуратно лежат в портфелях. Учитель входит в класс и начинает урок. 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838080" y="1825560"/>
            <a:ext cx="10515600" cy="1919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182520" indent="-182520" algn="just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Работа с изображениями слов из словаря: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182520" indent="-182520" algn="just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использование картинок с изображением предметов, ребенок записывает названия предметов, изображённых на картинке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262626"/>
              </a:solidFill>
              <a:latin typeface="Century Gothic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066680" y="2103120"/>
            <a:ext cx="10058400" cy="3932280"/>
          </a:xfrm>
          <a:prstGeom prst="rect">
            <a:avLst/>
          </a:prstGeom>
          <a:ln w="0">
            <a:noFill/>
          </a:ln>
        </p:spPr>
      </p:pic>
      <p:pic>
        <p:nvPicPr>
          <p:cNvPr id="257" name="Рисунок 3" descr=""/>
          <p:cNvPicPr/>
          <p:nvPr/>
        </p:nvPicPr>
        <p:blipFill>
          <a:blip r:embed="rId2"/>
          <a:stretch/>
        </p:blipFill>
        <p:spPr>
          <a:xfrm>
            <a:off x="498600" y="146160"/>
            <a:ext cx="10604520" cy="654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0-27T19:04:50Z</dcterms:created>
  <dc:creator>Ксюша</dc:creator>
  <dc:description/>
  <dc:language>en-US</dc:language>
  <cp:lastModifiedBy>Кожурин Роман</cp:lastModifiedBy>
  <dcterms:modified xsi:type="dcterms:W3CDTF">2018-06-24T18:16:10Z</dcterms:modified>
  <cp:revision>17</cp:revision>
  <dc:subject/>
  <dc:title>Презентация PowerPoint</dc:title>
</cp:coreProperties>
</file>