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3AC-BEBC-4E64-8780-5362C443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BFA-98A0-4D56-8065-AA3A9FC5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732-DD39-4DF5-8B3E-3D480C5F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0C3-3885-4479-8D34-D3722846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8F9-99AB-444F-944A-FBE029D7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57D-884D-4808-8426-1AB3636F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0A1-63B8-4772-91E5-312D9DD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7D0-CCE8-4B7B-A2DF-A6FAE43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D37-E987-4069-ADA3-326B27A6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0C6-3591-43E0-A65E-878C99B8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527-A012-4AA7-807B-8268F17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E95-57E6-4868-A403-55769EC9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ACF2-9BC4-4A4B-999F-87BC3A649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476280"/>
            <a:ext cx="8351640" cy="44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лукаморья   дуб  зелёны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латая  цепь  на  дубе  том..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          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шкин А.С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cat62"/>
          <p:cNvPicPr/>
          <p:nvPr/>
        </p:nvPicPr>
        <p:blipFill>
          <a:blip r:embed="rId1"/>
          <a:stretch/>
        </p:blipFill>
        <p:spPr>
          <a:xfrm>
            <a:off x="3132000" y="3071880"/>
            <a:ext cx="3799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линка 4"/>
          <p:cNvPicPr/>
          <p:nvPr/>
        </p:nvPicPr>
        <p:blipFill>
          <a:blip r:embed="rId1"/>
          <a:stretch/>
        </p:blipFill>
        <p:spPr>
          <a:xfrm>
            <a:off x="4932360" y="1844640"/>
            <a:ext cx="3908520" cy="46087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44" name="WordArt 5"/>
          <p:cNvSpPr txBox="1"/>
          <p:nvPr/>
        </p:nvSpPr>
        <p:spPr>
          <a:xfrm>
            <a:off x="179280" y="-243000"/>
            <a:ext cx="5832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ЕР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Руслан  и Людмила"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.И. Глинк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684360" y="549360"/>
            <a:ext cx="7775280" cy="47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ЕРА - музыкальный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ектакль,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котором   главные 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рои  поют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e1184ea244f6"/>
          <p:cNvPicPr/>
          <p:nvPr/>
        </p:nvPicPr>
        <p:blipFill>
          <a:blip r:embed="rId1"/>
          <a:srcRect l="26929" t="10499" r="14953" b="0"/>
          <a:stretch/>
        </p:blipFill>
        <p:spPr>
          <a:xfrm>
            <a:off x="324000" y="189000"/>
            <a:ext cx="3203280" cy="26636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47" name="Picture 5" descr="23883"/>
          <p:cNvPicPr/>
          <p:nvPr/>
        </p:nvPicPr>
        <p:blipFill>
          <a:blip r:embed="rId2"/>
          <a:srcRect l="11410" t="7948" r="33307" b="0"/>
          <a:stretch/>
        </p:blipFill>
        <p:spPr>
          <a:xfrm>
            <a:off x="5651640" y="260280"/>
            <a:ext cx="3168360" cy="26938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48" name="Picture 6" descr="s3669510"/>
          <p:cNvPicPr/>
          <p:nvPr/>
        </p:nvPicPr>
        <p:blipFill>
          <a:blip r:embed="rId3"/>
          <a:srcRect l="0" t="6047" r="-1439" b="4762"/>
          <a:stretch/>
        </p:blipFill>
        <p:spPr>
          <a:xfrm>
            <a:off x="2700360" y="2276640"/>
            <a:ext cx="3743280" cy="458136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аздни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пе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нерг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ласк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казо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дви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ГЛИНКА -УВЕРТЮРА ИЗ ОПЕРЫ  РУСЛАН И ЛЮДМИЛА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468360" y="549360"/>
            <a:ext cx="7991280" cy="352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вертюра - музыкальное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тупление  к  опере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лету,  спектаклю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инофильму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66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Марш Черномора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2"/>
          <a:stretch/>
        </p:blipFill>
        <p:spPr>
          <a:xfrm>
            <a:off x="3995640" y="260280"/>
            <a:ext cx="4483080" cy="59054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58" name="WordArt 6"/>
          <p:cNvSpPr txBox="1"/>
          <p:nvPr/>
        </p:nvSpPr>
        <p:spPr>
          <a:xfrm>
            <a:off x="250920" y="549360"/>
            <a:ext cx="4174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ш 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рномор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7875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611280" y="404640"/>
            <a:ext cx="76327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  встречи!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ted020"/>
          <p:cNvPicPr/>
          <p:nvPr/>
        </p:nvPicPr>
        <p:blipFill>
          <a:blip r:embed="rId1"/>
          <a:stretch/>
        </p:blipFill>
        <p:spPr>
          <a:xfrm>
            <a:off x="3635280" y="2708280"/>
            <a:ext cx="3552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04:04Z</dcterms:created>
  <dc:creator>Admin</dc:creator>
  <dc:description/>
  <dc:language>en-US</dc:language>
  <cp:lastModifiedBy>учитель</cp:lastModifiedBy>
  <dcterms:modified xsi:type="dcterms:W3CDTF">2018-06-24T18:58:26Z</dcterms:modified>
  <cp:revision>5</cp:revision>
  <dc:subject/>
  <dc:title>Слайд 1</dc:title>
</cp:coreProperties>
</file>