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093-966D-40E0-8B19-61DF5A66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190-80FD-46CE-A687-D868E8CE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D59-25F5-48BA-A287-89506BE6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DB86-5139-423F-A527-A9F405E2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56D-4F7F-456E-8CC1-5E43FBC1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096-D0C5-4FCA-A48D-A358EB43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DB31-827F-4797-BC58-52007752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570-2F01-4F50-881A-3EF65D01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195-DEEF-467E-AFB7-271C53C9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29F-0F95-4BC9-A011-B0FB1748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0B47-B8A6-4590-AD56-2638E2EF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CFD-E350-417F-A463-32605B4B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DC1B-A7FE-4992-B172-F2D305ADB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476280"/>
            <a:ext cx="8351640" cy="44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  лукаморья   дуб  зелёный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латая  цепь  на  дубе  том...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             </a:t>
            </a: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ушкин А.С.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cat62"/>
          <p:cNvPicPr/>
          <p:nvPr/>
        </p:nvPicPr>
        <p:blipFill>
          <a:blip r:embed="rId1"/>
          <a:stretch/>
        </p:blipFill>
        <p:spPr>
          <a:xfrm>
            <a:off x="3132000" y="3071880"/>
            <a:ext cx="37990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линка 4"/>
          <p:cNvPicPr/>
          <p:nvPr/>
        </p:nvPicPr>
        <p:blipFill>
          <a:blip r:embed="rId1"/>
          <a:stretch/>
        </p:blipFill>
        <p:spPr>
          <a:xfrm>
            <a:off x="4932360" y="1844640"/>
            <a:ext cx="3908520" cy="460872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sp>
        <p:nvSpPr>
          <p:cNvPr id="44" name="WordArt 5"/>
          <p:cNvSpPr txBox="1"/>
          <p:nvPr/>
        </p:nvSpPr>
        <p:spPr>
          <a:xfrm>
            <a:off x="179280" y="-243000"/>
            <a:ext cx="5832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ПЕР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Руслан  и Людмила"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.И. Глинк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684360" y="549360"/>
            <a:ext cx="7775280" cy="475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ПЕРА - музыкальный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ектакль,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  котором   главные 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рои  поют.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e1184ea244f6"/>
          <p:cNvPicPr/>
          <p:nvPr/>
        </p:nvPicPr>
        <p:blipFill>
          <a:blip r:embed="rId1"/>
          <a:srcRect l="26929" t="10499" r="14953" b="0"/>
          <a:stretch/>
        </p:blipFill>
        <p:spPr>
          <a:xfrm>
            <a:off x="324000" y="189000"/>
            <a:ext cx="3203280" cy="26636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47" name="Picture 5" descr="23883"/>
          <p:cNvPicPr/>
          <p:nvPr/>
        </p:nvPicPr>
        <p:blipFill>
          <a:blip r:embed="rId2"/>
          <a:srcRect l="11410" t="7948" r="33307" b="0"/>
          <a:stretch/>
        </p:blipFill>
        <p:spPr>
          <a:xfrm>
            <a:off x="5651640" y="260280"/>
            <a:ext cx="3168360" cy="269388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pic>
        <p:nvPicPr>
          <p:cNvPr id="48" name="Picture 6" descr="s3669510"/>
          <p:cNvPicPr/>
          <p:nvPr/>
        </p:nvPicPr>
        <p:blipFill>
          <a:blip r:embed="rId3"/>
          <a:srcRect l="0" t="6047" r="-1439" b="4762"/>
          <a:stretch/>
        </p:blipFill>
        <p:spPr>
          <a:xfrm>
            <a:off x="2700360" y="2276640"/>
            <a:ext cx="3743280" cy="458136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азднич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пев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энерги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ласк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казо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одви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ит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вет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ГЛИНКА -УВЕРТЮРА ИЗ ОПЕРЫ  РУСЛАН И ЛЮДМИЛА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468360" y="549360"/>
            <a:ext cx="7991280" cy="352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вертюра - музыкальное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ступление  к  опере,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алету,  спектаклю,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инофильму.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1466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Марш Черномора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11"/>
          <p:cNvPicPr/>
          <p:nvPr/>
        </p:nvPicPr>
        <p:blipFill>
          <a:blip r:embed="rId2"/>
          <a:stretch/>
        </p:blipFill>
        <p:spPr>
          <a:xfrm>
            <a:off x="3995640" y="260280"/>
            <a:ext cx="4483080" cy="590544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sp>
        <p:nvSpPr>
          <p:cNvPr id="58" name="WordArt 6"/>
          <p:cNvSpPr txBox="1"/>
          <p:nvPr/>
        </p:nvSpPr>
        <p:spPr>
          <a:xfrm>
            <a:off x="250920" y="549360"/>
            <a:ext cx="41749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рш  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рномор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78758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611280" y="404640"/>
            <a:ext cx="763272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  встречи!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5" descr="ted020"/>
          <p:cNvPicPr/>
          <p:nvPr/>
        </p:nvPicPr>
        <p:blipFill>
          <a:blip r:embed="rId1"/>
          <a:stretch/>
        </p:blipFill>
        <p:spPr>
          <a:xfrm>
            <a:off x="3635280" y="2708280"/>
            <a:ext cx="3552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7:04:04Z</dcterms:created>
  <dc:creator>Admin</dc:creator>
  <dc:description/>
  <dc:language>en-US</dc:language>
  <cp:lastModifiedBy>учитель</cp:lastModifiedBy>
  <dcterms:modified xsi:type="dcterms:W3CDTF">2018-06-24T18:58:26Z</dcterms:modified>
  <cp:revision>5</cp:revision>
  <dc:subject/>
  <dc:title>Слайд 1</dc:title>
</cp:coreProperties>
</file>