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AC9-3F48-42F4-AAB0-710B6154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6787-E1BC-4AC6-8D39-0E0B0DFE1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3087-7A4B-4E26-A962-15852D62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52C8-49AD-4D9D-AB15-326CB5F3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72FF-EA97-4DD3-954D-407BE32B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BC9-C850-4A56-B519-15A66FE5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AFC-7CD0-4FBB-84BE-4EA4ED09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849-E6FB-4753-B451-897AA4451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244-3815-4FED-866A-4A074249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DC3D-DE86-4B45-8184-FF5F3AF6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8103-D424-4024-BD1B-5C27D915C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80A2-0408-4B11-82EE-1F4BEA19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1E253-ECEF-4A6A-A682-5B4B831EF53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5"/>
          <p:cNvSpPr txBox="1"/>
          <p:nvPr/>
        </p:nvSpPr>
        <p:spPr>
          <a:xfrm>
            <a:off x="611280" y="1052640"/>
            <a:ext cx="799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Работа с текстом»</a:t>
            </a:r>
            <a:endParaRPr b="1" lang="en-US" sz="4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07" name="Picture 7" descr="ReadingManiacs"/>
          <p:cNvPicPr/>
          <p:nvPr/>
        </p:nvPicPr>
        <p:blipFill>
          <a:blip r:embed="rId1"/>
          <a:stretch/>
        </p:blipFill>
        <p:spPr>
          <a:xfrm>
            <a:off x="2700360" y="3573360"/>
            <a:ext cx="4032360" cy="302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-29880" y="1234800"/>
            <a:ext cx="8878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«</a:t>
            </a: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Calibri"/>
              </a:rPr>
              <a:t>Perasperaadastra</a:t>
            </a: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«Через тернии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ff"/>
                </a:solidFill>
                <a:latin typeface="Arial"/>
                <a:ea typeface="Calibri"/>
              </a:rPr>
              <a:t>к звездам»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9"/>
          <p:cNvSpPr/>
          <p:nvPr/>
        </p:nvSpPr>
        <p:spPr>
          <a:xfrm>
            <a:off x="285840" y="1000080"/>
            <a:ext cx="84294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Е́РНИЕ -я; ср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. Книжн. Всякое колючее растение. Придорожное 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 обычно мн.: те́рния, -ниев и -ний. Книжн. Страдания, трудности, невзгоды. Мне достаются лишь терния жизни. Сколько терниев на артистическом поприще! * От века из терний поэта заветный венок (Брюсов). * Через терния к звёздам (через трудности к заветной цели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Толковый словарь Кузнецова`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611280" y="1052640"/>
            <a:ext cx="7993080" cy="25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0">
                  <a:noFill/>
                </a:ln>
                <a:solidFill>
                  <a:srgbClr val="ccff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«Работа с текстом»</a:t>
            </a:r>
            <a:endParaRPr b="1" lang="en-US" sz="4800" spc="1" strike="noStrike">
              <a:ln w="0">
                <a:noFill/>
              </a:ln>
              <a:solidFill>
                <a:srgbClr val="ccff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11" name="Picture 7" descr="ReadingManiacs"/>
          <p:cNvPicPr/>
          <p:nvPr/>
        </p:nvPicPr>
        <p:blipFill>
          <a:blip r:embed="rId1"/>
          <a:stretch/>
        </p:blipFill>
        <p:spPr>
          <a:xfrm>
            <a:off x="2700360" y="3573360"/>
            <a:ext cx="4032360" cy="302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44280" y="450000"/>
            <a:ext cx="909972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Заголовки к текст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Медвед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Как зимует белый медведь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Берлога  белого медведя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  <a:ea typeface="Calibri"/>
              </a:rPr>
              <a:t>Великан Арктики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1"/>
          <p:cNvSpPr/>
          <p:nvPr/>
        </p:nvSpPr>
        <p:spPr>
          <a:xfrm>
            <a:off x="108000" y="50760"/>
            <a:ext cx="878688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амка (кого?) медведя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Медведя (какого?) белого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страивает (что?) берлог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ождаются (когда?) зимой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Рождаются (у кого?) у неё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04:16:41Z</dcterms:created>
  <dc:creator>User</dc:creator>
  <dc:description/>
  <dc:language>en-US</dc:language>
  <cp:lastModifiedBy>WORKBOOKDNS</cp:lastModifiedBy>
  <dcterms:modified xsi:type="dcterms:W3CDTF">2017-11-25T08:23:26Z</dcterms:modified>
  <cp:revision>47</cp:revision>
  <dc:subject/>
  <dc:title>Слайд 1</dc:title>
</cp:coreProperties>
</file>