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1DD2-405B-45E8-A9A7-B8292F591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4B5C-AA51-4C87-A661-A67B6AE5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945A-DCD7-48C3-A1E9-2EF51613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825F-0078-4B07-BD92-BCACFD5D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596B-F052-41E4-BF8D-11272F0A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BBD7-40BC-46B7-94B1-6305939EE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373-2CAA-4C65-BD43-25D838F6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705-E69A-4060-A84F-546A20A9A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F509-6834-47A5-8A62-DBB1FE23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ED17-6FE5-46EC-B97F-06E85BA9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2F27-D38C-4989-AEAE-CD07C2E1C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A33-1984-466E-AE80-2C908CFBC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21AF-CB7B-43DA-866C-6E5BB2F9F20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5"/>
          <p:cNvSpPr txBox="1"/>
          <p:nvPr/>
        </p:nvSpPr>
        <p:spPr>
          <a:xfrm>
            <a:off x="611280" y="1052640"/>
            <a:ext cx="799308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Работа с текстом»</a:t>
            </a:r>
            <a:endParaRPr b="1" lang="en-US" sz="4800" spc="1" strike="noStrike">
              <a:ln w="0">
                <a:noFill/>
              </a:ln>
              <a:solidFill>
                <a:srgbClr val="cc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Picture 7" descr="ReadingManiacs"/>
          <p:cNvPicPr/>
          <p:nvPr/>
        </p:nvPicPr>
        <p:blipFill>
          <a:blip r:embed="rId1"/>
          <a:stretch/>
        </p:blipFill>
        <p:spPr>
          <a:xfrm>
            <a:off x="2700360" y="3573360"/>
            <a:ext cx="4032360" cy="3027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-29880" y="1234800"/>
            <a:ext cx="8878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  <a:ea typeface="Calibri"/>
              </a:rPr>
              <a:t>«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  <a:ea typeface="Calibri"/>
              </a:rPr>
              <a:t>Perasperaadastra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  <a:ea typeface="Calibri"/>
              </a:rPr>
              <a:t>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  <a:ea typeface="Calibri"/>
              </a:rPr>
              <a:t>«Через тернии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  <a:ea typeface="Calibri"/>
              </a:rPr>
              <a:t>к звездам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9"/>
          <p:cNvSpPr/>
          <p:nvPr/>
        </p:nvSpPr>
        <p:spPr>
          <a:xfrm>
            <a:off x="285840" y="1000080"/>
            <a:ext cx="8429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́РНИЕ -я; с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Книжн. Всякое колючее растение. Придорожное 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бычно мн.: те́рния, -ниев и -ний. Книжн. Страдания, трудности, невзгоды. Мне достаются лишь терния жизни. Сколько терниев на артистическом поприще! * От века из терний поэта заветный венок (Брюсов). * Через терния к звёздам (через трудности к заветной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ковый словарь Кузнецова`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5"/>
          <p:cNvSpPr txBox="1"/>
          <p:nvPr/>
        </p:nvSpPr>
        <p:spPr>
          <a:xfrm>
            <a:off x="611280" y="1052640"/>
            <a:ext cx="799308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Работа с текстом»</a:t>
            </a:r>
            <a:endParaRPr b="1" lang="en-US" sz="4800" spc="1" strike="noStrike">
              <a:ln w="0">
                <a:noFill/>
              </a:ln>
              <a:solidFill>
                <a:srgbClr val="cc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1" name="Picture 7" descr="ReadingManiacs"/>
          <p:cNvPicPr/>
          <p:nvPr/>
        </p:nvPicPr>
        <p:blipFill>
          <a:blip r:embed="rId1"/>
          <a:stretch/>
        </p:blipFill>
        <p:spPr>
          <a:xfrm>
            <a:off x="2700360" y="3573360"/>
            <a:ext cx="4032360" cy="3027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44280" y="450000"/>
            <a:ext cx="9099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Calibri"/>
              </a:rPr>
              <a:t>Заголовки к текст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Calibri"/>
              </a:rPr>
              <a:t>Медведь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Calibri"/>
              </a:rPr>
              <a:t>Как зимует белый медведь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Calibri"/>
              </a:rPr>
              <a:t>Берлога  белого медвед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Calibri"/>
              </a:rPr>
              <a:t>Великан Арктик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108000" y="50760"/>
            <a:ext cx="87868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амка (кого?) медвед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едведя (какого?) белог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страивает (что?) берлог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ождаются (когда?) зимо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ождаются (у кого?) у неё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4:16:41Z</dcterms:created>
  <dc:creator>User</dc:creator>
  <dc:description/>
  <dc:language>en-US</dc:language>
  <cp:lastModifiedBy>WORKBOOKDNS</cp:lastModifiedBy>
  <dcterms:modified xsi:type="dcterms:W3CDTF">2017-11-25T08:23:26Z</dcterms:modified>
  <cp:revision>47</cp:revision>
  <dc:subject/>
  <dc:title>Слайд 1</dc:title>
</cp:coreProperties>
</file>