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33.png" ContentType="image/pn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3D8-13F8-45C8-9C96-7172A855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B59-7B3C-4FC8-94AC-9EBB04E4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FCA-8624-46CE-9587-E495A412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3EB5-B51F-423E-9289-2CA40CED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CCFE-CE15-476D-96AB-6FB3D4ED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C4B0-03F8-402F-A54E-10F499BF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1608-7308-44B4-9034-6EF3943D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5797-B8EF-4D4C-B599-44A95AD0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16EF-1ED8-4BFF-8FC4-41CF8319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60E0-1F4E-4528-9D87-AF206EA8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DCAA-BE7B-4EE0-9BBE-B5DE809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F08B-CEBA-459B-8BBD-7E9B0B3B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6DE9-610E-4F82-BFB7-33B99406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DA56-2E6D-4DF0-BE3C-9A5EC45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A442-695B-4AAF-B019-9612046C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EFD6-DDE7-4526-B14B-D0BDE6993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2693-7330-4A23-8B47-7D1EB7BC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D082-EB3A-4C61-961A-8EEBD0E9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2A1-2C31-4C05-8965-9CBBED1D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95BF-A4E9-44A2-A20A-33D18023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39F-7B29-4888-A385-27044B57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FB7-515D-4B0D-9D82-75B9137E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D59-BD30-4B5C-9D46-9C7BF8CE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8C5-0EC0-46AC-966A-48686D05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075C-ED6B-44E9-9517-6395B5B2B4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4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D848-F98A-48DF-AF01-749B20365A4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:/&#1044;&#1048;&#1050;/&#1069;&#1082;&#1086;&#1083;&#1086;&#1075;&#1080;&#1095;&#1077;&#1089;&#1082;&#1072;&#1103;%20&#1040;&#1079;&#1073;&#1091;&#1082;&#1072;%20&#1076;&#1083;&#1103;%20&#1076;&#1086;&#1096;&#1082;&#1086;&#1083;&#1100;&#1085;&#1080;&#1082;&#1086;&#1074;%20&#1080;%20&#1084;&#1083;&#1072;&#1076;&#1096;&#1080;&#1093;%20&#1096;&#1082;&#1086;&#1083;&#1100;&#1085;&#1080;&#1082;&#1086;&#1074;.do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506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0066"/>
                </a:solidFill>
                <a:latin typeface="Arial Black"/>
              </a:rPr>
              <a:t>"Животные Красной книги Томской области"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62160" y="4876560"/>
            <a:ext cx="485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920" y="3506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Зимородок</a:t>
            </a: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105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мородок удалой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чем ныряешь под водой?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есь рыбка вкусная, дру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ья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 ней охочусь в речке я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5" descr="зимородок"/>
          <p:cNvPicPr/>
          <p:nvPr/>
        </p:nvPicPr>
        <p:blipFill>
          <a:blip r:embed="rId1"/>
          <a:stretch/>
        </p:blipFill>
        <p:spPr>
          <a:xfrm>
            <a:off x="5334120" y="1714680"/>
            <a:ext cx="342900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зимородок2"/>
          <p:cNvPicPr/>
          <p:nvPr/>
        </p:nvPicPr>
        <p:blipFill>
          <a:blip r:embed="rId2"/>
          <a:stretch/>
        </p:blipFill>
        <p:spPr>
          <a:xfrm>
            <a:off x="1447920" y="4000680"/>
            <a:ext cx="3504960" cy="2628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30"/>
          <p:cNvSpPr txBox="1"/>
          <p:nvPr/>
        </p:nvSpPr>
        <p:spPr>
          <a:xfrm>
            <a:off x="324000" y="260280"/>
            <a:ext cx="107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50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глохвостый стриж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532152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глохвостый ст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 летает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кома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ов пугает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петляет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резв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ся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на землю не са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ся.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ь хо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ь не может он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в небеса влюблен!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cture 4" descr="9-1"/>
          <p:cNvPicPr/>
          <p:nvPr/>
        </p:nvPicPr>
        <p:blipFill>
          <a:blip r:embed="rId1"/>
          <a:stretch/>
        </p:blipFill>
        <p:spPr>
          <a:xfrm>
            <a:off x="6235560" y="2349360"/>
            <a:ext cx="2468880" cy="352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стриж 1"/>
          <p:cNvPicPr/>
          <p:nvPr/>
        </p:nvPicPr>
        <p:blipFill>
          <a:blip r:embed="rId2"/>
          <a:stretch/>
        </p:blipFill>
        <p:spPr>
          <a:xfrm>
            <a:off x="1258920" y="4941720"/>
            <a:ext cx="1625400" cy="1333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стриж"/>
          <p:cNvPicPr/>
          <p:nvPr/>
        </p:nvPicPr>
        <p:blipFill>
          <a:blip r:embed="rId3"/>
          <a:stretch/>
        </p:blipFill>
        <p:spPr>
          <a:xfrm>
            <a:off x="3203640" y="4941720"/>
            <a:ext cx="1625400" cy="1366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1032"/>
          <p:cNvSpPr txBox="1"/>
          <p:nvPr/>
        </p:nvSpPr>
        <p:spPr>
          <a:xfrm>
            <a:off x="395280" y="18900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95640" y="40428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66ff"/>
                </a:solidFill>
                <a:uFillTx/>
                <a:latin typeface="Times New Roman"/>
              </a:rPr>
              <a:t>Кроншнеп тонкоклювый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3672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Кроншнеп тонкоклюв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Как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- то угрю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Скажи, что с тоб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Наш кроншнеп дорог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?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Я очень несчастн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Поэтому грустн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Червяк дождев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Мне попался невкусн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5" descr="кроншнеп тонкоклювый"/>
          <p:cNvPicPr/>
          <p:nvPr/>
        </p:nvPicPr>
        <p:blipFill>
          <a:blip r:embed="rId1"/>
          <a:stretch/>
        </p:blipFill>
        <p:spPr>
          <a:xfrm>
            <a:off x="5486400" y="2060640"/>
            <a:ext cx="326376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WordArt 6"/>
          <p:cNvSpPr txBox="1"/>
          <p:nvPr/>
        </p:nvSpPr>
        <p:spPr>
          <a:xfrm>
            <a:off x="539640" y="333360"/>
            <a:ext cx="86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Й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68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68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5640" y="350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Казарка</a:t>
            </a: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</a:rPr>
              <a:t> краснозобая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53276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снозобая казарк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сный зоб раздула свой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 приятен, как прекрасен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 протяжен голос мой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 прелестна песнь моя,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ше, чем у соловья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зарка, подожди, уймись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ой же из тебя артист?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4" descr="10"/>
          <p:cNvPicPr/>
          <p:nvPr/>
        </p:nvPicPr>
        <p:blipFill>
          <a:blip r:embed="rId1"/>
          <a:stretch/>
        </p:blipFill>
        <p:spPr>
          <a:xfrm>
            <a:off x="5867280" y="1844640"/>
            <a:ext cx="3276720" cy="2424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55"/>
          <p:cNvPicPr/>
          <p:nvPr/>
        </p:nvPicPr>
        <p:blipFill>
          <a:blip r:embed="rId2"/>
          <a:stretch/>
        </p:blipFill>
        <p:spPr>
          <a:xfrm>
            <a:off x="6224760" y="4437000"/>
            <a:ext cx="2025360" cy="2133720"/>
          </a:xfrm>
          <a:prstGeom prst="rect">
            <a:avLst/>
          </a:prstGeom>
          <a:ln w="0">
            <a:noFill/>
          </a:ln>
        </p:spPr>
      </p:pic>
      <p:sp>
        <p:nvSpPr>
          <p:cNvPr id="155" name="WordArt 1030"/>
          <p:cNvSpPr txBox="1"/>
          <p:nvPr/>
        </p:nvSpPr>
        <p:spPr>
          <a:xfrm>
            <a:off x="468360" y="260280"/>
            <a:ext cx="647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5640" y="350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Лягушка   озёрная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665000"/>
            <a:ext cx="57150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е просто не сидитс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а скачет и резвитс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а утром, будь здоров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гко поймала трех мальков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а песни распева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а всем вокруг мешает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шь только серый гусь приплыл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и нашей след простыл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Picture 4" descr="Лягушка озерн"/>
          <p:cNvPicPr/>
          <p:nvPr/>
        </p:nvPicPr>
        <p:blipFill>
          <a:blip r:embed="rId1"/>
          <a:stretch/>
        </p:blipFill>
        <p:spPr>
          <a:xfrm>
            <a:off x="6324480" y="160020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Лягушка озерная"/>
          <p:cNvPicPr/>
          <p:nvPr/>
        </p:nvPicPr>
        <p:blipFill>
          <a:blip r:embed="rId2"/>
          <a:stretch/>
        </p:blipFill>
        <p:spPr>
          <a:xfrm>
            <a:off x="6553080" y="4422600"/>
            <a:ext cx="2286000" cy="1982880"/>
          </a:xfrm>
          <a:prstGeom prst="rect">
            <a:avLst/>
          </a:prstGeom>
          <a:ln w="0">
            <a:noFill/>
          </a:ln>
        </p:spPr>
      </p:pic>
      <p:sp>
        <p:nvSpPr>
          <p:cNvPr id="160" name="WordArt 6"/>
          <p:cNvSpPr txBox="1"/>
          <p:nvPr/>
        </p:nvSpPr>
        <p:spPr>
          <a:xfrm>
            <a:off x="395280" y="333360"/>
            <a:ext cx="72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5640" y="350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33cc"/>
                </a:solidFill>
                <a:uFillTx/>
                <a:latin typeface="Times New Roman"/>
              </a:rPr>
              <a:t>Малый лебедь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4483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алый лебедь - гордый, нежный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илый,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ягкий, белоснежный!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анит лебедя простор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оря синь, вершины гор.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ожет к югу полететь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ир огро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ный пос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отреть!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3" name="Picture 4" descr="малый лебедь 1"/>
          <p:cNvPicPr/>
          <p:nvPr/>
        </p:nvPicPr>
        <p:blipFill>
          <a:blip r:embed="rId1"/>
          <a:stretch/>
        </p:blipFill>
        <p:spPr>
          <a:xfrm>
            <a:off x="5796000" y="1844640"/>
            <a:ext cx="2736720" cy="265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малый лебедь"/>
          <p:cNvPicPr/>
          <p:nvPr/>
        </p:nvPicPr>
        <p:blipFill>
          <a:blip r:embed="rId2"/>
          <a:stretch/>
        </p:blipFill>
        <p:spPr>
          <a:xfrm>
            <a:off x="5867280" y="4705200"/>
            <a:ext cx="2665440" cy="20019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029"/>
          <p:cNvSpPr txBox="1"/>
          <p:nvPr/>
        </p:nvSpPr>
        <p:spPr>
          <a:xfrm>
            <a:off x="611280" y="260280"/>
            <a:ext cx="100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350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Неясыть бородатая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43308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ясыть - круп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я сов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ч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я хищ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ца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 шее 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е п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пом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ет бороду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ясыть, видимо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 зря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звали - бородатая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Picture 4" descr="13"/>
          <p:cNvPicPr/>
          <p:nvPr/>
        </p:nvPicPr>
        <p:blipFill>
          <a:blip r:embed="rId1"/>
          <a:stretch/>
        </p:blipFill>
        <p:spPr>
          <a:xfrm>
            <a:off x="5651640" y="1989000"/>
            <a:ext cx="2736720" cy="388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1032"/>
          <p:cNvSpPr txBox="1"/>
          <p:nvPr/>
        </p:nvSpPr>
        <p:spPr>
          <a:xfrm>
            <a:off x="468360" y="260280"/>
            <a:ext cx="863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350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Орлан белохвост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440712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лан-бел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хв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ст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тт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ырил св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й хв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ст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, как я бесстрашен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, как 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тважен!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, как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баятелен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чар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вателен!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, как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б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льстителен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бв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жителен!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ел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лана увидал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ел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лану так сказал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лан, х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ть ты хвалиться любишь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л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м ты все равн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 не будешь!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Picture 4" descr="Орлан-белохвост"/>
          <p:cNvPicPr/>
          <p:nvPr/>
        </p:nvPicPr>
        <p:blipFill>
          <a:blip r:embed="rId1"/>
          <a:stretch/>
        </p:blipFill>
        <p:spPr>
          <a:xfrm>
            <a:off x="5486400" y="1700280"/>
            <a:ext cx="3276720" cy="31766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468360" y="18900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350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Павлиноглазка рыжая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665000"/>
            <a:ext cx="52578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оглазка - бабочка ночна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оглазка - хитрая такая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оглазка, хоть она мала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иц от себя больших отогнала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оглазку позабыть нельзя -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 краю крыльев - пятна, как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глаза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этому все птицы разлетаются -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ьих гла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оглазкиных пугаются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Picture 4" descr="Павлиноглазка рыжая"/>
          <p:cNvPicPr/>
          <p:nvPr/>
        </p:nvPicPr>
        <p:blipFill>
          <a:blip r:embed="rId1"/>
          <a:stretch/>
        </p:blipFill>
        <p:spPr>
          <a:xfrm>
            <a:off x="5791320" y="1523880"/>
            <a:ext cx="3352680" cy="38102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5"/>
          <p:cNvSpPr txBox="1"/>
          <p:nvPr/>
        </p:nvSpPr>
        <p:spPr>
          <a:xfrm>
            <a:off x="468360" y="26028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Bar dir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35064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Ремез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47116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мез - резвый удалец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зудалый молодец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мез - истинный работник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мез - ткач, портной и плотник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мез строил, плел и шил,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кавичку смастерил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кавичка для него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спрекрасное гнездо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Picture 5" descr="Обыкновенный ремез  рукавичка"/>
          <p:cNvPicPr/>
          <p:nvPr/>
        </p:nvPicPr>
        <p:blipFill>
          <a:blip r:embed="rId1"/>
          <a:stretch/>
        </p:blipFill>
        <p:spPr>
          <a:xfrm>
            <a:off x="5791320" y="3936960"/>
            <a:ext cx="2117520" cy="2921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16"/>
          <p:cNvPicPr/>
          <p:nvPr/>
        </p:nvPicPr>
        <p:blipFill>
          <a:blip r:embed="rId2"/>
          <a:stretch/>
        </p:blipFill>
        <p:spPr>
          <a:xfrm>
            <a:off x="5724360" y="1521000"/>
            <a:ext cx="3068640" cy="23018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7"/>
          <p:cNvSpPr txBox="1"/>
          <p:nvPr/>
        </p:nvSpPr>
        <p:spPr>
          <a:xfrm>
            <a:off x="468360" y="189000"/>
            <a:ext cx="863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755640" y="189000"/>
            <a:ext cx="800100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Каждый из нас должен помнить и знать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Редких животных, чтоб их охранять!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Азбука эта про них вам расскажет,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С ними вы, может, подружитесь даже!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Нужно беречь журавлей, лебедей,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Аистов, сов и летучих мышей;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Ястреба и ежа, выхухоль и стрижа.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К ним относитесь с любовью всегда,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Не обижайте вы их никогда!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Им нужно жить, потому что они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Гордость родной нашей Томской земли!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Азбуку открываем, а кто в ней - сейчас узнаем!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50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3366ff"/>
                </a:solidFill>
                <a:uFillTx/>
                <a:latin typeface="Arial Black"/>
              </a:rPr>
              <a:t>Сурок серый</a:t>
            </a:r>
            <a:br>
              <a:rPr sz="5400"/>
            </a:b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5168880" cy="27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ый маленький сурок -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мпатичнейший зверек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овно столбик он сиди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ою норку сторожит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ка спросила как-то мышь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ок, ты почему не спишь?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ок такой ответ дает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ал я всю зиму напролет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4" descr="13"/>
          <p:cNvPicPr/>
          <p:nvPr/>
        </p:nvPicPr>
        <p:blipFill>
          <a:blip r:embed="rId1"/>
          <a:stretch/>
        </p:blipFill>
        <p:spPr>
          <a:xfrm>
            <a:off x="2268360" y="4797360"/>
            <a:ext cx="4464360" cy="1581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сурок серый"/>
          <p:cNvPicPr/>
          <p:nvPr/>
        </p:nvPicPr>
        <p:blipFill>
          <a:blip r:embed="rId2"/>
          <a:stretch/>
        </p:blipFill>
        <p:spPr>
          <a:xfrm>
            <a:off x="6443640" y="1700280"/>
            <a:ext cx="2062080" cy="2808360"/>
          </a:xfrm>
          <a:prstGeom prst="rect">
            <a:avLst/>
          </a:prstGeom>
          <a:ln w="0">
            <a:noFill/>
          </a:ln>
        </p:spPr>
      </p:pic>
      <p:sp>
        <p:nvSpPr>
          <p:cNvPr id="187" name="WordArt 6"/>
          <p:cNvSpPr txBox="1"/>
          <p:nvPr/>
        </p:nvSpPr>
        <p:spPr>
          <a:xfrm>
            <a:off x="395280" y="189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52680" y="350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Таймень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ймень - из благородных рыб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ймень силен и горделив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ймень - один из великанов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л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к - на сорок килограммов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ймень,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им огромным весом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ы зн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ым 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л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желовесом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0" name="Picture 4" descr="Таймень обыкновенный"/>
          <p:cNvPicPr/>
          <p:nvPr/>
        </p:nvPicPr>
        <p:blipFill>
          <a:blip r:embed="rId1"/>
          <a:stretch/>
        </p:blipFill>
        <p:spPr>
          <a:xfrm>
            <a:off x="1244520" y="4343400"/>
            <a:ext cx="6654960" cy="217188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539640" y="18900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Ушан</a:t>
            </a: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3429000"/>
            <a:ext cx="600696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н - небольшая летучая мышь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н, расскажи, почему ты грустишь?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н огорченно задергал ушами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дом меня злые люди назвали;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асным вампиром каким-то зову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идят, и в страхе куда-то бегут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ймитесь, люди, я вам помогаю, -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асных комаров уничтожаю!!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на, люди, незачем боятьс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ном, люди, нужно восхищаться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Picture 4" descr="Ушан бурый"/>
          <p:cNvPicPr/>
          <p:nvPr/>
        </p:nvPicPr>
        <p:blipFill>
          <a:blip r:embed="rId1"/>
          <a:stretch/>
        </p:blipFill>
        <p:spPr>
          <a:xfrm>
            <a:off x="5410080" y="127080"/>
            <a:ext cx="3403800" cy="2768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Ушан бурый 1"/>
          <p:cNvPicPr/>
          <p:nvPr/>
        </p:nvPicPr>
        <p:blipFill>
          <a:blip r:embed="rId2"/>
          <a:stretch/>
        </p:blipFill>
        <p:spPr>
          <a:xfrm>
            <a:off x="6477120" y="4475160"/>
            <a:ext cx="2235240" cy="2077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16"/>
          <p:cNvPicPr/>
          <p:nvPr/>
        </p:nvPicPr>
        <p:blipFill>
          <a:blip r:embed="rId3"/>
          <a:stretch/>
        </p:blipFill>
        <p:spPr>
          <a:xfrm>
            <a:off x="2987640" y="2060640"/>
            <a:ext cx="1797120" cy="1008000"/>
          </a:xfrm>
          <a:prstGeom prst="rect">
            <a:avLst/>
          </a:prstGeom>
          <a:ln w="0">
            <a:noFill/>
          </a:ln>
        </p:spPr>
      </p:pic>
      <p:sp>
        <p:nvSpPr>
          <p:cNvPr id="197" name="WordArt 2"/>
          <p:cNvSpPr txBox="1"/>
          <p:nvPr/>
        </p:nvSpPr>
        <p:spPr>
          <a:xfrm>
            <a:off x="468360" y="189000"/>
            <a:ext cx="71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733560" y="3506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Филин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482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 ухает, лета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 всех в лесу пугает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, хватит баловать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, ночью нужно спать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 ухом не вед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 утром спать пойдет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0" name="Picture 4" descr="20"/>
          <p:cNvPicPr/>
          <p:nvPr/>
        </p:nvPicPr>
        <p:blipFill>
          <a:blip r:embed="rId1"/>
          <a:stretch/>
        </p:blipFill>
        <p:spPr>
          <a:xfrm>
            <a:off x="5435640" y="2565360"/>
            <a:ext cx="3387600" cy="3451320"/>
          </a:xfrm>
          <a:prstGeom prst="rect">
            <a:avLst/>
          </a:prstGeom>
          <a:ln w="0">
            <a:noFill/>
          </a:ln>
        </p:spPr>
      </p:pic>
      <p:sp>
        <p:nvSpPr>
          <p:cNvPr id="201" name="WordArt 2"/>
          <p:cNvSpPr txBox="1"/>
          <p:nvPr/>
        </p:nvSpPr>
        <p:spPr>
          <a:xfrm>
            <a:off x="539640" y="189000"/>
            <a:ext cx="93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05320" y="3506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Хохлатый осоед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4824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ат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брый осоед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ел осу съесть на обед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рошая оса ед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я и жалит иногда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брец осу найти не смог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ь съесть бы парочку жуков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Picture 4" descr="21"/>
          <p:cNvPicPr/>
          <p:nvPr/>
        </p:nvPicPr>
        <p:blipFill>
          <a:blip r:embed="rId1"/>
          <a:stretch/>
        </p:blipFill>
        <p:spPr>
          <a:xfrm>
            <a:off x="5651640" y="2492280"/>
            <a:ext cx="3155760" cy="31561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5"/>
          <p:cNvSpPr txBox="1"/>
          <p:nvPr/>
        </p:nvSpPr>
        <p:spPr>
          <a:xfrm>
            <a:off x="539640" y="189000"/>
            <a:ext cx="100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733560" y="3506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Горная цикада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4000" y="1665360"/>
            <a:ext cx="446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горная лета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песни распевает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долго стрекотал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через час устала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села н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еток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пье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еточный сок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еточный свежий со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лебны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е нравится, наверно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8" name="Picture 4" descr="18"/>
          <p:cNvPicPr/>
          <p:nvPr/>
        </p:nvPicPr>
        <p:blipFill>
          <a:blip r:embed="rId1"/>
          <a:stretch/>
        </p:blipFill>
        <p:spPr>
          <a:xfrm>
            <a:off x="5524560" y="1782720"/>
            <a:ext cx="3295440" cy="1560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22"/>
          <p:cNvPicPr/>
          <p:nvPr/>
        </p:nvPicPr>
        <p:blipFill>
          <a:blip r:embed="rId2"/>
          <a:stretch/>
        </p:blipFill>
        <p:spPr>
          <a:xfrm>
            <a:off x="5508720" y="4508640"/>
            <a:ext cx="2879640" cy="1785960"/>
          </a:xfrm>
          <a:prstGeom prst="rect">
            <a:avLst/>
          </a:prstGeom>
          <a:ln w="0">
            <a:noFill/>
          </a:ln>
        </p:spPr>
      </p:pic>
      <p:sp>
        <p:nvSpPr>
          <p:cNvPr id="210" name="WordArt 2"/>
          <p:cNvSpPr txBox="1"/>
          <p:nvPr/>
        </p:nvSpPr>
        <p:spPr>
          <a:xfrm>
            <a:off x="611280" y="189000"/>
            <a:ext cx="1008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05320" y="3506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Чомга</a:t>
            </a: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8400" y="1844640"/>
            <a:ext cx="486432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мга по реке плыв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дных птенчиков везет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деса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стной народ,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мга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до-пароход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мг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лку поднял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мга дальше поплыл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3" name="Picture 4" descr="19"/>
          <p:cNvPicPr/>
          <p:nvPr/>
        </p:nvPicPr>
        <p:blipFill>
          <a:blip r:embed="rId1"/>
          <a:stretch/>
        </p:blipFill>
        <p:spPr>
          <a:xfrm>
            <a:off x="6588000" y="1916280"/>
            <a:ext cx="1943280" cy="2936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Чомга"/>
          <p:cNvPicPr/>
          <p:nvPr/>
        </p:nvPicPr>
        <p:blipFill>
          <a:blip r:embed="rId2"/>
          <a:stretch/>
        </p:blipFill>
        <p:spPr>
          <a:xfrm>
            <a:off x="1187280" y="4508640"/>
            <a:ext cx="2448000" cy="2305080"/>
          </a:xfrm>
          <a:prstGeom prst="rect">
            <a:avLst/>
          </a:prstGeom>
          <a:ln w="0">
            <a:noFill/>
          </a:ln>
        </p:spPr>
      </p:pic>
      <p:sp>
        <p:nvSpPr>
          <p:cNvPr id="215" name="WordArt 2"/>
          <p:cNvSpPr txBox="1"/>
          <p:nvPr/>
        </p:nvSpPr>
        <p:spPr>
          <a:xfrm>
            <a:off x="395280" y="260280"/>
            <a:ext cx="100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1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04960" y="350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66ff"/>
                </a:solidFill>
                <a:uFillTx/>
                <a:latin typeface="Times New Roman"/>
              </a:rPr>
              <a:t>Ш</a:t>
            </a:r>
            <a:r>
              <a:rPr b="1" lang="ru-RU" sz="5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мель</a:t>
            </a: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516888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ь свою работу знает,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ь над клевером летает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ь с цветка нектар собрал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ь цветку "прощай" сказал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ь нектар в гнездо нес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ята любят сладкий мед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8" name="Picture 4" descr="24"/>
          <p:cNvPicPr/>
          <p:nvPr/>
        </p:nvPicPr>
        <p:blipFill>
          <a:blip r:embed="rId1"/>
          <a:stretch/>
        </p:blipFill>
        <p:spPr>
          <a:xfrm>
            <a:off x="6659640" y="1844640"/>
            <a:ext cx="2106360" cy="21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24-1"/>
          <p:cNvPicPr/>
          <p:nvPr/>
        </p:nvPicPr>
        <p:blipFill>
          <a:blip r:embed="rId2"/>
          <a:stretch/>
        </p:blipFill>
        <p:spPr>
          <a:xfrm>
            <a:off x="6516720" y="4797360"/>
            <a:ext cx="2166840" cy="1619280"/>
          </a:xfrm>
          <a:prstGeom prst="rect">
            <a:avLst/>
          </a:prstGeom>
          <a:ln w="0">
            <a:noFill/>
          </a:ln>
        </p:spPr>
      </p:pic>
      <p:sp>
        <p:nvSpPr>
          <p:cNvPr id="220" name="WordArt 2"/>
          <p:cNvSpPr txBox="1"/>
          <p:nvPr/>
        </p:nvSpPr>
        <p:spPr>
          <a:xfrm>
            <a:off x="611280" y="189000"/>
            <a:ext cx="1081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352680" y="350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Щитень</a:t>
            </a: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54723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тень горестей не знает,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т полтела покрывает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тень раку брат родной,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тень, как и рак, с броней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3" name="Picture 4" descr="25"/>
          <p:cNvPicPr/>
          <p:nvPr/>
        </p:nvPicPr>
        <p:blipFill>
          <a:blip r:embed="rId1"/>
          <a:stretch/>
        </p:blipFill>
        <p:spPr>
          <a:xfrm>
            <a:off x="6372360" y="2133720"/>
            <a:ext cx="2122200" cy="3932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25-1"/>
          <p:cNvPicPr/>
          <p:nvPr/>
        </p:nvPicPr>
        <p:blipFill>
          <a:blip r:embed="rId2"/>
          <a:stretch/>
        </p:blipFill>
        <p:spPr>
          <a:xfrm>
            <a:off x="2050920" y="4365720"/>
            <a:ext cx="2665440" cy="2016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2"/>
          <p:cNvSpPr txBox="1"/>
          <p:nvPr/>
        </p:nvSpPr>
        <p:spPr>
          <a:xfrm>
            <a:off x="611280" y="260280"/>
            <a:ext cx="129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Щ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16360" y="350640"/>
            <a:ext cx="554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66ff"/>
                </a:solidFill>
                <a:uFillTx/>
                <a:latin typeface="Times New Roman"/>
              </a:rPr>
              <a:t>Скопа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стного хочется скопе: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сть рыбку, хоть одну бы мне!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ла щучку, карася,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ла окуня, язя,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ла линя и налима,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ла б даже крокодила!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Picture 4" descr="скопа 1"/>
          <p:cNvPicPr/>
          <p:nvPr/>
        </p:nvPicPr>
        <p:blipFill>
          <a:blip r:embed="rId1"/>
          <a:stretch/>
        </p:blipFill>
        <p:spPr>
          <a:xfrm>
            <a:off x="6227640" y="1989000"/>
            <a:ext cx="2370240" cy="2808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скопа 2"/>
          <p:cNvPicPr/>
          <p:nvPr/>
        </p:nvPicPr>
        <p:blipFill>
          <a:blip r:embed="rId2"/>
          <a:stretch/>
        </p:blipFill>
        <p:spPr>
          <a:xfrm>
            <a:off x="5580000" y="4916520"/>
            <a:ext cx="2160720" cy="16225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6"/>
          <p:cNvSpPr txBox="1"/>
          <p:nvPr/>
        </p:nvSpPr>
        <p:spPr>
          <a:xfrm>
            <a:off x="611280" y="26028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Ъ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4042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</a:rPr>
              <a:t>Аист  чёрный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5543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ст ходит вдоль болота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сту поесть охота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лягушки не боятс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лягушки веселятся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ст важный, как артис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чумаз, как трубочист!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ст говорит лягушкам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, какие вы простушки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ст чистоплотный 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смокинг черный у меня!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4" descr="File05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68880" y="1905120"/>
            <a:ext cx="3473640" cy="39621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37"/>
          <p:cNvSpPr txBox="1"/>
          <p:nvPr/>
        </p:nvSpPr>
        <p:spPr>
          <a:xfrm>
            <a:off x="324000" y="26028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971800" y="3506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Кам</a:t>
            </a: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ы</a:t>
            </a:r>
            <a:r>
              <a:rPr b="1" lang="ru-RU" sz="5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шовка</a:t>
            </a: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5112000" cy="33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а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овка, где же ты? -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рикнул ястреб с высо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-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Говорят, твои птенц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-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чень жирн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 самцы!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казаться я могла бы,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лько мы тебе не рад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!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вои когти так остры,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летай-ка лучше 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3" name="Picture 5" descr="Камышовка"/>
          <p:cNvPicPr/>
          <p:nvPr/>
        </p:nvPicPr>
        <p:blipFill>
          <a:blip r:embed="rId1"/>
          <a:stretch/>
        </p:blipFill>
        <p:spPr>
          <a:xfrm>
            <a:off x="5940360" y="198900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Камышовка 1"/>
          <p:cNvPicPr/>
          <p:nvPr/>
        </p:nvPicPr>
        <p:blipFill>
          <a:blip r:embed="rId2"/>
          <a:stretch/>
        </p:blipFill>
        <p:spPr>
          <a:xfrm>
            <a:off x="5867280" y="4076640"/>
            <a:ext cx="2881440" cy="2365560"/>
          </a:xfrm>
          <a:prstGeom prst="rect">
            <a:avLst/>
          </a:prstGeom>
          <a:ln w="0">
            <a:noFill/>
          </a:ln>
        </p:spPr>
      </p:pic>
      <p:sp>
        <p:nvSpPr>
          <p:cNvPr id="235" name="WordArt 7"/>
          <p:cNvSpPr txBox="1"/>
          <p:nvPr/>
        </p:nvSpPr>
        <p:spPr>
          <a:xfrm>
            <a:off x="611280" y="189000"/>
            <a:ext cx="93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84360" y="35064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66ff"/>
                </a:solidFill>
                <a:uFillTx/>
                <a:latin typeface="Times New Roman"/>
              </a:rPr>
              <a:t>Лунь степной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94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Любит лун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в степи лета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И кузнечиков гон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Но не может он пон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Чем еще себя зан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!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Может бы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, мышей позва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В "кошки - мышки" поигра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?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8" name="Picture 4" descr="лунь степной"/>
          <p:cNvPicPr/>
          <p:nvPr/>
        </p:nvPicPr>
        <p:blipFill>
          <a:blip r:embed="rId1"/>
          <a:stretch/>
        </p:blipFill>
        <p:spPr>
          <a:xfrm>
            <a:off x="5867280" y="2421000"/>
            <a:ext cx="2952720" cy="2932200"/>
          </a:xfrm>
          <a:prstGeom prst="rect">
            <a:avLst/>
          </a:prstGeom>
          <a:ln w="0">
            <a:noFill/>
          </a:ln>
        </p:spPr>
      </p:pic>
      <p:sp>
        <p:nvSpPr>
          <p:cNvPr id="239" name="WordArt 5"/>
          <p:cNvSpPr txBox="1"/>
          <p:nvPr/>
        </p:nvSpPr>
        <p:spPr>
          <a:xfrm>
            <a:off x="684360" y="260280"/>
            <a:ext cx="863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0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80920" y="3506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Плавунец</a:t>
            </a: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4863960" cy="20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т маленький пловец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егантный плавунец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 он, и без проблем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ак взял и рыбку съел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2" name="Picture 4" descr="29"/>
          <p:cNvPicPr/>
          <p:nvPr/>
        </p:nvPicPr>
        <p:blipFill>
          <a:blip r:embed="rId1"/>
          <a:stretch/>
        </p:blipFill>
        <p:spPr>
          <a:xfrm>
            <a:off x="2050920" y="4440240"/>
            <a:ext cx="3529080" cy="2046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29-1"/>
          <p:cNvPicPr/>
          <p:nvPr/>
        </p:nvPicPr>
        <p:blipFill>
          <a:blip r:embed="rId2"/>
          <a:stretch/>
        </p:blipFill>
        <p:spPr>
          <a:xfrm>
            <a:off x="6192720" y="1844640"/>
            <a:ext cx="2648160" cy="35290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"/>
          <p:cNvSpPr txBox="1"/>
          <p:nvPr/>
        </p:nvSpPr>
        <p:spPr>
          <a:xfrm>
            <a:off x="611280" y="18900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5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80920" y="3506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66ff"/>
                </a:solidFill>
                <a:uFillTx/>
                <a:latin typeface="Times New Roman"/>
              </a:rPr>
              <a:t>К</a:t>
            </a:r>
            <a:r>
              <a:rPr b="1" lang="ru-RU" sz="5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речет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4940280" cy="21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ый кречет все лета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ный ветер обгоняет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ый кречет, хоть и мал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ког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ка поймал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7" name="Picture 4" descr="30-1"/>
          <p:cNvPicPr/>
          <p:nvPr/>
        </p:nvPicPr>
        <p:blipFill>
          <a:blip r:embed="rId1"/>
          <a:stretch/>
        </p:blipFill>
        <p:spPr>
          <a:xfrm>
            <a:off x="6010200" y="1916280"/>
            <a:ext cx="2444760" cy="3778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30"/>
          <p:cNvPicPr/>
          <p:nvPr/>
        </p:nvPicPr>
        <p:blipFill>
          <a:blip r:embed="rId2"/>
          <a:stretch/>
        </p:blipFill>
        <p:spPr>
          <a:xfrm>
            <a:off x="2195640" y="4581360"/>
            <a:ext cx="2592360" cy="2151360"/>
          </a:xfrm>
          <a:prstGeom prst="rect">
            <a:avLst/>
          </a:prstGeom>
          <a:ln w="0">
            <a:noFill/>
          </a:ln>
        </p:spPr>
      </p:pic>
      <p:sp>
        <p:nvSpPr>
          <p:cNvPr id="249" name="WordArt 2"/>
          <p:cNvSpPr txBox="1"/>
          <p:nvPr/>
        </p:nvSpPr>
        <p:spPr>
          <a:xfrm>
            <a:off x="468360" y="189000"/>
            <a:ext cx="1150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Ю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19160" y="350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Ящерица прыткая</a:t>
            </a: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2492280"/>
            <a:ext cx="486396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щерка хвостом виля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ычок свой выстав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т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реб мимо пролетал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щерку за хвост поймал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щерка хвост отстегнул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щерка в кусты нырнула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щерка в кустах сиди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ребу, смеясь, кричит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нисколько не грущу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хвостик новый отращу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2" name="Picture 4" descr="31"/>
          <p:cNvPicPr/>
          <p:nvPr/>
        </p:nvPicPr>
        <p:blipFill>
          <a:blip r:embed="rId1"/>
          <a:stretch/>
        </p:blipFill>
        <p:spPr>
          <a:xfrm>
            <a:off x="5867280" y="2060640"/>
            <a:ext cx="2737080" cy="189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31-1"/>
          <p:cNvPicPr/>
          <p:nvPr/>
        </p:nvPicPr>
        <p:blipFill>
          <a:blip r:embed="rId2"/>
          <a:stretch/>
        </p:blipFill>
        <p:spPr>
          <a:xfrm>
            <a:off x="5867280" y="4422600"/>
            <a:ext cx="2855880" cy="1827360"/>
          </a:xfrm>
          <a:prstGeom prst="rect">
            <a:avLst/>
          </a:prstGeom>
          <a:ln w="0">
            <a:noFill/>
          </a:ln>
        </p:spPr>
      </p:pic>
      <p:sp>
        <p:nvSpPr>
          <p:cNvPr id="254" name="WordArt 2"/>
          <p:cNvSpPr txBox="1"/>
          <p:nvPr/>
        </p:nvSpPr>
        <p:spPr>
          <a:xfrm>
            <a:off x="539640" y="115920"/>
            <a:ext cx="79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3506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Беркут</a:t>
            </a:r>
            <a:r>
              <a:rPr b="1" lang="ru-RU" sz="6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кут сильный 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сстрашный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кут смелый и отважный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йтес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кута, сурки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йтесь зайцы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рсуки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йся, рыжая лисиц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кут хочет подкрепиться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7" descr="berkut_03"/>
          <p:cNvPicPr/>
          <p:nvPr/>
        </p:nvPicPr>
        <p:blipFill>
          <a:blip r:embed="rId1"/>
          <a:stretch/>
        </p:blipFill>
        <p:spPr>
          <a:xfrm>
            <a:off x="5105520" y="2384280"/>
            <a:ext cx="4038480" cy="30369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8"/>
          <p:cNvSpPr txBox="1"/>
          <p:nvPr/>
        </p:nvSpPr>
        <p:spPr>
          <a:xfrm>
            <a:off x="611280" y="189000"/>
            <a:ext cx="93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506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Выхухоль</a:t>
            </a: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65000"/>
            <a:ext cx="475128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 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ыхухоль в реке ныря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сё улиток собира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сюду длинный нос суё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ажно и легко плывёт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ыхухоль - что за зверёк?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де - бобр, а вроде - кро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де - крыса водяная..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ыхухоль, кто ты такая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5" descr="3"/>
          <p:cNvPicPr/>
          <p:nvPr/>
        </p:nvPicPr>
        <p:blipFill>
          <a:blip r:embed="rId1"/>
          <a:stretch/>
        </p:blipFill>
        <p:spPr>
          <a:xfrm>
            <a:off x="5486400" y="2060640"/>
            <a:ext cx="3262320" cy="30416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028"/>
          <p:cNvSpPr txBox="1"/>
          <p:nvPr/>
        </p:nvSpPr>
        <p:spPr>
          <a:xfrm>
            <a:off x="539640" y="189000"/>
            <a:ext cx="86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3506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Гусь серый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4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сь серый клюв свой задирает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чет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рдо  заявляет: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!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авнее нет меня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сей домашних предок я!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Picture 4" descr="4"/>
          <p:cNvPicPr/>
          <p:nvPr/>
        </p:nvPicPr>
        <p:blipFill>
          <a:blip r:embed="rId1"/>
          <a:stretch/>
        </p:blipFill>
        <p:spPr>
          <a:xfrm>
            <a:off x="4572000" y="2138400"/>
            <a:ext cx="3962520" cy="32227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030"/>
          <p:cNvSpPr txBox="1"/>
          <p:nvPr/>
        </p:nvSpPr>
        <p:spPr>
          <a:xfrm>
            <a:off x="468360" y="189000"/>
            <a:ext cx="64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350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Times New Roman"/>
              </a:rPr>
              <a:t>Дербник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95288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бник - сокол маленький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 чего ж у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ленький!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лжен в цирке выступать -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бычу слету смог поймать!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бник - просто акробат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стоин он больших награ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!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WordArt 1030"/>
          <p:cNvSpPr txBox="1"/>
          <p:nvPr/>
        </p:nvSpPr>
        <p:spPr>
          <a:xfrm>
            <a:off x="395280" y="189000"/>
            <a:ext cx="72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031" descr="дербник"/>
          <p:cNvPicPr/>
          <p:nvPr/>
        </p:nvPicPr>
        <p:blipFill>
          <a:blip r:embed="rId1"/>
          <a:stretch/>
        </p:blipFill>
        <p:spPr>
          <a:xfrm>
            <a:off x="6010200" y="2133720"/>
            <a:ext cx="2457360" cy="331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32" descr="дербник2"/>
          <p:cNvPicPr/>
          <p:nvPr/>
        </p:nvPicPr>
        <p:blipFill>
          <a:blip r:embed="rId2"/>
          <a:stretch/>
        </p:blipFill>
        <p:spPr>
          <a:xfrm>
            <a:off x="1476360" y="4562640"/>
            <a:ext cx="2951280" cy="1936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350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Ёж обыкновенный</a:t>
            </a: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653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иха ёжика искала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ь у дороги увидала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иха знает, что у ёлк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ь тоже колкие иголки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иха ёлочке сказала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а ты, ёлка, не встречала?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ихе ёлка говорит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 у лесной реки сидит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ш в гости ёжика позвал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ш червяка ежу отдал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 три часа с ершом болтал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ш под конец ему сказал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, может, мы с тобой - родня?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, ты колючий, как и я!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049056054124052057057055048056"/>
          <p:cNvPicPr/>
          <p:nvPr/>
        </p:nvPicPr>
        <p:blipFill>
          <a:blip r:embed="rId1"/>
          <a:stretch/>
        </p:blipFill>
        <p:spPr>
          <a:xfrm>
            <a:off x="4572000" y="1562040"/>
            <a:ext cx="4465800" cy="373212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030"/>
          <p:cNvSpPr txBox="1"/>
          <p:nvPr/>
        </p:nvSpPr>
        <p:spPr>
          <a:xfrm>
            <a:off x="324000" y="260280"/>
            <a:ext cx="165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Ё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350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Журавль стерх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8040" y="1665360"/>
            <a:ext cx="5016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авль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ерх в большой заботе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е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авлиху на болоте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авль тоскует и грусти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авлик песенку трубит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авушка! Ты где? Ты где?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у, стоя на одной ноге!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Picture 4" descr="7"/>
          <p:cNvPicPr/>
          <p:nvPr/>
        </p:nvPicPr>
        <p:blipFill>
          <a:blip r:embed="rId1"/>
          <a:stretch/>
        </p:blipFill>
        <p:spPr>
          <a:xfrm>
            <a:off x="5943600" y="1600200"/>
            <a:ext cx="2585880" cy="216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Аист"/>
          <p:cNvPicPr/>
          <p:nvPr/>
        </p:nvPicPr>
        <p:blipFill>
          <a:blip r:embed="rId2"/>
          <a:stretch/>
        </p:blipFill>
        <p:spPr>
          <a:xfrm>
            <a:off x="5943600" y="4557600"/>
            <a:ext cx="3200400" cy="23004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6"/>
          <p:cNvSpPr txBox="1"/>
          <p:nvPr/>
        </p:nvSpPr>
        <p:spPr>
          <a:xfrm>
            <a:off x="468360" y="260280"/>
            <a:ext cx="107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24:40Z</dcterms:created>
  <dc:creator>Данильсон ИК</dc:creator>
  <dc:description/>
  <dc:language>en-US</dc:language>
  <cp:lastModifiedBy>HP</cp:lastModifiedBy>
  <dcterms:modified xsi:type="dcterms:W3CDTF">2018-06-24T17:19:08Z</dcterms:modified>
  <cp:revision>35</cp:revision>
  <dc:subject/>
  <dc:title>Презентация PowerPoint</dc:title>
</cp:coreProperties>
</file>