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2.gif" ContentType="image/gif"/>
  <Override PartName="/ppt/media/image6.jpeg" ContentType="image/jpeg"/>
  <Override PartName="/ppt/media/chimes.wav" ContentType="audio/x-wav"/>
  <Override PartName="/ppt/media/image1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EDE1-F5D7-44B5-92F9-DC18884E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0B6E-BD5D-4AFA-8854-B061EE1A9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300D5-DB1A-4DE9-947A-59A6B1281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85E84-4959-433F-9D5F-26B8F054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5E303D-A703-4D94-BA3F-CCEFE189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CDB3EC-50F0-45DE-A864-53EABA64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202B29-C32E-47AB-84C5-C9ABDF64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25C3B-79F6-478B-9B0C-30CCE5A8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2EC9A-CE2E-4C1F-938D-C79A25DF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8B12E8-C24B-4504-971F-40745CA1A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44CCB-EA4C-4166-9704-1C59C15AA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B21EC-FAD4-4DB7-97BA-B65CE1285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7314-EDB4-460D-8555-9552D74D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CCC990-DBE2-4E71-9E2C-A1B7564E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ED61F-6C5F-4FEC-9FBE-7CFE52906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D9626-FEA9-4650-B394-E80A9581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66DF45-0A9F-4DF7-978D-3A8BB72A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61390-55B2-4E35-99E8-23A394E5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D95C06-1D95-43AC-A7E5-1154729F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7E8BF-D197-4D9C-85E7-EF1C2243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08EDB-D286-4A8E-A289-C0EB5BF4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B4865-53BE-4596-B78C-6E79C73A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751A5-4AA6-4784-9505-CF2C4941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0E0C-2AC9-4232-B92A-4F44480A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86172-B85E-4757-9416-A3B6DFC0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B749-7DF4-486B-9FF0-1636CBAB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181C-F4CC-41F1-9C1C-08FC9E4F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2F9B-50B0-40D0-B849-FDFF44980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5C22-F852-45BF-966D-61B951E1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DD6F-D413-42CD-8115-2744481C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BDBC-5E0F-4D4F-9E42-3C69D40A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D8232-89CE-4C61-B66E-BB656E07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33FE-BCAC-484C-9239-26A68CAC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FDBD-3064-4FA1-99CA-E0F86366C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1B49-A5BF-42A3-8EB3-543E28F9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1419-0285-4695-A046-B355F9A3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15DF1-713A-40AD-86FC-EC7930232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DD19-AE36-4130-B29B-9AF4F09F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89F36-DFD8-4501-A2DF-6278C1291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526FD-A408-45D7-A3AF-E86A2C7C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6725D-1F31-4EB3-BFB0-0D93893C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CFA8-D711-41C8-A6F4-142C9517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30AA5-0399-4CB0-99AD-EB4D92F5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C721-5F7C-4B32-A8F6-0C6AF746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212C2-FC89-4F1F-9876-18D36C9E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27CF-B0A4-4203-B307-F1D75194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960E0-2121-4AC3-8C55-1D0EE42E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FE9C-3FD5-4CD8-96E2-CF958DA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9F59-C2B0-4182-A6C9-5FBB8DD8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04A44-38BF-43B3-99FB-32315B58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98E9C-E178-47BF-940C-169DAA635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6BFD5D-206F-4A4D-9518-FBF348156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2D496-27D3-41CA-BF88-8298347D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58223-7F98-4CD8-B797-D3B4C326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E590-B714-42C0-A5AA-78DFDDFA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92044-CE0C-4260-8EED-C942AD9B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8AF33-BAF5-45C6-8D4B-FB91801CF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F5CE0-6913-47B7-9BD9-EBFF2695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8EE493-314B-497D-9371-EE5A8E6D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EC8AC-870D-4D1D-A3A8-71628FDDF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C8566-41F8-4DEC-97E6-AE14E2BC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F62E7-C47C-4363-8F51-D942CA86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84ADD-7B5C-4280-9FE8-43D2EF3F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8B7F2-971E-4AB9-BC0A-FB13E022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8334D-0333-4446-9911-E29BCED8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0E69-CF6D-48B8-9138-A71F5951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58842-0A51-4811-8FC1-5FE1DD7B8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AA583-80FF-45AD-8F2D-41005D6D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316C0-AD9B-40EA-80BD-5DCE0A4B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4742-E929-4C36-AD65-7E4BBCC2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874F8-B458-4DBF-96B4-950B98BC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B4611-88F1-4BC9-A001-814D5D7B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0E8E8-264B-428D-9102-C61889F9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BDBC9-298F-44AD-A38B-7B38DF059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2E8BB-821D-44BF-93ED-7D27F667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7BF39-B544-4D93-A6F1-71F40162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F8E6-5E74-4571-85D2-FEF48E99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07528-1FC7-4F68-8D96-19779FC9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F4CC24-F5DF-45C9-8DAB-4F54CA602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6D8E25-1EFA-46F8-B326-08C48EBB1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F3E34-AFFA-4645-A34E-C7CD5A54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C073EF-6496-4DB4-A57A-EFB17F7A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716969-BAD0-48CB-9342-C2626B41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56BBEA-618C-4383-99B8-90E1564E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F4FBAB-EE8C-4F28-9166-673E0FC2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C07B4E-FBEB-4BE6-B0AC-354A9229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B0FE9D-5D88-448A-B039-5A66EAAC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6334-40FE-4E68-BBD3-DABF3AC0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6AF001-8E7F-4ED9-9C75-8C988B230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13C214-92C5-4632-ACED-4DE0C9211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0A004-5702-4947-A1DB-A45FB351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74DE2-559B-48A4-92FF-7CF2F0A1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61032-71CC-416D-A00E-1061E812E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018BC8-676D-400A-AF01-3A2E0CB3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06D723-7616-46BE-9BB8-1BA4F87A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4368A-F1D7-4A69-8DD7-9D6BC0D4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7718A-3BAA-4000-959B-5F094EFA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AEEEE-D838-47BD-AC69-EEB313EF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B1B8-87A5-46A6-8E18-9DDA047A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BF640-A652-474B-8625-90DB2A96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5E1E2-2B5B-4E85-BFDF-9817CA39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D120A-4DE8-4119-9441-92C02C95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AF02D-C148-48B7-9933-6B8334EAB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CA709-702E-4265-83E7-03335FBBB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BD297-57CE-4B0C-B60F-28827A22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74A3E-93F0-4904-A5E7-FDB2E3AF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AE16A0-3DAD-4688-8C3C-9682B21F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9BB96-08DB-411B-BA28-0B7E09F4E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EBE2B-68E6-4881-870C-DE429D12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068-5C1D-4268-B46F-27F752EE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903C8-6DB9-4FF7-8D41-977803619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0AA72-00BC-47BD-BA1B-438A2F69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E4F17-B026-47B2-B734-C18626F9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950E0-A70E-407B-9E9A-1E3684F6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8C72-9B8D-4943-AB60-3A136280C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E7829-BDE2-413B-B6A7-5DDD1E9ED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E92129-E283-484A-8163-55AEB3024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1E88B1-B1E4-4E48-8167-C32E52C3C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D1A97-3A28-4AED-872D-6EE0E7210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0DAC5-EF0E-4956-9C2A-81D0A64C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61F7-422D-42AE-84A8-95700B335F6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9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0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0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1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1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9DB43-B4FA-4253-9B21-669ADC2EF338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3A7C-FC8F-4FD2-9639-30CADC226A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19E1-21F3-424A-B026-1C09F63D4D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A3FF-3A08-4BA5-B37E-22C38EC26F4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E994-A798-4193-A9A6-20A672F7368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2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2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2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2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3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4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4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4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4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4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5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0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0C62-DC63-42A5-9573-02619C3ED06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36B5-3CA6-474E-BAE6-9A6AF01125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BD32-C138-41CA-9DA0-046FA63319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1698-70F8-49A1-B883-C94D4BFAF7F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knigpero"/>
          <p:cNvPicPr/>
          <p:nvPr/>
        </p:nvPicPr>
        <p:blipFill>
          <a:blip r:embed="rId1"/>
          <a:stretch/>
        </p:blipFill>
        <p:spPr>
          <a:xfrm>
            <a:off x="3348000" y="549360"/>
            <a:ext cx="2881440" cy="1270080"/>
          </a:xfrm>
          <a:prstGeom prst="rect">
            <a:avLst/>
          </a:prstGeom>
          <a:ln w="0">
            <a:noFill/>
          </a:ln>
        </p:spPr>
      </p:pic>
      <p:sp>
        <p:nvSpPr>
          <p:cNvPr id="562" name="WordArt 3"/>
          <p:cNvSpPr txBox="1"/>
          <p:nvPr/>
        </p:nvSpPr>
        <p:spPr>
          <a:xfrm>
            <a:off x="395280" y="3573360"/>
            <a:ext cx="84535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Писатель земли Донской"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0" y="191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Виталий Закрутки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4" name="4. GRIEG - MORNING.mp3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1800" cy="1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2" descr="C:\Users\Екатерина\Desktop\конкурс  закруткин\img8.jpg"/>
          <p:cNvPicPr/>
          <p:nvPr/>
        </p:nvPicPr>
        <p:blipFill>
          <a:blip r:embed="rId1"/>
          <a:stretch/>
        </p:blipFill>
        <p:spPr>
          <a:xfrm>
            <a:off x="31680" y="28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" name="Picture 2" descr="C:\Users\Екатерина\Desktop\конкурс  закруткин\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2" descr="C:\Users\Екатерина\Desktop\конкурс  закруткин\img14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7" name="Picture 2" descr="C:\Users\Екатерина\Desktop\конкурс  закруткин\img16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9" name="Picture 2" descr="C:\Users\Екатерина\Desktop\конкурс  закруткин\img17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2" descr="C:\Users\Екатерина\Desktop\конкурс  закруткин\img24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италий Александрович Закруткин</a:t>
            </a:r>
            <a:br>
              <a:rPr sz="4800"/>
            </a:b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(1908-1984 годы жизни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6" name="Picture 3" descr="m_38085"/>
          <p:cNvPicPr/>
          <p:nvPr/>
        </p:nvPicPr>
        <p:blipFill>
          <a:blip r:embed="rId2"/>
          <a:stretch/>
        </p:blipFill>
        <p:spPr>
          <a:xfrm>
            <a:off x="4067280" y="3141720"/>
            <a:ext cx="489564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7" name="Text Box 4"/>
          <p:cNvSpPr/>
          <p:nvPr/>
        </p:nvSpPr>
        <p:spPr>
          <a:xfrm>
            <a:off x="833760" y="206064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нской писатель, посвятивший многие свои  произведения людя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ироде нашего края. Тема защиты природы, всего живого –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 из главных тем творчества писате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150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C:\Users\Екатерина\Desktop\конкурс  закруткин\img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1" name="Picture 3" descr="C:\Users\Екатерина\Desktop\конкурс  закруткин\img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3" name="Picture 3" descr="01_08_w"/>
          <p:cNvPicPr/>
          <p:nvPr/>
        </p:nvPicPr>
        <p:blipFill>
          <a:blip r:embed="rId1"/>
          <a:stretch/>
        </p:blipFill>
        <p:spPr>
          <a:xfrm>
            <a:off x="539640" y="333360"/>
            <a:ext cx="1349640" cy="862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:\Users\Екатерина\Desktop\конкурс  закруткин\img3.jpg"/>
          <p:cNvPicPr/>
          <p:nvPr/>
        </p:nvPicPr>
        <p:blipFill>
          <a:blip r:embed="rId2"/>
          <a:stretch/>
        </p:blipFill>
        <p:spPr>
          <a:xfrm>
            <a:off x="108000" y="1200240"/>
            <a:ext cx="7343640" cy="5506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218440" cy="55454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Picture 3" descr="1b1"/>
          <p:cNvPicPr/>
          <p:nvPr/>
        </p:nvPicPr>
        <p:blipFill>
          <a:blip r:embed="rId1"/>
          <a:stretch/>
        </p:blipFill>
        <p:spPr>
          <a:xfrm>
            <a:off x="6804000" y="4941720"/>
            <a:ext cx="1525680" cy="9414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" descr="C:\Users\Екатерина\Desktop\конкурс  закруткин\img4.jpg"/>
          <p:cNvPicPr/>
          <p:nvPr/>
        </p:nvPicPr>
        <p:blipFill>
          <a:blip r:embed="rId2"/>
          <a:stretch/>
        </p:blipFill>
        <p:spPr>
          <a:xfrm>
            <a:off x="108000" y="81000"/>
            <a:ext cx="8928000" cy="669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Копия S5000009"/>
          <p:cNvPicPr/>
          <p:nvPr/>
        </p:nvPicPr>
        <p:blipFill>
          <a:blip r:embed="rId2"/>
          <a:stretch/>
        </p:blipFill>
        <p:spPr>
          <a:xfrm>
            <a:off x="6443640" y="765000"/>
            <a:ext cx="1295280" cy="19432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C:\Users\Екатерина\Desktop\конкурс  закруткин\img5.jpg"/>
          <p:cNvPicPr/>
          <p:nvPr/>
        </p:nvPicPr>
        <p:blipFill>
          <a:blip r:embed="rId3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19" dur="1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1" name="Picture 3" descr="DSCN30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4"/>
          <p:cNvSpPr/>
          <p:nvPr/>
        </p:nvSpPr>
        <p:spPr>
          <a:xfrm>
            <a:off x="395280" y="260280"/>
            <a:ext cx="8064360" cy="73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3" name="Picture 5" descr="C:\Users\Екатерина\Desktop\конкурс  закруткин\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5" name="Picture 3" descr="knigpero"/>
          <p:cNvPicPr/>
          <p:nvPr/>
        </p:nvPicPr>
        <p:blipFill>
          <a:blip r:embed="rId1"/>
          <a:stretch/>
        </p:blipFill>
        <p:spPr>
          <a:xfrm>
            <a:off x="0" y="-82440"/>
            <a:ext cx="2881440" cy="12697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knigpero"/>
          <p:cNvPicPr/>
          <p:nvPr/>
        </p:nvPicPr>
        <p:blipFill>
          <a:blip r:embed="rId2"/>
          <a:stretch/>
        </p:blipFill>
        <p:spPr>
          <a:xfrm>
            <a:off x="6084720" y="5587920"/>
            <a:ext cx="2881440" cy="12700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knigpero"/>
          <p:cNvPicPr/>
          <p:nvPr/>
        </p:nvPicPr>
        <p:blipFill>
          <a:blip r:embed="rId3"/>
          <a:stretch/>
        </p:blipFill>
        <p:spPr>
          <a:xfrm>
            <a:off x="6732720" y="0"/>
            <a:ext cx="2882880" cy="12700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knigpero"/>
          <p:cNvPicPr/>
          <p:nvPr/>
        </p:nvPicPr>
        <p:blipFill>
          <a:blip r:embed="rId4"/>
          <a:stretch/>
        </p:blipFill>
        <p:spPr>
          <a:xfrm>
            <a:off x="-181080" y="5300640"/>
            <a:ext cx="2881440" cy="1270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C:\Users\Екатерина\Desktop\конкурс  закруткин\img7.jpg"/>
          <p:cNvPicPr/>
          <p:nvPr/>
        </p:nvPicPr>
        <p:blipFill>
          <a:blip r:embed="rId5"/>
          <a:stretch/>
        </p:blipFill>
        <p:spPr>
          <a:xfrm>
            <a:off x="1922400" y="1427040"/>
            <a:ext cx="7232760" cy="5424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35:08Z</dcterms:created>
  <dc:creator>Библиотека</dc:creator>
  <dc:description/>
  <dc:language>en-US</dc:language>
  <cp:lastModifiedBy>Екатерина</cp:lastModifiedBy>
  <dcterms:modified xsi:type="dcterms:W3CDTF">2018-02-07T20:16:44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