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2.gif" ContentType="image/gif"/>
  <Override PartName="/ppt/media/image24.jpeg" ContentType="image/jpeg"/>
  <Override PartName="/ppt/media/image10.gif" ContentType="image/gif"/>
  <Override PartName="/ppt/media/image9.jpeg" ContentType="image/jpeg"/>
  <Override PartName="/ppt/media/image11.jpeg" ContentType="image/jpeg"/>
  <Override PartName="/ppt/media/image8.jpeg" ContentType="image/jpeg"/>
  <Override PartName="/ppt/media/image2.gif" ContentType="image/gif"/>
  <Override PartName="/ppt/media/image6.jpeg" ContentType="image/jpeg"/>
  <Override PartName="/ppt/media/chimes.wav" ContentType="audio/x-wav"/>
  <Override PartName="/ppt/media/image1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4.jpeg" ContentType="image/jpeg"/>
  <Override PartName="/ppt/media/image13.jpeg" ContentType="image/jpeg"/>
  <Override PartName="/ppt/media/image1.jpeg" ContentType="image/jpeg"/>
  <Override PartName="/ppt/media/image22.jpeg" ContentType="image/jpeg"/>
  <Override PartName="/ppt/media/image7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2825-6A82-4D2B-9778-BA983E1FC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34C8-E0DD-4B8B-8A7B-3B22B4C3F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3598EE-D07C-4F23-9961-10FFA423D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AD4BD6-897A-4EDC-A577-89770A77D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98D400-C8D0-4190-B263-52B5C6D33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3FB729-A58D-438B-83A1-497DFAC10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9C810A-B8C3-4314-9CDD-D99341291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CC65FF-9F6D-48E1-BEF3-3E79B9949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56B57D-D283-486F-993C-F2ADB8771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9495EB-B73B-4273-9268-2A86AD7C6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2F2D5C-A404-4F51-8F55-FB289465A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E35109-C955-4995-A1D1-2DDBE8B19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FBE2-F724-49AD-9520-75D6A2F92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722D01-8F22-4905-8F6E-503513C85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93BB45-E6A2-405D-8EBD-A38B5C925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7FF94F-DBB2-4AE9-985F-B6D57F80E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BFCFA3-35F4-4BC2-BB3E-780767808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9B2080-7214-4769-93F6-D477768DE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159A80-1C26-46C3-9DDC-C1DE70D0D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E02E5E-7FC5-4CC6-97D1-1A02DB837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EDCFB9-803E-48D9-A32C-5B17491D5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DF6EE5-1E38-4262-8620-8DA158858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D60C46-DEAF-4A90-84AE-DB3F41B42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ED30-9F1D-4056-9498-21524E998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D682FD-9E02-4FD7-9105-AF7AB34C4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F42C6-CB46-43B6-857C-EE6D816B7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1FF60-E32E-4F15-B332-8FC14C383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CEEAD-BBC8-46CE-9C49-3BE3ED875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90B48-0243-4449-A31F-EA5578FAD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0303C-475E-4A07-B9F0-90BCD6EAF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66C1E-B160-4538-846B-C938B5FCD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B1FC0-2C52-432E-9DEE-1ADD5EA95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4548-AF8B-438C-B57B-8173FEDA2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A2BCD-CEC8-4604-BFB1-D682F0588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BD721-8150-4183-978F-419C684BF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35473-55E6-4222-9CBD-A7E0C24F6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26F47-A74C-48A1-979F-DAB03E6BC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F47B0-1F57-4F63-BB69-3227C42F1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C965E-4D3A-4BD4-8446-772EB14A6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3658C-71D0-4CE6-AFA7-13A5E7996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0642E-9070-45BE-AFFB-74BCCC71D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AFFDA-9075-4888-A9A9-58FF53F0D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2B828-F70B-48AC-ACFB-26DC5BE3A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9514-9934-4036-94DA-CF65CC384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D6BD9-C92A-4D37-B3AD-A240C6124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EE7E0-79DB-4CD1-B72B-D0EBA8BB6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DC7B0-295C-4072-A667-474CB191D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9B1D3-C84A-447E-BCAC-4076D4BE4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5F26D-2730-403E-8AB1-07612AC5C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2CB7E-8630-4C23-B122-E70464ED6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803B8-3FBF-46A9-B5C6-62C0220BB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59BDA-5E15-436F-A96F-8C89F9E37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AFA62-B9FD-4B89-9C9E-512769529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07FE3-FB8B-42E9-9948-449722686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08DC-547F-4A76-B1E5-32336D878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6BB5C9-3E11-459E-8F0C-D241EA9C2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949A6-EAF5-42B8-B16E-F0C380A41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8BB10-7DF2-4149-9BA5-AB4242D06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16BBC-95C5-4627-8BD5-2404D3D57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E001B-418F-444B-8B1D-A6E663E1B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51BB9-2C63-4F52-9027-8D457D1DD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0B140-2438-45D6-88C9-FC0336AFC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35D74-E0D3-4A26-B2AC-575ECD7FB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FC5FA-350A-4BEA-9FF2-0EBEFDC3E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34D7FD-5C76-426E-952B-B9C6C8CA6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AB9D-9AAD-4D68-9B45-3C4D2B6C8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38F0FE-C41B-46D6-8281-D60E81057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5577EE-33FA-45B4-BC23-21F9A4747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18E689-514F-4CF0-BE1D-C02FA0E66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51A920-6794-4AF8-9A96-4E81C2E6B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8BA329-0ACA-41B3-987F-B28C86164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E4FC26-D165-4883-8380-B99AD3F8B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24AAAD-E163-413F-A05D-03E8E807F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CF3295-8B90-49D6-8116-27DBCB30F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DB2DCE-0B9A-4368-AF58-AF8AB4B77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479AA1-AC79-4474-B651-22A034DBA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2D91-41F6-4DC1-B456-1A33DBC9F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823040-D498-45CC-A95B-35B869814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1EDF16-4697-4599-842E-DE0B1C30D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A212EC-4049-4AF4-8889-09B1730F1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81B0BC-5234-4326-B18A-41222344B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1E23D4-04A8-43D7-B96E-E4FE6DDF5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6CFDCC-5D95-413A-9DDF-3B126BA58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ECBE6C-7967-4E68-9E03-602AE5482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5DB086-2AE7-4CCD-A4F3-E2ABF5645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878E2F-BAB7-4B22-816B-62E3AC12F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2A21DBB-076E-4912-8DFE-19739871E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7A2A-E46B-4B88-92C2-47B6BA24B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61A17F-2F9A-42BD-B179-B142541A5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AF2DC9-6246-49C1-894C-8B679900D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FD5430-2D34-4C53-8501-6988B8A62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7DB338-CEC9-4F94-96B5-18ED28412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649BB7-24F2-43CE-A04D-5F22050D9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DB21FB-5E52-4E89-BD50-6BD32F470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F39255-9BB0-4193-B89C-C4E20095F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5CE117-A647-435E-895B-441C5F5E2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A80174-EB5A-43FF-8365-502FA61D9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D25F91-A0B1-49FF-9E6E-1C131F9B4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7A8B-5786-4960-A6B6-06DAAAB17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CCF510-EBDE-48DB-89AC-B3EF42F8D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503FD2-5082-4548-9FBF-B02317888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611B6A-1351-428A-B378-2B82421F7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167C3C-4DFF-4B47-9E48-5DB7B8A04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95054B-F09D-4D24-9F63-177FD752F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93B2F9-7337-45DF-A7AE-DE0F98961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D9D5AB-453B-444B-92B9-32565BF2D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4839A6-2626-4E2E-9D90-A5A766C65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DF11E6-A897-49AD-BEC5-EAED63946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BE8B21-3E0A-4885-87E5-0F9465F5E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190E-3B94-41BC-99CE-3E52DB847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C64FED-A114-4D99-89EC-A8543B95E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CBFD6A-B7D2-4529-A0F8-5D916BC22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18B351-9E75-4F79-91F4-8CD111421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15743D-6DE3-4F47-927F-DED56C0BF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E69C8F-C48F-4A2E-9F55-60EEA60DD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A5DF16-048B-415D-86DA-07063F2D5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62CD83-0AD8-4298-BBD0-40AE26DD4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0BB17B-16A8-4B07-84CC-BBAF0C158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B77F2B-26DC-4465-BD59-DF4CC4C23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994A24-7217-4D2A-92AD-D8CDF4C5C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11570-1198-422B-A505-24487F67DD9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9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49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0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0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50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50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0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0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0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0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50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50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1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1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51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51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51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10946-5567-4D89-9AB3-6A803A08F571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9ECC1-5857-4229-AA8D-A4CBD188EBE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03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7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8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9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0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1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2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3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5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6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7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8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9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0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DBD6A-1532-4021-BFCB-75EE8B556FD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E7AD0-B7F3-4C1C-B511-79D2712D1DE2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2C4F5-8F1A-4069-BF40-69207D57B975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13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14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5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6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7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8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9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0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1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2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23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24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25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26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27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28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9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0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231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32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33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34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35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36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37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38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39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240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41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2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43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244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245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246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247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48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49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50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51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52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53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54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255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293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4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95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96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297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8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299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0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1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2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3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04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05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306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7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8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9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0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1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23181-57E6-43D7-87B8-05DB5AEE3FF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ABDB8-F290-4F99-8BF0-1298EF4B3F0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5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6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7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8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9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0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1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2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3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4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5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6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7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8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9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0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1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2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AF43B-4EEB-44BA-9425-4D7DC4946C7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5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ftr" idx="26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A6F89-53E0-4199-A228-7311F4A400F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19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Picture 2" descr="knigpero"/>
          <p:cNvPicPr/>
          <p:nvPr/>
        </p:nvPicPr>
        <p:blipFill>
          <a:blip r:embed="rId1"/>
          <a:stretch/>
        </p:blipFill>
        <p:spPr>
          <a:xfrm>
            <a:off x="3348000" y="549360"/>
            <a:ext cx="2881440" cy="1270080"/>
          </a:xfrm>
          <a:prstGeom prst="rect">
            <a:avLst/>
          </a:prstGeom>
          <a:ln w="0">
            <a:noFill/>
          </a:ln>
        </p:spPr>
      </p:pic>
      <p:sp>
        <p:nvSpPr>
          <p:cNvPr id="562" name="WordArt 3"/>
          <p:cNvSpPr txBox="1"/>
          <p:nvPr/>
        </p:nvSpPr>
        <p:spPr>
          <a:xfrm>
            <a:off x="395280" y="3573360"/>
            <a:ext cx="8453520" cy="148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fbeac7"/>
                    </a:gs>
                    <a:gs pos="100000">
                      <a:srgbClr val="fee7f2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"Писатель земли Донской"</a:t>
            </a:r>
            <a:endParaRPr b="0" lang="en-US" sz="4800" spc="1" strike="noStrike">
              <a:ln w="0">
                <a:noFill/>
              </a:ln>
              <a:gradFill rotWithShape="0">
                <a:gsLst>
                  <a:gs pos="0">
                    <a:srgbClr val="fbeac7"/>
                  </a:gs>
                  <a:gs pos="100000">
                    <a:srgbClr val="fee7f2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63" name="Text Box 4"/>
          <p:cNvSpPr/>
          <p:nvPr/>
        </p:nvSpPr>
        <p:spPr>
          <a:xfrm>
            <a:off x="0" y="1916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Georgia"/>
              </a:rPr>
              <a:t>Виталий Закруткин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64" name="4. GRIEG - MORNING.mp3" descr=""/>
          <p:cNvPicPr/>
          <p:nvPr/>
        </p:nvPicPr>
        <p:blipFill>
          <a:blip r:embed="rId2"/>
          <a:stretch/>
        </p:blipFill>
        <p:spPr>
          <a:xfrm>
            <a:off x="4724280" y="3581280"/>
            <a:ext cx="1800" cy="18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/>
          </p:nvPr>
        </p:nvSpPr>
        <p:spPr>
          <a:xfrm>
            <a:off x="394920" y="259920"/>
            <a:ext cx="84978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1" name="Picture 2" descr="C:\Users\Екатерина\Desktop\конкурс  закруткин\img8.jpg"/>
          <p:cNvPicPr/>
          <p:nvPr/>
        </p:nvPicPr>
        <p:blipFill>
          <a:blip r:embed="rId1"/>
          <a:stretch/>
        </p:blipFill>
        <p:spPr>
          <a:xfrm>
            <a:off x="31680" y="284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/>
          </p:nvPr>
        </p:nvSpPr>
        <p:spPr>
          <a:xfrm>
            <a:off x="394920" y="259920"/>
            <a:ext cx="84978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3" name="Picture 2" descr="C:\Users\Екатерина\Desktop\конкурс  закруткин\img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  <p:sndAc>
      <p:stSnd>
        <p:snd r:embed="rId2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/>
          </p:nvPr>
        </p:nvSpPr>
        <p:spPr>
          <a:xfrm>
            <a:off x="394920" y="259920"/>
            <a:ext cx="84978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5" name="Picture 2" descr="C:\Users\Екатерина\Desktop\конкурс  закруткин\img14.jpg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/>
          </p:nvPr>
        </p:nvSpPr>
        <p:spPr>
          <a:xfrm>
            <a:off x="394920" y="259920"/>
            <a:ext cx="84978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7" name="Picture 2" descr="C:\Users\Екатерина\Desktop\конкурс  закруткин\img16.jpg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/>
          </p:nvPr>
        </p:nvSpPr>
        <p:spPr>
          <a:xfrm>
            <a:off x="394920" y="259920"/>
            <a:ext cx="84978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9" name="Picture 2" descr="C:\Users\Екатерина\Desktop\конкурс  закруткин\img17.jpg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/>
          </p:nvPr>
        </p:nvSpPr>
        <p:spPr>
          <a:xfrm>
            <a:off x="394920" y="259920"/>
            <a:ext cx="84978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01" name="Picture 2" descr="C:\Users\Екатерина\Desktop\конкурс  закруткин\img24.jpg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Виталий Александрович Закруткин</a:t>
            </a:r>
            <a:br>
              <a:rPr sz="4800"/>
            </a:br>
            <a:r>
              <a:rPr b="0" lang="ru-RU" sz="2400" spc="-1" strike="noStrike">
                <a:solidFill>
                  <a:srgbClr val="990000"/>
                </a:solidFill>
                <a:latin typeface="Tahoma"/>
              </a:rPr>
              <a:t>(1908-1984 годы жизни)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66" name="Picture 3" descr="m_38085"/>
          <p:cNvPicPr/>
          <p:nvPr/>
        </p:nvPicPr>
        <p:blipFill>
          <a:blip r:embed="rId2"/>
          <a:stretch/>
        </p:blipFill>
        <p:spPr>
          <a:xfrm>
            <a:off x="4067280" y="3141720"/>
            <a:ext cx="4895640" cy="345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67" name="Text Box 4"/>
          <p:cNvSpPr/>
          <p:nvPr/>
        </p:nvSpPr>
        <p:spPr>
          <a:xfrm>
            <a:off x="833760" y="2060640"/>
            <a:ext cx="802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нской писатель, посвятивший многие свои  произведения людям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природе нашего края. Тема защиты природы, всего живого –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дна из главных тем творчества писателя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circle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3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" dur="1500" autoRev="1" fill="hold"/>
                                        <p:tgtEl>
                                          <p:spTgt spid="5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/>
          </p:nvPr>
        </p:nvSpPr>
        <p:spPr>
          <a:xfrm>
            <a:off x="394920" y="259920"/>
            <a:ext cx="84978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3" descr="C:\Users\Екатерина\Desktop\конкурс  закруткин\img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  <p:sndAc>
      <p:stSnd>
        <p:snd r:embed="rId3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71" name="Picture 3" descr="C:\Users\Екатерина\Desktop\конкурс  закруткин\img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3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9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73" name="Picture 3" descr="01_08_w"/>
          <p:cNvPicPr/>
          <p:nvPr/>
        </p:nvPicPr>
        <p:blipFill>
          <a:blip r:embed="rId1"/>
          <a:stretch/>
        </p:blipFill>
        <p:spPr>
          <a:xfrm>
            <a:off x="539640" y="333360"/>
            <a:ext cx="1349640" cy="86220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4" descr="C:\Users\Екатерина\Desktop\конкурс  закруткин\img3.jpg"/>
          <p:cNvPicPr/>
          <p:nvPr/>
        </p:nvPicPr>
        <p:blipFill>
          <a:blip r:embed="rId2"/>
          <a:stretch/>
        </p:blipFill>
        <p:spPr>
          <a:xfrm>
            <a:off x="108000" y="1200240"/>
            <a:ext cx="7343640" cy="55069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456840" y="907920"/>
            <a:ext cx="8218440" cy="5545440"/>
          </a:xfrm>
          <a:prstGeom prst="rect">
            <a:avLst/>
          </a:prstGeom>
          <a:noFill/>
          <a:ln w="9360">
            <a:solidFill>
              <a:srgbClr val="0066ff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6" name="Picture 3" descr="1b1"/>
          <p:cNvPicPr/>
          <p:nvPr/>
        </p:nvPicPr>
        <p:blipFill>
          <a:blip r:embed="rId1"/>
          <a:stretch/>
        </p:blipFill>
        <p:spPr>
          <a:xfrm>
            <a:off x="6804000" y="4941720"/>
            <a:ext cx="1525680" cy="94140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4" descr="C:\Users\Екатерина\Desktop\конкурс  закруткин\img4.jpg"/>
          <p:cNvPicPr/>
          <p:nvPr/>
        </p:nvPicPr>
        <p:blipFill>
          <a:blip r:embed="rId2"/>
          <a:stretch/>
        </p:blipFill>
        <p:spPr>
          <a:xfrm>
            <a:off x="108000" y="81000"/>
            <a:ext cx="8928000" cy="6696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  <p:sndAc>
      <p:stSnd>
        <p:snd r:embed="rId3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Picture 3" descr="Копия S5000009"/>
          <p:cNvPicPr/>
          <p:nvPr/>
        </p:nvPicPr>
        <p:blipFill>
          <a:blip r:embed="rId2"/>
          <a:stretch/>
        </p:blipFill>
        <p:spPr>
          <a:xfrm>
            <a:off x="6443640" y="765000"/>
            <a:ext cx="1295280" cy="194328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4" descr="C:\Users\Екатерина\Desktop\конкурс  закруткин\img5.jpg"/>
          <p:cNvPicPr/>
          <p:nvPr/>
        </p:nvPicPr>
        <p:blipFill>
          <a:blip r:embed="rId3"/>
          <a:stretch/>
        </p:blipFill>
        <p:spPr>
          <a:xfrm>
            <a:off x="179280" y="135000"/>
            <a:ext cx="8785440" cy="658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  <p:sndAc>
      <p:stSnd>
        <p:snd r:embed="rId4" name="chimes.wav"/>
      </p:stSnd>
    </p:sndAc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" dur="1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animClr clrSpc="rgb">
                                      <p:cBhvr>
                                        <p:cTn id="18" dur="1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76a03"/>
                                      </p:to>
                                    </p:animClr>
                                    <p:set>
                                      <p:cBhvr>
                                        <p:cTn id="19" dur="1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1" name="Picture 3" descr="DSCN309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2" name="Rectangle 4"/>
          <p:cNvSpPr/>
          <p:nvPr/>
        </p:nvSpPr>
        <p:spPr>
          <a:xfrm>
            <a:off x="395280" y="260280"/>
            <a:ext cx="8064360" cy="736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5f0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83" name="Picture 5" descr="C:\Users\Екатерина\Desktop\конкурс  закруткин\img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85" name="Picture 3" descr="knigpero"/>
          <p:cNvPicPr/>
          <p:nvPr/>
        </p:nvPicPr>
        <p:blipFill>
          <a:blip r:embed="rId1"/>
          <a:stretch/>
        </p:blipFill>
        <p:spPr>
          <a:xfrm>
            <a:off x="0" y="-82440"/>
            <a:ext cx="2881440" cy="126972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4" descr="knigpero"/>
          <p:cNvPicPr/>
          <p:nvPr/>
        </p:nvPicPr>
        <p:blipFill>
          <a:blip r:embed="rId2"/>
          <a:stretch/>
        </p:blipFill>
        <p:spPr>
          <a:xfrm>
            <a:off x="6084720" y="5587920"/>
            <a:ext cx="2881440" cy="127008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5" descr="knigpero"/>
          <p:cNvPicPr/>
          <p:nvPr/>
        </p:nvPicPr>
        <p:blipFill>
          <a:blip r:embed="rId3"/>
          <a:stretch/>
        </p:blipFill>
        <p:spPr>
          <a:xfrm>
            <a:off x="6732720" y="0"/>
            <a:ext cx="2882880" cy="127008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6" descr="knigpero"/>
          <p:cNvPicPr/>
          <p:nvPr/>
        </p:nvPicPr>
        <p:blipFill>
          <a:blip r:embed="rId4"/>
          <a:stretch/>
        </p:blipFill>
        <p:spPr>
          <a:xfrm>
            <a:off x="-181080" y="5300640"/>
            <a:ext cx="2881440" cy="127008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8" descr="C:\Users\Екатерина\Desktop\конкурс  закруткин\img7.jpg"/>
          <p:cNvPicPr/>
          <p:nvPr/>
        </p:nvPicPr>
        <p:blipFill>
          <a:blip r:embed="rId5"/>
          <a:stretch/>
        </p:blipFill>
        <p:spPr>
          <a:xfrm>
            <a:off x="1922400" y="1427040"/>
            <a:ext cx="7232760" cy="54244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  <p:sndAc>
      <p:stSnd>
        <p:snd r:embed="rId6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35:08Z</dcterms:created>
  <dc:creator>Библиотека</dc:creator>
  <dc:description/>
  <dc:language>en-US</dc:language>
  <cp:lastModifiedBy>Екатерина</cp:lastModifiedBy>
  <dcterms:modified xsi:type="dcterms:W3CDTF">2018-02-07T20:16:44Z</dcterms:modified>
  <cp:revision>22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