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AB0-BCB2-41B4-86FC-50E639E1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107-3799-4B03-9DD0-FD272FEE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EDF-8D39-43EE-971C-EEF9BBC1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B94-F8DA-4688-AC62-F3705E82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61A97-1D3C-4E97-B129-5FB1B528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124F4-A3BE-4138-9FAB-943DB11C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42835-82A4-4BEF-9613-65A8BF88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A6242-68D2-4C6D-9866-083E6156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21CD4-5AA0-48DC-A137-71B54753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B16BA-95E4-4BF9-8BF1-24D0A32A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C1AD5-4684-4166-85B3-7813AE87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C46-FDEB-49C2-95FB-3D78819E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A42CB-2FD7-4400-818D-5E549B6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64C80-216E-4090-BAF1-34BBC95E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82493-2AB7-4904-B04B-9267BE7D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AD613-1694-4DFE-9431-66CB77F0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E07FA-9D32-4A92-9698-4CD2254C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ED7-653D-4BA2-B302-F75BBBB4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752-9099-489B-8700-8862A94E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A77-FBB3-4CF1-87A7-E03BAC6C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378-1033-4173-B39C-B383AFE9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00A-5BC8-471D-B6A6-3518A8A1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169-BF09-4DAC-93D8-AA66F77C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B58-BB7C-49F6-AC9B-3183EEF9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7FD6-775D-4612-BB91-0AD17E178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D408-0C63-43FE-912F-2617AAE2CD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ЗЕНТАЦИ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 тему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Жанры  инструментальной и               вокальной музыки».</a:t>
            </a:r>
            <a:br>
              <a:rPr sz="4800"/>
            </a:br>
            <a:br>
              <a:rPr sz="4800"/>
            </a:b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Презентацию выполнила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ученица 5 класса МОУ «ГСОШ»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Бурдуковская Анастасия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(учитель Савельев В.И.)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46483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мецкий  композитор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ека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Феликс  Мендельсон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чинил  цикл  форт-х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ьес  под  название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«Песни  без  слов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«Песни  венецианских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гондольеров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-  так  называли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лодочников, гребцов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72464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9448920" cy="58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Баркаролы  сочиняли  многие  композиторы: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ётр  Ильич  Чайковский   (цикл  пьес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для фортепиано «Времена  года» - Баркарола)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Франц  Шуберт (Баркарола)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Михаил   Иванович  Глинк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(«Венецианская  ночь» - романс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7440" y="1996560"/>
            <a:ext cx="3886200" cy="356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Михаил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Иванович Глин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2880" y="1371600"/>
            <a:ext cx="4191120" cy="31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Пётр </a:t>
            </a: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 Ильич Чайковски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&amp;Pcy;&amp;iecy;&amp;tcy;&amp;rcy; &amp;Icy;&amp;lcy;&amp;softcy;&amp;icy;&amp;chcy; &amp;CHcy;&amp;acy;&amp;jcy;&amp;kcy;&amp;ocy;&amp;vcy;&amp;scy;&amp;kcy;&amp;icy;&amp;jcy;"/>
          <p:cNvPicPr/>
          <p:nvPr/>
        </p:nvPicPr>
        <p:blipFill>
          <a:blip r:embed="rId1"/>
          <a:stretch/>
        </p:blipFill>
        <p:spPr>
          <a:xfrm>
            <a:off x="228600" y="304920"/>
            <a:ext cx="4695840" cy="6248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120" y="68580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81120" y="2285640"/>
            <a:ext cx="39625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Франц</a:t>
            </a:r>
            <a:br>
              <a:rPr sz="6600"/>
            </a:b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  Шуберт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shubert_1"/>
          <p:cNvPicPr/>
          <p:nvPr/>
        </p:nvPicPr>
        <p:blipFill>
          <a:blip r:embed="rId1"/>
          <a:stretch/>
        </p:blipFill>
        <p:spPr>
          <a:xfrm>
            <a:off x="380880" y="304920"/>
            <a:ext cx="440532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915400" cy="588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Итог  урок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ногие  песни, романсы, инструментальные  пьесы  (песни  без  слов, баркаролы и др.) </a:t>
            </a:r>
            <a:br>
              <a:rPr sz="36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являются  лирическими  зарисовкам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них композиторы передают свои  чувства и мысли, впечатления и настро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9220320" cy="58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ногообразие чувств и мыслей, переданных в  них, мелодичность, певучесть и удивительная красота позволяют слушателям воспринимать эту 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инструментальную  музыку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как  выразительную  речь, убедительное  высказывание, исповедь души  челове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58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Vocalis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(в  переводе  с  итальянского)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«гласный», «звучный», «певучий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Вокализ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это  упражнение,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исполняющееся  на  гласный  звук,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для  развития  выразительности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голоса  и  виртуозной  техники  певц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окализ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это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нцертно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роизведение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л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ения  с  инструментальным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сопровождение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809880" y="457200"/>
            <a:ext cx="533412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7440" y="2514240"/>
            <a:ext cx="3886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 В. Рахманинов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495324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есня  без  слов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это небольшая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нструментальная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ьеса  лирического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характер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IMAGE0006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381880" cy="618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Песня  без  слов </a:t>
            </a:r>
            <a:br>
              <a:rPr sz="4400"/>
            </a:b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имеет  другие названия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мелоди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ари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роман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ерен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5714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Итальянский  пейзаж»  А. Мордвинов (русский  художник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IMAGE0002"/>
          <p:cNvPicPr/>
          <p:nvPr/>
        </p:nvPicPr>
        <p:blipFill>
          <a:blip r:embed="rId1"/>
          <a:stretch/>
        </p:blipFill>
        <p:spPr>
          <a:xfrm>
            <a:off x="0" y="0"/>
            <a:ext cx="9144000" cy="5740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5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Жанр  баркаролы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о  песня  на  воде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одина  этого  жанра – Италия.</a:t>
            </a:r>
            <a:br>
              <a:rPr sz="3600"/>
            </a:b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Barka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в переводе с итал.)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это  лодка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4956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IMAGE0003"/>
          <p:cNvPicPr/>
          <p:nvPr/>
        </p:nvPicPr>
        <p:blipFill>
          <a:blip r:embed="rId1"/>
          <a:stretch/>
        </p:blipFill>
        <p:spPr>
          <a:xfrm>
            <a:off x="4506840" y="0"/>
            <a:ext cx="4637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6-24T01:18:2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