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327-701E-4F7A-81B9-4E5BE0EB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66EC-BE67-4BD0-9647-5B7CB483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1E9-8AE3-4108-93CB-1CBE75F6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8AAC-C0B9-4F06-BF81-57FD007F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1D38F-9796-4375-A1AC-C11633B3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F20AE-904C-431C-8632-675D759F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1F495-BCC7-4E09-8833-7F401E35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088F4-D5FE-4F5D-A7AA-6C07FFA0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697CC-6387-41AE-AAEF-F701BE22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B8445-4E5D-41BB-B338-9F3A8F45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A3F33-7B88-4F83-9F55-0F4541C7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11B-DB8E-4969-B48A-70139368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0085C-D06C-4CBF-BA7D-0F1C3FE9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CD99C-18ED-4280-BB25-EE5775E2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63D6C-6897-4409-AECB-9EDB620A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C290A-4AB9-48D4-BA6A-64712A6F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8582D-D61E-4E05-9CC1-704A812C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77B-9AA0-4506-A5C8-595B5413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79F-3EFE-4835-8206-0DF7513A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9F35-F49D-4EC7-A73C-FDB81817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9FD-2D01-4A80-84F2-7310B098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4E76-0BC7-49F9-B757-13C916ED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3FBA-D4D3-41EC-8732-12B86428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9AE-BED2-4D24-967A-0FC9BA17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C16E-2403-4C34-AD5D-5E7F5E063D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6C4A-C621-4F07-B5DE-E1BB2004C5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632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ЕЗЕНТАЦИЯ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 тему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«Жанры  инструментальной и               вокальной музыки».</a:t>
            </a:r>
            <a:br>
              <a:rPr sz="4800"/>
            </a:br>
            <a:br>
              <a:rPr sz="4800"/>
            </a:b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Презентацию выполнила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ученица 5 класса МОУ «ГСОШ»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Бурдуковская Анастасия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(учитель Савельев В.И.)</a:t>
            </a:r>
            <a:br>
              <a:rPr sz="2800"/>
            </a:b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46483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мецкий  композитор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X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ека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Феликс  Мендельсон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чинил  цикл  форт-х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ьес  под  названием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«Песни  без  слов»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«Песни  венецианских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гондольеров»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-  так  называли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лодочников, гребцов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4724640" cy="5867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9448920" cy="58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Баркаролы  сочиняли  многие  композиторы: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ётр  Ильич  Чайковский   (цикл  пьес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для фортепиано «Времена  года» - Баркарола)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Франц  Шуберт (Баркарола)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Михаил   Иванович  Глинка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(«Венецианская  ночь» - романс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57440" y="1996560"/>
            <a:ext cx="3886200" cy="356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Михаил</a:t>
            </a:r>
            <a:br>
              <a:rPr sz="6600"/>
            </a:b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Иванович Глинк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2880" y="1371600"/>
            <a:ext cx="4191120" cy="31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Пётр 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 Ильич Чайковски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&amp;Pcy;&amp;iecy;&amp;tcy;&amp;rcy; &amp;Icy;&amp;lcy;&amp;softcy;&amp;icy;&amp;chcy; &amp;CHcy;&amp;acy;&amp;jcy;&amp;kcy;&amp;ocy;&amp;vcy;&amp;scy;&amp;kcy;&amp;icy;&amp;jcy;"/>
          <p:cNvPicPr/>
          <p:nvPr/>
        </p:nvPicPr>
        <p:blipFill>
          <a:blip r:embed="rId1"/>
          <a:stretch/>
        </p:blipFill>
        <p:spPr>
          <a:xfrm>
            <a:off x="228600" y="304920"/>
            <a:ext cx="4695840" cy="6248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120" y="685800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81120" y="2285640"/>
            <a:ext cx="39625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Франц</a:t>
            </a:r>
            <a:br>
              <a:rPr sz="6600"/>
            </a:b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  Шуберт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6" descr="shubert_1"/>
          <p:cNvPicPr/>
          <p:nvPr/>
        </p:nvPicPr>
        <p:blipFill>
          <a:blip r:embed="rId1"/>
          <a:stretch/>
        </p:blipFill>
        <p:spPr>
          <a:xfrm>
            <a:off x="380880" y="304920"/>
            <a:ext cx="440532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91960"/>
            <a:ext cx="8915400" cy="588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Итог  урок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ногие  песни, романсы, инструментальные  пьесы  (песни  без  слов, баркаролы и др.) </a:t>
            </a:r>
            <a:br>
              <a:rPr sz="3600"/>
            </a:b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являются  лирическими  зарисовкам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них композиторы передают свои  чувства и мысли, впечатления и настро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91960"/>
            <a:ext cx="9220320" cy="58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ногообразие чувств и мыслей, переданных в  них, мелодичность, певучесть и удивительная красота позволяют слушателям воспринимать эту 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инструментальную  музыку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как  выразительную  речь, убедительное  высказывание, исповедь души  челове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58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Vocalis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(в  переводе  с  итальянского)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«гласный», «звучный», «певучий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917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Вокализ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 это  упражнение,    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исполняющееся  на  гласный  звук,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для  развития  выразительности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голоса  и  виртуозной  техники  певц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4114800" cy="5638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Вокализ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– это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онцертное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произведение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ля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ения  с  инструментальным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сопровождение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3809880" y="457200"/>
            <a:ext cx="533412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57440" y="2514240"/>
            <a:ext cx="38862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. В. Рахманинов</a:t>
            </a: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495324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Песня  без  слов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это небольшая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нструментальная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ьеса  лирического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характер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IMAGE0006"/>
          <p:cNvPicPr/>
          <p:nvPr/>
        </p:nvPicPr>
        <p:blipFill>
          <a:blip r:embed="rId1"/>
          <a:stretch/>
        </p:blipFill>
        <p:spPr>
          <a:xfrm>
            <a:off x="518148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381880" cy="618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Песня  без  слов </a:t>
            </a:r>
            <a:br>
              <a:rPr sz="4400"/>
            </a:b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имеет  другие названия: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мелодия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ария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романс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серен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280" y="5714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«Итальянский  пейзаж»  А. Мордвинов (русский  художник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IMAGE0002"/>
          <p:cNvPicPr/>
          <p:nvPr/>
        </p:nvPicPr>
        <p:blipFill>
          <a:blip r:embed="rId1"/>
          <a:stretch/>
        </p:blipFill>
        <p:spPr>
          <a:xfrm>
            <a:off x="0" y="0"/>
            <a:ext cx="9144000" cy="5740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655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Жанр  баркаролы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это  песня  на  воде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одина  этого  жанра – Италия.</a:t>
            </a:r>
            <a:br>
              <a:rPr sz="3600"/>
            </a:br>
            <a:br>
              <a:rPr sz="36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Barka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в переводе с итал.)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это  лодка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495680" y="0"/>
            <a:ext cx="464832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IMAGE0003"/>
          <p:cNvPicPr/>
          <p:nvPr/>
        </p:nvPicPr>
        <p:blipFill>
          <a:blip r:embed="rId1"/>
          <a:stretch/>
        </p:blipFill>
        <p:spPr>
          <a:xfrm>
            <a:off x="4506840" y="0"/>
            <a:ext cx="4637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6-24T01:18:27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