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A938A-D558-455E-A005-862A400D16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518EE-B96A-4807-8228-401F3144B8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985FA3-7C4E-4945-BC64-3C29799FE2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99826-AE81-493E-8966-601C39AA14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E9CFC-CEF8-4A15-8699-B2141D1D3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6810B-3F58-4589-AD4F-0B65763C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03D1-CB9C-4FD0-ABE1-1E084CB61D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C624C-87F9-4A00-8067-FBE79D1D02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C07543-8E5E-4841-A619-64425082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61A6B-C116-4F44-B4ED-4FBDD7E4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016779-C16F-4693-9B34-1850CA1C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F26F9-7B19-4D8E-8AD9-90BE686D7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3DD694-9602-42A4-8A54-9FE608A1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45FD5C-466D-48A0-9CD1-E47BC286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73FF-BC3D-410F-918F-FA9D1A152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92F066-79F7-4DD0-920F-913E42E9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1AED8-14A9-41B2-9BBC-D5A919326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E77DB-B70D-447C-BE0C-716131EF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5EE08-BD39-400A-AEF6-057BF1A9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3727B-73C6-4A60-9DC1-246E4835B4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9A54B-A275-4A30-920B-EAF75BC7D8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B202-C12C-4761-B26F-9602F863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2CDC-D824-4DB9-9F25-E2AFEBBC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10BB-D41F-4A33-B28E-DDDF8AAD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86AED-0C83-49C5-9928-D4BAD3EE4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6EB33-E5D6-4E80-A7A6-7A6EB77F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3891-4512-41AB-A70D-57FEEF10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A7C8-ED0B-4D39-AFB8-764B192AC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3066-B71A-46C4-83E4-D047C8D41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002D-6705-40B0-B1EB-BF428EFA2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718A-7DFF-4141-AB47-E44869AD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D6F3-2D99-467B-B6DA-C57D38C8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7EAF-4234-4896-A605-F5593F0812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ACFA6-4666-4F38-8B4D-081F2B5E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986F-D29D-4586-9FE4-3D72DC17D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3053-58E8-496D-9D14-19C6A77C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687EE-AC65-460C-A73C-5BF394EB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9C70A-4521-4A67-B7B8-E983BA76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DCB1-663C-41B2-B881-9BC63C73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4D0A4-4FBA-4824-92DD-B1C76E128C81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6AEC45-4972-4ABC-BDD3-BCD9328B896A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84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4000"/>
          </a:bodyPr>
          <a:p>
            <a:pPr marL="478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CF12C4-E9FD-4E76-A470-DCC92AD1C2DE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0804C-BD65-4E4B-B43D-6B6260B07E94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4D5B3-6DB9-468B-8BBC-2FAA5BA78AED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C05C5-C354-4763-AE5E-7FACE0EB22BB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едметно-развивающая среда              в детском саду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нижный уго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240" y="3429000"/>
            <a:ext cx="5721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МБДОУ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«Детский сад № 109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имофеева О.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2"/>
          <p:cNvSpPr/>
          <p:nvPr/>
        </p:nvSpPr>
        <p:spPr>
          <a:xfrm>
            <a:off x="1332000" y="260280"/>
            <a:ext cx="6912000" cy="54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Я – патрио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Цель: приобщать дошкольников к культурным, эстетическим ценностям, побуждать к творческой деятельности, воспитывать любовь к родному краю, горо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В патриотическо – нравственный уголок вход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Государственная символ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портреты: президента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символика города Энгель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книги знакомящие наших детей с историей нашей родины, с современной жизн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191966"/>
                </a:solidFill>
                <a:latin typeface="Arial"/>
              </a:rPr>
              <a:t>                   </a:t>
            </a:r>
            <a:r>
              <a:rPr b="0" i="1" lang="ru-RU" sz="4400" spc="-1" strike="noStrike">
                <a:solidFill>
                  <a:srgbClr val="191966"/>
                </a:solidFill>
                <a:latin typeface="Arial"/>
              </a:rPr>
              <a:t>Я – патрио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Объект 4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696000" cy="5015160"/>
          </a:xfrm>
          <a:prstGeom prst="rect">
            <a:avLst/>
          </a:prstGeom>
          <a:ln w="0">
            <a:noFill/>
          </a:ln>
        </p:spPr>
      </p:pic>
      <p:sp>
        <p:nvSpPr>
          <p:cNvPr id="157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8840F-8BB1-4CA7-8F15-322809E12EBC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2"/>
          <p:cNvSpPr/>
          <p:nvPr/>
        </p:nvSpPr>
        <p:spPr>
          <a:xfrm>
            <a:off x="1403280" y="260280"/>
            <a:ext cx="316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3628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4400" spc="-1" strike="noStrike">
                <a:solidFill>
                  <a:srgbClr val="191966"/>
                </a:solidFill>
                <a:latin typeface="Arial"/>
              </a:rPr>
              <a:t>Тематические выставки</a:t>
            </a:r>
            <a:br>
              <a:rPr sz="4400"/>
            </a:br>
            <a:r>
              <a:rPr b="0" i="1" lang="ru-RU" sz="2400" spc="-1" strike="noStrike">
                <a:solidFill>
                  <a:srgbClr val="191966"/>
                </a:solidFill>
                <a:latin typeface="Arial"/>
              </a:rPr>
              <a:t>Цель выставок: углубить литературные интересы детей;</a:t>
            </a:r>
            <a:br>
              <a:rPr sz="2400"/>
            </a:br>
            <a:r>
              <a:rPr b="0" i="1" lang="ru-RU" sz="2400" spc="-1" strike="noStrike">
                <a:solidFill>
                  <a:srgbClr val="191966"/>
                </a:solidFill>
                <a:latin typeface="Arial"/>
              </a:rPr>
              <a:t>- сделать для дошкольников особо значимой ту или иную литературную или общественную 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Объект 4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4032000" cy="4105080"/>
          </a:xfrm>
          <a:prstGeom prst="rect">
            <a:avLst/>
          </a:prstGeom>
          <a:ln w="0">
            <a:noFill/>
          </a:ln>
        </p:spPr>
      </p:pic>
      <p:pic>
        <p:nvPicPr>
          <p:cNvPr id="162" name="Объект 5" descr=""/>
          <p:cNvPicPr/>
          <p:nvPr/>
        </p:nvPicPr>
        <p:blipFill>
          <a:blip r:embed="rId3"/>
          <a:stretch/>
        </p:blipFill>
        <p:spPr>
          <a:xfrm>
            <a:off x="4788000" y="2276640"/>
            <a:ext cx="4176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2"/>
          <p:cNvSpPr/>
          <p:nvPr/>
        </p:nvSpPr>
        <p:spPr>
          <a:xfrm>
            <a:off x="324000" y="260280"/>
            <a:ext cx="8640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Работа педагога с детьми в книжном угол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Times New Roman"/>
              </a:rPr>
              <a:t>Учит самостоятельному сосредоточению, общению с книг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Times New Roman"/>
              </a:rPr>
              <a:t>Способствует совместному рассматриванию и обсуждению. Общение воспитателя и ребенка носит теплый, доверительный харак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Times New Roman"/>
              </a:rPr>
              <a:t>Формирует умение воспринимать книгу в единстве словесного и изобразительного искус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2"/>
          <p:cNvSpPr/>
          <p:nvPr/>
        </p:nvSpPr>
        <p:spPr>
          <a:xfrm>
            <a:off x="324000" y="260280"/>
            <a:ext cx="864072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Работа педагога с детьми в книжном угол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67" name="Объект 11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4248360" cy="4319640"/>
          </a:xfrm>
          <a:prstGeom prst="rect">
            <a:avLst/>
          </a:prstGeom>
          <a:ln w="0">
            <a:noFill/>
          </a:ln>
        </p:spPr>
      </p:pic>
      <p:pic>
        <p:nvPicPr>
          <p:cNvPr id="168" name="Объект 12" descr=""/>
          <p:cNvPicPr/>
          <p:nvPr/>
        </p:nvPicPr>
        <p:blipFill>
          <a:blip r:embed="rId3"/>
          <a:stretch/>
        </p:blipFill>
        <p:spPr>
          <a:xfrm>
            <a:off x="4643280" y="2133720"/>
            <a:ext cx="4249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2"/>
          <p:cNvSpPr/>
          <p:nvPr/>
        </p:nvSpPr>
        <p:spPr>
          <a:xfrm>
            <a:off x="324000" y="260280"/>
            <a:ext cx="8640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Работа по созданию книжки- самоде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71" name="Объект 3" descr=""/>
          <p:cNvPicPr/>
          <p:nvPr/>
        </p:nvPicPr>
        <p:blipFill>
          <a:blip r:embed="rId2"/>
          <a:stretch/>
        </p:blipFill>
        <p:spPr>
          <a:xfrm>
            <a:off x="179280" y="1604880"/>
            <a:ext cx="4032360" cy="4488120"/>
          </a:xfrm>
          <a:prstGeom prst="rect">
            <a:avLst/>
          </a:prstGeom>
          <a:ln w="0">
            <a:noFill/>
          </a:ln>
        </p:spPr>
      </p:pic>
      <p:pic>
        <p:nvPicPr>
          <p:cNvPr id="172" name="Объект 8" descr=""/>
          <p:cNvPicPr/>
          <p:nvPr/>
        </p:nvPicPr>
        <p:blipFill>
          <a:blip r:embed="rId3"/>
          <a:stretch/>
        </p:blipFill>
        <p:spPr>
          <a:xfrm>
            <a:off x="4572000" y="1604880"/>
            <a:ext cx="410364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0" y="511812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Arial"/>
              </a:rPr>
              <a:t>Главной задачей педагогов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Объект 8" descr=""/>
          <p:cNvPicPr/>
          <p:nvPr/>
        </p:nvPicPr>
        <p:blipFill>
          <a:blip r:embed="rId2"/>
          <a:stretch/>
        </p:blipFill>
        <p:spPr>
          <a:xfrm>
            <a:off x="4248000" y="476280"/>
            <a:ext cx="4896000" cy="5853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640" y="1434600"/>
            <a:ext cx="3600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191966"/>
                </a:solidFill>
                <a:latin typeface="Calibri"/>
              </a:rPr>
              <a:t>Привитие детям любви к художественному слову, уважения к книге, развитие стремления общаться с ней, т.е. всего того, что составляет фундамент воспитания будущего «Талантливого читател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Monotype Corsiva"/>
              </a:rPr>
              <a:t>Благодарю за внимание!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Monotype Corsiva"/>
              </a:rPr>
              <a:t>Желаю успеха в профессиональной деятельности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Объект 6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4087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2"/>
          <p:cNvSpPr/>
          <p:nvPr/>
        </p:nvSpPr>
        <p:spPr>
          <a:xfrm>
            <a:off x="539640" y="189000"/>
            <a:ext cx="8064720" cy="46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664d"/>
                </a:solidFill>
                <a:latin typeface="Monotype Corsiva"/>
              </a:rPr>
              <a:t>Книжный уго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3200" spc="-1" strike="noStrike">
                <a:solidFill>
                  <a:srgbClr val="191966"/>
                </a:solidFill>
                <a:latin typeface="Arial"/>
              </a:rPr>
              <a:t>В дошкольном учреждении не только необходимый элемент предметной среды. Это форма распространения информации о книгах, их авторах и иллюстраторах, способствующая привыканию детей к образу книги, возбуждающая интерес к ней, желание рассмотреть и прочесть 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8640" y="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664d"/>
                </a:solidFill>
                <a:latin typeface="Monotype Corsiva"/>
              </a:rPr>
              <a:t>Основные цели книжного угол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458640" y="1268280"/>
            <a:ext cx="8001000" cy="40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Times New Roman"/>
              </a:rPr>
              <a:t>развитие познавательных и творческих способностей детей средствами детской художественной литера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Times New Roman"/>
              </a:rPr>
              <a:t>удовлетворение разнообразных литературных интересов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Times New Roman"/>
              </a:rPr>
              <a:t>формирование у дошкольников интереса к художественной литерату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Times New Roman"/>
              </a:rPr>
              <a:t>создание психологически комфортных условий в соответствии с возрастными и индивидуальными особенностями детей в груп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664d"/>
                </a:solidFill>
                <a:latin typeface="Arial"/>
              </a:rPr>
              <a:t>Организация книжного уголк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11280" y="141264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Содержание определяется изменениями в литературном развитии детей, которые происходят к 5 годам. Книга становится важной частью духовной жизни детей, у них появляются литературные пристрастия, выраженные индивидуальные пристрас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Принцип организации – удовлетворение многообразных интересов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2"/>
          <p:cNvSpPr/>
          <p:nvPr/>
        </p:nvSpPr>
        <p:spPr>
          <a:xfrm>
            <a:off x="1332000" y="260280"/>
            <a:ext cx="6840360" cy="39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4000" spc="-1" strike="noStrike">
                <a:solidFill>
                  <a:srgbClr val="00664d"/>
                </a:solidFill>
                <a:latin typeface="Times New Roman"/>
              </a:rPr>
              <a:t>Зоны книжного уго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3600" spc="-1" strike="noStrike">
                <a:solidFill>
                  <a:srgbClr val="191966"/>
                </a:solidFill>
                <a:latin typeface="Times New Roman"/>
              </a:rPr>
              <a:t>Библиот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3600" spc="-1" strike="noStrike">
                <a:solidFill>
                  <a:srgbClr val="191966"/>
                </a:solidFill>
                <a:latin typeface="Times New Roman"/>
              </a:rPr>
              <a:t>В гостях у сказ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3600" spc="-1" strike="noStrike">
                <a:solidFill>
                  <a:srgbClr val="191966"/>
                </a:solidFill>
                <a:latin typeface="Times New Roman"/>
              </a:rPr>
              <a:t>Хочу все зн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3600" spc="-1" strike="noStrike">
                <a:solidFill>
                  <a:srgbClr val="191966"/>
                </a:solidFill>
                <a:latin typeface="Times New Roman"/>
              </a:rPr>
              <a:t>Я- патрио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3600" spc="-1" strike="noStrike">
                <a:solidFill>
                  <a:srgbClr val="191966"/>
                </a:solidFill>
                <a:latin typeface="Times New Roman"/>
              </a:rPr>
              <a:t>Тематические выстав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4440" y="0"/>
            <a:ext cx="805356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85840" indent="-285840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2d2db9"/>
                </a:solidFill>
                <a:latin typeface="Arial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2d2db9"/>
                </a:solidFill>
                <a:latin typeface="Arial"/>
              </a:rPr>
              <a:t>Библиотека</a:t>
            </a:r>
            <a:br>
              <a:rPr sz="32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2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Цель: приобщение детей к книге, воспитание интереса к чтению, формирование будущего читателя.</a:t>
            </a:r>
            <a:br>
              <a:rPr sz="2000"/>
            </a:br>
            <a:r>
              <a:rPr b="0" lang="ru-RU" sz="2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- произведения разных жанров (рассказы, повести, поэмы, сказки в прозе и стихах, лирические и шуточные стихи, загадки).</a:t>
            </a:r>
            <a:br>
              <a:rPr sz="2000"/>
            </a:br>
            <a:r>
              <a:rPr b="0" lang="ru-RU" sz="2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- произведения разной тематики (детская жизнь, игры, забавы, игрушки, шалости;</a:t>
            </a:r>
            <a:br>
              <a:rPr sz="2000"/>
            </a:br>
            <a:r>
              <a:rPr b="0" lang="ru-RU" sz="2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- события общественной жизни, труд людей;</a:t>
            </a:r>
            <a:br>
              <a:rPr sz="2000"/>
            </a:br>
            <a:r>
              <a:rPr b="0" lang="ru-RU" sz="2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- картины природы, экологические проблемы.</a:t>
            </a:r>
            <a:br>
              <a:rPr sz="2000"/>
            </a:br>
            <a:r>
              <a:rPr b="0" lang="ru-RU" sz="2000" spc="-1" strike="noStrike">
                <a:solidFill>
                  <a:srgbClr val="1919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Объект 6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4321440" cy="3744720"/>
          </a:xfrm>
          <a:prstGeom prst="rect">
            <a:avLst/>
          </a:prstGeom>
          <a:ln w="0">
            <a:noFill/>
          </a:ln>
        </p:spPr>
      </p:pic>
      <p:pic>
        <p:nvPicPr>
          <p:cNvPr id="145" name="Объект 5" descr=""/>
          <p:cNvPicPr/>
          <p:nvPr/>
        </p:nvPicPr>
        <p:blipFill>
          <a:blip r:embed="rId2"/>
          <a:stretch/>
        </p:blipFill>
        <p:spPr>
          <a:xfrm>
            <a:off x="203040" y="2997360"/>
            <a:ext cx="4176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77040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                                          </a:t>
            </a:r>
            <a:r>
              <a:rPr b="1" i="1" lang="ru-RU" sz="2400" spc="-1" strike="noStrike">
                <a:solidFill>
                  <a:srgbClr val="00664d"/>
                </a:solidFill>
                <a:latin typeface="Arial"/>
              </a:rPr>
              <a:t>В Гостях у сказки</a:t>
            </a:r>
            <a:br>
              <a:rPr sz="2400"/>
            </a:br>
            <a:br>
              <a:rPr sz="2400"/>
            </a:b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общать ребенка к чтению художественной литературы в процессе знакомства со сказками. Воспитывать любовь к фольклорному творчеству – любовь к сказке.</a:t>
            </a:r>
            <a:br>
              <a:rPr sz="2000"/>
            </a:b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русские народные сказки;</a:t>
            </a:r>
            <a:br>
              <a:rPr sz="2000"/>
            </a:b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произведения русской и зарубежной классики (А.С.Пушкина, К.Д.Ушинского, Н.А.Некрасова, Л.Н.Толстого, Ф.И.Тютчева, Г.Х.Андерсена, Ш.Перро и др.)</a:t>
            </a:r>
            <a:br>
              <a:rPr sz="2000"/>
            </a:b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произведения современной отечественной литературы (В.В.Маяковского, С.Я.Маршака, К.И.Чуковского, С.В.Михалкова, М.М.Пришвина, Е.И.Чарушина, А.Барто, В.В.Бианки.</a:t>
            </a:r>
            <a:br>
              <a:rPr sz="2000"/>
            </a:br>
            <a:br>
              <a:rPr sz="20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2"/>
          <p:cNvSpPr/>
          <p:nvPr/>
        </p:nvSpPr>
        <p:spPr>
          <a:xfrm>
            <a:off x="1332000" y="260280"/>
            <a:ext cx="684036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4000" spc="-1" strike="noStrike">
                <a:solidFill>
                  <a:srgbClr val="00664d"/>
                </a:solidFill>
                <a:latin typeface="Times New Roman"/>
              </a:rPr>
              <a:t>В гостях у ска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Объект 8" descr=""/>
          <p:cNvPicPr/>
          <p:nvPr/>
        </p:nvPicPr>
        <p:blipFill>
          <a:blip r:embed="rId2"/>
          <a:stretch/>
        </p:blipFill>
        <p:spPr>
          <a:xfrm>
            <a:off x="1763640" y="1459080"/>
            <a:ext cx="58327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2"/>
          <p:cNvSpPr/>
          <p:nvPr/>
        </p:nvSpPr>
        <p:spPr>
          <a:xfrm>
            <a:off x="1332000" y="260280"/>
            <a:ext cx="69120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Хочу все зна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Цель: познавать информацию из разнообразных сфер жизни, логически рассуждать, фантазировать и радоваться процессу п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детские энциклопедии, книги о животных, о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произведения фольклора (песенки, потешки, пословицы, поговорки, небылицы, загад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портреты детских пис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д</dc:creator>
  <dc:description/>
  <dc:language>en-US</dc:language>
  <cp:lastModifiedBy>Оля</cp:lastModifiedBy>
  <dcterms:modified xsi:type="dcterms:W3CDTF">2017-11-20T13:14:20Z</dcterms:modified>
  <cp:revision>1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1</vt:r8>
  </property>
</Properties>
</file>