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81B8-CBE5-4FA8-87FE-14D9CF4F17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F99C-944E-4AB6-A388-E5D38BFC30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A8EB-766B-4789-A5D9-F309D0169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BE9F-0499-4959-BF03-7CF7F6A32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2045-AA47-44A9-B8F1-8659FEDA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2CF-5EA1-4972-9C01-2532AD2C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36D7-C83E-4174-A5DB-56ACC40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3AD2-81ED-4416-9A4C-EB1652C8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DF7F-6360-4A00-9F96-A88CAA89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6199-9354-4217-815F-92F191CC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1017-9504-4772-A07A-89E416FE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7053-C187-4090-BEAF-181709F8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4AC4-D0AC-44DB-A8FB-F519CCCE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45B-D03E-4F7A-839F-C97C6C32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C516-8BB0-4591-8869-BC77943E85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funlib.ru/cimg/2014/102419/5825695"/>
          <p:cNvPicPr/>
          <p:nvPr/>
        </p:nvPicPr>
        <p:blipFill>
          <a:blip r:embed="rId2"/>
          <a:stretch/>
        </p:blipFill>
        <p:spPr>
          <a:xfrm>
            <a:off x="7180200" y="5202360"/>
            <a:ext cx="1963800" cy="16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88.img.avito.st/640x480/1676341488.jpg"/>
          <p:cNvPicPr/>
          <p:nvPr/>
        </p:nvPicPr>
        <p:blipFill>
          <a:blip r:embed="rId3"/>
          <a:srcRect l="0" t="0" r="0" b="8275"/>
          <a:stretch/>
        </p:blipFill>
        <p:spPr>
          <a:xfrm>
            <a:off x="7115040" y="0"/>
            <a:ext cx="202896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3" descr=""/>
          <p:cNvPicPr/>
          <p:nvPr/>
        </p:nvPicPr>
        <p:blipFill>
          <a:blip r:embed="rId4"/>
          <a:stretch/>
        </p:blipFill>
        <p:spPr>
          <a:xfrm>
            <a:off x="0" y="0"/>
            <a:ext cx="8035920" cy="280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29718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Times New Roman"/>
              </a:rPr>
              <a:t>Эпиграф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Times New Roman"/>
              </a:rPr>
              <a:t>«Мало уметь писать, надо уметь дума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Заголовок 3" descr=""/>
          <p:cNvPicPr/>
          <p:nvPr/>
        </p:nvPicPr>
        <p:blipFill>
          <a:blip r:embed="rId5"/>
          <a:stretch/>
        </p:blipFill>
        <p:spPr>
          <a:xfrm>
            <a:off x="0" y="0"/>
            <a:ext cx="8035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071013144031.jpg"/>
          <p:cNvPicPr/>
          <p:nvPr/>
        </p:nvPicPr>
        <p:blipFill>
          <a:blip r:embed="rId2"/>
          <a:stretch/>
        </p:blipFill>
        <p:spPr>
          <a:xfrm>
            <a:off x="179280" y="40464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820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341360"/>
            <a:ext cx="79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8162c"/>
                </a:solidFill>
                <a:uFillTx/>
                <a:latin typeface="Times New Roman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«Главные члены предлож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Второстепенные члены предлож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funlib.ru/cimg/2014/102419/5825695"/>
          <p:cNvPicPr/>
          <p:nvPr/>
        </p:nvPicPr>
        <p:blipFill>
          <a:blip r:embed="rId2"/>
          <a:stretch/>
        </p:blipFill>
        <p:spPr>
          <a:xfrm>
            <a:off x="7180200" y="5202360"/>
            <a:ext cx="196380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88.img.avito.st/640x480/1676341488.jpg"/>
          <p:cNvPicPr/>
          <p:nvPr/>
        </p:nvPicPr>
        <p:blipFill>
          <a:blip r:embed="rId3"/>
          <a:srcRect l="0" t="0" r="0" b="8275"/>
          <a:stretch/>
        </p:blipFill>
        <p:spPr>
          <a:xfrm>
            <a:off x="7115040" y="0"/>
            <a:ext cx="2028960" cy="206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funlib.ru/cimg/2014/102419/5825695"/>
          <p:cNvPicPr/>
          <p:nvPr/>
        </p:nvPicPr>
        <p:blipFill>
          <a:blip r:embed="rId4"/>
          <a:stretch/>
        </p:blipFill>
        <p:spPr>
          <a:xfrm>
            <a:off x="7180200" y="520236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88.img.avito.st/640x480/1676341488.jpg"/>
          <p:cNvPicPr/>
          <p:nvPr/>
        </p:nvPicPr>
        <p:blipFill>
          <a:blip r:embed="rId2"/>
          <a:srcRect l="0" t="0" r="0" b="8275"/>
          <a:stretch/>
        </p:blipFill>
        <p:spPr>
          <a:xfrm>
            <a:off x="7115040" y="0"/>
            <a:ext cx="202896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52360" y="189000"/>
            <a:ext cx="9072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162c"/>
                </a:solidFill>
                <a:latin typeface="Times New Roman"/>
              </a:rPr>
              <a:t>Цель урока:</a:t>
            </a: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-Закреплять умение наход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в предложении главные 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второстепенные</a:t>
            </a:r>
            <a:r>
              <a:rPr b="1" lang="en-US" sz="4400" spc="-1" strike="noStrike" u="sng">
                <a:solidFill>
                  <a:srgbClr val="f8162c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члены предложени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-Учить находить зависимость меж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словами в предложен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с помощью вопр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349200"/>
            <a:ext cx="813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центре усадьбы расту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устые кусты жасмина. За ни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рошо ухаживают садовники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ни разрослись и раду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ры посетител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ти в каждом из них ле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ивут и гнездятся птицы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1341360"/>
            <a:ext cx="17290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1197000"/>
            <a:ext cx="17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1916280"/>
            <a:ext cx="1366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565360"/>
            <a:ext cx="23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2565360"/>
            <a:ext cx="22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27082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321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321300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33577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5300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373720"/>
            <a:ext cx="201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522936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5300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544500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92360" y="1628640"/>
            <a:ext cx="17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1484280"/>
            <a:ext cx="17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484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981000"/>
            <a:ext cx="136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98100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1484280"/>
            <a:ext cx="151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уровень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заметно зажглась на небе тонкая полоска зари. Она всё сильнее разгоралась. Утренний вете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умел в верхушках берёз. Тонким перезво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озвались ему высокие сосн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уровень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л</a:t>
            </a:r>
            <a:r>
              <a:rPr b="0" lang="en-US" sz="3200" spc="-1" strike="noStrike">
                <a:solidFill>
                  <a:srgbClr val="f8162c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ого ручейка весело играют см</a:t>
            </a:r>
            <a:r>
              <a:rPr b="0" lang="en-US" sz="3200" spc="-1" strike="noStrike">
                <a:solidFill>
                  <a:srgbClr val="f8162c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ные медвежата. В лесу на ивовых веточ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пустились шелковистые пуховк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б</a:t>
            </a:r>
            <a:r>
              <a:rPr b="0" lang="en-US" sz="3200" spc="-1" strike="noStrike">
                <a:solidFill>
                  <a:srgbClr val="f8162c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али по кочкам хлопотливые муравьи. Над весенними цв</a:t>
            </a:r>
            <a:r>
              <a:rPr b="0" lang="en-US" sz="3200" spc="-1" strike="noStrike">
                <a:solidFill>
                  <a:srgbClr val="f8162c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м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хает первая бабоч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112536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98900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13372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2492280"/>
            <a:ext cx="129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2421000"/>
            <a:ext cx="17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256536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393372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3429000"/>
            <a:ext cx="122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573360"/>
            <a:ext cx="136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4508640"/>
            <a:ext cx="158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508640"/>
            <a:ext cx="22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653000"/>
            <a:ext cx="22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5084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01336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15772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58972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566100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580536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97000"/>
            <a:ext cx="91440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. </a:t>
            </a: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 Сегодня на уроке  я   повторил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2. Я знаю, что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3.  Было   трудно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4.  Меня удивило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5. Мне захотелось рассказать об этом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88.img.avito.st/640x480/1676341488.jpg"/>
          <p:cNvPicPr/>
          <p:nvPr/>
        </p:nvPicPr>
        <p:blipFill>
          <a:blip r:embed="rId2"/>
          <a:srcRect l="0" t="0" r="0" b="8275"/>
          <a:stretch/>
        </p:blipFill>
        <p:spPr>
          <a:xfrm>
            <a:off x="6948360" y="4581360"/>
            <a:ext cx="2028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816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Calibri"/>
              </a:rPr>
              <a:t>Учебник страница 62, упражнение 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816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Calibri"/>
              </a:rPr>
              <a:t>Узелки на память на странице 58-60 повторя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162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88.img.avito.st/640x480/1676341488.jpg"/>
          <p:cNvPicPr/>
          <p:nvPr/>
        </p:nvPicPr>
        <p:blipFill>
          <a:blip r:embed="rId2"/>
          <a:srcRect l="0" t="0" r="0" b="8275"/>
          <a:stretch/>
        </p:blipFill>
        <p:spPr>
          <a:xfrm>
            <a:off x="7115040" y="4797360"/>
            <a:ext cx="2028960" cy="2060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funlib.ru/cimg/2014/102419/5825695"/>
          <p:cNvPicPr/>
          <p:nvPr/>
        </p:nvPicPr>
        <p:blipFill>
          <a:blip r:embed="rId3"/>
          <a:stretch/>
        </p:blipFill>
        <p:spPr>
          <a:xfrm>
            <a:off x="3419640" y="4508640"/>
            <a:ext cx="237636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rot="9177000">
            <a:off x="251640" y="4750560"/>
            <a:ext cx="253836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 rot="2157600">
            <a:off x="7093080" y="476280"/>
            <a:ext cx="1695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1042920" y="2276640"/>
            <a:ext cx="7489800" cy="43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4" descr="C:\Documents and Settings\Admin\Рабочий стол\пушкин1\image001.jpg"/>
          <p:cNvPicPr/>
          <p:nvPr/>
        </p:nvPicPr>
        <p:blipFill>
          <a:blip r:embed="rId4"/>
          <a:stretch/>
        </p:blipFill>
        <p:spPr>
          <a:xfrm>
            <a:off x="2268360" y="0"/>
            <a:ext cx="4435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Максим</cp:lastModifiedBy>
  <dcterms:modified xsi:type="dcterms:W3CDTF">2017-10-09T19:16:29Z</dcterms:modified>
  <cp:revision>82</cp:revision>
  <dc:subject/>
  <dc:title>Слайд 1</dc:title>
</cp:coreProperties>
</file>