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9723-3A48-47BE-97F2-30EBC154EB4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B46-F103-4EF9-96BB-7FE53248EE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D5A5-D26A-4BDB-A4DE-69459B69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4CE8-FE89-4EB5-ADB8-5C19DA7C2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76C2-125A-4907-9FE1-63CD1D64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4FE6-160E-4D9B-940B-8243E0D9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944-8B74-4D80-825F-39334571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5857-C1B2-4CAC-8B3B-0A8E37D4D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3566-BCE9-4BA3-83B5-371E2168F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B8CD-AC60-4D15-B6A0-254615B1C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BB41-328B-4319-B8CB-144CEE32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C305-B637-465A-B2D7-8638F8386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6730-681F-44E0-A3B6-5EC8B56A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4AA-0664-48B0-B168-F335739CF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F69E-4359-4BDA-9B4B-FA6865F11B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funlib.ru/cimg/2014/102419/5825695"/>
          <p:cNvPicPr/>
          <p:nvPr/>
        </p:nvPicPr>
        <p:blipFill>
          <a:blip r:embed="rId2"/>
          <a:stretch/>
        </p:blipFill>
        <p:spPr>
          <a:xfrm>
            <a:off x="7180200" y="5202360"/>
            <a:ext cx="1963800" cy="1655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http://88.img.avito.st/640x480/1676341488.jpg"/>
          <p:cNvPicPr/>
          <p:nvPr/>
        </p:nvPicPr>
        <p:blipFill>
          <a:blip r:embed="rId3"/>
          <a:srcRect l="0" t="0" r="0" b="8275"/>
          <a:stretch/>
        </p:blipFill>
        <p:spPr>
          <a:xfrm>
            <a:off x="7115040" y="0"/>
            <a:ext cx="2028960" cy="2060640"/>
          </a:xfrm>
          <a:prstGeom prst="rect">
            <a:avLst/>
          </a:prstGeom>
          <a:ln w="0">
            <a:noFill/>
          </a:ln>
        </p:spPr>
      </p:pic>
      <p:pic>
        <p:nvPicPr>
          <p:cNvPr id="50" name="Заголовок 3" descr=""/>
          <p:cNvPicPr/>
          <p:nvPr/>
        </p:nvPicPr>
        <p:blipFill>
          <a:blip r:embed="rId4"/>
          <a:stretch/>
        </p:blipFill>
        <p:spPr>
          <a:xfrm>
            <a:off x="0" y="0"/>
            <a:ext cx="8035920" cy="28083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68360" y="2971800"/>
            <a:ext cx="78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Times New Roman"/>
              </a:rPr>
              <a:t>Эпиграф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504d"/>
                </a:solidFill>
                <a:latin typeface="Times New Roman"/>
              </a:rPr>
              <a:t>«Мало уметь писать, надо уметь думат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Заголовок 3" descr=""/>
          <p:cNvPicPr/>
          <p:nvPr/>
        </p:nvPicPr>
        <p:blipFill>
          <a:blip r:embed="rId5"/>
          <a:stretch/>
        </p:blipFill>
        <p:spPr>
          <a:xfrm>
            <a:off x="0" y="0"/>
            <a:ext cx="80359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4" descr="071013144031.jpg"/>
          <p:cNvPicPr/>
          <p:nvPr/>
        </p:nvPicPr>
        <p:blipFill>
          <a:blip r:embed="rId2"/>
          <a:stretch/>
        </p:blipFill>
        <p:spPr>
          <a:xfrm>
            <a:off x="179280" y="404640"/>
            <a:ext cx="4873680" cy="5857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5"/>
          <p:cNvSpPr/>
          <p:nvPr/>
        </p:nvSpPr>
        <p:spPr>
          <a:xfrm>
            <a:off x="4989600" y="1714680"/>
            <a:ext cx="40114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Александ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Сергееви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Пушк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man Old Style"/>
              </a:rPr>
              <a:t>1799-18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048200" y="2368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68360" y="1341360"/>
            <a:ext cx="7920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8162c"/>
                </a:solidFill>
                <a:uFillTx/>
                <a:latin typeface="Times New Roman"/>
              </a:rPr>
              <a:t>Тема урока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«Главные члены предложения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Второстепенные члены предложен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http://www.funlib.ru/cimg/2014/102419/5825695"/>
          <p:cNvPicPr/>
          <p:nvPr/>
        </p:nvPicPr>
        <p:blipFill>
          <a:blip r:embed="rId2"/>
          <a:stretch/>
        </p:blipFill>
        <p:spPr>
          <a:xfrm>
            <a:off x="7180200" y="5202360"/>
            <a:ext cx="196380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ttp://88.img.avito.st/640x480/1676341488.jpg"/>
          <p:cNvPicPr/>
          <p:nvPr/>
        </p:nvPicPr>
        <p:blipFill>
          <a:blip r:embed="rId3"/>
          <a:srcRect l="0" t="0" r="0" b="8275"/>
          <a:stretch/>
        </p:blipFill>
        <p:spPr>
          <a:xfrm>
            <a:off x="7115040" y="0"/>
            <a:ext cx="2028960" cy="2060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www.funlib.ru/cimg/2014/102419/5825695"/>
          <p:cNvPicPr/>
          <p:nvPr/>
        </p:nvPicPr>
        <p:blipFill>
          <a:blip r:embed="rId4"/>
          <a:stretch/>
        </p:blipFill>
        <p:spPr>
          <a:xfrm>
            <a:off x="7180200" y="5202360"/>
            <a:ext cx="19638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88.img.avito.st/640x480/1676341488.jpg"/>
          <p:cNvPicPr/>
          <p:nvPr/>
        </p:nvPicPr>
        <p:blipFill>
          <a:blip r:embed="rId2"/>
          <a:srcRect l="0" t="0" r="0" b="8275"/>
          <a:stretch/>
        </p:blipFill>
        <p:spPr>
          <a:xfrm>
            <a:off x="7115040" y="0"/>
            <a:ext cx="2028960" cy="2060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-252360" y="189000"/>
            <a:ext cx="907236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162c"/>
                </a:solidFill>
                <a:latin typeface="Times New Roman"/>
              </a:rPr>
              <a:t>Цель урока:</a:t>
            </a: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-Закреплять умение находит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в предложении главные  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второстепенные</a:t>
            </a:r>
            <a:r>
              <a:rPr b="1" lang="en-US" sz="4400" spc="-1" strike="noStrike" u="sng">
                <a:solidFill>
                  <a:srgbClr val="f8162c"/>
                </a:solidFill>
                <a:uFillTx/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члены предложения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-Учить находить зависимость межд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словами в предложени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</a:rPr>
              <a:t>с помощью вопр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11280" y="349200"/>
            <a:ext cx="8137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 центре усадьбы расту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густые кусты жасмина. За ними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хорошо ухаживают садовники.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ни разрослись и радую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зоры посетителей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чти в каждом из них лет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живут и гнездятся птицы</a:t>
            </a:r>
            <a:r>
              <a:rPr b="0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4000" y="1341360"/>
            <a:ext cx="1729080" cy="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64000" y="119700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84360" y="1916280"/>
            <a:ext cx="13669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51640" y="2565360"/>
            <a:ext cx="2376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987640" y="2565360"/>
            <a:ext cx="22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87640" y="2708280"/>
            <a:ext cx="216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3213000"/>
            <a:ext cx="1008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321300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95640" y="335772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30064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5373720"/>
            <a:ext cx="2016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5229360"/>
            <a:ext cx="208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219640" y="5300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5445000"/>
            <a:ext cx="1440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492360" y="162864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360" y="148428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5280" y="1484280"/>
            <a:ext cx="720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588000" y="981000"/>
            <a:ext cx="136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195640" y="98100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380360" y="1484280"/>
            <a:ext cx="1512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6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уровень.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заметно зажглась на небе тонкая полоска зари. Она всё сильнее разгоралась. Утренний ветер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умел в верхушках берёз. Тонким перезвон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озвались ему высокие сосны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уровень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 л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ного ручейка весело играют см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шные медвежата. В лесу на ивовых веточка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пустились шелковистые пуховк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б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жали по кочкам хлопотливые муравьи. Над весенними цв</a:t>
            </a:r>
            <a:r>
              <a:rPr b="0" lang="en-US" sz="3200" spc="-1" strike="noStrike">
                <a:solidFill>
                  <a:srgbClr val="f8162c"/>
                </a:solidFill>
                <a:latin typeface="Times New Roman"/>
              </a:rPr>
              <a:t>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м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рхает первая бабочка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95640" y="1125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98900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133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2000" y="2492280"/>
            <a:ext cx="1296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50920" y="2421000"/>
            <a:ext cx="17290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79640" y="2565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933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435640" y="3429000"/>
            <a:ext cx="12254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573360"/>
            <a:ext cx="136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00720" y="4508640"/>
            <a:ext cx="158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32000" y="4508640"/>
            <a:ext cx="22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653000"/>
            <a:ext cx="2232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300720" y="508464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68360" y="5013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5157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32720" y="558972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95640" y="566100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67280" y="5805360"/>
            <a:ext cx="1728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1197000"/>
            <a:ext cx="914400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. </a:t>
            </a: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 Сегодня на уроке  я   повторил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2. Я знаю, что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3.  Было   трудно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4.  Меня удивило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162c"/>
                </a:solidFill>
                <a:latin typeface="Times New Roman"/>
              </a:rPr>
              <a:t>5. Мне захотелось рассказать об этом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c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http://88.img.avito.st/640x480/1676341488.jpg"/>
          <p:cNvPicPr/>
          <p:nvPr/>
        </p:nvPicPr>
        <p:blipFill>
          <a:blip r:embed="rId2"/>
          <a:srcRect l="0" t="0" r="0" b="8275"/>
          <a:stretch/>
        </p:blipFill>
        <p:spPr>
          <a:xfrm>
            <a:off x="6948360" y="4581360"/>
            <a:ext cx="202896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816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Calibri"/>
              </a:rPr>
              <a:t>Учебник страница 62, упражнение 9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f816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8162c"/>
                </a:solidFill>
                <a:latin typeface="Calibri"/>
              </a:rPr>
              <a:t>Узелки на память на странице 58-60 повторять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162c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4" descr="http://88.img.avito.st/640x480/1676341488.jpg"/>
          <p:cNvPicPr/>
          <p:nvPr/>
        </p:nvPicPr>
        <p:blipFill>
          <a:blip r:embed="rId2"/>
          <a:srcRect l="0" t="0" r="0" b="8275"/>
          <a:stretch/>
        </p:blipFill>
        <p:spPr>
          <a:xfrm>
            <a:off x="7115040" y="4797360"/>
            <a:ext cx="2028960" cy="2060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funlib.ru/cimg/2014/102419/5825695"/>
          <p:cNvPicPr/>
          <p:nvPr/>
        </p:nvPicPr>
        <p:blipFill>
          <a:blip r:embed="rId3"/>
          <a:stretch/>
        </p:blipFill>
        <p:spPr>
          <a:xfrm>
            <a:off x="3419640" y="4508640"/>
            <a:ext cx="2376360" cy="2160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 rot="9177000">
            <a:off x="251640" y="4750560"/>
            <a:ext cx="2538360" cy="1676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 rot="2157600">
            <a:off x="7093080" y="476280"/>
            <a:ext cx="169524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4"/>
          <p:cNvSpPr txBox="1"/>
          <p:nvPr/>
        </p:nvSpPr>
        <p:spPr>
          <a:xfrm>
            <a:off x="1042920" y="2276640"/>
            <a:ext cx="7489800" cy="43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4" descr="C:\Documents and Settings\Admin\Рабочий стол\пушкин1\image001.jpg"/>
          <p:cNvPicPr/>
          <p:nvPr/>
        </p:nvPicPr>
        <p:blipFill>
          <a:blip r:embed="rId4"/>
          <a:stretch/>
        </p:blipFill>
        <p:spPr>
          <a:xfrm>
            <a:off x="2268360" y="0"/>
            <a:ext cx="443556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16:26:05Z</dcterms:created>
  <dc:creator>Admin</dc:creator>
  <dc:description/>
  <dc:language>en-US</dc:language>
  <cp:lastModifiedBy>Максим</cp:lastModifiedBy>
  <dcterms:modified xsi:type="dcterms:W3CDTF">2017-10-09T19:16:29Z</dcterms:modified>
  <cp:revision>82</cp:revision>
  <dc:subject/>
  <dc:title>Слайд 1</dc:title>
</cp:coreProperties>
</file>