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F483B-8E94-44EC-B039-F3AFC8681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0111C-596E-48F7-9A20-3A8C29511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6A93D-2F88-4970-A6D6-75F520C00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921A4-C6D8-47A7-B571-0685C5B35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40DEB5-54C8-41BF-ADEA-F204E8B73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6BB1F2-EB4E-4325-8680-E36019EE1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4E66E3-524C-4A44-89F2-E129EEEBB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8B62C3-784A-41E6-9132-BA4F36637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5E9A9B-0FCC-44FD-891B-921D83A5B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07AB00-B700-49C3-A971-1247D6430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856073-9A3A-40AD-8A95-262297A0E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33BBF-889F-42D2-804B-00D14C39B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4E980B-B5C0-45BB-9089-63BC9C340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4075F6-259F-4DE2-8FD7-75041CA8F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5448F1-E58B-4A6E-A9C2-4021BDEF2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0A7EAE-8897-4508-830B-083CE6ADE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B6A0A1-7DE6-4062-A43A-88B891031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13847-F4F6-4763-B224-32284DFFF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DC4C7-1467-4B1B-8A1B-5E7C49638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3279B-F4A5-4F3E-AAB1-2730294BD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196DA-CD36-4B91-B323-20923A422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4B7A4-ECF6-4104-A5D2-FC99B9473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2E748-5819-4D13-9ECC-838AAE085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2DD8F-488C-4EF3-A9B4-04A0F0EEC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88FA1-03BF-42E5-9237-FA9BB35A09E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37BD3-E84A-4802-8FF0-CFDAC2DB57F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&#1089;&#1089;&#1099;&#1083;&#1082;&#1072;%201.doc" TargetMode="External"/><Relationship Id="rId2" Type="http://schemas.openxmlformats.org/officeDocument/2006/relationships/hyperlink" Target="file:///&#1089;&#1089;&#1099;&#1083;&#1082;&#1072;%201.doc" TargetMode="External"/><Relationship Id="rId3" Type="http://schemas.openxmlformats.org/officeDocument/2006/relationships/hyperlink" Target="file:///&#1089;&#1089;&#1099;&#1083;&#1082;&#1072;%201.doc" TargetMode="External"/><Relationship Id="rId4" Type="http://schemas.openxmlformats.org/officeDocument/2006/relationships/hyperlink" Target="file:///&#1089;&#1089;&#1099;&#1083;&#1082;&#1072;%202.doc" TargetMode="External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от я перед вами стою. Я одн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ы ждете какого-то слова и знань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А может, забавы. Мол, мы поглядим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Здесь львиная мощь или прыть обезьянья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Учитесь со мной, исправляйте со мно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вои неудачи, просчеты, тревог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едь мы же не клоуны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Но и не боги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И к знаниям путь - это путь непросто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Найдите множество значений функции: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y=3cos2x-5, y=(1/3) /sin7x/- (2/3)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y=(1/2) tg</a:t>
            </a:r>
            <a:r>
              <a:rPr b="0" lang="en-US" sz="36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x-3,  y=-2/ctg3x/+4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йдите наименьшее значение функци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колько целых значений имеет функция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2057400" y="3505320"/>
                <a:ext cx="3581280" cy="99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2057400" y="5181480"/>
                <a:ext cx="373392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Решите уравнения: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1219320" y="1600200"/>
                <a:ext cx="6933960" cy="403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t xml:space="preserve">)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(</m:t>
                            </m:r>
                            <m:r>
                              <m:t xml:space="preserve">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3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  <m:r>
                          <m:t xml:space="preserve">+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3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3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</m:e>
                        </m:rad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t xml:space="preserve">;</m:t>
                        </m:r>
                      </m:e>
                      <m:e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6</m:t>
                        </m:r>
                        <m:r>
                          <m:t xml:space="preserve">⋅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tgx</m:t>
                            </m:r>
                          </m:e>
                        </m:d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x</m:t>
                            </m:r>
                          </m:e>
                        </m:rad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t xml:space="preserve">x</m:t>
                                </m:r>
                              </m:e>
                            </m:d>
                          </m:den>
                        </m:f>
                        <m:r>
                          <m:t xml:space="preserve">;</m:t>
                        </m:r>
                      </m:e>
                      <m:e>
                        <m:r>
                          <m:t xml:space="preserve">3</m:t>
                        </m:r>
                        <m:r>
                          <m:t xml:space="preserve">)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tgx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8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;</m:t>
                        </m:r>
                      </m:e>
                      <m:e>
                        <m:r>
                          <m:t xml:space="preserve">4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x</m:t>
                        </m:r>
                        <m:r>
                          <m:t xml:space="preserve">⋅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cos</m:t>
                                    </m:r>
                                    <m:r>
                                      <m:t xml:space="preserve">x</m:t>
                                    </m:r>
                                    <m:r>
                                      <m:t xml:space="preserve">−</m:t>
                                    </m:r>
                                    <m:f>
                                      <m:num>
                                        <m:r>
                                          <m:t xml:space="preserve">1</m:t>
                                        </m:r>
                                      </m:num>
                                      <m:den>
                                        <m:r>
                                          <m:t xml:space="preserve">2</m:t>
                                        </m:r>
                                      </m:den>
                                    </m:f>
                                  </m:e>
                                </m:ra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Когда дела у нас не хорош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И день стоит ненастный и холодный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Да будет нам звездою путеводно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Высокая настроенность душ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Раскиснуть не давай себе. Глуш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Все слабости. Топи их с камнем в воду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Высокая настроенность души –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Вот то, что в мире делает погоду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Спасибо за урок!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98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Тема: </a:t>
            </a:r>
            <a:br>
              <a:rPr sz="5400"/>
            </a:b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«Свойства тригонометрических </a:t>
            </a:r>
            <a:br>
              <a:rPr sz="5400"/>
            </a:b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функций»</a:t>
            </a:r>
            <a:br>
              <a:rPr sz="5400"/>
            </a:b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Цель: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знать основные тригонометрическ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тождества и уметь применять их пр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реобразовании тригонометрически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ыражений и решении уравнений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уметь распознавать график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тригонометрических функций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уметь находить множество значени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тригонометрических функций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одготовка к краевой диагностической работе № 2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Основные тригонометрические формулы: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n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+cos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=1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g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=sin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/cos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; ctg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= cos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/sin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g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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ctg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=1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+tg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2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=1/cos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; 1+ctg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=1/sin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n2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=2sin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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s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s2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=cos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sin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=2cos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1=1-2sin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g2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=2tg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/(1-tg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2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Решение тригонометрических</a:t>
            </a:r>
            <a:br>
              <a:rPr sz="4000"/>
            </a:b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уравнений: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nx=a (0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)            sinx=-a (-1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0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x=(-1)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csin a+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,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x=(1)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n+1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csin a+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, n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Z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sx=a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0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)           cosx=-a (-1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0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x=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±arccos a+2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,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x=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±(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arccos a)+2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,n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Z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tgx=a (a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0)                   tgx=-a (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0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x=arctg a+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,              x=-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ctg a+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, n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Z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tgx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=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 (a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0)                 ctgx=-a (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0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x=arcctg a+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,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x=-arcctg a+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, n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Z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Устно: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cosx= 1,           2cosx= -1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x=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±(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/3)+2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, n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Z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x=±(2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/3)+2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, n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Z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sinx =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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,           2sinx=-1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x=(-1)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n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/3+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, n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Z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x=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-1)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n+1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/6+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, n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Z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gx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ru-RU" sz="2800" spc="-1" strike="noStrike">
                <a:solidFill>
                  <a:srgbClr val="ffffff"/>
                </a:solidFill>
                <a:latin typeface="Symbol"/>
                <a:ea typeface="Symbol"/>
              </a:rPr>
              <a:t>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,     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gx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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x=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/6+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, n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Z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x=-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/6+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, n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Z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tgx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= </a:t>
            </a:r>
            <a:r>
              <a:rPr b="0" lang="ru-RU" sz="2800" spc="-1" strike="noStrike">
                <a:solidFill>
                  <a:srgbClr val="ffffff"/>
                </a:solidFill>
                <a:latin typeface="Symbol"/>
                <a:ea typeface="Symbol"/>
              </a:rPr>
              <a:t>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,             ctgx=-1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/6+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, n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Z                 x=-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/4+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, n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Z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sx=2,                sinx=-4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ешений нет.              решений нет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0" y="0"/>
                <a:ext cx="447840" cy="20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3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0" y="0"/>
                <a:ext cx="447840" cy="20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Распознавание графиков тригонометрических функций.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График какой функции изображен на рисунке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80880" y="2286000"/>
            <a:ext cx="4114800" cy="220968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4648320" y="2286000"/>
            <a:ext cx="4190760" cy="220968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304920" y="4572000"/>
            <a:ext cx="4114800" cy="210492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4"/>
          <a:stretch/>
        </p:blipFill>
        <p:spPr>
          <a:xfrm>
            <a:off x="4800600" y="4572000"/>
            <a:ext cx="3733920" cy="2152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Решите уравнения: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371600" indent="0">
              <a:spcBef>
                <a:spcPts val="1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5400" spc="-1" strike="noStrike" u="sng">
                <a:solidFill>
                  <a:srgbClr val="00ffcc"/>
                </a:solidFill>
                <a:uFillTx/>
                <a:latin typeface="Arial"/>
                <a:hlinkClick r:id="rId1"/>
              </a:rPr>
              <a:t>tg((3</a:t>
            </a:r>
            <a:r>
              <a:rPr b="0" lang="en-US" sz="5400" spc="-1" strike="noStrike" u="sng">
                <a:solidFill>
                  <a:srgbClr val="00ffcc"/>
                </a:solidFill>
                <a:uFillTx/>
                <a:latin typeface="Symbol"/>
                <a:ea typeface="Symbol"/>
                <a:hlinkClick r:id="rId2"/>
              </a:rPr>
              <a:t></a:t>
            </a:r>
            <a:r>
              <a:rPr b="0" lang="en-US" sz="5400" spc="-1" strike="noStrike" u="sng">
                <a:solidFill>
                  <a:srgbClr val="00ffcc"/>
                </a:solidFill>
                <a:uFillTx/>
                <a:latin typeface="Symbol"/>
                <a:ea typeface="Arial"/>
                <a:hlinkClick r:id="rId3"/>
              </a:rPr>
              <a:t>/5)x)=1;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)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15/4 +30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, n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Z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3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/12 + (5/3)n,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Z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3)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15/4 +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5n, n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Z            4) 5/12 + (10/3)n,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Z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0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ffcc"/>
                </a:solidFill>
                <a:uFillTx/>
                <a:latin typeface="Arial"/>
                <a:ea typeface="Arial"/>
                <a:hlinkClick r:id="rId4"/>
              </a:rPr>
              <a:t>sin(x/2)cos(x/2)+1/4=0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  <a:ea typeface="Arial"/>
              </a:rPr>
              <a:t>,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)  ±(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/6) +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, n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Z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         3) (-1)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n+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(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/6) + 2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, n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Z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) (-1)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n+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(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/6) +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, n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Z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   4) ±(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/6) + 2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, n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Z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Множество значений тригонометрических функций.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1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nx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,     0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/sinx/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,     0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n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x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1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sx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,    0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/cosx/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,    0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s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x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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&lt;tgx&lt;+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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   0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/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tgx/&lt;+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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   0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tg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x&lt;+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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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&lt;ctgx&lt;+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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  0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tgx/&lt;+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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  0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tg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x&lt;+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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0" y="0"/>
                <a:ext cx="990720" cy="20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у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0" y="0"/>
                <a:ext cx="990720" cy="20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у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bc</cp:lastModifiedBy>
  <dcterms:modified xsi:type="dcterms:W3CDTF">2008-01-22T17:33:58Z</dcterms:modified>
  <cp:revision>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