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D130-6F37-41BF-B84B-74B132E6B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5259-5508-47D2-9022-CCEA43BD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7364-E97D-4DC7-B0ED-4446C3847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8282-8A9C-4E3E-94B0-9E89F3E18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1789B-74EE-477F-9324-51B8A2B86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1AD952-71C0-40ED-B1D9-0663B443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38E25-249E-4F1C-9D11-25127DF0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73F089-BDB6-4DC1-BB3D-9D69A096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6321B2-A6C3-482B-BC5B-922FCF95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31AF7D-4E89-4BAB-A718-07362879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83B939-4318-494B-8C95-5783DC9B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5FF9-21F8-42C9-863B-357994B2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C2E9A-C0C8-459C-9DCC-73B4F0CE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4FCDA-FCE1-462D-A4D8-359999B8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9A4778-E617-46C3-946F-48BA9651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A2EFFC-1D5A-4626-9E6D-5A0A6020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F1967A-98D8-4643-A1F8-CE1B29FED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BB72-704E-4A39-A468-65AD035D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CAAB-582C-458A-8508-F076912D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E996-F859-4E99-B2CD-33DA5EA00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676E-B7A5-4AD8-A58A-CB2BEC067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151F-AF84-4E82-B86E-E2E251466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7F26-2920-4CC7-9EF9-70B9AB73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CA43-085B-4E07-9510-A0DDF920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A562-B28D-4551-B98F-DD132573ED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3F80-4335-452B-8435-9BA10BEA61C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89;&#1089;&#1099;&#1083;&#1082;&#1072;%201.doc" TargetMode="External"/><Relationship Id="rId2" Type="http://schemas.openxmlformats.org/officeDocument/2006/relationships/hyperlink" Target="file:///&#1089;&#1089;&#1099;&#1083;&#1082;&#1072;%201.doc" TargetMode="External"/><Relationship Id="rId3" Type="http://schemas.openxmlformats.org/officeDocument/2006/relationships/hyperlink" Target="file:///&#1089;&#1089;&#1099;&#1083;&#1082;&#1072;%201.doc" TargetMode="External"/><Relationship Id="rId4" Type="http://schemas.openxmlformats.org/officeDocument/2006/relationships/hyperlink" Target="file:///&#1089;&#1089;&#1099;&#1083;&#1082;&#1072;%202.doc" TargetMode="External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т я перед вами стою. Я од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 ждете какого-то слова и знан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 может, забавы. Мол, мы погляди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десь львиная мощь или прыть обезьянь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итесь со мной, исправляйте со мн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вои неудачи, просчеты, тревог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едь мы же не клоун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о и не бог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к знаниям путь - это путь непрост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Найдите множество значений функции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=3cos2x-5, y=(1/3) /sin7x/- (2/3)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=(1/2) tg</a:t>
            </a:r>
            <a:r>
              <a:rPr b="0" lang="en-US" sz="3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x-3,  y=-2/ctg3x/+4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йдите наименьшее значение функ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колько целых значений имеет функц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057400" y="3505320"/>
                <a:ext cx="358128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057400" y="5181480"/>
                <a:ext cx="3733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Решите уравнения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219320" y="1600200"/>
                <a:ext cx="6933960" cy="403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r>
                              <m:t xml:space="preserve">3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6</m:t>
                        </m:r>
                        <m:r>
                          <m:t xml:space="preserve">⋅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tgx</m:t>
                            </m:r>
                          </m:e>
                        </m:d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x</m:t>
                                </m:r>
                              </m:e>
                            </m:d>
                          </m:den>
                        </m:f>
                        <m:r>
                          <m:t xml:space="preserve">;</m:t>
                        </m:r>
                      </m:e>
                      <m:e>
                        <m:r>
                          <m:t xml:space="preserve">3</m:t>
                        </m:r>
                        <m:r>
                          <m:t xml:space="preserve">)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tgx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4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os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−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Когда дела у нас не хорош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И день стоит ненастный и холодны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Да будет нам звездою путеводно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ысокая настроенность душ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Раскиснуть не давай себе. Глуш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се слабости. Топи их с камнем в воду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ысокая настроенность души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Вот то, что в мире делает погоду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Спасибо за урок!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Тема: </a:t>
            </a:r>
            <a:br>
              <a:rPr sz="5400"/>
            </a:b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«Свойства тригонометрических </a:t>
            </a:r>
            <a:br>
              <a:rPr sz="5400"/>
            </a:b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функций»</a:t>
            </a:r>
            <a:br>
              <a:rPr sz="5400"/>
            </a:b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Цель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нать основные тригонометр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ождества и уметь применять их пр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образовании тригонометрически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ыражений и решении уравнен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меть распознавать граф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ригонометрических функц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меть находить множество знач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ригонометрических функци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дготовка к краевой диагностической работе № 2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Основные тригонометрические формулы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+co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=1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g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sin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cos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 ctg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 cos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sin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g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tg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1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+tg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1/co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 1+ctg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1/si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2sin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co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i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=2co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1=1-2si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g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=2tg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/(1-tg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Решение тригонометрических</a:t>
            </a: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уравнений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x=a (0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           sinx=-a (-1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=(-1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csin a+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,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=(1)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n+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csin a+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, n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sx=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0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)           cosx=-a (-1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±arccos a+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x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±(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arccos a)+2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,n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gx=a (a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0)                   tgx=-a 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=arctg a+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,              x=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ctg a+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, n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tgx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=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 (a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0)                 ctgx=-a (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=arcctg a+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,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=-arcctg a+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, n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Устно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cosx= 1,           2cosx= -1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=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±(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/3)+2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, n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x=±(2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/3)+2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, n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sinx =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,           2sinx=-1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=(-1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/3+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, n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x=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-1)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n+1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/6+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, n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gx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,    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gx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=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/6+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, n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=-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/6+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, n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tgx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ru-RU" sz="28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,             ctgx=-1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/6+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, n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Z                 x=-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/4+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, n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Z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x=2,                sinx=-4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шений нет.              решений не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0" y="0"/>
                <a:ext cx="44784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0" y="0"/>
                <a:ext cx="44784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e>
                      <m:sup>
                        <m:r>
                          <m:t xml:space="preserve">∘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Распознавание графиков тригонометрических функций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рафик какой функции изображен на рисунк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4114800" cy="2209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4190760" cy="2209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114800" cy="2104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4"/>
          <a:stretch/>
        </p:blipFill>
        <p:spPr>
          <a:xfrm>
            <a:off x="4800600" y="4572000"/>
            <a:ext cx="3733920" cy="2152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Решите уравнения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371600" indent="0"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5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tg((3</a:t>
            </a:r>
            <a:r>
              <a:rPr b="0" lang="en-US" sz="5400" spc="-1" strike="noStrike" u="sng">
                <a:solidFill>
                  <a:srgbClr val="00ffcc"/>
                </a:solidFill>
                <a:uFillTx/>
                <a:latin typeface="Symbol"/>
                <a:ea typeface="Symbol"/>
                <a:hlinkClick r:id="rId2"/>
              </a:rPr>
              <a:t></a:t>
            </a:r>
            <a:r>
              <a:rPr b="0" lang="en-US" sz="5400" spc="-1" strike="noStrike" u="sng">
                <a:solidFill>
                  <a:srgbClr val="00ffcc"/>
                </a:solidFill>
                <a:uFillTx/>
                <a:latin typeface="Symbol"/>
                <a:ea typeface="Arial"/>
                <a:hlinkClick r:id="rId3"/>
              </a:rPr>
              <a:t>/5)x)=1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)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15/4 +3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, n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/12 + (5/3)n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3)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15/4 +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5n, n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            4) 5/12 + (10/3)n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0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ffcc"/>
                </a:solidFill>
                <a:uFillTx/>
                <a:latin typeface="Arial"/>
                <a:ea typeface="Arial"/>
                <a:hlinkClick r:id="rId4"/>
              </a:rPr>
              <a:t>sin(x/2)cos(x/2)+1/4=0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)  ±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/6) +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, n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Z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3) (-1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n+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/6) +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, n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Z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) (-1)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n+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/6) +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, n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Z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   4) ±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/6) +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, n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Z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Множество значений тригонометрических функций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x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     0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sinx/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     0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x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x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    0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cosx/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    0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s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x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lt;tgx&lt;+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   0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/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gx/&lt;+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   0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g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x&lt;+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&lt;ctgx&lt;+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  0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tgx/&lt;+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  0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tg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x&lt;+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0" y="0"/>
                <a:ext cx="99072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0" y="0"/>
                <a:ext cx="99072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у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bc</cp:lastModifiedBy>
  <dcterms:modified xsi:type="dcterms:W3CDTF">2008-01-22T17:33:5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