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wmf" ContentType="image/x-wmf"/>
  <Override PartName="/ppt/media/image7.png" ContentType="image/png"/>
  <Override PartName="/ppt/media/image1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FA01-79F8-41E2-97DD-506641820FC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37EB-5DEA-4393-8485-4784636240D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E9ED-A7AB-4132-9D1C-4847C4E8212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05D5-3CA9-48CF-84D6-33DD2660A99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2036-602D-4C85-9C41-14A8174A05D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3FC1-7DD2-4251-B0E7-D0A417B0898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CED0-C977-40FB-AB3B-A5C81D3DCFD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3517-8D49-47CB-9C88-2ED35401A6D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AB48-F47D-4251-B0E9-319AE8CD888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BF27-C61F-4DA0-8B62-A9DAFF7E728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679C-3C96-4D85-A08E-6C5C849E8B8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E5AC-8680-4D34-B64E-8E919410B68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776E-3B2F-43B7-9594-9E84F255B27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63AC-5623-4C6B-B485-003D90E1E60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E73E-51E2-4259-97C8-20CA24CA676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5951-6F58-44CB-9444-A8555408660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353B-67FE-43DB-80D7-B050C81818D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5BF4-16D4-4A31-8530-B3DF34E25EC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DC8C2-B6B9-484C-8D56-BB65640E31B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ABE7-C991-4F24-8A7A-540E1F3B51A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C6A65-C2B0-40B3-A990-1DA9F948B0A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E88A-AE39-40C4-A218-FECBB3234DA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F30F-2ED8-4D60-8F41-F671EB65340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7782-58DF-4294-AB94-676FE1BBF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A09A-8573-4DF6-B9D9-CCD343D1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C3DF-40D7-469C-9624-2D456B75E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3F02-3389-4B55-B5E8-E3E0264B4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C0B4-4773-4A21-BA02-CCF21635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76C7-1CFC-4F3C-812A-697B7EEB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F1E1-ACBB-4C25-9569-3DF53FEF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F17D-F58E-4484-A28D-DB9DDE68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9257-E92D-44BF-8323-D1BE1F6B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984E-5C44-4A22-A91E-E2E7A38A4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FA2B-6E63-4DB7-A433-E9BE7F9D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E16F-9323-43D7-9196-8E75985E0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64D5C-C278-492A-9592-AFF88633019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00360" y="404640"/>
            <a:ext cx="4429080" cy="18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ОСНОВЫ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БЕЗОПАСНОСТИ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ЖИЗНЕДЕЯТЕЛЬНОСТ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43280" y="2133360"/>
            <a:ext cx="1285920" cy="47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Calibri"/>
              </a:rPr>
              <a:t>5 КЛАСС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Рисунок 3" descr="начало.jpg"/>
          <p:cNvPicPr/>
          <p:nvPr/>
        </p:nvPicPr>
        <p:blipFill>
          <a:blip r:embed="rId2"/>
          <a:srcRect l="0" t="0" r="0" b="32331"/>
          <a:stretch/>
        </p:blipFill>
        <p:spPr>
          <a:xfrm>
            <a:off x="468360" y="476280"/>
            <a:ext cx="3927600" cy="475452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857160" y="5143680"/>
            <a:ext cx="750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  <a:ea typeface="Tahoma"/>
              </a:rPr>
              <a:t>ГОРОД КАК СРЕДА ОБИТ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5143680" y="3571920"/>
            <a:ext cx="3571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роект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реподавателя ОБЖ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г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Люберц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МОУ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имназии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№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:\Documents and Settings\Sergey_2\Мои документы\Мои рисунки\РАЗНОЕ\ДОСКА Копировать.gif"/>
          <p:cNvPicPr/>
          <p:nvPr/>
        </p:nvPicPr>
        <p:blipFill>
          <a:blip r:embed="rId2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58" name="Овальная выноска 2"/>
          <p:cNvSpPr/>
          <p:nvPr/>
        </p:nvSpPr>
        <p:spPr>
          <a:xfrm>
            <a:off x="928800" y="1071720"/>
            <a:ext cx="5286240" cy="1357200"/>
          </a:xfrm>
          <a:prstGeom prst="wedgeEllipseCallout">
            <a:avLst>
              <a:gd name="adj1" fmla="val 34939"/>
              <a:gd name="adj2" fmla="val 120986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Город – это населенный пункт, жители которого, как правило, не занимаются сельским хозяйств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2" descr="C:\Documents and Settings\WETER\Рабочий стол\ad3a789759de.png"/>
          <p:cNvPicPr/>
          <p:nvPr/>
        </p:nvPicPr>
        <p:blipFill>
          <a:blip r:embed="rId3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0" name="Рисунок 10" descr="город.gif"/>
          <p:cNvPicPr/>
          <p:nvPr/>
        </p:nvPicPr>
        <p:blipFill>
          <a:blip r:embed="rId4"/>
          <a:stretch/>
        </p:blipFill>
        <p:spPr>
          <a:xfrm>
            <a:off x="5076720" y="2276640"/>
            <a:ext cx="3000600" cy="33922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C:\Documents and Settings\Sergey_2\Мои документы\Мои рисунки\РАЗНОЕ\ДОСКА Копировать.gif"/>
          <p:cNvPicPr/>
          <p:nvPr/>
        </p:nvPicPr>
        <p:blipFill>
          <a:blip r:embed="rId2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62" name="Овальная выноска 2"/>
          <p:cNvSpPr/>
          <p:nvPr/>
        </p:nvSpPr>
        <p:spPr>
          <a:xfrm>
            <a:off x="2000160" y="1143000"/>
            <a:ext cx="3929040" cy="1143000"/>
          </a:xfrm>
          <a:prstGeom prst="wedgeEllipseCallout">
            <a:avLst>
              <a:gd name="adj1" fmla="val -35111"/>
              <a:gd name="adj2" fmla="val 145569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Что привлекает современного человека в городской жизни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2" descr="C:\Documents and Settings\WETER\Рабочий стол\ad3a789759de.png"/>
          <p:cNvPicPr/>
          <p:nvPr/>
        </p:nvPicPr>
        <p:blipFill>
          <a:blip r:embed="rId3"/>
          <a:stretch/>
        </p:blipFill>
        <p:spPr>
          <a:xfrm>
            <a:off x="39528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4" name="Рисунок 10" descr="город.gif"/>
          <p:cNvPicPr/>
          <p:nvPr/>
        </p:nvPicPr>
        <p:blipFill>
          <a:blip r:embed="rId4"/>
          <a:stretch/>
        </p:blipFill>
        <p:spPr>
          <a:xfrm>
            <a:off x="5072040" y="2251080"/>
            <a:ext cx="3000240" cy="339264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C:\Documents and Settings\Sergey_2\Мои документы\Мои рисунки\РАЗНОЕ\ДОСКА Копировать.gif"/>
          <p:cNvPicPr/>
          <p:nvPr/>
        </p:nvPicPr>
        <p:blipFill>
          <a:blip r:embed="rId2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14" descr="1242067659_pic_id26134.jpeg"/>
          <p:cNvPicPr/>
          <p:nvPr/>
        </p:nvPicPr>
        <p:blipFill>
          <a:blip r:embed="rId3"/>
          <a:stretch/>
        </p:blipFill>
        <p:spPr>
          <a:xfrm>
            <a:off x="755640" y="884160"/>
            <a:ext cx="7759800" cy="4973760"/>
          </a:xfrm>
          <a:prstGeom prst="rect">
            <a:avLst/>
          </a:prstGeom>
          <a:ln w="0">
            <a:noFill/>
          </a:ln>
        </p:spPr>
      </p:pic>
      <p:sp>
        <p:nvSpPr>
          <p:cNvPr id="167" name="Овальная выноска 2"/>
          <p:cNvSpPr/>
          <p:nvPr/>
        </p:nvSpPr>
        <p:spPr>
          <a:xfrm>
            <a:off x="1357200" y="1000080"/>
            <a:ext cx="6500880" cy="1214640"/>
          </a:xfrm>
          <a:prstGeom prst="wedgeEllipseCallout">
            <a:avLst>
              <a:gd name="adj1" fmla="val 13703"/>
              <a:gd name="adj2" fmla="val 18040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В городах для удобства человека к жилым домам подводятся вода, газ, электриче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2" descr="C:\Documents and Settings\WETER\Рабочий стол\ad3a789759de.png"/>
          <p:cNvPicPr/>
          <p:nvPr/>
        </p:nvPicPr>
        <p:blipFill>
          <a:blip r:embed="rId4"/>
          <a:stretch/>
        </p:blipFill>
        <p:spPr>
          <a:xfrm>
            <a:off x="39528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9" name="Рисунок 10" descr="город.gif"/>
          <p:cNvPicPr/>
          <p:nvPr/>
        </p:nvPicPr>
        <p:blipFill>
          <a:blip r:embed="rId5"/>
          <a:stretch/>
        </p:blipFill>
        <p:spPr>
          <a:xfrm>
            <a:off x="5072040" y="2251080"/>
            <a:ext cx="3000240" cy="339264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0" name="Овальная выноска 7"/>
          <p:cNvSpPr/>
          <p:nvPr/>
        </p:nvSpPr>
        <p:spPr>
          <a:xfrm>
            <a:off x="1357200" y="1000080"/>
            <a:ext cx="6500880" cy="1214640"/>
          </a:xfrm>
          <a:prstGeom prst="wedgeEllipseCallout">
            <a:avLst>
              <a:gd name="adj1" fmla="val 13703"/>
              <a:gd name="adj2" fmla="val 18040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В городах существует целая сеть торговых организац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Овальная выноска 8"/>
          <p:cNvSpPr/>
          <p:nvPr/>
        </p:nvSpPr>
        <p:spPr>
          <a:xfrm>
            <a:off x="1357200" y="1000080"/>
            <a:ext cx="6500880" cy="1214640"/>
          </a:xfrm>
          <a:prstGeom prst="wedgeEllipseCallout">
            <a:avLst>
              <a:gd name="adj1" fmla="val 13703"/>
              <a:gd name="adj2" fmla="val 18040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Городской транспорт обеспечивает передвижение людей в необходимые для них райо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Овальная выноска 9"/>
          <p:cNvSpPr/>
          <p:nvPr/>
        </p:nvSpPr>
        <p:spPr>
          <a:xfrm>
            <a:off x="1357200" y="1000080"/>
            <a:ext cx="6500880" cy="1214640"/>
          </a:xfrm>
          <a:prstGeom prst="wedgeEllipseCallout">
            <a:avLst>
              <a:gd name="adj1" fmla="val 13703"/>
              <a:gd name="adj2" fmla="val 18040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Создана система учебных заведений различного уровн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Овальная выноска 11"/>
          <p:cNvSpPr/>
          <p:nvPr/>
        </p:nvSpPr>
        <p:spPr>
          <a:xfrm>
            <a:off x="1357200" y="1000080"/>
            <a:ext cx="6500880" cy="1214640"/>
          </a:xfrm>
          <a:prstGeom prst="wedgeEllipseCallout">
            <a:avLst>
              <a:gd name="adj1" fmla="val 13703"/>
              <a:gd name="adj2" fmla="val 18040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Население обслуживают медицинские учрежд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Овальная выноска 12"/>
          <p:cNvSpPr/>
          <p:nvPr/>
        </p:nvSpPr>
        <p:spPr>
          <a:xfrm>
            <a:off x="1357200" y="1000080"/>
            <a:ext cx="6500880" cy="1214640"/>
          </a:xfrm>
          <a:prstGeom prst="wedgeEllipseCallout">
            <a:avLst>
              <a:gd name="adj1" fmla="val 13703"/>
              <a:gd name="adj2" fmla="val 18040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Действует система культурных, научных и спортивных учрежден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Овальная выноска 13"/>
          <p:cNvSpPr/>
          <p:nvPr/>
        </p:nvSpPr>
        <p:spPr>
          <a:xfrm>
            <a:off x="1357200" y="1000080"/>
            <a:ext cx="6500880" cy="1214640"/>
          </a:xfrm>
          <a:prstGeom prst="wedgeEllipseCallout">
            <a:avLst>
              <a:gd name="adj1" fmla="val 13703"/>
              <a:gd name="adj2" fmla="val 18040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Созданы службы для обеспечения безопасности насе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Documents and Settings\Sergey_2\Мои документы\Мои рисунки\РАЗНОЕ\ДОСКА Копировать.gif"/>
          <p:cNvPicPr/>
          <p:nvPr/>
        </p:nvPicPr>
        <p:blipFill>
          <a:blip r:embed="rId2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77" name="Овальная выноска 2"/>
          <p:cNvSpPr/>
          <p:nvPr/>
        </p:nvSpPr>
        <p:spPr>
          <a:xfrm>
            <a:off x="1000080" y="1000080"/>
            <a:ext cx="7143840" cy="1857600"/>
          </a:xfrm>
          <a:prstGeom prst="wedgeEllipseCallout">
            <a:avLst>
              <a:gd name="adj1" fmla="val 25472"/>
              <a:gd name="adj2" fmla="val 85120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аполни таблицу «Жизнеобеспеченность человека в городе и на селе» и сделай вывод кто больше всего зависит от слаженности работы всех систем жизнеобеспечения городской житель или сельский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958680" y="1112760"/>
          <a:ext cx="7358400" cy="4500720"/>
        </p:xfrm>
        <a:graphic>
          <a:graphicData uri="http://schemas.openxmlformats.org/drawingml/2006/table">
            <a:tbl>
              <a:tblPr/>
              <a:tblGrid>
                <a:gridCol w="2452680"/>
                <a:gridCol w="2453040"/>
                <a:gridCol w="2452680"/>
              </a:tblGrid>
              <a:tr h="56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ы жизнеобеспеч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л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56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да, газ, электриче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рговые организ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анспор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ебные завед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е учрежд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56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ные, научные и спортивные учрежд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ужбы безопас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  <p:pic>
        <p:nvPicPr>
          <p:cNvPr id="179" name="Picture 2" descr="C:\Documents and Settings\WETER\Рабочий стол\ad3a789759de.png"/>
          <p:cNvPicPr/>
          <p:nvPr/>
        </p:nvPicPr>
        <p:blipFill>
          <a:blip r:embed="rId3"/>
          <a:stretch/>
        </p:blipFill>
        <p:spPr>
          <a:xfrm>
            <a:off x="9396360" y="2819520"/>
            <a:ext cx="322920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81481E-006 L -0.43854 0.0037 E">
                                      <p:cBhvr>
                                        <p:cTn id="431" dur="1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C:\Documents and Settings\Sergey_2\Мои документы\Мои рисунки\РАЗНОЕ\ДОСКА Копировать.gif"/>
          <p:cNvPicPr/>
          <p:nvPr/>
        </p:nvPicPr>
        <p:blipFill>
          <a:blip r:embed="rId2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81" name="Овальная выноска 6"/>
          <p:cNvSpPr/>
          <p:nvPr/>
        </p:nvSpPr>
        <p:spPr>
          <a:xfrm>
            <a:off x="928800" y="1428840"/>
            <a:ext cx="5214960" cy="3857400"/>
          </a:xfrm>
          <a:prstGeom prst="wedgeEllipseCallout">
            <a:avLst>
              <a:gd name="adj1" fmla="val 53939"/>
              <a:gd name="adj2" fmla="val 39388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Arial"/>
              </a:rPr>
              <a:t>Город создает благоприятные условия для жизни и жизнедеятельности человека, </a:t>
            </a:r>
            <a:r>
              <a:rPr b="1" lang="en-US" sz="1600" spc="-1" strike="noStrike">
                <a:solidFill>
                  <a:srgbClr val="7153a1"/>
                </a:solidFill>
                <a:latin typeface="Arial"/>
                <a:ea typeface="Arial"/>
              </a:rPr>
              <a:t>но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многофункциональные </a:t>
            </a:r>
            <a:r>
              <a:rPr b="1" lang="en-US" sz="1600" spc="-1" strike="noStrike">
                <a:solidFill>
                  <a:srgbClr val="7153a1"/>
                </a:solidFill>
                <a:latin typeface="Arial"/>
                <a:ea typeface="Arial"/>
              </a:rPr>
              <a:t>системы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жизнеобеспечения </a:t>
            </a:r>
            <a:r>
              <a:rPr b="1" lang="en-US" sz="1600" spc="-1" strike="noStrike">
                <a:solidFill>
                  <a:srgbClr val="7153a1"/>
                </a:solidFill>
                <a:latin typeface="Arial"/>
                <a:ea typeface="Arial"/>
              </a:rPr>
              <a:t>несут в себе определенную опасность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для городского жителя и </a:t>
            </a:r>
            <a:r>
              <a:rPr b="1" lang="en-US" sz="1600" spc="-1" strike="noStrike">
                <a:solidFill>
                  <a:srgbClr val="b79315"/>
                </a:solidFill>
                <a:latin typeface="Arial"/>
                <a:ea typeface="Arial"/>
              </a:rPr>
              <a:t>требую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от него </a:t>
            </a:r>
            <a:r>
              <a:rPr b="1" lang="en-US" sz="1600" spc="-1" strike="noStrike">
                <a:solidFill>
                  <a:srgbClr val="b79315"/>
                </a:solidFill>
                <a:latin typeface="Arial"/>
                <a:ea typeface="Arial"/>
              </a:rPr>
              <a:t>особенного поведения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обеспечивающего его безопас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C:\Documents and Settings\WETER\Рабочий стол\ad3a789759de.png"/>
          <p:cNvPicPr/>
          <p:nvPr/>
        </p:nvPicPr>
        <p:blipFill>
          <a:blip r:embed="rId3"/>
          <a:stretch/>
        </p:blipFill>
        <p:spPr>
          <a:xfrm>
            <a:off x="5364000" y="2819520"/>
            <a:ext cx="322920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:\Documents and Settings\Sergey_2\Мои документы\Мои рисунки\РАЗНОЕ\ДОСКА Копировать.gif"/>
          <p:cNvPicPr/>
          <p:nvPr/>
        </p:nvPicPr>
        <p:blipFill>
          <a:blip r:embed="rId2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84" name="Овальная выноска 2"/>
          <p:cNvSpPr/>
          <p:nvPr/>
        </p:nvSpPr>
        <p:spPr>
          <a:xfrm>
            <a:off x="2000160" y="1143000"/>
            <a:ext cx="6072120" cy="2571840"/>
          </a:xfrm>
          <a:prstGeom prst="wedgeEllipseCallout">
            <a:avLst>
              <a:gd name="adj1" fmla="val -35111"/>
              <a:gd name="adj2" fmla="val 78472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Чтобы система работа слажено, существуют определенные правила поведения для всего населения города. Нарушение этих правил несет за собой  возникновение опасных ситуаций для жизни и здоровья челове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3929040" y="4286160"/>
            <a:ext cx="414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stral"/>
                <a:ea typeface="Tahoma"/>
              </a:rPr>
              <a:t>ГОРОД И ЕГО ОПАС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C:\Documents and Settings\WETER\Рабочий стол\ad3a789759de.png"/>
          <p:cNvPicPr/>
          <p:nvPr/>
        </p:nvPicPr>
        <p:blipFill>
          <a:blip r:embed="rId3"/>
          <a:stretch/>
        </p:blipFill>
        <p:spPr>
          <a:xfrm>
            <a:off x="39528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:\Documents and Settings\Sergey_2\Мои документы\Мои рисунки\РАЗНОЕ\ДОСКА Копировать.gif"/>
          <p:cNvPicPr/>
          <p:nvPr/>
        </p:nvPicPr>
        <p:blipFill>
          <a:blip r:embed="rId2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88" name="Овальная выноска 2"/>
          <p:cNvSpPr/>
          <p:nvPr/>
        </p:nvSpPr>
        <p:spPr>
          <a:xfrm>
            <a:off x="1071720" y="1071720"/>
            <a:ext cx="4071960" cy="1285560"/>
          </a:xfrm>
          <a:prstGeom prst="wedgeEllipseCallout">
            <a:avLst>
              <a:gd name="adj1" fmla="val -21023"/>
              <a:gd name="adj2" fmla="val 10771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Ситуации, связанные с нарушением правил дорожного движ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2" descr="C:\Documents and Settings\WETER\Рабочий стол\ad3a789759de.png"/>
          <p:cNvPicPr/>
          <p:nvPr/>
        </p:nvPicPr>
        <p:blipFill>
          <a:blip r:embed="rId3"/>
          <a:stretch/>
        </p:blipFill>
        <p:spPr>
          <a:xfrm>
            <a:off x="39528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0" name="Рисунок 4" descr="middle_e20be7f.jpg"/>
          <p:cNvPicPr/>
          <p:nvPr/>
        </p:nvPicPr>
        <p:blipFill>
          <a:blip r:embed="rId4">
            <a:lum contrast="10000"/>
          </a:blip>
          <a:stretch/>
        </p:blipFill>
        <p:spPr>
          <a:xfrm>
            <a:off x="5143680" y="2214720"/>
            <a:ext cx="3027240" cy="329076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C:\Documents and Settings\Sergey_2\Мои документы\Мои рисунки\РАЗНОЕ\ДОСКА Копировать.gif"/>
          <p:cNvPicPr/>
          <p:nvPr/>
        </p:nvPicPr>
        <p:blipFill>
          <a:blip r:embed="rId2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92" name="Овальная выноска 2"/>
          <p:cNvSpPr/>
          <p:nvPr/>
        </p:nvSpPr>
        <p:spPr>
          <a:xfrm>
            <a:off x="1214280" y="1071720"/>
            <a:ext cx="3643560" cy="1428480"/>
          </a:xfrm>
          <a:prstGeom prst="wedgeEllipseCallout">
            <a:avLst>
              <a:gd name="adj1" fmla="val -19402"/>
              <a:gd name="adj2" fmla="val 10083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Ситуации, связанные с нарушением правил пожарной безопас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2" descr="C:\Documents and Settings\WETER\Рабочий стол\ad3a789759de.png"/>
          <p:cNvPicPr/>
          <p:nvPr/>
        </p:nvPicPr>
        <p:blipFill>
          <a:blip r:embed="rId3"/>
          <a:stretch/>
        </p:blipFill>
        <p:spPr>
          <a:xfrm>
            <a:off x="39528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4" name="Рисунок 4" descr="пожар.jpg"/>
          <p:cNvPicPr/>
          <p:nvPr/>
        </p:nvPicPr>
        <p:blipFill>
          <a:blip r:embed="rId4">
            <a:lum contrast="10000"/>
          </a:blip>
          <a:stretch/>
        </p:blipFill>
        <p:spPr>
          <a:xfrm>
            <a:off x="4029120" y="2544840"/>
            <a:ext cx="4186080" cy="302724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:\Documents and Settings\Sergey_2\Мои документы\Мои рисунки\РАЗНОЕ\ДОСКА Копировать.gif"/>
          <p:cNvPicPr/>
          <p:nvPr/>
        </p:nvPicPr>
        <p:blipFill>
          <a:blip r:embed="rId2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96" name="Овальная выноска 2"/>
          <p:cNvSpPr/>
          <p:nvPr/>
        </p:nvSpPr>
        <p:spPr>
          <a:xfrm>
            <a:off x="1214280" y="1000080"/>
            <a:ext cx="4071960" cy="1928880"/>
          </a:xfrm>
          <a:prstGeom prst="wedgeEllipseCallout">
            <a:avLst>
              <a:gd name="adj1" fmla="val -13763"/>
              <a:gd name="adj2" fmla="val 81740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Ситуации, связанные с нарушением мер общественной безопасности и общественного поряд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2" descr="C:\Documents and Settings\WETER\Рабочий стол\ad3a789759de.png"/>
          <p:cNvPicPr/>
          <p:nvPr/>
        </p:nvPicPr>
        <p:blipFill>
          <a:blip r:embed="rId3"/>
          <a:stretch/>
        </p:blipFill>
        <p:spPr>
          <a:xfrm>
            <a:off x="39528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13120" dir="2428957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8" name="Рисунок 4" descr="aktsii_protesta_politikafoto_1_1_1_1_1_1_1_1_1_1.jpg"/>
          <p:cNvPicPr/>
          <p:nvPr/>
        </p:nvPicPr>
        <p:blipFill>
          <a:blip r:embed="rId4"/>
          <a:stretch/>
        </p:blipFill>
        <p:spPr>
          <a:xfrm>
            <a:off x="4309920" y="2928960"/>
            <a:ext cx="3976920" cy="2695680"/>
          </a:xfrm>
          <a:prstGeom prst="rect">
            <a:avLst/>
          </a:prstGeom>
          <a:ln w="0">
            <a:noFill/>
          </a:ln>
          <a:effectLst>
            <a:outerShdw dist="113120" dir="2428957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C:\Documents and Settings\Sergey_2\Мои документы\Мои рисунки\РАЗНОЕ\ДОСКА Копировать.gif"/>
          <p:cNvPicPr/>
          <p:nvPr/>
        </p:nvPicPr>
        <p:blipFill>
          <a:blip r:embed="rId2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200" name="Овальная выноска 2"/>
          <p:cNvSpPr/>
          <p:nvPr/>
        </p:nvSpPr>
        <p:spPr>
          <a:xfrm>
            <a:off x="1000080" y="1071720"/>
            <a:ext cx="4214880" cy="1857240"/>
          </a:xfrm>
          <a:prstGeom prst="wedgeEllipseCallout">
            <a:avLst>
              <a:gd name="adj1" fmla="val -10226"/>
              <a:gd name="adj2" fmla="val 80574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Ситуации, связанные с нарушением правил пользования различными бытовыми приборами, газом и электричеств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2" descr="C:\Documents and Settings\WETER\Рабочий стол\ad3a789759de.png"/>
          <p:cNvPicPr/>
          <p:nvPr/>
        </p:nvPicPr>
        <p:blipFill>
          <a:blip r:embed="rId3"/>
          <a:stretch/>
        </p:blipFill>
        <p:spPr>
          <a:xfrm>
            <a:off x="39528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2" name="Рисунок 4" descr="electro_00.jpg"/>
          <p:cNvPicPr/>
          <p:nvPr/>
        </p:nvPicPr>
        <p:blipFill>
          <a:blip r:embed="rId4">
            <a:lum bright="10000"/>
          </a:blip>
          <a:stretch/>
        </p:blipFill>
        <p:spPr>
          <a:xfrm>
            <a:off x="4357800" y="2924280"/>
            <a:ext cx="3929040" cy="271764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Sergey_2\Мои документы\Мои рисунки\РАЗНОЕ\ДОСКА Копировать.gif"/>
          <p:cNvPicPr/>
          <p:nvPr/>
        </p:nvPicPr>
        <p:blipFill>
          <a:blip r:embed="rId2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Documents and Settings\WETER\Рабочий стол\ad3a789759de.png"/>
          <p:cNvPicPr/>
          <p:nvPr/>
        </p:nvPicPr>
        <p:blipFill>
          <a:blip r:embed="rId3"/>
          <a:stretch/>
        </p:blipFill>
        <p:spPr>
          <a:xfrm>
            <a:off x="39528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5" name="Овальная выноска 2"/>
          <p:cNvSpPr/>
          <p:nvPr/>
        </p:nvSpPr>
        <p:spPr>
          <a:xfrm>
            <a:off x="3143160" y="1214280"/>
            <a:ext cx="5072040" cy="2500560"/>
          </a:xfrm>
          <a:prstGeom prst="wedgeEllipseCallout">
            <a:avLst>
              <a:gd name="adj1" fmla="val -60879"/>
              <a:gd name="adj2" fmla="val 43361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Здравствуйте!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Я профессор Галилео!  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С этого года мы с вами начинаем изучать предмет «Основы безопасности жизнедеятельности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Sergey_2\Мои документы\Мои рисунки\РАЗНОЕ\ДОСКА Копировать.gif"/>
          <p:cNvPicPr/>
          <p:nvPr/>
        </p:nvPicPr>
        <p:blipFill>
          <a:blip r:embed="rId2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204" name="Овальная выноска 2"/>
          <p:cNvSpPr/>
          <p:nvPr/>
        </p:nvSpPr>
        <p:spPr>
          <a:xfrm>
            <a:off x="1000080" y="1143000"/>
            <a:ext cx="4214880" cy="1143000"/>
          </a:xfrm>
          <a:prstGeom prst="wedgeEllipseCallout">
            <a:avLst>
              <a:gd name="adj1" fmla="val -16736"/>
              <a:gd name="adj2" fmla="val 128000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Ситуации, связанные с различными природными явления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2" descr="C:\Documents and Settings\WETER\Рабочий стол\ad3a789759de.png"/>
          <p:cNvPicPr/>
          <p:nvPr/>
        </p:nvPicPr>
        <p:blipFill>
          <a:blip r:embed="rId3"/>
          <a:stretch/>
        </p:blipFill>
        <p:spPr>
          <a:xfrm>
            <a:off x="39528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6" name="Рисунок 4" descr="076205.jpg"/>
          <p:cNvPicPr/>
          <p:nvPr/>
        </p:nvPicPr>
        <p:blipFill>
          <a:blip r:embed="rId4"/>
          <a:srcRect l="1564" t="1382" r="2344" b="2660"/>
          <a:stretch/>
        </p:blipFill>
        <p:spPr>
          <a:xfrm>
            <a:off x="3500280" y="2664000"/>
            <a:ext cx="4786560" cy="291924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C:\Documents and Settings\Sergey_2\Мои документы\Мои рисунки\РАЗНОЕ\ДОСКА Копировать.gif"/>
          <p:cNvPicPr/>
          <p:nvPr/>
        </p:nvPicPr>
        <p:blipFill>
          <a:blip r:embed="rId2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208" name="Овальная выноска 2"/>
          <p:cNvSpPr/>
          <p:nvPr/>
        </p:nvSpPr>
        <p:spPr>
          <a:xfrm>
            <a:off x="2857680" y="2214720"/>
            <a:ext cx="5286240" cy="2428560"/>
          </a:xfrm>
          <a:prstGeom prst="wedgeEllipseCallout">
            <a:avLst>
              <a:gd name="adj1" fmla="val -46101"/>
              <a:gd name="adj2" fmla="val 43254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Arial"/>
              </a:rPr>
              <a:t>ПОСТОЯННОЕ СОБЛЮДЕНИЕ ПРАВИЛ БЕЗОПАСНОСТИ ЖИЗНЕОБЕСПЕЧЕНИЯ ПРИ ИСПОЛЬЗОВАНИИ ВСЕХ БЛАГ ОБЕСПЕЧИВАЮТ БЕЗОПАСНОСТЬ ЧЕЛОВЕКА В ГОРОД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Box 6"/>
          <p:cNvSpPr/>
          <p:nvPr/>
        </p:nvSpPr>
        <p:spPr>
          <a:xfrm>
            <a:off x="4572000" y="142884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stral"/>
                <a:ea typeface="Tahoma"/>
              </a:rPr>
              <a:t>ВЫВ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2" descr="C:\Documents and Settings\WETER\Рабочий стол\ad3a789759de.png"/>
          <p:cNvPicPr/>
          <p:nvPr/>
        </p:nvPicPr>
        <p:blipFill>
          <a:blip r:embed="rId3"/>
          <a:stretch/>
        </p:blipFill>
        <p:spPr>
          <a:xfrm>
            <a:off x="39528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C:\Documents and Settings\Sergey_2\Мои документы\Мои рисунки\РАЗНОЕ\ДОСКА Копировать.gif"/>
          <p:cNvPicPr/>
          <p:nvPr/>
        </p:nvPicPr>
        <p:blipFill>
          <a:blip r:embed="rId2"/>
          <a:stretch/>
        </p:blipFill>
        <p:spPr>
          <a:xfrm>
            <a:off x="468360" y="333360"/>
            <a:ext cx="8286840" cy="5867280"/>
          </a:xfrm>
          <a:prstGeom prst="rect">
            <a:avLst/>
          </a:prstGeom>
          <a:ln w="0">
            <a:noFill/>
          </a:ln>
        </p:spPr>
      </p:pic>
      <p:sp>
        <p:nvSpPr>
          <p:cNvPr id="212" name="Овальная выноска 10"/>
          <p:cNvSpPr/>
          <p:nvPr/>
        </p:nvSpPr>
        <p:spPr>
          <a:xfrm>
            <a:off x="2857680" y="1500120"/>
            <a:ext cx="5286240" cy="1500120"/>
          </a:xfrm>
          <a:prstGeom prst="wedgeEllipseCallout">
            <a:avLst>
              <a:gd name="adj1" fmla="val -50717"/>
              <a:gd name="adj2" fmla="val 84902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Разделившись на группы, найдите на рисунке десять признаков опасных ситуац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Овальная выноска 11"/>
          <p:cNvSpPr/>
          <p:nvPr/>
        </p:nvSpPr>
        <p:spPr>
          <a:xfrm>
            <a:off x="2714760" y="1500120"/>
            <a:ext cx="5572080" cy="1643040"/>
          </a:xfrm>
          <a:prstGeom prst="wedgeEllipseCallout">
            <a:avLst>
              <a:gd name="adj1" fmla="val -47388"/>
              <a:gd name="adj2" fmla="val 71740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Какие, по-вашему, меры предосторожности следует принять в каждом конкретном случае, чтобы люди не попали в беду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Рисунок 5" descr="город-иг8ра.jpg"/>
          <p:cNvPicPr/>
          <p:nvPr/>
        </p:nvPicPr>
        <p:blipFill>
          <a:blip r:embed="rId3"/>
          <a:stretch/>
        </p:blipFill>
        <p:spPr>
          <a:xfrm>
            <a:off x="2786040" y="985680"/>
            <a:ext cx="5586480" cy="4691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15" name="Picture 2" descr="C:\Documents and Settings\WETER\Рабочий стол\ad3a789759de.png"/>
          <p:cNvPicPr/>
          <p:nvPr/>
        </p:nvPicPr>
        <p:blipFill>
          <a:blip r:embed="rId4"/>
          <a:stretch/>
        </p:blipFill>
        <p:spPr>
          <a:xfrm>
            <a:off x="39528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C:\Documents and Settings\Sergey_2\Мои документы\Мои рисунки\РАЗНОЕ\ДОСКА Копировать.gif"/>
          <p:cNvPicPr/>
          <p:nvPr/>
        </p:nvPicPr>
        <p:blipFill>
          <a:blip r:embed="rId2"/>
          <a:stretch/>
        </p:blipFill>
        <p:spPr>
          <a:xfrm>
            <a:off x="468360" y="333360"/>
            <a:ext cx="8286840" cy="5867280"/>
          </a:xfrm>
          <a:prstGeom prst="rect">
            <a:avLst/>
          </a:prstGeom>
          <a:ln w="0">
            <a:noFill/>
          </a:ln>
        </p:spPr>
      </p:pic>
      <p:sp>
        <p:nvSpPr>
          <p:cNvPr id="217" name="TextBox 6"/>
          <p:cNvSpPr/>
          <p:nvPr/>
        </p:nvSpPr>
        <p:spPr>
          <a:xfrm>
            <a:off x="4143240" y="12859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stral"/>
                <a:ea typeface="Tahoma"/>
              </a:rPr>
              <a:t>ОСНОВЫ БЕЗОПАС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stral"/>
                <a:ea typeface="Tahoma"/>
              </a:rPr>
              <a:t>ПОВЕД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2" descr="C:\Documents and Settings\WETER\Рабочий стол\ad3a789759de.png"/>
          <p:cNvPicPr/>
          <p:nvPr/>
        </p:nvPicPr>
        <p:blipFill>
          <a:blip r:embed="rId3"/>
          <a:stretch/>
        </p:blipFill>
        <p:spPr>
          <a:xfrm>
            <a:off x="39528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19" name="Прямоугольник 7"/>
          <p:cNvSpPr/>
          <p:nvPr/>
        </p:nvSpPr>
        <p:spPr>
          <a:xfrm>
            <a:off x="3851280" y="2789280"/>
            <a:ext cx="4143240" cy="642960"/>
          </a:xfrm>
          <a:prstGeom prst="rect">
            <a:avLst/>
          </a:prstGeom>
          <a:gradFill rotWithShape="0">
            <a:gsLst>
              <a:gs pos="0">
                <a:srgbClr val="715a94"/>
              </a:gs>
              <a:gs pos="100000">
                <a:srgbClr val="9577c5"/>
              </a:gs>
            </a:gsLst>
            <a:lin ang="16200000"/>
          </a:gradFill>
          <a:ln w="9360">
            <a:solidFill>
              <a:srgbClr val="9880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ПРЕДВИДЕТЬ  ОПАС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8"/>
          <p:cNvSpPr/>
          <p:nvPr/>
        </p:nvSpPr>
        <p:spPr>
          <a:xfrm>
            <a:off x="3851280" y="3763800"/>
            <a:ext cx="4143240" cy="642960"/>
          </a:xfrm>
          <a:prstGeom prst="rect">
            <a:avLst/>
          </a:prstGeom>
          <a:gradFill rotWithShape="0">
            <a:gsLst>
              <a:gs pos="0">
                <a:srgbClr val="7a8967"/>
              </a:gs>
              <a:gs pos="100000">
                <a:srgbClr val="a1b688"/>
              </a:gs>
            </a:gsLst>
            <a:lin ang="16200000"/>
          </a:gradFill>
          <a:ln w="9360">
            <a:solidFill>
              <a:srgbClr val="a1b28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ПО ВОЗМОЖНОСТИ ИЗБЕГАТЬ Е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9"/>
          <p:cNvSpPr/>
          <p:nvPr/>
        </p:nvSpPr>
        <p:spPr>
          <a:xfrm>
            <a:off x="3851280" y="4730760"/>
            <a:ext cx="4143240" cy="642960"/>
          </a:xfrm>
          <a:prstGeom prst="rect">
            <a:avLst/>
          </a:prstGeom>
          <a:gradFill rotWithShape="0">
            <a:gsLst>
              <a:gs pos="0">
                <a:srgbClr val="c87a1f"/>
              </a:gs>
              <a:gs pos="100000">
                <a:srgbClr val="ffa227"/>
              </a:gs>
            </a:gsLst>
            <a:lin ang="16200000"/>
          </a:gradFill>
          <a:ln w="9360">
            <a:solidFill>
              <a:srgbClr val="f2a141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ПРИ НЕОБХОДИМОСТИ ДЕЙСТВОВ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C:\Documents and Settings\Sergey_2\Мои документы\Мои рисунки\РАЗНОЕ\ДОСКА Копировать.gif"/>
          <p:cNvPicPr/>
          <p:nvPr/>
        </p:nvPicPr>
        <p:blipFill>
          <a:blip r:embed="rId2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223" name="TextBox 6"/>
          <p:cNvSpPr/>
          <p:nvPr/>
        </p:nvSpPr>
        <p:spPr>
          <a:xfrm>
            <a:off x="2714760" y="1143000"/>
            <a:ext cx="39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stral"/>
                <a:ea typeface="Tahoma"/>
              </a:rPr>
              <a:t>ДОМАШНЕЕ ЗАД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Овальная выноска 10"/>
          <p:cNvSpPr/>
          <p:nvPr/>
        </p:nvSpPr>
        <p:spPr>
          <a:xfrm>
            <a:off x="1143000" y="2214720"/>
            <a:ext cx="5000760" cy="2571480"/>
          </a:xfrm>
          <a:prstGeom prst="wedgeEllipseCallout">
            <a:avLst>
              <a:gd name="adj1" fmla="val 53717"/>
              <a:gd name="adj2" fmla="val 45421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Начните вест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«Дневник безопасности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Оцените свое поведение в опасной ситуации и определите, каким образом можно было избежать отрицательных последств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000080" y="1895400"/>
          <a:ext cx="7286760" cy="3392640"/>
        </p:xfrm>
        <a:graphic>
          <a:graphicData uri="http://schemas.openxmlformats.org/drawingml/2006/table">
            <a:tbl>
              <a:tblPr/>
              <a:tblGrid>
                <a:gridCol w="1822320"/>
                <a:gridCol w="1820880"/>
                <a:gridCol w="1822680"/>
                <a:gridCol w="1820880"/>
              </a:tblGrid>
              <a:tr h="5619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исание ситу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к можно было избежа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гда, где и что произошл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е действие в этой ситу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асной ситу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рицательных последств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891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56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  <p:pic>
        <p:nvPicPr>
          <p:cNvPr id="226" name="Picture 2" descr="C:\Documents and Settings\WETER\Рабочий стол\ad3a789759de.png"/>
          <p:cNvPicPr/>
          <p:nvPr/>
        </p:nvPicPr>
        <p:blipFill>
          <a:blip r:embed="rId3"/>
          <a:stretch/>
        </p:blipFill>
        <p:spPr>
          <a:xfrm>
            <a:off x="9396360" y="2819520"/>
            <a:ext cx="322920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81481E-006 L -0.43854 0.0037 E">
                                      <p:cBhvr>
                                        <p:cTn id="611" dur="1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2000"/>
                            </p:stCondLst>
                            <p:childTnLst>
                              <p:par>
                                <p:cTn id="6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000"/>
                            </p:stCondLst>
                            <p:childTnLst>
                              <p:par>
                                <p:cTn id="6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C:\Documents and Settings\Sergey_2\Мои документы\Мои рисунки\РАЗНОЕ\ДОСКА Копировать.gif"/>
          <p:cNvPicPr/>
          <p:nvPr/>
        </p:nvPicPr>
        <p:blipFill>
          <a:blip r:embed="rId2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228" name="Овальная выноска 6"/>
          <p:cNvSpPr/>
          <p:nvPr/>
        </p:nvSpPr>
        <p:spPr>
          <a:xfrm>
            <a:off x="1214280" y="2286000"/>
            <a:ext cx="4500720" cy="1928880"/>
          </a:xfrm>
          <a:prstGeom prst="wedgeEllipseCallout">
            <a:avLst>
              <a:gd name="adj1" fmla="val 62791"/>
              <a:gd name="adj2" fmla="val 57740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Arial"/>
              </a:rPr>
              <a:t>Впереди у нас с вами еще много встреч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Arial"/>
              </a:rPr>
              <a:t>Берегите себя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2" descr="C:\Documents and Settings\WETER\Рабочий стол\ad3a789759de.png"/>
          <p:cNvPicPr/>
          <p:nvPr/>
        </p:nvPicPr>
        <p:blipFill>
          <a:blip r:embed="rId3"/>
          <a:stretch/>
        </p:blipFill>
        <p:spPr>
          <a:xfrm>
            <a:off x="550872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2"/>
          <p:cNvSpPr/>
          <p:nvPr/>
        </p:nvSpPr>
        <p:spPr>
          <a:xfrm>
            <a:off x="324000" y="1484280"/>
            <a:ext cx="84294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Основы  безопасности жизнедеятельности: учебник для 5-х классов общеобразовательных учреждений/ А.Т.Смирнов, Б.О.Хренников; под общей редакцией А.Т.Смирнова – 5-е изд. – М.: Просвещение, 2008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Тематические игры по ОБЖ. Методическое пособие для учителя. – М.: ТЦ Сфера, 20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allday.ru/uploads/posts/2009-04/1239637825_shutterstock_6623389-converted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www.allcliparts.ru/pics/EUROTOON/GERMANY/8.gi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pravo.vuz-chursin.ru/imgs/middle_e20be7f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images.yandex.ru/yandsearch?p=6&amp;ed=1&amp;text=%D0%BF%D0%BE%D0%B6%D0%B0%D1%80%20%D0%B4%D0%BE%D0%BC%D0%B0&amp;spsite=027-416185&amp;img_url=images.bugaga.ru%2Fposts%2F2008-12%2F1229205789_1-29.jpg&amp;rpt=sim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www.newsland.ru/public/upload/news/slaid/aktsii_protesta_politikafoto_1_1_1_1_1_1_1_1_1_1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www.minchanka.by/image/Eto%20interesno/001_vsyachina/electro/electro_00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images.yandex.ru/yandsearch?p=0&amp;ed=1&amp;text=%D0%BF%D1%80%D0%B8%D1%80%D0%BE%D0%B4%D0%BD%D1%8B%D0%B5%20%D1%8F%D0%B2%D0%BB%D0%B5%D0%BD%D0%B8%D1%8F&amp;spsite=photo.i.ua&amp;img_url=www.photographic.com.ua%2Fimage%2F76205.jpg&amp;rpt=sim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928800" y="53820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stral"/>
                <a:ea typeface="Tahoma"/>
              </a:rPr>
              <a:t>ИСПОЛЬЗОВАННАЯ ЛИТЕРАТУР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stral"/>
                <a:ea typeface="Tahoma"/>
              </a:rPr>
              <a:t>И ИНТЕРНЕТ ССЫЛ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Sergey_2\Мои документы\Мои рисунки\РАЗНОЕ\ДОСКА Копировать.gif"/>
          <p:cNvPicPr/>
          <p:nvPr/>
        </p:nvPicPr>
        <p:blipFill>
          <a:blip r:embed="rId2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Documents and Settings\WETER\Рабочий стол\ad3a789759de.png"/>
          <p:cNvPicPr/>
          <p:nvPr/>
        </p:nvPicPr>
        <p:blipFill>
          <a:blip r:embed="rId3"/>
          <a:stretch/>
        </p:blipFill>
        <p:spPr>
          <a:xfrm>
            <a:off x="39528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8" name="Овальная выноска 2"/>
          <p:cNvSpPr/>
          <p:nvPr/>
        </p:nvSpPr>
        <p:spPr>
          <a:xfrm>
            <a:off x="2857680" y="1071720"/>
            <a:ext cx="5357520" cy="2786040"/>
          </a:xfrm>
          <a:prstGeom prst="wedgeEllipseCallout">
            <a:avLst>
              <a:gd name="adj1" fmla="val -52699"/>
              <a:gd name="adj2" fmla="val 37175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Мы научимся:</a:t>
            </a:r>
            <a:br>
              <a:rPr sz="1600"/>
            </a:b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Arial"/>
              </a:rPr>
              <a:t> распознавать опасности и предвидеть их последствия;</a:t>
            </a:r>
            <a:br>
              <a:rPr sz="1600"/>
            </a:br>
            <a:r>
              <a:rPr b="1" lang="en-US" sz="1600" spc="-1" strike="noStrike">
                <a:solidFill>
                  <a:srgbClr val="002060"/>
                </a:solidFill>
                <a:latin typeface="Arial"/>
                <a:ea typeface="Arial"/>
              </a:rPr>
              <a:t>избегать опасностей и грамотно действовать, если избежать опасной ситуации невозможно;</a:t>
            </a:r>
            <a:br>
              <a:rPr sz="1600"/>
            </a:br>
            <a:r>
              <a:rPr b="1" lang="en-US" sz="1600" spc="-1" strike="noStrike">
                <a:solidFill>
                  <a:srgbClr val="dd7e0e"/>
                </a:solidFill>
                <a:latin typeface="Arial"/>
                <a:ea typeface="Arial"/>
              </a:rPr>
              <a:t>а главное – самим не создавать опасных ситуац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Sergey_2\Мои документы\Мои рисунки\РАЗНОЕ\ДОСКА Копировать.gif"/>
          <p:cNvPicPr/>
          <p:nvPr/>
        </p:nvPicPr>
        <p:blipFill>
          <a:blip r:embed="rId2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Documents and Settings\WETER\Рабочий стол\ad3a789759de.png"/>
          <p:cNvPicPr/>
          <p:nvPr/>
        </p:nvPicPr>
        <p:blipFill>
          <a:blip r:embed="rId3"/>
          <a:stretch/>
        </p:blipFill>
        <p:spPr>
          <a:xfrm>
            <a:off x="39528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1" name="Овальная выноска 2"/>
          <p:cNvSpPr/>
          <p:nvPr/>
        </p:nvSpPr>
        <p:spPr>
          <a:xfrm>
            <a:off x="2928960" y="1357200"/>
            <a:ext cx="5357880" cy="2000520"/>
          </a:xfrm>
          <a:prstGeom prst="wedgeEllipseCallout">
            <a:avLst>
              <a:gd name="adj1" fmla="val -55175"/>
              <a:gd name="adj2" fmla="val 54759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Счастливого вам пути к познанию мира, себя в нем, к здоровью и здоровому образу жизни!!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Documents and Settings\Sergey_2\Мои документы\Мои рисунки\РАЗНОЕ\ДОСКА Копировать.gif"/>
          <p:cNvPicPr/>
          <p:nvPr/>
        </p:nvPicPr>
        <p:blipFill>
          <a:blip r:embed="rId2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Documents and Settings\WETER\Рабочий стол\ad3a789759de.png"/>
          <p:cNvPicPr/>
          <p:nvPr/>
        </p:nvPicPr>
        <p:blipFill>
          <a:blip r:embed="rId3"/>
          <a:stretch/>
        </p:blipFill>
        <p:spPr>
          <a:xfrm>
            <a:off x="9396360" y="2819520"/>
            <a:ext cx="322920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4" name="Овальная выноска 3"/>
          <p:cNvSpPr/>
          <p:nvPr/>
        </p:nvSpPr>
        <p:spPr>
          <a:xfrm flipH="1">
            <a:off x="1142280" y="1357200"/>
            <a:ext cx="4714920" cy="2143080"/>
          </a:xfrm>
          <a:prstGeom prst="wedgeEllipseCallout">
            <a:avLst>
              <a:gd name="adj1" fmla="val -57476"/>
              <a:gd name="adj2" fmla="val 4971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Для того, чтобы вы поняли о чем пойдет сегодня речь, отгадайте небольшой кроссвор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81481E-006 L -0.43854 0.0037 E">
                                      <p:cBhvr>
                                        <p:cTn id="56" dur="1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Sergey_2\Мои документы\Мои рисунки\РАЗНОЕ\ДОСКА Копировать.gif"/>
          <p:cNvPicPr/>
          <p:nvPr/>
        </p:nvPicPr>
        <p:blipFill>
          <a:blip r:embed="rId2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66" name="Овальная выноска 54"/>
          <p:cNvSpPr/>
          <p:nvPr/>
        </p:nvSpPr>
        <p:spPr>
          <a:xfrm flipH="1">
            <a:off x="1214280" y="1071720"/>
            <a:ext cx="3500640" cy="1643040"/>
          </a:xfrm>
          <a:prstGeom prst="wedgeEllipseCallout">
            <a:avLst>
              <a:gd name="adj1" fmla="val -95976"/>
              <a:gd name="adj2" fmla="val 88898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Стою я с краю улиц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В длинном сапоге –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Чучело трехглазо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На одной ног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Овальная выноска 3"/>
          <p:cNvSpPr/>
          <p:nvPr/>
        </p:nvSpPr>
        <p:spPr>
          <a:xfrm flipH="1">
            <a:off x="1357200" y="1357200"/>
            <a:ext cx="3143520" cy="1143000"/>
          </a:xfrm>
          <a:prstGeom prst="wedgeEllipseCallout">
            <a:avLst>
              <a:gd name="adj1" fmla="val -110231"/>
              <a:gd name="adj2" fmla="val 122981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Не живая, а идет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Неподвижна, а веде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Группа 73"/>
          <p:cNvGrpSpPr/>
          <p:nvPr/>
        </p:nvGrpSpPr>
        <p:grpSpPr>
          <a:xfrm>
            <a:off x="1285920" y="3000240"/>
            <a:ext cx="4000320" cy="2500560"/>
            <a:chOff x="1285920" y="3000240"/>
            <a:chExt cx="4000320" cy="2500560"/>
          </a:xfrm>
        </p:grpSpPr>
        <p:sp>
          <p:nvSpPr>
            <p:cNvPr id="69" name="Прямоугольник 72"/>
            <p:cNvSpPr/>
            <p:nvPr/>
          </p:nvSpPr>
          <p:spPr>
            <a:xfrm>
              <a:off x="4786200" y="45007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Прямоугольник 13"/>
            <p:cNvSpPr/>
            <p:nvPr/>
          </p:nvSpPr>
          <p:spPr>
            <a:xfrm>
              <a:off x="4286160" y="45007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Прямоугольник 21"/>
            <p:cNvSpPr/>
            <p:nvPr/>
          </p:nvSpPr>
          <p:spPr>
            <a:xfrm>
              <a:off x="4286160" y="500076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Прямоугольник 35"/>
            <p:cNvSpPr/>
            <p:nvPr/>
          </p:nvSpPr>
          <p:spPr>
            <a:xfrm>
              <a:off x="4286160" y="350028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Прямоугольник 36"/>
            <p:cNvSpPr/>
            <p:nvPr/>
          </p:nvSpPr>
          <p:spPr>
            <a:xfrm>
              <a:off x="4786200" y="350028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Прямоугольник 38"/>
            <p:cNvSpPr/>
            <p:nvPr/>
          </p:nvSpPr>
          <p:spPr>
            <a:xfrm>
              <a:off x="1785960" y="300024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Прямоугольник 39"/>
            <p:cNvSpPr/>
            <p:nvPr/>
          </p:nvSpPr>
          <p:spPr>
            <a:xfrm>
              <a:off x="2286000" y="300024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Прямоугольник 40"/>
            <p:cNvSpPr/>
            <p:nvPr/>
          </p:nvSpPr>
          <p:spPr>
            <a:xfrm>
              <a:off x="2786040" y="300024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Прямоугольник 42"/>
            <p:cNvSpPr/>
            <p:nvPr/>
          </p:nvSpPr>
          <p:spPr>
            <a:xfrm>
              <a:off x="3786120" y="300024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Прямоугольник 43"/>
            <p:cNvSpPr/>
            <p:nvPr/>
          </p:nvSpPr>
          <p:spPr>
            <a:xfrm>
              <a:off x="1285920" y="300024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Прямоугольник 41"/>
            <p:cNvSpPr/>
            <p:nvPr/>
          </p:nvSpPr>
          <p:spPr>
            <a:xfrm>
              <a:off x="3286080" y="3000240"/>
              <a:ext cx="500040" cy="500040"/>
            </a:xfrm>
            <a:prstGeom prst="rect">
              <a:avLst/>
            </a:prstGeom>
            <a:solidFill>
              <a:srgbClr val="9c85c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Прямоугольник 33"/>
            <p:cNvSpPr/>
            <p:nvPr/>
          </p:nvSpPr>
          <p:spPr>
            <a:xfrm>
              <a:off x="3286080" y="3500280"/>
              <a:ext cx="500040" cy="500040"/>
            </a:xfrm>
            <a:prstGeom prst="rect">
              <a:avLst/>
            </a:prstGeom>
            <a:solidFill>
              <a:srgbClr val="9c85c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Прямоугольник 27"/>
            <p:cNvSpPr/>
            <p:nvPr/>
          </p:nvSpPr>
          <p:spPr>
            <a:xfrm>
              <a:off x="3286080" y="4000320"/>
              <a:ext cx="500040" cy="500040"/>
            </a:xfrm>
            <a:prstGeom prst="rect">
              <a:avLst/>
            </a:prstGeom>
            <a:solidFill>
              <a:srgbClr val="9c85c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Прямоугольник 11"/>
            <p:cNvSpPr/>
            <p:nvPr/>
          </p:nvSpPr>
          <p:spPr>
            <a:xfrm>
              <a:off x="3286080" y="4500720"/>
              <a:ext cx="500040" cy="500040"/>
            </a:xfrm>
            <a:prstGeom prst="rect">
              <a:avLst/>
            </a:prstGeom>
            <a:solidFill>
              <a:srgbClr val="9c85c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Прямоугольник 19"/>
            <p:cNvSpPr/>
            <p:nvPr/>
          </p:nvSpPr>
          <p:spPr>
            <a:xfrm>
              <a:off x="3286080" y="5000760"/>
              <a:ext cx="500040" cy="500040"/>
            </a:xfrm>
            <a:prstGeom prst="rect">
              <a:avLst/>
            </a:prstGeom>
            <a:solidFill>
              <a:srgbClr val="9c85c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Прямоугольник 29"/>
            <p:cNvSpPr/>
            <p:nvPr/>
          </p:nvSpPr>
          <p:spPr>
            <a:xfrm>
              <a:off x="1285920" y="350028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Прямоугольник 30"/>
            <p:cNvSpPr/>
            <p:nvPr/>
          </p:nvSpPr>
          <p:spPr>
            <a:xfrm>
              <a:off x="1785960" y="350028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Прямоугольник 31"/>
            <p:cNvSpPr/>
            <p:nvPr/>
          </p:nvSpPr>
          <p:spPr>
            <a:xfrm>
              <a:off x="2286000" y="350028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Прямоугольник 32"/>
            <p:cNvSpPr/>
            <p:nvPr/>
          </p:nvSpPr>
          <p:spPr>
            <a:xfrm>
              <a:off x="2786040" y="350028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Прямоугольник 34"/>
            <p:cNvSpPr/>
            <p:nvPr/>
          </p:nvSpPr>
          <p:spPr>
            <a:xfrm>
              <a:off x="3786120" y="350028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Прямоугольник 24"/>
            <p:cNvSpPr/>
            <p:nvPr/>
          </p:nvSpPr>
          <p:spPr>
            <a:xfrm>
              <a:off x="1785960" y="40003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Прямоугольник 25"/>
            <p:cNvSpPr/>
            <p:nvPr/>
          </p:nvSpPr>
          <p:spPr>
            <a:xfrm>
              <a:off x="2286000" y="40003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Прямоугольник 26"/>
            <p:cNvSpPr/>
            <p:nvPr/>
          </p:nvSpPr>
          <p:spPr>
            <a:xfrm>
              <a:off x="2786040" y="40003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Прямоугольник 28"/>
            <p:cNvSpPr/>
            <p:nvPr/>
          </p:nvSpPr>
          <p:spPr>
            <a:xfrm>
              <a:off x="3786120" y="40003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Прямоугольник 8"/>
            <p:cNvSpPr/>
            <p:nvPr/>
          </p:nvSpPr>
          <p:spPr>
            <a:xfrm>
              <a:off x="1785960" y="45007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Прямоугольник 9"/>
            <p:cNvSpPr/>
            <p:nvPr/>
          </p:nvSpPr>
          <p:spPr>
            <a:xfrm>
              <a:off x="2286000" y="45007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Прямоугольник 10"/>
            <p:cNvSpPr/>
            <p:nvPr/>
          </p:nvSpPr>
          <p:spPr>
            <a:xfrm>
              <a:off x="2786040" y="45007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Прямоугольник 12"/>
            <p:cNvSpPr/>
            <p:nvPr/>
          </p:nvSpPr>
          <p:spPr>
            <a:xfrm>
              <a:off x="3786120" y="45007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Прямоугольник 16"/>
            <p:cNvSpPr/>
            <p:nvPr/>
          </p:nvSpPr>
          <p:spPr>
            <a:xfrm>
              <a:off x="1785960" y="500076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Прямоугольник 17"/>
            <p:cNvSpPr/>
            <p:nvPr/>
          </p:nvSpPr>
          <p:spPr>
            <a:xfrm>
              <a:off x="2286000" y="500076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Прямоугольник 18"/>
            <p:cNvSpPr/>
            <p:nvPr/>
          </p:nvSpPr>
          <p:spPr>
            <a:xfrm>
              <a:off x="2786040" y="500076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Прямоугольник 20"/>
            <p:cNvSpPr/>
            <p:nvPr/>
          </p:nvSpPr>
          <p:spPr>
            <a:xfrm>
              <a:off x="3786120" y="500076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Овальная выноска 83"/>
          <p:cNvSpPr/>
          <p:nvPr/>
        </p:nvSpPr>
        <p:spPr>
          <a:xfrm flipH="1">
            <a:off x="5000760" y="1285920"/>
            <a:ext cx="2286000" cy="1214280"/>
          </a:xfrm>
          <a:prstGeom prst="wedgeEllipseCallout">
            <a:avLst>
              <a:gd name="adj1" fmla="val -11921"/>
              <a:gd name="adj2" fmla="val 119736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Великолепно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Овальная выноска 74"/>
          <p:cNvSpPr/>
          <p:nvPr/>
        </p:nvSpPr>
        <p:spPr>
          <a:xfrm flipH="1">
            <a:off x="5000760" y="1285920"/>
            <a:ext cx="2286000" cy="1214280"/>
          </a:xfrm>
          <a:prstGeom prst="wedgeEllipseCallout">
            <a:avLst>
              <a:gd name="adj1" fmla="val -10629"/>
              <a:gd name="adj2" fmla="val 117625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Похвально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Овальная выноска 64"/>
          <p:cNvSpPr/>
          <p:nvPr/>
        </p:nvSpPr>
        <p:spPr>
          <a:xfrm flipH="1">
            <a:off x="5000760" y="1285920"/>
            <a:ext cx="2286000" cy="1214280"/>
          </a:xfrm>
          <a:prstGeom prst="wedgeEllipseCallout">
            <a:avLst>
              <a:gd name="adj1" fmla="val -11680"/>
              <a:gd name="adj2" fmla="val 122486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Отлично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Овальная выноска 53"/>
          <p:cNvSpPr/>
          <p:nvPr/>
        </p:nvSpPr>
        <p:spPr>
          <a:xfrm flipH="1">
            <a:off x="5000760" y="1285920"/>
            <a:ext cx="2286000" cy="1214280"/>
          </a:xfrm>
          <a:prstGeom prst="wedgeEllipseCallout">
            <a:avLst>
              <a:gd name="adj1" fmla="val -11037"/>
              <a:gd name="adj2" fmla="val 118393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Молодцы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Овальная выноска 46"/>
          <p:cNvSpPr/>
          <p:nvPr/>
        </p:nvSpPr>
        <p:spPr>
          <a:xfrm flipH="1">
            <a:off x="5000760" y="1285920"/>
            <a:ext cx="2286000" cy="1214280"/>
          </a:xfrm>
          <a:prstGeom prst="wedgeEllipseCallout">
            <a:avLst>
              <a:gd name="adj1" fmla="val -9986"/>
              <a:gd name="adj2" fmla="val 120055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Правильно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C:\Documents and Settings\WETER\Рабочий стол\ad3a789759de.png"/>
          <p:cNvPicPr/>
          <p:nvPr/>
        </p:nvPicPr>
        <p:blipFill>
          <a:blip r:embed="rId3"/>
          <a:stretch/>
        </p:blipFill>
        <p:spPr>
          <a:xfrm>
            <a:off x="5364000" y="2819520"/>
            <a:ext cx="322920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7" name="Прямоугольник 47"/>
          <p:cNvSpPr/>
          <p:nvPr/>
        </p:nvSpPr>
        <p:spPr>
          <a:xfrm>
            <a:off x="1785960" y="300024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48"/>
          <p:cNvSpPr/>
          <p:nvPr/>
        </p:nvSpPr>
        <p:spPr>
          <a:xfrm>
            <a:off x="2286000" y="300024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оугольник 49"/>
          <p:cNvSpPr/>
          <p:nvPr/>
        </p:nvSpPr>
        <p:spPr>
          <a:xfrm>
            <a:off x="2786040" y="300024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Овальная выноска 65"/>
          <p:cNvSpPr/>
          <p:nvPr/>
        </p:nvSpPr>
        <p:spPr>
          <a:xfrm flipH="1">
            <a:off x="1214280" y="1071720"/>
            <a:ext cx="3571920" cy="1643040"/>
          </a:xfrm>
          <a:prstGeom prst="wedgeEllipseCallout">
            <a:avLst>
              <a:gd name="adj1" fmla="val -94847"/>
              <a:gd name="adj2" fmla="val 90111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На проезжей части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Неизвестной ма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Всяк ногами ее топчет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А она молчит не ропще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Овальная выноска 75"/>
          <p:cNvSpPr/>
          <p:nvPr/>
        </p:nvSpPr>
        <p:spPr>
          <a:xfrm flipH="1">
            <a:off x="785160" y="1071720"/>
            <a:ext cx="4143240" cy="1571400"/>
          </a:xfrm>
          <a:prstGeom prst="wedgeEllipseCallout">
            <a:avLst>
              <a:gd name="adj1" fmla="val -85402"/>
              <a:gd name="adj2" fmla="val 95814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На двух колесах я качу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Двумя педалями кручу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За руль держусь, гляжу впере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И вижу – скоро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Овальная выноска 84"/>
          <p:cNvSpPr/>
          <p:nvPr/>
        </p:nvSpPr>
        <p:spPr>
          <a:xfrm flipH="1">
            <a:off x="1071000" y="1285920"/>
            <a:ext cx="3500280" cy="1214280"/>
          </a:xfrm>
          <a:prstGeom prst="wedgeEllipseCallout">
            <a:avLst>
              <a:gd name="adj1" fmla="val -102203"/>
              <a:gd name="adj2" fmla="val 121861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Чего ни в комнате, ни на улице не увидишь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оугольник 50"/>
          <p:cNvSpPr/>
          <p:nvPr/>
        </p:nvSpPr>
        <p:spPr>
          <a:xfrm>
            <a:off x="3786120" y="300024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51"/>
          <p:cNvSpPr/>
          <p:nvPr/>
        </p:nvSpPr>
        <p:spPr>
          <a:xfrm>
            <a:off x="1285920" y="300024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52"/>
          <p:cNvSpPr/>
          <p:nvPr/>
        </p:nvSpPr>
        <p:spPr>
          <a:xfrm>
            <a:off x="3286080" y="3000240"/>
            <a:ext cx="500040" cy="500040"/>
          </a:xfrm>
          <a:prstGeom prst="rect">
            <a:avLst/>
          </a:prstGeom>
          <a:solidFill>
            <a:srgbClr val="f3a447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55"/>
          <p:cNvSpPr/>
          <p:nvPr/>
        </p:nvSpPr>
        <p:spPr>
          <a:xfrm>
            <a:off x="4282920" y="34941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56"/>
          <p:cNvSpPr/>
          <p:nvPr/>
        </p:nvSpPr>
        <p:spPr>
          <a:xfrm>
            <a:off x="4782960" y="3494160"/>
            <a:ext cx="50040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оугольник 57"/>
          <p:cNvSpPr/>
          <p:nvPr/>
        </p:nvSpPr>
        <p:spPr>
          <a:xfrm>
            <a:off x="3282840" y="3494160"/>
            <a:ext cx="500040" cy="500040"/>
          </a:xfrm>
          <a:prstGeom prst="rect">
            <a:avLst/>
          </a:prstGeom>
          <a:solidFill>
            <a:srgbClr val="f3a447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58"/>
          <p:cNvSpPr/>
          <p:nvPr/>
        </p:nvSpPr>
        <p:spPr>
          <a:xfrm>
            <a:off x="1282680" y="34941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оугольник 59"/>
          <p:cNvSpPr/>
          <p:nvPr/>
        </p:nvSpPr>
        <p:spPr>
          <a:xfrm>
            <a:off x="1782720" y="34941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оугольник 60"/>
          <p:cNvSpPr/>
          <p:nvPr/>
        </p:nvSpPr>
        <p:spPr>
          <a:xfrm>
            <a:off x="2282760" y="34941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61"/>
          <p:cNvSpPr/>
          <p:nvPr/>
        </p:nvSpPr>
        <p:spPr>
          <a:xfrm>
            <a:off x="2782800" y="34941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оугольник 62"/>
          <p:cNvSpPr/>
          <p:nvPr/>
        </p:nvSpPr>
        <p:spPr>
          <a:xfrm>
            <a:off x="3782880" y="34941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66"/>
          <p:cNvSpPr/>
          <p:nvPr/>
        </p:nvSpPr>
        <p:spPr>
          <a:xfrm>
            <a:off x="3286080" y="4000680"/>
            <a:ext cx="500040" cy="500040"/>
          </a:xfrm>
          <a:prstGeom prst="rect">
            <a:avLst/>
          </a:prstGeom>
          <a:solidFill>
            <a:srgbClr val="f3a447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67"/>
          <p:cNvSpPr/>
          <p:nvPr/>
        </p:nvSpPr>
        <p:spPr>
          <a:xfrm>
            <a:off x="1785960" y="400068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68"/>
          <p:cNvSpPr/>
          <p:nvPr/>
        </p:nvSpPr>
        <p:spPr>
          <a:xfrm>
            <a:off x="2286000" y="400068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69"/>
          <p:cNvSpPr/>
          <p:nvPr/>
        </p:nvSpPr>
        <p:spPr>
          <a:xfrm>
            <a:off x="2786040" y="400068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70"/>
          <p:cNvSpPr/>
          <p:nvPr/>
        </p:nvSpPr>
        <p:spPr>
          <a:xfrm>
            <a:off x="3786120" y="400068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76"/>
          <p:cNvSpPr/>
          <p:nvPr/>
        </p:nvSpPr>
        <p:spPr>
          <a:xfrm>
            <a:off x="4786200" y="450072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рямоугольник 77"/>
          <p:cNvSpPr/>
          <p:nvPr/>
        </p:nvSpPr>
        <p:spPr>
          <a:xfrm>
            <a:off x="4286160" y="450072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рямоугольник 78"/>
          <p:cNvSpPr/>
          <p:nvPr/>
        </p:nvSpPr>
        <p:spPr>
          <a:xfrm>
            <a:off x="3286080" y="4500720"/>
            <a:ext cx="500040" cy="500040"/>
          </a:xfrm>
          <a:prstGeom prst="rect">
            <a:avLst/>
          </a:prstGeom>
          <a:solidFill>
            <a:srgbClr val="f3a447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79"/>
          <p:cNvSpPr/>
          <p:nvPr/>
        </p:nvSpPr>
        <p:spPr>
          <a:xfrm>
            <a:off x="1785960" y="450072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оугольник 80"/>
          <p:cNvSpPr/>
          <p:nvPr/>
        </p:nvSpPr>
        <p:spPr>
          <a:xfrm>
            <a:off x="2286000" y="450072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81"/>
          <p:cNvSpPr/>
          <p:nvPr/>
        </p:nvSpPr>
        <p:spPr>
          <a:xfrm>
            <a:off x="2786040" y="450072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82"/>
          <p:cNvSpPr/>
          <p:nvPr/>
        </p:nvSpPr>
        <p:spPr>
          <a:xfrm>
            <a:off x="3786120" y="450072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87"/>
          <p:cNvSpPr/>
          <p:nvPr/>
        </p:nvSpPr>
        <p:spPr>
          <a:xfrm>
            <a:off x="4282920" y="50007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88"/>
          <p:cNvSpPr/>
          <p:nvPr/>
        </p:nvSpPr>
        <p:spPr>
          <a:xfrm>
            <a:off x="3282840" y="5000760"/>
            <a:ext cx="500040" cy="500040"/>
          </a:xfrm>
          <a:prstGeom prst="rect">
            <a:avLst/>
          </a:prstGeom>
          <a:solidFill>
            <a:srgbClr val="f3a447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89"/>
          <p:cNvSpPr/>
          <p:nvPr/>
        </p:nvSpPr>
        <p:spPr>
          <a:xfrm>
            <a:off x="1782720" y="50007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90"/>
          <p:cNvSpPr/>
          <p:nvPr/>
        </p:nvSpPr>
        <p:spPr>
          <a:xfrm>
            <a:off x="2282760" y="50007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91"/>
          <p:cNvSpPr/>
          <p:nvPr/>
        </p:nvSpPr>
        <p:spPr>
          <a:xfrm>
            <a:off x="2782800" y="50007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Прямоугольник 92"/>
          <p:cNvSpPr/>
          <p:nvPr/>
        </p:nvSpPr>
        <p:spPr>
          <a:xfrm>
            <a:off x="3782880" y="50007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C:\Documents and Settings\Sergey_2\Мои документы\Мои рисунки\РАЗНОЕ\ДОСКА Копировать.gif"/>
          <p:cNvPicPr/>
          <p:nvPr/>
        </p:nvPicPr>
        <p:blipFill>
          <a:blip r:embed="rId2"/>
          <a:stretch/>
        </p:blipFill>
        <p:spPr>
          <a:xfrm>
            <a:off x="468360" y="333360"/>
            <a:ext cx="8286840" cy="5867280"/>
          </a:xfrm>
          <a:prstGeom prst="rect">
            <a:avLst/>
          </a:prstGeom>
          <a:ln w="0">
            <a:noFill/>
          </a:ln>
        </p:spPr>
      </p:pic>
      <p:sp>
        <p:nvSpPr>
          <p:cNvPr id="143" name="Овальная выноска 2"/>
          <p:cNvSpPr/>
          <p:nvPr/>
        </p:nvSpPr>
        <p:spPr>
          <a:xfrm>
            <a:off x="2428920" y="1285920"/>
            <a:ext cx="5786280" cy="1785960"/>
          </a:xfrm>
          <a:prstGeom prst="wedgeEllipseCallout">
            <a:avLst>
              <a:gd name="adj1" fmla="val -45319"/>
              <a:gd name="adj2" fmla="val 70731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Итак! Сегодня, как вы уже догадались, мы поговорим о городе, так как город – место жительства для большинства из на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2" descr="C:\Documents and Settings\WETER\Рабочий стол\ad3a789759de.png"/>
          <p:cNvPicPr/>
          <p:nvPr/>
        </p:nvPicPr>
        <p:blipFill>
          <a:blip r:embed="rId3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5" name="TextBox 6"/>
          <p:cNvSpPr/>
          <p:nvPr/>
        </p:nvSpPr>
        <p:spPr>
          <a:xfrm>
            <a:off x="3995640" y="4149720"/>
            <a:ext cx="41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stral"/>
                <a:ea typeface="Tahoma"/>
              </a:rPr>
              <a:t>ГОРОД КАК СРЕДА ОБИТ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5076720" y="357336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stral"/>
                <a:ea typeface="Tahoma"/>
              </a:rPr>
              <a:t>Тема урок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C:\Documents and Settings\Sergey_2\Мои документы\Мои рисунки\РАЗНОЕ\ДОСКА Копировать.gif"/>
          <p:cNvPicPr/>
          <p:nvPr/>
        </p:nvPicPr>
        <p:blipFill>
          <a:blip r:embed="rId2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48" name="Овальная выноска 2"/>
          <p:cNvSpPr/>
          <p:nvPr/>
        </p:nvSpPr>
        <p:spPr>
          <a:xfrm>
            <a:off x="3143160" y="1285920"/>
            <a:ext cx="3786120" cy="1143000"/>
          </a:xfrm>
          <a:prstGeom prst="wedgeEllipseCallout">
            <a:avLst>
              <a:gd name="adj1" fmla="val -58425"/>
              <a:gd name="adj2" fmla="val 219115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А знаете ли вы когда появились города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Группа 10"/>
          <p:cNvGrpSpPr/>
          <p:nvPr/>
        </p:nvGrpSpPr>
        <p:grpSpPr>
          <a:xfrm>
            <a:off x="357480" y="-214200"/>
            <a:ext cx="8144640" cy="6666120"/>
            <a:chOff x="357480" y="-214200"/>
            <a:chExt cx="8144640" cy="6666120"/>
          </a:xfrm>
        </p:grpSpPr>
        <p:pic>
          <p:nvPicPr>
            <p:cNvPr id="150" name="Picture 2" descr="C:\Documents and Settings\WETER\Мои документы\Мои рисунки\2008\Коллекция картинок (Microsoft)\j0404647.wmf"/>
            <p:cNvPicPr/>
            <p:nvPr/>
          </p:nvPicPr>
          <p:blipFill>
            <a:blip r:embed="rId3"/>
            <a:stretch/>
          </p:blipFill>
          <p:spPr>
            <a:xfrm rot="1067400">
              <a:off x="914040" y="746280"/>
              <a:ext cx="7031160" cy="4744800"/>
            </a:xfrm>
            <a:prstGeom prst="rect">
              <a:avLst/>
            </a:prstGeom>
            <a:ln w="0">
              <a:noFill/>
            </a:ln>
            <a:effectLst>
              <a:outerShdw dist="103859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151" name="TextBox 9"/>
            <p:cNvSpPr/>
            <p:nvPr/>
          </p:nvSpPr>
          <p:spPr>
            <a:xfrm rot="21110400">
              <a:off x="2944800" y="2594520"/>
              <a:ext cx="3654360" cy="1908360"/>
            </a:xfrm>
            <a:prstGeom prst="rect">
              <a:avLst/>
            </a:prstGeom>
            <a:noFill/>
            <a:ln w="0">
              <a:noFill/>
            </a:ln>
            <a:effectLst>
              <a:outerShdw dist="0" dir="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Monotype Corsiva"/>
                </a:rPr>
                <a:t>Первое упоминание о городах  относится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Monotype Corsiva"/>
                </a:rPr>
                <a:t>к 4-3 тысячелетиям до нашей эры.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Monotype Corsiva"/>
                </a:rPr>
                <a:t>Это Вавилон, Мемфис и Фивы в Египте, Спарта и Афины в Греции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2" name="Picture 2" descr="C:\Documents and Settings\WETER\Рабочий стол\ad3a789759de.png"/>
          <p:cNvPicPr/>
          <p:nvPr/>
        </p:nvPicPr>
        <p:blipFill>
          <a:blip r:embed="rId4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C:\Documents and Settings\Sergey_2\Мои документы\Мои рисунки\РАЗНОЕ\ДОСКА Копировать.gif"/>
          <p:cNvPicPr/>
          <p:nvPr/>
        </p:nvPicPr>
        <p:blipFill>
          <a:blip r:embed="rId2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54" name="Овальная выноска 2"/>
          <p:cNvSpPr/>
          <p:nvPr/>
        </p:nvSpPr>
        <p:spPr>
          <a:xfrm>
            <a:off x="2000160" y="1143000"/>
            <a:ext cx="3929040" cy="1143000"/>
          </a:xfrm>
          <a:prstGeom prst="wedgeEllipseCallout">
            <a:avLst>
              <a:gd name="adj1" fmla="val -35111"/>
              <a:gd name="adj2" fmla="val 145569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Так что же такое - город? Как вы думаете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2" descr="C:\Documents and Settings\WETER\Рабочий стол\ad3a789759de.png"/>
          <p:cNvPicPr/>
          <p:nvPr/>
        </p:nvPicPr>
        <p:blipFill>
          <a:blip r:embed="rId3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6" name="Рисунок 10" descr="город.gif"/>
          <p:cNvPicPr/>
          <p:nvPr/>
        </p:nvPicPr>
        <p:blipFill>
          <a:blip r:embed="rId4"/>
          <a:stretch/>
        </p:blipFill>
        <p:spPr>
          <a:xfrm>
            <a:off x="5076720" y="2276640"/>
            <a:ext cx="3000600" cy="33922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5T10:21:03Z</dcterms:created>
  <dc:creator>WETER</dc:creator>
  <dc:description/>
  <dc:language>en-US</dc:language>
  <cp:lastModifiedBy>ученик</cp:lastModifiedBy>
  <dcterms:modified xsi:type="dcterms:W3CDTF">2015-11-05T08:01:57Z</dcterms:modified>
  <cp:revision>90</cp:revision>
  <dc:subject/>
  <dc:title>Слайд 1</dc:title>
</cp:coreProperties>
</file>