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F42-4AF3-4D85-82FF-B69B23D73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27C3-6169-4FA5-A449-E7C14BFE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5007-C033-4105-99A7-264DE8E03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07CE-0700-46CF-A805-38C8E85C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6124-2D25-4D01-836B-F4B370B2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171C8-9D0B-4975-A6E6-9564004A7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62923-F588-4382-B283-1838E6D3D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4DDF-8607-4A7A-A0E8-979A955C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27A3-0755-420C-AE5C-B2B3D0167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7BAA-4001-440B-A136-D30B86DF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D62D2-25AA-4544-A3F9-7125F398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EE3-9B0F-4D82-8003-2A06CB5A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0C403-35C3-4F81-831B-8A6B835F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2015-5845-47D7-BE02-781EFF4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9859-5605-48E5-800D-95C8EA1CA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E707-C6D5-47DE-8AD6-1BC8A518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9F71-722C-41B0-89DF-DE42C3B5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8C4-13AF-4EF9-B0D2-AF0B49EF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7334-5833-4A8B-887C-5B64244B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D6EF-D8E0-4E8D-84A3-2F1CD5A5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1C5D-10C2-4759-AEF0-99F579DE5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F54-E5CB-4DC0-B81F-B790D64C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63A-776C-4288-8F8A-D2AE9F65B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3D82-8093-4EF5-B679-7D2B76B1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B97B-B226-4EEB-A00A-E618557F0D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8600-F8F4-4786-B11E-844766A165E7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оюз как часть реч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ЦЕЛЬ: (определяют учащиеся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унктуационная задача №1. 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А) На встречу с выпускниками школы пришли и родители и учителя и ребята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Б)  Быстро лето пролетело и наступил учебный год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)  Летом мы с удовольствием купаемся и загораем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Расставь знаки препинания в предложениях и сделай вывод об условии постановки запятой.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Создание алгоритма по постановке запятой перед союзом И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Алгоритм выполнения задания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1.  Обозначьте в предложении грамматические основы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2.  Определите границы простых предложений в составе сложной синтаксической конструкц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3.  Посмотрите, как эти предложения связаны между соб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4.  Выясните, присутствует ли в предложении союз И, и в случае его наличия в предложении определите, что он соединяет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- если союз И соединяет однородные члены предложения, то перед ним не ставится запята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- если союз И соединяет простые предложения, то перед ним ставится запята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3. Игра «Собери пословицу»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981000"/>
          <a:ext cx="9207360" cy="5761080"/>
        </p:xfrm>
        <a:graphic>
          <a:graphicData uri="http://schemas.openxmlformats.org/drawingml/2006/table">
            <a:tbl>
              <a:tblPr/>
              <a:tblGrid>
                <a:gridCol w="2332080"/>
                <a:gridCol w="4073400"/>
                <a:gridCol w="28018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бы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до сильным, смелым быт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пишешь перо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 вырубишь топоро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одине служит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огд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Цену вещи узнаеш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 полки не достанеш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ак и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уки не протянеш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еряеш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мелый находит 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орон считает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 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ассеянный ничего не знает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обкий теряет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д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ам и счасть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ного знат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бы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до любить книгу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руд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Ласковое слов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ерево без корней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алач тем и хорош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есенний ден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1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еловек без друзей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оряч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539640" y="765000"/>
          <a:ext cx="8209080" cy="502920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. Надо сильным, смелым быть, чтобы Родине служит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2. Что напишешь пером, не вырубишь топором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3. Цену вещи узнаешь, когда потеряеш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4. Руки не протянешь, так и с полки не достанеш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5. Смелый находит то, что робкий теряет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6. Рассеянный ничего не знает, потому что ворон считает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7. Где труд, там и счастье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8. Чтобы много знать, надо любить книгу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9. Ласковое слово  что весенний ден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0. Калач тем и хорош, что горяч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флексия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Какие цели мы ставили в начале урок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Какой алгоритм разработали вмест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Какие признаки союза обнаружили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опробуйте сами оценить, научились ли вы распознавать союзы в текст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Итоговое обобщение по теме: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036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Вставь пропущенные понят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1. В русском языке есть …………   и служебные части реч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2. Служебные части речи это………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3. Союз – это…………………….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4. Союзы, состоящие из одного слова, называются…………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5. Союзы не являются………………………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6. Союзы связывают………………………………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7. Союзы, связывающие однородные члены предложения и равноправные по смыслу простые предложения в составе сложного, называются……………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8. Союзы, связывающие в сложном предложении неравноправные простые предложения, из которых одно зависит от другого, называются…....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О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УПР. 355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Материал памятки учит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овторим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8000" y="907920"/>
            <a:ext cx="9036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176"/>
                </a:solidFill>
                <a:latin typeface="Calibri"/>
              </a:rPr>
              <a:t>1.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Карточки – 5 чел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2. Орф. задача: (не) 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исправленная вовремя ошибка; (не)красивый, (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)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спаханное поле; роман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 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дописан; далеко не)главный, (не)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забываемое впечатление; (не)пять,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успокоившееся море;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сжатая рожь; телефон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отремонтирован; (не)глубокая, но бурная, 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написанное сочинение; калитка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закрыта, (не)прочитав, вовсе (не)высоко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Синтаксическая разминка.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1.Задание: прочитайте предложение А, Б, В, Г и выполните задани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А. По-моему, эта сказка могла бы быть написана о Генрихе Шиллер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Б. В одной из сказок Андерсена засохший розовый куст покрывается среди зимы белыми душистыми цветами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В. Куст расцветал, потому что к нему прикоснулась добрая человеческая рук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Г. «Он обладал даром,- сказал о Шиллере Гете,- облагораживать все, к чему прикасался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) В каком порядке должны следовать предложения, чтобы получился текст?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ы ответа: 1) Г, Б, А,В. 2)А,Б,В,Г. 3)Б,В,А,Г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) Б, А, В, Г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) У какого слова из текста неправильно определены грамматические признаки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. Засохший – действ. прич.прош.вр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. Среди – предлог, употр. с род. пад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. Расцвел – гл. сов.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. Даром – наречи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) В этом предложении есть союз: 1)А 2) Б 3) В 4) Г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) Укажите предложение с пунктуационной ошибкой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)Г,2)В,3)Б,4)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А – 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Б -  4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– 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Г – 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Создание проблемной ситуации.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  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Разберите по составу слова и скажите, что между ними общего?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ОЮЗ, УЗЫ,  УЗЕЛ,  ВЯЗАТЬ  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амо слово “союз” пришло в русский язык из старославянского, в котором оно было образовано с помощью приставки СО- от слова, корень которого дошел до нас в словах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УЗЕЛ, ВЯЗАТЬ, УЗЫ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Справочное бюро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Название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союз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появилось в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XVII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веке. В русском языке около 250 союзов. Ученые исследовали 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,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его значения, частоту употребления и обнаружили, что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– один из самых древних союзов русского языка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за тысячелетия не изменил своего значения, он соединяет слова и части сложного предложени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лово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за столь долгий срок не изменило своего звучани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тысячелетия был и остается исключительно частотным словом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так, 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– самый употребляющийся союз, особенно в устной реч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Разграничение функции союз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5840" y="836640"/>
            <a:ext cx="885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равните два предложения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В саду цвели розы и ромашки, душистый табак и лил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В саду зацветали розы, и ромашки весело вертели головками, и душистый табак наполнял воздух ароматом, а лилии важно тянули свои язычки к солнцу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(В первом предложении союз соединяет однородные члены, а во втором предложении – части сложносочиненного предложения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пределите, что такое союз как служебная часть реч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Союз – это служебная часть речи, используемая для связи однородных членов и частей сложного предложения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95280" y="1916280"/>
          <a:ext cx="8325000" cy="3809880"/>
        </p:xfrm>
        <a:graphic>
          <a:graphicData uri="http://schemas.openxmlformats.org/drawingml/2006/table">
            <a:tbl>
              <a:tblPr/>
              <a:tblGrid>
                <a:gridCol w="2952720"/>
                <a:gridCol w="1127160"/>
                <a:gridCol w="344520"/>
                <a:gridCol w="3900600"/>
              </a:tblGrid>
              <a:tr h="398880"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юз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. По морфологическому составу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ростые: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, но, даже, что, если, да, также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 что; </a:t>
                      </a: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ак как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сле того, как;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смотря на то, что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2. По употреблению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диночные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есни и стихи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вторяющиеся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 стихи, и песни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войные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-и; ни-ни; либо-либо; либо я, либо ты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1"/>
          <p:cNvSpPr/>
          <p:nvPr/>
        </p:nvSpPr>
        <p:spPr>
          <a:xfrm>
            <a:off x="145080" y="620640"/>
            <a:ext cx="904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РАССКАЖИТЕ О СОЮЗЕ, используя таблицу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Записать в памятку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728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Синтаксические функции союзов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8000" y="981000"/>
          <a:ext cx="8856720" cy="5303880"/>
        </p:xfrm>
        <a:graphic>
          <a:graphicData uri="http://schemas.openxmlformats.org/drawingml/2006/table">
            <a:tbl>
              <a:tblPr/>
              <a:tblGrid>
                <a:gridCol w="4408560"/>
                <a:gridCol w="4448160"/>
              </a:tblGrid>
              <a:tr h="4572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памятку. 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 синтаксическим функция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чинительные: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) соедин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; да; ни-ни; и-и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) сопостав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 только; но и; как-так и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) против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; но; однако; же; зато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) раздел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ли; или-или; либо-либо; то-то; не то - не то; то ли- то ли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) присоедин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а и; также; тоже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дчинительные: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) времен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 тех пор, как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) причин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 что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) целев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атем; чтобы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) условия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) уступитель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хотя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е) сравнитель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ж) изъяснитель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 и т.д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ве части в союзах: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, что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 тех пор, как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атем, что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04:20:00Z</dcterms:created>
  <dc:creator>михалыч</dc:creator>
  <dc:description/>
  <dc:language>en-US</dc:language>
  <cp:lastModifiedBy>User</cp:lastModifiedBy>
  <dcterms:modified xsi:type="dcterms:W3CDTF">2018-06-24T23:56:15Z</dcterms:modified>
  <cp:revision>9</cp:revision>
  <dc:subject/>
  <dc:title>Синтаксическая разминка.</dc:title>
</cp:coreProperties>
</file>