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B8EE-C73E-4C52-9839-A6D70166E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A873-935A-43F4-B8A9-70C6FF7E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10B-1990-4A8A-AFA7-A9D07BC44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84F3-6EE9-4117-B5BA-57554BC09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4B55-1180-4D91-A13C-611B7BF4F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2C51-A680-453F-B7DC-5D233B1C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D9E11-B653-4E74-9159-EA49D0A0C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2962-6E32-46CC-8E7B-E9B48157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1CE1-535E-4429-B580-85EDD369A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88784-375A-4245-A628-4325774A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F6C8-7E33-48A3-A50A-7DEF479A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A791-5D88-40A4-8D3A-B0F6F986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BC12-FC8F-42E1-BE90-37DC7A9F2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036C-C5F8-4E0C-84A5-0E8A3C90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C2398-FACB-46D3-86D2-627B6DED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912F-0D71-40E0-8CFC-DCA625196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C212-4465-4EC7-8889-4FDCF733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8B86-0D6D-4AA4-AB33-16CFE848E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0A4B-9A17-4440-AE3A-F0E7C74A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81F2-2243-4AD7-9D7E-C546CDC0C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5CF6-0DAA-45EE-A6F3-8321B637F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0991-CF1D-44C5-9C66-C2A3DB1A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01CE-EF10-444F-B5C0-C54427D9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9A152-EAC0-4A70-9D72-BA2D32FCD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3BA2-5452-47FC-A23A-DF98B4FEBB3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13B2-9BE7-426A-B958-BAE8FFFBBF95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оюз как часть речи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ЦЕЛЬ: (определяют учащиеся)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Пунктуационная задача №1. 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79280" y="907560"/>
            <a:ext cx="878544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А) На встречу с выпускниками школы пришли и родители и учителя и ребята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Б)  Быстро лето пролетело и наступил учебный год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В)  Летом мы с удовольствием купаемся и загораем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Расставь знаки препинания в предложениях и сделай вывод об условии постановки запятой. 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Создание алгоритма по постановке запятой перед союзом И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Алгоритм выполнения задания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928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1.  Обозначьте в предложении грамматические основы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2.  Определите границы простых предложений в составе сложной синтаксической конструкци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3.  Посмотрите, как эти предложения связаны между собой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4.  Выясните, присутствует ли в предложении союз И, и в случае его наличия в предложении определите, что он соединяет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- если союз И соединяет однородные члены предложения, то перед ним не ставится запятая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- если союз И соединяет простые предложения, то перед ним ставится запятая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3. Игра «Собери пословицу».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0" y="981000"/>
          <a:ext cx="9207360" cy="5761080"/>
        </p:xfrm>
        <a:graphic>
          <a:graphicData uri="http://schemas.openxmlformats.org/drawingml/2006/table">
            <a:tbl>
              <a:tblPr/>
              <a:tblGrid>
                <a:gridCol w="2332080"/>
                <a:gridCol w="4073400"/>
                <a:gridCol w="280188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бы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до сильным, смелым быть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пишешь пером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2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е вырубишь топором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одине служит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Когда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Цену вещи узнаешь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 полки не достанеш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4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ак и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уки не протянешь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еряеш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5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мелый находит 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орон считает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6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ому 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ассеянный ничего не знает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робкий теряет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7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д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ам и счастье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много знат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8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бы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адо любить книгу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руд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9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Ласковое слов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ерево без корней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0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Калач тем и хорош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есенний день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1. 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еловек без друзей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оряч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539640" y="765000"/>
          <a:ext cx="8209080" cy="5029200"/>
        </p:xfrm>
        <a:graphic>
          <a:graphicData uri="http://schemas.openxmlformats.org/drawingml/2006/table">
            <a:tbl>
              <a:tblPr/>
              <a:tblGrid>
                <a:gridCol w="82090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Ответы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. Надо сильным, смелым быть, чтобы Родине служить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2. Что напишешь пером, не вырубишь топором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3. Цену вещи узнаешь, когда потеряешь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4. Руки не протянешь, так и с полки не достанешь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5. Смелый находит то, что робкий теряет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6. Рассеянный ничего не знает, потому что ворон считает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7. Где труд, там и счастье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8. Чтобы много знать, надо любить книгу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9. Ласковое слово  что весенний день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0. Калач тем и хорош, что горяч.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Рефлексия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Какие цели мы ставили в начале урок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Какой алгоритм разработали вместе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Какие признаки союза обнаружили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Попробуйте сами оценить, научились ли вы распознавать союзы в тексте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55640" y="11592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Итоговое обобщение по теме: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03600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Вставь пропущенные понятия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1. В русском языке есть …………   и служебные части реч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2. Служебные части речи это………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3. Союз – это…………………….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4. Союзы, состоящие из одного слова, называются…………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5. Союзы не являются………………………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6. Союзы связывают…………………………………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7. Союзы, связывающие однородные члены предложения и равноправные по смыслу простые предложения в составе сложного, называются………………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8. Союзы, связывающие в сложном предложении неравноправные простые предложения, из которых одно зависит от другого, называются…....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ДО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УПР. 355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Материал памятки учить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овторим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8000" y="907920"/>
            <a:ext cx="903600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4176"/>
                </a:solidFill>
                <a:latin typeface="Calibri"/>
              </a:rPr>
              <a:t>1.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Карточки – 5 чел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2. Орф. задача: (не) 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исправленная вовремя ошибка; (не)красивый, (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)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вспаханное поле; роман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 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дописан; далеко не)главный, (не)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забываемое впечатление; (не)пять,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успокоившееся море;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сжатая рожь; телефон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отремонтирован; (не)глубокая, но бурная, 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написанное сочинение; калитка </a:t>
            </a:r>
            <a:r>
              <a:rPr b="1" i="1" lang="ru-RU" sz="3600" spc="-1" strike="noStrike">
                <a:solidFill>
                  <a:srgbClr val="404176"/>
                </a:solidFill>
                <a:latin typeface="Times New Roman"/>
              </a:rPr>
              <a:t>не</a:t>
            </a: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закрыта, (не)прочитав, вовсе (не)высоко.</a:t>
            </a: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Синтаксическая разминка.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1.Задание: прочитайте предложение А, Б, В, Г и выполните задание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А. По-моему, эта сказка могла бы быть написана о Генрихе Шиллере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Б. В одной из сказок Андерсена засохший розовый куст покрывается среди зимы белыми душистыми цветами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В. Куст расцветал, потому что к нему прикоснулась добрая человеческая рука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Times New Roman"/>
              </a:rPr>
              <a:t>Г. «Он обладал даром,- сказал о Шиллере Гете,- облагораживать все, к чему прикасался»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А) В каком порядке должны следовать предложения, чтобы получился текст?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арианты ответа: 1) Г, Б, А,В. 2)А,Б,В,Г. 3)Б,В,А,Г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) Б, А, В, Г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Б) У какого слова из текста неправильно определены грамматические признаки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. Засохший – действ. прич.прош.вр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2. Среди – предлог, употр. с род. пад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3. Расцвел – гл. сов.в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4. Даром – наречие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) В этом предложении есть союз: 1)А 2) Б 3) В 4) Г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Г) Укажите предложение с пунктуационной ошибкой: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1)Г,2)В,3)Б,4)А.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ТВЕ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А – 3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Б -  4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В – 3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Г – 3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Создание проблемной ситуации.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  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Разберите по составу слова и скажите, что между ними общего?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СОЮЗ, УЗЫ,  УЗЕЛ,  ВЯЗАТЬ  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Само слово “союз” пришло в русский язык из старославянского, в котором оно было образовано с помощью приставки СО- от слова, корень которого дошел до нас в словах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УЗЕЛ, ВЯЗАТЬ, УЗЫ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4176"/>
                </a:solidFill>
                <a:latin typeface="Times New Roman"/>
              </a:rPr>
              <a:t>Справочное бюро</a:t>
            </a: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8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Название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союз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появилось в </a:t>
            </a:r>
            <a:r>
              <a:rPr b="1" lang="en-US" sz="2800" spc="-1" strike="noStrike">
                <a:solidFill>
                  <a:srgbClr val="404176"/>
                </a:solidFill>
                <a:latin typeface="Times New Roman"/>
              </a:rPr>
              <a:t>XVII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веке. В русском языке около 250 союзов. Ученые исследовали союз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,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его значения, частоту употребления и обнаружили, что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– один из самых древних союзов русского языка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союз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за тысячелетия не изменил своего значения, он соединяет слова и части сложного предложения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слово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за столь долгий срок не изменило своего звучания;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– 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союз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тысячелетия был и остается исключительно частотным словом. 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Итак, союз 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«и»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 – самый употребляющийся союз, особенно в устной реч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4360" y="25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Разграничение функции союзов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5840" y="836640"/>
            <a:ext cx="8858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Сравните два предложения: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1.</a:t>
            </a: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В саду цвели розы и ромашки, душистый табак и лили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2.</a:t>
            </a:r>
            <a:r>
              <a:rPr b="1" lang="ru-RU" sz="2800" spc="-1" strike="noStrike">
                <a:solidFill>
                  <a:srgbClr val="404176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В саду зацветали розы, и ромашки весело вертели головками, и душистый табак наполнял воздух ароматом, а лилии важно тянули свои язычки к солнцу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(В первом предложении союз соединяет однородные члены, а во втором предложении – части сложносочиненного предложения)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176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Определите, что такое союз как служебная часть речи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176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404176"/>
                </a:solidFill>
                <a:latin typeface="Times New Roman"/>
              </a:rPr>
              <a:t>Союз – это служебная часть речи, используемая для связи однородных членов и частей сложного предложения).</a:t>
            </a:r>
            <a:endParaRPr b="0" lang="en-US" sz="2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395280" y="1916280"/>
          <a:ext cx="8325000" cy="3809880"/>
        </p:xfrm>
        <a:graphic>
          <a:graphicData uri="http://schemas.openxmlformats.org/drawingml/2006/table">
            <a:tbl>
              <a:tblPr/>
              <a:tblGrid>
                <a:gridCol w="2952720"/>
                <a:gridCol w="1127160"/>
                <a:gridCol w="344520"/>
                <a:gridCol w="3900600"/>
              </a:tblGrid>
              <a:tr h="398880">
                <a:tc gridSpan="4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оюз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1. По морфологическому составу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ростые: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а, но, даже, что, если, да, также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оставные</a:t>
                      </a: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ому что; </a:t>
                      </a: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так как;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сле того, как; 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есмотря на то, что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 gridSpan="4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2. По употреблению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Одиночные</a:t>
                      </a: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есни и стихи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вторяющиеся</a:t>
                      </a: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и стихи, и песни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войные: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и-и; ни-ни; либо-либо; либо я, либо ты.</a:t>
                      </a:r>
                      <a:endParaRPr b="0" lang="en-US" sz="20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Box 1"/>
          <p:cNvSpPr/>
          <p:nvPr/>
        </p:nvSpPr>
        <p:spPr>
          <a:xfrm>
            <a:off x="145080" y="620640"/>
            <a:ext cx="904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РАССКАЖИТЕ О СОЮЗЕ, используя таблицу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                          </a:t>
            </a:r>
            <a:r>
              <a:rPr b="1" lang="ru-RU" sz="3200" spc="-1" strike="noStrike">
                <a:solidFill>
                  <a:srgbClr val="404176"/>
                </a:solidFill>
                <a:latin typeface="Times New Roman"/>
              </a:rPr>
              <a:t>Записать в памятку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87280" y="18864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4176"/>
                </a:solidFill>
                <a:latin typeface="Times New Roman"/>
              </a:rPr>
              <a:t>Синтаксические функции союзов</a:t>
            </a: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108000" y="981000"/>
          <a:ext cx="8856720" cy="5303880"/>
        </p:xfrm>
        <a:graphic>
          <a:graphicData uri="http://schemas.openxmlformats.org/drawingml/2006/table">
            <a:tbl>
              <a:tblPr/>
              <a:tblGrid>
                <a:gridCol w="4408560"/>
                <a:gridCol w="4448160"/>
              </a:tblGrid>
              <a:tr h="45720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В памятку. 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 синтаксическим функциям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6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очинительные: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а) соедин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и; да; ни-ни; и-и;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б) сопостав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не только; но и; как-так и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) против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а; но; однако; же; зато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) раздел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или; или-или; либо-либо; то-то; не то - не то; то ли- то ли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;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) присоединительные: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а и; также; тоже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Подчинительные: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а) времен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 тех пор, как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б) причин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ому что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в) целев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затем; чтобы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г) условия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если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) уступитель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хотя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е) сравнитель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как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ж) изъяснительные (</a:t>
                      </a: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что</a:t>
                      </a: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) и т.д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Две части в союзах: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потому, что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с тех пор, как; 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404176"/>
                          </a:solidFill>
                          <a:latin typeface="Times New Roman"/>
                          <a:ea typeface="Times New Roman"/>
                        </a:rPr>
                        <a:t>затем, что.</a:t>
                      </a:r>
                      <a:endParaRPr b="0" lang="en-US" sz="24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3T04:20:00Z</dcterms:created>
  <dc:creator>михалыч</dc:creator>
  <dc:description/>
  <dc:language>en-US</dc:language>
  <cp:lastModifiedBy>User</cp:lastModifiedBy>
  <dcterms:modified xsi:type="dcterms:W3CDTF">2018-06-24T23:56:15Z</dcterms:modified>
  <cp:revision>9</cp:revision>
  <dc:subject/>
  <dc:title>Синтаксическая разминка.</dc:title>
</cp:coreProperties>
</file>