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F42F2-B9F4-4CA7-A0B4-2FA0FD3A80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039920"/>
            <a:ext cx="769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B49D3-99AB-4B24-A781-975A89928B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03992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8880" y="403992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D7976-4FBA-4947-A416-4017E5239F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520" y="182844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240" y="182844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03992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520" y="403992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240" y="403992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1C308-B355-4A97-8535-1E1EBAA0E5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EA7AD-C512-4081-9ADF-3E57546AE4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69464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A7403-6A41-45F9-B438-D160D7B431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4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5BFFF-F13C-41A5-91FC-8EA1451827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D85E3-3FCF-4ED9-96A2-A07A9933F7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992B8-0B8C-412F-A4EB-3725E17B95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85440" y="-352800"/>
            <a:ext cx="6869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22AAB-EC24-454E-AA8C-33867C6418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403992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F220B-8BE7-412C-B01E-C0A8FEA207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69464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D17BF-196F-40A5-B1B0-210D5E4B93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28880" y="403992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AF876-2E53-471F-B308-A281779A92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039920"/>
            <a:ext cx="769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0EF75-BC74-45EC-9748-5F88DCB820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85800" y="4039920"/>
            <a:ext cx="769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07E47-7033-401E-BC68-2B14838E57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03992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28880" y="403992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B2F31-4F3F-48D1-BA08-8353157CA0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87520" y="182844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889240" y="182844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85800" y="403992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87520" y="403992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889240" y="4039920"/>
            <a:ext cx="24775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FFDD1-FA67-458B-B5B1-EBB07E60D9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4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59252-282C-4FE6-8F88-B7618EDCC4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78BC7-6EAE-47BA-92F4-F18BA71678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12C3C-0D95-4D20-9FA3-23BCD8C3B8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-352800"/>
            <a:ext cx="6869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BA479-CDDB-49EA-B7C0-EBE25C99E0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03992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6729E-E4CC-4C81-8C7D-894DD3CEB1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8880" y="403992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C99F4-7A62-452D-8BB9-B546FC0CB1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8880" y="1828440"/>
            <a:ext cx="37548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039920"/>
            <a:ext cx="7694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EFE80-4E31-4A22-B5F6-E9409FD75E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 rot="18420000">
            <a:off x="7776360" y="-13680"/>
            <a:ext cx="1161720" cy="2084400"/>
          </a:xfrm>
          <a:custGeom>
            <a:avLst/>
            <a:gdLst>
              <a:gd name="textAreaLeft" fmla="*/ 0 w 1161720"/>
              <a:gd name="textAreaRight" fmla="*/ 1162080 w 116172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694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7179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604801-5EB4-4F48-8F04-3C62F5050B14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AutoShape 7"/>
          <p:cNvSpPr/>
          <p:nvPr/>
        </p:nvSpPr>
        <p:spPr>
          <a:xfrm rot="184200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AutoShape 8"/>
          <p:cNvSpPr/>
          <p:nvPr/>
        </p:nvSpPr>
        <p:spPr>
          <a:xfrm rot="18420000">
            <a:off x="7830720" y="19332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7920" y="5540400"/>
            <a:ext cx="1782360" cy="1244160"/>
            <a:chOff x="7920" y="5540400"/>
            <a:chExt cx="1782360" cy="1244160"/>
          </a:xfrm>
        </p:grpSpPr>
        <p:sp>
          <p:nvSpPr>
            <p:cNvPr id="9" name="AutoShape 10"/>
            <p:cNvSpPr/>
            <p:nvPr/>
          </p:nvSpPr>
          <p:spPr>
            <a:xfrm>
              <a:off x="38160" y="5563800"/>
              <a:ext cx="1728720" cy="10285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AutoShape 11"/>
            <p:cNvSpPr/>
            <p:nvPr/>
          </p:nvSpPr>
          <p:spPr>
            <a:xfrm>
              <a:off x="1622520" y="5686200"/>
              <a:ext cx="112680" cy="2041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AutoShape 12"/>
            <p:cNvSpPr/>
            <p:nvPr/>
          </p:nvSpPr>
          <p:spPr>
            <a:xfrm>
              <a:off x="31680" y="5990400"/>
              <a:ext cx="1257480" cy="64980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49800"/>
                <a:gd name="textAreaBottom" fmla="*/ 650160 h 64980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AutoShape 13"/>
            <p:cNvSpPr/>
            <p:nvPr/>
          </p:nvSpPr>
          <p:spPr>
            <a:xfrm>
              <a:off x="204840" y="6044040"/>
              <a:ext cx="833400" cy="59256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2560"/>
                <a:gd name="textAreaBottom" fmla="*/ 592920 h 5925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AutoShape 14"/>
            <p:cNvSpPr/>
            <p:nvPr/>
          </p:nvSpPr>
          <p:spPr>
            <a:xfrm>
              <a:off x="770040" y="5606640"/>
              <a:ext cx="214200" cy="19188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AutoShape 15"/>
            <p:cNvSpPr/>
            <p:nvPr/>
          </p:nvSpPr>
          <p:spPr>
            <a:xfrm>
              <a:off x="1017720" y="6607080"/>
              <a:ext cx="120600" cy="1774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AutoShape 16"/>
            <p:cNvSpPr/>
            <p:nvPr/>
          </p:nvSpPr>
          <p:spPr>
            <a:xfrm>
              <a:off x="800280" y="5725800"/>
              <a:ext cx="306360" cy="60696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6960"/>
                <a:gd name="textAreaBottom" fmla="*/ 607320 h 60696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AutoShape 17"/>
            <p:cNvSpPr/>
            <p:nvPr/>
          </p:nvSpPr>
          <p:spPr>
            <a:xfrm>
              <a:off x="1060560" y="5698800"/>
              <a:ext cx="577800" cy="27540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AutoShape 18"/>
            <p:cNvSpPr/>
            <p:nvPr/>
          </p:nvSpPr>
          <p:spPr>
            <a:xfrm>
              <a:off x="550800" y="5861880"/>
              <a:ext cx="247680" cy="10620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8" name="Group 19"/>
            <p:cNvGrpSpPr/>
            <p:nvPr/>
          </p:nvGrpSpPr>
          <p:grpSpPr>
            <a:xfrm>
              <a:off x="7920" y="5540400"/>
              <a:ext cx="1782360" cy="1234080"/>
              <a:chOff x="7920" y="5540400"/>
              <a:chExt cx="1782360" cy="1234080"/>
            </a:xfrm>
          </p:grpSpPr>
          <p:grpSp>
            <p:nvGrpSpPr>
              <p:cNvPr id="19" name="Group 20"/>
              <p:cNvGrpSpPr/>
              <p:nvPr/>
            </p:nvGrpSpPr>
            <p:grpSpPr>
              <a:xfrm>
                <a:off x="792000" y="5654160"/>
                <a:ext cx="868320" cy="1120320"/>
                <a:chOff x="792000" y="5654160"/>
                <a:chExt cx="868320" cy="1120320"/>
              </a:xfrm>
            </p:grpSpPr>
            <p:sp>
              <p:nvSpPr>
                <p:cNvPr id="20" name="AutoShape 21"/>
                <p:cNvSpPr/>
                <p:nvPr/>
              </p:nvSpPr>
              <p:spPr>
                <a:xfrm>
                  <a:off x="792000" y="5693760"/>
                  <a:ext cx="248760" cy="137160"/>
                </a:xfrm>
                <a:custGeom>
                  <a:avLst/>
                  <a:gdLst>
                    <a:gd name="textAreaLeft" fmla="*/ 0 w 248760"/>
                    <a:gd name="textAreaRight" fmla="*/ 249120 w 248760"/>
                    <a:gd name="textAreaTop" fmla="*/ 0 h 137160"/>
                    <a:gd name="textAreaBottom" fmla="*/ 137520 h 13716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AutoShape 22"/>
                <p:cNvSpPr/>
                <p:nvPr/>
              </p:nvSpPr>
              <p:spPr>
                <a:xfrm>
                  <a:off x="1009080" y="6563880"/>
                  <a:ext cx="182160" cy="210600"/>
                </a:xfrm>
                <a:custGeom>
                  <a:avLst/>
                  <a:gdLst>
                    <a:gd name="textAreaLeft" fmla="*/ 0 w 182160"/>
                    <a:gd name="textAreaRight" fmla="*/ 182520 w 182160"/>
                    <a:gd name="textAreaTop" fmla="*/ 0 h 210600"/>
                    <a:gd name="textAreaBottom" fmla="*/ 210960 h 21060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AutoShape 23"/>
                <p:cNvSpPr/>
                <p:nvPr/>
              </p:nvSpPr>
              <p:spPr>
                <a:xfrm>
                  <a:off x="1592280" y="5654160"/>
                  <a:ext cx="68040" cy="18504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185040"/>
                    <a:gd name="textAreaBottom" fmla="*/ 185400 h 18504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AutoShape 24"/>
              <p:cNvSpPr/>
              <p:nvPr/>
            </p:nvSpPr>
            <p:spPr>
              <a:xfrm>
                <a:off x="120600" y="5923800"/>
                <a:ext cx="944640" cy="39636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6360"/>
                  <a:gd name="textAreaBottom" fmla="*/ 396720 h 396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" name="AutoShape 25"/>
              <p:cNvSpPr/>
              <p:nvPr/>
            </p:nvSpPr>
            <p:spPr>
              <a:xfrm>
                <a:off x="412920" y="6167880"/>
                <a:ext cx="387360" cy="23472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" name="AutoShape 26"/>
              <p:cNvSpPr/>
              <p:nvPr/>
            </p:nvSpPr>
            <p:spPr>
              <a:xfrm>
                <a:off x="896760" y="5841360"/>
                <a:ext cx="169920" cy="37692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6920"/>
                  <a:gd name="textAreaBottom" fmla="*/ 377280 h 37692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26" name="Group 27"/>
              <p:cNvGrpSpPr/>
              <p:nvPr/>
            </p:nvGrpSpPr>
            <p:grpSpPr>
              <a:xfrm>
                <a:off x="7920" y="5540400"/>
                <a:ext cx="1782360" cy="1072440"/>
                <a:chOff x="7920" y="5540400"/>
                <a:chExt cx="1782360" cy="1072440"/>
              </a:xfrm>
            </p:grpSpPr>
            <p:sp>
              <p:nvSpPr>
                <p:cNvPr id="27" name="AutoShape 28"/>
                <p:cNvSpPr/>
                <p:nvPr/>
              </p:nvSpPr>
              <p:spPr>
                <a:xfrm>
                  <a:off x="1060920" y="6423120"/>
                  <a:ext cx="118800" cy="137160"/>
                </a:xfrm>
                <a:custGeom>
                  <a:avLst/>
                  <a:gdLst>
                    <a:gd name="textAreaLeft" fmla="*/ 0 w 118800"/>
                    <a:gd name="textAreaRight" fmla="*/ 119160 w 118800"/>
                    <a:gd name="textAreaTop" fmla="*/ 0 h 137160"/>
                    <a:gd name="textAreaBottom" fmla="*/ 137520 h 13716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AutoShape 29"/>
                <p:cNvSpPr/>
                <p:nvPr/>
              </p:nvSpPr>
              <p:spPr>
                <a:xfrm>
                  <a:off x="7920" y="5916600"/>
                  <a:ext cx="1335240" cy="696240"/>
                </a:xfrm>
                <a:custGeom>
                  <a:avLst/>
                  <a:gdLst>
                    <a:gd name="textAreaLeft" fmla="*/ 0 w 1335240"/>
                    <a:gd name="textAreaRight" fmla="*/ 1335600 w 1335240"/>
                    <a:gd name="textAreaTop" fmla="*/ 0 h 696240"/>
                    <a:gd name="textAreaBottom" fmla="*/ 696600 h 69624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AutoShape 30"/>
                <p:cNvSpPr/>
                <p:nvPr/>
              </p:nvSpPr>
              <p:spPr>
                <a:xfrm>
                  <a:off x="167760" y="5983200"/>
                  <a:ext cx="126720" cy="263880"/>
                </a:xfrm>
                <a:custGeom>
                  <a:avLst/>
                  <a:gdLst>
                    <a:gd name="textAreaLeft" fmla="*/ 0 w 126720"/>
                    <a:gd name="textAreaRight" fmla="*/ 127080 w 126720"/>
                    <a:gd name="textAreaTop" fmla="*/ 0 h 263880"/>
                    <a:gd name="textAreaBottom" fmla="*/ 264240 h 26388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AutoShape 31"/>
                <p:cNvSpPr/>
                <p:nvPr/>
              </p:nvSpPr>
              <p:spPr>
                <a:xfrm>
                  <a:off x="712080" y="5540400"/>
                  <a:ext cx="510480" cy="939600"/>
                </a:xfrm>
                <a:custGeom>
                  <a:avLst/>
                  <a:gdLst>
                    <a:gd name="textAreaLeft" fmla="*/ 0 w 510480"/>
                    <a:gd name="textAreaRight" fmla="*/ 510840 w 510480"/>
                    <a:gd name="textAreaTop" fmla="*/ 0 h 939600"/>
                    <a:gd name="textAreaBottom" fmla="*/ 939960 h 93960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AutoShape 32"/>
                <p:cNvSpPr/>
                <p:nvPr/>
              </p:nvSpPr>
              <p:spPr>
                <a:xfrm>
                  <a:off x="916560" y="5793120"/>
                  <a:ext cx="151920" cy="398880"/>
                </a:xfrm>
                <a:custGeom>
                  <a:avLst/>
                  <a:gdLst>
                    <a:gd name="textAreaLeft" fmla="*/ 0 w 151920"/>
                    <a:gd name="textAreaRight" fmla="*/ 152280 w 151920"/>
                    <a:gd name="textAreaTop" fmla="*/ 0 h 398880"/>
                    <a:gd name="textAreaBottom" fmla="*/ 399240 h 39888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AutoShape 33"/>
                <p:cNvSpPr/>
                <p:nvPr/>
              </p:nvSpPr>
              <p:spPr>
                <a:xfrm>
                  <a:off x="519840" y="5761440"/>
                  <a:ext cx="309240" cy="213840"/>
                </a:xfrm>
                <a:custGeom>
                  <a:avLst/>
                  <a:gdLst>
                    <a:gd name="textAreaLeft" fmla="*/ 0 w 309240"/>
                    <a:gd name="textAreaRight" fmla="*/ 309600 w 309240"/>
                    <a:gd name="textAreaTop" fmla="*/ 0 h 213840"/>
                    <a:gd name="textAreaBottom" fmla="*/ 214200 h 21384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AutoShape 34"/>
                <p:cNvSpPr/>
                <p:nvPr/>
              </p:nvSpPr>
              <p:spPr>
                <a:xfrm>
                  <a:off x="1043640" y="5616360"/>
                  <a:ext cx="746640" cy="334800"/>
                </a:xfrm>
                <a:custGeom>
                  <a:avLst/>
                  <a:gdLst>
                    <a:gd name="textAreaLeft" fmla="*/ 0 w 746640"/>
                    <a:gd name="textAreaRight" fmla="*/ 747000 w 746640"/>
                    <a:gd name="textAreaTop" fmla="*/ 0 h 334800"/>
                    <a:gd name="textAreaBottom" fmla="*/ 335160 h 33480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AutoShape 35"/>
                <p:cNvSpPr/>
                <p:nvPr/>
              </p:nvSpPr>
              <p:spPr>
                <a:xfrm>
                  <a:off x="1136880" y="5723640"/>
                  <a:ext cx="388080" cy="136080"/>
                </a:xfrm>
                <a:custGeom>
                  <a:avLst/>
                  <a:gdLst>
                    <a:gd name="textAreaLeft" fmla="*/ 0 w 388080"/>
                    <a:gd name="textAreaRight" fmla="*/ 388440 w 388080"/>
                    <a:gd name="textAreaTop" fmla="*/ 0 h 136080"/>
                    <a:gd name="textAreaBottom" fmla="*/ 136440 h 13608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6"/>
          <p:cNvGrpSpPr/>
          <p:nvPr/>
        </p:nvGrpSpPr>
        <p:grpSpPr>
          <a:xfrm>
            <a:off x="8680320" y="2116080"/>
            <a:ext cx="384120" cy="4306680"/>
            <a:chOff x="8680320" y="2116080"/>
            <a:chExt cx="384120" cy="4306680"/>
          </a:xfrm>
        </p:grpSpPr>
        <p:sp>
          <p:nvSpPr>
            <p:cNvPr id="36" name="AutoShape 37"/>
            <p:cNvSpPr/>
            <p:nvPr/>
          </p:nvSpPr>
          <p:spPr>
            <a:xfrm flipH="1">
              <a:off x="8680320" y="4158360"/>
              <a:ext cx="324000" cy="2264400"/>
            </a:xfrm>
            <a:custGeom>
              <a:avLst/>
              <a:gdLst>
                <a:gd name="textAreaLeft" fmla="*/ 360 w 324000"/>
                <a:gd name="textAreaRight" fmla="*/ 324720 w 324000"/>
                <a:gd name="textAreaTop" fmla="*/ 0 h 2264400"/>
                <a:gd name="textAreaBottom" fmla="*/ 2264760 h 226440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7" name="AutoShape 38"/>
            <p:cNvSpPr/>
            <p:nvPr/>
          </p:nvSpPr>
          <p:spPr>
            <a:xfrm flipH="1">
              <a:off x="8740440" y="2116080"/>
              <a:ext cx="324000" cy="2591280"/>
            </a:xfrm>
            <a:custGeom>
              <a:avLst/>
              <a:gdLst>
                <a:gd name="textAreaLeft" fmla="*/ 360 w 324000"/>
                <a:gd name="textAreaRight" fmla="*/ 324720 w 324000"/>
                <a:gd name="textAreaTop" fmla="*/ 0 h 2591280"/>
                <a:gd name="textAreaBottom" fmla="*/ 2591640 h 25912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8" name="Group 39"/>
          <p:cNvGrpSpPr/>
          <p:nvPr/>
        </p:nvGrpSpPr>
        <p:grpSpPr>
          <a:xfrm>
            <a:off x="6893280" y="-146520"/>
            <a:ext cx="2981880" cy="2845440"/>
            <a:chOff x="6893280" y="-146520"/>
            <a:chExt cx="2981880" cy="2845440"/>
          </a:xfrm>
        </p:grpSpPr>
        <p:grpSp>
          <p:nvGrpSpPr>
            <p:cNvPr id="39" name="Group 40"/>
            <p:cNvGrpSpPr/>
            <p:nvPr/>
          </p:nvGrpSpPr>
          <p:grpSpPr>
            <a:xfrm>
              <a:off x="6893280" y="-146520"/>
              <a:ext cx="2981880" cy="2845440"/>
              <a:chOff x="6893280" y="-146520"/>
              <a:chExt cx="2981880" cy="2845440"/>
            </a:xfrm>
          </p:grpSpPr>
          <p:sp>
            <p:nvSpPr>
              <p:cNvPr id="40" name="AutoShape 41"/>
              <p:cNvSpPr/>
              <p:nvPr/>
            </p:nvSpPr>
            <p:spPr>
              <a:xfrm rot="18420000">
                <a:off x="8618400" y="1725120"/>
                <a:ext cx="98280" cy="4572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41" name="Group 42"/>
              <p:cNvGrpSpPr/>
              <p:nvPr/>
            </p:nvGrpSpPr>
            <p:grpSpPr>
              <a:xfrm>
                <a:off x="6893280" y="-146520"/>
                <a:ext cx="2981880" cy="2845440"/>
                <a:chOff x="6893280" y="-146520"/>
                <a:chExt cx="2981880" cy="2845440"/>
              </a:xfrm>
            </p:grpSpPr>
            <p:sp>
              <p:nvSpPr>
                <p:cNvPr id="42" name="AutoShape 43"/>
                <p:cNvSpPr/>
                <p:nvPr/>
              </p:nvSpPr>
              <p:spPr>
                <a:xfrm rot="18420000">
                  <a:off x="7772040" y="-22680"/>
                  <a:ext cx="351360" cy="225360"/>
                </a:xfrm>
                <a:custGeom>
                  <a:avLst/>
                  <a:gdLst>
                    <a:gd name="textAreaLeft" fmla="*/ 0 w 351360"/>
                    <a:gd name="textAreaRight" fmla="*/ 351720 w 351360"/>
                    <a:gd name="textAreaTop" fmla="*/ 0 h 225360"/>
                    <a:gd name="textAreaBottom" fmla="*/ 225720 h 22536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AutoShape 44"/>
                <p:cNvSpPr/>
                <p:nvPr/>
              </p:nvSpPr>
              <p:spPr>
                <a:xfrm rot="18420000">
                  <a:off x="7902720" y="639000"/>
                  <a:ext cx="615600" cy="790920"/>
                </a:xfrm>
                <a:custGeom>
                  <a:avLst/>
                  <a:gdLst>
                    <a:gd name="textAreaLeft" fmla="*/ 0 w 615600"/>
                    <a:gd name="textAreaRight" fmla="*/ 615960 w 615600"/>
                    <a:gd name="textAreaTop" fmla="*/ 0 h 790920"/>
                    <a:gd name="textAreaBottom" fmla="*/ 791280 h 7909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AutoShape 45"/>
                <p:cNvSpPr/>
                <p:nvPr/>
              </p:nvSpPr>
              <p:spPr>
                <a:xfrm rot="18420000">
                  <a:off x="7501320" y="408600"/>
                  <a:ext cx="1154880" cy="1621800"/>
                </a:xfrm>
                <a:custGeom>
                  <a:avLst/>
                  <a:gdLst>
                    <a:gd name="textAreaLeft" fmla="*/ 0 w 1154880"/>
                    <a:gd name="textAreaRight" fmla="*/ 1155240 w 1154880"/>
                    <a:gd name="textAreaTop" fmla="*/ 0 h 1621800"/>
                    <a:gd name="textAreaBottom" fmla="*/ 1622160 h 16218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AutoShape 46"/>
                <p:cNvSpPr/>
                <p:nvPr/>
              </p:nvSpPr>
              <p:spPr>
                <a:xfrm rot="18420000">
                  <a:off x="7516800" y="62640"/>
                  <a:ext cx="1734120" cy="2426760"/>
                </a:xfrm>
                <a:custGeom>
                  <a:avLst/>
                  <a:gdLst>
                    <a:gd name="textAreaLeft" fmla="*/ 0 w 1734120"/>
                    <a:gd name="textAreaRight" fmla="*/ 1734480 w 1734120"/>
                    <a:gd name="textAreaTop" fmla="*/ 0 h 2426760"/>
                    <a:gd name="textAreaBottom" fmla="*/ 2427120 h 24267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AutoShape 47"/>
                <p:cNvSpPr/>
                <p:nvPr/>
              </p:nvSpPr>
              <p:spPr>
                <a:xfrm rot="18420000">
                  <a:off x="8374680" y="1857600"/>
                  <a:ext cx="387360" cy="220320"/>
                </a:xfrm>
                <a:custGeom>
                  <a:avLst/>
                  <a:gdLst>
                    <a:gd name="textAreaLeft" fmla="*/ 0 w 387360"/>
                    <a:gd name="textAreaRight" fmla="*/ 387720 w 387360"/>
                    <a:gd name="textAreaTop" fmla="*/ 0 h 220320"/>
                    <a:gd name="textAreaBottom" fmla="*/ 220680 h 22032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AutoShape 48"/>
                <p:cNvSpPr/>
                <p:nvPr/>
              </p:nvSpPr>
              <p:spPr>
                <a:xfrm rot="18420000">
                  <a:off x="8289360" y="1656000"/>
                  <a:ext cx="412920" cy="259920"/>
                </a:xfrm>
                <a:custGeom>
                  <a:avLst/>
                  <a:gdLst>
                    <a:gd name="textAreaLeft" fmla="*/ 0 w 412920"/>
                    <a:gd name="textAreaRight" fmla="*/ 413280 w 412920"/>
                    <a:gd name="textAreaTop" fmla="*/ 0 h 259920"/>
                    <a:gd name="textAreaBottom" fmla="*/ 260280 h 25992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AutoShape 49"/>
                <p:cNvSpPr/>
                <p:nvPr/>
              </p:nvSpPr>
              <p:spPr>
                <a:xfrm rot="18420000">
                  <a:off x="7802640" y="300240"/>
                  <a:ext cx="412920" cy="265320"/>
                </a:xfrm>
                <a:custGeom>
                  <a:avLst/>
                  <a:gdLst>
                    <a:gd name="textAreaLeft" fmla="*/ 0 w 412920"/>
                    <a:gd name="textAreaRight" fmla="*/ 413280 w 412920"/>
                    <a:gd name="textAreaTop" fmla="*/ 0 h 265320"/>
                    <a:gd name="textAreaBottom" fmla="*/ 265680 h 26532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AutoShape 50"/>
                <p:cNvSpPr/>
                <p:nvPr/>
              </p:nvSpPr>
              <p:spPr>
                <a:xfrm rot="18420000">
                  <a:off x="7741440" y="131400"/>
                  <a:ext cx="410760" cy="248760"/>
                </a:xfrm>
                <a:custGeom>
                  <a:avLst/>
                  <a:gdLst>
                    <a:gd name="textAreaLeft" fmla="*/ 0 w 410760"/>
                    <a:gd name="textAreaRight" fmla="*/ 411120 w 410760"/>
                    <a:gd name="textAreaTop" fmla="*/ 0 h 248760"/>
                    <a:gd name="textAreaBottom" fmla="*/ 249120 h 24876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1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1"/>
          <p:cNvSpPr/>
          <p:nvPr/>
        </p:nvSpPr>
        <p:spPr>
          <a:xfrm rot="18420000">
            <a:off x="7776360" y="-13680"/>
            <a:ext cx="1161720" cy="2084400"/>
          </a:xfrm>
          <a:custGeom>
            <a:avLst/>
            <a:gdLst>
              <a:gd name="textAreaLeft" fmla="*/ 0 w 1161720"/>
              <a:gd name="textAreaRight" fmla="*/ 1162080 w 116172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AutoShape 2"/>
          <p:cNvSpPr/>
          <p:nvPr/>
        </p:nvSpPr>
        <p:spPr>
          <a:xfrm rot="184200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AutoShape 3"/>
          <p:cNvSpPr/>
          <p:nvPr/>
        </p:nvSpPr>
        <p:spPr>
          <a:xfrm rot="18420000">
            <a:off x="7830720" y="19332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7920" y="5540400"/>
            <a:ext cx="1782360" cy="1244160"/>
            <a:chOff x="7920" y="5540400"/>
            <a:chExt cx="1782360" cy="1244160"/>
          </a:xfrm>
        </p:grpSpPr>
        <p:sp>
          <p:nvSpPr>
            <p:cNvPr id="91" name="AutoShape 5"/>
            <p:cNvSpPr/>
            <p:nvPr/>
          </p:nvSpPr>
          <p:spPr>
            <a:xfrm>
              <a:off x="38160" y="5563800"/>
              <a:ext cx="1728720" cy="10285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2" name="AutoShape 6"/>
            <p:cNvSpPr/>
            <p:nvPr/>
          </p:nvSpPr>
          <p:spPr>
            <a:xfrm>
              <a:off x="1622520" y="5686200"/>
              <a:ext cx="112680" cy="2041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" name="AutoShape 7"/>
            <p:cNvSpPr/>
            <p:nvPr/>
          </p:nvSpPr>
          <p:spPr>
            <a:xfrm>
              <a:off x="31680" y="5990400"/>
              <a:ext cx="1257480" cy="64980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49800"/>
                <a:gd name="textAreaBottom" fmla="*/ 650160 h 64980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" name="AutoShape 8"/>
            <p:cNvSpPr/>
            <p:nvPr/>
          </p:nvSpPr>
          <p:spPr>
            <a:xfrm>
              <a:off x="204840" y="6044040"/>
              <a:ext cx="833400" cy="59256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2560"/>
                <a:gd name="textAreaBottom" fmla="*/ 592920 h 5925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5" name="AutoShape 9"/>
            <p:cNvSpPr/>
            <p:nvPr/>
          </p:nvSpPr>
          <p:spPr>
            <a:xfrm>
              <a:off x="770040" y="5606640"/>
              <a:ext cx="214200" cy="19188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" name="AutoShape 10"/>
            <p:cNvSpPr/>
            <p:nvPr/>
          </p:nvSpPr>
          <p:spPr>
            <a:xfrm>
              <a:off x="1017720" y="6607080"/>
              <a:ext cx="120600" cy="1774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" name="AutoShape 11"/>
            <p:cNvSpPr/>
            <p:nvPr/>
          </p:nvSpPr>
          <p:spPr>
            <a:xfrm>
              <a:off x="800280" y="5725800"/>
              <a:ext cx="306360" cy="60696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6960"/>
                <a:gd name="textAreaBottom" fmla="*/ 607320 h 60696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8" name="AutoShape 12"/>
            <p:cNvSpPr/>
            <p:nvPr/>
          </p:nvSpPr>
          <p:spPr>
            <a:xfrm>
              <a:off x="1060560" y="5698800"/>
              <a:ext cx="577800" cy="27540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" name="AutoShape 13"/>
            <p:cNvSpPr/>
            <p:nvPr/>
          </p:nvSpPr>
          <p:spPr>
            <a:xfrm>
              <a:off x="550800" y="5861880"/>
              <a:ext cx="247680" cy="10620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00" name="Group 14"/>
            <p:cNvGrpSpPr/>
            <p:nvPr/>
          </p:nvGrpSpPr>
          <p:grpSpPr>
            <a:xfrm>
              <a:off x="7920" y="5540400"/>
              <a:ext cx="1782360" cy="1234080"/>
              <a:chOff x="7920" y="5540400"/>
              <a:chExt cx="1782360" cy="1234080"/>
            </a:xfrm>
          </p:grpSpPr>
          <p:grpSp>
            <p:nvGrpSpPr>
              <p:cNvPr id="101" name="Group 15"/>
              <p:cNvGrpSpPr/>
              <p:nvPr/>
            </p:nvGrpSpPr>
            <p:grpSpPr>
              <a:xfrm>
                <a:off x="792000" y="5654160"/>
                <a:ext cx="868320" cy="1120320"/>
                <a:chOff x="792000" y="5654160"/>
                <a:chExt cx="868320" cy="1120320"/>
              </a:xfrm>
            </p:grpSpPr>
            <p:sp>
              <p:nvSpPr>
                <p:cNvPr id="102" name="AutoShape 16"/>
                <p:cNvSpPr/>
                <p:nvPr/>
              </p:nvSpPr>
              <p:spPr>
                <a:xfrm>
                  <a:off x="792000" y="5693760"/>
                  <a:ext cx="248760" cy="137160"/>
                </a:xfrm>
                <a:custGeom>
                  <a:avLst/>
                  <a:gdLst>
                    <a:gd name="textAreaLeft" fmla="*/ 0 w 248760"/>
                    <a:gd name="textAreaRight" fmla="*/ 249120 w 248760"/>
                    <a:gd name="textAreaTop" fmla="*/ 0 h 137160"/>
                    <a:gd name="textAreaBottom" fmla="*/ 137520 h 13716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3" name="AutoShape 17"/>
                <p:cNvSpPr/>
                <p:nvPr/>
              </p:nvSpPr>
              <p:spPr>
                <a:xfrm>
                  <a:off x="1009080" y="6563880"/>
                  <a:ext cx="182160" cy="210600"/>
                </a:xfrm>
                <a:custGeom>
                  <a:avLst/>
                  <a:gdLst>
                    <a:gd name="textAreaLeft" fmla="*/ 0 w 182160"/>
                    <a:gd name="textAreaRight" fmla="*/ 182520 w 182160"/>
                    <a:gd name="textAreaTop" fmla="*/ 0 h 210600"/>
                    <a:gd name="textAreaBottom" fmla="*/ 210960 h 21060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4" name="AutoShape 18"/>
                <p:cNvSpPr/>
                <p:nvPr/>
              </p:nvSpPr>
              <p:spPr>
                <a:xfrm>
                  <a:off x="1592280" y="5654160"/>
                  <a:ext cx="68040" cy="18504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185040"/>
                    <a:gd name="textAreaBottom" fmla="*/ 185400 h 18504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5" name="AutoShape 19"/>
              <p:cNvSpPr/>
              <p:nvPr/>
            </p:nvSpPr>
            <p:spPr>
              <a:xfrm>
                <a:off x="120600" y="5923800"/>
                <a:ext cx="944640" cy="39636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6360"/>
                  <a:gd name="textAreaBottom" fmla="*/ 396720 h 396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6" name="AutoShape 20"/>
              <p:cNvSpPr/>
              <p:nvPr/>
            </p:nvSpPr>
            <p:spPr>
              <a:xfrm>
                <a:off x="412920" y="6167880"/>
                <a:ext cx="387360" cy="23472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7" name="AutoShape 21"/>
              <p:cNvSpPr/>
              <p:nvPr/>
            </p:nvSpPr>
            <p:spPr>
              <a:xfrm>
                <a:off x="896760" y="5841360"/>
                <a:ext cx="169920" cy="37692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6920"/>
                  <a:gd name="textAreaBottom" fmla="*/ 377280 h 37692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108" name="Group 22"/>
              <p:cNvGrpSpPr/>
              <p:nvPr/>
            </p:nvGrpSpPr>
            <p:grpSpPr>
              <a:xfrm>
                <a:off x="7920" y="5540400"/>
                <a:ext cx="1782360" cy="1072440"/>
                <a:chOff x="7920" y="5540400"/>
                <a:chExt cx="1782360" cy="1072440"/>
              </a:xfrm>
            </p:grpSpPr>
            <p:sp>
              <p:nvSpPr>
                <p:cNvPr id="109" name="AutoShape 23"/>
                <p:cNvSpPr/>
                <p:nvPr/>
              </p:nvSpPr>
              <p:spPr>
                <a:xfrm>
                  <a:off x="1060920" y="6423120"/>
                  <a:ext cx="118800" cy="137160"/>
                </a:xfrm>
                <a:custGeom>
                  <a:avLst/>
                  <a:gdLst>
                    <a:gd name="textAreaLeft" fmla="*/ 0 w 118800"/>
                    <a:gd name="textAreaRight" fmla="*/ 119160 w 118800"/>
                    <a:gd name="textAreaTop" fmla="*/ 0 h 137160"/>
                    <a:gd name="textAreaBottom" fmla="*/ 137520 h 13716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10" name="AutoShape 24"/>
                <p:cNvSpPr/>
                <p:nvPr/>
              </p:nvSpPr>
              <p:spPr>
                <a:xfrm>
                  <a:off x="7920" y="5916600"/>
                  <a:ext cx="1335240" cy="696240"/>
                </a:xfrm>
                <a:custGeom>
                  <a:avLst/>
                  <a:gdLst>
                    <a:gd name="textAreaLeft" fmla="*/ 0 w 1335240"/>
                    <a:gd name="textAreaRight" fmla="*/ 1335600 w 1335240"/>
                    <a:gd name="textAreaTop" fmla="*/ 0 h 696240"/>
                    <a:gd name="textAreaBottom" fmla="*/ 696600 h 69624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11" name="AutoShape 25"/>
                <p:cNvSpPr/>
                <p:nvPr/>
              </p:nvSpPr>
              <p:spPr>
                <a:xfrm>
                  <a:off x="167760" y="5983200"/>
                  <a:ext cx="126720" cy="263880"/>
                </a:xfrm>
                <a:custGeom>
                  <a:avLst/>
                  <a:gdLst>
                    <a:gd name="textAreaLeft" fmla="*/ 0 w 126720"/>
                    <a:gd name="textAreaRight" fmla="*/ 127080 w 126720"/>
                    <a:gd name="textAreaTop" fmla="*/ 0 h 263880"/>
                    <a:gd name="textAreaBottom" fmla="*/ 264240 h 26388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12" name="AutoShape 26"/>
                <p:cNvSpPr/>
                <p:nvPr/>
              </p:nvSpPr>
              <p:spPr>
                <a:xfrm>
                  <a:off x="712080" y="5540400"/>
                  <a:ext cx="510480" cy="939600"/>
                </a:xfrm>
                <a:custGeom>
                  <a:avLst/>
                  <a:gdLst>
                    <a:gd name="textAreaLeft" fmla="*/ 0 w 510480"/>
                    <a:gd name="textAreaRight" fmla="*/ 510840 w 510480"/>
                    <a:gd name="textAreaTop" fmla="*/ 0 h 939600"/>
                    <a:gd name="textAreaBottom" fmla="*/ 939960 h 93960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13" name="AutoShape 27"/>
                <p:cNvSpPr/>
                <p:nvPr/>
              </p:nvSpPr>
              <p:spPr>
                <a:xfrm>
                  <a:off x="916560" y="5793120"/>
                  <a:ext cx="151920" cy="398880"/>
                </a:xfrm>
                <a:custGeom>
                  <a:avLst/>
                  <a:gdLst>
                    <a:gd name="textAreaLeft" fmla="*/ 0 w 151920"/>
                    <a:gd name="textAreaRight" fmla="*/ 152280 w 151920"/>
                    <a:gd name="textAreaTop" fmla="*/ 0 h 398880"/>
                    <a:gd name="textAreaBottom" fmla="*/ 399240 h 39888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14" name="AutoShape 28"/>
                <p:cNvSpPr/>
                <p:nvPr/>
              </p:nvSpPr>
              <p:spPr>
                <a:xfrm>
                  <a:off x="519840" y="5761440"/>
                  <a:ext cx="309240" cy="213840"/>
                </a:xfrm>
                <a:custGeom>
                  <a:avLst/>
                  <a:gdLst>
                    <a:gd name="textAreaLeft" fmla="*/ 0 w 309240"/>
                    <a:gd name="textAreaRight" fmla="*/ 309600 w 309240"/>
                    <a:gd name="textAreaTop" fmla="*/ 0 h 213840"/>
                    <a:gd name="textAreaBottom" fmla="*/ 214200 h 21384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15" name="AutoShape 29"/>
                <p:cNvSpPr/>
                <p:nvPr/>
              </p:nvSpPr>
              <p:spPr>
                <a:xfrm>
                  <a:off x="1043640" y="5616360"/>
                  <a:ext cx="746640" cy="334800"/>
                </a:xfrm>
                <a:custGeom>
                  <a:avLst/>
                  <a:gdLst>
                    <a:gd name="textAreaLeft" fmla="*/ 0 w 746640"/>
                    <a:gd name="textAreaRight" fmla="*/ 747000 w 746640"/>
                    <a:gd name="textAreaTop" fmla="*/ 0 h 334800"/>
                    <a:gd name="textAreaBottom" fmla="*/ 335160 h 33480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16" name="AutoShape 30"/>
                <p:cNvSpPr/>
                <p:nvPr/>
              </p:nvSpPr>
              <p:spPr>
                <a:xfrm>
                  <a:off x="1136880" y="5723640"/>
                  <a:ext cx="388080" cy="136080"/>
                </a:xfrm>
                <a:custGeom>
                  <a:avLst/>
                  <a:gdLst>
                    <a:gd name="textAreaLeft" fmla="*/ 0 w 388080"/>
                    <a:gd name="textAreaRight" fmla="*/ 388440 w 388080"/>
                    <a:gd name="textAreaTop" fmla="*/ 0 h 136080"/>
                    <a:gd name="textAreaBottom" fmla="*/ 136440 h 13608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17" name="Group 31"/>
          <p:cNvGrpSpPr/>
          <p:nvPr/>
        </p:nvGrpSpPr>
        <p:grpSpPr>
          <a:xfrm>
            <a:off x="8680320" y="2116080"/>
            <a:ext cx="384120" cy="4306680"/>
            <a:chOff x="8680320" y="2116080"/>
            <a:chExt cx="384120" cy="4306680"/>
          </a:xfrm>
        </p:grpSpPr>
        <p:sp>
          <p:nvSpPr>
            <p:cNvPr id="118" name="AutoShape 32"/>
            <p:cNvSpPr/>
            <p:nvPr/>
          </p:nvSpPr>
          <p:spPr>
            <a:xfrm flipH="1">
              <a:off x="8680320" y="4158360"/>
              <a:ext cx="324000" cy="2264400"/>
            </a:xfrm>
            <a:custGeom>
              <a:avLst/>
              <a:gdLst>
                <a:gd name="textAreaLeft" fmla="*/ 360 w 324000"/>
                <a:gd name="textAreaRight" fmla="*/ 324720 w 324000"/>
                <a:gd name="textAreaTop" fmla="*/ 0 h 2264400"/>
                <a:gd name="textAreaBottom" fmla="*/ 2264760 h 226440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9" name="AutoShape 33"/>
            <p:cNvSpPr/>
            <p:nvPr/>
          </p:nvSpPr>
          <p:spPr>
            <a:xfrm flipH="1">
              <a:off x="8740440" y="2116080"/>
              <a:ext cx="324000" cy="2591280"/>
            </a:xfrm>
            <a:custGeom>
              <a:avLst/>
              <a:gdLst>
                <a:gd name="textAreaLeft" fmla="*/ 360 w 324000"/>
                <a:gd name="textAreaRight" fmla="*/ 324720 w 324000"/>
                <a:gd name="textAreaTop" fmla="*/ 0 h 2591280"/>
                <a:gd name="textAreaBottom" fmla="*/ 2591640 h 25912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20" name="Group 34"/>
          <p:cNvGrpSpPr/>
          <p:nvPr/>
        </p:nvGrpSpPr>
        <p:grpSpPr>
          <a:xfrm>
            <a:off x="6893280" y="-146520"/>
            <a:ext cx="2981880" cy="2845440"/>
            <a:chOff x="6893280" y="-146520"/>
            <a:chExt cx="2981880" cy="2845440"/>
          </a:xfrm>
        </p:grpSpPr>
        <p:grpSp>
          <p:nvGrpSpPr>
            <p:cNvPr id="121" name="Group 35"/>
            <p:cNvGrpSpPr/>
            <p:nvPr/>
          </p:nvGrpSpPr>
          <p:grpSpPr>
            <a:xfrm>
              <a:off x="6893280" y="-146520"/>
              <a:ext cx="2981880" cy="2845440"/>
              <a:chOff x="6893280" y="-146520"/>
              <a:chExt cx="2981880" cy="2845440"/>
            </a:xfrm>
          </p:grpSpPr>
          <p:sp>
            <p:nvSpPr>
              <p:cNvPr id="122" name="AutoShape 36"/>
              <p:cNvSpPr/>
              <p:nvPr/>
            </p:nvSpPr>
            <p:spPr>
              <a:xfrm rot="18420000">
                <a:off x="8618400" y="1725120"/>
                <a:ext cx="98280" cy="4572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123" name="Group 37"/>
              <p:cNvGrpSpPr/>
              <p:nvPr/>
            </p:nvGrpSpPr>
            <p:grpSpPr>
              <a:xfrm>
                <a:off x="6893280" y="-146520"/>
                <a:ext cx="2981880" cy="2845440"/>
                <a:chOff x="6893280" y="-146520"/>
                <a:chExt cx="2981880" cy="2845440"/>
              </a:xfrm>
            </p:grpSpPr>
            <p:sp>
              <p:nvSpPr>
                <p:cNvPr id="124" name="AutoShape 38"/>
                <p:cNvSpPr/>
                <p:nvPr/>
              </p:nvSpPr>
              <p:spPr>
                <a:xfrm rot="18420000">
                  <a:off x="7772040" y="-22680"/>
                  <a:ext cx="351360" cy="225360"/>
                </a:xfrm>
                <a:custGeom>
                  <a:avLst/>
                  <a:gdLst>
                    <a:gd name="textAreaLeft" fmla="*/ 0 w 351360"/>
                    <a:gd name="textAreaRight" fmla="*/ 351720 w 351360"/>
                    <a:gd name="textAreaTop" fmla="*/ 0 h 225360"/>
                    <a:gd name="textAreaBottom" fmla="*/ 225720 h 22536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25" name="AutoShape 39"/>
                <p:cNvSpPr/>
                <p:nvPr/>
              </p:nvSpPr>
              <p:spPr>
                <a:xfrm rot="18420000">
                  <a:off x="7902720" y="639000"/>
                  <a:ext cx="615600" cy="790920"/>
                </a:xfrm>
                <a:custGeom>
                  <a:avLst/>
                  <a:gdLst>
                    <a:gd name="textAreaLeft" fmla="*/ 0 w 615600"/>
                    <a:gd name="textAreaRight" fmla="*/ 615960 w 615600"/>
                    <a:gd name="textAreaTop" fmla="*/ 0 h 790920"/>
                    <a:gd name="textAreaBottom" fmla="*/ 791280 h 7909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26" name="AutoShape 40"/>
                <p:cNvSpPr/>
                <p:nvPr/>
              </p:nvSpPr>
              <p:spPr>
                <a:xfrm rot="18420000">
                  <a:off x="7501320" y="408600"/>
                  <a:ext cx="1154880" cy="1621800"/>
                </a:xfrm>
                <a:custGeom>
                  <a:avLst/>
                  <a:gdLst>
                    <a:gd name="textAreaLeft" fmla="*/ 0 w 1154880"/>
                    <a:gd name="textAreaRight" fmla="*/ 1155240 w 1154880"/>
                    <a:gd name="textAreaTop" fmla="*/ 0 h 1621800"/>
                    <a:gd name="textAreaBottom" fmla="*/ 1622160 h 16218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27" name="AutoShape 41"/>
                <p:cNvSpPr/>
                <p:nvPr/>
              </p:nvSpPr>
              <p:spPr>
                <a:xfrm rot="18420000">
                  <a:off x="7516800" y="62640"/>
                  <a:ext cx="1734120" cy="2426760"/>
                </a:xfrm>
                <a:custGeom>
                  <a:avLst/>
                  <a:gdLst>
                    <a:gd name="textAreaLeft" fmla="*/ 0 w 1734120"/>
                    <a:gd name="textAreaRight" fmla="*/ 1734480 w 1734120"/>
                    <a:gd name="textAreaTop" fmla="*/ 0 h 2426760"/>
                    <a:gd name="textAreaBottom" fmla="*/ 2427120 h 24267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28" name="AutoShape 42"/>
                <p:cNvSpPr/>
                <p:nvPr/>
              </p:nvSpPr>
              <p:spPr>
                <a:xfrm rot="18420000">
                  <a:off x="8374680" y="1857600"/>
                  <a:ext cx="387360" cy="220320"/>
                </a:xfrm>
                <a:custGeom>
                  <a:avLst/>
                  <a:gdLst>
                    <a:gd name="textAreaLeft" fmla="*/ 0 w 387360"/>
                    <a:gd name="textAreaRight" fmla="*/ 387720 w 387360"/>
                    <a:gd name="textAreaTop" fmla="*/ 0 h 220320"/>
                    <a:gd name="textAreaBottom" fmla="*/ 220680 h 22032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29" name="AutoShape 43"/>
                <p:cNvSpPr/>
                <p:nvPr/>
              </p:nvSpPr>
              <p:spPr>
                <a:xfrm rot="18420000">
                  <a:off x="8289360" y="1656000"/>
                  <a:ext cx="412920" cy="259920"/>
                </a:xfrm>
                <a:custGeom>
                  <a:avLst/>
                  <a:gdLst>
                    <a:gd name="textAreaLeft" fmla="*/ 0 w 412920"/>
                    <a:gd name="textAreaRight" fmla="*/ 413280 w 412920"/>
                    <a:gd name="textAreaTop" fmla="*/ 0 h 259920"/>
                    <a:gd name="textAreaBottom" fmla="*/ 260280 h 25992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30" name="AutoShape 44"/>
                <p:cNvSpPr/>
                <p:nvPr/>
              </p:nvSpPr>
              <p:spPr>
                <a:xfrm rot="18420000">
                  <a:off x="7802640" y="300240"/>
                  <a:ext cx="412920" cy="265320"/>
                </a:xfrm>
                <a:custGeom>
                  <a:avLst/>
                  <a:gdLst>
                    <a:gd name="textAreaLeft" fmla="*/ 0 w 412920"/>
                    <a:gd name="textAreaRight" fmla="*/ 413280 w 412920"/>
                    <a:gd name="textAreaTop" fmla="*/ 0 h 265320"/>
                    <a:gd name="textAreaBottom" fmla="*/ 265680 h 26532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31" name="AutoShape 45"/>
                <p:cNvSpPr/>
                <p:nvPr/>
              </p:nvSpPr>
              <p:spPr>
                <a:xfrm rot="18420000">
                  <a:off x="7741440" y="131400"/>
                  <a:ext cx="410760" cy="248760"/>
                </a:xfrm>
                <a:custGeom>
                  <a:avLst/>
                  <a:gdLst>
                    <a:gd name="textAreaLeft" fmla="*/ 0 w 410760"/>
                    <a:gd name="textAreaRight" fmla="*/ 411120 w 410760"/>
                    <a:gd name="textAreaTop" fmla="*/ 0 h 248760"/>
                    <a:gd name="textAreaBottom" fmla="*/ 249120 h 24876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2" name="Line 46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33" name="AutoShape 47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4" name="Group 48"/>
          <p:cNvGrpSpPr/>
          <p:nvPr/>
        </p:nvGrpSpPr>
        <p:grpSpPr>
          <a:xfrm>
            <a:off x="195120" y="235080"/>
            <a:ext cx="3786480" cy="1775880"/>
            <a:chOff x="195120" y="235080"/>
            <a:chExt cx="3786480" cy="1775880"/>
          </a:xfrm>
        </p:grpSpPr>
        <p:sp>
          <p:nvSpPr>
            <p:cNvPr id="135" name="AutoShape 49"/>
            <p:cNvSpPr/>
            <p:nvPr/>
          </p:nvSpPr>
          <p:spPr>
            <a:xfrm>
              <a:off x="281160" y="280800"/>
              <a:ext cx="3571560" cy="16124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2440"/>
                <a:gd name="textAreaBottom" fmla="*/ 1612800 h 16124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6" name="AutoShape 50"/>
            <p:cNvSpPr/>
            <p:nvPr/>
          </p:nvSpPr>
          <p:spPr>
            <a:xfrm>
              <a:off x="263520" y="414000"/>
              <a:ext cx="3562200" cy="15969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6960"/>
                <a:gd name="textAreaBottom" fmla="*/ 1597320 h 15969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7" name="AutoShape 51"/>
            <p:cNvSpPr/>
            <p:nvPr/>
          </p:nvSpPr>
          <p:spPr>
            <a:xfrm>
              <a:off x="752400" y="545760"/>
              <a:ext cx="2362320" cy="14569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6920"/>
                <a:gd name="textAreaBottom" fmla="*/ 1457280 h 14569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38" name="Group 52"/>
            <p:cNvGrpSpPr/>
            <p:nvPr/>
          </p:nvGrpSpPr>
          <p:grpSpPr>
            <a:xfrm>
              <a:off x="195120" y="235080"/>
              <a:ext cx="3786480" cy="1712520"/>
              <a:chOff x="195120" y="235080"/>
              <a:chExt cx="3786480" cy="1712520"/>
            </a:xfrm>
          </p:grpSpPr>
          <p:sp>
            <p:nvSpPr>
              <p:cNvPr id="139" name="AutoShape 53"/>
              <p:cNvSpPr/>
              <p:nvPr/>
            </p:nvSpPr>
            <p:spPr>
              <a:xfrm>
                <a:off x="3181320" y="1479960"/>
                <a:ext cx="336240" cy="33876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338760"/>
                  <a:gd name="textAreaBottom" fmla="*/ 339120 h 33876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0" name="AutoShape 54"/>
              <p:cNvSpPr/>
              <p:nvPr/>
            </p:nvSpPr>
            <p:spPr>
              <a:xfrm>
                <a:off x="195120" y="235080"/>
                <a:ext cx="3786480" cy="1712520"/>
              </a:xfrm>
              <a:custGeom>
                <a:avLst/>
                <a:gdLst>
                  <a:gd name="textAreaLeft" fmla="*/ 0 w 3786480"/>
                  <a:gd name="textAreaRight" fmla="*/ 3786840 w 3786480"/>
                  <a:gd name="textAreaTop" fmla="*/ 0 h 1712520"/>
                  <a:gd name="textAreaBottom" fmla="*/ 1712880 h 17125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1" name="AutoShape 55"/>
              <p:cNvSpPr/>
              <p:nvPr/>
            </p:nvSpPr>
            <p:spPr>
              <a:xfrm>
                <a:off x="514080" y="250560"/>
                <a:ext cx="2675520" cy="972360"/>
              </a:xfrm>
              <a:custGeom>
                <a:avLst/>
                <a:gdLst>
                  <a:gd name="textAreaLeft" fmla="*/ 0 w 2675520"/>
                  <a:gd name="textAreaRight" fmla="*/ 2675880 w 2675520"/>
                  <a:gd name="textAreaTop" fmla="*/ 0 h 972360"/>
                  <a:gd name="textAreaBottom" fmla="*/ 972720 h 972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2" name="AutoShape 56"/>
              <p:cNvSpPr/>
              <p:nvPr/>
            </p:nvSpPr>
            <p:spPr>
              <a:xfrm>
                <a:off x="649080" y="398160"/>
                <a:ext cx="360000" cy="649440"/>
              </a:xfrm>
              <a:custGeom>
                <a:avLst/>
                <a:gdLst>
                  <a:gd name="textAreaLeft" fmla="*/ 0 w 360000"/>
                  <a:gd name="textAreaRight" fmla="*/ 360360 w 360000"/>
                  <a:gd name="textAreaTop" fmla="*/ 0 h 649440"/>
                  <a:gd name="textAreaBottom" fmla="*/ 649800 h 64944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3" name="AutoShape 57"/>
              <p:cNvSpPr/>
              <p:nvPr/>
            </p:nvSpPr>
            <p:spPr>
              <a:xfrm>
                <a:off x="1342440" y="849600"/>
                <a:ext cx="1096200" cy="576360"/>
              </a:xfrm>
              <a:custGeom>
                <a:avLst/>
                <a:gdLst>
                  <a:gd name="textAreaLeft" fmla="*/ 0 w 1096200"/>
                  <a:gd name="textAreaRight" fmla="*/ 1096560 w 109620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44" name="Group 58"/>
          <p:cNvGrpSpPr/>
          <p:nvPr/>
        </p:nvGrpSpPr>
        <p:grpSpPr>
          <a:xfrm>
            <a:off x="7701840" y="4235760"/>
            <a:ext cx="1162800" cy="1324800"/>
            <a:chOff x="7701840" y="4235760"/>
            <a:chExt cx="1162800" cy="1324800"/>
          </a:xfrm>
        </p:grpSpPr>
        <p:sp>
          <p:nvSpPr>
            <p:cNvPr id="145" name="AutoShape 59"/>
            <p:cNvSpPr/>
            <p:nvPr/>
          </p:nvSpPr>
          <p:spPr>
            <a:xfrm rot="7320000">
              <a:off x="7792200" y="4659840"/>
              <a:ext cx="998280" cy="463680"/>
            </a:xfrm>
            <a:custGeom>
              <a:avLst/>
              <a:gdLst>
                <a:gd name="textAreaLeft" fmla="*/ 0 w 998280"/>
                <a:gd name="textAreaRight" fmla="*/ 998640 w 99828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6" name="AutoShape 60"/>
            <p:cNvSpPr/>
            <p:nvPr/>
          </p:nvSpPr>
          <p:spPr>
            <a:xfrm rot="7320000">
              <a:off x="7770600" y="4640040"/>
              <a:ext cx="995400" cy="4586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7" name="AutoShape 61"/>
            <p:cNvSpPr/>
            <p:nvPr/>
          </p:nvSpPr>
          <p:spPr>
            <a:xfrm rot="7320000">
              <a:off x="7935120" y="4627080"/>
              <a:ext cx="660600" cy="41940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19400"/>
                <a:gd name="textAreaBottom" fmla="*/ 419760 h 41940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48" name="Group 62"/>
            <p:cNvGrpSpPr/>
            <p:nvPr/>
          </p:nvGrpSpPr>
          <p:grpSpPr>
            <a:xfrm>
              <a:off x="7701840" y="4235760"/>
              <a:ext cx="1162800" cy="1324800"/>
              <a:chOff x="7701840" y="4235760"/>
              <a:chExt cx="1162800" cy="1324800"/>
            </a:xfrm>
          </p:grpSpPr>
          <p:sp>
            <p:nvSpPr>
              <p:cNvPr id="149" name="AutoShape 63"/>
              <p:cNvSpPr/>
              <p:nvPr/>
            </p:nvSpPr>
            <p:spPr>
              <a:xfrm rot="7320000">
                <a:off x="7808400" y="5069880"/>
                <a:ext cx="102240" cy="12744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127440"/>
                  <a:gd name="textAreaBottom" fmla="*/ 127440 h 1274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0" name="AutoShape 64"/>
              <p:cNvSpPr/>
              <p:nvPr/>
            </p:nvSpPr>
            <p:spPr>
              <a:xfrm rot="7320000">
                <a:off x="7704720" y="4573800"/>
                <a:ext cx="1157040" cy="648000"/>
              </a:xfrm>
              <a:custGeom>
                <a:avLst/>
                <a:gdLst>
                  <a:gd name="textAreaLeft" fmla="*/ 0 w 1157040"/>
                  <a:gd name="textAreaRight" fmla="*/ 1157400 w 1157040"/>
                  <a:gd name="textAreaTop" fmla="*/ 0 h 648000"/>
                  <a:gd name="textAreaBottom" fmla="*/ 648000 h 64800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1" name="AutoShape 65"/>
              <p:cNvSpPr/>
              <p:nvPr/>
            </p:nvSpPr>
            <p:spPr>
              <a:xfrm rot="7320000">
                <a:off x="8034120" y="4711320"/>
                <a:ext cx="818640" cy="367560"/>
              </a:xfrm>
              <a:custGeom>
                <a:avLst/>
                <a:gdLst>
                  <a:gd name="textAreaLeft" fmla="*/ 0 w 818640"/>
                  <a:gd name="textAreaRight" fmla="*/ 819000 w 818640"/>
                  <a:gd name="textAreaTop" fmla="*/ 0 h 367560"/>
                  <a:gd name="textAreaBottom" fmla="*/ 367920 h 3675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2" name="AutoShape 66"/>
              <p:cNvSpPr/>
              <p:nvPr/>
            </p:nvSpPr>
            <p:spPr>
              <a:xfrm rot="7320000">
                <a:off x="8597520" y="4510440"/>
                <a:ext cx="108720" cy="24408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3" name="AutoShape 67"/>
              <p:cNvSpPr/>
              <p:nvPr/>
            </p:nvSpPr>
            <p:spPr>
              <a:xfrm rot="7320000">
                <a:off x="8142480" y="4726800"/>
                <a:ext cx="334800" cy="217440"/>
              </a:xfrm>
              <a:custGeom>
                <a:avLst/>
                <a:gdLst>
                  <a:gd name="textAreaLeft" fmla="*/ 0 w 334800"/>
                  <a:gd name="textAreaRight" fmla="*/ 335160 w 334800"/>
                  <a:gd name="textAreaTop" fmla="*/ 0 h 217440"/>
                  <a:gd name="textAreaBottom" fmla="*/ 217800 h 21744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54" name="AutoShape 6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AutoShape 6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694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7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Text Box 7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E80643D-3864-4DC4-874B-05F8769605BF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1511280" y="714240"/>
            <a:ext cx="763272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Педагогический совет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1785960" y="2571840"/>
            <a:ext cx="603252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5519ff"/>
                </a:solidFill>
                <a:latin typeface="Comic Sans MS"/>
              </a:rPr>
              <a:t>«</a:t>
            </a:r>
            <a:r>
              <a:rPr b="1" lang="ru-RU" sz="2800" spc="-1" strike="noStrike">
                <a:solidFill>
                  <a:srgbClr val="5519ff"/>
                </a:solidFill>
                <a:latin typeface="Comic Sans MS"/>
              </a:rPr>
              <a:t>Система     воспитательной работы школы как фактор личностного роста ученика»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"/>
          <p:cNvSpPr/>
          <p:nvPr/>
        </p:nvSpPr>
        <p:spPr>
          <a:xfrm>
            <a:off x="685800" y="15084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Arial Unicode MS"/>
              </a:rPr>
              <a:t>Принципы системного подхода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1447920" y="1785960"/>
            <a:ext cx="769608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Принцип целостности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Принцип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коммуникативности (связи)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Принцип структурности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Принцип управляемости и целенаправленности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Принцип развития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768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768" fill="hold"/>
                                        <p:tgtEl>
                                          <p:spTgt spid="2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768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768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498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998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498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998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498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685800" y="15084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 Unicode MS"/>
              </a:rPr>
              <a:t>Деятельностный подход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457200" y="1928880"/>
            <a:ext cx="8229600" cy="42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Основная идея деятельностного подхода в воспитании связана не с самой деятельностью как таковой, а с деятельностью как средством становления и развития субъектности ребенка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1"/>
          <a:stretch/>
        </p:blipFill>
        <p:spPr>
          <a:xfrm>
            <a:off x="6215040" y="4343400"/>
            <a:ext cx="173844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77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770" fill="hold"/>
                                        <p:tgtEl>
                                          <p:spTgt spid="2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0" dur="77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2" dur="77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"/>
          <p:cNvSpPr/>
          <p:nvPr/>
        </p:nvSpPr>
        <p:spPr>
          <a:xfrm>
            <a:off x="685800" y="15084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Comic Sans MS"/>
              </a:rPr>
              <a:t>Принципы деятельностного подхода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1714680" y="1714680"/>
            <a:ext cx="695304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Принцип субъектности воспитания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Принцип учета ведущих видов деятельности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Принцип определения зоны ближайшего развития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Принцип обогащения, усиления, углубления детского развития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Принцип проектирования ситуации воспитывающей деятельности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Принцип высокой мотивированности любых видов деятельности и другие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1071720" y="182520"/>
            <a:ext cx="6870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 Unicode MS"/>
              </a:rPr>
              <a:t>Личностно-ориентированный подход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1428840" y="2779560"/>
            <a:ext cx="7257960" cy="40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Обеспечение процессов самопознания,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самостроительства и самореализации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личности ребенка, развития его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неповторимой индивидуальности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685800" y="15084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d1692f"/>
                </a:solidFill>
                <a:latin typeface="Comic Sans MS"/>
              </a:rPr>
              <a:t>Организация воспитательной работы регламентируется: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1714680" y="1828800"/>
            <a:ext cx="68817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планирование воспитательной работы по направлениям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перспективным планированием работы классных руководителей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программами и календарно-тематическим планированием работы педагогов дополнительного образования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расписанием студий, секций, кружков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режимом дня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индивидуальным планом учащегося на триместр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                           </a:t>
            </a:r>
            <a:r>
              <a:rPr b="0" i="1" lang="ru-RU" sz="2400" spc="-1" strike="noStrike">
                <a:solidFill>
                  <a:srgbClr val="d1692f"/>
                </a:solidFill>
                <a:latin typeface="Comic Sans MS"/>
              </a:rPr>
              <a:t>(из «Программы развития»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685800" y="150840"/>
            <a:ext cx="6870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b6e05"/>
                </a:solidFill>
                <a:latin typeface="Comic Sans MS"/>
              </a:rPr>
              <a:t>Школьные традиции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1785960" y="1071720"/>
            <a:ext cx="65959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День знаний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День самоуправления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Концерты ко Дню учителя, 8 Март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Школьная спартакиад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Новогодние праздники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КВН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Праздник букваря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Интеллектуальный марафон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Конкурс-игра «Путешествие»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Предметные недели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Окружная научно-исследовательская конференция "Я познаю мир"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Военно-спортивная игра «Зарница»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Малые Олимпийские игры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685800" y="147600"/>
            <a:ext cx="6870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b6e05"/>
                </a:solidFill>
                <a:latin typeface="Comic Sans MS"/>
              </a:rPr>
              <a:t>Направления </a:t>
            </a:r>
            <a:br>
              <a:rPr sz="3200"/>
            </a:br>
            <a:r>
              <a:rPr b="1" lang="ru-RU" sz="3200" spc="-1" strike="noStrike">
                <a:solidFill>
                  <a:srgbClr val="fb6e05"/>
                </a:solidFill>
                <a:latin typeface="Comic Sans MS"/>
              </a:rPr>
              <a:t>    воспитательной работы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642960" y="9288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4786200" y="5072040"/>
            <a:ext cx="3071880" cy="91440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5519ff"/>
                </a:solidFill>
                <a:latin typeface="Comic Sans MS"/>
              </a:rPr>
              <a:t>профориентационно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4786200" y="1428840"/>
            <a:ext cx="2714760" cy="91440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5519ff"/>
                </a:solidFill>
                <a:latin typeface="Comic Sans MS"/>
              </a:rPr>
              <a:t>художественно-эстетическое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1214280" y="2571840"/>
            <a:ext cx="2714760" cy="91440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5519ff"/>
                </a:solidFill>
                <a:latin typeface="Comic Sans MS"/>
              </a:rPr>
              <a:t>физкультурно-спортивно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1143000" y="1428840"/>
            <a:ext cx="2714760" cy="91440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5519ff"/>
                </a:solidFill>
                <a:latin typeface="Comic Sans MS"/>
              </a:rPr>
              <a:t>интеллектуально-развивающе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4786200" y="2643120"/>
            <a:ext cx="2714760" cy="91440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5519ff"/>
                </a:solidFill>
                <a:latin typeface="Comic Sans MS"/>
              </a:rPr>
              <a:t>гражданско - патриотическое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" name="AutoShape 8"/>
          <p:cNvSpPr/>
          <p:nvPr/>
        </p:nvSpPr>
        <p:spPr>
          <a:xfrm>
            <a:off x="3071880" y="3714840"/>
            <a:ext cx="2714400" cy="91440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5519ff"/>
                </a:solidFill>
                <a:latin typeface="Comic Sans MS"/>
              </a:rPr>
              <a:t>развитие самоуправления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AutoShape 9"/>
          <p:cNvSpPr/>
          <p:nvPr/>
        </p:nvSpPr>
        <p:spPr>
          <a:xfrm>
            <a:off x="1785960" y="5072040"/>
            <a:ext cx="2714760" cy="91440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5519ff"/>
                </a:solidFill>
                <a:latin typeface="Comic Sans MS"/>
              </a:rPr>
              <a:t>работа с родителями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685800" y="150840"/>
            <a:ext cx="687060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b6e05"/>
                </a:solidFill>
                <a:latin typeface="Comic Sans MS"/>
              </a:rPr>
              <a:t>Реализация программы воспитания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1785960" y="1828800"/>
            <a:ext cx="659592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Comic Sans MS"/>
              </a:rPr>
              <a:t>Уроки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Comic Sans MS"/>
              </a:rPr>
              <a:t>Внеурочная деятельность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Проектно-исследовательская деятельность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Comic Sans MS"/>
              </a:rPr>
              <a:t>Дополнительное образование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Comic Sans MS"/>
              </a:rPr>
              <a:t>Экскурсионная деятельность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Comic Sans MS"/>
              </a:rPr>
              <a:t>Деятельность классных руководителей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Comic Sans MS"/>
              </a:rPr>
              <a:t>КТД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Портфолио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Психолого-медико-педагогические консилиумы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Здоровьесберегающие технологии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Диаграмма 1" descr=""/>
          <p:cNvPicPr/>
          <p:nvPr/>
        </p:nvPicPr>
        <p:blipFill>
          <a:blip r:embed="rId1"/>
          <a:stretch/>
        </p:blipFill>
        <p:spPr>
          <a:xfrm>
            <a:off x="1571760" y="1428840"/>
            <a:ext cx="6453000" cy="420696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"/>
          <p:cNvSpPr/>
          <p:nvPr/>
        </p:nvSpPr>
        <p:spPr>
          <a:xfrm>
            <a:off x="68580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omic Sans MS"/>
              </a:rPr>
              <a:t>Физкультурно-спортивное направление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Диаграмма 1" descr=""/>
          <p:cNvPicPr/>
          <p:nvPr/>
        </p:nvPicPr>
        <p:blipFill>
          <a:blip r:embed="rId1"/>
          <a:stretch/>
        </p:blipFill>
        <p:spPr>
          <a:xfrm>
            <a:off x="1357200" y="1571760"/>
            <a:ext cx="6643800" cy="392904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"/>
          <p:cNvSpPr/>
          <p:nvPr/>
        </p:nvSpPr>
        <p:spPr>
          <a:xfrm>
            <a:off x="68580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omic Sans MS"/>
              </a:rPr>
              <a:t>Художественно-эстетическое направление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"/>
          <p:cNvSpPr/>
          <p:nvPr/>
        </p:nvSpPr>
        <p:spPr>
          <a:xfrm>
            <a:off x="685800" y="15084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Цель: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Определение путей и способов совершенствования системы воспитательной работы в  школе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проанализировать состояние воспитательной работы в школе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выявить основные проблемы  и противоречия  процесса воспитания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предложить пути  решения основных проблем, учитывая возможности и потенциал школы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разработать систему мер для качественного повышения уровня воспитательной работы в школе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Диаграмма 1" descr=""/>
          <p:cNvPicPr/>
          <p:nvPr/>
        </p:nvPicPr>
        <p:blipFill>
          <a:blip r:embed="rId1"/>
          <a:stretch/>
        </p:blipFill>
        <p:spPr>
          <a:xfrm>
            <a:off x="1357200" y="1571760"/>
            <a:ext cx="6643800" cy="392904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1"/>
          <p:cNvSpPr/>
          <p:nvPr/>
        </p:nvSpPr>
        <p:spPr>
          <a:xfrm>
            <a:off x="68580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omic Sans MS"/>
              </a:rPr>
              <a:t>Социально-педагогическое направление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" name="Прямоугольник 3"/>
          <p:cNvSpPr/>
          <p:nvPr/>
        </p:nvSpPr>
        <p:spPr>
          <a:xfrm>
            <a:off x="1428840" y="1643040"/>
            <a:ext cx="4929120" cy="285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Диаграмма 1" descr=""/>
          <p:cNvPicPr/>
          <p:nvPr/>
        </p:nvPicPr>
        <p:blipFill>
          <a:blip r:embed="rId1"/>
          <a:stretch/>
        </p:blipFill>
        <p:spPr>
          <a:xfrm>
            <a:off x="1357200" y="1571760"/>
            <a:ext cx="6643800" cy="392904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1"/>
          <p:cNvSpPr/>
          <p:nvPr/>
        </p:nvSpPr>
        <p:spPr>
          <a:xfrm>
            <a:off x="68580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omic Sans MS"/>
              </a:rPr>
              <a:t>Культурологическое направление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428840" y="1643040"/>
            <a:ext cx="4929120" cy="285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Диаграмма 1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620040" cy="4174920"/>
          </a:xfrm>
          <a:prstGeom prst="rect">
            <a:avLst/>
          </a:prstGeom>
          <a:ln w="0">
            <a:noFill/>
          </a:ln>
        </p:spPr>
      </p:pic>
      <p:sp>
        <p:nvSpPr>
          <p:cNvPr id="258" name="TextBox 4"/>
          <p:cNvSpPr/>
          <p:nvPr/>
        </p:nvSpPr>
        <p:spPr>
          <a:xfrm>
            <a:off x="3714840" y="242892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13 (18%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" name="TextBox 5"/>
          <p:cNvSpPr/>
          <p:nvPr/>
        </p:nvSpPr>
        <p:spPr>
          <a:xfrm>
            <a:off x="4357800" y="292896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12 (17%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3214800" y="350028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16 (23%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1785960" y="328608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9 (13%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68580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omic Sans MS"/>
              </a:rPr>
              <a:t>Посещение кружков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1"/>
          <p:cNvSpPr/>
          <p:nvPr/>
        </p:nvSpPr>
        <p:spPr>
          <a:xfrm>
            <a:off x="2000160" y="0"/>
            <a:ext cx="64008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Правила работы в группе: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2928960" y="1928880"/>
            <a:ext cx="47862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5519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5519ff"/>
                </a:solidFill>
                <a:latin typeface="Comic Sans MS"/>
              </a:rPr>
              <a:t>Равноправие участников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5519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5519ff"/>
                </a:solidFill>
                <a:latin typeface="Comic Sans MS"/>
              </a:rPr>
              <a:t>Активность участников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5519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5519ff"/>
                </a:solidFill>
                <a:latin typeface="Comic Sans MS"/>
              </a:rPr>
              <a:t>Право каждого участника на собственное мнение по любому вопросу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5519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5519ff"/>
                </a:solidFill>
                <a:latin typeface="Comic Sans MS"/>
              </a:rPr>
              <a:t>Добровольность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5519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5519ff"/>
                </a:solidFill>
                <a:latin typeface="Comic Sans MS"/>
              </a:rPr>
              <a:t>Умение слушать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5519ff"/>
                </a:solidFill>
                <a:latin typeface="Comic Sans MS"/>
              </a:rPr>
              <a:t>и слышать других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5519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5519ff"/>
                </a:solidFill>
                <a:latin typeface="Comic Sans MS"/>
              </a:rPr>
              <a:t>Регламент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"/>
          <p:cNvSpPr/>
          <p:nvPr/>
        </p:nvSpPr>
        <p:spPr>
          <a:xfrm>
            <a:off x="685800" y="15084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5519ff"/>
                </a:solidFill>
                <a:latin typeface="Comic Sans MS"/>
              </a:rPr>
              <a:t>Признание проблемы – половина успеха в ее разрешении.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5219640" y="4581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рейд Зигмунд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1371600" y="1511280"/>
            <a:ext cx="640080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Решение педагогического совета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1"/>
          <p:cNvSpPr/>
          <p:nvPr/>
        </p:nvSpPr>
        <p:spPr>
          <a:xfrm>
            <a:off x="68580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Рефлексия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Text Box 2"/>
          <p:cNvSpPr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Педсовет был интересным и полезным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Мне понравилась форма работы         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Педсовет был непродуктивным и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         </a:t>
            </a: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бесполезным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Мне не понравилась  форма работы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1" name="Oval 3"/>
          <p:cNvSpPr/>
          <p:nvPr/>
        </p:nvSpPr>
        <p:spPr>
          <a:xfrm>
            <a:off x="1028880" y="60930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2" name="Oval 4"/>
          <p:cNvSpPr/>
          <p:nvPr/>
        </p:nvSpPr>
        <p:spPr>
          <a:xfrm>
            <a:off x="826920" y="1916280"/>
            <a:ext cx="503280" cy="50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" name="Oval 5"/>
          <p:cNvSpPr/>
          <p:nvPr/>
        </p:nvSpPr>
        <p:spPr>
          <a:xfrm>
            <a:off x="250920" y="2781360"/>
            <a:ext cx="50328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4" name="Oval 6"/>
          <p:cNvSpPr/>
          <p:nvPr/>
        </p:nvSpPr>
        <p:spPr>
          <a:xfrm>
            <a:off x="1116000" y="3645000"/>
            <a:ext cx="503280" cy="5032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5" name="Oval 7"/>
          <p:cNvSpPr/>
          <p:nvPr/>
        </p:nvSpPr>
        <p:spPr>
          <a:xfrm>
            <a:off x="324000" y="4365720"/>
            <a:ext cx="502920" cy="503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1"/>
          <p:cNvSpPr/>
          <p:nvPr/>
        </p:nvSpPr>
        <p:spPr>
          <a:xfrm>
            <a:off x="1371600" y="1511280"/>
            <a:ext cx="640080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Спасибо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за работу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1"/>
          <p:cNvSpPr/>
          <p:nvPr/>
        </p:nvSpPr>
        <p:spPr>
          <a:xfrm>
            <a:off x="214200" y="142920"/>
            <a:ext cx="2643480" cy="100008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5519ff"/>
                </a:solidFill>
                <a:latin typeface="Comic Sans MS"/>
              </a:rPr>
              <a:t>Модель выпускника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AutoShape 2"/>
          <p:cNvSpPr/>
          <p:nvPr/>
        </p:nvSpPr>
        <p:spPr>
          <a:xfrm>
            <a:off x="3143160" y="142920"/>
            <a:ext cx="2571840" cy="100008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5519ff"/>
                </a:solidFill>
                <a:latin typeface="Comic Sans MS"/>
              </a:rPr>
              <a:t>Программа развития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AutoShape 3"/>
          <p:cNvSpPr/>
          <p:nvPr/>
        </p:nvSpPr>
        <p:spPr>
          <a:xfrm>
            <a:off x="5929200" y="142920"/>
            <a:ext cx="2928960" cy="100008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5519ff"/>
                </a:solidFill>
                <a:latin typeface="Comic Sans MS"/>
              </a:rPr>
              <a:t>«Столичное образование – 5»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5756400" y="3286080"/>
            <a:ext cx="31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omic Sans MS"/>
              </a:rPr>
              <a:t>образование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3374280" y="3286080"/>
            <a:ext cx="22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omic Sans MS"/>
              </a:rPr>
              <a:t>развитие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183960" y="3286080"/>
            <a:ext cx="283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omic Sans MS"/>
              </a:rPr>
              <a:t>воспитание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AutoShape 7"/>
          <p:cNvSpPr/>
          <p:nvPr/>
        </p:nvSpPr>
        <p:spPr>
          <a:xfrm rot="5400000">
            <a:off x="4068000" y="-1063440"/>
            <a:ext cx="655920" cy="6072120"/>
          </a:xfrm>
          <a:custGeom>
            <a:avLst/>
            <a:gdLst>
              <a:gd name="textAreaLeft" fmla="*/ 0 w 655920"/>
              <a:gd name="textAreaRight" fmla="*/ 236880 w 655920"/>
              <a:gd name="textAreaTop" fmla="*/ 16920 h 6072120"/>
              <a:gd name="textAreaBottom" fmla="*/ 6055200 h 607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7"/>
                  <a:pt x="10800" y="194"/>
                </a:cubicBezTo>
                <a:lnTo>
                  <a:pt x="10800" y="10606"/>
                </a:lnTo>
                <a:cubicBezTo>
                  <a:pt x="10800" y="10703"/>
                  <a:pt x="16200" y="10800"/>
                  <a:pt x="21600" y="10800"/>
                </a:cubicBezTo>
                <a:cubicBezTo>
                  <a:pt x="16200" y="10800"/>
                  <a:pt x="10800" y="10897"/>
                  <a:pt x="10800" y="10994"/>
                </a:cubicBezTo>
                <a:lnTo>
                  <a:pt x="10800" y="21406"/>
                </a:lnTo>
                <a:cubicBezTo>
                  <a:pt x="10800" y="21503"/>
                  <a:pt x="5400" y="21600"/>
                  <a:pt x="0" y="21600"/>
                </a:cubicBezTo>
              </a:path>
            </a:pathLst>
          </a:custGeom>
          <a:noFill/>
          <a:ln w="88920">
            <a:solidFill>
              <a:srgbClr val="fded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8" name="Picture 11" descr=""/>
          <p:cNvPicPr/>
          <p:nvPr/>
        </p:nvPicPr>
        <p:blipFill>
          <a:blip r:embed="rId1"/>
          <a:stretch/>
        </p:blipFill>
        <p:spPr>
          <a:xfrm>
            <a:off x="4786200" y="3889440"/>
            <a:ext cx="1643040" cy="296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1"/>
          <p:cNvSpPr/>
          <p:nvPr/>
        </p:nvSpPr>
        <p:spPr>
          <a:xfrm>
            <a:off x="0" y="304920"/>
            <a:ext cx="900108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 Unicode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 Unicode MS"/>
              </a:rPr>
              <a:t>Воспитание –</a:t>
            </a:r>
            <a:r>
              <a:rPr b="1" lang="ru-RU" sz="2800" spc="-1" strike="noStrike">
                <a:solidFill>
                  <a:srgbClr val="ff6600"/>
                </a:solidFill>
                <a:latin typeface="Courier New"/>
              </a:rPr>
              <a:t>  </a:t>
            </a: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целенаправленное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управление процессом  развития личности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 Unicode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 Unicode MS"/>
              </a:rPr>
              <a:t>Главное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6600"/>
                </a:solidFill>
                <a:latin typeface="Courier New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создание условий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для целенаправленного  систематического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развития  человека как субъекта  деятельности,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как личности   и как индивидуальности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6315120" y="3505320"/>
            <a:ext cx="263664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685800" y="15084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 Unicode MS"/>
              </a:rPr>
              <a:t>Воспитание -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педагогический компонент процесса социализации, который предполагает целенаправленные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действия по созданию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условий для развития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                  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человека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0" y="3546360"/>
            <a:ext cx="385776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685800" y="15084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 Unicode MS"/>
              </a:rPr>
              <a:t>Потребности школьников: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1500120" y="1828800"/>
            <a:ext cx="688176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быть здоровым;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в защищенности, безопасности;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в уважении, признании;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в понимании смысла жизни;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в самореализации;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в творческой деятельности;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1280" indent="-3412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в удовольствии, наслаждении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768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768" fill="hold"/>
                                        <p:tgtEl>
                                          <p:spTgt spid="2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" dur="768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" dur="768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498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998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498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998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685800" y="15084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Цель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воспитательной работы: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5519ff"/>
                </a:solidFill>
                <a:latin typeface="Comic Sans MS"/>
              </a:rPr>
              <a:t>создание условий для воспитания высоконравственной личности, духовно развитой и физически здоровой, способной к самореализации и самоопределению в социуме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685800" y="-108000"/>
            <a:ext cx="687060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d1692f"/>
                </a:solidFill>
                <a:latin typeface="Comic Sans MS"/>
              </a:rPr>
              <a:t>Цель воспитательной программы НОУ школы «Выбор»</a:t>
            </a:r>
            <a:br>
              <a:rPr sz="6000"/>
            </a:b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685800" y="1214280"/>
            <a:ext cx="7696080" cy="44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Создание в школе единого воспитательного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пространства детства, главной ценностью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которого является личность каждого ребенка;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создание детско-взрослой со-бытийной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общности; формирование нового сознания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ориентированного на умение строить жизнь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достойную человека; формирование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определенной системы ценностей, позволяющей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жить в согласии с миром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685800" y="15084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 Unicode MS"/>
              </a:rPr>
              <a:t>Системный подход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Comic Sans MS"/>
              </a:rPr>
              <a:t>Система – </a:t>
            </a: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единство отношений и связей отдельных частей, обуславливающих выполнение определенной сложной функции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3429000" y="3071880"/>
            <a:ext cx="46180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09:59:48Z</dcterms:created>
  <dc:creator>Admin</dc:creator>
  <dc:description/>
  <dc:language>en-US</dc:language>
  <cp:lastModifiedBy>Пользователь Windows</cp:lastModifiedBy>
  <dcterms:modified xsi:type="dcterms:W3CDTF">2018-06-22T11:51:47Z</dcterms:modified>
  <cp:revision>32</cp:revision>
  <dc:subject/>
  <dc:title>Система воспитательной работы: пути развития</dc:title>
</cp:coreProperties>
</file>