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F0D5-D1E1-48BD-A5A7-C90E503F7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5DB3-D5CE-4C63-B887-731D306F7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07DB-6C57-4041-943B-490D67B64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B371-2D7B-4037-983B-A1FF2D552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C226-1312-42DA-BC24-9E8D0AAB6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32FF-E76D-4084-BB55-3EB20CA126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8CE4-E2A5-4433-A378-C43721059F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0728-089B-4202-988F-C962A25F73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A0FF-AA5A-4A34-BF13-146BB47BFD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11DB-4809-4575-A0ED-C31DEFECEF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8711-93A4-46BA-9E52-647E43132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69A2-BD13-4B65-9B6A-03AF189B6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A48C-91C9-46EC-9D66-6F7CD6ECA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2246-F936-42D2-A022-64F6B9BF20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0E67-6156-4712-8F68-81D69CE32A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0513-7035-4CED-A7A4-080E71790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D8F6-CDCB-4FB5-8D4D-3861E6254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7EE7-9C1B-42F1-A573-D8BAAFC5E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F232-E15C-4F0B-8816-05EEC7B29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7EDB-CF3C-4025-A663-4635CF1A1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DD2E-1C95-4591-876C-E6E73D719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EC91-D9DA-49BB-A637-17E65F94F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5DDA-6DA0-42EE-8835-5927E724D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F4E1-4DFD-4F71-A072-4F01B8F3C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111312-4BC6-4650-8547-A846F4CF172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AutoShape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AutoShape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AutoShape 10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2560"/>
                <a:gd name="textAreaBottom" fmla="*/ 592920 h 5925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AutoShape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AutoShape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AutoShape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040"/>
                    <a:gd name="textAreaBottom" fmla="*/ 185400 h 1850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AutoShape 24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AutoShape 26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AutoShape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AutoShape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696240"/>
                    <a:gd name="textAreaBottom" fmla="*/ 696600 h 6962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AutoShape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3880"/>
                    <a:gd name="textAreaBottom" fmla="*/ 264240 h 26388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AutoShape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>
                    <a:gd name="textAreaLeft" fmla="*/ 0 w 510480"/>
                    <a:gd name="textAreaRight" fmla="*/ 510840 w 510480"/>
                    <a:gd name="textAreaTop" fmla="*/ 0 h 939600"/>
                    <a:gd name="textAreaBottom" fmla="*/ 939960 h 93960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AutoShape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8880"/>
                    <a:gd name="textAreaBottom" fmla="*/ 399240 h 39888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AutoShape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AutoShape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>
                    <a:gd name="textAreaLeft" fmla="*/ 0 w 746640"/>
                    <a:gd name="textAreaRight" fmla="*/ 747000 w 74664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AutoShape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>
                    <a:gd name="textAreaLeft" fmla="*/ 0 w 388080"/>
                    <a:gd name="textAreaRight" fmla="*/ 388440 w 3880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AutoShape 37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264400"/>
                <a:gd name="textAreaBottom" fmla="*/ 2264760 h 22644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591280"/>
                <a:gd name="textAreaBottom" fmla="*/ 2591640 h 25912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3280" y="-146520"/>
            <a:ext cx="2981880" cy="2845440"/>
            <a:chOff x="6893280" y="-146520"/>
            <a:chExt cx="2981880" cy="284544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3280" y="-146520"/>
              <a:ext cx="2981880" cy="2845440"/>
              <a:chOff x="6893280" y="-146520"/>
              <a:chExt cx="2981880" cy="2845440"/>
            </a:xfrm>
          </p:grpSpPr>
          <p:sp>
            <p:nvSpPr>
              <p:cNvPr id="40" name="AutoShape 41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3280" y="-146520"/>
                <a:ext cx="2981880" cy="2845440"/>
                <a:chOff x="6893280" y="-146520"/>
                <a:chExt cx="2981880" cy="2845440"/>
              </a:xfrm>
            </p:grpSpPr>
            <p:sp>
              <p:nvSpPr>
                <p:cNvPr id="42" name="AutoShape 43"/>
                <p:cNvSpPr/>
                <p:nvPr/>
              </p:nvSpPr>
              <p:spPr>
                <a:xfrm rot="18420000">
                  <a:off x="7772040" y="-22680"/>
                  <a:ext cx="351360" cy="225360"/>
                </a:xfrm>
                <a:custGeom>
                  <a:avLst/>
                  <a:gdLst>
                    <a:gd name="textAreaLeft" fmla="*/ 0 w 351360"/>
                    <a:gd name="textAreaRight" fmla="*/ 351720 w 35136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AutoShape 44"/>
                <p:cNvSpPr/>
                <p:nvPr/>
              </p:nvSpPr>
              <p:spPr>
                <a:xfrm rot="18420000">
                  <a:off x="7902720" y="639000"/>
                  <a:ext cx="615600" cy="790920"/>
                </a:xfrm>
                <a:custGeom>
                  <a:avLst/>
                  <a:gdLst>
                    <a:gd name="textAreaLeft" fmla="*/ 0 w 615600"/>
                    <a:gd name="textAreaRight" fmla="*/ 615960 w 615600"/>
                    <a:gd name="textAreaTop" fmla="*/ 0 h 790920"/>
                    <a:gd name="textAreaBottom" fmla="*/ 791280 h 7909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AutoShape 45"/>
                <p:cNvSpPr/>
                <p:nvPr/>
              </p:nvSpPr>
              <p:spPr>
                <a:xfrm rot="18420000">
                  <a:off x="7501320" y="408600"/>
                  <a:ext cx="1154880" cy="1621800"/>
                </a:xfrm>
                <a:custGeom>
                  <a:avLst/>
                  <a:gdLst>
                    <a:gd name="textAreaLeft" fmla="*/ 0 w 1154880"/>
                    <a:gd name="textAreaRight" fmla="*/ 1155240 w 1154880"/>
                    <a:gd name="textAreaTop" fmla="*/ 0 h 1621800"/>
                    <a:gd name="textAreaBottom" fmla="*/ 1622160 h 16218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AutoShape 46"/>
                <p:cNvSpPr/>
                <p:nvPr/>
              </p:nvSpPr>
              <p:spPr>
                <a:xfrm rot="18420000">
                  <a:off x="7516800" y="62640"/>
                  <a:ext cx="1734120" cy="2426760"/>
                </a:xfrm>
                <a:custGeom>
                  <a:avLst/>
                  <a:gdLst>
                    <a:gd name="textAreaLeft" fmla="*/ 0 w 1734120"/>
                    <a:gd name="textAreaRight" fmla="*/ 1734480 w 1734120"/>
                    <a:gd name="textAreaTop" fmla="*/ 0 h 2426760"/>
                    <a:gd name="textAreaBottom" fmla="*/ 2427120 h 24267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AutoShape 47"/>
                <p:cNvSpPr/>
                <p:nvPr/>
              </p:nvSpPr>
              <p:spPr>
                <a:xfrm rot="18420000">
                  <a:off x="8374680" y="1857600"/>
                  <a:ext cx="387360" cy="220320"/>
                </a:xfrm>
                <a:custGeom>
                  <a:avLst/>
                  <a:gdLst>
                    <a:gd name="textAreaLeft" fmla="*/ 0 w 387360"/>
                    <a:gd name="textAreaRight" fmla="*/ 387720 w 38736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AutoShape 48"/>
                <p:cNvSpPr/>
                <p:nvPr/>
              </p:nvSpPr>
              <p:spPr>
                <a:xfrm rot="18420000">
                  <a:off x="8289360" y="1656000"/>
                  <a:ext cx="412920" cy="25992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AutoShape 49"/>
                <p:cNvSpPr/>
                <p:nvPr/>
              </p:nvSpPr>
              <p:spPr>
                <a:xfrm rot="18420000">
                  <a:off x="7802640" y="300240"/>
                  <a:ext cx="412920" cy="26532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265320"/>
                    <a:gd name="textAreaBottom" fmla="*/ 265680 h 2653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AutoShape 50"/>
                <p:cNvSpPr/>
                <p:nvPr/>
              </p:nvSpPr>
              <p:spPr>
                <a:xfrm rot="18420000">
                  <a:off x="7741440" y="131400"/>
                  <a:ext cx="410760" cy="248760"/>
                </a:xfrm>
                <a:custGeom>
                  <a:avLst/>
                  <a:gdLst>
                    <a:gd name="textAreaLeft" fmla="*/ 0 w 410760"/>
                    <a:gd name="textAreaRight" fmla="*/ 411120 w 41076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2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AutoShape 3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1" name="AutoShape 5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AutoShape 6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8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2560"/>
                <a:gd name="textAreaBottom" fmla="*/ 592920 h 5925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AutoShape 9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AutoShape 10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AutoShape 11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AutoShape 12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AutoShape 13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0" name="Group 14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01" name="Group 15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102" name="AutoShape 16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AutoShape 17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AutoShape 18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040"/>
                    <a:gd name="textAreaBottom" fmla="*/ 185400 h 1850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AutoShape 19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AutoShape 21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8" name="Group 22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109" name="AutoShape 23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AutoShape 24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696240"/>
                    <a:gd name="textAreaBottom" fmla="*/ 696600 h 6962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AutoShape 25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3880"/>
                    <a:gd name="textAreaBottom" fmla="*/ 264240 h 26388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AutoShape 26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>
                    <a:gd name="textAreaLeft" fmla="*/ 0 w 510480"/>
                    <a:gd name="textAreaRight" fmla="*/ 510840 w 510480"/>
                    <a:gd name="textAreaTop" fmla="*/ 0 h 939600"/>
                    <a:gd name="textAreaBottom" fmla="*/ 939960 h 93960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AutoShape 27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8880"/>
                    <a:gd name="textAreaBottom" fmla="*/ 399240 h 39888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AutoShape 28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AutoShape 29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>
                    <a:gd name="textAreaLeft" fmla="*/ 0 w 746640"/>
                    <a:gd name="textAreaRight" fmla="*/ 747000 w 74664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AutoShape 30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>
                    <a:gd name="textAreaLeft" fmla="*/ 0 w 388080"/>
                    <a:gd name="textAreaRight" fmla="*/ 388440 w 3880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1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118" name="AutoShape 32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264400"/>
                <a:gd name="textAreaBottom" fmla="*/ 2264760 h 22644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AutoShape 33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591280"/>
                <a:gd name="textAreaBottom" fmla="*/ 2591640 h 25912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6893280" y="-146520"/>
            <a:ext cx="2981880" cy="2845440"/>
            <a:chOff x="6893280" y="-146520"/>
            <a:chExt cx="2981880" cy="2845440"/>
          </a:xfrm>
        </p:grpSpPr>
        <p:grpSp>
          <p:nvGrpSpPr>
            <p:cNvPr id="121" name="Group 35"/>
            <p:cNvGrpSpPr/>
            <p:nvPr/>
          </p:nvGrpSpPr>
          <p:grpSpPr>
            <a:xfrm>
              <a:off x="6893280" y="-146520"/>
              <a:ext cx="2981880" cy="2845440"/>
              <a:chOff x="6893280" y="-146520"/>
              <a:chExt cx="2981880" cy="2845440"/>
            </a:xfrm>
          </p:grpSpPr>
          <p:sp>
            <p:nvSpPr>
              <p:cNvPr id="122" name="AutoShape 36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23" name="Group 37"/>
              <p:cNvGrpSpPr/>
              <p:nvPr/>
            </p:nvGrpSpPr>
            <p:grpSpPr>
              <a:xfrm>
                <a:off x="6893280" y="-146520"/>
                <a:ext cx="2981880" cy="2845440"/>
                <a:chOff x="6893280" y="-146520"/>
                <a:chExt cx="2981880" cy="2845440"/>
              </a:xfrm>
            </p:grpSpPr>
            <p:sp>
              <p:nvSpPr>
                <p:cNvPr id="124" name="AutoShape 38"/>
                <p:cNvSpPr/>
                <p:nvPr/>
              </p:nvSpPr>
              <p:spPr>
                <a:xfrm rot="18420000">
                  <a:off x="7772040" y="-22680"/>
                  <a:ext cx="351360" cy="225360"/>
                </a:xfrm>
                <a:custGeom>
                  <a:avLst/>
                  <a:gdLst>
                    <a:gd name="textAreaLeft" fmla="*/ 0 w 351360"/>
                    <a:gd name="textAreaRight" fmla="*/ 351720 w 35136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AutoShape 39"/>
                <p:cNvSpPr/>
                <p:nvPr/>
              </p:nvSpPr>
              <p:spPr>
                <a:xfrm rot="18420000">
                  <a:off x="7902720" y="639000"/>
                  <a:ext cx="615600" cy="790920"/>
                </a:xfrm>
                <a:custGeom>
                  <a:avLst/>
                  <a:gdLst>
                    <a:gd name="textAreaLeft" fmla="*/ 0 w 615600"/>
                    <a:gd name="textAreaRight" fmla="*/ 615960 w 615600"/>
                    <a:gd name="textAreaTop" fmla="*/ 0 h 790920"/>
                    <a:gd name="textAreaBottom" fmla="*/ 791280 h 7909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AutoShape 40"/>
                <p:cNvSpPr/>
                <p:nvPr/>
              </p:nvSpPr>
              <p:spPr>
                <a:xfrm rot="18420000">
                  <a:off x="7501320" y="408600"/>
                  <a:ext cx="1154880" cy="1621800"/>
                </a:xfrm>
                <a:custGeom>
                  <a:avLst/>
                  <a:gdLst>
                    <a:gd name="textAreaLeft" fmla="*/ 0 w 1154880"/>
                    <a:gd name="textAreaRight" fmla="*/ 1155240 w 1154880"/>
                    <a:gd name="textAreaTop" fmla="*/ 0 h 1621800"/>
                    <a:gd name="textAreaBottom" fmla="*/ 1622160 h 16218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AutoShape 41"/>
                <p:cNvSpPr/>
                <p:nvPr/>
              </p:nvSpPr>
              <p:spPr>
                <a:xfrm rot="18420000">
                  <a:off x="7516800" y="62640"/>
                  <a:ext cx="1734120" cy="2426760"/>
                </a:xfrm>
                <a:custGeom>
                  <a:avLst/>
                  <a:gdLst>
                    <a:gd name="textAreaLeft" fmla="*/ 0 w 1734120"/>
                    <a:gd name="textAreaRight" fmla="*/ 1734480 w 1734120"/>
                    <a:gd name="textAreaTop" fmla="*/ 0 h 2426760"/>
                    <a:gd name="textAreaBottom" fmla="*/ 2427120 h 24267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AutoShape 42"/>
                <p:cNvSpPr/>
                <p:nvPr/>
              </p:nvSpPr>
              <p:spPr>
                <a:xfrm rot="18420000">
                  <a:off x="8374680" y="1857600"/>
                  <a:ext cx="387360" cy="220320"/>
                </a:xfrm>
                <a:custGeom>
                  <a:avLst/>
                  <a:gdLst>
                    <a:gd name="textAreaLeft" fmla="*/ 0 w 387360"/>
                    <a:gd name="textAreaRight" fmla="*/ 387720 w 38736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AutoShape 43"/>
                <p:cNvSpPr/>
                <p:nvPr/>
              </p:nvSpPr>
              <p:spPr>
                <a:xfrm rot="18420000">
                  <a:off x="8289360" y="1656000"/>
                  <a:ext cx="412920" cy="25992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AutoShape 44"/>
                <p:cNvSpPr/>
                <p:nvPr/>
              </p:nvSpPr>
              <p:spPr>
                <a:xfrm rot="18420000">
                  <a:off x="7802640" y="300240"/>
                  <a:ext cx="412920" cy="26532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265320"/>
                    <a:gd name="textAreaBottom" fmla="*/ 265680 h 2653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AutoShape 45"/>
                <p:cNvSpPr/>
                <p:nvPr/>
              </p:nvSpPr>
              <p:spPr>
                <a:xfrm rot="18420000">
                  <a:off x="7741440" y="131400"/>
                  <a:ext cx="410760" cy="248760"/>
                </a:xfrm>
                <a:custGeom>
                  <a:avLst/>
                  <a:gdLst>
                    <a:gd name="textAreaLeft" fmla="*/ 0 w 410760"/>
                    <a:gd name="textAreaRight" fmla="*/ 411120 w 41076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46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135" name="AutoShape 49"/>
            <p:cNvSpPr/>
            <p:nvPr/>
          </p:nvSpPr>
          <p:spPr>
            <a:xfrm>
              <a:off x="281160" y="280800"/>
              <a:ext cx="3571560" cy="16124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2440"/>
                <a:gd name="textAreaBottom" fmla="*/ 1612800 h 16124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AutoShape 50"/>
            <p:cNvSpPr/>
            <p:nvPr/>
          </p:nvSpPr>
          <p:spPr>
            <a:xfrm>
              <a:off x="263520" y="414000"/>
              <a:ext cx="3562200" cy="15969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AutoShape 51"/>
            <p:cNvSpPr/>
            <p:nvPr/>
          </p:nvSpPr>
          <p:spPr>
            <a:xfrm>
              <a:off x="752400" y="545760"/>
              <a:ext cx="2362320" cy="14569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6920"/>
                <a:gd name="textAreaBottom" fmla="*/ 1457280 h 1456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38" name="Group 52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39" name="AutoShape 53"/>
              <p:cNvSpPr/>
              <p:nvPr/>
            </p:nvSpPr>
            <p:spPr>
              <a:xfrm>
                <a:off x="3181320" y="1479960"/>
                <a:ext cx="336240" cy="3387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AutoShape 54"/>
              <p:cNvSpPr/>
              <p:nvPr/>
            </p:nvSpPr>
            <p:spPr>
              <a:xfrm>
                <a:off x="195120" y="235080"/>
                <a:ext cx="3786480" cy="1712520"/>
              </a:xfrm>
              <a:custGeom>
                <a:avLst/>
                <a:gdLst>
                  <a:gd name="textAreaLeft" fmla="*/ 0 w 3786480"/>
                  <a:gd name="textAreaRight" fmla="*/ 3786840 w 3786480"/>
                  <a:gd name="textAreaTop" fmla="*/ 0 h 1712520"/>
                  <a:gd name="textAreaBottom" fmla="*/ 1712880 h 17125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AutoShape 55"/>
              <p:cNvSpPr/>
              <p:nvPr/>
            </p:nvSpPr>
            <p:spPr>
              <a:xfrm>
                <a:off x="514080" y="250560"/>
                <a:ext cx="2675520" cy="972360"/>
              </a:xfrm>
              <a:custGeom>
                <a:avLst/>
                <a:gdLst>
                  <a:gd name="textAreaLeft" fmla="*/ 0 w 2675520"/>
                  <a:gd name="textAreaRight" fmla="*/ 2675880 w 2675520"/>
                  <a:gd name="textAreaTop" fmla="*/ 0 h 972360"/>
                  <a:gd name="textAreaBottom" fmla="*/ 972720 h 972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2" name="AutoShape 56"/>
              <p:cNvSpPr/>
              <p:nvPr/>
            </p:nvSpPr>
            <p:spPr>
              <a:xfrm>
                <a:off x="649080" y="398160"/>
                <a:ext cx="360000" cy="64944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3" name="AutoShape 57"/>
              <p:cNvSpPr/>
              <p:nvPr/>
            </p:nvSpPr>
            <p:spPr>
              <a:xfrm>
                <a:off x="1342440" y="849600"/>
                <a:ext cx="1096200" cy="576360"/>
              </a:xfrm>
              <a:custGeom>
                <a:avLst/>
                <a:gdLst>
                  <a:gd name="textAreaLeft" fmla="*/ 0 w 1096200"/>
                  <a:gd name="textAreaRight" fmla="*/ 1096560 w 109620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58"/>
          <p:cNvGrpSpPr/>
          <p:nvPr/>
        </p:nvGrpSpPr>
        <p:grpSpPr>
          <a:xfrm>
            <a:off x="7701840" y="4235760"/>
            <a:ext cx="1162800" cy="1324800"/>
            <a:chOff x="7701840" y="4235760"/>
            <a:chExt cx="1162800" cy="1324800"/>
          </a:xfrm>
        </p:grpSpPr>
        <p:sp>
          <p:nvSpPr>
            <p:cNvPr id="145" name="AutoShape 59"/>
            <p:cNvSpPr/>
            <p:nvPr/>
          </p:nvSpPr>
          <p:spPr>
            <a:xfrm rot="7320000">
              <a:off x="7792200" y="4659840"/>
              <a:ext cx="998280" cy="46368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AutoShape 60"/>
            <p:cNvSpPr/>
            <p:nvPr/>
          </p:nvSpPr>
          <p:spPr>
            <a:xfrm rot="7320000">
              <a:off x="777060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AutoShape 61"/>
            <p:cNvSpPr/>
            <p:nvPr/>
          </p:nvSpPr>
          <p:spPr>
            <a:xfrm rot="7320000">
              <a:off x="7935120" y="4627080"/>
              <a:ext cx="660600" cy="4194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48" name="Group 62"/>
            <p:cNvGrpSpPr/>
            <p:nvPr/>
          </p:nvGrpSpPr>
          <p:grpSpPr>
            <a:xfrm>
              <a:off x="7701840" y="4235760"/>
              <a:ext cx="1162800" cy="1324800"/>
              <a:chOff x="7701840" y="4235760"/>
              <a:chExt cx="1162800" cy="1324800"/>
            </a:xfrm>
          </p:grpSpPr>
          <p:sp>
            <p:nvSpPr>
              <p:cNvPr id="149" name="AutoShape 63"/>
              <p:cNvSpPr/>
              <p:nvPr/>
            </p:nvSpPr>
            <p:spPr>
              <a:xfrm rot="7320000">
                <a:off x="7808400" y="5069880"/>
                <a:ext cx="102240" cy="1274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27440"/>
                  <a:gd name="textAreaBottom" fmla="*/ 127440 h 1274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" name="AutoShape 64"/>
              <p:cNvSpPr/>
              <p:nvPr/>
            </p:nvSpPr>
            <p:spPr>
              <a:xfrm rot="7320000">
                <a:off x="7704720" y="4573800"/>
                <a:ext cx="1157040" cy="64800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" name="AutoShape 65"/>
              <p:cNvSpPr/>
              <p:nvPr/>
            </p:nvSpPr>
            <p:spPr>
              <a:xfrm rot="7320000">
                <a:off x="8034120" y="4711320"/>
                <a:ext cx="818640" cy="367560"/>
              </a:xfrm>
              <a:custGeom>
                <a:avLst/>
                <a:gdLst>
                  <a:gd name="textAreaLeft" fmla="*/ 0 w 818640"/>
                  <a:gd name="textAreaRight" fmla="*/ 819000 w 81864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" name="AutoShape 66"/>
              <p:cNvSpPr/>
              <p:nvPr/>
            </p:nvSpPr>
            <p:spPr>
              <a:xfrm rot="7320000">
                <a:off x="8597520" y="4510440"/>
                <a:ext cx="108720" cy="24408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" name="AutoShape 67"/>
              <p:cNvSpPr/>
              <p:nvPr/>
            </p:nvSpPr>
            <p:spPr>
              <a:xfrm rot="7320000">
                <a:off x="8142480" y="4726800"/>
                <a:ext cx="334800" cy="21744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AutoShape 6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AutoShape 6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 Box 7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8509A9-497F-48CD-A5FB-664E88D0654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511280" y="714240"/>
            <a:ext cx="763272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едагогический сове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785960" y="2571840"/>
            <a:ext cx="60325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519ff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5519ff"/>
                </a:solidFill>
                <a:latin typeface="Comic Sans MS"/>
              </a:rPr>
              <a:t>Система     воспитательной работы школы как фактор личностного роста ученика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 Unicode MS"/>
              </a:rPr>
              <a:t>Принципы системного подход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447920" y="1785960"/>
            <a:ext cx="769608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 целост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коммуникативности (связи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 структур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 управляемости и целенаправлен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 развит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Деятельностный подход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457200" y="1928880"/>
            <a:ext cx="822960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Основная идея деятельностного подхода в воспитании связана не с самой деятельностью как таковой, а с деятельностью как средством становления и развития субъектности ребенк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6215040" y="4343400"/>
            <a:ext cx="1738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Принципы деятельностного подход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714680" y="1714680"/>
            <a:ext cx="695304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субъектности воспитани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учета ведущих видов деятельност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определения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обогащения, усиления, углубления детского развити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проектирования ситуации воспитывающей деятельност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высокой мотивированности любых видов деятельности и други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1071720" y="182520"/>
            <a:ext cx="6870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Личностно-ориентированный подход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428840" y="2779560"/>
            <a:ext cx="725796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Обеспечение процессов самопознания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самостроительства и самореализаци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личности ребенка, развития ег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неповторимой индивидуальност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d1692f"/>
                </a:solidFill>
                <a:latin typeface="Comic Sans MS"/>
              </a:rPr>
              <a:t>Организация воспитательной работы регламентируется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714680" y="1828800"/>
            <a:ext cx="6881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ланирование воспитательной работы по направлениям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ерспективным планированием работы классных руководителе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рограммами и календарно-тематическим планированием работы педагогов дополнительного образован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расписанием студий, секций, кружко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режимом дн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ндивидуальным планом учащегося на триместр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                          </a:t>
            </a:r>
            <a:r>
              <a:rPr b="0" i="1" lang="ru-RU" sz="2400" spc="-1" strike="noStrike">
                <a:solidFill>
                  <a:srgbClr val="d1692f"/>
                </a:solidFill>
                <a:latin typeface="Comic Sans MS"/>
              </a:rPr>
              <a:t>(из «Программы развития»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85800" y="150840"/>
            <a:ext cx="687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b6e05"/>
                </a:solidFill>
                <a:latin typeface="Comic Sans MS"/>
              </a:rPr>
              <a:t>Школьные традици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785960" y="1071720"/>
            <a:ext cx="65959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День знани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День самоуправлен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онцерты ко Дню учителя, 8 Мар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Школьная спартакиад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овогодние праздник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ВН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аздник буквар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Интеллектуальный марафон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онкурс-игра «Путешествие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едметные недел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Окружная научно-исследовательская конференция "Я познаю мир"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оенно-спортивная игра «Зарница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Малые Олимпийские игр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685800" y="147600"/>
            <a:ext cx="687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b6e05"/>
                </a:solidFill>
                <a:latin typeface="Comic Sans MS"/>
              </a:rPr>
              <a:t>Направления </a:t>
            </a:r>
            <a:br>
              <a:rPr sz="3200"/>
            </a:br>
            <a:r>
              <a:rPr b="1" lang="ru-RU" sz="3200" spc="-1" strike="noStrike">
                <a:solidFill>
                  <a:srgbClr val="fb6e05"/>
                </a:solidFill>
                <a:latin typeface="Comic Sans MS"/>
              </a:rPr>
              <a:t>    воспитательной работ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642960" y="9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786200" y="5072040"/>
            <a:ext cx="307188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профориентацион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786200" y="142884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художественно-эстетическ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1214280" y="257184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физкультурно-спортив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143000" y="142884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интеллектуально-развивающе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4786200" y="264312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гражданско - патриотическ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3071880" y="3714840"/>
            <a:ext cx="271440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развитие самоуправл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1785960" y="507204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работа с родителям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685800" y="150840"/>
            <a:ext cx="68706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b6e05"/>
                </a:solidFill>
                <a:latin typeface="Comic Sans MS"/>
              </a:rPr>
              <a:t>Реализация программы воспитан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785960" y="1828800"/>
            <a:ext cx="659592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Урок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Внеурочная деятельн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оектно-исследовательская деятельн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Дополнительное образ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Экскурсионная деятельн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Деятельность классных руководителе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КТД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ортфоли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сихолого-медико-педагогические консилиум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Здоровьесберегающие технологи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Диаграмма 1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453000" cy="4206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Физкультурно-спортивное направл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Диаграмма 1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643800" cy="39290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Художественно-эстетическое направл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пределение путей и способов совершенствования системы воспитательной работы в  школ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роанализировать состояние воспитательной работы в школ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ыявить основные проблемы  и противоречия  процесса воспитания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редложить пути  решения основных проблем, учитывая возможности и потенциал школы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разработать систему мер для качественного повышения уровня воспитательной работы в школ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Диаграмма 1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643800" cy="3929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Социально-педагогическое направл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1428840" y="1643040"/>
            <a:ext cx="4929120" cy="285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Диаграмма 1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643800" cy="39290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Культурологическое направл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8840" y="1643040"/>
            <a:ext cx="4929120" cy="285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620040" cy="41749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3714840" y="24289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13 (18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4357800" y="29289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12 (17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3214800" y="35002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16 (23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1785960" y="3286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9 (13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Посещение кружков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000160" y="0"/>
            <a:ext cx="64008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равила работы в группе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928960" y="1928880"/>
            <a:ext cx="47862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Равноправие участнико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Активность участнико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Право каждого участника на собственное мнение по любому вопросу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Добровольность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Умение слушать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и слышать других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Регламен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519ff"/>
                </a:solidFill>
                <a:latin typeface="Comic Sans MS"/>
              </a:rPr>
              <a:t>Признание проблемы – половина успеха в ее разрешении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219640" y="4581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рейд Зигмунд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шение педагогического совет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едсовет был интересным и полезны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Мне понравилась форма работы  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едсовет был непродуктивным 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бесполезны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Мне не понравилась  форма работ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1028880" y="6093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826920" y="1916280"/>
            <a:ext cx="503280" cy="50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250920" y="2781360"/>
            <a:ext cx="5032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1116000" y="3645000"/>
            <a:ext cx="503280" cy="503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24000" y="4365720"/>
            <a:ext cx="502920" cy="503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пасибо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 работу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1"/>
          <p:cNvSpPr/>
          <p:nvPr/>
        </p:nvSpPr>
        <p:spPr>
          <a:xfrm>
            <a:off x="214200" y="142920"/>
            <a:ext cx="2643480" cy="10000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Модель выпускник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3143160" y="14292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Программа развит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929200" y="142920"/>
            <a:ext cx="2928960" cy="10000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«Столичное образование – 5»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756400" y="328608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образов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374280" y="328608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развит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83960" y="328608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воспит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AutoShape 7"/>
          <p:cNvSpPr/>
          <p:nvPr/>
        </p:nvSpPr>
        <p:spPr>
          <a:xfrm rot="5400000">
            <a:off x="4068000" y="-1063440"/>
            <a:ext cx="655920" cy="6072120"/>
          </a:xfrm>
          <a:custGeom>
            <a:avLst/>
            <a:gdLst>
              <a:gd name="textAreaLeft" fmla="*/ 0 w 655920"/>
              <a:gd name="textAreaRight" fmla="*/ 236880 w 655920"/>
              <a:gd name="textAreaTop" fmla="*/ 16920 h 6072120"/>
              <a:gd name="textAreaBottom" fmla="*/ 6055200 h 607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4"/>
                </a:cubicBezTo>
                <a:lnTo>
                  <a:pt x="10800" y="10606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4"/>
                </a:cubicBezTo>
                <a:lnTo>
                  <a:pt x="10800" y="21406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8892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11" descr=""/>
          <p:cNvPicPr/>
          <p:nvPr/>
        </p:nvPicPr>
        <p:blipFill>
          <a:blip r:embed="rId1"/>
          <a:stretch/>
        </p:blipFill>
        <p:spPr>
          <a:xfrm>
            <a:off x="4786200" y="3889440"/>
            <a:ext cx="1643040" cy="29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0" y="304920"/>
            <a:ext cx="90010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Unicode MS"/>
              </a:rPr>
              <a:t>Воспитание –</a:t>
            </a:r>
            <a:r>
              <a:rPr b="1" lang="ru-RU" sz="2800" spc="-1" strike="noStrike">
                <a:solidFill>
                  <a:srgbClr val="ff6600"/>
                </a:solidFill>
                <a:latin typeface="Courier New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целенаправленно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управление процессом  развития личност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Unicode MS"/>
              </a:rPr>
              <a:t>Главное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Courier New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создание условий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для целенаправленного  систематического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развития  человека как субъекта  деятельности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как личности   и как индивидуальност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315120" y="3505320"/>
            <a:ext cx="26366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Воспитание -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едагогический компонент процесса социализации, который предполагает целенаправленны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действия по созданию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условий для развит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 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человек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3546360"/>
            <a:ext cx="38577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Потребности школьников: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500120" y="1828800"/>
            <a:ext cx="688176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быть здоровым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защищенности, безопасност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уважении, признани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понимании смысла жизн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самореализаци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творческой деятельност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удовольствии, наслаждени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Цел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воспитательной работы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5519ff"/>
                </a:solidFill>
                <a:latin typeface="Comic Sans MS"/>
              </a:rPr>
              <a:t>создание условий для воспитания высоконравственной личности, духовно развитой и физически здоровой, способной к самореализации и самоопределению в социуме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-108000"/>
            <a:ext cx="6870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d1692f"/>
                </a:solidFill>
                <a:latin typeface="Comic Sans MS"/>
              </a:rPr>
              <a:t>Цель воспитательной программы НОУ школы «Выбор»</a:t>
            </a:r>
            <a:br>
              <a:rPr sz="60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685800" y="1214280"/>
            <a:ext cx="769608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Создание в школе единого воспитательного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ространства детства, главной ценностью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которого является личность каждого ребенк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создание детско-взрослой со-бытийн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бщности; формирование нового сознания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риентированного на умение строить жизнь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достойную человека; формировани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пределенной системы ценностей, позволяюще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жить в согласии с миро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Системный подход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Система –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единство отношений и связей отдельных частей, обуславливающих выполнение определенной сложной функци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429000" y="3071880"/>
            <a:ext cx="4618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9:59:48Z</dcterms:created>
  <dc:creator>Admin</dc:creator>
  <dc:description/>
  <dc:language>en-US</dc:language>
  <cp:lastModifiedBy>Пользователь Windows</cp:lastModifiedBy>
  <dcterms:modified xsi:type="dcterms:W3CDTF">2018-06-22T11:51:47Z</dcterms:modified>
  <cp:revision>32</cp:revision>
  <dc:subject/>
  <dc:title>Система воспитательной работы: пути развития</dc:title>
</cp:coreProperties>
</file>