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4.png" ContentType="image/png"/>
  <Override PartName="/ppt/media/image51.png" ContentType="image/png"/>
  <Override PartName="/ppt/media/image50.png" ContentType="image/png"/>
  <Override PartName="/ppt/media/image12.jpeg" ContentType="image/jpeg"/>
  <Override PartName="/ppt/media/image34.gif" ContentType="image/gif"/>
  <Override PartName="/ppt/media/image33.jpeg" ContentType="image/jpeg"/>
  <Override PartName="/ppt/media/image27.png" ContentType="image/png"/>
  <Override PartName="/ppt/media/image18.jpeg" ContentType="image/jpeg"/>
  <Override PartName="/ppt/media/image2.jpeg" ContentType="image/jpeg"/>
  <Override PartName="/ppt/media/image57.png" ContentType="image/png"/>
  <Override PartName="/ppt/media/image14.gif" ContentType="image/gif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3.gif" ContentType="image/gif"/>
  <Override PartName="/ppt/media/image31.gif" ContentType="image/gif"/>
  <Override PartName="/ppt/media/image24.png" ContentType="image/png"/>
  <Override PartName="/ppt/media/image15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61.jpeg" ContentType="image/jpeg"/>
  <Override PartName="/ppt/media/image60.gif" ContentType="image/gif"/>
  <Override PartName="/ppt/media/image28.png" ContentType="image/png"/>
  <Override PartName="/ppt/media/image17.gif" ContentType="image/gif"/>
  <Override PartName="/ppt/media/image5.gif" ContentType="image/gif"/>
  <Override PartName="/ppt/media/image32.gif" ContentType="image/gif"/>
  <Override PartName="/ppt/media/image22.gif" ContentType="image/gif"/>
  <Override PartName="/ppt/media/image25.png" ContentType="image/png"/>
  <Override PartName="/ppt/media/image62.png" ContentType="image/png"/>
  <Override PartName="/ppt/media/image30.gif" ContentType="image/gif"/>
  <Override PartName="/ppt/media/image29.gif" ContentType="image/gif"/>
  <Override PartName="/ppt/media/image6.gif" ContentType="image/gif"/>
  <Override PartName="/ppt/media/image36.gif" ContentType="image/gif"/>
  <Override PartName="/ppt/media/image11.gif" ContentType="image/gif"/>
  <Override PartName="/ppt/media/image7.gif" ContentType="image/gif"/>
  <Override PartName="/ppt/media/image37.gif" ContentType="image/gif"/>
  <Override PartName="/ppt/media/image16.jpeg" ContentType="image/jpeg"/>
  <Override PartName="/ppt/media/image9.gif" ContentType="image/gif"/>
  <Override PartName="/ppt/media/image39.gif" ContentType="image/gif"/>
  <Override PartName="/ppt/media/image4.png" ContentType="image/png"/>
  <Override PartName="/ppt/media/image13.gif" ContentType="image/gif"/>
  <Override PartName="/ppt/media/image48.jpeg" ContentType="image/jpeg"/>
  <Override PartName="/ppt/media/image52.jpeg" ContentType="image/jpeg"/>
  <Override PartName="/ppt/media/image10.gif" ContentType="image/gif"/>
  <Override PartName="/ppt/media/image23.png" ContentType="image/png"/>
  <Override PartName="/ppt/media/image53.jpeg" ContentType="image/jpeg"/>
  <Override PartName="/ppt/media/image20.gif" ContentType="image/gif"/>
  <Override PartName="/ppt/media/image40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35.gif" ContentType="image/gif"/>
  <Override PartName="/ppt/media/image38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46.png" ContentType="image/png"/>
  <Override PartName="/ppt/media/image47.jpeg" ContentType="image/jpeg"/>
  <Override PartName="/ppt/media/image8.gif" ContentType="image/gif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920D-BFD6-4BF5-898C-55ABFDF11D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389B-B100-4CE0-81EE-96100154E232}" type="slidenum">
              <a:rPr b="0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126F-01B6-4BEF-8A16-157ABA7A1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E582-890B-47FE-B51C-F164F48F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82B-C87F-4502-A58A-62F969B8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3404-EF62-4CD6-945A-0FD679D7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217B-3638-4063-A527-7CB5449F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2167-78E2-4E7A-9754-4A40C3E6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54AC-47D5-4DDE-9EE8-0AC6D5FC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77D-8CB9-4E03-A78A-E3AC40F7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76C-F018-4BC8-B4FE-B90C76E7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50CB-0C05-4D01-A24D-48B4FC3D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18F6-ABBC-481A-9588-2CD4DC14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4F58-2AA6-42FC-A57A-D7EA6426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377D-489A-42E0-8CFC-09901F18F33A}" type="datetime">
              <a:rPr b="0" lang="ru-RU" sz="1200" spc="-1" strike="noStrike">
                <a:solidFill>
                  <a:srgbClr val="d2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98E2-150D-4C44-932E-A5200F9C6DE2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9.gif"/><Relationship Id="rId14" Type="http://schemas.openxmlformats.org/officeDocument/2006/relationships/image" Target="../media/image10.gif"/><Relationship Id="rId15" Type="http://schemas.openxmlformats.org/officeDocument/2006/relationships/image" Target="../media/image11.gif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jpe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gif"/><Relationship Id="rId3" Type="http://schemas.openxmlformats.org/officeDocument/2006/relationships/image" Target="../media/image14.gif"/><Relationship Id="rId4" Type="http://schemas.openxmlformats.org/officeDocument/2006/relationships/image" Target="../media/image61.jpeg"/><Relationship Id="rId5" Type="http://schemas.openxmlformats.org/officeDocument/2006/relationships/image" Target="../media/image62.png"/><Relationship Id="rId6" Type="http://schemas.openxmlformats.org/officeDocument/2006/relationships/image" Target="../media/image6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image" Target="../media/image32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4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image" Target="../media/image36.gif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4642920"/>
            <a:ext cx="76438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214960" y="1428840"/>
            <a:ext cx="857160" cy="73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7429680" y="2357280"/>
            <a:ext cx="920520" cy="78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714240" y="142920"/>
            <a:ext cx="1057320" cy="107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2643120" y="2071800"/>
            <a:ext cx="928800" cy="83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5"/>
          <a:stretch/>
        </p:blipFill>
        <p:spPr>
          <a:xfrm>
            <a:off x="642960" y="3000240"/>
            <a:ext cx="92088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6"/>
          <a:stretch/>
        </p:blipFill>
        <p:spPr>
          <a:xfrm>
            <a:off x="4786200" y="2928960"/>
            <a:ext cx="92088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4" descr=""/>
          <p:cNvPicPr/>
          <p:nvPr/>
        </p:nvPicPr>
        <p:blipFill>
          <a:blip r:embed="rId7"/>
          <a:stretch/>
        </p:blipFill>
        <p:spPr>
          <a:xfrm>
            <a:off x="871560" y="4395960"/>
            <a:ext cx="8278920" cy="21762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8" descr=""/>
          <p:cNvPicPr/>
          <p:nvPr/>
        </p:nvPicPr>
        <p:blipFill>
          <a:blip r:embed="rId8"/>
          <a:stretch/>
        </p:blipFill>
        <p:spPr>
          <a:xfrm>
            <a:off x="-8394840" y="2962440"/>
            <a:ext cx="403200" cy="65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:\не срезала 2\анимашки новые\newy82.gif"/>
          <p:cNvPicPr/>
          <p:nvPr/>
        </p:nvPicPr>
        <p:blipFill>
          <a:blip r:embed="rId9"/>
          <a:stretch/>
        </p:blipFill>
        <p:spPr>
          <a:xfrm>
            <a:off x="928800" y="42876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C:\не срезала 2\анимашки новые\prazdnikia-2213.gif"/>
          <p:cNvPicPr/>
          <p:nvPr/>
        </p:nvPicPr>
        <p:blipFill>
          <a:blip r:embed="rId10"/>
          <a:stretch/>
        </p:blipFill>
        <p:spPr>
          <a:xfrm>
            <a:off x="7786800" y="55720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не срезала 2\анимашки новые\prazdnikia-2355.gif"/>
          <p:cNvPicPr/>
          <p:nvPr/>
        </p:nvPicPr>
        <p:blipFill>
          <a:blip r:embed="rId11"/>
          <a:stretch/>
        </p:blipFill>
        <p:spPr>
          <a:xfrm>
            <a:off x="6215040" y="285840"/>
            <a:ext cx="739800" cy="1052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C:\не срезала 2\анимашки новые\prazdnikia-2446.gif"/>
          <p:cNvPicPr/>
          <p:nvPr/>
        </p:nvPicPr>
        <p:blipFill>
          <a:blip r:embed="rId12"/>
          <a:stretch/>
        </p:blipFill>
        <p:spPr>
          <a:xfrm>
            <a:off x="3929040" y="1857240"/>
            <a:ext cx="60948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C:\не срезала 2\анимашки новые\prazdnikia-2470.gif"/>
          <p:cNvPicPr/>
          <p:nvPr/>
        </p:nvPicPr>
        <p:blipFill>
          <a:blip r:embed="rId13"/>
          <a:stretch/>
        </p:blipFill>
        <p:spPr>
          <a:xfrm>
            <a:off x="1357200" y="1749600"/>
            <a:ext cx="662040" cy="97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C:\не срезала 2\анимашки новые\prazdnikia-2253.gif"/>
          <p:cNvPicPr/>
          <p:nvPr/>
        </p:nvPicPr>
        <p:blipFill>
          <a:blip r:embed="rId14"/>
          <a:stretch/>
        </p:blipFill>
        <p:spPr>
          <a:xfrm>
            <a:off x="4000680" y="3500280"/>
            <a:ext cx="690480" cy="100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C:\не срезала 2\анимашки новые\prazdnikia-2232.gif"/>
          <p:cNvPicPr/>
          <p:nvPr/>
        </p:nvPicPr>
        <p:blipFill>
          <a:blip r:embed="rId15"/>
          <a:stretch/>
        </p:blipFill>
        <p:spPr>
          <a:xfrm>
            <a:off x="7219800" y="0"/>
            <a:ext cx="1924200" cy="1743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C:\не срезала 2\анимашки новые\prazdnikia-2470.gif"/>
          <p:cNvPicPr/>
          <p:nvPr/>
        </p:nvPicPr>
        <p:blipFill>
          <a:blip r:embed="rId16"/>
          <a:stretch/>
        </p:blipFill>
        <p:spPr>
          <a:xfrm>
            <a:off x="6429240" y="1785960"/>
            <a:ext cx="66204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аконец, незаменимый атрибут Рождества у европейцев –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енок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из еловых ветвей с колокольчиком, горящими свечами 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расными бантам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означающими воскресение Спасителя. В начале 20 века, когда елочные игрушки и само деревце стали уже общедоступной радостью, пестро наряженная разнородными игрушками елка стала в Европе признаком безвкусицы. В моду вошл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держанная традиция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украшения елки двумя цветами: серебристым и синим, желтым и красным.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5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0348-E8DD-4470-8F7C-A5AB204F9CF5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36" name="Picture 10" descr="C:\не срезала 2\анимашки новые\prazdnikia-2431.gif"/>
          <p:cNvPicPr/>
          <p:nvPr/>
        </p:nvPicPr>
        <p:blipFill>
          <a:blip r:embed="rId1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214800" y="4071960"/>
            <a:ext cx="2414520" cy="2309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не срезала 2\анимашки новые\prazdnikia-2403.gif"/>
          <p:cNvPicPr/>
          <p:nvPr/>
        </p:nvPicPr>
        <p:blipFill>
          <a:blip r:embed="rId3"/>
          <a:stretch/>
        </p:blipFill>
        <p:spPr>
          <a:xfrm>
            <a:off x="7786800" y="285840"/>
            <a:ext cx="1028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Росси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как и в Европе, первые рождественские елки украшал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ладостям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фруктам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Но есть и чисто русские особенности. Так, на Руси елочные игрушки делали еще из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тряпочек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олом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ьн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цветных ленточек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олосков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истей рябин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Часто изготавливал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уко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о которых в народе особое представление. Тряпичная кукла, обычно безликая и на вид ничем не примечательная, был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защитой от болезней, бед и нечист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Ее так и называли: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берегиня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К самодельным куклам относились с аккуратностью и уважением. Верили, что от них зависит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благополучие, достаток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и даже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рожай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08D1A-82C6-4060-8DD3-08BA0D342976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43" name="Рисунок 12" descr="Иллюстрация из Торгового словаря 1957 г."/>
          <p:cNvPicPr/>
          <p:nvPr/>
        </p:nvPicPr>
        <p:blipFill>
          <a:blip r:embed="rId1"/>
          <a:stretch/>
        </p:blipFill>
        <p:spPr>
          <a:xfrm>
            <a:off x="3214800" y="4454640"/>
            <a:ext cx="1728720" cy="2403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не срезала 2\анимашки новые\prazdnikia-2431.gif"/>
          <p:cNvPicPr/>
          <p:nvPr/>
        </p:nvPicPr>
        <p:blipFill>
          <a:blip r:embed="rId2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теклянные шары в нашей стране тоже были дорогим удовольствием: в прошлом один шарик стоил, чуть ли не как современный автомобиль. Поэтому в России даже продавали специальные альбомы для создания самодельных игрушек, где по инструкциям вырезали и клеили. К тому же, только у нас изготавливали стеклянные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осульк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Но история отечественных ёлочных украшений – это отдельный, не менее любопытный разговор..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7AE0C-0897-47E8-8C1F-6D03C8510A88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49" name="Picture 10" descr="C:\не срезала 2\анимашки новые\prazdnikia-2431.gif"/>
          <p:cNvPicPr/>
          <p:nvPr/>
        </p:nvPicPr>
        <p:blipFill>
          <a:blip r:embed="rId1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8334360" y="3214800"/>
            <a:ext cx="809640" cy="1390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928800" y="4429080"/>
            <a:ext cx="1243080" cy="1643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3143160" y="4429080"/>
            <a:ext cx="2287800" cy="1724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5"/>
          <a:stretch/>
        </p:blipFill>
        <p:spPr>
          <a:xfrm>
            <a:off x="7234200" y="0"/>
            <a:ext cx="1909800" cy="1428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6"/>
          <a:stretch/>
        </p:blipFill>
        <p:spPr>
          <a:xfrm>
            <a:off x="6000840" y="4143240"/>
            <a:ext cx="1023840" cy="2135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7"/>
          <a:stretch/>
        </p:blipFill>
        <p:spPr>
          <a:xfrm>
            <a:off x="0" y="0"/>
            <a:ext cx="1668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егодня в магазинах представлен богатый ассортимент елочных украшений, среди них – миниатюрные плюшевые игрушки и хрустальные фигурки, предметы интерьера из проволоки, кукольная одежда и так далее, и тому подобное... Но именно хрупкие шарики, из настоящего стекла, создают сказочную атмосферу любимого праздника. Полюбуйтесь ими, постарайтесь разглядеть красоту каждого отдельного шарика, и пусть к вам придет настоящее новогоднее волшебство!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3F16-43B7-47EF-BA3B-ECED4D493530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5643720" y="4000680"/>
            <a:ext cx="857160" cy="1036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785880" y="4214880"/>
            <a:ext cx="1038240" cy="1209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3"/>
          <a:stretch/>
        </p:blipFill>
        <p:spPr>
          <a:xfrm>
            <a:off x="3929040" y="4000680"/>
            <a:ext cx="1366920" cy="1428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"/>
          <p:cNvPicPr/>
          <p:nvPr/>
        </p:nvPicPr>
        <p:blipFill>
          <a:blip r:embed="rId4"/>
          <a:stretch/>
        </p:blipFill>
        <p:spPr>
          <a:xfrm>
            <a:off x="2357280" y="490212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5"/>
          <a:stretch/>
        </p:blipFill>
        <p:spPr>
          <a:xfrm>
            <a:off x="7572240" y="3643200"/>
            <a:ext cx="1047960" cy="134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6"/>
          <a:stretch/>
        </p:blipFill>
        <p:spPr>
          <a:xfrm>
            <a:off x="7134120" y="0"/>
            <a:ext cx="2009880" cy="1500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"/>
          <p:cNvPicPr/>
          <p:nvPr/>
        </p:nvPicPr>
        <p:blipFill>
          <a:blip r:embed="rId7"/>
          <a:stretch/>
        </p:blipFill>
        <p:spPr>
          <a:xfrm>
            <a:off x="285840" y="0"/>
            <a:ext cx="1214280" cy="1373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"/>
          <p:cNvPicPr/>
          <p:nvPr/>
        </p:nvPicPr>
        <p:blipFill>
          <a:blip r:embed="rId8"/>
          <a:stretch/>
        </p:blipFill>
        <p:spPr>
          <a:xfrm>
            <a:off x="6429240" y="5214960"/>
            <a:ext cx="151776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"/>
          <p:cNvPicPr/>
          <p:nvPr/>
        </p:nvPicPr>
        <p:blipFill>
          <a:blip r:embed="rId9"/>
          <a:stretch/>
        </p:blipFill>
        <p:spPr>
          <a:xfrm>
            <a:off x="3929040" y="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"/>
          <p:cNvPicPr/>
          <p:nvPr/>
        </p:nvPicPr>
        <p:blipFill>
          <a:blip r:embed="rId10"/>
          <a:stretch/>
        </p:blipFill>
        <p:spPr>
          <a:xfrm>
            <a:off x="4357800" y="5884920"/>
            <a:ext cx="733320" cy="973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6" descr=""/>
          <p:cNvPicPr/>
          <p:nvPr/>
        </p:nvPicPr>
        <p:blipFill>
          <a:blip r:embed="rId11"/>
          <a:stretch/>
        </p:blipFill>
        <p:spPr>
          <a:xfrm>
            <a:off x="2071800" y="28584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"/>
          <p:cNvPicPr/>
          <p:nvPr/>
        </p:nvPicPr>
        <p:blipFill>
          <a:blip r:embed="rId12"/>
          <a:stretch/>
        </p:blipFill>
        <p:spPr>
          <a:xfrm>
            <a:off x="5357880" y="212760"/>
            <a:ext cx="157140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B5CE-5A6B-4D56-933B-F867DF231D17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73" name="Содержимое 9" descr=""/>
          <p:cNvPicPr/>
          <p:nvPr/>
        </p:nvPicPr>
        <p:blipFill>
          <a:blip r:embed="rId1"/>
          <a:stretch/>
        </p:blipFill>
        <p:spPr>
          <a:xfrm>
            <a:off x="225360" y="1962000"/>
            <a:ext cx="8717040" cy="94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не срезала 2\анимашки новые\prazdnikia-2366.gif"/>
          <p:cNvPicPr/>
          <p:nvPr/>
        </p:nvPicPr>
        <p:blipFill>
          <a:blip r:embed="rId2"/>
          <a:stretch/>
        </p:blipFill>
        <p:spPr>
          <a:xfrm>
            <a:off x="2143080" y="3000240"/>
            <a:ext cx="537372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:\не срезала 2\анимашки новые\prazdnikia-2431.gif"/>
          <p:cNvPicPr/>
          <p:nvPr/>
        </p:nvPicPr>
        <p:blipFill>
          <a:blip r:embed="rId3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4"/>
          <a:stretch/>
        </p:blipFill>
        <p:spPr>
          <a:xfrm>
            <a:off x="714240" y="4929120"/>
            <a:ext cx="1000440" cy="1219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5"/>
          <a:stretch/>
        </p:blipFill>
        <p:spPr>
          <a:xfrm>
            <a:off x="7781760" y="0"/>
            <a:ext cx="1362240" cy="1362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:\не срезала 2\анимашки новые\prazdnikia-2259.gif"/>
          <p:cNvPicPr/>
          <p:nvPr/>
        </p:nvPicPr>
        <p:blipFill>
          <a:blip r:embed="rId6"/>
          <a:stretch/>
        </p:blipFill>
        <p:spPr>
          <a:xfrm>
            <a:off x="0" y="0"/>
            <a:ext cx="1647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Отражающие огоньки гирлянд, с причудливыми узорами, покрытые блестками, стеклянные елочные шары с детства предстали перед нами как чудесный символ новогодних праздников. Каждый раз мы наряжаем зелёную красавицу лучезарными шариками и мало задумываемся над тем, почему именно они завоевали статус традиционного рождественского украшения.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А ведь на самом деле, у нарядного шара своя волшебная история…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DE99-985B-47EC-AB1E-EA2C4C85DF25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69" name="Рисунок 3" descr="(Фото: djgis, Shutterstock)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2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не срезала 2\анимашки новые\prazdnikia-2028.gif"/>
          <p:cNvPicPr/>
          <p:nvPr/>
        </p:nvPicPr>
        <p:blipFill>
          <a:blip r:embed="rId2"/>
          <a:stretch/>
        </p:blipFill>
        <p:spPr>
          <a:xfrm>
            <a:off x="4429080" y="5429160"/>
            <a:ext cx="1004760" cy="114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C:\не срезала 2\анимашки новые\prazdnikia-2431.gif"/>
          <p:cNvPicPr/>
          <p:nvPr/>
        </p:nvPicPr>
        <p:blipFill>
          <a:blip r:embed="rId3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4"/>
          <a:srcRect l="0" t="0" r="11127" b="4536"/>
          <a:stretch/>
        </p:blipFill>
        <p:spPr>
          <a:xfrm>
            <a:off x="0" y="0"/>
            <a:ext cx="17146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В незапамятные времена у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ревних кельтских народов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существовал обычай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клонения природным силам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Считалось, что живая природа населена разными сверхъестественными существами, и, чтобы получить их благосклонность и помощь, надо было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иносить жертв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доказывая таким образом свое почтение. Верили, что в ветвях деревьев живут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ух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от расположения которых зависит урожай и плодородие. Поэтому священное дерево (первоначально таковым считалась яблоня) щедро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аряжал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а вокруг него устраивали веселые песни и пляски. Позже ритуальным деревом стала вечнозеленая ель. Видимо, именно к этому кельтскому представлению и восходит европейская традиция украшать новогоднюю  ёлку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5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0988-CFF7-4784-8FAC-2FC1610682D3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6" name="Рисунок 8" descr="Фото: www.thecardandgiftcompany.co.uk"/>
          <p:cNvPicPr/>
          <p:nvPr/>
        </p:nvPicPr>
        <p:blipFill>
          <a:blip r:embed="rId1"/>
          <a:stretch/>
        </p:blipFill>
        <p:spPr>
          <a:xfrm>
            <a:off x="7643880" y="4505400"/>
            <a:ext cx="1500120" cy="235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не срезала 2\анимашки новые\prazdnikia-2431.gif"/>
          <p:cNvPicPr/>
          <p:nvPr/>
        </p:nvPicPr>
        <p:blipFill>
          <a:blip r:embed="rId2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так, первые елочные украшения были исключительно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ъедобным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Ими стал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яблоки,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андарин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пельсин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орковь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ртофель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яйц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рех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афл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яник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фигурный сахар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еденц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Это не случайно. Каждый из них символизировал нечто важное. Например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яблоко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олицетворяло обильный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рожай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яйцо – непрерывную жизнь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рехи – загадочность божественного провидения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афли – святое благословление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ногда яблоки покрывали краской и блестками, а орехи – сахаром. Конфеты запаковывали в цветную бумагу или фольгу. Кроме этого, к ветвям елки прикрепляли дольки цитрусовых, палочки корицы и цукаты. Все эти вкусности съедали в новогоднюю ночь, а обертка оставалась висеть. В старину наряженной таким образом елочке приписывали магическую способность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тгонять нечистую силу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А украшенные яблокам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хвойные ветв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укрепляли над порогом и у окон, дабы защитить семью от колдовства и привлечь счастье. </a:t>
            </a: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97E6-00C0-4AA9-B4E2-63EF73632892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82" name="Picture 10" descr="C:\не срезала 2\анимашки новые\prazdnikia-2431.gif"/>
          <p:cNvPicPr/>
          <p:nvPr/>
        </p:nvPicPr>
        <p:blipFill>
          <a:blip r:embed="rId1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не срезала 2\анимашки новые\prazdnikia-2105.gif"/>
          <p:cNvPicPr/>
          <p:nvPr/>
        </p:nvPicPr>
        <p:blipFill>
          <a:blip r:embed="rId2"/>
          <a:stretch/>
        </p:blipFill>
        <p:spPr>
          <a:xfrm>
            <a:off x="8072280" y="5715000"/>
            <a:ext cx="69084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Яблок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занимали самое почетное место среди всего многообразия первых украшений. Осенью отбирались самые красивые яблоки, ровные, крупные и крепкие. Их бережно хранили до самой зимы. Легко представить, как торжественно смотрелись красные и желтые яблочки на фоне темно-зеленых ветвей. И именно яблоки стали прообразом стеклянных шариков… </a:t>
            </a: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90C5-52E4-4D53-890C-A4AC753659A4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88" name="Рисунок 9" descr="Фото: Е. Елизарова"/>
          <p:cNvPicPr/>
          <p:nvPr/>
        </p:nvPicPr>
        <p:blipFill>
          <a:blip r:embed="rId1"/>
          <a:stretch/>
        </p:blipFill>
        <p:spPr>
          <a:xfrm>
            <a:off x="7237440" y="3500280"/>
            <a:ext cx="1906560" cy="161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C:\не срезала 2\анимашки новые\prazdnikia-2431.gif"/>
          <p:cNvPicPr/>
          <p:nvPr/>
        </p:nvPicPr>
        <p:blipFill>
          <a:blip r:embed="rId2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3571920" y="3857760"/>
            <a:ext cx="19288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огласно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егенде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некогда выдался недородный год и яблок было мало. Тогда стеклодувы из городк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ауш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в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Тюринги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в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1848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году предложили временную замену этому фрукту. Там и были изготовлены первые стеклянные шары из прозрачного и цветного стекла. Они сразу же покорили сердца, так что очень скоро их производство стало массовым и прибыльным делом. Вышел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каз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об использовании серебристых шаров из Лауши в качестве рождественских украшений. Со временем талантливые мастера стали выдувать из стекла не только шары, но различные другие фигурки. 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емецкие елочные игрушк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прославились на весь мир. 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82AB7-16EC-4F5B-8A74-5C3F8A76C961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95" name="Picture 10" descr="C:\не срезала 2\анимашки новые\prazdnikia-2431.gif"/>
          <p:cNvPicPr/>
          <p:nvPr/>
        </p:nvPicPr>
        <p:blipFill>
          <a:blip r:embed="rId1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не срезала 2\анимашки новые\newy110.gif"/>
          <p:cNvPicPr/>
          <p:nvPr/>
        </p:nvPicPr>
        <p:blipFill>
          <a:blip r:embed="rId2"/>
          <a:stretch/>
        </p:blipFill>
        <p:spPr>
          <a:xfrm>
            <a:off x="3929040" y="5143680"/>
            <a:ext cx="126684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о украшения из стекла довольно долгое время был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рогостоящим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и поэтому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машние поделки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продолжали оставаться любимым и полезным семейным занятием. Это были игрушки из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корлуп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цветной бумаг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ртон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ат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тест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в форме сердечек, птиц, зверей, колокольчиков, снеговичков, причудливо испеченное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есочное печенье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посеребренные и позолоченные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шишк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B3B9-040F-4E0E-86B9-2263847A9740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01" name="Picture 10" descr="C:\не срезала 2\анимашки новые\prazdnikia-2431.gif"/>
          <p:cNvPicPr/>
          <p:nvPr/>
        </p:nvPicPr>
        <p:blipFill>
          <a:blip r:embed="rId1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8215200" y="285840"/>
            <a:ext cx="676440" cy="1046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C:\не срезала 2\анимашки новые\newy10.gif"/>
          <p:cNvPicPr/>
          <p:nvPr/>
        </p:nvPicPr>
        <p:blipFill>
          <a:blip r:embed="rId3"/>
          <a:stretch/>
        </p:blipFill>
        <p:spPr>
          <a:xfrm>
            <a:off x="785880" y="285840"/>
            <a:ext cx="685800" cy="819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4"/>
          <a:stretch/>
        </p:blipFill>
        <p:spPr>
          <a:xfrm>
            <a:off x="3714840" y="3857760"/>
            <a:ext cx="1019160" cy="1371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5"/>
          <a:stretch/>
        </p:blipFill>
        <p:spPr>
          <a:xfrm>
            <a:off x="500040" y="3786120"/>
            <a:ext cx="1928880" cy="176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6"/>
          <a:stretch/>
        </p:blipFill>
        <p:spPr>
          <a:xfrm>
            <a:off x="6143760" y="3786120"/>
            <a:ext cx="2428920" cy="179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7"/>
          <a:stretch/>
        </p:blipFill>
        <p:spPr>
          <a:xfrm>
            <a:off x="2714760" y="5143680"/>
            <a:ext cx="866520" cy="1333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8"/>
          <a:stretch/>
        </p:blipFill>
        <p:spPr>
          <a:xfrm>
            <a:off x="4429080" y="53578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9"/>
          <a:stretch/>
        </p:blipFill>
        <p:spPr>
          <a:xfrm>
            <a:off x="6286680" y="285840"/>
            <a:ext cx="10285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дним из самых распространенных рождественских украшений был и по сей день остается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олокольчик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Издревле он считался мощным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берегом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Своим звонким голосом колокольчик отгоняет темные силы, оберегает дом от несчастий, знаменует начало семейного веселья. Говорили даже, что он очищает воздух и не позволяет распространяться болезням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3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2DFA-04B9-4355-B5DE-8C7731B1BF6C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14" name="Picture 10" descr="C:\не срезала 2\анимашки новые\prazdnikia-2431.gif"/>
          <p:cNvPicPr/>
          <p:nvPr/>
        </p:nvPicPr>
        <p:blipFill>
          <a:blip r:embed="rId1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не срезала 2\анимашки новые\prazdnikia-2452.gif"/>
          <p:cNvPicPr/>
          <p:nvPr/>
        </p:nvPicPr>
        <p:blipFill>
          <a:blip r:embed="rId2"/>
          <a:stretch/>
        </p:blipFill>
        <p:spPr>
          <a:xfrm>
            <a:off x="8001000" y="285840"/>
            <a:ext cx="781200" cy="752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C:\не срезала 2\анимашки новые\prazdnikia-2452.gif"/>
          <p:cNvPicPr/>
          <p:nvPr/>
        </p:nvPicPr>
        <p:blipFill>
          <a:blip r:embed="rId3"/>
          <a:stretch/>
        </p:blipFill>
        <p:spPr>
          <a:xfrm rot="5188200">
            <a:off x="7929000" y="5715000"/>
            <a:ext cx="781200" cy="752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C:\не срезала 2\анимашки новые\prazdnikia-2452.gif"/>
          <p:cNvPicPr/>
          <p:nvPr/>
        </p:nvPicPr>
        <p:blipFill>
          <a:blip r:embed="rId4"/>
          <a:stretch/>
        </p:blipFill>
        <p:spPr>
          <a:xfrm rot="10800000">
            <a:off x="428400" y="5643720"/>
            <a:ext cx="780840" cy="752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C:\не срезала 2\анимашки новые\prazdnikia-2452.gif"/>
          <p:cNvPicPr/>
          <p:nvPr/>
        </p:nvPicPr>
        <p:blipFill>
          <a:blip r:embed="rId5"/>
          <a:stretch/>
        </p:blipFill>
        <p:spPr>
          <a:xfrm flipH="1">
            <a:off x="285480" y="357120"/>
            <a:ext cx="780840" cy="752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C:\не срезала 2\анимашки новые\prazdnikia-2228.gif"/>
          <p:cNvPicPr/>
          <p:nvPr/>
        </p:nvPicPr>
        <p:blipFill>
          <a:blip r:embed="rId6"/>
          <a:stretch/>
        </p:blipFill>
        <p:spPr>
          <a:xfrm>
            <a:off x="4071960" y="571680"/>
            <a:ext cx="790560" cy="82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C:\не срезала 2\анимашки новые\prazdnikia-2306.gif"/>
          <p:cNvPicPr/>
          <p:nvPr/>
        </p:nvPicPr>
        <p:blipFill>
          <a:blip r:embed="rId7"/>
          <a:stretch/>
        </p:blipFill>
        <p:spPr>
          <a:xfrm>
            <a:off x="3714840" y="3500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:\не срезала 2\анимашки новые\prazdnikia-2292.gif"/>
          <p:cNvPicPr/>
          <p:nvPr/>
        </p:nvPicPr>
        <p:blipFill>
          <a:blip r:embed="rId8"/>
          <a:stretch/>
        </p:blipFill>
        <p:spPr>
          <a:xfrm>
            <a:off x="2714760" y="5429160"/>
            <a:ext cx="38098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Всемирно известна европейская традиция декорировать елку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живыми цветам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: пуансеттией, остролистом, омелой, вереском, цветущими ветками вишни и яблони. Естественно, нельзя не вспомнить о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имволе самоотверженности Иисуса Христ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– множестве маленьких рождественских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вечек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затаившихся в хвойном деревце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5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1161-88A6-431F-A2DA-D5B70E6FA0DA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26" name="Рисунок 11" descr="© American Greetings Interactive, www.webshots.com"/>
          <p:cNvPicPr/>
          <p:nvPr/>
        </p:nvPicPr>
        <p:blipFill>
          <a:blip r:embed="rId1"/>
          <a:stretch/>
        </p:blipFill>
        <p:spPr>
          <a:xfrm>
            <a:off x="3000240" y="3643200"/>
            <a:ext cx="2943360" cy="235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не срезала 2\анимашки новые\prazdnikia-2431.gif"/>
          <p:cNvPicPr/>
          <p:nvPr/>
        </p:nvPicPr>
        <p:blipFill>
          <a:blip r:embed="rId2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:\не срезала 2\анимашки новые\prazdnikia-2106.gif"/>
          <p:cNvPicPr/>
          <p:nvPr/>
        </p:nvPicPr>
        <p:blipFill>
          <a:blip r:embed="rId3"/>
          <a:stretch/>
        </p:blipFill>
        <p:spPr>
          <a:xfrm>
            <a:off x="7929720" y="285840"/>
            <a:ext cx="828360" cy="94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не срезала 2\анимашки новые\prazdnikia-2523.gif"/>
          <p:cNvPicPr/>
          <p:nvPr/>
        </p:nvPicPr>
        <p:blipFill>
          <a:blip r:embed="rId4"/>
          <a:stretch/>
        </p:blipFill>
        <p:spPr>
          <a:xfrm>
            <a:off x="2786040" y="385776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не срезала 2\анимашки новые\prazdnikia-2418.gif"/>
          <p:cNvPicPr/>
          <p:nvPr/>
        </p:nvPicPr>
        <p:blipFill>
          <a:blip r:embed="rId5"/>
          <a:stretch/>
        </p:blipFill>
        <p:spPr>
          <a:xfrm>
            <a:off x="785880" y="40006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:\не срезала 2\анимашки новые\356939754587.gif"/>
          <p:cNvPicPr/>
          <p:nvPr/>
        </p:nvPicPr>
        <p:blipFill>
          <a:blip r:embed="rId6"/>
          <a:stretch/>
        </p:blipFill>
        <p:spPr>
          <a:xfrm>
            <a:off x="0" y="0"/>
            <a:ext cx="1571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15:27:17Z</dcterms:created>
  <dc:creator>Admin</dc:creator>
  <dc:description>http://aida.ucoz.ru</dc:description>
  <dc:language>en-US</dc:language>
  <cp:lastModifiedBy>Пётр</cp:lastModifiedBy>
  <dcterms:modified xsi:type="dcterms:W3CDTF">2012-12-13T13:01:39Z</dcterms:modified>
  <cp:revision>78</cp:revision>
  <dc:subject/>
  <dc:title> </dc:title>
</cp:coreProperties>
</file>