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161-DC33-4E28-BA17-5FA503BF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193-E47A-49CA-95C3-247D43CB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ABE-1986-4E94-B48B-AEB6ABA9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56A-7283-4096-AD95-7B366C76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8A0A-B630-482C-8567-17CD53C8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0497-DFBC-4287-9F4D-90DBC088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0911-9826-45CB-9E4D-05764D3D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1774-5B9F-4B02-B341-4F0A5975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0FAF-34E4-4408-922A-09FCA617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E02B-DCA8-4B85-94D0-1A31BBA9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BA5F-71AD-465E-A8DB-51153ABF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4AB-60DE-4784-A2B0-72168FF7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8F05-6DD9-41A2-BF29-8B46CC9A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403B-B634-46C2-9559-8D2328F0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1E0D-73B2-421E-A79F-9124969B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F17A-DAD3-43A0-B69C-5E75DAF9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BA99-9501-43BD-8031-1092A597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BD294-8E03-44D8-BD25-8B3FCB57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F3EA7-BC0C-47FB-8176-E8BF253F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AADD-B23E-4B1D-9B29-898242FE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D7D4D-9EE7-4B1A-86FA-97511F63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83354-8ADF-461C-928E-6C52A1BA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0C3-A5C5-4D60-A222-53D1D499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B20DD-BE3E-4429-A651-3ECFD51B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61210-9A56-4497-903D-FF981C07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13014-0E1B-4F71-A665-5AA034CE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B864-CFF9-4CA7-8514-1EEA8B6C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EC71C-8DEA-48F2-AEBF-7F71EE6D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44EBB-33CE-4441-A573-F09BCD99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5041D-2A13-4ADE-A22A-D33404EE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4F110-81C3-48DF-990E-1CBA3049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8D6BB-8895-43EC-8511-03F72238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97ED0-F45F-4967-AC78-6596487D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61D-FE71-4A83-BA2A-DBA5EA7C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9E923-1F2E-46A8-94A5-7358A403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158AD-70F2-473F-8F32-4171DB5C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D0E8-A9AC-401C-86DE-13D2E650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6821D-51D1-4620-80D0-D06EAFD4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06DB4-194A-435D-BA2C-774BA073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F1EC9-D202-41A4-B5D2-C66FA4CF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4F1D4-B040-409D-BE28-0EB54DF7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D4DE6-8C8C-4FAE-8503-A719772A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E7FB5-694F-4500-822A-473D8971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5DE76-966D-430B-B4FC-906BE164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223-F89A-4AA7-8D87-D3194F82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11345-B9D0-4160-BC01-6CCE7A77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B9F57-0092-48B5-9B1C-CE878CA9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D0C2F-EB94-4848-AE8A-F13EFB70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12E45-A095-4FC3-ABA7-E53278E9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BD0D3-987E-4BBD-94A9-04ABD8ED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FD5A2-A92C-4EE1-9D11-1B7CBDC9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ACBF6-63B2-44B1-A73D-9B224E2B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765AB-EE79-4977-9574-61C7BE6F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67A0C-4E0F-4D3A-B395-4E8023C0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748EA-A2DA-4F1E-9118-A5AF680D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9F1-9F4D-4082-8EB0-5EF11073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38691-ABEB-4AA6-ADAE-76B237B5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8ED2C-E246-427D-BA27-47ABEB6D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F98D6-959B-4FFD-A448-BC307CDA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C5D7A-986A-4771-BFC9-2A919EE7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9D466-DAD8-4EC6-916C-5EDB4AC7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57034-898C-45B9-A301-5D6A22DF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C5E05-400F-4763-9ACE-B902AECF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E0108-2E62-4BC3-B991-20B2FD46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89DAE-95BA-453D-B6CE-8750E661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3E229-6E3C-4845-9213-3273AC15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10C-B207-48DC-BE36-12F6779E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EB37C-C727-4B2B-AFAF-48CF4F38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8719F-2BCC-4FB1-8415-AB0EB703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BB607-19EB-459D-BBD4-B71A3CA8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963D3-5C0A-473B-904B-82114CF0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26B79-943C-4D25-9D3B-2C55E36C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7E885-7B47-4329-AC39-1ABEB621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8C7DF-B254-40F0-9D53-37E52725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14F49-11B0-4D9F-BA84-3CA644B2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90B80-B57C-4ADD-AD7C-620CE8FD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7BA75-B151-48EE-B087-63E243B8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2A1-0F80-49A3-99A2-A5E9CAA1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59A47-E854-45D7-B7E1-26259553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64152-C80D-420F-A764-48670A36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EC183-15FF-42E4-ABFA-79A6BEE0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26A1D-C75A-4B18-8827-1E610C88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AB0F1-858C-4606-AAD4-96AD54E2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5F9-AFF9-479B-9B2B-C1052C91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EA38-76EA-41BA-B333-2D58759D86CB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7A1D-13E2-44C8-80C7-F3BE253AF87A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F889-11BA-4CA8-A5F7-F60790048C93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8108-1161-4D4F-BAB3-A9757EEAAA3E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33D5-E24B-43A4-931A-A7E5652AAAE0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A3FE-A2C1-4B33-ABA6-C6D7FA1510CD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a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efa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94CD-92AC-4000-8F76-7D76B7C1EF4A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75320"/>
                </a:solidFill>
                <a:latin typeface="Corbel"/>
              </a:rPr>
              <a:t>ЧУОО  Школа «Выбор»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24656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72f0c"/>
                </a:solidFill>
                <a:latin typeface="Corbel"/>
              </a:rPr>
              <a:t>Методическое объединение учителей гуманитарного цикл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272f0c"/>
                </a:solidFill>
                <a:uFillTx/>
                <a:latin typeface="Corbel"/>
              </a:rPr>
              <a:t>«Развитие учащихся средствами предметов гуманитарного цикл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72f0c"/>
                </a:solidFill>
                <a:latin typeface="Corbel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72f0c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272f0c"/>
                </a:solidFill>
                <a:latin typeface="Corbel"/>
              </a:rPr>
              <a:t>201</a:t>
            </a:r>
            <a:r>
              <a:rPr b="0" lang="en-US" sz="2000" spc="-1" strike="noStrike">
                <a:solidFill>
                  <a:srgbClr val="272f0c"/>
                </a:solidFill>
                <a:latin typeface="Gill Sans MT"/>
              </a:rPr>
              <a:t>6</a:t>
            </a:r>
            <a:r>
              <a:rPr b="0" lang="ru-RU" sz="2000" spc="-1" strike="noStrike">
                <a:solidFill>
                  <a:srgbClr val="272f0c"/>
                </a:solidFill>
                <a:latin typeface="Corbe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6019920" y="4191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вина Ю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3600" y="13788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75320"/>
                </a:solidFill>
                <a:latin typeface="Corbel"/>
              </a:rPr>
              <a:t>Проектная деятельность учащихся</a:t>
            </a:r>
            <a:endParaRPr b="0" lang="en-US" sz="20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066680"/>
            <a:ext cx="24382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индивидуальные проект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коллективные проект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-      квест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Picture 6" descr="DSC00010"/>
          <p:cNvPicPr/>
          <p:nvPr/>
        </p:nvPicPr>
        <p:blipFill>
          <a:blip r:embed="rId1"/>
          <a:stretch/>
        </p:blipFill>
        <p:spPr>
          <a:xfrm>
            <a:off x="4307040" y="6858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C:\Users\История\Desktop\АРХИВ\Школа\20160126_172117.jpg"/>
          <p:cNvPicPr/>
          <p:nvPr/>
        </p:nvPicPr>
        <p:blipFill>
          <a:blip r:embed="rId2"/>
          <a:stretch/>
        </p:blipFill>
        <p:spPr>
          <a:xfrm>
            <a:off x="324000" y="2738520"/>
            <a:ext cx="4348080" cy="2448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"/>
          <p:cNvPicPr/>
          <p:nvPr/>
        </p:nvPicPr>
        <p:blipFill>
          <a:blip r:embed="rId3"/>
          <a:stretch/>
        </p:blipFill>
        <p:spPr>
          <a:xfrm>
            <a:off x="3886200" y="3749760"/>
            <a:ext cx="51084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900" spc="-1" strike="noStrike">
                <a:solidFill>
                  <a:srgbClr val="475320"/>
                </a:solidFill>
                <a:latin typeface="Corbel"/>
              </a:rPr>
              <a:t>Расширение образования по русскому языку</a:t>
            </a:r>
            <a:br>
              <a:rPr sz="3900"/>
            </a:br>
            <a:endParaRPr b="0" lang="en-US" sz="3900" spc="-1" strike="noStrike">
              <a:solidFill>
                <a:srgbClr val="475320"/>
              </a:solidFill>
              <a:latin typeface="Corbe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434960" y="1447920"/>
          <a:ext cx="7499520" cy="4282920"/>
        </p:xfrm>
        <a:graphic>
          <a:graphicData uri="http://schemas.openxmlformats.org/drawingml/2006/table">
            <a:tbl>
              <a:tblPr/>
              <a:tblGrid>
                <a:gridCol w="1500480"/>
                <a:gridCol w="2481120"/>
                <a:gridCol w="3517920"/>
              </a:tblGrid>
              <a:tr h="121752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ичество часов на изучение предмета по ФГОС в неде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ичество часов на изучение предмета </a:t>
                      </a:r>
                      <a:r>
                        <a:rPr b="1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Corbel"/>
                        </a:rPr>
                        <a:t>в школе «Выбор»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в неде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5100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5100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5100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5100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5100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5100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5100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0840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3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cb9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5320"/>
                </a:solidFill>
                <a:latin typeface="Corbel"/>
              </a:rPr>
              <a:t>Расширение образования по русскому языку</a:t>
            </a:r>
            <a:br>
              <a:rPr sz="3900"/>
            </a:br>
            <a:r>
              <a:rPr b="0" lang="ru-RU" sz="2400" spc="-1" strike="noStrike">
                <a:solidFill>
                  <a:srgbClr val="475320"/>
                </a:solidFill>
                <a:latin typeface="Corbel"/>
              </a:rPr>
              <a:t>Учебные пособия, используемые в школе «Выбор».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24" name="Объект 5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45920" y="304560"/>
            <a:ext cx="7497720" cy="114300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75320"/>
                </a:solidFill>
                <a:latin typeface="Corbel"/>
              </a:rPr>
              <a:t>Расширение образования по литературе</a:t>
            </a:r>
            <a:endParaRPr b="0" lang="en-US" sz="3900" spc="-1" strike="noStrike">
              <a:solidFill>
                <a:srgbClr val="475320"/>
              </a:solidFill>
              <a:latin typeface="Corbe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434960" y="1447920"/>
          <a:ext cx="7499520" cy="3644640"/>
        </p:xfrm>
        <a:graphic>
          <a:graphicData uri="http://schemas.openxmlformats.org/drawingml/2006/table">
            <a:tbl>
              <a:tblPr/>
              <a:tblGrid>
                <a:gridCol w="1616040"/>
                <a:gridCol w="2365560"/>
                <a:gridCol w="3517920"/>
              </a:tblGrid>
              <a:tr h="111924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ичество часов на изучение предмета по ФГОС в неде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ичество часов на изучение предмета </a:t>
                      </a:r>
                      <a:r>
                        <a:rPr b="1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Corbel"/>
                        </a:rPr>
                        <a:t>в Школе «Выбор»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в неде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5100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5100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5100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5100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5100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5100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5100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5100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3be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3b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75320"/>
                </a:solidFill>
                <a:latin typeface="Corbel"/>
              </a:rPr>
              <a:t>СБОРНИКИ И ПОСОБИЯ ДЛЯ ПОДГОТОВКИ К ЭКЗАМЕНАМ ПО РУССКОМУ ЯЗЫКУ И ЛИТЕРАТУРЕ,</a:t>
            </a:r>
            <a:br>
              <a:rPr sz="2000"/>
            </a:br>
            <a:r>
              <a:rPr b="1" lang="ru-RU" sz="2000" spc="-1" strike="noStrike">
                <a:solidFill>
                  <a:srgbClr val="47532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475320"/>
                </a:solidFill>
                <a:latin typeface="Corbel"/>
              </a:rPr>
              <a:t>используемые в школе «Выбор».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28" name="Объект 8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5220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2400" spc="-1" strike="noStrike">
                <a:solidFill>
                  <a:srgbClr val="475320"/>
                </a:solidFill>
                <a:latin typeface="Corbel"/>
              </a:rPr>
              <a:t>РЕАЛИЗАЦИЯ ФГОС ЧЕРЕЗ ДОПОЛНИТЕЛЬНОЕ ОБРАЗОВАНИЕ: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grpSp>
        <p:nvGrpSpPr>
          <p:cNvPr id="330" name="Organization Chart 9"/>
          <p:cNvGrpSpPr/>
          <p:nvPr/>
        </p:nvGrpSpPr>
        <p:grpSpPr>
          <a:xfrm>
            <a:off x="1434960" y="1447920"/>
            <a:ext cx="7498800" cy="4799160"/>
            <a:chOff x="1434960" y="1447920"/>
            <a:chExt cx="7498800" cy="4799160"/>
          </a:xfrm>
        </p:grpSpPr>
        <p:cxnSp>
          <p:nvCxnSpPr>
            <p:cNvPr id="331" name="_s1028"/>
            <p:cNvCxnSpPr>
              <a:stCxn id="332" idx="0"/>
              <a:endCxn id="333" idx="2"/>
            </p:cNvCxnSpPr>
            <p:nvPr/>
          </p:nvCxnSpPr>
          <p:spPr>
            <a:xfrm flipV="1" rot="16200000">
              <a:off x="6016320" y="2534400"/>
              <a:ext cx="960480" cy="2625120"/>
            </a:xfrm>
            <a:prstGeom prst="bentConnector3">
              <a:avLst>
                <a:gd name="adj1" fmla="val 98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_s1029"/>
            <p:cNvCxnSpPr>
              <a:stCxn id="335" idx="0"/>
              <a:endCxn id="333" idx="2"/>
            </p:cNvCxnSpPr>
            <p:nvPr/>
          </p:nvCxnSpPr>
          <p:spPr>
            <a:xfrm flipV="1">
              <a:off x="5184360" y="3367080"/>
              <a:ext cx="2880" cy="960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6" name="_s1030"/>
            <p:cNvCxnSpPr>
              <a:stCxn id="337" idx="0"/>
              <a:endCxn id="333" idx="2"/>
            </p:cNvCxnSpPr>
            <p:nvPr/>
          </p:nvCxnSpPr>
          <p:spPr>
            <a:xfrm flipH="1" flipV="1" rot="5400000">
              <a:off x="3391560" y="2534760"/>
              <a:ext cx="960480" cy="2625120"/>
            </a:xfrm>
            <a:prstGeom prst="bentConnector3">
              <a:avLst>
                <a:gd name="adj1" fmla="val 98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3" name="_s1031"/>
            <p:cNvSpPr/>
            <p:nvPr/>
          </p:nvSpPr>
          <p:spPr>
            <a:xfrm>
              <a:off x="4059360" y="1447920"/>
              <a:ext cx="2249640" cy="191952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ополнитель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разова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032"/>
            <p:cNvSpPr/>
            <p:nvPr/>
          </p:nvSpPr>
          <p:spPr>
            <a:xfrm>
              <a:off x="1434960" y="4327560"/>
              <a:ext cx="2249640" cy="191952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звит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ворческог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тенциал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чащихс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033"/>
            <p:cNvSpPr/>
            <p:nvPr/>
          </p:nvSpPr>
          <p:spPr>
            <a:xfrm>
              <a:off x="4059360" y="4327560"/>
              <a:ext cx="2249640" cy="191952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знаватель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ктивности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чащихс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034"/>
            <p:cNvSpPr/>
            <p:nvPr/>
          </p:nvSpPr>
          <p:spPr>
            <a:xfrm>
              <a:off x="6684120" y="4327560"/>
              <a:ext cx="2249640" cy="191952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ектна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еятельность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чащихс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75320"/>
                </a:solidFill>
                <a:latin typeface="Corbel"/>
              </a:rPr>
              <a:t>Развитие творческого потенциала учащихся</a:t>
            </a:r>
            <a:endParaRPr b="0" lang="en-US" sz="20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160020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-     </a:t>
            </a: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посещение театр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издание школьного журнал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«Вдохновение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встречи с творческим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коллективам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-      мастерклассы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4952880" y="68580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2"/>
          <a:stretch/>
        </p:blipFill>
        <p:spPr>
          <a:xfrm>
            <a:off x="5410080" y="4343400"/>
            <a:ext cx="3592800" cy="2395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3"/>
          <a:stretch/>
        </p:blipFill>
        <p:spPr>
          <a:xfrm>
            <a:off x="2133720" y="3352680"/>
            <a:ext cx="35557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75320"/>
                </a:solidFill>
                <a:latin typeface="Corbel"/>
              </a:rPr>
              <a:t>Развитие познавательной активности учащихся</a:t>
            </a:r>
            <a:endParaRPr b="0" lang="en-US" sz="20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01240" y="609480"/>
            <a:ext cx="243828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- посещение экскурсий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литературной, исторической и гражданско – патриотической направленност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- посещение музеев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(музыкальных, худрожественных, литературных, исторических, гражданско – патриотических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419720" y="5943240"/>
            <a:ext cx="5486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- встречи с интересными людьм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5" descr="20150227_151249"/>
          <p:cNvPicPr/>
          <p:nvPr/>
        </p:nvPicPr>
        <p:blipFill>
          <a:blip r:embed="rId1"/>
          <a:stretch/>
        </p:blipFill>
        <p:spPr>
          <a:xfrm>
            <a:off x="4522680" y="768240"/>
            <a:ext cx="4457880" cy="25084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C:\Users\История\Desktop\АРХИВ\Гражданско-патр Планы, отчеты, фото\Совет Ветеранов\Шайкова Людмила Алексеевна 3.05. 2012\IMG_1342.JPG"/>
          <p:cNvPicPr/>
          <p:nvPr/>
        </p:nvPicPr>
        <p:blipFill>
          <a:blip r:embed="rId2"/>
          <a:stretch/>
        </p:blipFill>
        <p:spPr>
          <a:xfrm>
            <a:off x="325440" y="3886200"/>
            <a:ext cx="3865680" cy="2898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C:\Users\История\Desktop\АРХИВ\Гражданско-патр Планы, отчеты, фото\Совет Ветеранов\встреча сВласовым А.И. февр 2015\IMG_3205.JPG"/>
          <p:cNvPicPr/>
          <p:nvPr/>
        </p:nvPicPr>
        <p:blipFill>
          <a:blip r:embed="rId3"/>
          <a:stretch/>
        </p:blipFill>
        <p:spPr>
          <a:xfrm>
            <a:off x="2666880" y="2895480"/>
            <a:ext cx="471024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ОБ УТВЕРЖДЕНИ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ФЕДЕРАЛЬНОГО ГОСУДАРСТВЕННОГО ОБРАЗОВАТЕЛЬНОГО СТАНДАР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ОСНОВНОГО ОБЩЕГО ОБРАЗОВАНИЯ</a:t>
            </a:r>
            <a:br>
              <a:rPr sz="1400"/>
            </a:br>
            <a:r>
              <a:rPr b="1" lang="ru-RU" sz="1400" spc="-1" strike="noStrike">
                <a:solidFill>
                  <a:srgbClr val="475320"/>
                </a:solidFill>
                <a:latin typeface="Corbel"/>
              </a:rPr>
              <a:t>от 17 декабря 2010 г. № 1897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Программа должна обеспечивать:</a:t>
            </a:r>
            <a:br>
              <a:rPr sz="1400"/>
            </a:br>
            <a:endParaRPr b="0" lang="en-US" sz="14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вышение эффективности усвоения обучающимися знаний и учебных действий, формирования компетенций и компетентностей в предметных областях, учебно-исследовательской и проектн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ние навыков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участия в различных формах организации учебно-исследовательской и проект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творческие конкурсы, олимпиады, научные общества, научно-практические конференции, олимпиады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владение приемами учебного сотрудничества и социального </a:t>
            </a: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взаимодействия со сверстниками, старшими школьниками и взрослыми в совместной учебно-исследовательской и проект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3T05:46:44Z</dcterms:created>
  <dc:creator>Homer</dc:creator>
  <dc:description/>
  <dc:language>en-US</dc:language>
  <cp:lastModifiedBy>Дмитрий</cp:lastModifiedBy>
  <dcterms:modified xsi:type="dcterms:W3CDTF">2018-06-25T09:01:48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