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96B-B930-4DFE-9A09-0BC58D9D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A8A-A31C-4E75-9CAC-24B676BE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EDC-BF81-4DFC-B01E-376ADF37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120-514F-4EEB-A5F5-B3C32A06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935E-B76E-44D0-B299-A1DEEFF2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5C99-45CC-4A33-8C37-AFB0BD08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67B-77AA-4F4E-A43B-D16A218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2714-086D-4E49-B2E7-6B74DB8A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9A71-15A8-4BDB-9098-DECC0AE8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528E-48C2-44CC-A4DE-CBCB74B6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A779-B445-4882-9365-4CA5D65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88C-A487-4113-BD9D-681C6C83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0BD-DD3A-411E-AE89-0D42551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490B-C9FE-4E4E-96B5-A372AE03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7EE7-659A-4F59-9D14-94A9119C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9B50-22F3-474A-A55B-4A17D4F4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1473-015C-456E-9BC8-3556C143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6CE0F-72E6-48BE-A48A-1D7B6B4D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AD64-C10E-4B24-A474-D9679A29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40C9-F6FC-44D6-ABD0-DD2F8E61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8A9A-36AB-4308-9BE2-9531FC92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6337-6FCC-4826-B6EC-84A92FC6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4AF-D89A-4E84-8D61-CEC3736D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7909-FA3C-4F17-BA33-0DD972DF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E4A2-8C22-4EEF-9D16-B6402D4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E5BC-2DB5-42A1-8DE6-0281751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B592-AEFA-4227-A3B6-466A131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BA62-6132-4A27-869D-FF8B0471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17AB-E567-4519-815A-59E68D21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ADB9-5860-4E9C-B394-F508E23E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AD7E-2031-4A19-83C1-96394BF9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D7F6B-A522-488B-A16E-9684379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25D8-6EA5-4B7E-A516-56E08B23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5C9-FCB2-4141-AFF4-31E0BDA8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4241-ADCC-41A4-8741-DF8F9A67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4ED9-DC47-43B2-88E8-5EA2BAA7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E957-66FA-485A-A9E5-22B501D5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47CC-A7F6-4500-B0AB-EC764649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D586-D807-4082-BBA1-A99991F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6A59-5516-494F-B9A7-D73DB236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5382-E6A5-41C8-A3DD-642DFC3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A053-A5C9-47E9-BBF5-B90FB81E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3AEB-0E5E-4C3B-A8CE-40317EE9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D1ED0-45D4-499C-B703-6C9D6DB4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AD7-EE94-47EC-9469-79E4A64E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0BA1-605D-4977-87D8-07EC1CE5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FD59-33F1-499D-AEB7-AF50A14F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C0B9F-DBBE-48E5-B4D3-FF442611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16F90-237F-4773-9AB3-49325D85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62507-4312-46BA-AD3F-C5E8DB5D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EA50-F9F1-49F5-B254-5EC89439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C574-A4FB-4809-8C16-79E7D87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CAD03-3C62-41CF-8EB9-B026982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1C6C3-5CC3-4556-B173-6EE31D82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FFCB-DD01-409F-BD48-368E5BDC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101-50D9-4902-A2DE-CFE6D60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B7E1-B278-4607-8C11-E1B13EC4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1ECB-79C2-4177-9BC9-DCF5369C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72154-CBDD-4E24-8411-57F40FBA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29FB0-F36A-4390-80F2-0D37A33E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0DBF-5DA6-4E2A-8A01-4DF2D5DD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0E8F-04B6-4C0B-A89D-7B5CC177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A236C-CBBC-46BE-8214-A20BF2E7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F74A-75A1-4DD4-8455-54DD1777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2A8A4-231E-43FA-B282-5F194FC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CF16A-81E6-40E3-9FD6-442127A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9DE-EB65-4641-B664-797351FD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88959-76FF-46A7-8404-6BD67B95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6A337-587E-47B3-BD26-3250FDA2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E512-2E11-480A-8B55-3513CFFD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23CB7-18A9-4441-B033-3B6C405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1F625-FCEB-4260-8B73-FBF8E2D6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8F93-4DF6-440B-8E20-1EEA3474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0689-647E-4164-A8C7-EE042F49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ED81F-082E-495B-B6ED-D705B4A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9D98F-6249-4D7F-8995-F58C718D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FDBAB-0CE1-40CB-8E2D-7928BDA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AAD-8584-47E3-BAF8-9547DD1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F4AA6-10F1-4837-910F-EC0F285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F41A-9EE5-48A6-8CC3-DEB7E25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E230C-A93D-44EF-873F-0D3B985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3D070-67CA-4F61-8AF4-F418392E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3514-8606-4ED1-9CFD-439DE37F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99B-DF17-48C3-B85C-BD79EF21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095-3620-413B-9793-344997E1F13A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75D2-600C-4FF0-BE5C-A02D4B742162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6A2C-DB4D-4AB8-B39F-0AFBABB3C64D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EAF-D830-4249-94AE-9BE4A95A3229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516-BA6E-4B3F-A85F-699D7F0FF45F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FC20-BEC7-4E73-B621-C35E28B6B957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7D71-D43B-4D1E-9AE6-0C0B1B1273CB}" type="slidenum">
              <a:rPr b="0" lang="ru-RU" sz="1200" spc="-1" strike="noStrike">
                <a:solidFill>
                  <a:srgbClr val="cfc9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475320"/>
                </a:solidFill>
                <a:latin typeface="Corbel"/>
              </a:rPr>
              <a:t>ЧУОО  Школа «Выбор»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656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72f0c"/>
                </a:solidFill>
                <a:latin typeface="Corbel"/>
              </a:rPr>
              <a:t>Методическое объединение учителей гуманитарного цикл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272f0c"/>
                </a:solidFill>
                <a:uFillTx/>
                <a:latin typeface="Corbel"/>
              </a:rPr>
              <a:t>«Развитие учащихся средствами предметов гуманитарного цик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201</a:t>
            </a:r>
            <a:r>
              <a:rPr b="0" lang="en-US" sz="2000" spc="-1" strike="noStrike">
                <a:solidFill>
                  <a:srgbClr val="272f0c"/>
                </a:solidFill>
                <a:latin typeface="Gill Sans MT"/>
              </a:rPr>
              <a:t>6</a:t>
            </a:r>
            <a:r>
              <a:rPr b="0" lang="ru-RU" sz="2000" spc="-1" strike="noStrike">
                <a:solidFill>
                  <a:srgbClr val="272f0c"/>
                </a:solidFill>
                <a:latin typeface="Corbe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6019920" y="4191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ин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3600" y="13788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5320"/>
                </a:solidFill>
                <a:latin typeface="Corbel"/>
              </a:rPr>
              <a:t>Проектная деятельность учащихся</a:t>
            </a:r>
            <a:endParaRPr b="0" lang="en-US" sz="20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066680"/>
            <a:ext cx="2438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индивидуальные проек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коллективные проек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     квест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6" descr="DSC00010"/>
          <p:cNvPicPr/>
          <p:nvPr/>
        </p:nvPicPr>
        <p:blipFill>
          <a:blip r:embed="rId1"/>
          <a:stretch/>
        </p:blipFill>
        <p:spPr>
          <a:xfrm>
            <a:off x="4307040" y="6858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Users\История\Desktop\АРХИВ\Школа\20160126_172117.jpg"/>
          <p:cNvPicPr/>
          <p:nvPr/>
        </p:nvPicPr>
        <p:blipFill>
          <a:blip r:embed="rId2"/>
          <a:stretch/>
        </p:blipFill>
        <p:spPr>
          <a:xfrm>
            <a:off x="324000" y="2738520"/>
            <a:ext cx="4348080" cy="2448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3"/>
          <a:stretch/>
        </p:blipFill>
        <p:spPr>
          <a:xfrm>
            <a:off x="3886200" y="3749760"/>
            <a:ext cx="5108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475320"/>
                </a:solidFill>
                <a:latin typeface="Corbel"/>
              </a:rPr>
              <a:t>Расширение образования по русскому языку</a:t>
            </a:r>
            <a:br>
              <a:rPr sz="3900"/>
            </a:br>
            <a:endParaRPr b="0" lang="en-US" sz="39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434960" y="1447920"/>
          <a:ext cx="7499520" cy="4282920"/>
        </p:xfrm>
        <a:graphic>
          <a:graphicData uri="http://schemas.openxmlformats.org/drawingml/2006/table">
            <a:tbl>
              <a:tblPr/>
              <a:tblGrid>
                <a:gridCol w="1500480"/>
                <a:gridCol w="2481120"/>
                <a:gridCol w="3517920"/>
              </a:tblGrid>
              <a:tr h="121752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по ФГОС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</a:t>
                      </a:r>
                      <a:r>
                        <a:rPr b="1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в школе «Выбор»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608400"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cb95"/>
                    </a:solidFill>
                  </a:tcPr>
                </a:tc>
                <a:tc>
                  <a:txBody>
                    <a:bodyPr lIns="112320" rIns="112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2320" marR="112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ecb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5320"/>
                </a:solidFill>
                <a:latin typeface="Corbel"/>
              </a:rPr>
              <a:t>Расширение образования по русскому языку</a:t>
            </a:r>
            <a:br>
              <a:rPr sz="3900"/>
            </a:br>
            <a:r>
              <a:rPr b="0" lang="ru-RU" sz="2400" spc="-1" strike="noStrike">
                <a:solidFill>
                  <a:srgbClr val="475320"/>
                </a:solidFill>
                <a:latin typeface="Corbel"/>
              </a:rPr>
              <a:t>Учебные пособия, используемые в школе «Выбор».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4" name="Объект 5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45920" y="304560"/>
            <a:ext cx="74977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75320"/>
                </a:solidFill>
                <a:latin typeface="Corbel"/>
              </a:rPr>
              <a:t>Расширение образования по литературе</a:t>
            </a:r>
            <a:endParaRPr b="0" lang="en-US" sz="3900" spc="-1" strike="noStrike">
              <a:solidFill>
                <a:srgbClr val="475320"/>
              </a:solidFill>
              <a:latin typeface="Corbe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434960" y="1447920"/>
          <a:ext cx="7499520" cy="3644640"/>
        </p:xfrm>
        <a:graphic>
          <a:graphicData uri="http://schemas.openxmlformats.org/drawingml/2006/table">
            <a:tbl>
              <a:tblPr/>
              <a:tblGrid>
                <a:gridCol w="1616040"/>
                <a:gridCol w="2365560"/>
                <a:gridCol w="3517920"/>
              </a:tblGrid>
              <a:tr h="111924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по ФГОС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ичество часов на изучение предмета </a:t>
                      </a:r>
                      <a:r>
                        <a:rPr b="1" lang="ru-RU" sz="16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в Школе «Выбор»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в неде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51000"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3be"/>
                    </a:solidFill>
                  </a:tcPr>
                </a:tc>
                <a:tc>
                  <a:txBody>
                    <a:bodyPr lIns="127800" rIns="127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rbe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7800" marR="127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3b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75320"/>
                </a:solidFill>
                <a:latin typeface="Corbel"/>
              </a:rPr>
              <a:t>СБОРНИКИ И ПОСОБИЯ ДЛЯ ПОДГОТОВКИ К ЭКЗАМЕНАМ ПО РУССКОМУ ЯЗЫКУ И ЛИТЕРАТУРЕ,</a:t>
            </a:r>
            <a:br>
              <a:rPr sz="2000"/>
            </a:br>
            <a:r>
              <a:rPr b="1" lang="ru-RU" sz="2000" spc="-1" strike="noStrike">
                <a:solidFill>
                  <a:srgbClr val="47532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475320"/>
                </a:solidFill>
                <a:latin typeface="Corbel"/>
              </a:rPr>
              <a:t>используемые в школе «Выбор».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8" name="Объект 8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5220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2400" spc="-1" strike="noStrike">
                <a:solidFill>
                  <a:srgbClr val="475320"/>
                </a:solidFill>
                <a:latin typeface="Corbel"/>
              </a:rPr>
              <a:t>РЕАЛИЗАЦИЯ ФГОС ЧЕРЕЗ ДОПОЛНИТЕЛЬНОЕ ОБРАЗОВАНИЕ:</a:t>
            </a:r>
            <a:endParaRPr b="0" lang="en-US" sz="2400" spc="-1" strike="noStrike">
              <a:solidFill>
                <a:srgbClr val="475320"/>
              </a:solidFill>
              <a:latin typeface="Corbel"/>
            </a:endParaRPr>
          </a:p>
        </p:txBody>
      </p:sp>
      <p:grpSp>
        <p:nvGrpSpPr>
          <p:cNvPr id="330" name="Organization Chart 9"/>
          <p:cNvGrpSpPr/>
          <p:nvPr/>
        </p:nvGrpSpPr>
        <p:grpSpPr>
          <a:xfrm>
            <a:off x="1434960" y="1447920"/>
            <a:ext cx="7498800" cy="4799160"/>
            <a:chOff x="1434960" y="1447920"/>
            <a:chExt cx="7498800" cy="4799160"/>
          </a:xfrm>
        </p:grpSpPr>
        <p:cxnSp>
          <p:nvCxnSpPr>
            <p:cNvPr id="331" name="_s1028"/>
            <p:cNvCxnSpPr>
              <a:stCxn id="332" idx="0"/>
              <a:endCxn id="333" idx="2"/>
            </p:cNvCxnSpPr>
            <p:nvPr/>
          </p:nvCxnSpPr>
          <p:spPr>
            <a:xfrm flipV="1" rot="16200000">
              <a:off x="6016320" y="2534400"/>
              <a:ext cx="960480" cy="2625120"/>
            </a:xfrm>
            <a:prstGeom prst="bentConnector3">
              <a:avLst>
                <a:gd name="adj1" fmla="val 98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1029"/>
            <p:cNvCxnSpPr>
              <a:stCxn id="335" idx="0"/>
              <a:endCxn id="333" idx="2"/>
            </p:cNvCxnSpPr>
            <p:nvPr/>
          </p:nvCxnSpPr>
          <p:spPr>
            <a:xfrm flipV="1">
              <a:off x="5184360" y="3367080"/>
              <a:ext cx="2880" cy="96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6" name="_s1030"/>
            <p:cNvCxnSpPr>
              <a:stCxn id="337" idx="0"/>
              <a:endCxn id="333" idx="2"/>
            </p:cNvCxnSpPr>
            <p:nvPr/>
          </p:nvCxnSpPr>
          <p:spPr>
            <a:xfrm flipH="1" flipV="1" rot="5400000">
              <a:off x="3391560" y="2534760"/>
              <a:ext cx="960480" cy="2625120"/>
            </a:xfrm>
            <a:prstGeom prst="bentConnector3">
              <a:avLst>
                <a:gd name="adj1" fmla="val 98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3" name="_s1031"/>
            <p:cNvSpPr/>
            <p:nvPr/>
          </p:nvSpPr>
          <p:spPr>
            <a:xfrm>
              <a:off x="4059360" y="144792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полнитель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разова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032"/>
            <p:cNvSpPr/>
            <p:nvPr/>
          </p:nvSpPr>
          <p:spPr>
            <a:xfrm>
              <a:off x="1434960" y="432756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орческог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тенциал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059360" y="432756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тивности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034"/>
            <p:cNvSpPr/>
            <p:nvPr/>
          </p:nvSpPr>
          <p:spPr>
            <a:xfrm>
              <a:off x="6684120" y="4327560"/>
              <a:ext cx="2249640" cy="19195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ектна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еятельнос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5320"/>
                </a:solidFill>
                <a:latin typeface="Corbel"/>
              </a:rPr>
              <a:t>Развитие творческого потенциала учащихся</a:t>
            </a:r>
            <a:endParaRPr b="0" lang="en-US" sz="20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-    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посещение театр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издание школьного журнал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«Вдохновение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встречи с творческим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коллективам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rbel"/>
              </a:rPr>
              <a:t>-      мастеркласс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5410080" y="4343400"/>
            <a:ext cx="3592800" cy="2395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3"/>
          <a:stretch/>
        </p:blipFill>
        <p:spPr>
          <a:xfrm>
            <a:off x="2133720" y="33526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5320"/>
                </a:solidFill>
                <a:latin typeface="Corbel"/>
              </a:rPr>
              <a:t>Развитие познавательной активности учащихся</a:t>
            </a:r>
            <a:endParaRPr b="0" lang="en-US" sz="20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01240" y="609480"/>
            <a:ext cx="243828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посещение экскурсий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литературной, исторической и гражданско – патриотической направленности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посещение музее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музыкальных, худрожественных, литературных, исторических, гражданско – патриотических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419720" y="5943240"/>
            <a:ext cx="5486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rbel"/>
              </a:rPr>
              <a:t>- встречи с интересными людь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20150227_151249"/>
          <p:cNvPicPr/>
          <p:nvPr/>
        </p:nvPicPr>
        <p:blipFill>
          <a:blip r:embed="rId1"/>
          <a:stretch/>
        </p:blipFill>
        <p:spPr>
          <a:xfrm>
            <a:off x="4522680" y="768240"/>
            <a:ext cx="4457880" cy="25084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Users\История\Desktop\АРХИВ\Гражданско-патр Планы, отчеты, фото\Совет Ветеранов\Шайкова Людмила Алексеевна 3.05. 2012\IMG_1342.JPG"/>
          <p:cNvPicPr/>
          <p:nvPr/>
        </p:nvPicPr>
        <p:blipFill>
          <a:blip r:embed="rId2"/>
          <a:stretch/>
        </p:blipFill>
        <p:spPr>
          <a:xfrm>
            <a:off x="325440" y="3886200"/>
            <a:ext cx="3865680" cy="2898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C:\Users\История\Desktop\АРХИВ\Гражданско-патр Планы, отчеты, фото\Совет Ветеранов\встреча сВласовым А.И. февр 2015\IMG_3205.JPG"/>
          <p:cNvPicPr/>
          <p:nvPr/>
        </p:nvPicPr>
        <p:blipFill>
          <a:blip r:embed="rId3"/>
          <a:stretch/>
        </p:blipFill>
        <p:spPr>
          <a:xfrm>
            <a:off x="2666880" y="2895480"/>
            <a:ext cx="47102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gradFill rotWithShape="0">
            <a:gsLst>
              <a:gs pos="0">
                <a:srgbClr val="cad7bb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ОБ УТВЕРЖДЕНИ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ФЕДЕРАЛЬНОГО ГОСУДАРСТВЕННОГО ОБРАЗОВАТЕЛЬНОГО СТАНДАР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ОСНОВНОГО ОБЩЕГО ОБРАЗОВАНИЯ</a:t>
            </a:r>
            <a:br>
              <a:rPr sz="1400"/>
            </a:br>
            <a:r>
              <a:rPr b="1" lang="ru-RU" sz="1400" spc="-1" strike="noStrike">
                <a:solidFill>
                  <a:srgbClr val="475320"/>
                </a:solidFill>
                <a:latin typeface="Corbel"/>
              </a:rPr>
              <a:t>от 17 декабря 2010 г. № 1897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Программа должна обеспечивать:</a:t>
            </a:r>
            <a:br>
              <a:rPr sz="1400"/>
            </a:br>
            <a:endParaRPr b="0" lang="en-US" sz="14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вышение эффективности усвоения обучающимися знаний и учебных действий, формирования компетенций и компетентностей в предметных областях, учебно-исследовательской и проект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ормирование навыков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участия в различных формах организации учебно-исследовательской и проек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творческие конкурсы, олимпиады, научные общества, научно-практические конференции, олимпиады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just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владение приемами учебного сотрудничества и социального </a:t>
            </a: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взаимодействия со сверстниками, старшими школьниками и взрослыми в совместной учебно-исследовательской и проек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3T05:46:44Z</dcterms:created>
  <dc:creator>Homer</dc:creator>
  <dc:description/>
  <dc:language>en-US</dc:language>
  <cp:lastModifiedBy>Дмитрий</cp:lastModifiedBy>
  <dcterms:modified xsi:type="dcterms:W3CDTF">2018-06-25T09:01:4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