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19.jpeg" ContentType="image/jpeg"/>
  <Override PartName="/ppt/media/image24.png" ContentType="image/png"/>
  <Override PartName="/ppt/media/image13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14.jpeg" ContentType="image/jpeg"/>
  <Override PartName="/ppt/media/image8.png" ContentType="image/png"/>
  <Override PartName="/ppt/media/image30.jpeg" ContentType="image/jpeg"/>
  <Override PartName="/ppt/media/image7.wmf" ContentType="image/x-wmf"/>
  <Override PartName="/ppt/media/image20.jpeg" ContentType="image/jpeg"/>
  <Override PartName="/ppt/media/image9.png" ContentType="image/png"/>
  <Override PartName="/ppt/media/image31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AEDD-EFB7-4CB1-98A2-D729F0AE4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9FE4-8E63-4B20-B2B7-63E82DE2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E017-A12C-4A8D-88A5-8D03C9B8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B7DD-8EE9-46CF-B71A-9EA444D8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4691-61EC-4312-B597-08B14FACA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CEFC-307F-4203-935E-D216B2B5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2107-F1C5-4410-ADE8-92CFF6D25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6B49-1A5D-4CE9-8DF0-5F5838BF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5EC1-4C4D-4499-A04D-77C3CEE71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7B896-7D56-4478-A67C-15BDD5FB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E840-8DFD-43AE-B93B-8BC55810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13EB-9152-4F2C-BB7A-F1912200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A7D0C-C4A4-42B1-BC83-73CFAA07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58932-C2E5-44CC-8780-A7F530FB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A945-AC51-40A2-83EC-DD29EBFD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2413-528C-4231-A33D-01E72BE6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2425-3C15-4B09-9E7A-9FC4C294D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DB41-0031-4573-841F-7D9AEB851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3401-B7EC-47EE-97A3-A41F5B03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658D-B06C-40BD-8875-9AF960AA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ABF-078E-4609-B092-B5955DAA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EACB-B7A1-4C25-97E4-636D9FB8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A30A-00BA-41F6-A9F3-C38B2B55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8380-C471-4655-A133-F151A9CB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17EA-0363-45FA-A7B8-855E9FA12C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D39B-4602-4717-952A-7A7ADCF1E5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image" Target="../media/image8.png"/><Relationship Id="rId6" Type="http://schemas.openxmlformats.org/officeDocument/2006/relationships/image" Target="../media/image7.wmf"/><Relationship Id="rId7" Type="http://schemas.openxmlformats.org/officeDocument/2006/relationships/image" Target="../media/image5.wmf"/><Relationship Id="rId8" Type="http://schemas.openxmlformats.org/officeDocument/2006/relationships/image" Target="../media/image9.png"/><Relationship Id="rId9" Type="http://schemas.openxmlformats.org/officeDocument/2006/relationships/image" Target="../media/image7.wmf"/><Relationship Id="rId10" Type="http://schemas.openxmlformats.org/officeDocument/2006/relationships/image" Target="../media/image5.wmf"/><Relationship Id="rId11" Type="http://schemas.openxmlformats.org/officeDocument/2006/relationships/image" Target="../media/image10.png"/><Relationship Id="rId12" Type="http://schemas.openxmlformats.org/officeDocument/2006/relationships/image" Target="../media/image7.wmf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105520" y="1828800"/>
            <a:ext cx="3948120" cy="41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Учитель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МБОУ Бутурлиновская  средняя общеобразовательная 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Образование: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сш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Чечено-Ингушский государственный  университ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акультет – 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Специальность: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Стаж работы: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Квалификационна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категория: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сш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ритинина</a:t>
            </a:r>
            <a:br>
              <a:rPr sz="4400"/>
            </a:b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Ольга Михайл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I:\20161029_103656.jpg"/>
          <p:cNvPicPr/>
          <p:nvPr/>
        </p:nvPicPr>
        <p:blipFill>
          <a:blip r:embed="rId1"/>
          <a:stretch/>
        </p:blipFill>
        <p:spPr>
          <a:xfrm>
            <a:off x="990720" y="1905120"/>
            <a:ext cx="289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739880" cy="2362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1295280" y="914400"/>
            <a:ext cx="1782720" cy="2610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3"/>
          <a:stretch/>
        </p:blipFill>
        <p:spPr>
          <a:xfrm>
            <a:off x="2286000" y="1447920"/>
            <a:ext cx="1752480" cy="2554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4"/>
          <a:stretch/>
        </p:blipFill>
        <p:spPr>
          <a:xfrm>
            <a:off x="3505320" y="2057400"/>
            <a:ext cx="1676160" cy="2368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"/>
          <p:cNvPicPr/>
          <p:nvPr/>
        </p:nvPicPr>
        <p:blipFill>
          <a:blip r:embed="rId5"/>
          <a:stretch/>
        </p:blipFill>
        <p:spPr>
          <a:xfrm>
            <a:off x="4419720" y="2590920"/>
            <a:ext cx="1620720" cy="2504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"/>
          <p:cNvPicPr/>
          <p:nvPr/>
        </p:nvPicPr>
        <p:blipFill>
          <a:blip r:embed="rId6"/>
          <a:stretch/>
        </p:blipFill>
        <p:spPr>
          <a:xfrm>
            <a:off x="5486400" y="3124080"/>
            <a:ext cx="1774800" cy="2514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http://nsportal.ru/sites/default/files/portfolio_photos/2016/01/24/hwscan00077.jpg"/>
          <p:cNvPicPr/>
          <p:nvPr/>
        </p:nvPicPr>
        <p:blipFill>
          <a:blip r:embed="rId7"/>
          <a:stretch/>
        </p:blipFill>
        <p:spPr>
          <a:xfrm>
            <a:off x="6781680" y="3809880"/>
            <a:ext cx="1843200" cy="2590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://nsportal.ru/sites/default/files/portfolio_photos/2016/01/24/hwscan00075.jpg"/>
          <p:cNvPicPr/>
          <p:nvPr/>
        </p:nvPicPr>
        <p:blipFill>
          <a:blip r:embed="rId8"/>
          <a:stretch/>
        </p:blipFill>
        <p:spPr>
          <a:xfrm>
            <a:off x="228600" y="4343400"/>
            <a:ext cx="3162240" cy="225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C:\Users\Оля\Documents\HWScan00002.jpg"/>
          <p:cNvPicPr/>
          <p:nvPr/>
        </p:nvPicPr>
        <p:blipFill>
          <a:blip r:embed="rId9"/>
          <a:stretch/>
        </p:blipFill>
        <p:spPr>
          <a:xfrm>
            <a:off x="228600" y="4343400"/>
            <a:ext cx="3200400" cy="2278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http://nsportal.ru/sites/default/files/portfolio_photos/2016/12/07/hwscan00003.jpg"/>
          <p:cNvPicPr/>
          <p:nvPr/>
        </p:nvPicPr>
        <p:blipFill>
          <a:blip r:embed="rId10"/>
          <a:stretch/>
        </p:blipFill>
        <p:spPr>
          <a:xfrm>
            <a:off x="5791320" y="380880"/>
            <a:ext cx="3047760" cy="2168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nsportal.ru/sites/default/files/portfolio_photos/2016/01/24/hwscan00075.jpg"/>
          <p:cNvPicPr/>
          <p:nvPr/>
        </p:nvPicPr>
        <p:blipFill>
          <a:blip r:embed="rId11"/>
          <a:stretch/>
        </p:blipFill>
        <p:spPr>
          <a:xfrm>
            <a:off x="5715000" y="380880"/>
            <a:ext cx="31622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52280" y="304920"/>
            <a:ext cx="87631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Использ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ектно- исследовательской техн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основа формирования метапредметных универсальных учебных действ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Times New Roman"/>
              </a:rPr>
              <a:t>Цель педагогической деятельности:</a:t>
            </a:r>
            <a:r>
              <a:rPr b="1" i="1" lang="ru-RU" sz="2800" spc="-1" strike="noStrike">
                <a:solidFill>
                  <a:srgbClr val="0099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Формировать стойкий интерес к математике, сделать урок интересным, изучаемый материал доступным, объем изучаемого материала оптимальным, и притом сохранить научную глубину предм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j0088956"/>
          <p:cNvPicPr/>
          <p:nvPr/>
        </p:nvPicPr>
        <p:blipFill>
          <a:blip r:embed="rId1"/>
          <a:stretch/>
        </p:blipFill>
        <p:spPr>
          <a:xfrm>
            <a:off x="7467480" y="2971800"/>
            <a:ext cx="1524240" cy="944640"/>
          </a:xfrm>
          <a:prstGeom prst="rect">
            <a:avLst/>
          </a:prstGeom>
          <a:ln w="0">
            <a:noFill/>
          </a:ln>
        </p:spPr>
      </p:pic>
      <p:sp>
        <p:nvSpPr>
          <p:cNvPr id="87" name="WordArt 8"/>
          <p:cNvSpPr txBox="1"/>
          <p:nvPr/>
        </p:nvSpPr>
        <p:spPr>
          <a:xfrm>
            <a:off x="1066680" y="45720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89" name="Скругленный прямоугольник 2"/>
          <p:cNvSpPr/>
          <p:nvPr/>
        </p:nvSpPr>
        <p:spPr>
          <a:xfrm>
            <a:off x="762120" y="1676520"/>
            <a:ext cx="274320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роч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3"/>
          <p:cNvSpPr/>
          <p:nvPr/>
        </p:nvSpPr>
        <p:spPr>
          <a:xfrm>
            <a:off x="5829480" y="1681200"/>
            <a:ext cx="2590560" cy="109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868680" y="4500720"/>
            <a:ext cx="356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р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нутрипредме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ду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5372280" y="4343400"/>
            <a:ext cx="340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следователь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ек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акультати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астие в конкур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Тройная стрелка влево/вправо/вверх 1"/>
          <p:cNvSpPr/>
          <p:nvPr/>
        </p:nvSpPr>
        <p:spPr>
          <a:xfrm>
            <a:off x="4095720" y="172080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0" y="800100"/>
                </a:moveTo>
                <a:lnTo>
                  <a:pt x="266700" y="533400"/>
                </a:lnTo>
                <a:lnTo>
                  <a:pt x="266700" y="666750"/>
                </a:lnTo>
                <a:lnTo>
                  <a:pt x="438150" y="666750"/>
                </a:lnTo>
                <a:lnTo>
                  <a:pt x="438150" y="266700"/>
                </a:lnTo>
                <a:lnTo>
                  <a:pt x="304800" y="266700"/>
                </a:lnTo>
                <a:lnTo>
                  <a:pt x="571500" y="0"/>
                </a:lnTo>
                <a:lnTo>
                  <a:pt x="838200" y="266700"/>
                </a:lnTo>
                <a:lnTo>
                  <a:pt x="704850" y="266700"/>
                </a:lnTo>
                <a:lnTo>
                  <a:pt x="704850" y="666750"/>
                </a:lnTo>
                <a:lnTo>
                  <a:pt x="876300" y="666750"/>
                </a:lnTo>
                <a:lnTo>
                  <a:pt x="876300" y="533400"/>
                </a:lnTo>
                <a:lnTo>
                  <a:pt x="1143000" y="800100"/>
                </a:lnTo>
                <a:lnTo>
                  <a:pt x="876300" y="1066800"/>
                </a:lnTo>
                <a:lnTo>
                  <a:pt x="876300" y="933450"/>
                </a:lnTo>
                <a:lnTo>
                  <a:pt x="266700" y="933450"/>
                </a:lnTo>
                <a:lnTo>
                  <a:pt x="266700" y="1066800"/>
                </a:lnTo>
                <a:lnTo>
                  <a:pt x="0" y="8001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Двойная стрелка вверх/вниз 8"/>
          <p:cNvSpPr/>
          <p:nvPr/>
        </p:nvSpPr>
        <p:spPr>
          <a:xfrm>
            <a:off x="1866960" y="2998800"/>
            <a:ext cx="647640" cy="1143000"/>
          </a:xfrm>
          <a:prstGeom prst="upDownArrow">
            <a:avLst>
              <a:gd name="adj1" fmla="val 50000"/>
              <a:gd name="adj2" fmla="val 5000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Двойная стрелка вверх/вниз 11"/>
          <p:cNvSpPr/>
          <p:nvPr/>
        </p:nvSpPr>
        <p:spPr>
          <a:xfrm>
            <a:off x="6781680" y="3036960"/>
            <a:ext cx="609840" cy="1104840"/>
          </a:xfrm>
          <a:prstGeom prst="upDownArrow">
            <a:avLst>
              <a:gd name="adj1" fmla="val 50000"/>
              <a:gd name="adj2" fmla="val 4998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12"/>
          <p:cNvSpPr/>
          <p:nvPr/>
        </p:nvSpPr>
        <p:spPr>
          <a:xfrm>
            <a:off x="1066680" y="380880"/>
            <a:ext cx="7010640" cy="851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но-исследовательская 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кругленный прямоугольник 3"/>
          <p:cNvSpPr/>
          <p:nvPr/>
        </p:nvSpPr>
        <p:spPr>
          <a:xfrm>
            <a:off x="5638680" y="1600200"/>
            <a:ext cx="266724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сследовательский метод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я предполагает организацию процесса выработки новых зн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838080" y="1600200"/>
            <a:ext cx="25909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ектный метод</a:t>
            </a: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я предполагает процесс разработки и создания проек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6"/>
          <p:cNvSpPr/>
          <p:nvPr/>
        </p:nvSpPr>
        <p:spPr>
          <a:xfrm>
            <a:off x="2971800" y="3276720"/>
            <a:ext cx="3429000" cy="3124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ознавательных умений и навыков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риентироваться в информационном пространств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амостоятельно конструировать свои зн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интегрировать знания из различных областей нау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критически мысли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7"/>
          <p:cNvSpPr/>
          <p:nvPr/>
        </p:nvSpPr>
        <p:spPr>
          <a:xfrm>
            <a:off x="7086600" y="3276720"/>
            <a:ext cx="1905120" cy="304776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3047760"/>
              <a:gd name="textAreaBottom" fmla="*/ 2954880 h 3047760"/>
            </a:gdLst>
            <a:ahLst/>
            <a:rect l="textAreaLeft" t="textAreaTop" r="textAreaRight" b="textAreaBottom"/>
            <a:pathLst>
              <a:path w="21600" h="34553">
                <a:moveTo>
                  <a:pt x="3600" y="0"/>
                </a:moveTo>
                <a:arcTo wR="3600" hR="3600" stAng="16200000" swAng="-5400000"/>
                <a:lnTo>
                  <a:pt x="0" y="30953"/>
                </a:lnTo>
                <a:arcTo wR="3600" hR="3600" stAng="10800000" swAng="-5400000"/>
                <a:lnTo>
                  <a:pt x="18000" y="34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, по сути, – процесс поиска неизвестного, новых знаний, один из видов познавательной деятельности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– это научная 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8"/>
          <p:cNvSpPr/>
          <p:nvPr/>
        </p:nvSpPr>
        <p:spPr>
          <a:xfrm>
            <a:off x="838080" y="3276720"/>
            <a:ext cx="1752840" cy="312408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3124080"/>
              <a:gd name="textAreaBottom" fmla="*/ 3038760 h 3124080"/>
            </a:gdLst>
            <a:ahLst/>
            <a:rect l="textAreaLeft" t="textAreaTop" r="textAreaRight" b="textAreaBottom"/>
            <a:pathLst>
              <a:path w="21600" h="38494">
                <a:moveTo>
                  <a:pt x="3600" y="0"/>
                </a:moveTo>
                <a:arcTo wR="3600" hR="3600" stAng="16200000" swAng="-5400000"/>
                <a:lnTo>
                  <a:pt x="0" y="34894"/>
                </a:lnTo>
                <a:arcTo wR="3600" hR="3600" stAng="10800000" swAng="-5400000"/>
                <a:lnTo>
                  <a:pt x="18000" y="38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 предполагает создания какого-либо заранее планируемого продукта, по четко сформулированной задаче. Проект – это творческая дея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кругленный прямоугольник 2" descr=""/>
          <p:cNvPicPr/>
          <p:nvPr/>
        </p:nvPicPr>
        <p:blipFill>
          <a:blip r:embed="rId1"/>
          <a:stretch/>
        </p:blipFill>
        <p:spPr>
          <a:xfrm>
            <a:off x="2882880" y="219240"/>
            <a:ext cx="3378240" cy="1012680"/>
          </a:xfrm>
          <a:prstGeom prst="rect">
            <a:avLst/>
          </a:prstGeom>
          <a:ln w="0">
            <a:noFill/>
          </a:ln>
        </p:spPr>
      </p:pic>
      <p:sp>
        <p:nvSpPr>
          <p:cNvPr id="103" name="Выгнутая вправо стрелка 24"/>
          <p:cNvSpPr/>
          <p:nvPr/>
        </p:nvSpPr>
        <p:spPr>
          <a:xfrm>
            <a:off x="6400800" y="685800"/>
            <a:ext cx="457200" cy="914400"/>
          </a:xfrm>
          <a:custGeom>
            <a:avLst/>
            <a:gdLst>
              <a:gd name="textAreaLeft" fmla="*/ 61200 w 457200"/>
              <a:gd name="textAreaRight" fmla="*/ 396000 w 457200"/>
              <a:gd name="textAreaTop" fmla="*/ 185760 h 914400"/>
              <a:gd name="textAreaBottom" fmla="*/ 671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3453680"/>
                <a:lnTo>
                  <a:pt x="5400" y="21321"/>
                </a:lnTo>
                <a:lnTo>
                  <a:pt x="0" y="18900"/>
                </a:lnTo>
                <a:lnTo>
                  <a:pt x="5400" y="15921"/>
                </a:lnTo>
                <a:lnTo>
                  <a:pt x="5400" y="17271"/>
                </a:lnTo>
                <a:arcTo wR="21600" hR="8775" stAng="3453680" swAng="-3236521"/>
                <a:lnTo>
                  <a:pt x="21343" y="10125"/>
                </a:lnTo>
                <a:arcTo wR="21600" hR="8775" stAng="-217159" swAng="-5182841"/>
                <a:close/>
              </a:path>
              <a:path fill="darkenLess"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-217159"/>
                <a:lnTo>
                  <a:pt x="21343" y="10125"/>
                </a:lnTo>
                <a:arcTo wR="21600" hR="8775" stAng="-217159" swAng="-5182841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Выгнутая влево стрелка 25"/>
          <p:cNvSpPr/>
          <p:nvPr/>
        </p:nvSpPr>
        <p:spPr>
          <a:xfrm>
            <a:off x="2286000" y="685800"/>
            <a:ext cx="457200" cy="914400"/>
          </a:xfrm>
          <a:custGeom>
            <a:avLst/>
            <a:gdLst>
              <a:gd name="textAreaLeft" fmla="*/ 61200 w 457200"/>
              <a:gd name="textAreaRight" fmla="*/ 396000 w 457200"/>
              <a:gd name="textAreaTop" fmla="*/ 185760 h 914400"/>
              <a:gd name="textAreaBottom" fmla="*/ 67176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75" stAng="-5400000" swAng="-5400000"/>
                <a:lnTo>
                  <a:pt x="0" y="11475"/>
                </a:lnTo>
                <a:arcTo wR="21600" hR="8775" stAng="10800000" swAng="-3453680"/>
                <a:lnTo>
                  <a:pt x="16200" y="21321"/>
                </a:lnTo>
                <a:lnTo>
                  <a:pt x="21600" y="18900"/>
                </a:lnTo>
                <a:lnTo>
                  <a:pt x="16200" y="15921"/>
                </a:lnTo>
                <a:lnTo>
                  <a:pt x="16200" y="17271"/>
                </a:lnTo>
                <a:arcTo wR="21600" hR="8775" stAng="7346320" swAng="3236521"/>
                <a:lnTo>
                  <a:pt x="257" y="10125"/>
                </a:lnTo>
                <a:arcTo wR="21600" hR="8775" stAng="-10582841" swAng="5182841"/>
                <a:close/>
              </a:path>
              <a:path fill="darkenLess" w="21600" h="21600">
                <a:moveTo>
                  <a:pt x="21600" y="0"/>
                </a:moveTo>
                <a:arcTo wR="21600" hR="8775" stAng="-5400000" swAng="-5400000"/>
                <a:lnTo>
                  <a:pt x="0" y="8775"/>
                </a:lnTo>
                <a:arcTo wR="21600" hR="8775" stAng="10800000" swAng="-217159"/>
                <a:lnTo>
                  <a:pt x="257" y="10125"/>
                </a:lnTo>
                <a:arcTo wR="21600" hR="8775" stAng="-10582841" swAng="5182841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Тройная стрелка влево/вправо/вверх 29"/>
          <p:cNvSpPr/>
          <p:nvPr/>
        </p:nvSpPr>
        <p:spPr>
          <a:xfrm rot="10800000">
            <a:off x="3657600" y="1676160"/>
            <a:ext cx="1828800" cy="1447560"/>
          </a:xfrm>
          <a:custGeom>
            <a:avLst/>
            <a:gdLst/>
            <a:ahLst/>
            <a:rect l="l" t="t" r="r" b="b"/>
            <a:pathLst>
              <a:path w="1828800" h="1447800">
                <a:moveTo>
                  <a:pt x="0" y="1199068"/>
                </a:moveTo>
                <a:lnTo>
                  <a:pt x="361950" y="950336"/>
                </a:lnTo>
                <a:lnTo>
                  <a:pt x="361950" y="1122595"/>
                </a:lnTo>
                <a:lnTo>
                  <a:pt x="837927" y="1122595"/>
                </a:lnTo>
                <a:lnTo>
                  <a:pt x="837927" y="361950"/>
                </a:lnTo>
                <a:lnTo>
                  <a:pt x="665668" y="361950"/>
                </a:lnTo>
                <a:lnTo>
                  <a:pt x="914400" y="0"/>
                </a:lnTo>
                <a:lnTo>
                  <a:pt x="1163132" y="361950"/>
                </a:lnTo>
                <a:lnTo>
                  <a:pt x="990873" y="361950"/>
                </a:lnTo>
                <a:lnTo>
                  <a:pt x="990873" y="1122595"/>
                </a:lnTo>
                <a:lnTo>
                  <a:pt x="1466850" y="1122595"/>
                </a:lnTo>
                <a:lnTo>
                  <a:pt x="1466850" y="950336"/>
                </a:lnTo>
                <a:lnTo>
                  <a:pt x="1828800" y="1199068"/>
                </a:lnTo>
                <a:lnTo>
                  <a:pt x="1466850" y="1447800"/>
                </a:lnTo>
                <a:lnTo>
                  <a:pt x="1466850" y="1275541"/>
                </a:lnTo>
                <a:lnTo>
                  <a:pt x="361950" y="1275541"/>
                </a:lnTo>
                <a:lnTo>
                  <a:pt x="361950" y="1447800"/>
                </a:lnTo>
                <a:lnTo>
                  <a:pt x="0" y="119906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Выгнутая вправо стрелка 30"/>
          <p:cNvSpPr/>
          <p:nvPr/>
        </p:nvSpPr>
        <p:spPr>
          <a:xfrm>
            <a:off x="8381880" y="2286000"/>
            <a:ext cx="457200" cy="914400"/>
          </a:xfrm>
          <a:custGeom>
            <a:avLst/>
            <a:gdLst>
              <a:gd name="textAreaLeft" fmla="*/ 61200 w 457200"/>
              <a:gd name="textAreaRight" fmla="*/ 396000 w 457200"/>
              <a:gd name="textAreaTop" fmla="*/ 185760 h 914400"/>
              <a:gd name="textAreaBottom" fmla="*/ 671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3453680"/>
                <a:lnTo>
                  <a:pt x="5400" y="21321"/>
                </a:lnTo>
                <a:lnTo>
                  <a:pt x="0" y="18900"/>
                </a:lnTo>
                <a:lnTo>
                  <a:pt x="5400" y="15921"/>
                </a:lnTo>
                <a:lnTo>
                  <a:pt x="5400" y="17271"/>
                </a:lnTo>
                <a:arcTo wR="21600" hR="8775" stAng="3453680" swAng="-3236521"/>
                <a:lnTo>
                  <a:pt x="21343" y="10125"/>
                </a:lnTo>
                <a:arcTo wR="21600" hR="8775" stAng="-217159" swAng="-5182841"/>
                <a:close/>
              </a:path>
              <a:path fill="darkenLess"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-217159"/>
                <a:lnTo>
                  <a:pt x="21343" y="10125"/>
                </a:lnTo>
                <a:arcTo wR="21600" hR="8775" stAng="-217159" swAng="-5182841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Выгнутая влево стрелка 31"/>
          <p:cNvSpPr/>
          <p:nvPr/>
        </p:nvSpPr>
        <p:spPr>
          <a:xfrm>
            <a:off x="304920" y="2438280"/>
            <a:ext cx="457200" cy="990720"/>
          </a:xfrm>
          <a:custGeom>
            <a:avLst/>
            <a:gdLst>
              <a:gd name="textAreaLeft" fmla="*/ 61200 w 457200"/>
              <a:gd name="textAreaRight" fmla="*/ 396000 w 457200"/>
              <a:gd name="textAreaTop" fmla="*/ 204840 h 990720"/>
              <a:gd name="textAreaBottom" fmla="*/ 7290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31" stAng="-5400000" swAng="-5400000"/>
                <a:lnTo>
                  <a:pt x="0" y="11424"/>
                </a:lnTo>
                <a:arcTo wR="21600" hR="8931" stAng="10800000" swAng="-3480914"/>
                <a:lnTo>
                  <a:pt x="16200" y="21316"/>
                </a:lnTo>
                <a:lnTo>
                  <a:pt x="21600" y="19108"/>
                </a:lnTo>
                <a:lnTo>
                  <a:pt x="16200" y="16331"/>
                </a:lnTo>
                <a:lnTo>
                  <a:pt x="16200" y="17577"/>
                </a:lnTo>
                <a:arcTo wR="21600" hR="8931" stAng="7319086" swAng="3280792"/>
                <a:lnTo>
                  <a:pt x="211" y="10177"/>
                </a:lnTo>
                <a:arcTo wR="21600" hR="8931" stAng="-10599879" swAng="5199879"/>
                <a:close/>
              </a:path>
              <a:path fill="darkenLess" w="21600" h="21600">
                <a:moveTo>
                  <a:pt x="21600" y="0"/>
                </a:moveTo>
                <a:arcTo wR="21600" hR="8931" stAng="-5400000" swAng="-5400000"/>
                <a:lnTo>
                  <a:pt x="0" y="8931"/>
                </a:lnTo>
                <a:arcTo wR="21600" hR="8931" stAng="10800000" swAng="-200121"/>
                <a:lnTo>
                  <a:pt x="211" y="10177"/>
                </a:lnTo>
                <a:arcTo wR="21600" hR="8931" stAng="-10599879" swAng="5199879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3"/>
          <p:cNvSpPr/>
          <p:nvPr/>
        </p:nvSpPr>
        <p:spPr>
          <a:xfrm>
            <a:off x="2286000" y="1447920"/>
            <a:ext cx="4648320" cy="190476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0099cc"/>
              </a:gs>
              <a:gs pos="100000">
                <a:srgbClr val="0047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447920" y="685800"/>
            <a:ext cx="64767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fbfbf"/>
              </a:gs>
              <a:gs pos="100000">
                <a:srgbClr val="51513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ы организации урочных за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25560" y="3605040"/>
            <a:ext cx="1848960" cy="2147400"/>
            <a:chOff x="25560" y="3605040"/>
            <a:chExt cx="1848960" cy="2147400"/>
          </a:xfrm>
        </p:grpSpPr>
        <p:pic>
          <p:nvPicPr>
            <p:cNvPr id="111" name="Picture 6" descr="Picture2"/>
            <p:cNvPicPr/>
            <p:nvPr/>
          </p:nvPicPr>
          <p:blipFill>
            <a:blip r:embed="rId1"/>
            <a:stretch/>
          </p:blipFill>
          <p:spPr>
            <a:xfrm>
              <a:off x="179640" y="5409720"/>
              <a:ext cx="15559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Oval 7"/>
            <p:cNvSpPr/>
            <p:nvPr/>
          </p:nvSpPr>
          <p:spPr>
            <a:xfrm>
              <a:off x="25560" y="3605040"/>
              <a:ext cx="1848960" cy="1962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8"/>
            <p:cNvSpPr/>
            <p:nvPr/>
          </p:nvSpPr>
          <p:spPr>
            <a:xfrm>
              <a:off x="65520" y="3651120"/>
              <a:ext cx="1763280" cy="187380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9"/>
            <p:cNvSpPr/>
            <p:nvPr/>
          </p:nvSpPr>
          <p:spPr>
            <a:xfrm>
              <a:off x="133920" y="3719520"/>
              <a:ext cx="1594440" cy="16923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10" descr="Picture1"/>
            <p:cNvPicPr/>
            <p:nvPr/>
          </p:nvPicPr>
          <p:blipFill>
            <a:blip r:embed="rId3"/>
            <a:stretch/>
          </p:blipFill>
          <p:spPr>
            <a:xfrm>
              <a:off x="65520" y="3719520"/>
              <a:ext cx="1170360" cy="124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Text Box 11"/>
          <p:cNvSpPr/>
          <p:nvPr/>
        </p:nvSpPr>
        <p:spPr>
          <a:xfrm>
            <a:off x="33480" y="41194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рок - 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2"/>
          <p:cNvGrpSpPr/>
          <p:nvPr/>
        </p:nvGrpSpPr>
        <p:grpSpPr>
          <a:xfrm>
            <a:off x="1482840" y="3605040"/>
            <a:ext cx="2231640" cy="2071440"/>
            <a:chOff x="1482840" y="3605040"/>
            <a:chExt cx="2231640" cy="2071440"/>
          </a:xfrm>
        </p:grpSpPr>
        <p:pic>
          <p:nvPicPr>
            <p:cNvPr id="118" name="Picture 13" descr="Picture2"/>
            <p:cNvPicPr/>
            <p:nvPr/>
          </p:nvPicPr>
          <p:blipFill>
            <a:blip r:embed="rId4"/>
            <a:stretch/>
          </p:blipFill>
          <p:spPr>
            <a:xfrm>
              <a:off x="2018880" y="5345640"/>
              <a:ext cx="1556640" cy="3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Oval 14"/>
            <p:cNvSpPr/>
            <p:nvPr/>
          </p:nvSpPr>
          <p:spPr>
            <a:xfrm>
              <a:off x="1864800" y="3605040"/>
              <a:ext cx="1849680" cy="18925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5"/>
            <p:cNvSpPr/>
            <p:nvPr/>
          </p:nvSpPr>
          <p:spPr>
            <a:xfrm>
              <a:off x="1904760" y="3649320"/>
              <a:ext cx="1764000" cy="1807200"/>
            </a:xfrm>
            <a:prstGeom prst="ellipse">
              <a:avLst/>
            </a:prstGeom>
            <a:gradFill rotWithShape="0">
              <a:gsLst>
                <a:gs pos="0">
                  <a:srgbClr val="f0ea00">
                    <a:alpha val="85098"/>
                  </a:srgbClr>
                </a:gs>
                <a:gs pos="100000">
                  <a:srgbClr val="9895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6"/>
            <p:cNvSpPr/>
            <p:nvPr/>
          </p:nvSpPr>
          <p:spPr>
            <a:xfrm>
              <a:off x="1973160" y="3715560"/>
              <a:ext cx="1594800" cy="1632240"/>
            </a:xfrm>
            <a:prstGeom prst="ellipse">
              <a:avLst/>
            </a:prstGeom>
            <a:gradFill rotWithShape="0">
              <a:gsLst>
                <a:gs pos="0">
                  <a:srgbClr val="f0ea00"/>
                </a:gs>
                <a:gs pos="100000">
                  <a:srgbClr val="aea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17" descr="Picture1"/>
            <p:cNvPicPr/>
            <p:nvPr/>
          </p:nvPicPr>
          <p:blipFill>
            <a:blip r:embed="rId6"/>
            <a:stretch/>
          </p:blipFill>
          <p:spPr>
            <a:xfrm>
              <a:off x="1482840" y="3697920"/>
              <a:ext cx="1170720" cy="11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Text Box 18"/>
          <p:cNvSpPr/>
          <p:nvPr/>
        </p:nvSpPr>
        <p:spPr>
          <a:xfrm>
            <a:off x="1884240" y="4070520"/>
            <a:ext cx="17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рок - лабора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9"/>
          <p:cNvGrpSpPr/>
          <p:nvPr/>
        </p:nvGrpSpPr>
        <p:grpSpPr>
          <a:xfrm>
            <a:off x="3708360" y="3492360"/>
            <a:ext cx="1848960" cy="2147400"/>
            <a:chOff x="3708360" y="3492360"/>
            <a:chExt cx="1848960" cy="2147400"/>
          </a:xfrm>
        </p:grpSpPr>
        <p:pic>
          <p:nvPicPr>
            <p:cNvPr id="125" name="Picture 20" descr="Picture2"/>
            <p:cNvPicPr/>
            <p:nvPr/>
          </p:nvPicPr>
          <p:blipFill>
            <a:blip r:embed="rId7"/>
            <a:stretch/>
          </p:blipFill>
          <p:spPr>
            <a:xfrm>
              <a:off x="3862440" y="5297040"/>
              <a:ext cx="15559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Oval 21"/>
            <p:cNvSpPr/>
            <p:nvPr/>
          </p:nvSpPr>
          <p:spPr>
            <a:xfrm>
              <a:off x="3708360" y="3492360"/>
              <a:ext cx="1848960" cy="19620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2"/>
            <p:cNvSpPr/>
            <p:nvPr/>
          </p:nvSpPr>
          <p:spPr>
            <a:xfrm>
              <a:off x="3748320" y="3538440"/>
              <a:ext cx="1763280" cy="1873800"/>
            </a:xfrm>
            <a:prstGeom prst="ellipse">
              <a:avLst/>
            </a:prstGeom>
            <a:gradFill rotWithShape="0">
              <a:gsLst>
                <a:gs pos="0">
                  <a:srgbClr val="30c230">
                    <a:alpha val="85098"/>
                  </a:srgbClr>
                </a:gs>
                <a:gs pos="100000">
                  <a:srgbClr val="1f7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3"/>
            <p:cNvSpPr/>
            <p:nvPr/>
          </p:nvSpPr>
          <p:spPr>
            <a:xfrm>
              <a:off x="3816720" y="3606840"/>
              <a:ext cx="1594440" cy="1692360"/>
            </a:xfrm>
            <a:prstGeom prst="ellipse">
              <a:avLst/>
            </a:prstGeom>
            <a:gradFill rotWithShape="0">
              <a:gsLst>
                <a:gs pos="0">
                  <a:srgbClr val="30c230"/>
                </a:gs>
                <a:gs pos="100000">
                  <a:srgbClr val="238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24" descr="Picture1"/>
            <p:cNvPicPr/>
            <p:nvPr/>
          </p:nvPicPr>
          <p:blipFill>
            <a:blip r:embed="rId9"/>
            <a:stretch/>
          </p:blipFill>
          <p:spPr>
            <a:xfrm>
              <a:off x="3748320" y="3606840"/>
              <a:ext cx="1170360" cy="124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26"/>
          <p:cNvGrpSpPr/>
          <p:nvPr/>
        </p:nvGrpSpPr>
        <p:grpSpPr>
          <a:xfrm>
            <a:off x="5565600" y="3413160"/>
            <a:ext cx="1849320" cy="2147040"/>
            <a:chOff x="5565600" y="3413160"/>
            <a:chExt cx="1849320" cy="2147040"/>
          </a:xfrm>
        </p:grpSpPr>
        <p:pic>
          <p:nvPicPr>
            <p:cNvPr id="131" name="Picture 27" descr="Picture2"/>
            <p:cNvPicPr/>
            <p:nvPr/>
          </p:nvPicPr>
          <p:blipFill>
            <a:blip r:embed="rId10"/>
            <a:stretch/>
          </p:blipFill>
          <p:spPr>
            <a:xfrm>
              <a:off x="5719680" y="5217480"/>
              <a:ext cx="155628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Oval 28"/>
            <p:cNvSpPr/>
            <p:nvPr/>
          </p:nvSpPr>
          <p:spPr>
            <a:xfrm>
              <a:off x="5565600" y="3413160"/>
              <a:ext cx="1849320" cy="196164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9"/>
            <p:cNvSpPr/>
            <p:nvPr/>
          </p:nvSpPr>
          <p:spPr>
            <a:xfrm>
              <a:off x="5605560" y="3459240"/>
              <a:ext cx="1763640" cy="1873440"/>
            </a:xfrm>
            <a:prstGeom prst="ellipse">
              <a:avLst/>
            </a:prstGeom>
            <a:gradFill rotWithShape="0">
              <a:gsLst>
                <a:gs pos="0">
                  <a:srgbClr val="ae50e2">
                    <a:alpha val="85098"/>
                  </a:srgbClr>
                </a:gs>
                <a:gs pos="100000">
                  <a:srgbClr val="6f33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30"/>
            <p:cNvSpPr/>
            <p:nvPr/>
          </p:nvSpPr>
          <p:spPr>
            <a:xfrm>
              <a:off x="5673960" y="3527640"/>
              <a:ext cx="1594800" cy="1692000"/>
            </a:xfrm>
            <a:prstGeom prst="ellipse">
              <a:avLst/>
            </a:prstGeom>
            <a:gradFill rotWithShape="0">
              <a:gsLst>
                <a:gs pos="0">
                  <a:srgbClr val="ae50e2"/>
                </a:gs>
                <a:gs pos="100000">
                  <a:srgbClr val="7e3a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31" descr="Picture1"/>
            <p:cNvPicPr/>
            <p:nvPr/>
          </p:nvPicPr>
          <p:blipFill>
            <a:blip r:embed="rId12"/>
            <a:stretch/>
          </p:blipFill>
          <p:spPr>
            <a:xfrm>
              <a:off x="5605560" y="3527640"/>
              <a:ext cx="1170360" cy="124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Text Box 32"/>
          <p:cNvSpPr/>
          <p:nvPr/>
        </p:nvSpPr>
        <p:spPr>
          <a:xfrm>
            <a:off x="5667480" y="3824280"/>
            <a:ext cx="16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рок – творческий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4"/>
          <p:cNvSpPr/>
          <p:nvPr/>
        </p:nvSpPr>
        <p:spPr>
          <a:xfrm>
            <a:off x="3747960" y="399096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рок – защита мини -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oup 26" descr=""/>
          <p:cNvPicPr/>
          <p:nvPr/>
        </p:nvPicPr>
        <p:blipFill>
          <a:blip r:embed="rId13"/>
          <a:stretch/>
        </p:blipFill>
        <p:spPr>
          <a:xfrm>
            <a:off x="7381800" y="3481560"/>
            <a:ext cx="1847880" cy="19620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7765200" y="3824280"/>
            <a:ext cx="115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рок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ело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предметный модуль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Математическое моделиров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I:\DCIM\100MSDCF\DSC04015.JPG"/>
          <p:cNvPicPr/>
          <p:nvPr/>
        </p:nvPicPr>
        <p:blipFill>
          <a:blip r:embed="rId1"/>
          <a:stretch/>
        </p:blipFill>
        <p:spPr>
          <a:xfrm>
            <a:off x="152280" y="144792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:\DCIM\100MSDCF\DSC04012.JPG"/>
          <p:cNvPicPr/>
          <p:nvPr/>
        </p:nvPicPr>
        <p:blipFill>
          <a:blip r:embed="rId2"/>
          <a:stretch/>
        </p:blipFill>
        <p:spPr>
          <a:xfrm>
            <a:off x="5105520" y="13716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I:\DCIM\100MSDCF\DSC04011.JPG"/>
          <p:cNvPicPr/>
          <p:nvPr/>
        </p:nvPicPr>
        <p:blipFill>
          <a:blip r:embed="rId3"/>
          <a:stretch/>
        </p:blipFill>
        <p:spPr>
          <a:xfrm>
            <a:off x="457200" y="37339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I:\DCIM\100MSDCF\DSC04010.JPG"/>
          <p:cNvPicPr/>
          <p:nvPr/>
        </p:nvPicPr>
        <p:blipFill>
          <a:blip r:embed="rId4"/>
          <a:stretch/>
        </p:blipFill>
        <p:spPr>
          <a:xfrm>
            <a:off x="4724280" y="3733920"/>
            <a:ext cx="4064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5"/>
          <p:cNvSpPr txBox="1"/>
          <p:nvPr/>
        </p:nvSpPr>
        <p:spPr>
          <a:xfrm>
            <a:off x="1184400" y="5424480"/>
            <a:ext cx="73152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c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Picture 4" descr="D:\ОЛЯ (H)\новая школа 14-15 уч.год\фото\киселевские чтения 2015\DSC02171.JPG"/>
          <p:cNvPicPr/>
          <p:nvPr/>
        </p:nvPicPr>
        <p:blipFill>
          <a:blip r:embed="rId1"/>
          <a:stretch/>
        </p:blipFill>
        <p:spPr>
          <a:xfrm>
            <a:off x="2154240" y="979560"/>
            <a:ext cx="5146560" cy="3860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D:\ОЛЯ (H)\новая школа 14-15 уч.год\фото\киселевские чтения 2015\DSC02180.JPG"/>
          <p:cNvPicPr/>
          <p:nvPr/>
        </p:nvPicPr>
        <p:blipFill>
          <a:blip r:embed="rId2"/>
          <a:stretch/>
        </p:blipFill>
        <p:spPr>
          <a:xfrm>
            <a:off x="2043000" y="998640"/>
            <a:ext cx="5146920" cy="3860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D:\ОЛЯ (H)\новая школа 14-15 уч.год\фото\киселевские чтения 2015\DSC02181.JPG"/>
          <p:cNvPicPr/>
          <p:nvPr/>
        </p:nvPicPr>
        <p:blipFill>
          <a:blip r:embed="rId3"/>
          <a:stretch/>
        </p:blipFill>
        <p:spPr>
          <a:xfrm>
            <a:off x="2043000" y="998640"/>
            <a:ext cx="5257800" cy="3841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I:\фотки ислед\IMG_1417.JPG"/>
          <p:cNvPicPr/>
          <p:nvPr/>
        </p:nvPicPr>
        <p:blipFill>
          <a:blip r:embed="rId4"/>
          <a:stretch/>
        </p:blipFill>
        <p:spPr>
          <a:xfrm>
            <a:off x="2251080" y="1027080"/>
            <a:ext cx="5181480" cy="4071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I:\фотки ислед\IMG_1416.JPG"/>
          <p:cNvPicPr/>
          <p:nvPr/>
        </p:nvPicPr>
        <p:blipFill>
          <a:blip r:embed="rId5"/>
          <a:stretch/>
        </p:blipFill>
        <p:spPr>
          <a:xfrm>
            <a:off x="2036880" y="1011240"/>
            <a:ext cx="5395680" cy="41241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"/>
          <p:cNvSpPr/>
          <p:nvPr/>
        </p:nvSpPr>
        <p:spPr>
          <a:xfrm>
            <a:off x="304920" y="380880"/>
            <a:ext cx="854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2185920" y="5327640"/>
            <a:ext cx="48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иселевские ч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685800" y="1752480"/>
          <a:ext cx="8077320" cy="3048120"/>
        </p:xfrm>
        <a:graphic>
          <a:graphicData uri="http://schemas.openxmlformats.org/drawingml/2006/table">
            <a:tbl>
              <a:tblPr/>
              <a:tblGrid>
                <a:gridCol w="1752480"/>
                <a:gridCol w="2286000"/>
                <a:gridCol w="1981440"/>
                <a:gridCol w="205740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эффици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уч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 на «4 и 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спеваем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Arial Unicode MS"/>
                        </a:rPr>
                        <a:t>2014-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Arial Unicode MS"/>
                        </a:rPr>
                        <a:t>2015-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85" descr="j0343351[1]"/>
          <p:cNvPicPr/>
          <p:nvPr/>
        </p:nvPicPr>
        <p:blipFill>
          <a:blip r:embed="rId1"/>
          <a:stretch/>
        </p:blipFill>
        <p:spPr>
          <a:xfrm flipH="1">
            <a:off x="457200" y="228600"/>
            <a:ext cx="1176480" cy="1219320"/>
          </a:xfrm>
          <a:prstGeom prst="rect">
            <a:avLst/>
          </a:prstGeom>
          <a:ln w="0">
            <a:noFill/>
          </a:ln>
        </p:spPr>
      </p:pic>
      <p:sp>
        <p:nvSpPr>
          <p:cNvPr id="155" name="WordArt 317"/>
          <p:cNvSpPr txBox="1"/>
          <p:nvPr/>
        </p:nvSpPr>
        <p:spPr>
          <a:xfrm>
            <a:off x="2438280" y="380880"/>
            <a:ext cx="4610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c00000"/>
                </a:solidFill>
                <a:latin typeface="Times New Roman"/>
              </a:rPr>
              <a:t>Результаты </a:t>
            </a:r>
            <a:endParaRPr b="1" lang="en-US" sz="5400" spc="1" strike="noStrike">
              <a:ln w="0">
                <a:noFill/>
              </a:ln>
              <a:solidFill>
                <a:srgbClr val="c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c00000"/>
                </a:solidFill>
                <a:latin typeface="Times New Roman"/>
              </a:rPr>
              <a:t>учебной деятельности</a:t>
            </a:r>
            <a:endParaRPr b="1" lang="en-US" sz="5400" spc="1" strike="noStrike">
              <a:ln w="0">
                <a:noFill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pic>
        <p:nvPicPr>
          <p:cNvPr id="156" name="Picture 2" descr="H:\Documents and Settings\Aida\Рабочий стол\текстуры и фоны, клипарты\Scool_objekts\scool (90).png"/>
          <p:cNvPicPr/>
          <p:nvPr/>
        </p:nvPicPr>
        <p:blipFill>
          <a:blip r:embed="rId2"/>
          <a:stretch/>
        </p:blipFill>
        <p:spPr>
          <a:xfrm>
            <a:off x="6705720" y="5334120"/>
            <a:ext cx="2016000" cy="61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304920" y="1143000"/>
          <a:ext cx="8076960" cy="3203640"/>
        </p:xfrm>
        <a:graphic>
          <a:graphicData uri="http://schemas.openxmlformats.org/drawingml/2006/table">
            <a:tbl>
              <a:tblPr/>
              <a:tblGrid>
                <a:gridCol w="2458800"/>
                <a:gridCol w="5618160"/>
              </a:tblGrid>
              <a:tr h="368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именование конкур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ун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Arial Unicode MS"/>
                        </a:rPr>
                        <a:t>«Учитель года – 201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Arial Unicode MS"/>
                        </a:rPr>
                        <a:t>«Учитель года – 2016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Шко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бедитель конкурса «Учитель года – 2016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Шко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астер – класс «Работа со слабоуспевающими детьм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Rectangle 276"/>
          <p:cNvSpPr/>
          <p:nvPr/>
        </p:nvSpPr>
        <p:spPr>
          <a:xfrm>
            <a:off x="-338040" y="587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290"/>
          <p:cNvSpPr txBox="1"/>
          <p:nvPr/>
        </p:nvSpPr>
        <p:spPr>
          <a:xfrm>
            <a:off x="609480" y="228600"/>
            <a:ext cx="8182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838080" y="1522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стие в конкурсах профессионального мастерства, мастер-клас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1" descr=""/>
          <p:cNvPicPr/>
          <p:nvPr/>
        </p:nvPicPr>
        <p:blipFill>
          <a:blip r:embed="rId1"/>
          <a:stretch/>
        </p:blipFill>
        <p:spPr>
          <a:xfrm>
            <a:off x="2590920" y="4537080"/>
            <a:ext cx="4114800" cy="231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8-06-25T05:54:55Z</dcterms:modified>
  <cp:revision>1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