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02AE5-3B78-4EE4-857E-114CE8C70A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48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48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E6A05-808E-487F-8FE7-0E5F20BE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2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5080" y="1447920"/>
            <a:ext cx="36572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2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5080" y="3953880"/>
            <a:ext cx="36572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F012F-A9B2-4814-9ACC-3BBC2149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0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68640" y="1447920"/>
            <a:ext cx="24130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2680" y="1447920"/>
            <a:ext cx="24130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0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68640" y="3953880"/>
            <a:ext cx="24130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2680" y="3953880"/>
            <a:ext cx="24130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4EC65-7BC0-4801-A35A-6F4E5B7A49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4378C-4C6D-466A-BCEB-31F2A2046D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484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2A6A0-0523-4703-9EE2-C63BE6C4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48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F2183-2EA5-4FA0-B440-9A6D064B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2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5080" y="1447920"/>
            <a:ext cx="36572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434E5-6246-459E-A6A4-77F62E1D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79BBC-C30B-4937-88DF-5438A704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4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BC6DD-B15A-4C62-8CBC-DE9F46A7C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2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5080" y="1447920"/>
            <a:ext cx="36572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2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2C3C8-23BD-4C7E-8C0E-BC83CA6B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484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5F7B7-640F-438B-B909-137E3699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2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5080" y="1447920"/>
            <a:ext cx="36572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5080" y="3953880"/>
            <a:ext cx="36572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77F1A-B20A-4223-B7D4-8249354E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2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5080" y="1447920"/>
            <a:ext cx="36572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48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C335D5-76D7-4BCD-B203-12AA3678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48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48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83CD4-5370-40F6-906D-DDD39A6E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2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5080" y="1447920"/>
            <a:ext cx="36572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2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5080" y="3953880"/>
            <a:ext cx="36572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7EFC1-C770-448D-8F4B-42A32F1C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0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68640" y="1447920"/>
            <a:ext cx="24130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2680" y="1447920"/>
            <a:ext cx="24130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0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68640" y="3953880"/>
            <a:ext cx="24130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02680" y="3953880"/>
            <a:ext cx="24130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229F7-68D2-499C-B8FC-F0CBEFD778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48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2A3E1-0D35-46DA-A185-17B0F27E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2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5080" y="1447920"/>
            <a:ext cx="36572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06B2B-6364-44F4-BFF6-D7EA20E1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DB13A-A2DE-49C3-8010-40F5D503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4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D9068-79D2-48C2-8180-BB145EDF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2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5080" y="1447920"/>
            <a:ext cx="36572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2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6D42D-E7CB-4A0F-879B-23148B2C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2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5080" y="1447920"/>
            <a:ext cx="36572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5080" y="3953880"/>
            <a:ext cx="36572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7B034-84F9-47F7-9B80-D9088657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2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5080" y="1447920"/>
            <a:ext cx="36572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48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28ABB-7168-4622-8284-16C2686E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2276" h="2276">
                <a:moveTo>
                  <a:pt x="4" y="2146"/>
                </a:moveTo>
                <a:lnTo>
                  <a:pt x="2276" y="2276"/>
                </a:lnTo>
                <a:lnTo>
                  <a:pt x="5" y="981"/>
                </a:lnTo>
                <a:close/>
              </a:path>
            </a:pathLst>
          </a:custGeom>
          <a:solidFill>
            <a:srgbClr val="fcfaf4">
              <a:alpha val="33000"/>
            </a:srgbClr>
          </a:solidFill>
          <a:ln w="3240">
            <a:solidFill>
              <a:srgbClr val="d1c3a0"/>
            </a:solidFill>
            <a:round/>
          </a:ln>
          <a:effectLst>
            <a:outerShdw dist="255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2080" cy="1702080"/>
          </a:xfrm>
          <a:prstGeom prst="rect">
            <a:avLst/>
          </a:prstGeom>
          <a:noFill/>
          <a:ln w="27360">
            <a:solidFill>
              <a:srgbClr val="fff4dd"/>
            </a:solidFill>
            <a:round/>
          </a:ln>
          <a:effectLst>
            <a:outerShdw dist="25560" dir="5400000" blurRad="0" rotWithShape="0">
              <a:srgbClr val="afa68f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2340000">
            <a:off x="183960" y="1052280"/>
            <a:ext cx="1125360" cy="1101600"/>
          </a:xfrm>
          <a:custGeom>
            <a:avLst/>
            <a:gdLst/>
            <a:ahLst/>
            <a:rect l="l" t="t" r="r" b="b"/>
            <a:pathLst>
              <a:path w="3832" h="2698">
                <a:moveTo>
                  <a:pt x="0" y="1532"/>
                </a:moveTo>
                <a:lnTo>
                  <a:pt x="1564" y="1532"/>
                </a:lnTo>
                <a:lnTo>
                  <a:pt x="180" y="90"/>
                </a:lnTo>
                <a:lnTo>
                  <a:pt x="1564" y="1532"/>
                </a:lnTo>
                <a:lnTo>
                  <a:pt x="270" y="90"/>
                </a:lnTo>
                <a:close/>
                <a:moveTo>
                  <a:pt x="1564" y="1532"/>
                </a:moveTo>
                <a:lnTo>
                  <a:pt x="1" y="90"/>
                </a:lnTo>
                <a:lnTo>
                  <a:pt x="1564" y="1532"/>
                </a:lnTo>
                <a:lnTo>
                  <a:pt x="90" y="90"/>
                </a:lnTo>
                <a:lnTo>
                  <a:pt x="2698" y="1532"/>
                </a:lnTo>
                <a:close/>
              </a:path>
            </a:pathLst>
          </a:custGeom>
          <a:gradFill rotWithShape="0">
            <a:gsLst>
              <a:gs pos="0">
                <a:srgbClr val="fefaf6">
                  <a:alpha val="72156"/>
                </a:srgbClr>
              </a:gs>
              <a:gs pos="100000">
                <a:srgbClr val="eed18e">
                  <a:alpha val="60000"/>
                </a:srgbClr>
              </a:gs>
            </a:gsLst>
            <a:path path="rect">
              <a:fillToRect l="50000" t="50000" r="50000" b="50000"/>
            </a:path>
          </a:gradFill>
          <a:ln w="7200">
            <a:solidFill>
              <a:srgbClr val="c6b792"/>
            </a:solidFill>
            <a:round/>
          </a:ln>
          <a:effectLst>
            <a:outerShdw dist="14843" dir="4557825" blurRad="0" rotWithShape="0">
              <a:srgbClr val="595343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55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6e6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2080" y="360000"/>
            <a:ext cx="740232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3581280" y="6305040"/>
            <a:ext cx="213048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25.6.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2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E2F7D10-5C89-47DD-8584-3282C45E449D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922320" y="1414440"/>
            <a:ext cx="209520" cy="209520"/>
          </a:xfrm>
          <a:prstGeom prst="rect">
            <a:avLst/>
          </a:prstGeom>
          <a:gradFill rotWithShape="0">
            <a:gsLst>
              <a:gs pos="0">
                <a:srgbClr val="daf5fe">
                  <a:alpha val="97254"/>
                </a:srgbClr>
              </a:gs>
              <a:gs pos="100000">
                <a:srgbClr val="00aad4">
                  <a:alpha val="87058"/>
                </a:srgbClr>
              </a:gs>
            </a:gsLst>
            <a:path path="rect">
              <a:fillToRect l="50000" t="50000" r="50000" b="50000"/>
            </a:path>
          </a:gradFill>
          <a:ln w="2160">
            <a:solidFill>
              <a:srgbClr val="308da4">
                <a:alpha val="60000"/>
              </a:srgbClr>
            </a:solidFill>
            <a:round/>
          </a:ln>
          <a:effectLst>
            <a:outerShdw dist="255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157400" y="1344600"/>
            <a:ext cx="63360" cy="63360"/>
          </a:xfrm>
          <a:prstGeom prst="rect">
            <a:avLst/>
          </a:prstGeom>
          <a:noFill/>
          <a:ln w="12600">
            <a:solidFill>
              <a:srgbClr val="317f93">
                <a:alpha val="60000"/>
              </a:srgbClr>
            </a:solidFill>
            <a:round/>
          </a:ln>
          <a:effectLst>
            <a:outerShdw dist="255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2276" h="2276">
                <a:moveTo>
                  <a:pt x="4" y="2146"/>
                </a:moveTo>
                <a:lnTo>
                  <a:pt x="2276" y="2276"/>
                </a:lnTo>
                <a:lnTo>
                  <a:pt x="5" y="981"/>
                </a:lnTo>
                <a:close/>
              </a:path>
            </a:pathLst>
          </a:custGeom>
          <a:solidFill>
            <a:srgbClr val="fcfaf4">
              <a:alpha val="33000"/>
            </a:srgbClr>
          </a:solidFill>
          <a:ln w="3240">
            <a:solidFill>
              <a:srgbClr val="d1c3a0"/>
            </a:solidFill>
            <a:round/>
          </a:ln>
          <a:effectLst>
            <a:outerShdw dist="255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2080" cy="1702080"/>
          </a:xfrm>
          <a:prstGeom prst="rect">
            <a:avLst/>
          </a:prstGeom>
          <a:noFill/>
          <a:ln w="27360">
            <a:solidFill>
              <a:srgbClr val="fff4dd"/>
            </a:solidFill>
            <a:round/>
          </a:ln>
          <a:effectLst>
            <a:outerShdw dist="25560" dir="5400000" blurRad="0" rotWithShape="0">
              <a:srgbClr val="afa68f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340000">
            <a:off x="183960" y="1052280"/>
            <a:ext cx="1125360" cy="1101600"/>
          </a:xfrm>
          <a:custGeom>
            <a:avLst/>
            <a:gdLst/>
            <a:ahLst/>
            <a:rect l="l" t="t" r="r" b="b"/>
            <a:pathLst>
              <a:path w="3832" h="2698">
                <a:moveTo>
                  <a:pt x="0" y="1532"/>
                </a:moveTo>
                <a:lnTo>
                  <a:pt x="1564" y="1532"/>
                </a:lnTo>
                <a:lnTo>
                  <a:pt x="180" y="90"/>
                </a:lnTo>
                <a:lnTo>
                  <a:pt x="1564" y="1532"/>
                </a:lnTo>
                <a:lnTo>
                  <a:pt x="270" y="90"/>
                </a:lnTo>
                <a:close/>
                <a:moveTo>
                  <a:pt x="1564" y="1532"/>
                </a:moveTo>
                <a:lnTo>
                  <a:pt x="1" y="90"/>
                </a:lnTo>
                <a:lnTo>
                  <a:pt x="1564" y="1532"/>
                </a:lnTo>
                <a:lnTo>
                  <a:pt x="90" y="90"/>
                </a:lnTo>
                <a:lnTo>
                  <a:pt x="2698" y="1532"/>
                </a:lnTo>
                <a:close/>
              </a:path>
            </a:pathLst>
          </a:custGeom>
          <a:gradFill rotWithShape="0">
            <a:gsLst>
              <a:gs pos="0">
                <a:srgbClr val="fefaf6">
                  <a:alpha val="72156"/>
                </a:srgbClr>
              </a:gs>
              <a:gs pos="100000">
                <a:srgbClr val="eed18e">
                  <a:alpha val="60000"/>
                </a:srgbClr>
              </a:gs>
            </a:gsLst>
            <a:path path="rect">
              <a:fillToRect l="50000" t="50000" r="50000" b="50000"/>
            </a:path>
          </a:gradFill>
          <a:ln w="7200">
            <a:solidFill>
              <a:srgbClr val="c6b792"/>
            </a:solidFill>
            <a:round/>
          </a:ln>
          <a:effectLst>
            <a:outerShdw dist="14843" dir="4557825" blurRad="0" rotWithShape="0">
              <a:srgbClr val="595343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55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6e6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48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3581280" y="6305040"/>
            <a:ext cx="213048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25.6.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EAF0D16-351B-445A-8274-AFD3FC8660A3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042920" y="1848960"/>
            <a:ext cx="792000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61309"/>
                </a:solidFill>
                <a:latin typeface="Times New Roman"/>
              </a:rPr>
              <a:t>Сопровождение детей с тяжелыми и множественными нарушениями в развитии в условиях дошкольного отделения инклюзивного образовательного учрежде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258920" y="404280"/>
            <a:ext cx="7578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1309"/>
                </a:solidFill>
                <a:latin typeface="Times New Roman"/>
              </a:rPr>
              <a:t>Множественное нарушение – это не сумма дефектов, а многофункциональное нару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1309"/>
                </a:solidFill>
                <a:latin typeface="Times New Roman"/>
              </a:rPr>
              <a:t>К множественным нарушениям развития относят различные комбинации сенсорных, эмоционально-волевых, интеллектуальных, двигательных наруш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331640" y="259920"/>
            <a:ext cx="75070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61309"/>
                </a:solidFill>
                <a:latin typeface="Times New Roman"/>
              </a:rPr>
              <a:t>Основным в клинической картине тяжёлого и множественного нарушения является умственная отстал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61309"/>
                </a:solidFill>
                <a:latin typeface="Times New Roman"/>
              </a:rPr>
              <a:t>Кроме того, в разных сочетаниях выявляются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61309"/>
                </a:solidFill>
                <a:latin typeface="Times New Roman"/>
              </a:rPr>
              <a:t>-двигательные нарушения (ДЦП разной формы и степени тяжести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61309"/>
                </a:solidFill>
                <a:latin typeface="Times New Roman"/>
              </a:rPr>
              <a:t>-тяжелые нарушения реч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61309"/>
                </a:solidFill>
                <a:latin typeface="Times New Roman"/>
              </a:rPr>
              <a:t>-нарушения функций анализаторных систем (зрения, слуха, тактильной чувствительности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61309"/>
                </a:solidFill>
                <a:latin typeface="Times New Roman"/>
              </a:rPr>
              <a:t>-повышенная судорожная готовность (эписиндром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61309"/>
                </a:solidFill>
                <a:latin typeface="Times New Roman"/>
              </a:rPr>
              <a:t>-расстройства эмоционально-волевой сферы (нарушения регуляции поведения и др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61309"/>
                </a:solidFill>
                <a:latin typeface="Times New Roman"/>
              </a:rPr>
              <a:t>-аутистические расстройства (стереотипные действия, нарушение коммуникации, взаимодействия, социального поведе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258920" y="333000"/>
            <a:ext cx="7578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 u="sng">
                <a:solidFill>
                  <a:srgbClr val="361309"/>
                </a:solidFill>
                <a:uFillTx/>
                <a:latin typeface="Times New Roman"/>
              </a:rPr>
              <a:t>Основные направления педагогической работы,с детьми имеющими тяжелые и множественные наруш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- формирование представлений о себе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- формирование навыков самообслуживания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- формирование представлений об окружающем мире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- развитие коммуникации и общения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- развитие предметно-практической, игровой деятельност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431720" y="836280"/>
            <a:ext cx="72435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61309"/>
                </a:solidFill>
                <a:latin typeface="Gill Sans MT"/>
              </a:rPr>
              <a:t>Формирование</a:t>
            </a:r>
            <a:r>
              <a:rPr b="0" lang="ru-RU" sz="2400" spc="-1" strike="noStrike">
                <a:solidFill>
                  <a:srgbClr val="361309"/>
                </a:solidFill>
                <a:latin typeface="Gill Sans MT"/>
              </a:rPr>
              <a:t> </a:t>
            </a:r>
            <a:r>
              <a:rPr b="1" lang="ru-RU" sz="2400" spc="-1" strike="noStrike">
                <a:solidFill>
                  <a:srgbClr val="361309"/>
                </a:solidFill>
                <a:latin typeface="Gill Sans MT"/>
              </a:rPr>
              <a:t>представлений о себе</a:t>
            </a:r>
            <a:r>
              <a:rPr b="0" lang="ru-RU" sz="2400" spc="-1" strike="noStrike">
                <a:solidFill>
                  <a:srgbClr val="361309"/>
                </a:solidFill>
                <a:latin typeface="Gill Sans MT"/>
              </a:rPr>
              <a:t> включ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61309"/>
                </a:solidFill>
                <a:latin typeface="Gill Sans MT"/>
              </a:rPr>
              <a:t>- познание собственного тела</a:t>
            </a:r>
            <a:r>
              <a:rPr b="0" lang="ru-RU" sz="2400" spc="-1" strike="noStrike">
                <a:solidFill>
                  <a:srgbClr val="361309"/>
                </a:solidFill>
                <a:latin typeface="Gill Sans MT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61309"/>
                </a:solidFill>
                <a:latin typeface="Gill Sans MT"/>
              </a:rPr>
              <a:t>В рамках работы над познанием собственного тела развива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61309"/>
                </a:solidFill>
                <a:latin typeface="Gill Sans MT"/>
              </a:rPr>
              <a:t> </a:t>
            </a:r>
            <a:r>
              <a:rPr b="0" lang="ru-RU" sz="2400" spc="-1" strike="noStrike">
                <a:solidFill>
                  <a:srgbClr val="361309"/>
                </a:solidFill>
                <a:latin typeface="Gill Sans MT"/>
              </a:rPr>
              <a:t>	</a:t>
            </a:r>
            <a:r>
              <a:rPr b="0" lang="ru-RU" sz="2400" spc="-1" strike="noStrike">
                <a:solidFill>
                  <a:srgbClr val="361309"/>
                </a:solidFill>
                <a:latin typeface="Gill Sans MT"/>
              </a:rPr>
              <a:t>-восприятие своего тела, ориентировка в схеме собственного те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61309"/>
                </a:solidFill>
                <a:latin typeface="Gill Sans MT"/>
              </a:rPr>
              <a:t>	</a:t>
            </a:r>
            <a:r>
              <a:rPr b="0" lang="ru-RU" sz="2400" spc="-1" strike="noStrike">
                <a:solidFill>
                  <a:srgbClr val="361309"/>
                </a:solidFill>
                <a:latin typeface="Gill Sans MT"/>
              </a:rPr>
              <a:t>-формируется представление о своей внеш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61309"/>
                </a:solidFill>
                <a:latin typeface="Gill Sans MT"/>
              </a:rPr>
              <a:t>	</a:t>
            </a:r>
            <a:r>
              <a:rPr b="0" lang="ru-RU" sz="2400" spc="-1" strike="noStrike">
                <a:solidFill>
                  <a:srgbClr val="361309"/>
                </a:solidFill>
                <a:latin typeface="Gill Sans MT"/>
              </a:rPr>
              <a:t>-происходит развитие сенсорных анализатор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61309"/>
                </a:solidFill>
                <a:latin typeface="Gill Sans MT"/>
              </a:rPr>
              <a:t>- познание себя как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19280" y="6093000"/>
            <a:ext cx="180036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Круг. Видео №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572314"/>
                </a:solidFill>
                <a:latin typeface="Gill Sans MT"/>
              </a:rPr>
              <a:t>Формирование представлений об окружающем мире</a:t>
            </a:r>
            <a:r>
              <a:rPr b="0" lang="ru-RU" sz="24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"/>
          <p:cNvSpPr/>
          <p:nvPr/>
        </p:nvSpPr>
        <p:spPr>
          <a:xfrm>
            <a:off x="1434960" y="1447920"/>
            <a:ext cx="74980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Включает в себ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- ознакомление с миром прир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- формирование представлений об объектах окружающего ми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- сенсорное развит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- формирование элементарных математических представ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6360" y="5518080"/>
            <a:ext cx="27352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Видео Соня, Варя, Фед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572314"/>
                </a:solidFill>
                <a:latin typeface="Gill Sans MT"/>
              </a:rPr>
              <a:t>Развитие коммуникации и общения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"/>
          <p:cNvSpPr/>
          <p:nvPr/>
        </p:nvSpPr>
        <p:spPr>
          <a:xfrm>
            <a:off x="1434960" y="1447920"/>
            <a:ext cx="7498080" cy="29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79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- обучение умению вступать в </a:t>
            </a:r>
            <a:r>
              <a:rPr b="1" lang="ru-RU" sz="2400" spc="-1" strike="noStrike">
                <a:solidFill>
                  <a:srgbClr val="000000"/>
                </a:solidFill>
                <a:latin typeface="Gill Sans MT"/>
              </a:rPr>
              <a:t>продуктивный </a:t>
            </a: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 контакт и поддерживать его (используя невербальные и вербальные формы, технические сред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- соблюдать общепринятые правила об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32000" y="5518080"/>
            <a:ext cx="3168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Видео Кирил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572314"/>
                </a:solidFill>
                <a:latin typeface="Gill Sans MT"/>
              </a:rPr>
              <a:t>Развитие предметно практической, игровой деятельности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"/>
          <p:cNvSpPr/>
          <p:nvPr/>
        </p:nvSpPr>
        <p:spPr>
          <a:xfrm>
            <a:off x="1434960" y="1447920"/>
            <a:ext cx="7498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У детей формируются следующие </a:t>
            </a:r>
            <a:r>
              <a:rPr b="1" lang="ru-RU" sz="2400" spc="-1" strike="noStrike">
                <a:solidFill>
                  <a:srgbClr val="000000"/>
                </a:solidFill>
                <a:latin typeface="Gill Sans MT"/>
              </a:rPr>
              <a:t>навыки и умения</a:t>
            </a: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- захватывать и удерживать предме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- совершать специфические направленные манипуляции с предмет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- различать предметы по их внешним и функциональным свойства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-  использовать предметы в соответствии с их функциональным назначени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-  формировать культурно-фиксированные действия с игрушк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-  формировать цепочку игровых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572314"/>
                </a:solidFill>
                <a:latin typeface="Gill Sans MT"/>
              </a:rPr>
              <a:t>Формирование навыков самообслуживания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"/>
          <p:cNvSpPr/>
          <p:nvPr/>
        </p:nvSpPr>
        <p:spPr>
          <a:xfrm>
            <a:off x="1434960" y="1447920"/>
            <a:ext cx="7498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- умение сообщать о своих потребностя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- выполнять действия, направленные на их удовлетворени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- соблюдать гигиенические нормы, содержать в чистоте окружающее простран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8T04:02:06Z</dcterms:created>
  <dc:creator>сохацкая</dc:creator>
  <dc:description/>
  <dc:language>en-US</dc:language>
  <cp:lastModifiedBy/>
  <dcterms:modified xsi:type="dcterms:W3CDTF">2018-06-25T08:37:05Z</dcterms:modified>
  <cp:revision>1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10</vt:r8>
  </property>
</Properties>
</file>