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77D585-6058-471C-8892-8149E1CB4A9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4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74948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600" y="3953880"/>
            <a:ext cx="74948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94B5AD-C78A-494D-922C-5F95C7032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4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2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5080" y="1447920"/>
            <a:ext cx="36572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36572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5080" y="3953880"/>
            <a:ext cx="36572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B5D171-847E-48E9-BB19-33DD1C811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4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24130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68640" y="1447920"/>
            <a:ext cx="24130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2680" y="1447920"/>
            <a:ext cx="24130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600" y="3953880"/>
            <a:ext cx="24130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68640" y="3953880"/>
            <a:ext cx="24130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2680" y="3953880"/>
            <a:ext cx="24130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E74B98-B328-488C-BB57-2DA903C882A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315A8B-99EA-493C-BA97-880A9A549CA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4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434600" y="1447920"/>
            <a:ext cx="749484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EC1B78-C629-4B10-B5B6-088969F9E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4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749484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BF77D5-B879-47A6-965B-C6D848E07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4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24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75080" y="1447920"/>
            <a:ext cx="365724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0701BB-836C-42F3-BDD9-C453064A3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4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1042DC-F9E0-4A71-875E-432465DCC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434600" y="274680"/>
            <a:ext cx="749484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432A93-DEFD-43E8-BDC7-848CFA44B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4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2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75080" y="1447920"/>
            <a:ext cx="365724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36572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27E124-642B-42EF-9AAB-BF5FF71D2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4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600" y="1447920"/>
            <a:ext cx="749484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4C9557-A063-4480-8843-48A37638F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4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24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75080" y="1447920"/>
            <a:ext cx="36572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275080" y="3953880"/>
            <a:ext cx="36572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991287-006F-4C02-84EF-8C2EE5681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4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2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275080" y="1447920"/>
            <a:ext cx="36572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74948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0E2F23-8035-41EF-AEC0-72E2B1D03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4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74948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434600" y="3953880"/>
            <a:ext cx="74948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187462-7CE3-4269-9594-FFAF53771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4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2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75080" y="1447920"/>
            <a:ext cx="36572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36572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275080" y="3953880"/>
            <a:ext cx="36572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BE7323-D444-4848-AF3E-EBF1F22C9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4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24130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968640" y="1447920"/>
            <a:ext cx="24130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502680" y="1447920"/>
            <a:ext cx="24130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1434600" y="3953880"/>
            <a:ext cx="24130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968640" y="3953880"/>
            <a:ext cx="24130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502680" y="3953880"/>
            <a:ext cx="24130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B4E67E-6F03-4D9C-9E4D-94BD32AFEE0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4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749484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26B853-015C-4AC4-96AF-1ABCE906A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4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24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5080" y="1447920"/>
            <a:ext cx="365724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3766F9-18DD-4C85-B992-0C9658300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4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F7C1CE-E991-4947-A5AA-33FEE1A7D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600" y="274680"/>
            <a:ext cx="749484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9E7A29-7B06-41DC-BBC1-33F31BF16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4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2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5080" y="1447920"/>
            <a:ext cx="365724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36572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F3A124-6CDB-4E01-A4B6-5E40BA5F3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4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24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5080" y="1447920"/>
            <a:ext cx="36572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5080" y="3953880"/>
            <a:ext cx="36572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3E8BE5-E420-436F-8F0E-2C6230CC2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4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2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5080" y="1447920"/>
            <a:ext cx="36572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74948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F8D484-F3C4-477B-B306-711505405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2276" h="2276">
                <a:moveTo>
                  <a:pt x="4" y="2146"/>
                </a:moveTo>
                <a:lnTo>
                  <a:pt x="2276" y="2276"/>
                </a:lnTo>
                <a:lnTo>
                  <a:pt x="5" y="981"/>
                </a:lnTo>
                <a:close/>
              </a:path>
            </a:pathLst>
          </a:custGeom>
          <a:solidFill>
            <a:srgbClr val="fcfaf4">
              <a:alpha val="33000"/>
            </a:srgbClr>
          </a:solidFill>
          <a:ln w="3240">
            <a:solidFill>
              <a:srgbClr val="d1c3a0"/>
            </a:solidFill>
            <a:round/>
          </a:ln>
          <a:effectLst>
            <a:outerShdw dist="255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68120" y="20520"/>
            <a:ext cx="1702080" cy="1702080"/>
          </a:xfrm>
          <a:prstGeom prst="rect">
            <a:avLst/>
          </a:prstGeom>
          <a:noFill/>
          <a:ln w="27360">
            <a:solidFill>
              <a:srgbClr val="fff4dd"/>
            </a:solidFill>
            <a:round/>
          </a:ln>
          <a:effectLst>
            <a:outerShdw dist="25560" dir="5400000" blurRad="0" rotWithShape="0">
              <a:srgbClr val="afa68f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 rot="2340000">
            <a:off x="183960" y="1052280"/>
            <a:ext cx="1125360" cy="1101600"/>
          </a:xfrm>
          <a:custGeom>
            <a:avLst/>
            <a:gdLst/>
            <a:ahLst/>
            <a:rect l="l" t="t" r="r" b="b"/>
            <a:pathLst>
              <a:path w="3832" h="2698">
                <a:moveTo>
                  <a:pt x="0" y="1532"/>
                </a:moveTo>
                <a:lnTo>
                  <a:pt x="1564" y="1532"/>
                </a:lnTo>
                <a:lnTo>
                  <a:pt x="180" y="90"/>
                </a:lnTo>
                <a:lnTo>
                  <a:pt x="1564" y="1532"/>
                </a:lnTo>
                <a:lnTo>
                  <a:pt x="270" y="90"/>
                </a:lnTo>
                <a:close/>
                <a:moveTo>
                  <a:pt x="1564" y="1532"/>
                </a:moveTo>
                <a:lnTo>
                  <a:pt x="1" y="90"/>
                </a:lnTo>
                <a:lnTo>
                  <a:pt x="1564" y="1532"/>
                </a:lnTo>
                <a:lnTo>
                  <a:pt x="90" y="90"/>
                </a:lnTo>
                <a:lnTo>
                  <a:pt x="2698" y="1532"/>
                </a:lnTo>
                <a:close/>
              </a:path>
            </a:pathLst>
          </a:custGeom>
          <a:gradFill rotWithShape="0">
            <a:gsLst>
              <a:gs pos="0">
                <a:srgbClr val="fefaf6">
                  <a:alpha val="72156"/>
                </a:srgbClr>
              </a:gs>
              <a:gs pos="100000">
                <a:srgbClr val="eed18e">
                  <a:alpha val="60000"/>
                </a:srgbClr>
              </a:gs>
            </a:gsLst>
            <a:path path="rect">
              <a:fillToRect l="50000" t="50000" r="50000" b="50000"/>
            </a:path>
          </a:gradFill>
          <a:ln w="7200">
            <a:solidFill>
              <a:srgbClr val="c6b792"/>
            </a:solidFill>
            <a:round/>
          </a:ln>
          <a:effectLst>
            <a:outerShdw dist="14843" dir="4557825" blurRad="0" rotWithShape="0">
              <a:srgbClr val="595343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55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36e62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32080" y="360000"/>
            <a:ext cx="740232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3581280" y="6305040"/>
            <a:ext cx="2130480" cy="4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b5a989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b5a989"/>
                </a:solidFill>
                <a:latin typeface="Gill Sans MT"/>
              </a:rPr>
              <a:t>25.6.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sldNum" idx="2"/>
          </p:nvPr>
        </p:nvSpPr>
        <p:spPr>
          <a:xfrm>
            <a:off x="8613360" y="6305040"/>
            <a:ext cx="453960" cy="4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b5a989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0F0F4CB2-AD85-4F3B-9858-4BB8AF425F82}" type="slidenum">
              <a:rPr b="0" lang="ru-RU" sz="1200" spc="-1" strike="noStrike">
                <a:solidFill>
                  <a:srgbClr val="b5a989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922320" y="1414440"/>
            <a:ext cx="209520" cy="209520"/>
          </a:xfrm>
          <a:prstGeom prst="rect">
            <a:avLst/>
          </a:prstGeom>
          <a:gradFill rotWithShape="0">
            <a:gsLst>
              <a:gs pos="0">
                <a:srgbClr val="daf5fe">
                  <a:alpha val="97254"/>
                </a:srgbClr>
              </a:gs>
              <a:gs pos="100000">
                <a:srgbClr val="00aad4">
                  <a:alpha val="87058"/>
                </a:srgbClr>
              </a:gs>
            </a:gsLst>
            <a:path path="rect">
              <a:fillToRect l="50000" t="50000" r="50000" b="50000"/>
            </a:path>
          </a:gradFill>
          <a:ln w="2160">
            <a:solidFill>
              <a:srgbClr val="308da4">
                <a:alpha val="60000"/>
              </a:srgbClr>
            </a:solidFill>
            <a:round/>
          </a:ln>
          <a:effectLst>
            <a:outerShdw dist="255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1157400" y="1344600"/>
            <a:ext cx="63360" cy="63360"/>
          </a:xfrm>
          <a:prstGeom prst="rect">
            <a:avLst/>
          </a:prstGeom>
          <a:noFill/>
          <a:ln w="12600">
            <a:solidFill>
              <a:srgbClr val="317f93">
                <a:alpha val="60000"/>
              </a:srgbClr>
            </a:solidFill>
            <a:round/>
          </a:ln>
          <a:effectLst>
            <a:outerShdw dist="255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 fontScale="89000"/>
          </a:bodyPr>
          <a:p>
            <a:pPr marL="305280" indent="0">
              <a:lnSpc>
                <a:spcPct val="98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305280" indent="-305280">
              <a:lnSpc>
                <a:spcPct val="98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305280" indent="-305280">
              <a:lnSpc>
                <a:spcPct val="98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305280" indent="-305280">
              <a:lnSpc>
                <a:spcPct val="98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305280" indent="-305280">
              <a:lnSpc>
                <a:spcPct val="98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305280" indent="-305280">
              <a:lnSpc>
                <a:spcPct val="98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305280" indent="-305280">
              <a:lnSpc>
                <a:spcPct val="98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2276" h="2276">
                <a:moveTo>
                  <a:pt x="4" y="2146"/>
                </a:moveTo>
                <a:lnTo>
                  <a:pt x="2276" y="2276"/>
                </a:lnTo>
                <a:lnTo>
                  <a:pt x="5" y="981"/>
                </a:lnTo>
                <a:close/>
              </a:path>
            </a:pathLst>
          </a:custGeom>
          <a:solidFill>
            <a:srgbClr val="fcfaf4">
              <a:alpha val="33000"/>
            </a:srgbClr>
          </a:solidFill>
          <a:ln w="3240">
            <a:solidFill>
              <a:srgbClr val="d1c3a0"/>
            </a:solidFill>
            <a:round/>
          </a:ln>
          <a:effectLst>
            <a:outerShdw dist="255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68120" y="20520"/>
            <a:ext cx="1702080" cy="1702080"/>
          </a:xfrm>
          <a:prstGeom prst="rect">
            <a:avLst/>
          </a:prstGeom>
          <a:noFill/>
          <a:ln w="27360">
            <a:solidFill>
              <a:srgbClr val="fff4dd"/>
            </a:solidFill>
            <a:round/>
          </a:ln>
          <a:effectLst>
            <a:outerShdw dist="25560" dir="5400000" blurRad="0" rotWithShape="0">
              <a:srgbClr val="afa68f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rot="2340000">
            <a:off x="183960" y="1052280"/>
            <a:ext cx="1125360" cy="1101600"/>
          </a:xfrm>
          <a:custGeom>
            <a:avLst/>
            <a:gdLst/>
            <a:ahLst/>
            <a:rect l="l" t="t" r="r" b="b"/>
            <a:pathLst>
              <a:path w="3832" h="2698">
                <a:moveTo>
                  <a:pt x="0" y="1532"/>
                </a:moveTo>
                <a:lnTo>
                  <a:pt x="1564" y="1532"/>
                </a:lnTo>
                <a:lnTo>
                  <a:pt x="180" y="90"/>
                </a:lnTo>
                <a:lnTo>
                  <a:pt x="1564" y="1532"/>
                </a:lnTo>
                <a:lnTo>
                  <a:pt x="270" y="90"/>
                </a:lnTo>
                <a:close/>
                <a:moveTo>
                  <a:pt x="1564" y="1532"/>
                </a:moveTo>
                <a:lnTo>
                  <a:pt x="1" y="90"/>
                </a:lnTo>
                <a:lnTo>
                  <a:pt x="1564" y="1532"/>
                </a:lnTo>
                <a:lnTo>
                  <a:pt x="90" y="90"/>
                </a:lnTo>
                <a:lnTo>
                  <a:pt x="2698" y="1532"/>
                </a:lnTo>
                <a:close/>
              </a:path>
            </a:pathLst>
          </a:custGeom>
          <a:gradFill rotWithShape="0">
            <a:gsLst>
              <a:gs pos="0">
                <a:srgbClr val="fefaf6">
                  <a:alpha val="72156"/>
                </a:srgbClr>
              </a:gs>
              <a:gs pos="100000">
                <a:srgbClr val="eed18e">
                  <a:alpha val="60000"/>
                </a:srgbClr>
              </a:gs>
            </a:gsLst>
            <a:path path="rect">
              <a:fillToRect l="50000" t="50000" r="50000" b="50000"/>
            </a:path>
          </a:gradFill>
          <a:ln w="7200">
            <a:solidFill>
              <a:srgbClr val="c6b792"/>
            </a:solidFill>
            <a:round/>
          </a:ln>
          <a:effectLst>
            <a:outerShdw dist="14843" dir="4557825" blurRad="0" rotWithShape="0">
              <a:srgbClr val="595343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55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36e62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4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1434600" y="1447920"/>
            <a:ext cx="749484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343080" indent="-343080">
              <a:lnSpc>
                <a:spcPct val="98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343080" indent="-343080">
              <a:lnSpc>
                <a:spcPct val="98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343080" indent="-343080">
              <a:lnSpc>
                <a:spcPct val="98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343080" indent="-343080">
              <a:lnSpc>
                <a:spcPct val="98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343080" indent="-343080">
              <a:lnSpc>
                <a:spcPct val="98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343080" indent="-343080">
              <a:lnSpc>
                <a:spcPct val="98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3"/>
          </p:nvPr>
        </p:nvSpPr>
        <p:spPr>
          <a:xfrm>
            <a:off x="3581280" y="6305040"/>
            <a:ext cx="2130480" cy="4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b5a989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b5a989"/>
                </a:solidFill>
                <a:latin typeface="Gill Sans MT"/>
              </a:rPr>
              <a:t>25.6.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sldNum" idx="4"/>
          </p:nvPr>
        </p:nvSpPr>
        <p:spPr>
          <a:xfrm>
            <a:off x="8613360" y="6305040"/>
            <a:ext cx="453960" cy="4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b5a989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090EF770-D73E-4DA2-A324-F9A6DF5CB8DF}" type="slidenum">
              <a:rPr b="0" lang="ru-RU" sz="1200" spc="-1" strike="noStrike">
                <a:solidFill>
                  <a:srgbClr val="b5a989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042920" y="1848960"/>
            <a:ext cx="792000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5000" anchor="t">
            <a:noAutofit/>
          </a:bodyPr>
          <a:p>
            <a:pPr marL="270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000"/>
                <a:tab algn="l" pos="131760"/>
                <a:tab algn="l" pos="581040"/>
                <a:tab algn="l" pos="1030320"/>
                <a:tab algn="l" pos="1479600"/>
                <a:tab algn="l" pos="1928880"/>
                <a:tab algn="l" pos="2378160"/>
                <a:tab algn="l" pos="2827440"/>
                <a:tab algn="l" pos="3276720"/>
                <a:tab algn="l" pos="3726000"/>
                <a:tab algn="l" pos="4175280"/>
                <a:tab algn="l" pos="4624560"/>
                <a:tab algn="l" pos="5073480"/>
                <a:tab algn="l" pos="5522760"/>
                <a:tab algn="l" pos="5972040"/>
                <a:tab algn="l" pos="6421320"/>
                <a:tab algn="l" pos="6870600"/>
                <a:tab algn="l" pos="7319880"/>
                <a:tab algn="l" pos="7769160"/>
                <a:tab algn="l" pos="8218440"/>
                <a:tab algn="l" pos="8667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361309"/>
                </a:solidFill>
                <a:latin typeface="Times New Roman"/>
              </a:rPr>
              <a:t>Сопровождение детей с тяжелыми и множественными нарушениями в развитии в условиях дошкольного отделения инклюзивного образовательного учреждения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258920" y="404280"/>
            <a:ext cx="75787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5000" anchor="t">
            <a:noAutofit/>
          </a:bodyPr>
          <a:p>
            <a:pPr marL="270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000"/>
                <a:tab algn="l" pos="131760"/>
                <a:tab algn="l" pos="581040"/>
                <a:tab algn="l" pos="1030320"/>
                <a:tab algn="l" pos="1479600"/>
                <a:tab algn="l" pos="1928880"/>
                <a:tab algn="l" pos="2378160"/>
                <a:tab algn="l" pos="2827440"/>
                <a:tab algn="l" pos="3276720"/>
                <a:tab algn="l" pos="3726000"/>
                <a:tab algn="l" pos="4175280"/>
                <a:tab algn="l" pos="4624560"/>
                <a:tab algn="l" pos="5073480"/>
                <a:tab algn="l" pos="5522760"/>
                <a:tab algn="l" pos="5972040"/>
                <a:tab algn="l" pos="6421320"/>
                <a:tab algn="l" pos="6870600"/>
                <a:tab algn="l" pos="7319880"/>
                <a:tab algn="l" pos="7769160"/>
                <a:tab algn="l" pos="8218440"/>
                <a:tab algn="l" pos="8667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0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000"/>
                <a:tab algn="l" pos="131760"/>
                <a:tab algn="l" pos="581040"/>
                <a:tab algn="l" pos="1030320"/>
                <a:tab algn="l" pos="1479600"/>
                <a:tab algn="l" pos="1928880"/>
                <a:tab algn="l" pos="2378160"/>
                <a:tab algn="l" pos="2827440"/>
                <a:tab algn="l" pos="3276720"/>
                <a:tab algn="l" pos="3726000"/>
                <a:tab algn="l" pos="4175280"/>
                <a:tab algn="l" pos="4624560"/>
                <a:tab algn="l" pos="5073480"/>
                <a:tab algn="l" pos="5522760"/>
                <a:tab algn="l" pos="5972040"/>
                <a:tab algn="l" pos="6421320"/>
                <a:tab algn="l" pos="6870600"/>
                <a:tab algn="l" pos="7319880"/>
                <a:tab algn="l" pos="7769160"/>
                <a:tab algn="l" pos="8218440"/>
                <a:tab algn="l" pos="8667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0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000"/>
                <a:tab algn="l" pos="131760"/>
                <a:tab algn="l" pos="581040"/>
                <a:tab algn="l" pos="1030320"/>
                <a:tab algn="l" pos="1479600"/>
                <a:tab algn="l" pos="1928880"/>
                <a:tab algn="l" pos="2378160"/>
                <a:tab algn="l" pos="2827440"/>
                <a:tab algn="l" pos="3276720"/>
                <a:tab algn="l" pos="3726000"/>
                <a:tab algn="l" pos="4175280"/>
                <a:tab algn="l" pos="4624560"/>
                <a:tab algn="l" pos="5073480"/>
                <a:tab algn="l" pos="5522760"/>
                <a:tab algn="l" pos="5972040"/>
                <a:tab algn="l" pos="6421320"/>
                <a:tab algn="l" pos="6870600"/>
                <a:tab algn="l" pos="7319880"/>
                <a:tab algn="l" pos="7769160"/>
                <a:tab algn="l" pos="8218440"/>
                <a:tab algn="l" pos="8667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61309"/>
                </a:solidFill>
                <a:latin typeface="Times New Roman"/>
              </a:rPr>
              <a:t>Множественное нарушение – это не сумма дефектов, а многофункциональное наруш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000"/>
                <a:tab algn="l" pos="131760"/>
                <a:tab algn="l" pos="581040"/>
                <a:tab algn="l" pos="1030320"/>
                <a:tab algn="l" pos="1479600"/>
                <a:tab algn="l" pos="1928880"/>
                <a:tab algn="l" pos="2378160"/>
                <a:tab algn="l" pos="2827440"/>
                <a:tab algn="l" pos="3276720"/>
                <a:tab algn="l" pos="3726000"/>
                <a:tab algn="l" pos="4175280"/>
                <a:tab algn="l" pos="4624560"/>
                <a:tab algn="l" pos="5073480"/>
                <a:tab algn="l" pos="5522760"/>
                <a:tab algn="l" pos="5972040"/>
                <a:tab algn="l" pos="6421320"/>
                <a:tab algn="l" pos="6870600"/>
                <a:tab algn="l" pos="7319880"/>
                <a:tab algn="l" pos="7769160"/>
                <a:tab algn="l" pos="8218440"/>
                <a:tab algn="l" pos="8667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000"/>
                <a:tab algn="l" pos="131760"/>
                <a:tab algn="l" pos="581040"/>
                <a:tab algn="l" pos="1030320"/>
                <a:tab algn="l" pos="1479600"/>
                <a:tab algn="l" pos="1928880"/>
                <a:tab algn="l" pos="2378160"/>
                <a:tab algn="l" pos="2827440"/>
                <a:tab algn="l" pos="3276720"/>
                <a:tab algn="l" pos="3726000"/>
                <a:tab algn="l" pos="4175280"/>
                <a:tab algn="l" pos="4624560"/>
                <a:tab algn="l" pos="5073480"/>
                <a:tab algn="l" pos="5522760"/>
                <a:tab algn="l" pos="5972040"/>
                <a:tab algn="l" pos="6421320"/>
                <a:tab algn="l" pos="6870600"/>
                <a:tab algn="l" pos="7319880"/>
                <a:tab algn="l" pos="7769160"/>
                <a:tab algn="l" pos="8218440"/>
                <a:tab algn="l" pos="8667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61309"/>
                </a:solidFill>
                <a:latin typeface="Times New Roman"/>
              </a:rPr>
              <a:t>К множественным нарушениям развития относят различные комбинации сенсорных, эмоционально-волевых, интеллектуальных, двигательных нарушени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331640" y="259920"/>
            <a:ext cx="750708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5000" anchor="t">
            <a:noAutofit/>
          </a:bodyPr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000"/>
                <a:tab algn="l" pos="131760"/>
                <a:tab algn="l" pos="581040"/>
                <a:tab algn="l" pos="1030320"/>
                <a:tab algn="l" pos="1479600"/>
                <a:tab algn="l" pos="1928880"/>
                <a:tab algn="l" pos="2378160"/>
                <a:tab algn="l" pos="2827440"/>
                <a:tab algn="l" pos="3276720"/>
                <a:tab algn="l" pos="3726000"/>
                <a:tab algn="l" pos="4175280"/>
                <a:tab algn="l" pos="4624560"/>
                <a:tab algn="l" pos="5073480"/>
                <a:tab algn="l" pos="5522760"/>
                <a:tab algn="l" pos="5972040"/>
                <a:tab algn="l" pos="6421320"/>
                <a:tab algn="l" pos="6870600"/>
                <a:tab algn="l" pos="7319880"/>
                <a:tab algn="l" pos="7769160"/>
                <a:tab algn="l" pos="8218440"/>
                <a:tab algn="l" pos="8667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61309"/>
                </a:solidFill>
                <a:latin typeface="Times New Roman"/>
              </a:rPr>
              <a:t>Основным в клинической картине тяжёлого и множественного нарушения является умственная отсталос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000"/>
                <a:tab algn="l" pos="131760"/>
                <a:tab algn="l" pos="581040"/>
                <a:tab algn="l" pos="1030320"/>
                <a:tab algn="l" pos="1479600"/>
                <a:tab algn="l" pos="1928880"/>
                <a:tab algn="l" pos="2378160"/>
                <a:tab algn="l" pos="2827440"/>
                <a:tab algn="l" pos="3276720"/>
                <a:tab algn="l" pos="3726000"/>
                <a:tab algn="l" pos="4175280"/>
                <a:tab algn="l" pos="4624560"/>
                <a:tab algn="l" pos="5073480"/>
                <a:tab algn="l" pos="5522760"/>
                <a:tab algn="l" pos="5972040"/>
                <a:tab algn="l" pos="6421320"/>
                <a:tab algn="l" pos="6870600"/>
                <a:tab algn="l" pos="7319880"/>
                <a:tab algn="l" pos="7769160"/>
                <a:tab algn="l" pos="8218440"/>
                <a:tab algn="l" pos="8667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61309"/>
                </a:solidFill>
                <a:latin typeface="Times New Roman"/>
              </a:rPr>
              <a:t>Кроме того, в разных сочетаниях выявляются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000"/>
                <a:tab algn="l" pos="131760"/>
                <a:tab algn="l" pos="581040"/>
                <a:tab algn="l" pos="1030320"/>
                <a:tab algn="l" pos="1479600"/>
                <a:tab algn="l" pos="1928880"/>
                <a:tab algn="l" pos="2378160"/>
                <a:tab algn="l" pos="2827440"/>
                <a:tab algn="l" pos="3276720"/>
                <a:tab algn="l" pos="3726000"/>
                <a:tab algn="l" pos="4175280"/>
                <a:tab algn="l" pos="4624560"/>
                <a:tab algn="l" pos="5073480"/>
                <a:tab algn="l" pos="5522760"/>
                <a:tab algn="l" pos="5972040"/>
                <a:tab algn="l" pos="6421320"/>
                <a:tab algn="l" pos="6870600"/>
                <a:tab algn="l" pos="7319880"/>
                <a:tab algn="l" pos="7769160"/>
                <a:tab algn="l" pos="8218440"/>
                <a:tab algn="l" pos="8667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61309"/>
                </a:solidFill>
                <a:latin typeface="Times New Roman"/>
              </a:rPr>
              <a:t>-двигательные нарушения (ДЦП разной формы и степени тяжести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000"/>
                <a:tab algn="l" pos="131760"/>
                <a:tab algn="l" pos="581040"/>
                <a:tab algn="l" pos="1030320"/>
                <a:tab algn="l" pos="1479600"/>
                <a:tab algn="l" pos="1928880"/>
                <a:tab algn="l" pos="2378160"/>
                <a:tab algn="l" pos="2827440"/>
                <a:tab algn="l" pos="3276720"/>
                <a:tab algn="l" pos="3726000"/>
                <a:tab algn="l" pos="4175280"/>
                <a:tab algn="l" pos="4624560"/>
                <a:tab algn="l" pos="5073480"/>
                <a:tab algn="l" pos="5522760"/>
                <a:tab algn="l" pos="5972040"/>
                <a:tab algn="l" pos="6421320"/>
                <a:tab algn="l" pos="6870600"/>
                <a:tab algn="l" pos="7319880"/>
                <a:tab algn="l" pos="7769160"/>
                <a:tab algn="l" pos="8218440"/>
                <a:tab algn="l" pos="8667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61309"/>
                </a:solidFill>
                <a:latin typeface="Times New Roman"/>
              </a:rPr>
              <a:t>-тяжелые нарушения реч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000"/>
                <a:tab algn="l" pos="131760"/>
                <a:tab algn="l" pos="581040"/>
                <a:tab algn="l" pos="1030320"/>
                <a:tab algn="l" pos="1479600"/>
                <a:tab algn="l" pos="1928880"/>
                <a:tab algn="l" pos="2378160"/>
                <a:tab algn="l" pos="2827440"/>
                <a:tab algn="l" pos="3276720"/>
                <a:tab algn="l" pos="3726000"/>
                <a:tab algn="l" pos="4175280"/>
                <a:tab algn="l" pos="4624560"/>
                <a:tab algn="l" pos="5073480"/>
                <a:tab algn="l" pos="5522760"/>
                <a:tab algn="l" pos="5972040"/>
                <a:tab algn="l" pos="6421320"/>
                <a:tab algn="l" pos="6870600"/>
                <a:tab algn="l" pos="7319880"/>
                <a:tab algn="l" pos="7769160"/>
                <a:tab algn="l" pos="8218440"/>
                <a:tab algn="l" pos="8667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61309"/>
                </a:solidFill>
                <a:latin typeface="Times New Roman"/>
              </a:rPr>
              <a:t>-нарушения функций анализаторных систем (зрения, слуха, тактильной чувствительности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000"/>
                <a:tab algn="l" pos="131760"/>
                <a:tab algn="l" pos="581040"/>
                <a:tab algn="l" pos="1030320"/>
                <a:tab algn="l" pos="1479600"/>
                <a:tab algn="l" pos="1928880"/>
                <a:tab algn="l" pos="2378160"/>
                <a:tab algn="l" pos="2827440"/>
                <a:tab algn="l" pos="3276720"/>
                <a:tab algn="l" pos="3726000"/>
                <a:tab algn="l" pos="4175280"/>
                <a:tab algn="l" pos="4624560"/>
                <a:tab algn="l" pos="5073480"/>
                <a:tab algn="l" pos="5522760"/>
                <a:tab algn="l" pos="5972040"/>
                <a:tab algn="l" pos="6421320"/>
                <a:tab algn="l" pos="6870600"/>
                <a:tab algn="l" pos="7319880"/>
                <a:tab algn="l" pos="7769160"/>
                <a:tab algn="l" pos="8218440"/>
                <a:tab algn="l" pos="8667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61309"/>
                </a:solidFill>
                <a:latin typeface="Times New Roman"/>
              </a:rPr>
              <a:t>-повышенная судорожная готовность (эписиндром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000"/>
                <a:tab algn="l" pos="131760"/>
                <a:tab algn="l" pos="581040"/>
                <a:tab algn="l" pos="1030320"/>
                <a:tab algn="l" pos="1479600"/>
                <a:tab algn="l" pos="1928880"/>
                <a:tab algn="l" pos="2378160"/>
                <a:tab algn="l" pos="2827440"/>
                <a:tab algn="l" pos="3276720"/>
                <a:tab algn="l" pos="3726000"/>
                <a:tab algn="l" pos="4175280"/>
                <a:tab algn="l" pos="4624560"/>
                <a:tab algn="l" pos="5073480"/>
                <a:tab algn="l" pos="5522760"/>
                <a:tab algn="l" pos="5972040"/>
                <a:tab algn="l" pos="6421320"/>
                <a:tab algn="l" pos="6870600"/>
                <a:tab algn="l" pos="7319880"/>
                <a:tab algn="l" pos="7769160"/>
                <a:tab algn="l" pos="8218440"/>
                <a:tab algn="l" pos="8667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61309"/>
                </a:solidFill>
                <a:latin typeface="Times New Roman"/>
              </a:rPr>
              <a:t>-расстройства эмоционально-волевой сферы (нарушения регуляции поведения и др.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000"/>
                <a:tab algn="l" pos="131760"/>
                <a:tab algn="l" pos="581040"/>
                <a:tab algn="l" pos="1030320"/>
                <a:tab algn="l" pos="1479600"/>
                <a:tab algn="l" pos="1928880"/>
                <a:tab algn="l" pos="2378160"/>
                <a:tab algn="l" pos="2827440"/>
                <a:tab algn="l" pos="3276720"/>
                <a:tab algn="l" pos="3726000"/>
                <a:tab algn="l" pos="4175280"/>
                <a:tab algn="l" pos="4624560"/>
                <a:tab algn="l" pos="5073480"/>
                <a:tab algn="l" pos="5522760"/>
                <a:tab algn="l" pos="5972040"/>
                <a:tab algn="l" pos="6421320"/>
                <a:tab algn="l" pos="6870600"/>
                <a:tab algn="l" pos="7319880"/>
                <a:tab algn="l" pos="7769160"/>
                <a:tab algn="l" pos="8218440"/>
                <a:tab algn="l" pos="8667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61309"/>
                </a:solidFill>
                <a:latin typeface="Times New Roman"/>
              </a:rPr>
              <a:t>-аутистические расстройства (стереотипные действия, нарушение коммуникации, взаимодействия, социального поведения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000"/>
                <a:tab algn="l" pos="131760"/>
                <a:tab algn="l" pos="581040"/>
                <a:tab algn="l" pos="1030320"/>
                <a:tab algn="l" pos="1479600"/>
                <a:tab algn="l" pos="1928880"/>
                <a:tab algn="l" pos="2378160"/>
                <a:tab algn="l" pos="2827440"/>
                <a:tab algn="l" pos="3276720"/>
                <a:tab algn="l" pos="3726000"/>
                <a:tab algn="l" pos="4175280"/>
                <a:tab algn="l" pos="4624560"/>
                <a:tab algn="l" pos="5073480"/>
                <a:tab algn="l" pos="5522760"/>
                <a:tab algn="l" pos="5972040"/>
                <a:tab algn="l" pos="6421320"/>
                <a:tab algn="l" pos="6870600"/>
                <a:tab algn="l" pos="7319880"/>
                <a:tab algn="l" pos="7769160"/>
                <a:tab algn="l" pos="8218440"/>
                <a:tab algn="l" pos="8667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258920" y="333000"/>
            <a:ext cx="757872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5000" anchor="t">
            <a:noAutofit/>
          </a:bodyPr>
          <a:p>
            <a:pPr marL="270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000"/>
                <a:tab algn="l" pos="131760"/>
                <a:tab algn="l" pos="581040"/>
                <a:tab algn="l" pos="1030320"/>
                <a:tab algn="l" pos="1479600"/>
                <a:tab algn="l" pos="1928880"/>
                <a:tab algn="l" pos="2378160"/>
                <a:tab algn="l" pos="2827440"/>
                <a:tab algn="l" pos="3276720"/>
                <a:tab algn="l" pos="3726000"/>
                <a:tab algn="l" pos="4175280"/>
                <a:tab algn="l" pos="4624560"/>
                <a:tab algn="l" pos="5073480"/>
                <a:tab algn="l" pos="5522760"/>
                <a:tab algn="l" pos="5972040"/>
                <a:tab algn="l" pos="6421320"/>
                <a:tab algn="l" pos="6870600"/>
                <a:tab algn="l" pos="7319880"/>
                <a:tab algn="l" pos="7769160"/>
                <a:tab algn="l" pos="8218440"/>
                <a:tab algn="l" pos="8667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800" spc="-1" strike="noStrike" u="sng">
                <a:solidFill>
                  <a:srgbClr val="361309"/>
                </a:solidFill>
                <a:uFillTx/>
                <a:latin typeface="Times New Roman"/>
              </a:rPr>
              <a:t>Основные направления педагогической работы,с детьми имеющими тяжелые и множественные наруш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000"/>
                <a:tab algn="l" pos="131760"/>
                <a:tab algn="l" pos="581040"/>
                <a:tab algn="l" pos="1030320"/>
                <a:tab algn="l" pos="1479600"/>
                <a:tab algn="l" pos="1928880"/>
                <a:tab algn="l" pos="2378160"/>
                <a:tab algn="l" pos="2827440"/>
                <a:tab algn="l" pos="3276720"/>
                <a:tab algn="l" pos="3726000"/>
                <a:tab algn="l" pos="4175280"/>
                <a:tab algn="l" pos="4624560"/>
                <a:tab algn="l" pos="5073480"/>
                <a:tab algn="l" pos="5522760"/>
                <a:tab algn="l" pos="5972040"/>
                <a:tab algn="l" pos="6421320"/>
                <a:tab algn="l" pos="6870600"/>
                <a:tab algn="l" pos="7319880"/>
                <a:tab algn="l" pos="7769160"/>
                <a:tab algn="l" pos="8218440"/>
                <a:tab algn="l" pos="8667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000"/>
                <a:tab algn="l" pos="131760"/>
                <a:tab algn="l" pos="581040"/>
                <a:tab algn="l" pos="1030320"/>
                <a:tab algn="l" pos="1479600"/>
                <a:tab algn="l" pos="1928880"/>
                <a:tab algn="l" pos="2378160"/>
                <a:tab algn="l" pos="2827440"/>
                <a:tab algn="l" pos="3276720"/>
                <a:tab algn="l" pos="3726000"/>
                <a:tab algn="l" pos="4175280"/>
                <a:tab algn="l" pos="4624560"/>
                <a:tab algn="l" pos="5073480"/>
                <a:tab algn="l" pos="5522760"/>
                <a:tab algn="l" pos="5972040"/>
                <a:tab algn="l" pos="6421320"/>
                <a:tab algn="l" pos="6870600"/>
                <a:tab algn="l" pos="7319880"/>
                <a:tab algn="l" pos="7769160"/>
                <a:tab algn="l" pos="8218440"/>
                <a:tab algn="l" pos="8667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- формирование представлений о себе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000"/>
                <a:tab algn="l" pos="131760"/>
                <a:tab algn="l" pos="581040"/>
                <a:tab algn="l" pos="1030320"/>
                <a:tab algn="l" pos="1479600"/>
                <a:tab algn="l" pos="1928880"/>
                <a:tab algn="l" pos="2378160"/>
                <a:tab algn="l" pos="2827440"/>
                <a:tab algn="l" pos="3276720"/>
                <a:tab algn="l" pos="3726000"/>
                <a:tab algn="l" pos="4175280"/>
                <a:tab algn="l" pos="4624560"/>
                <a:tab algn="l" pos="5073480"/>
                <a:tab algn="l" pos="5522760"/>
                <a:tab algn="l" pos="5972040"/>
                <a:tab algn="l" pos="6421320"/>
                <a:tab algn="l" pos="6870600"/>
                <a:tab algn="l" pos="7319880"/>
                <a:tab algn="l" pos="7769160"/>
                <a:tab algn="l" pos="8218440"/>
                <a:tab algn="l" pos="8667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000"/>
                <a:tab algn="l" pos="131760"/>
                <a:tab algn="l" pos="581040"/>
                <a:tab algn="l" pos="1030320"/>
                <a:tab algn="l" pos="1479600"/>
                <a:tab algn="l" pos="1928880"/>
                <a:tab algn="l" pos="2378160"/>
                <a:tab algn="l" pos="2827440"/>
                <a:tab algn="l" pos="3276720"/>
                <a:tab algn="l" pos="3726000"/>
                <a:tab algn="l" pos="4175280"/>
                <a:tab algn="l" pos="4624560"/>
                <a:tab algn="l" pos="5073480"/>
                <a:tab algn="l" pos="5522760"/>
                <a:tab algn="l" pos="5972040"/>
                <a:tab algn="l" pos="6421320"/>
                <a:tab algn="l" pos="6870600"/>
                <a:tab algn="l" pos="7319880"/>
                <a:tab algn="l" pos="7769160"/>
                <a:tab algn="l" pos="8218440"/>
                <a:tab algn="l" pos="8667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- формирование навыков самообслуживания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000"/>
                <a:tab algn="l" pos="131760"/>
                <a:tab algn="l" pos="581040"/>
                <a:tab algn="l" pos="1030320"/>
                <a:tab algn="l" pos="1479600"/>
                <a:tab algn="l" pos="1928880"/>
                <a:tab algn="l" pos="2378160"/>
                <a:tab algn="l" pos="2827440"/>
                <a:tab algn="l" pos="3276720"/>
                <a:tab algn="l" pos="3726000"/>
                <a:tab algn="l" pos="4175280"/>
                <a:tab algn="l" pos="4624560"/>
                <a:tab algn="l" pos="5073480"/>
                <a:tab algn="l" pos="5522760"/>
                <a:tab algn="l" pos="5972040"/>
                <a:tab algn="l" pos="6421320"/>
                <a:tab algn="l" pos="6870600"/>
                <a:tab algn="l" pos="7319880"/>
                <a:tab algn="l" pos="7769160"/>
                <a:tab algn="l" pos="8218440"/>
                <a:tab algn="l" pos="8667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000"/>
                <a:tab algn="l" pos="131760"/>
                <a:tab algn="l" pos="581040"/>
                <a:tab algn="l" pos="1030320"/>
                <a:tab algn="l" pos="1479600"/>
                <a:tab algn="l" pos="1928880"/>
                <a:tab algn="l" pos="2378160"/>
                <a:tab algn="l" pos="2827440"/>
                <a:tab algn="l" pos="3276720"/>
                <a:tab algn="l" pos="3726000"/>
                <a:tab algn="l" pos="4175280"/>
                <a:tab algn="l" pos="4624560"/>
                <a:tab algn="l" pos="5073480"/>
                <a:tab algn="l" pos="5522760"/>
                <a:tab algn="l" pos="5972040"/>
                <a:tab algn="l" pos="6421320"/>
                <a:tab algn="l" pos="6870600"/>
                <a:tab algn="l" pos="7319880"/>
                <a:tab algn="l" pos="7769160"/>
                <a:tab algn="l" pos="8218440"/>
                <a:tab algn="l" pos="8667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- формирование представлений об окружающем мире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000"/>
                <a:tab algn="l" pos="131760"/>
                <a:tab algn="l" pos="581040"/>
                <a:tab algn="l" pos="1030320"/>
                <a:tab algn="l" pos="1479600"/>
                <a:tab algn="l" pos="1928880"/>
                <a:tab algn="l" pos="2378160"/>
                <a:tab algn="l" pos="2827440"/>
                <a:tab algn="l" pos="3276720"/>
                <a:tab algn="l" pos="3726000"/>
                <a:tab algn="l" pos="4175280"/>
                <a:tab algn="l" pos="4624560"/>
                <a:tab algn="l" pos="5073480"/>
                <a:tab algn="l" pos="5522760"/>
                <a:tab algn="l" pos="5972040"/>
                <a:tab algn="l" pos="6421320"/>
                <a:tab algn="l" pos="6870600"/>
                <a:tab algn="l" pos="7319880"/>
                <a:tab algn="l" pos="7769160"/>
                <a:tab algn="l" pos="8218440"/>
                <a:tab algn="l" pos="8667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000"/>
                <a:tab algn="l" pos="131760"/>
                <a:tab algn="l" pos="581040"/>
                <a:tab algn="l" pos="1030320"/>
                <a:tab algn="l" pos="1479600"/>
                <a:tab algn="l" pos="1928880"/>
                <a:tab algn="l" pos="2378160"/>
                <a:tab algn="l" pos="2827440"/>
                <a:tab algn="l" pos="3276720"/>
                <a:tab algn="l" pos="3726000"/>
                <a:tab algn="l" pos="4175280"/>
                <a:tab algn="l" pos="4624560"/>
                <a:tab algn="l" pos="5073480"/>
                <a:tab algn="l" pos="5522760"/>
                <a:tab algn="l" pos="5972040"/>
                <a:tab algn="l" pos="6421320"/>
                <a:tab algn="l" pos="6870600"/>
                <a:tab algn="l" pos="7319880"/>
                <a:tab algn="l" pos="7769160"/>
                <a:tab algn="l" pos="8218440"/>
                <a:tab algn="l" pos="8667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- развитие коммуникации и общения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000"/>
                <a:tab algn="l" pos="131760"/>
                <a:tab algn="l" pos="581040"/>
                <a:tab algn="l" pos="1030320"/>
                <a:tab algn="l" pos="1479600"/>
                <a:tab algn="l" pos="1928880"/>
                <a:tab algn="l" pos="2378160"/>
                <a:tab algn="l" pos="2827440"/>
                <a:tab algn="l" pos="3276720"/>
                <a:tab algn="l" pos="3726000"/>
                <a:tab algn="l" pos="4175280"/>
                <a:tab algn="l" pos="4624560"/>
                <a:tab algn="l" pos="5073480"/>
                <a:tab algn="l" pos="5522760"/>
                <a:tab algn="l" pos="5972040"/>
                <a:tab algn="l" pos="6421320"/>
                <a:tab algn="l" pos="6870600"/>
                <a:tab algn="l" pos="7319880"/>
                <a:tab algn="l" pos="7769160"/>
                <a:tab algn="l" pos="8218440"/>
                <a:tab algn="l" pos="8667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000"/>
                <a:tab algn="l" pos="131760"/>
                <a:tab algn="l" pos="581040"/>
                <a:tab algn="l" pos="1030320"/>
                <a:tab algn="l" pos="1479600"/>
                <a:tab algn="l" pos="1928880"/>
                <a:tab algn="l" pos="2378160"/>
                <a:tab algn="l" pos="2827440"/>
                <a:tab algn="l" pos="3276720"/>
                <a:tab algn="l" pos="3726000"/>
                <a:tab algn="l" pos="4175280"/>
                <a:tab algn="l" pos="4624560"/>
                <a:tab algn="l" pos="5073480"/>
                <a:tab algn="l" pos="5522760"/>
                <a:tab algn="l" pos="5972040"/>
                <a:tab algn="l" pos="6421320"/>
                <a:tab algn="l" pos="6870600"/>
                <a:tab algn="l" pos="7319880"/>
                <a:tab algn="l" pos="7769160"/>
                <a:tab algn="l" pos="8218440"/>
                <a:tab algn="l" pos="8667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- развитие предметно-практической, игровой деятельности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431720" y="836280"/>
            <a:ext cx="72435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5000" anchor="t">
            <a:noAutofit/>
          </a:bodyPr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000"/>
                <a:tab algn="l" pos="131760"/>
                <a:tab algn="l" pos="581040"/>
                <a:tab algn="l" pos="1030320"/>
                <a:tab algn="l" pos="1479600"/>
                <a:tab algn="l" pos="1928880"/>
                <a:tab algn="l" pos="2378160"/>
                <a:tab algn="l" pos="2827440"/>
                <a:tab algn="l" pos="3276720"/>
                <a:tab algn="l" pos="3726000"/>
                <a:tab algn="l" pos="4175280"/>
                <a:tab algn="l" pos="4624560"/>
                <a:tab algn="l" pos="5073480"/>
                <a:tab algn="l" pos="5522760"/>
                <a:tab algn="l" pos="5972040"/>
                <a:tab algn="l" pos="6421320"/>
                <a:tab algn="l" pos="6870600"/>
                <a:tab algn="l" pos="7319880"/>
                <a:tab algn="l" pos="7769160"/>
                <a:tab algn="l" pos="8218440"/>
                <a:tab algn="l" pos="8667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361309"/>
                </a:solidFill>
                <a:latin typeface="Gill Sans MT"/>
              </a:rPr>
              <a:t>Формирование</a:t>
            </a:r>
            <a:r>
              <a:rPr b="0" lang="ru-RU" sz="2400" spc="-1" strike="noStrike">
                <a:solidFill>
                  <a:srgbClr val="361309"/>
                </a:solidFill>
                <a:latin typeface="Gill Sans MT"/>
              </a:rPr>
              <a:t> </a:t>
            </a:r>
            <a:r>
              <a:rPr b="1" lang="ru-RU" sz="2400" spc="-1" strike="noStrike">
                <a:solidFill>
                  <a:srgbClr val="361309"/>
                </a:solidFill>
                <a:latin typeface="Gill Sans MT"/>
              </a:rPr>
              <a:t>представлений о себе</a:t>
            </a:r>
            <a:r>
              <a:rPr b="0" lang="ru-RU" sz="2400" spc="-1" strike="noStrike">
                <a:solidFill>
                  <a:srgbClr val="361309"/>
                </a:solidFill>
                <a:latin typeface="Gill Sans MT"/>
              </a:rPr>
              <a:t> включа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000"/>
                <a:tab algn="l" pos="131760"/>
                <a:tab algn="l" pos="581040"/>
                <a:tab algn="l" pos="1030320"/>
                <a:tab algn="l" pos="1479600"/>
                <a:tab algn="l" pos="1928880"/>
                <a:tab algn="l" pos="2378160"/>
                <a:tab algn="l" pos="2827440"/>
                <a:tab algn="l" pos="3276720"/>
                <a:tab algn="l" pos="3726000"/>
                <a:tab algn="l" pos="4175280"/>
                <a:tab algn="l" pos="4624560"/>
                <a:tab algn="l" pos="5073480"/>
                <a:tab algn="l" pos="5522760"/>
                <a:tab algn="l" pos="5972040"/>
                <a:tab algn="l" pos="6421320"/>
                <a:tab algn="l" pos="6870600"/>
                <a:tab algn="l" pos="7319880"/>
                <a:tab algn="l" pos="7769160"/>
                <a:tab algn="l" pos="8218440"/>
                <a:tab algn="l" pos="8667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361309"/>
                </a:solidFill>
                <a:latin typeface="Gill Sans MT"/>
              </a:rPr>
              <a:t>- познание собственного тела</a:t>
            </a:r>
            <a:r>
              <a:rPr b="0" lang="ru-RU" sz="2400" spc="-1" strike="noStrike">
                <a:solidFill>
                  <a:srgbClr val="361309"/>
                </a:solidFill>
                <a:latin typeface="Gill Sans MT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000"/>
                <a:tab algn="l" pos="131760"/>
                <a:tab algn="l" pos="581040"/>
                <a:tab algn="l" pos="1030320"/>
                <a:tab algn="l" pos="1479600"/>
                <a:tab algn="l" pos="1928880"/>
                <a:tab algn="l" pos="2378160"/>
                <a:tab algn="l" pos="2827440"/>
                <a:tab algn="l" pos="3276720"/>
                <a:tab algn="l" pos="3726000"/>
                <a:tab algn="l" pos="4175280"/>
                <a:tab algn="l" pos="4624560"/>
                <a:tab algn="l" pos="5073480"/>
                <a:tab algn="l" pos="5522760"/>
                <a:tab algn="l" pos="5972040"/>
                <a:tab algn="l" pos="6421320"/>
                <a:tab algn="l" pos="6870600"/>
                <a:tab algn="l" pos="7319880"/>
                <a:tab algn="l" pos="7769160"/>
                <a:tab algn="l" pos="8218440"/>
                <a:tab algn="l" pos="8667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61309"/>
                </a:solidFill>
                <a:latin typeface="Gill Sans MT"/>
              </a:rPr>
              <a:t>В рамках работы над познанием собственного тела развиваетс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000"/>
                <a:tab algn="l" pos="131760"/>
                <a:tab algn="l" pos="581040"/>
                <a:tab algn="l" pos="1030320"/>
                <a:tab algn="l" pos="1479600"/>
                <a:tab algn="l" pos="1928880"/>
                <a:tab algn="l" pos="2378160"/>
                <a:tab algn="l" pos="2827440"/>
                <a:tab algn="l" pos="3276720"/>
                <a:tab algn="l" pos="3726000"/>
                <a:tab algn="l" pos="4175280"/>
                <a:tab algn="l" pos="4624560"/>
                <a:tab algn="l" pos="5073480"/>
                <a:tab algn="l" pos="5522760"/>
                <a:tab algn="l" pos="5972040"/>
                <a:tab algn="l" pos="6421320"/>
                <a:tab algn="l" pos="6870600"/>
                <a:tab algn="l" pos="7319880"/>
                <a:tab algn="l" pos="7769160"/>
                <a:tab algn="l" pos="8218440"/>
                <a:tab algn="l" pos="8667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61309"/>
                </a:solidFill>
                <a:latin typeface="Gill Sans MT"/>
              </a:rPr>
              <a:t> </a:t>
            </a:r>
            <a:r>
              <a:rPr b="0" lang="ru-RU" sz="2400" spc="-1" strike="noStrike">
                <a:solidFill>
                  <a:srgbClr val="361309"/>
                </a:solidFill>
                <a:latin typeface="Gill Sans MT"/>
              </a:rPr>
              <a:t>	</a:t>
            </a:r>
            <a:r>
              <a:rPr b="0" lang="ru-RU" sz="2400" spc="-1" strike="noStrike">
                <a:solidFill>
                  <a:srgbClr val="361309"/>
                </a:solidFill>
                <a:latin typeface="Gill Sans MT"/>
              </a:rPr>
              <a:t>-восприятие своего тела, ориентировка в схеме собственного тел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000"/>
                <a:tab algn="l" pos="131760"/>
                <a:tab algn="l" pos="581040"/>
                <a:tab algn="l" pos="1030320"/>
                <a:tab algn="l" pos="1479600"/>
                <a:tab algn="l" pos="1928880"/>
                <a:tab algn="l" pos="2378160"/>
                <a:tab algn="l" pos="2827440"/>
                <a:tab algn="l" pos="3276720"/>
                <a:tab algn="l" pos="3726000"/>
                <a:tab algn="l" pos="4175280"/>
                <a:tab algn="l" pos="4624560"/>
                <a:tab algn="l" pos="5073480"/>
                <a:tab algn="l" pos="5522760"/>
                <a:tab algn="l" pos="5972040"/>
                <a:tab algn="l" pos="6421320"/>
                <a:tab algn="l" pos="6870600"/>
                <a:tab algn="l" pos="7319880"/>
                <a:tab algn="l" pos="7769160"/>
                <a:tab algn="l" pos="8218440"/>
                <a:tab algn="l" pos="8667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61309"/>
                </a:solidFill>
                <a:latin typeface="Gill Sans MT"/>
              </a:rPr>
              <a:t>	</a:t>
            </a:r>
            <a:r>
              <a:rPr b="0" lang="ru-RU" sz="2400" spc="-1" strike="noStrike">
                <a:solidFill>
                  <a:srgbClr val="361309"/>
                </a:solidFill>
                <a:latin typeface="Gill Sans MT"/>
              </a:rPr>
              <a:t>-формируется представление о своей внешност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000"/>
                <a:tab algn="l" pos="131760"/>
                <a:tab algn="l" pos="581040"/>
                <a:tab algn="l" pos="1030320"/>
                <a:tab algn="l" pos="1479600"/>
                <a:tab algn="l" pos="1928880"/>
                <a:tab algn="l" pos="2378160"/>
                <a:tab algn="l" pos="2827440"/>
                <a:tab algn="l" pos="3276720"/>
                <a:tab algn="l" pos="3726000"/>
                <a:tab algn="l" pos="4175280"/>
                <a:tab algn="l" pos="4624560"/>
                <a:tab algn="l" pos="5073480"/>
                <a:tab algn="l" pos="5522760"/>
                <a:tab algn="l" pos="5972040"/>
                <a:tab algn="l" pos="6421320"/>
                <a:tab algn="l" pos="6870600"/>
                <a:tab algn="l" pos="7319880"/>
                <a:tab algn="l" pos="7769160"/>
                <a:tab algn="l" pos="8218440"/>
                <a:tab algn="l" pos="8667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61309"/>
                </a:solidFill>
                <a:latin typeface="Gill Sans MT"/>
              </a:rPr>
              <a:t>	</a:t>
            </a:r>
            <a:r>
              <a:rPr b="0" lang="ru-RU" sz="2400" spc="-1" strike="noStrike">
                <a:solidFill>
                  <a:srgbClr val="361309"/>
                </a:solidFill>
                <a:latin typeface="Gill Sans MT"/>
              </a:rPr>
              <a:t>-происходит развитие сенсорных анализаторов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000"/>
                <a:tab algn="l" pos="131760"/>
                <a:tab algn="l" pos="581040"/>
                <a:tab algn="l" pos="1030320"/>
                <a:tab algn="l" pos="1479600"/>
                <a:tab algn="l" pos="1928880"/>
                <a:tab algn="l" pos="2378160"/>
                <a:tab algn="l" pos="2827440"/>
                <a:tab algn="l" pos="3276720"/>
                <a:tab algn="l" pos="3726000"/>
                <a:tab algn="l" pos="4175280"/>
                <a:tab algn="l" pos="4624560"/>
                <a:tab algn="l" pos="5073480"/>
                <a:tab algn="l" pos="5522760"/>
                <a:tab algn="l" pos="5972040"/>
                <a:tab algn="l" pos="6421320"/>
                <a:tab algn="l" pos="6870600"/>
                <a:tab algn="l" pos="7319880"/>
                <a:tab algn="l" pos="7769160"/>
                <a:tab algn="l" pos="8218440"/>
                <a:tab algn="l" pos="8667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361309"/>
                </a:solidFill>
                <a:latin typeface="Gill Sans MT"/>
              </a:rPr>
              <a:t>- познание себя как лич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000"/>
                <a:tab algn="l" pos="131760"/>
                <a:tab algn="l" pos="581040"/>
                <a:tab algn="l" pos="1030320"/>
                <a:tab algn="l" pos="1479600"/>
                <a:tab algn="l" pos="1928880"/>
                <a:tab algn="l" pos="2378160"/>
                <a:tab algn="l" pos="2827440"/>
                <a:tab algn="l" pos="3276720"/>
                <a:tab algn="l" pos="3726000"/>
                <a:tab algn="l" pos="4175280"/>
                <a:tab algn="l" pos="4624560"/>
                <a:tab algn="l" pos="5073480"/>
                <a:tab algn="l" pos="5522760"/>
                <a:tab algn="l" pos="5972040"/>
                <a:tab algn="l" pos="6421320"/>
                <a:tab algn="l" pos="6870600"/>
                <a:tab algn="l" pos="7319880"/>
                <a:tab algn="l" pos="7769160"/>
                <a:tab algn="l" pos="8218440"/>
                <a:tab algn="l" pos="8667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000"/>
                <a:tab algn="l" pos="131760"/>
                <a:tab algn="l" pos="581040"/>
                <a:tab algn="l" pos="1030320"/>
                <a:tab algn="l" pos="1479600"/>
                <a:tab algn="l" pos="1928880"/>
                <a:tab algn="l" pos="2378160"/>
                <a:tab algn="l" pos="2827440"/>
                <a:tab algn="l" pos="3276720"/>
                <a:tab algn="l" pos="3726000"/>
                <a:tab algn="l" pos="4175280"/>
                <a:tab algn="l" pos="4624560"/>
                <a:tab algn="l" pos="5073480"/>
                <a:tab algn="l" pos="5522760"/>
                <a:tab algn="l" pos="5972040"/>
                <a:tab algn="l" pos="6421320"/>
                <a:tab algn="l" pos="6870600"/>
                <a:tab algn="l" pos="7319880"/>
                <a:tab algn="l" pos="7769160"/>
                <a:tab algn="l" pos="8218440"/>
                <a:tab algn="l" pos="8667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619280" y="6093000"/>
            <a:ext cx="1800360" cy="6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Круг. Видео №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572314"/>
                </a:solidFill>
                <a:latin typeface="Gill Sans MT"/>
              </a:rPr>
              <a:t>Формирование представлений об окружающем мире</a:t>
            </a:r>
            <a:r>
              <a:rPr b="0" lang="ru-RU" sz="2400" spc="-1" strike="noStrike">
                <a:solidFill>
                  <a:srgbClr val="572314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"/>
          <p:cNvSpPr/>
          <p:nvPr/>
        </p:nvSpPr>
        <p:spPr>
          <a:xfrm>
            <a:off x="1434960" y="1447920"/>
            <a:ext cx="749808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65040" indent="-279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Включает в себ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79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- ознакомление с миром природ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79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- формирование представлений об объектах окружающего мир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79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- сенсорное развит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79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- формирование элементарных математических представл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476360" y="5518080"/>
            <a:ext cx="2735280" cy="6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Видео Соня, Варя, Фед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572314"/>
                </a:solidFill>
                <a:latin typeface="Gill Sans MT"/>
              </a:rPr>
              <a:t>Развитие коммуникации и общения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" name=""/>
          <p:cNvSpPr/>
          <p:nvPr/>
        </p:nvSpPr>
        <p:spPr>
          <a:xfrm>
            <a:off x="1434960" y="1447920"/>
            <a:ext cx="7498080" cy="29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65040" indent="-2793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- обучение умению вступать в </a:t>
            </a:r>
            <a:r>
              <a:rPr b="1" lang="ru-RU" sz="2400" spc="-1" strike="noStrike">
                <a:solidFill>
                  <a:srgbClr val="000000"/>
                </a:solidFill>
                <a:latin typeface="Gill Sans MT"/>
              </a:rPr>
              <a:t>продуктивный </a:t>
            </a: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 контакт и поддерживать его (используя невербальные и вербальные формы, технические средств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793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- соблюдать общепринятые правила общ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332000" y="5518080"/>
            <a:ext cx="31687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Видео Кирил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572314"/>
                </a:solidFill>
                <a:latin typeface="Gill Sans MT"/>
              </a:rPr>
              <a:t>Развитие предметно практической, игровой деятельности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"/>
          <p:cNvSpPr/>
          <p:nvPr/>
        </p:nvSpPr>
        <p:spPr>
          <a:xfrm>
            <a:off x="1434960" y="1447920"/>
            <a:ext cx="74980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65040" indent="-279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У детей формируются следующие </a:t>
            </a:r>
            <a:r>
              <a:rPr b="1" lang="ru-RU" sz="2400" spc="-1" strike="noStrike">
                <a:solidFill>
                  <a:srgbClr val="000000"/>
                </a:solidFill>
                <a:latin typeface="Gill Sans MT"/>
              </a:rPr>
              <a:t>навыки и умения</a:t>
            </a: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79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- захватывать и удерживать предмет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79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- совершать специфические направленные манипуляции с предмето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79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- различать предметы по их внешним и функциональным свойствам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79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-  использовать предметы в соответствии с их функциональным назначение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79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-  формировать культурно-фиксированные действия с игрушка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79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-  формировать цепочку игровых действ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572314"/>
                </a:solidFill>
                <a:latin typeface="Gill Sans MT"/>
              </a:rPr>
              <a:t>Формирование навыков самообслуживания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"/>
          <p:cNvSpPr/>
          <p:nvPr/>
        </p:nvSpPr>
        <p:spPr>
          <a:xfrm>
            <a:off x="1434960" y="1447920"/>
            <a:ext cx="74980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65040" indent="-279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- умение сообщать о своих потребностях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79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- выполнять действия, направленные на их удовлетворение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79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- соблюдать гигиенические нормы, содержать в чистоте окружающее пространств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18T04:02:06Z</dcterms:created>
  <dc:creator>сохацкая</dc:creator>
  <dc:description/>
  <dc:language>en-US</dc:language>
  <cp:lastModifiedBy/>
  <dcterms:modified xsi:type="dcterms:W3CDTF">2018-06-25T08:37:05Z</dcterms:modified>
  <cp:revision>19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HiddenSlides">
    <vt:r8>0</vt:r8>
  </property>
  <property fmtid="{D5CDD505-2E9C-101B-9397-08002B2CF9AE}" pid="3" name="HyperlinksChanged">
    <vt:bool>0</vt:bool>
  </property>
  <property fmtid="{D5CDD505-2E9C-101B-9397-08002B2CF9AE}" pid="4" name="LinksUpToDate">
    <vt:bool>0</vt:bool>
  </property>
  <property fmtid="{D5CDD505-2E9C-101B-9397-08002B2CF9AE}" pid="5" name="MMClips">
    <vt:r8>0</vt:r8>
  </property>
  <property fmtid="{D5CDD505-2E9C-101B-9397-08002B2CF9AE}" pid="6" name="Notes">
    <vt:r8>0</vt:r8>
  </property>
  <property fmtid="{D5CDD505-2E9C-101B-9397-08002B2CF9AE}" pid="7" name="PresentationFormat">
    <vt:lpwstr>Экран (4:3)</vt:lpwstr>
  </property>
  <property fmtid="{D5CDD505-2E9C-101B-9397-08002B2CF9AE}" pid="8" name="ScaleCrop">
    <vt:bool>0</vt:bool>
  </property>
  <property fmtid="{D5CDD505-2E9C-101B-9397-08002B2CF9AE}" pid="9" name="ShareDoc">
    <vt:bool>0</vt:bool>
  </property>
  <property fmtid="{D5CDD505-2E9C-101B-9397-08002B2CF9AE}" pid="10" name="Slides">
    <vt:r8>10</vt:r8>
  </property>
</Properties>
</file>