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085B-D167-40EE-A6C4-3A49EE561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7897-8F17-41D1-91D5-804C9CD4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767A-7562-4284-876C-7E95259DD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A7AC-6240-4F8D-A6D7-3C4ACEF6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39E6-D471-4E2C-88E4-110D2A94B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7238-889A-437B-A770-5301A1FB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35D3-AFF4-4EAB-ACDA-4D45510A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8B22-A328-42B8-A764-29E0C582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8098-246C-46ED-ACC9-5483BFA3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E1E5-FDDC-488E-88FA-CBDE27295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09FD-8127-411E-8B68-9D910C4C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700E-F469-47D9-AAD9-51E9DE1F2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1251-B706-421D-84A3-E5AC29C0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D5C2-9C04-4DC8-B0FD-8B965139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0212B-279C-4463-B1FA-411222453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6A29F-45C5-445D-B627-2069033C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B959-7D14-4795-BF6C-143B627FE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DB870-7D09-4E8B-9D21-EBEC4143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20AFB-DA45-4240-B331-A363FFB4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FBF20-120C-42F4-9AAA-1B05622A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5779B-D5E2-43F7-B5AB-139C4875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47114-B92D-4C94-BC50-59217CB8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45D5-1027-4532-B363-1774B7FD5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31D9E-B2DF-403B-99E7-0CA5AF85F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F6FE3-4B91-49BE-A859-9AC84DE3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E1B77-00FF-45E3-9C15-79463956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3E120-9E32-4B1A-A003-1978A44E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2CFD1-82FF-4935-BC83-A962148F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B1649-F6C0-41B7-8DC5-9727CCFA7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B88EC-0137-46EA-A181-FEF8DB702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33208-C455-4A98-8F3E-2280DDCD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25FB0-7D07-461B-B955-D5F2223F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4036D-3FA6-4CFD-814B-0486E459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E25D-2068-445C-8D2E-78F026A0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DA14A-FD88-4E57-8A73-DCC0F921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2AD53-75CC-48BA-A823-C9018FC0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FC2F4-D132-486C-86B8-093F7E851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DE8BC-858A-402E-A3B2-EAA09C55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EB604-8361-44A1-BD1C-A8EEDC57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4144B-C7BD-450B-B1C6-12489FFB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9178D-780A-46C7-B04D-0C3D364F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3EA75-5C7F-4D4E-908E-EA520869D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C3D51-F7AC-49CA-A5C5-4AA8D22E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F317A-1F67-4950-B6E6-6A190E2F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1194-67C3-495A-84B1-339970EF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AF57E-0E99-469D-911C-5F8576B83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DBDD88-8CE5-48F5-AF61-F10CF42C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FA3E0-88B4-4C15-9BE2-4C1F1D57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3EC5C-7DDC-47C9-AE83-BEEA198F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A9392-964B-4C15-8351-18261D95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E6876-ED35-489A-806F-B108D716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83F41-4E9C-40C4-8EB4-159D5216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C4E40-EBFE-4179-A7E8-C2B0C151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8AB49-DA53-4E50-A746-CA1926D4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BBFDF-2F34-4A27-A883-B3FF77FC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7934-89C3-4BC5-B25F-0BD08042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8E225-48FF-471A-8DB7-487F27DA7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DAEDC-A8CC-4042-BC24-646D19E6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DFC18-DDA6-48FD-ACA5-8794F05C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C5ACB-FF0E-4E32-90D7-C9FC2CD1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1BFE5-4112-4795-B8BC-4E1BF272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D8EB7-015E-4657-A417-31D1E786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06CB3-D566-4BA3-AA0C-82BFF92D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80D9A-1701-424D-ABFF-AC760BCE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D5867-A808-454A-976C-FA918476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D2020-A344-441E-85B6-F61F56A4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28E0-4C89-4AC1-AE5F-615961CD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6A0DF-D6E3-4658-A194-C7F825A7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C3935-8B29-4022-9429-4F1E081E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26602-3A81-4DEE-A375-C2346E90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C3C87-A13D-4653-B673-0B73D5BC9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60A9F-726A-447B-872E-77A9801D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83C62-DAAD-4270-887A-4E6614B9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C55FB-95B1-4482-9096-E16CF0DA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10F0EF-D5F0-46DC-AE76-BAB4D3BA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137B3-BCE1-40FE-A3F5-E5EAB9EE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1B571-AB94-4745-BEF0-958AC967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E86E-EBA4-4419-8130-E2ACB346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0894F-FDCC-4F99-8140-94A57504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D4FBE-4DC4-4726-B552-3ABB4187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04DC1-9062-4884-BD2B-C750832C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A91ADE-3EC8-422D-A7E8-4F2CCE7C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F9155B-C15F-4457-BE3C-D517F8D7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9E41-5D59-4306-AD55-08C906CE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65ED-9BCE-4FD2-A3F1-ADF9B17775C5}" type="datetime3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727B-F611-44C2-A7CB-41D0D9D14BF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95DE-AA13-4E5D-8C06-6F5F572A216F}" type="datetime3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56E4-630A-423F-9698-49AC66229F80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2DDB-8C3B-4BF1-9B4E-4F115D8B9147}" type="datetime3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5B0D-B778-4574-B420-7235A261152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33C2-D26E-4D4E-989C-5557A606BE27}" type="datetime3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06AD-8EEB-4C26-A294-232BD9B2747C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4431-02DA-414A-B9A2-781DF2940B1D}" type="datetime3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9B59-6552-4B95-B796-9E338F0610E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5D65-9C2B-46DC-A20B-48558C014C92}" type="datetime3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F557F-9B91-4988-B550-A495AADD744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030C0-788B-4836-AC7D-529D5797A975}" type="datetime3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5D5E0-8D5D-4F8E-83A6-01B0EE78B987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8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4920" y="533520"/>
            <a:ext cx="8077320" cy="43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Calibri"/>
              </a:rPr>
              <a:t>Личностно-ориентированное обучение как способ развития личности учащихся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032000" y="4328640"/>
            <a:ext cx="482436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Вахонина Ольга Владимировн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учитель истории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первой квалификационной категори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МБОУ Основная школа 24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Candara"/>
                <a:ea typeface="Trebuchet MS"/>
              </a:rPr>
              <a:t>Лидер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348000" y="1088640"/>
            <a:ext cx="550872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3e87"/>
                </a:solidFill>
                <a:latin typeface="Candara"/>
              </a:rPr>
              <a:t>Вы у</a:t>
            </a:r>
            <a:r>
              <a:rPr b="1" i="1" lang="ru-RU" sz="3200" spc="-1" strike="noStrike">
                <a:solidFill>
                  <a:srgbClr val="073e87"/>
                </a:solidFill>
                <a:latin typeface="Candara"/>
              </a:rPr>
              <a:t>веренны в себе, решительны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, но категоричны. </a:t>
            </a:r>
            <a:r>
              <a:rPr b="1" i="1" lang="ru-RU" sz="3200" spc="-1" strike="noStrike">
                <a:solidFill>
                  <a:srgbClr val="073e87"/>
                </a:solidFill>
                <a:latin typeface="Candara"/>
              </a:rPr>
              <a:t>Ваши способности связаны с искусством, сценой, ораторскими возможностями и лингвистикой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50" name="Picture 5" descr=""/>
          <p:cNvPicPr/>
          <p:nvPr/>
        </p:nvPicPr>
        <p:blipFill>
          <a:blip r:embed="rId1"/>
          <a:stretch/>
        </p:blipFill>
        <p:spPr>
          <a:xfrm>
            <a:off x="871560" y="2505240"/>
            <a:ext cx="2467080" cy="18475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142920" y="1773000"/>
            <a:ext cx="29527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во лидеру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456000" y="1665000"/>
            <a:ext cx="547200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усть в окошко постучится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 полночь добрый Новый год,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сем мечтам поможет сбыться,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частье, радость принесёт!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4680" y="2060640"/>
            <a:ext cx="331956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тер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600000" y="1196640"/>
            <a:ext cx="5256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Вы не угадываете результат, а его вычисляете путём логических рассуждений и последовательных действий. </a:t>
            </a:r>
            <a:r>
              <a:rPr b="0" i="1" lang="ru-RU" sz="3200" spc="-1" strike="noStrike">
                <a:solidFill>
                  <a:srgbClr val="073e87"/>
                </a:solidFill>
                <a:latin typeface="Candara"/>
              </a:rPr>
              <a:t>Отличает трудолюбие, усердие, методичность и скрупулезность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58" name="Picture 5" descr=""/>
          <p:cNvPicPr/>
          <p:nvPr/>
        </p:nvPicPr>
        <p:blipFill>
          <a:blip r:embed="rId1"/>
          <a:stretch/>
        </p:blipFill>
        <p:spPr>
          <a:xfrm>
            <a:off x="716040" y="2457360"/>
            <a:ext cx="27176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Candara"/>
                <a:ea typeface="Trebuchet MS"/>
              </a:rPr>
              <a:t>Мечтатель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0" name="Picture 5" descr=""/>
          <p:cNvPicPr/>
          <p:nvPr/>
        </p:nvPicPr>
        <p:blipFill>
          <a:blip r:embed="rId1"/>
          <a:stretch/>
        </p:blipFill>
        <p:spPr>
          <a:xfrm>
            <a:off x="1160640" y="26370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3924000" y="1015920"/>
            <a:ext cx="493236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 вас развиты </a:t>
            </a:r>
            <a:r>
              <a:rPr b="0" i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ворческие способности 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ы любите творить в своём мире грёз и фантазий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36840" y="36684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Candara"/>
                <a:ea typeface="Trebuchet MS"/>
              </a:rPr>
              <a:t>Гуманист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347640" y="836640"/>
            <a:ext cx="5364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ам важно окружение тех людей, которые вас любят и верят в ваши возможности. </a:t>
            </a:r>
            <a:r>
              <a:rPr b="1" i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ы чувствительны, ранимы и эмоциональны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. Умеете больше отдавать, чем принимать. Ваши способности связаны с </a:t>
            </a:r>
            <a:r>
              <a:rPr b="1" i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оммуникативностью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64" name="Picture 6" descr=""/>
          <p:cNvPicPr/>
          <p:nvPr/>
        </p:nvPicPr>
        <p:blipFill>
          <a:blip r:embed="rId1"/>
          <a:stretch/>
        </p:blipFill>
        <p:spPr>
          <a:xfrm>
            <a:off x="1042920" y="2386080"/>
            <a:ext cx="2190960" cy="20858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200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Candara"/>
                <a:ea typeface="Trebuchet MS"/>
              </a:rPr>
              <a:t>Искатель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7" name="Из_Мультфильмов_-_В_Лесу_Родилась_Ёлочка_(-).mp3" descr=""/>
          <p:cNvPicPr/>
          <p:nvPr/>
        </p:nvPicPr>
        <p:blipFill>
          <a:blip r:embed="rId1"/>
          <a:stretch/>
        </p:blipFill>
        <p:spPr>
          <a:xfrm>
            <a:off x="2282760" y="409716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 txBox="1"/>
          <p:nvPr/>
        </p:nvSpPr>
        <p:spPr>
          <a:xfrm>
            <a:off x="4645080" y="1557000"/>
            <a:ext cx="38224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ы находитесь в состоянии </a:t>
            </a:r>
            <a:r>
              <a:rPr b="1" i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ревоги, замешательства, внутренних проблем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и кризисные периоды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69" name="Picture 5" descr=""/>
          <p:cNvPicPr/>
          <p:nvPr/>
        </p:nvPicPr>
        <p:blipFill>
          <a:blip r:embed="rId2"/>
          <a:stretch/>
        </p:blipFill>
        <p:spPr>
          <a:xfrm>
            <a:off x="1287360" y="2349360"/>
            <a:ext cx="2665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7613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Личность – это тот…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645080" y="2168280"/>
            <a:ext cx="382248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е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оздае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овый год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атрио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або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ысо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72" name="Picture 3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38224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3768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  <a:ea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900000" y="123300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сякий человек есть история, не похожая ни на какую другую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Алексис Каррель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  <a:ea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78920" y="1881000"/>
            <a:ext cx="4932360" cy="42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Личностно-ориентированное обучение — это такое обучение, где во главу угла ставится личность ребенка, ее самобытность, самоценность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5472000" y="1808280"/>
            <a:ext cx="344664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539640" y="1267920"/>
            <a:ext cx="831528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азличные варианты  наблюдения за детьми (в лабораторных условиях, в школе, во внешкольной деятельности и т.п.);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пециальные психодиагностические тренинги;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экспертное оценивание поведения детей учителями, родителями;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ключение детей в специальные игровые и предметно-ориентированные занятия;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ем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23640" y="1052640"/>
            <a:ext cx="85309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spcBef>
                <a:spcPts val="64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82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экспертное оценивание конкретных продуктов творческой деятельности детей 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82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рганизация различных интеллектуальных и предметных олимпиад, конференций, спортивных соревнований, творческих конкурсов и т.п.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емы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899640" y="2097000"/>
            <a:ext cx="788508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оличественная оценка степени выраженности у ребенка различных видов одаренности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пределение вида одаренности, преобладающего в настоящее время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лучение индивидуального, свойственного только конкретному ребенку «портрета» развития его дарований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55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ика «Карта одаренности»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А.И. Савенков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934920" y="2023560"/>
            <a:ext cx="79200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ыявление областей наивысших показателей сфер, в которых ребенок может проявлять свои таланты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ыявление «западания» какой-либо одной способности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едлагаемые характеристики интересов ребенка помогут в анализе его поведения, умственного и физического развити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ика экспертных оценок по определению одаренных детей (Лосева А.А.)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250560" y="1484280"/>
            <a:ext cx="8389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ценить, в какой степени испытуемые дети считают себя способными на риск, любознательными, обладающими воображением и предпочитающими сложные идеи,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ценить сильные и слабые стороны творческой личности ребенка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ffffff"/>
                </a:solidFill>
                <a:latin typeface="Candara"/>
                <a:ea typeface="Trebuchet MS"/>
              </a:rPr>
              <a:t>Тесты личностных творческих характеристик</a:t>
            </a:r>
            <a:endParaRPr b="0" lang="en-US" sz="35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ика «Геометрические фигуры</a:t>
            </a:r>
            <a:r>
              <a:rPr b="0" i="1" lang="ru-RU" sz="3900" spc="-1" strike="noStrike">
                <a:solidFill>
                  <a:srgbClr val="ffffff"/>
                </a:solidFill>
                <a:latin typeface="Candara"/>
                <a:ea typeface="Trebuchet MS"/>
              </a:rPr>
              <a:t>»</a:t>
            </a:r>
            <a:endParaRPr b="0" lang="en-US" sz="39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43" name="Picture 11" descr=""/>
          <p:cNvPicPr/>
          <p:nvPr/>
        </p:nvPicPr>
        <p:blipFill>
          <a:blip r:embed="rId1"/>
          <a:stretch/>
        </p:blipFill>
        <p:spPr>
          <a:xfrm>
            <a:off x="495360" y="2143080"/>
            <a:ext cx="2190600" cy="20862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8" descr=""/>
          <p:cNvPicPr/>
          <p:nvPr/>
        </p:nvPicPr>
        <p:blipFill>
          <a:blip r:embed="rId2"/>
          <a:stretch/>
        </p:blipFill>
        <p:spPr>
          <a:xfrm>
            <a:off x="3095640" y="1989000"/>
            <a:ext cx="2540160" cy="21434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9" descr=""/>
          <p:cNvPicPr/>
          <p:nvPr/>
        </p:nvPicPr>
        <p:blipFill>
          <a:blip r:embed="rId3"/>
          <a:stretch/>
        </p:blipFill>
        <p:spPr>
          <a:xfrm>
            <a:off x="6297480" y="209700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2" descr=""/>
          <p:cNvPicPr/>
          <p:nvPr/>
        </p:nvPicPr>
        <p:blipFill>
          <a:blip r:embed="rId4"/>
          <a:stretch/>
        </p:blipFill>
        <p:spPr>
          <a:xfrm>
            <a:off x="324000" y="4506840"/>
            <a:ext cx="2952720" cy="22892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3" descr=""/>
          <p:cNvPicPr/>
          <p:nvPr/>
        </p:nvPicPr>
        <p:blipFill>
          <a:blip r:embed="rId5"/>
          <a:stretch/>
        </p:blipFill>
        <p:spPr>
          <a:xfrm>
            <a:off x="5508720" y="4416480"/>
            <a:ext cx="25351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Ольга Вахонина</cp:lastModifiedBy>
  <dcterms:modified xsi:type="dcterms:W3CDTF">2018-06-25T16:40:39Z</dcterms:modified>
  <cp:revision>80</cp:revision>
  <dc:subject/>
  <dc:title>Слайд 1</dc:title>
</cp:coreProperties>
</file>