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B4A5-2A20-4E66-B677-B2838F533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0657-C709-4D8B-B78D-DB2F0A46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B611-55E6-47EA-B35D-7F2304BBD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B29-726D-4100-BAFC-BC83C535A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4847-76B9-434B-89A3-5671BB6B7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F924-E23E-4BC2-AE5D-7971802A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0CB1F-506F-43A6-BCA5-9465BAF1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C784-69EF-432B-91EE-7B2ABFDE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E62B-CE07-4EDC-93EC-ECA3572B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C9ED-4688-41B8-95EC-431C917F8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9CC0-94ED-4058-9875-CB440717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3F08-778B-483E-BFCB-3D49CDDE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8EAC4-AC6E-4702-86F7-2F1D21665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9FAC-BE64-4AAF-959D-83772B12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B7F51-20B9-4109-B17C-87002E59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6E2A-5C3A-4393-876C-EE9912DA3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37EF-024F-4B9D-B658-0A868FCA0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5B3EE-91FF-4F08-8744-FCBE07923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1C980-FD99-49E9-9436-7507F2505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34A71-635A-4521-AE78-4B7017682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7650E-B0C8-4594-95F6-73E0E3AC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BB2D9-A78B-4AEE-82D2-A73336E3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8791-CFE6-4F27-994E-4350C476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E3F57-7131-4A3D-A038-A375760B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A0CC-12E8-45CE-A51D-AF25325E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F419A-F2E0-4424-95FF-467621D1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B9299-876E-4B7D-96E1-4D2CC295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F46F6-F6C0-4691-AA9B-0D717879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7D484-4106-4FD4-B07D-2BD144123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06C14-B0E4-47DF-A188-71BE8098C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93ABB-B064-4B4C-9A35-1510514FC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6D12-C388-4946-B690-6614D1FF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C846A8-F337-4643-9A02-9D12D6D2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0BF8-A1AE-40A5-B8AA-EDC3DC6D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6C2F2-F122-4477-9639-BA107BCD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73DF-0C22-422D-9D13-A15FCCA71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96C6B-5884-4DB7-977F-2232933F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7352D0-DA72-423C-95A2-18399254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C64F6-E56B-40C7-B243-BB9E74B14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3D1C8F-54A0-4807-8A98-A19DA759C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3946F-DBB3-42A1-BC7A-75D77A85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02CA94-9C80-4DC7-9977-998F970A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42E9EB-0A30-40C6-9394-4CAA3FAC5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E458D-3400-4B0B-8C38-F4EB8385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9A72-DFFF-4E0E-AA23-B1B164A7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043D3-D870-49DC-824A-8126B755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8A09B-6F42-4231-942C-6D1ACFF8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F4841-B3A1-4C05-8F59-B653F90F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C694A-B2EA-4B74-B02C-4CDC209DD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66C6AE-826A-41B9-94C3-7D092FC8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BB47-B819-4874-A037-EA3A9819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3AB05-C843-49BF-B1A7-C2BB5E96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CBA14-42A8-4796-B2DA-EA6F3029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C88DC-07B5-4C78-B686-4E463CA57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D6855-4E64-4290-90B0-A64F74B2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A758-3CD8-420A-8637-DA18AB48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31322F-A11B-4A19-A98D-37BD417A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E9474-FE76-4A08-B13F-33C7D5F6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467E0-054C-44C8-88BA-E635B55F3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C501E-0C30-471C-9D5F-C01FFB6B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C7D66-BF5C-40A8-931B-1C033EA5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50D72-C2B5-4DAC-9F86-1C523E74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AAA3A0-E9C9-4576-AE71-C88479815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FDE68-4A9E-46A2-BFBB-ED9A29E7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0509DB-FB08-410C-ACC4-538CF172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E03B7-7E92-4E66-AA90-A0354515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808E-6726-4648-BAD7-315880547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99BA1A-CDFE-466B-9824-DCC83E134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97317-3CF2-477F-8F02-4A1C5F2BB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BE76BE-AEEB-4F42-804C-50DE7D00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623A16-A9D1-427E-A6B3-B8D7584AC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060E9-0D91-4E27-9565-7614BC83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C51F0-8B0C-46FE-9029-180EF470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38A3C-EA68-4D63-A7E6-0A58D010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9CB9D-A2C8-4DE0-8AB1-2E50FCD1A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36282-10BB-44D3-BCE7-BC24991E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4D66CF-0933-4A2F-9CC1-C6AE8F01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F4C-C26F-4AC2-A39E-2CD63453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A623F-1770-4933-95F6-438F34D9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95D95-CB36-4DCB-97AA-E50F2D92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48082-8B23-461B-9408-EBC8203A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30A8F-02A2-41B8-962D-975DB8A57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DE7231-843E-4230-BCF8-16BB9E576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147-0C20-48E5-9F04-0FDD669A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142C-6036-443E-91AA-621FB0C7B563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A5AEC-7941-4C1B-AA7C-0009D6622B2A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63A6-4772-4AA7-A59A-3DAFD7C829FB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5EA34-46C4-4693-B4CA-050491E9B8D1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362B-E500-4721-AB25-BA4452F8A0BE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73309-2A91-46CE-ACD6-0E50571DE4F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28363-826F-4298-9736-CAB2B697F36B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828B1-1FCC-4F63-9579-5728EC250A65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5999F-D1BC-4A47-BE96-9D83C62C364E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537-30B2-4945-B321-1CA8B83475E8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103A9-8A35-4E84-A787-4442BBDF12B2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2A01-DE1F-42AC-A978-1FEEC393FAB3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95BAA-2B0A-4D2E-A33A-009D49E9E37A}" type="datetime3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July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3763A-DD5C-452C-9C6A-64F31E85E5AB}" type="slidenum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37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38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4920" y="533520"/>
            <a:ext cx="8077320" cy="437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  <a:ea typeface="Calibri"/>
              </a:rPr>
              <a:t>Личностно-ориентированное обучение как способ развития личности учащихся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032000" y="4328640"/>
            <a:ext cx="4824360" cy="17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Вахонина Ольга Владимировн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учитель истории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первой квалификационной категор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a452a"/>
                </a:solidFill>
                <a:latin typeface="Times New Roman"/>
                <a:ea typeface="Times New Roman"/>
              </a:rPr>
              <a:t>МБОУ Основная школа 2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Лидер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3348000" y="1088640"/>
            <a:ext cx="5508720" cy="49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73e87"/>
                </a:solidFill>
                <a:latin typeface="Candara"/>
              </a:rPr>
              <a:t>Вы у</a:t>
            </a:r>
            <a:r>
              <a:rPr b="1" i="1" lang="ru-RU" sz="3200" spc="-1" strike="noStrike">
                <a:solidFill>
                  <a:srgbClr val="073e87"/>
                </a:solidFill>
                <a:latin typeface="Candara"/>
              </a:rPr>
              <a:t>веренны в себе, решительны</a:t>
            </a: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, но категоричны. </a:t>
            </a:r>
            <a:r>
              <a:rPr b="1" i="1" lang="ru-RU" sz="3200" spc="-1" strike="noStrike">
                <a:solidFill>
                  <a:srgbClr val="073e87"/>
                </a:solidFill>
                <a:latin typeface="Candara"/>
              </a:rPr>
              <a:t>Ваши способности связаны с искусством, сценой, ораторскими возможностями и лингвистикой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0" name="Picture 5" descr=""/>
          <p:cNvPicPr/>
          <p:nvPr/>
        </p:nvPicPr>
        <p:blipFill>
          <a:blip r:embed="rId1"/>
          <a:stretch/>
        </p:blipFill>
        <p:spPr>
          <a:xfrm>
            <a:off x="871560" y="2505240"/>
            <a:ext cx="2467080" cy="184752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 txBox="1"/>
          <p:nvPr/>
        </p:nvSpPr>
        <p:spPr>
          <a:xfrm>
            <a:off x="142920" y="1773000"/>
            <a:ext cx="29527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во лидеру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3456000" y="1665000"/>
            <a:ext cx="5472000" cy="44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усть в окошко постучится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полночь добрый Новый год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ем мечтам поможет сбыться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частье, радость принесёт!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4" name="Picture 2" descr=""/>
          <p:cNvPicPr/>
          <p:nvPr/>
        </p:nvPicPr>
        <p:blipFill>
          <a:blip r:embed="rId1"/>
          <a:stretch/>
        </p:blipFill>
        <p:spPr>
          <a:xfrm>
            <a:off x="4680" y="2060640"/>
            <a:ext cx="3319560" cy="31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ер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3600000" y="1196640"/>
            <a:ext cx="52563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ы не угадываете результат, а его вычисляете путём логических рассуждений и последовательных действий. </a:t>
            </a:r>
            <a:r>
              <a:rPr b="0" i="1" lang="ru-RU" sz="3200" spc="-1" strike="noStrike">
                <a:solidFill>
                  <a:srgbClr val="073e87"/>
                </a:solidFill>
                <a:latin typeface="Candara"/>
              </a:rPr>
              <a:t>Отличает трудолюбие, усердие, методичность и скрупулезность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58" name="Picture 5" descr=""/>
          <p:cNvPicPr/>
          <p:nvPr/>
        </p:nvPicPr>
        <p:blipFill>
          <a:blip r:embed="rId1"/>
          <a:stretch/>
        </p:blipFill>
        <p:spPr>
          <a:xfrm>
            <a:off x="716040" y="2457360"/>
            <a:ext cx="27176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Мечтатель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0" name="Picture 5" descr=""/>
          <p:cNvPicPr/>
          <p:nvPr/>
        </p:nvPicPr>
        <p:blipFill>
          <a:blip r:embed="rId1"/>
          <a:stretch/>
        </p:blipFill>
        <p:spPr>
          <a:xfrm>
            <a:off x="1160640" y="263700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3924000" y="1015920"/>
            <a:ext cx="493236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 вас развиты </a:t>
            </a:r>
            <a:r>
              <a:rPr b="0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ворческие способности 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 любите творить в своём мире грёз и фантазий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536840" y="36684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Гуманист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3347640" y="836640"/>
            <a:ext cx="53643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ам важно окружение тех людей, которые вас любят и верят в ваши возможности.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 чувствительны, ранимы и эмоциональны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 Умеете больше отдавать, чем принимать. Ваши способности связаны с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ммуникативностью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4" name="Picture 6" descr=""/>
          <p:cNvPicPr/>
          <p:nvPr/>
        </p:nvPicPr>
        <p:blipFill>
          <a:blip r:embed="rId1"/>
          <a:stretch/>
        </p:blipFill>
        <p:spPr>
          <a:xfrm>
            <a:off x="1042920" y="2386080"/>
            <a:ext cx="2190960" cy="208584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 txBox="1"/>
          <p:nvPr/>
        </p:nvSpPr>
        <p:spPr>
          <a:xfrm>
            <a:off x="676440" y="2679480"/>
            <a:ext cx="3822480" cy="34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920000" cy="9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ffff"/>
                </a:solidFill>
                <a:latin typeface="Candara"/>
                <a:ea typeface="Trebuchet MS"/>
              </a:rPr>
              <a:t>Искатель</a:t>
            </a:r>
            <a:endParaRPr b="0" lang="en-US" sz="48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67" name="Из_Мультфильмов_-_В_Лесу_Родилась_Ёлочка_(-).mp3" descr=""/>
          <p:cNvPicPr/>
          <p:nvPr/>
        </p:nvPicPr>
        <p:blipFill>
          <a:blip r:embed="rId1"/>
          <a:stretch/>
        </p:blipFill>
        <p:spPr>
          <a:xfrm>
            <a:off x="2282760" y="4097160"/>
            <a:ext cx="609840" cy="60984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 txBox="1"/>
          <p:nvPr/>
        </p:nvSpPr>
        <p:spPr>
          <a:xfrm>
            <a:off x="4645080" y="1557000"/>
            <a:ext cx="382248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 находитесь в состоянии </a:t>
            </a:r>
            <a:r>
              <a:rPr b="1" i="1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тревоги, замешательства, внутренних проблем</a:t>
            </a: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и кризисные периоды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69" name="Picture 5" descr=""/>
          <p:cNvPicPr/>
          <p:nvPr/>
        </p:nvPicPr>
        <p:blipFill>
          <a:blip r:embed="rId2"/>
          <a:stretch/>
        </p:blipFill>
        <p:spPr>
          <a:xfrm>
            <a:off x="1287360" y="2349360"/>
            <a:ext cx="266544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7613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Личность – это тот….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4645080" y="2168280"/>
            <a:ext cx="3822480" cy="39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е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оздае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Новый год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атрио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Забо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сот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72" name="Picture 3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3822480" cy="30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3768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900000" y="1233000"/>
            <a:ext cx="79200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сякий человек есть история, не похожая ни на какую другую</a:t>
            </a:r>
            <a:endParaRPr b="0" lang="en-US" sz="4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73e87"/>
              </a:solidFill>
              <a:latin typeface="Candara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Алексис Каррель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  <a:ea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78920" y="1881000"/>
            <a:ext cx="4932360" cy="42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Личностно-ориентированное обучение — это такое обучение, где во главу угла ставится личность ребенка, ее самобытность, самоценность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31" name="Picture 4" descr=""/>
          <p:cNvPicPr/>
          <p:nvPr/>
        </p:nvPicPr>
        <p:blipFill>
          <a:blip r:embed="rId1"/>
          <a:stretch/>
        </p:blipFill>
        <p:spPr>
          <a:xfrm>
            <a:off x="5472000" y="1808280"/>
            <a:ext cx="34466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539640" y="1267920"/>
            <a:ext cx="8315280" cy="53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различные варианты  наблюдения за детьми (в лабораторных условиях, в школе, во внешкольной деятельности и т.п.)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специальные психодиагностические тренинги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спертное оценивание поведения детей учителями, родителями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ключение детей в специальные игровые и предметно-ориентированные занятия;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23640" y="1052640"/>
            <a:ext cx="85309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spcBef>
                <a:spcPts val="64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экспертное оценивание конкретных продуктов творческой деятельности детей 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825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рганизация различных интеллектуальных и предметных олимпиад, конференций, спортивных соревнований, творческих конкурсов и т.п.</a:t>
            </a: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емы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899640" y="2097000"/>
            <a:ext cx="78850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количественная оценка степени выраженности у ребенка различных видов одаренност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пределение вида одаренности, преобладающего в настоящее время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олучение индивидуального, свойственного только конкретному ребенку «портрета» развития его дарован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755640" y="297000"/>
            <a:ext cx="7920000" cy="9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«Карта одаренности»</a:t>
            </a:r>
            <a:br>
              <a:rPr sz="4000"/>
            </a:b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А.И. Савенков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934920" y="2023560"/>
            <a:ext cx="7920000" cy="42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явление областей наивысших показателей сфер, в которых ребенок может проявлять свои таланты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выявление «западания» какой-либо одной способност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предлагаемые характеристики интересов ребенка помогут в анализе его поведения, умственного и физического развития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экспертных оценок по определению одаренных детей (Лосева А.А.)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250560" y="1484280"/>
            <a:ext cx="8389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ценить, в какой степени испытуемые дети считают себя способными на риск, любознательными, обладающими воображением и предпочитающими сложные идеи, 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оценить сильные и слабые стороны творческой личности ребенка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ff"/>
                </a:solidFill>
                <a:latin typeface="Candara"/>
                <a:ea typeface="Trebuchet MS"/>
              </a:rPr>
              <a:t>Тесты личностных творческих характеристик</a:t>
            </a:r>
            <a:endParaRPr b="0" lang="en-US" sz="3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«Геометрические фигуры</a:t>
            </a:r>
            <a:r>
              <a:rPr b="0" i="1" lang="ru-RU" sz="3900" spc="-1" strike="noStrike">
                <a:solidFill>
                  <a:srgbClr val="ffffff"/>
                </a:solidFill>
                <a:latin typeface="Candara"/>
                <a:ea typeface="Trebuchet MS"/>
              </a:rPr>
              <a:t>»</a:t>
            </a:r>
            <a:endParaRPr b="0" lang="en-US" sz="3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43" name="Picture 11" descr=""/>
          <p:cNvPicPr/>
          <p:nvPr/>
        </p:nvPicPr>
        <p:blipFill>
          <a:blip r:embed="rId1"/>
          <a:stretch/>
        </p:blipFill>
        <p:spPr>
          <a:xfrm>
            <a:off x="495360" y="2143080"/>
            <a:ext cx="2190600" cy="208620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8" descr=""/>
          <p:cNvPicPr/>
          <p:nvPr/>
        </p:nvPicPr>
        <p:blipFill>
          <a:blip r:embed="rId2"/>
          <a:stretch/>
        </p:blipFill>
        <p:spPr>
          <a:xfrm>
            <a:off x="3095640" y="1989000"/>
            <a:ext cx="2540160" cy="214344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9" descr=""/>
          <p:cNvPicPr/>
          <p:nvPr/>
        </p:nvPicPr>
        <p:blipFill>
          <a:blip r:embed="rId3"/>
          <a:stretch/>
        </p:blipFill>
        <p:spPr>
          <a:xfrm>
            <a:off x="6297480" y="2097000"/>
            <a:ext cx="2143080" cy="2133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2" descr=""/>
          <p:cNvPicPr/>
          <p:nvPr/>
        </p:nvPicPr>
        <p:blipFill>
          <a:blip r:embed="rId4"/>
          <a:stretch/>
        </p:blipFill>
        <p:spPr>
          <a:xfrm>
            <a:off x="324000" y="4506840"/>
            <a:ext cx="2952720" cy="22892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3" descr=""/>
          <p:cNvPicPr/>
          <p:nvPr/>
        </p:nvPicPr>
        <p:blipFill>
          <a:blip r:embed="rId5"/>
          <a:stretch/>
        </p:blipFill>
        <p:spPr>
          <a:xfrm>
            <a:off x="5508720" y="4416480"/>
            <a:ext cx="253512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21:00Z</dcterms:created>
  <dc:creator>Home</dc:creator>
  <dc:description/>
  <dc:language>en-US</dc:language>
  <cp:lastModifiedBy>Ольга Вахонина</cp:lastModifiedBy>
  <dcterms:modified xsi:type="dcterms:W3CDTF">2018-06-25T16:40:39Z</dcterms:modified>
  <cp:revision>80</cp:revision>
  <dc:subject/>
  <dc:title>Слайд 1</dc:title>
</cp:coreProperties>
</file>