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F96F-DCE7-479B-A8D3-E7ABD4EB0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41EE-922B-4246-862F-62214725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401-F9BE-4440-92A5-254A9CC2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A696-3CDD-4633-BD7F-1CE6386E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AE05C-0589-4B2D-896E-BE147E54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E4A7-0497-406E-B7E3-57F8B986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F8107-82C9-4B4E-8A6B-C79C9B8F0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5E503-4CD0-4426-9F94-6460C55D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3B512-75A0-4E04-A1E0-58F7D347F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99E2-493E-4609-ABE1-EEF999DF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A2E4-7698-4D21-B2E3-C6819688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386C-6F47-42FB-8B70-708904C82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83C6-0CEA-42EF-A23B-CA27324A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AE1B-2AA3-4159-93D2-CC1C4759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59DC-5F36-4400-832B-B443343F7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EA8B1-FD57-40ED-A053-087B391CF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0255E-D03B-415E-BB11-A9FDDABD6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DE978-CC17-4701-95A2-ADC8C0B9E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886FB-7178-458C-AC1E-7E08F93C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0C3E-6BDA-48EB-92DC-8EDA8AD1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3F37-0165-4A19-A417-35F8788F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D4F02-0C16-477D-AC5C-7EEDE27D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CEE2-DE6D-463B-B79B-36087AFB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B807-085E-40CE-99CC-317511AC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85909-12EA-4A42-8C64-53A7C039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65CDA-9863-448E-80E9-5E250D93C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7DE94-FD78-4FF8-BF05-A7B35A85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B7B1D-BB8F-47D7-89F8-A4FAA6A7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01192-BC2F-496B-832B-CB5E6CFA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0D8321-463F-499F-841C-5D2513D25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FCA3A-FD45-4A15-B53E-B5304DB9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B7156E-77FD-48A8-A406-32BBF1FB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46437-578D-46CA-ACD9-8B600CD9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03D3-AA8D-4FBB-8895-EC5EF8787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7E9C1-B0C7-47B9-94B7-A4DA15A4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92A10-45CA-4C45-9C64-42C918F1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B3489-A07D-4F6E-BF6D-22249862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0E47E-4DC4-460F-9E29-0E43C70A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73676-8C75-4C77-A1D8-952F1DA9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05C209-C58F-4EE4-BD3F-95B84F7E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A685B-4A54-4A4F-8844-CB6EACCB9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CA140-F397-46E2-8DAC-7CDC158A8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F895E7-52FF-4895-821B-24D2612F2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3F725-D6EC-4ED9-B34B-611472A45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DC03-8D81-4FC4-AA2B-A9837137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F8327-F0F1-4A36-BD06-F551D5C82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AF5A0E-9A28-4F5D-9421-C89A8291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3D2A3-89C4-4024-94AE-B909ED62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C428E-0FC0-47EA-8BF3-26E9D7F1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1BCC1-8D07-4C0C-8724-9284182B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47160-A0E9-486E-BDAD-50074F93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87657-6949-4FA4-9D08-9556B661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69443-4ED8-4406-8680-239044F2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802E-473F-442A-9A9E-F37792E03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EB4584-4B20-4E23-B562-839EEFFC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5777-BB7E-4C4F-878B-162E8D81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EDACD-AB4F-484D-8C40-FB56CF2A3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2E62C-D952-4D70-AE88-CD0A119A3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35D5C9-BBA9-475D-8091-550DFC81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4F7E6-641F-4ACA-BBC9-34349B5A1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5A0CB-40F4-4F41-9E57-4DB3116B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3147E-95CF-460E-BD0D-6783D089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D362AA-31AA-409A-8531-50306ACD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A0DD7-BE4B-4D03-A722-9854CB161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18B1C-79F3-4C9A-BF45-382D781E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AF879-0EB9-40ED-8CB3-BC67969CC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9128-48DA-4B37-9D0D-3F8438D3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4D011C-807C-4F80-94C7-4EF0177C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9BF661-08CA-4882-B374-8803609C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7F8B5D-5CAD-43CD-AC8D-50F9C3C62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FF50-2D63-49B8-9133-7698FE48B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3138B-6B8C-4B54-98DD-F8A4AFB7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A176C-9DEC-48DA-8FAE-D2EDFDF3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2CC38-53A3-4AA6-B192-F742AB533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C2F43-30D5-4F7B-A90E-FBF239D6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5C398-7556-424E-B346-18014F2C5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0C454-2286-4C89-A435-33F172C1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E9F-A594-4C6F-8E96-4CB9BF21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10FBA5-9C03-4A7A-91B2-61D4EAA0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0A9B6-0ECF-413B-9786-EBC7326F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6EFF8-EAB3-4B23-894C-E32359BC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D42322-919D-4DAE-B337-C8045BC8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90820-544F-4EE1-8B65-DE5D8972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6F50-B2B8-40E5-A9DF-F9CBB826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FA9E7-3F99-4861-9EC9-ABDAB28564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8DD1-1394-4C42-A059-7A09206FF4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AB12-90E0-4E92-8FB9-0ED7D401AD5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9AAF-1B04-4C66-8302-461ED4C1A1D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D8E0C-E41A-4F08-AC6C-FBD857343F2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0E64-C295-4431-9D44-BEC69DBCDEF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CFF1-8838-416A-853B-31DCED5593E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572314"/>
                </a:solidFill>
                <a:latin typeface="Corbel"/>
              </a:rPr>
              <a:t>Что такое жанр ЖИТИЯ?? 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258920" y="2637000"/>
            <a:ext cx="7407360" cy="17524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«Повесть о житии и о храбрости благородного и великого князя Александра Невского»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108000" y="3268800"/>
            <a:ext cx="2197080" cy="3379680"/>
          </a:xfrm>
          <a:prstGeom prst="rect">
            <a:avLst/>
          </a:prstGeom>
          <a:ln w="44280">
            <a:solidFill>
              <a:srgbClr val="261101"/>
            </a:solidFill>
            <a:miter/>
          </a:ln>
        </p:spPr>
      </p:pic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196640" y="-36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вые жанры древнерусской литератур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1258560" y="1196640"/>
            <a:ext cx="76755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75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Летописи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исторические повествования, которые велись по года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еличайшим памятником Киевской Руси является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Повесть временных лет».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Она была составлена в X-XI века Нестором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752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3" name="Picture 3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446280" cy="2637000"/>
          </a:xfrm>
          <a:prstGeom prst="rect">
            <a:avLst/>
          </a:prstGeom>
          <a:ln w="44280">
            <a:solidFill>
              <a:srgbClr val="26110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539280" y="1341000"/>
            <a:ext cx="62643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Воинские, исторические повести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ассказывали о деяниях князей-воинов, об их сражениях с внешними врага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пример,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«Повесть о разорении Рязани батыем». 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 Посвящена взятию Рязани монголо-татарами в декабре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1237 года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. 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15640" y="259920"/>
            <a:ext cx="7497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вые жанры древнерусской литературы: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6" name="Picture 2" descr="http://s45.radikal.ru/i109/1111/5b/e9a04366911f.jpg"/>
          <p:cNvPicPr/>
          <p:nvPr/>
        </p:nvPicPr>
        <p:blipFill>
          <a:blip r:embed="rId1"/>
          <a:stretch/>
        </p:blipFill>
        <p:spPr>
          <a:xfrm>
            <a:off x="5506920" y="3500280"/>
            <a:ext cx="40798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421920" y="2349000"/>
            <a:ext cx="519444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Житие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 (греч. </a:t>
            </a:r>
            <a:r>
              <a:rPr b="0" lang="el-GR" sz="2400" spc="-1" strike="noStrike">
                <a:solidFill>
                  <a:srgbClr val="000000"/>
                </a:solidFill>
                <a:latin typeface="Corbel"/>
              </a:rPr>
              <a:t>βιος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, лат. </a:t>
            </a:r>
            <a:r>
              <a:rPr b="0" i="1" lang="ru-RU" sz="2400" spc="-1" strike="noStrike">
                <a:solidFill>
                  <a:srgbClr val="000000"/>
                </a:solidFill>
                <a:latin typeface="Corbel"/>
              </a:rPr>
              <a:t>vita</a:t>
            </a: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) — жанр церковной литературы, в котором описывается жизнь и деяния святых. Житие создавалось после смерти святого, но не всегда после формальной канонизации. Занимается наук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гиография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8" name="Picture 4" descr="448234217"/>
          <p:cNvPicPr/>
          <p:nvPr/>
        </p:nvPicPr>
        <p:blipFill>
          <a:blip r:embed="rId1"/>
          <a:stretch/>
        </p:blipFill>
        <p:spPr>
          <a:xfrm>
            <a:off x="5796000" y="1700280"/>
            <a:ext cx="3133800" cy="476244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5616720" y="6462720"/>
            <a:ext cx="34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Житие Сергия Радонежск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5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000000"/>
                </a:solidFill>
                <a:latin typeface="Arial"/>
                <a:ea typeface="Arial"/>
              </a:rPr>
              <a:t>Жанр Жития в древнерусской литературе</a:t>
            </a:r>
            <a:r>
              <a:rPr b="0" lang="ru-RU" sz="39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691920"/>
            <a:ext cx="8229600" cy="54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Жития святых пишутся по особым правилам (канонам)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явление будущего святого чаще всего происходит в семье благочестивых родителей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аще всего святой с ранних лет ведет строгую, праведную жизнь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процессе своей жизни святой набирается мудрости, проходит через ряд искушений, испытаний и побеждает их.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Рассказывается о его подвигах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ворит прижизненные чудеса, сопровождается и оберегается при жизни святыми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язательно посмертное чудо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810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-181440" y="0"/>
            <a:ext cx="59403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П.Корин «Александр Невский»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3" name="Рисунок 2" descr=""/>
          <p:cNvPicPr/>
          <p:nvPr/>
        </p:nvPicPr>
        <p:blipFill>
          <a:blip r:embed="rId1"/>
          <a:stretch/>
        </p:blipFill>
        <p:spPr>
          <a:xfrm>
            <a:off x="4197240" y="549360"/>
            <a:ext cx="4975200" cy="61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3137040"/>
          </a:xfrm>
          <a:prstGeom prst="rect">
            <a:avLst/>
          </a:prstGeom>
          <a:ln w="0">
            <a:noFill/>
          </a:ln>
        </p:spPr>
      </p:pic>
      <p:pic>
        <p:nvPicPr>
          <p:cNvPr id="335" name="Рисунок 4" descr=""/>
          <p:cNvPicPr/>
          <p:nvPr/>
        </p:nvPicPr>
        <p:blipFill>
          <a:blip r:embed="rId2"/>
          <a:stretch/>
        </p:blipFill>
        <p:spPr>
          <a:xfrm>
            <a:off x="0" y="2924280"/>
            <a:ext cx="4941720" cy="3954240"/>
          </a:xfrm>
          <a:prstGeom prst="rect">
            <a:avLst/>
          </a:prstGeom>
          <a:ln w="0">
            <a:noFill/>
          </a:ln>
        </p:spPr>
      </p:pic>
      <p:pic>
        <p:nvPicPr>
          <p:cNvPr id="336" name="Рисунок 5" descr=""/>
          <p:cNvPicPr/>
          <p:nvPr/>
        </p:nvPicPr>
        <p:blipFill>
          <a:blip r:embed="rId3"/>
          <a:stretch/>
        </p:blipFill>
        <p:spPr>
          <a:xfrm rot="303600">
            <a:off x="3198960" y="1460520"/>
            <a:ext cx="612288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7T11:47:41Z</dcterms:created>
  <dc:creator>~  Лиза  ~</dc:creator>
  <dc:description/>
  <dc:language>en-US</dc:language>
  <cp:lastModifiedBy>user</cp:lastModifiedBy>
  <dcterms:modified xsi:type="dcterms:W3CDTF">2018-06-25T09:30:23Z</dcterms:modified>
  <cp:revision>15</cp:revision>
  <dc:subject/>
  <dc:title>Житийная литература как особый жанр.  «Повесть о житии и о храбрости благородного и великого князя Александра Невского».</dc:title>
</cp:coreProperties>
</file>