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E5C8-888D-49EB-88FE-C1A3BEE94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B4A7-FCAE-43DB-B1EA-6DB3DD04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CEF7-7ADF-4995-A4CD-E73813BB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FC4F-65D9-4F44-9DD5-0CB34EC0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C5E7-E0FF-40F9-8CF9-7F0BC5C7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53CF-C728-4589-8B49-301D6D91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1E05-D05D-42D5-A0DB-86A73463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2181-DFA5-4AFC-8C4B-A516DF93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37A84-1915-4F9D-BCD0-A7BBE4949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7C03-1424-482D-8574-AB5920EF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2DAB-6C36-40D6-AF16-A7416936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E23-F806-4C38-A892-9129476B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D719-4722-4141-AD7D-F4B8D3AC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56ED-CC50-4F38-B0C1-70090567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203B-79D0-4B14-9A13-394AE488E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C66F-500C-4FA2-AD43-1AB757363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F7E0-FB68-4817-8E6D-7CF485E6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B978A-B987-405F-AEC7-BC16504F5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A3F23-BAE8-48E5-987E-4912CDC3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2370B-0C3C-4877-9E88-725CC036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02C91-658E-41D4-83ED-901127B7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A5192-120D-48B1-B4CD-2D39A3C9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5BEC-EF1D-4911-887A-73D5057B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949DE-E5AC-456B-8956-B3D72C7DE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66F12-837A-4171-919D-574F43E4D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950C9-7416-482D-9AA6-88C2E497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DB44A-2C3A-4196-B53A-452C748B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96531-C9C2-40F9-80AF-861964D3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C2669-8F2D-4E80-88FF-0353922F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2FC5B-E628-43D4-A4AD-16C89C754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79AAD-CEC7-42B6-87EB-7B3DDD39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7231EC-23EF-4D4F-AC70-A09A92FE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AA8E3-95AC-4406-9135-8D25AA46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CF3B-04D9-419A-A2A9-9BC622C79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8575E-1B8D-42EB-BFFE-81615459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C63CA-80ED-4907-8EDE-CC4C7B41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5CFB4-925C-4A88-B527-8744E44C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728A7-6021-4AAF-A4FB-3F2711A7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BD5E7-5C5B-49C7-9BC0-AF3C3FBB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E2BBD-28A3-47B8-834A-2AF04F51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0C191-2E2E-41D6-B571-DB32DAA0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8C6BA-ED8B-479B-A0D4-673364246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F00C9-A4FC-4267-93BD-62A6B1A61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093B6-82DE-4C8B-937A-A2E32696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7146-D421-4A6E-AFF0-5634FB48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13937-F0DB-47DF-B254-E99719B5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26B1B-2050-4C69-8F51-02D4BD94B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BD6615-0A3B-4BBB-86BF-EFDA14CE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5BD8C-5C48-42B2-87BB-E81CC9AD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D7DF2-1841-4CDB-AE83-D74CEB3ED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05538-C449-4077-8800-0F57A1A42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2B6D2-6BF6-4A40-86F8-568A54DA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1A443-1B8A-4946-B916-6AA2DA5E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FD959-F1C2-4AF2-B537-2A846474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45A3D-4119-46C6-8CA3-CF32B9A43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01CA-62FA-4FB8-8ABF-BD95D99DD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B9E72-C0EC-4891-AEFD-3D848C6A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D1ECE-14E2-468F-9E8E-17472AEF0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DE30D1-3716-415F-A993-8194B132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0A3EB-D40A-4115-B265-FE0BE97E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7AF3D-C911-4A24-A693-DE654190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A6147-10B0-4C25-835D-AC821FAE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9024E-DB60-492A-A7D2-A9B3D0A7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EAAC2-EEA1-40B4-A841-E3735505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55CA7-24FA-4FDE-8623-3A4B7B49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AEDEA-10DF-4CFF-ADCD-10B1FA34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809D-AEFB-4392-B921-8B16B717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D9FDA-1483-4CF5-A6B2-BA92CB56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C5576-9556-47FE-B7FE-A37C6E4C8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B0BBC-21DD-4816-8F0D-A52A42D9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A203E-3BF5-4B99-9D46-8CC1F394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70082-DD82-49A8-8617-B1D7A430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2ABAB-2158-4189-86BF-C42D9266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7B7DE-C91A-4F06-A8BF-37F5E313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4AFCE-A5A5-4FF6-AAA0-B3541956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3F26D-DA27-43A1-83F6-C7B1FD62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1C227-ECD7-4442-811B-3236BA59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84CA-52E1-4F31-9C6A-7C25564F2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DE19D-C0E6-4F0F-A36A-E7649A6A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E2A1B4-AA89-401B-A9A4-0668DE0E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2BF05-84F0-499B-9036-F1F3E8B52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DAF97-7476-498F-BA44-69E8B3CA4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20F62-5539-4808-95FB-FF2C9BB65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2A4-3A02-4F41-AFA7-CC3943E7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0F93-7540-4CAF-ACD4-6368EF328D7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F439-C43C-4958-A5F2-3B8F1EE42D1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BF21-0135-405A-8514-37CDA125ADA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FE98-3806-4060-8931-3518EDC8714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9F92-451C-4235-984A-5AD8E2F5D72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3B9F4-1DE8-444C-BFC0-D46141EEF5D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E960B-CBCD-4A92-B502-78FD1050C55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Что такое жанр ЖИТИЯ??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58920" y="263700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Повесть о житии и о храбрости благородного и великого князя Александра Невского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08000" y="3268800"/>
            <a:ext cx="2197080" cy="3379680"/>
          </a:xfrm>
          <a:prstGeom prst="rect">
            <a:avLst/>
          </a:prstGeom>
          <a:ln w="44280">
            <a:solidFill>
              <a:srgbClr val="261101"/>
            </a:solidFill>
            <a:miter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966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ервые жанры древнерусской литератур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258560" y="1196640"/>
            <a:ext cx="76755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Летопис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исторические повествования, которые велись по года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5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личайшим памятником Киевской Руси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«Повесть временных лет».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на была составлена в X-XI века Нестор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5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5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3446280" cy="2637000"/>
          </a:xfrm>
          <a:prstGeom prst="rect">
            <a:avLst/>
          </a:prstGeom>
          <a:ln w="44280">
            <a:solidFill>
              <a:srgbClr val="26110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539280" y="1341000"/>
            <a:ext cx="6264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оинские, исторические повести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казывали о деяниях князей-воинов, об их сражениях с внешними враг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пример,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«Повесть о разорении Рязани батыем».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Посвящена взятию Рязани монголо-татарами в декабре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1237 год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ервые жанры древнерусской литератур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Picture 2" descr="http://s45.radikal.ru/i109/1111/5b/e9a04366911f.jpg"/>
          <p:cNvPicPr/>
          <p:nvPr/>
        </p:nvPicPr>
        <p:blipFill>
          <a:blip r:embed="rId1"/>
          <a:stretch/>
        </p:blipFill>
        <p:spPr>
          <a:xfrm>
            <a:off x="5506920" y="3500280"/>
            <a:ext cx="40798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21920" y="2349000"/>
            <a:ext cx="5194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Житие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(греч.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βιος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лат. 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vita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) — жанр церковной литературы, в котором описывается жизнь и деяния святых. Житие создавалось после смерти святого, но не всегда после формальной канонизации. Занимается нау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агиограф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4" descr="448234217"/>
          <p:cNvPicPr/>
          <p:nvPr/>
        </p:nvPicPr>
        <p:blipFill>
          <a:blip r:embed="rId1"/>
          <a:stretch/>
        </p:blipFill>
        <p:spPr>
          <a:xfrm>
            <a:off x="5796000" y="1700280"/>
            <a:ext cx="3133800" cy="47624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5"/>
          <p:cNvSpPr/>
          <p:nvPr/>
        </p:nvSpPr>
        <p:spPr>
          <a:xfrm>
            <a:off x="5616720" y="646272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тие Сергия Радонежск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5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Жанр Жития в древнерусской литературе</a:t>
            </a:r>
            <a:r>
              <a:rPr b="0" lang="ru-RU" sz="3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ития святых пишутся по особым правилам (канонам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явление будущего святого чаще всего происходит в семье благочестивых родителе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ще всего святой с ранних лет ведет строгую, праведную жизн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процессе своей жизни святой набирается мудрости, проходит через ряд искушений, испытаний и побеждает их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ссказывается о его подвига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ворит прижизненные чудеса, сопровождается и оберегается при жизни святым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язательно посмертное чуд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-181440" y="0"/>
            <a:ext cx="59403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.Корин «Александр Невский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Рисунок 2" descr=""/>
          <p:cNvPicPr/>
          <p:nvPr/>
        </p:nvPicPr>
        <p:blipFill>
          <a:blip r:embed="rId1"/>
          <a:stretch/>
        </p:blipFill>
        <p:spPr>
          <a:xfrm>
            <a:off x="4197240" y="549360"/>
            <a:ext cx="497520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313704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4" descr=""/>
          <p:cNvPicPr/>
          <p:nvPr/>
        </p:nvPicPr>
        <p:blipFill>
          <a:blip r:embed="rId2"/>
          <a:stretch/>
        </p:blipFill>
        <p:spPr>
          <a:xfrm>
            <a:off x="0" y="2924280"/>
            <a:ext cx="4941720" cy="395424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5" descr=""/>
          <p:cNvPicPr/>
          <p:nvPr/>
        </p:nvPicPr>
        <p:blipFill>
          <a:blip r:embed="rId3"/>
          <a:stretch/>
        </p:blipFill>
        <p:spPr>
          <a:xfrm rot="303600">
            <a:off x="3198960" y="1460520"/>
            <a:ext cx="61228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1:47:41Z</dcterms:created>
  <dc:creator>~  Лиза  ~</dc:creator>
  <dc:description/>
  <dc:language>en-US</dc:language>
  <cp:lastModifiedBy>user</cp:lastModifiedBy>
  <dcterms:modified xsi:type="dcterms:W3CDTF">2018-06-25T09:30:23Z</dcterms:modified>
  <cp:revision>15</cp:revision>
  <dc:subject/>
  <dc:title>Житийная литература как особый жанр.  «Повесть о житии и о храбрости благородного и великого князя Александра Невского».</dc:title>
</cp:coreProperties>
</file>