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436-2FCF-43D7-B89B-D9D30C0C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693-C70C-4DB0-A645-D80B567E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89E-CC5D-4B92-868E-D42F8656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177-57E6-4C44-A5B4-ADD521A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895-58A3-4772-94B1-46DBCB1C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050-8729-4A2A-80D6-3E96098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B70E-5F07-4F93-BA50-35B78757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A47D-87C8-4BC7-B895-EB86766A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FFBB-A276-43DA-85A0-6E7B9212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5665-337A-403F-B269-2821D589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6E2D-2A38-4752-9730-C72B033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61D-E93B-413E-8502-DA230746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5300-3CD0-4A21-88E0-824D662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FC6-74A5-480D-A6D0-D5D4558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1DD3-E4AD-495F-8FCF-DB28B8C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4B2D-E886-4F83-93B2-EDDC9400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1C15-E48E-4A9D-AC4E-CA949D1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DAC-C18E-4DB1-8BFD-95929266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BEB-6ADC-459B-BE86-BFD03A1A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9E4-5D35-475D-B2E0-8F281701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41D-BA42-4253-8350-9900361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991-D261-4D4D-880C-EB694987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8D6-2628-46ED-8664-929A7A9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FFD-BF03-4CC7-8803-13FED11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EAC-30ED-4030-98CE-82978CB935C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3F3-1DC4-4DFE-8197-A0DAEAF99C5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785000" cy="3558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63640" y="342900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тема: Совместная  деятельность воспитателя и родителей по наполнению развивающе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Цель: изготовление игрушек для театральной зоны из бросового материала (носков)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6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F:\дети 2014\P8010277.JPG"/>
          <p:cNvPicPr/>
          <p:nvPr/>
        </p:nvPicPr>
        <p:blipFill>
          <a:blip r:embed="rId2"/>
          <a:stretch/>
        </p:blipFill>
        <p:spPr>
          <a:xfrm>
            <a:off x="468360" y="1628640"/>
            <a:ext cx="3959280" cy="446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дети 2014\P8010278.JPG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F:\дети 2014\P8010280.JPG"/>
          <p:cNvPicPr/>
          <p:nvPr/>
        </p:nvPicPr>
        <p:blipFill>
          <a:blip r:embed="rId3"/>
          <a:stretch/>
        </p:blipFill>
        <p:spPr>
          <a:xfrm>
            <a:off x="4500720" y="1341360"/>
            <a:ext cx="4184640" cy="496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F:\дети 2014\P8010279.JPG"/>
          <p:cNvPicPr/>
          <p:nvPr/>
        </p:nvPicPr>
        <p:blipFill>
          <a:blip r:embed="rId4"/>
          <a:stretch/>
        </p:blipFill>
        <p:spPr>
          <a:xfrm>
            <a:off x="539640" y="1341360"/>
            <a:ext cx="4103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дети 2014\P8010281.JPG"/>
          <p:cNvPicPr/>
          <p:nvPr/>
        </p:nvPicPr>
        <p:blipFill>
          <a:blip r:embed="rId3"/>
          <a:stretch/>
        </p:blipFill>
        <p:spPr>
          <a:xfrm>
            <a:off x="4427640" y="1557360"/>
            <a:ext cx="4257720" cy="482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дети 2014\P8010282.JPG"/>
          <p:cNvPicPr/>
          <p:nvPr/>
        </p:nvPicPr>
        <p:blipFill>
          <a:blip r:embed="rId4"/>
          <a:stretch/>
        </p:blipFill>
        <p:spPr>
          <a:xfrm>
            <a:off x="539640" y="1569960"/>
            <a:ext cx="388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3120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F:\дети 2014\P7140258.JPG"/>
          <p:cNvPicPr/>
          <p:nvPr/>
        </p:nvPicPr>
        <p:blipFill>
          <a:blip r:embed="rId3"/>
          <a:stretch/>
        </p:blipFill>
        <p:spPr>
          <a:xfrm>
            <a:off x="1116000" y="1719360"/>
            <a:ext cx="69120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3960" y="2133360"/>
            <a:ext cx="35416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F:\дети 2014\P7140261.JPG"/>
          <p:cNvPicPr/>
          <p:nvPr/>
        </p:nvPicPr>
        <p:blipFill>
          <a:blip r:embed="rId2"/>
          <a:stretch/>
        </p:blipFill>
        <p:spPr>
          <a:xfrm>
            <a:off x="324000" y="2133720"/>
            <a:ext cx="3635280" cy="40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дети 2014\P7140257.JPG"/>
          <p:cNvPicPr/>
          <p:nvPr/>
        </p:nvPicPr>
        <p:blipFill>
          <a:blip r:embed="rId3"/>
          <a:stretch/>
        </p:blipFill>
        <p:spPr>
          <a:xfrm>
            <a:off x="4643280" y="1606680"/>
            <a:ext cx="41054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:\дети 2014\P8010284.JPG"/>
          <p:cNvPicPr/>
          <p:nvPr/>
        </p:nvPicPr>
        <p:blipFill>
          <a:blip r:embed="rId3"/>
          <a:stretch/>
        </p:blipFill>
        <p:spPr>
          <a:xfrm>
            <a:off x="2335320" y="1557360"/>
            <a:ext cx="4473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35200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F:\дети 2014\P8010287.JPG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дети 2014\P8010285.JPG"/>
          <p:cNvPicPr/>
          <p:nvPr/>
        </p:nvPicPr>
        <p:blipFill>
          <a:blip r:embed="rId3"/>
          <a:stretch/>
        </p:blipFill>
        <p:spPr>
          <a:xfrm>
            <a:off x="4643280" y="1571760"/>
            <a:ext cx="388944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дети 2014\P7140262.JPG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06:59:02Z</dcterms:created>
  <dc:creator>Admin</dc:creator>
  <dc:description/>
  <dc:language>en-US</dc:language>
  <cp:lastModifiedBy>Admin</cp:lastModifiedBy>
  <dcterms:modified xsi:type="dcterms:W3CDTF">2018-06-25T10:42:03Z</dcterms:modified>
  <cp:revision>6</cp:revision>
  <dc:subject/>
  <dc:title>Презентация PowerPoint</dc:title>
</cp:coreProperties>
</file>