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0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C56-EF0D-4630-8EE9-D39E2086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76E-2D5F-4C4D-BEE4-66B9660C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405-03B5-4AA6-B55C-6871E01D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FBC-0B3B-4041-BE33-10F3D2B1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CC3F-0A43-4E34-9BAD-20F76BC5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5F65-33E6-4997-B6BE-AED369BE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CA67-0FA1-4BA3-B513-EAA5343B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7DDF-03B8-4F19-B4EB-9C2CAC8C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7618-7817-429C-90E3-57D4E43C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2D1C-B510-4870-BAC0-0BF1B388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8BAD-4392-47A3-8E8C-FC3EF511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2404-F31F-4680-80ED-514F4D9F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9E18-5EE5-4003-B58A-CA2EEA96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9CA5-C3D8-4866-9EF7-D1617465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2EEE-0A34-415A-BD29-AD2B41B6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6A40-B30D-4BA7-90AD-838781FF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0E75-6DDE-44A2-899F-98B6DD19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5F7-43DC-4E31-888B-3D7502B9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0F0-1B59-4B86-B544-333F12DD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BE7-9593-403D-8BA7-B98B7DBB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DFC-E5AF-41CA-9D1C-FBD3B5AC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EA2-BB74-41CE-9BD4-43BDA7C4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96C-1F6A-4B33-8528-BD3EBE16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82A-A478-4209-A5E3-C23D5FC0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E474-0D52-41B2-97F9-4A644723CFE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8A58-B776-4DE4-AFD4-52F2BE85FDD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82560" y="49320"/>
            <a:ext cx="7785000" cy="3558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763640" y="342900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тема: Совместная  деятельность воспитателя и родителей по наполнению развивающей сре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Цель: изготовление игрушек для театральной зоны из бросового материала (носков)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6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F:\дети 2014\P8010277.JPG"/>
          <p:cNvPicPr/>
          <p:nvPr/>
        </p:nvPicPr>
        <p:blipFill>
          <a:blip r:embed="rId2"/>
          <a:stretch/>
        </p:blipFill>
        <p:spPr>
          <a:xfrm>
            <a:off x="468360" y="1628640"/>
            <a:ext cx="3959280" cy="446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F:\дети 2014\P8010278.JPG"/>
          <p:cNvPicPr/>
          <p:nvPr/>
        </p:nvPicPr>
        <p:blipFill>
          <a:blip r:embed="rId3"/>
          <a:stretch/>
        </p:blipFill>
        <p:spPr>
          <a:xfrm>
            <a:off x="4643280" y="1628640"/>
            <a:ext cx="4105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F:\дети 2014\P8010280.JPG"/>
          <p:cNvPicPr/>
          <p:nvPr/>
        </p:nvPicPr>
        <p:blipFill>
          <a:blip r:embed="rId3"/>
          <a:stretch/>
        </p:blipFill>
        <p:spPr>
          <a:xfrm>
            <a:off x="4500720" y="1341360"/>
            <a:ext cx="4184640" cy="4967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F:\дети 2014\P8010279.JPG"/>
          <p:cNvPicPr/>
          <p:nvPr/>
        </p:nvPicPr>
        <p:blipFill>
          <a:blip r:embed="rId4"/>
          <a:stretch/>
        </p:blipFill>
        <p:spPr>
          <a:xfrm>
            <a:off x="539640" y="1341360"/>
            <a:ext cx="4103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F:\дети 2014\P8010281.JPG"/>
          <p:cNvPicPr/>
          <p:nvPr/>
        </p:nvPicPr>
        <p:blipFill>
          <a:blip r:embed="rId3"/>
          <a:stretch/>
        </p:blipFill>
        <p:spPr>
          <a:xfrm>
            <a:off x="4427640" y="1557360"/>
            <a:ext cx="4257720" cy="4824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F:\дети 2014\P8010282.JPG"/>
          <p:cNvPicPr/>
          <p:nvPr/>
        </p:nvPicPr>
        <p:blipFill>
          <a:blip r:embed="rId4"/>
          <a:stretch/>
        </p:blipFill>
        <p:spPr>
          <a:xfrm>
            <a:off x="539640" y="1569960"/>
            <a:ext cx="38880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6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431200" cy="115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F:\дети 2014\P7140258.JPG"/>
          <p:cNvPicPr/>
          <p:nvPr/>
        </p:nvPicPr>
        <p:blipFill>
          <a:blip r:embed="rId3"/>
          <a:stretch/>
        </p:blipFill>
        <p:spPr>
          <a:xfrm>
            <a:off x="1116000" y="1719360"/>
            <a:ext cx="691200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5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3960" y="2133360"/>
            <a:ext cx="354168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F:\дети 2014\P7140261.JPG"/>
          <p:cNvPicPr/>
          <p:nvPr/>
        </p:nvPicPr>
        <p:blipFill>
          <a:blip r:embed="rId2"/>
          <a:stretch/>
        </p:blipFill>
        <p:spPr>
          <a:xfrm>
            <a:off x="324000" y="2133720"/>
            <a:ext cx="3635280" cy="403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F:\дети 2014\P7140257.JPG"/>
          <p:cNvPicPr/>
          <p:nvPr/>
        </p:nvPicPr>
        <p:blipFill>
          <a:blip r:embed="rId3"/>
          <a:stretch/>
        </p:blipFill>
        <p:spPr>
          <a:xfrm>
            <a:off x="4643280" y="1606680"/>
            <a:ext cx="410544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F:\дети 2014\P8010284.JPG"/>
          <p:cNvPicPr/>
          <p:nvPr/>
        </p:nvPicPr>
        <p:blipFill>
          <a:blip r:embed="rId3"/>
          <a:stretch/>
        </p:blipFill>
        <p:spPr>
          <a:xfrm>
            <a:off x="2335320" y="1557360"/>
            <a:ext cx="4473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3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35200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F:\дети 2014\P8010287.JPG"/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460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F:\дети 2014\P8010285.JPG"/>
          <p:cNvPicPr/>
          <p:nvPr/>
        </p:nvPicPr>
        <p:blipFill>
          <a:blip r:embed="rId3"/>
          <a:stretch/>
        </p:blipFill>
        <p:spPr>
          <a:xfrm>
            <a:off x="4643280" y="1571760"/>
            <a:ext cx="388944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F:\дети 2014\P7140262.JPG"/>
          <p:cNvPicPr/>
          <p:nvPr/>
        </p:nvPicPr>
        <p:blipFill>
          <a:blip r:embed="rId2"/>
          <a:stretch/>
        </p:blipFill>
        <p:spPr>
          <a:xfrm>
            <a:off x="826920" y="148428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30T06:59:02Z</dcterms:created>
  <dc:creator>Admin</dc:creator>
  <dc:description/>
  <dc:language>en-US</dc:language>
  <cp:lastModifiedBy>Admin</cp:lastModifiedBy>
  <dcterms:modified xsi:type="dcterms:W3CDTF">2018-06-25T10:42:03Z</dcterms:modified>
  <cp:revision>6</cp:revision>
  <dc:subject/>
  <dc:title>Презентация PowerPoint</dc:title>
</cp:coreProperties>
</file>