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4B70-6B43-491E-8AD7-B2529FC4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9C6B-5D3D-4525-AE15-214F22CB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6E6E-D24D-48E3-832F-97F395532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DD82-1B54-4EBE-8F84-F70426240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1722-1F8D-4FB1-AB41-0DCD5072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9CC4-C5E8-4661-B405-8A58513F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6BD5A-B384-461F-8C57-B47B9BF18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8E15C-4532-4DF7-BC93-45E859B0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B28E-0893-430E-A709-16784311F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B6AF-C6F5-4E8B-9713-7AF554D6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828C8-330F-46DB-8356-2174AD2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958-6ADF-4AEA-9D1B-048FD12E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D0A1C-C8FD-4A12-A133-6EFBBB40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50B6-4C11-4B9A-B020-74885F09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102D-1E8E-491D-8264-C9538161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535A6-0F8A-40DF-9C78-130CE306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B483-7487-4226-B70F-29008F71E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3E6B1-F571-4FD0-BD81-4CAC911D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A714E-2EE2-4BC3-BB10-295E2AD6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63AB1-BF01-43AD-84AC-CCF56C6C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DAAE-9845-42B0-839E-9F1BECCE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E623-3264-409C-9282-DB42B4A6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2E9F-BFDC-4468-AE96-A477ED5C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1A3CF-BF9E-4FC7-859F-4CAB32AA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7647A-04CF-488A-95B3-0E849F61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9545A-D659-4E42-9337-B3DAACDE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8499D-417E-4EB4-8F74-824197EC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A6B0-BAE4-44BB-BA50-A68518A0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A850E-E97E-4889-BA30-463D04B5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182AB-FD7D-49D6-8C82-A38963AEA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9E8C2-6149-4E83-8049-3E26E93D6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57CAB-6638-4C0D-8775-CCD7C7858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202E1-72EC-4EA4-A979-71E6BC9F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D33A-D83A-4A2D-8F17-F6B36E4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54E8-F047-4D25-B5F8-E9390D06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77B85-4D12-412A-A63E-79E2454C2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5E67B-A44F-419A-B62C-1936CCB47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64536D-D4E1-49C1-B66D-67EA2990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F3AC6-3076-4DF4-B2F7-18F725A9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80633-D4CA-4AF2-89F7-09D6E4F5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A0775-2673-40DF-96DF-7B87CE4D4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32B9-3B0A-451A-BC17-E60016CD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40C2-6710-4FEF-94C8-188333BA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A1A2-53EA-4F93-9B22-7C30256A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AF6-4967-4124-B7BC-516E8F93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0D9F-9620-4B9B-ADC5-497B405D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7D8D-8F80-47CF-B763-151551C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5099-6121-45A1-888C-E09C637E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23347-C2DD-4706-B6C6-A5AC73F45DF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A122-1DB7-4ABF-BF30-6FD7D4B9859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48F1-3EF9-494A-BF16-8D11B4326BF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81A3-5F61-4F2E-B3A5-80D82560E588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3.jpe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1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дагоги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Городецкие узоры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Picture 3" descr="Гордецкая роспись3-"/>
          <p:cNvPicPr/>
          <p:nvPr/>
        </p:nvPicPr>
        <p:blipFill>
          <a:blip r:embed="rId1"/>
          <a:stretch/>
        </p:blipFill>
        <p:spPr>
          <a:xfrm rot="973200">
            <a:off x="5392440" y="2960640"/>
            <a:ext cx="1888920" cy="2817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Гордецкая роспись2-"/>
          <p:cNvPicPr/>
          <p:nvPr/>
        </p:nvPicPr>
        <p:blipFill>
          <a:blip r:embed="rId2"/>
          <a:stretch/>
        </p:blipFill>
        <p:spPr>
          <a:xfrm>
            <a:off x="2971800" y="1752480"/>
            <a:ext cx="2019240" cy="317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Гордецкая роспись1-"/>
          <p:cNvPicPr/>
          <p:nvPr/>
        </p:nvPicPr>
        <p:blipFill>
          <a:blip r:embed="rId3"/>
          <a:stretch/>
        </p:blipFill>
        <p:spPr>
          <a:xfrm rot="20658000">
            <a:off x="609120" y="2819160"/>
            <a:ext cx="196056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4560" y="1598760"/>
            <a:ext cx="7345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ы и методы работ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ов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навательное развит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уктивн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Picture 4" descr="36"/>
          <p:cNvPicPr/>
          <p:nvPr/>
        </p:nvPicPr>
        <p:blipFill>
          <a:blip r:embed="rId5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640044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1752480" y="4800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гровая 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южетно-ролевы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Экскурсия по городецкому музею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емья ремесленников из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идактически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оставь узор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Обведи и раскрас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Узнай элементы узо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Найди пару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4" descr="14"/>
          <p:cNvPicPr/>
          <p:nvPr/>
        </p:nvPicPr>
        <p:blipFill>
          <a:blip r:embed="rId7"/>
          <a:stretch/>
        </p:blipFill>
        <p:spPr>
          <a:xfrm>
            <a:off x="6400800" y="2895480"/>
            <a:ext cx="2743200" cy="3576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G:\полхов\1.png"/>
          <p:cNvPicPr/>
          <p:nvPr/>
        </p:nvPicPr>
        <p:blipFill>
          <a:blip r:embed="rId8"/>
          <a:srcRect l="0" t="58728" r="57983" b="0"/>
          <a:stretch/>
        </p:blipFill>
        <p:spPr>
          <a:xfrm>
            <a:off x="5638680" y="6094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G:\полхов\1.png"/>
          <p:cNvPicPr/>
          <p:nvPr/>
        </p:nvPicPr>
        <p:blipFill>
          <a:blip r:embed="rId9"/>
          <a:srcRect l="49616" t="9266" r="4786" b="46350"/>
          <a:stretch/>
        </p:blipFill>
        <p:spPr>
          <a:xfrm>
            <a:off x="3657600" y="4876920"/>
            <a:ext cx="207180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вательное разви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Знакомство с Городецкой росписью», посещение выста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 «В гостях у городецких мастеров»,  - рассказ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матривание иллюстраций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учивание песен, стихов, потешек, сочинение сказок по теме: «Наш весёлый Городец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13" descr="G:\ГОРОДЕЦ\111\59.jpg"/>
          <p:cNvPicPr/>
          <p:nvPr/>
        </p:nvPicPr>
        <p:blipFill>
          <a:blip r:embed="rId5"/>
          <a:stretch/>
        </p:blipFill>
        <p:spPr>
          <a:xfrm>
            <a:off x="6883560" y="1828800"/>
            <a:ext cx="2260440" cy="8980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олхов\1.png"/>
          <p:cNvPicPr/>
          <p:nvPr/>
        </p:nvPicPr>
        <p:blipFill>
          <a:blip r:embed="rId6"/>
          <a:srcRect l="49616" t="9266" r="4786" b="46350"/>
          <a:stretch/>
        </p:blipFill>
        <p:spPr>
          <a:xfrm>
            <a:off x="33526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G:\полхов\1.png"/>
          <p:cNvPicPr/>
          <p:nvPr/>
        </p:nvPicPr>
        <p:blipFill>
          <a:blip r:embed="rId7"/>
          <a:srcRect l="0" t="58728" r="57983" b="0"/>
          <a:stretch/>
        </p:blipFill>
        <p:spPr>
          <a:xfrm>
            <a:off x="678168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одуктивная деятельность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ластилинография  «Узор на  полосе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Узор на  панно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ппликация «Узор на коне-качалк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Роспись Городецкой уточ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 «Узор на кухонной доск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8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702576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762120" y="472428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G:\ГОРОДЕЦ\111\53.jpg"/>
          <p:cNvPicPr/>
          <p:nvPr/>
        </p:nvPicPr>
        <p:blipFill>
          <a:blip r:embed="rId8"/>
          <a:stretch/>
        </p:blipFill>
        <p:spPr>
          <a:xfrm>
            <a:off x="5715000" y="4086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: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клад на родительском собрании «Влияние народных промыслов на эстетическое воспитание детей дошкольного возрас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нсультации для родителей «Народные игры в семь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екомендации родителям «Закрепление дома освоенных элементов росписи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ставка работ, выполненных совместно с   деть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Picture 4" descr="36"/>
          <p:cNvPicPr/>
          <p:nvPr/>
        </p:nvPicPr>
        <p:blipFill>
          <a:blip r:embed="rId5"/>
          <a:stretch/>
        </p:blipFill>
        <p:spPr>
          <a:xfrm>
            <a:off x="6705720" y="4368960"/>
            <a:ext cx="2438280" cy="248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1295280" y="47242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3733920" y="5297400"/>
            <a:ext cx="207144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ле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Как в волшебном Городц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8" name="Picture 4" descr="г1"/>
          <p:cNvPicPr/>
          <p:nvPr/>
        </p:nvPicPr>
        <p:blipFill>
          <a:blip r:embed="rId1"/>
          <a:stretch/>
        </p:blipFill>
        <p:spPr>
          <a:xfrm>
            <a:off x="990720" y="342900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33"/>
          <p:cNvPicPr/>
          <p:nvPr/>
        </p:nvPicPr>
        <p:blipFill>
          <a:blip r:embed="rId2"/>
          <a:stretch/>
        </p:blipFill>
        <p:spPr>
          <a:xfrm>
            <a:off x="6429240" y="228600"/>
            <a:ext cx="271476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ип проекта: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рок проведения проек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ябрь– дека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0" y="24379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50"/>
          <p:cNvPicPr/>
          <p:nvPr/>
        </p:nvPicPr>
        <p:blipFill>
          <a:blip r:embed="rId2"/>
          <a:stretch/>
        </p:blipFill>
        <p:spPr>
          <a:xfrm rot="275400">
            <a:off x="5790960" y="2361960"/>
            <a:ext cx="195408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G:\ГОРОДЕЦ\111\19.jpg"/>
          <p:cNvPicPr/>
          <p:nvPr/>
        </p:nvPicPr>
        <p:blipFill>
          <a:blip r:embed="rId3"/>
          <a:srcRect l="2362" t="11655" r="47254" b="0"/>
          <a:stretch/>
        </p:blipFill>
        <p:spPr>
          <a:xfrm rot="771000">
            <a:off x="4190760" y="4114800"/>
            <a:ext cx="1942920" cy="235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18"/>
          <p:cNvPicPr/>
          <p:nvPr/>
        </p:nvPicPr>
        <p:blipFill>
          <a:blip r:embed="rId4"/>
          <a:stretch/>
        </p:blipFill>
        <p:spPr>
          <a:xfrm>
            <a:off x="1752480" y="3809880"/>
            <a:ext cx="194148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обусловле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наше время мало внимания уделяется знакомству дете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различными видами декоративно-прикладного искусства 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народными традициями. В основн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программе дошкольног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разования «ОТ РОЖДЕНИЯ ДО ШКОЛЫ» / под ред. Н. 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ераксы,    Т. С.  Комаровой,     М. А.   Васильевой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достаточно      раскрыты      условия   формирова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ворческого воображения у детей с   использовани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родного промысла «Городца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необходима практическая разработка условий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птимизирующих процесс развития художественных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особностей и творческого воображения у детей средне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зраста с использованием приёмов Городецко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мыс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1" name="Picture 5" descr="49"/>
          <p:cNvPicPr/>
          <p:nvPr/>
        </p:nvPicPr>
        <p:blipFill>
          <a:blip r:embed="rId1"/>
          <a:stretch/>
        </p:blipFill>
        <p:spPr>
          <a:xfrm>
            <a:off x="7162920" y="3581280"/>
            <a:ext cx="1511280" cy="142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полхов\1.png"/>
          <p:cNvPicPr/>
          <p:nvPr/>
        </p:nvPicPr>
        <p:blipFill>
          <a:blip r:embed="rId2"/>
          <a:srcRect l="0" t="58728" r="57983" b="0"/>
          <a:stretch/>
        </p:blipFill>
        <p:spPr>
          <a:xfrm>
            <a:off x="6858000" y="22860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редней группы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дагоги групп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5" name="Picture 4" descr="г1"/>
          <p:cNvPicPr/>
          <p:nvPr/>
        </p:nvPicPr>
        <p:blipFill>
          <a:blip r:embed="rId4"/>
          <a:stretch/>
        </p:blipFill>
        <p:spPr>
          <a:xfrm>
            <a:off x="990720" y="3505320"/>
            <a:ext cx="5410080" cy="2895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1"/>
          <p:cNvPicPr/>
          <p:nvPr/>
        </p:nvPicPr>
        <p:blipFill>
          <a:blip r:embed="rId5"/>
          <a:srcRect l="51408" t="0" r="0" b="41716"/>
          <a:stretch/>
        </p:blipFill>
        <p:spPr>
          <a:xfrm rot="2624400">
            <a:off x="6552720" y="22860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комить детей с народны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мыслом  «Городецкая роспись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5" descr="г2"/>
          <p:cNvPicPr/>
          <p:nvPr/>
        </p:nvPicPr>
        <p:blipFill>
          <a:blip r:embed="rId1"/>
          <a:stretch/>
        </p:blipFill>
        <p:spPr>
          <a:xfrm>
            <a:off x="990720" y="3352680"/>
            <a:ext cx="5715000" cy="2679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1"/>
          <p:cNvPicPr/>
          <p:nvPr/>
        </p:nvPicPr>
        <p:blipFill>
          <a:blip r:embed="rId2"/>
          <a:srcRect l="51408" t="0" r="0" b="41716"/>
          <a:stretch/>
        </p:blipFill>
        <p:spPr>
          <a:xfrm rot="2624400">
            <a:off x="6781320" y="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Формировать у детей интерес к народно-прикладному искусству «Городецкой роспис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Знакомить  с характерными особенностями городецкой техники росписи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Освоение детьми основных приёмов и элементов Городецкой роспи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7162560" y="42667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G:\полхов\1.png"/>
          <p:cNvPicPr/>
          <p:nvPr/>
        </p:nvPicPr>
        <p:blipFill>
          <a:blip r:embed="rId2"/>
          <a:srcRect l="49616" t="9266" r="4786" b="46350"/>
          <a:stretch/>
        </p:blipFill>
        <p:spPr>
          <a:xfrm>
            <a:off x="7072200" y="228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формированный интерес у детей к народно-прикладному искусству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ния характерных особенностей  «Городецкой росписи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 создавать выразительные узоры на бумаг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7" descr="72"/>
          <p:cNvPicPr/>
          <p:nvPr/>
        </p:nvPicPr>
        <p:blipFill>
          <a:blip r:embed="rId4"/>
          <a:stretch/>
        </p:blipFill>
        <p:spPr>
          <a:xfrm>
            <a:off x="5562720" y="4648320"/>
            <a:ext cx="2990880" cy="2209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1905120" y="529740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662940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нести до участников проект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ажность данной те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развивающую среду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обрать материалы, игрушки, дидактические иг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в группе выставки  предметов Городецкого промы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2" name="Picture 18" descr="G:\ГОРОДЕЦ\111\16.jpg"/>
          <p:cNvPicPr/>
          <p:nvPr/>
        </p:nvPicPr>
        <p:blipFill>
          <a:blip r:embed="rId3"/>
          <a:stretch/>
        </p:blipFill>
        <p:spPr>
          <a:xfrm>
            <a:off x="6477120" y="4572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G:\полхов\1.png"/>
          <p:cNvPicPr/>
          <p:nvPr/>
        </p:nvPicPr>
        <p:blipFill>
          <a:blip r:embed="rId4"/>
          <a:srcRect l="0" t="58728" r="57983" b="0"/>
          <a:stretch/>
        </p:blipFill>
        <p:spPr>
          <a:xfrm>
            <a:off x="7091280" y="32004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5638680" y="52974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бор предметов по Городецкому промыслу, альбомов, художественной литерату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тическая выставка: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ставки работ, выполненные детьми и родител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3" descr="G:\полхов\1.png"/>
          <p:cNvPicPr/>
          <p:nvPr/>
        </p:nvPicPr>
        <p:blipFill>
          <a:blip r:embed="rId4"/>
          <a:srcRect l="49616" t="9266" r="4786" b="46350"/>
          <a:stretch/>
        </p:blipFill>
        <p:spPr>
          <a:xfrm>
            <a:off x="40384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G:\ГОРОДЕЦ\111\11.jpg"/>
          <p:cNvPicPr/>
          <p:nvPr/>
        </p:nvPicPr>
        <p:blipFill>
          <a:blip r:embed="rId5"/>
          <a:stretch/>
        </p:blipFill>
        <p:spPr>
          <a:xfrm>
            <a:off x="6643800" y="2133720"/>
            <a:ext cx="2500200" cy="3962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7091280" y="15228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1-17T16:19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