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9092-2A52-4E19-AEAD-05DF653E7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6223-26C3-4ADC-AA80-2E0F6632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D8FF-7C89-4E5F-A270-C75CB36E4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EFCF-FBA8-456D-AAE1-A211BD497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C90E-DE7C-46F8-B507-7FB9DEF8C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A9F1-4641-4BB0-B4E7-7B53C0B6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A5BD-2C46-403D-9BEB-9E4DBFFE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49F5-91D5-4708-B2FD-FFA48B39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F9DDB-E989-454D-B027-E3601DE3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1150-2F0C-42A3-BB92-6D3EA186C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EF849-EDC6-4CFC-B0CE-08811350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EAA7-2961-4F04-8663-38DEA810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113B6-57F7-428E-A14E-3EFCEDA4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1CC5-FB77-4957-B9E3-5EDA99A1D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DAA4-92EB-4CAA-A5C8-63115E60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4508-B712-4A7C-BC44-C9213AF07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3F1AA-B607-4244-87C9-582FAFBAF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5C91F-3B1E-4AEA-BE70-A9B3E55F4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EC513-AA3C-41C5-ADCE-B4520B9A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34396-E3E3-4261-986B-712E9BAC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19424-6C5F-4FCD-BB22-636CBCA3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72F29-7C2A-4309-8053-E7015AAA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4DCC-0718-4E01-A901-E30E0916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EA625-2788-4079-8BC4-CB77B8CB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D4320-CC2B-4E1F-BE53-0DF21112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26729-1C47-4A93-AEFE-A0E0BBFE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9CAC9-6E99-411A-97D1-F0EF9A19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82122-F8B2-46F6-9D87-1520E49E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8BC4D-3B70-4AEB-B5AD-61C45FB62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82C32-56AE-44B6-A999-A1819AC9C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D1329-A578-4C45-8653-77FCD1B00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F2598-A006-4AF9-A7DF-3A6F0655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C9201-F464-4032-95F1-6D680E3A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DA53-190E-43CE-A180-557F7A19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8814D-17E8-4B1E-9AC2-2E2029DE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3293F-19C0-443C-88D6-59E1E965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97244-A8CA-4ECC-AABC-81E03390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309D5-14CE-45EA-97BB-A99947CE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0D3F8-454C-40C4-AB49-CF42D03B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9E21E-69F2-462E-96EC-D66A4FD26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202CB-6209-4740-9B36-896E0622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83FDF-523A-46B0-8D35-081F083C5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BFCA4-B216-4EB3-B993-866966D33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C0A5-2770-45B6-BC41-E48E652A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CDD9-012D-4521-8D6D-087A16C2D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8E6A-BD00-4F1E-BAE4-7950A97D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A59F-C54F-404F-9B58-119AE771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1193-4F69-4D10-B04B-E1B87BA3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37.xml"/><Relationship Id="rId35" Type="http://schemas.openxmlformats.org/officeDocument/2006/relationships/slideLayout" Target="../slideLayouts/slideLayout38.xml"/><Relationship Id="rId36" Type="http://schemas.openxmlformats.org/officeDocument/2006/relationships/slideLayout" Target="../slideLayouts/slideLayout39.xml"/><Relationship Id="rId37" Type="http://schemas.openxmlformats.org/officeDocument/2006/relationships/slideLayout" Target="../slideLayouts/slideLayout40.xml"/><Relationship Id="rId38" Type="http://schemas.openxmlformats.org/officeDocument/2006/relationships/slideLayout" Target="../slideLayouts/slideLayout41.xml"/><Relationship Id="rId39" Type="http://schemas.openxmlformats.org/officeDocument/2006/relationships/slideLayout" Target="../slideLayouts/slideLayout42.xml"/><Relationship Id="rId40" Type="http://schemas.openxmlformats.org/officeDocument/2006/relationships/slideLayout" Target="../slideLayouts/slideLayout43.xml"/><Relationship Id="rId41" Type="http://schemas.openxmlformats.org/officeDocument/2006/relationships/slideLayout" Target="../slideLayouts/slideLayout44.xml"/><Relationship Id="rId42" Type="http://schemas.openxmlformats.org/officeDocument/2006/relationships/slideLayout" Target="../slideLayouts/slideLayout45.xml"/><Relationship Id="rId43" Type="http://schemas.openxmlformats.org/officeDocument/2006/relationships/slideLayout" Target="../slideLayouts/slideLayout46.xml"/><Relationship Id="rId44" Type="http://schemas.openxmlformats.org/officeDocument/2006/relationships/slideLayout" Target="../slideLayouts/slideLayout47.xml"/><Relationship Id="rId4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8AC0-C736-4FE3-BA27-34B852222C6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5F8D-127E-4AB0-AFF7-43847248372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41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2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3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4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5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5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6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1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2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3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4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5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6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7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8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0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1B8C-A133-404E-A38F-4E5DA06442B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34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5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6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37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38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39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40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41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3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49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0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1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3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4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5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6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7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8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9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1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2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3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5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6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7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8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9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0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1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2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3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4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5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6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77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8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9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0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1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2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3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4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5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6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7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589C-FD94-407A-8482-F3AEA460B10D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4"/>
    <p:sldLayoutId id="2147483689" r:id="rId35"/>
    <p:sldLayoutId id="2147483690" r:id="rId36"/>
    <p:sldLayoutId id="2147483691" r:id="rId37"/>
    <p:sldLayoutId id="2147483692" r:id="rId38"/>
    <p:sldLayoutId id="2147483693" r:id="rId39"/>
    <p:sldLayoutId id="2147483694" r:id="rId40"/>
    <p:sldLayoutId id="2147483695" r:id="rId41"/>
    <p:sldLayoutId id="2147483696" r:id="rId42"/>
    <p:sldLayoutId id="2147483697" r:id="rId43"/>
    <p:sldLayoutId id="2147483698" r:id="rId44"/>
    <p:sldLayoutId id="2147483699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2.png"/><Relationship Id="rId6" Type="http://schemas.openxmlformats.org/officeDocument/2006/relationships/image" Target="../media/image16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3.jpeg"/><Relationship Id="rId8" Type="http://schemas.openxmlformats.org/officeDocument/2006/relationships/image" Target="../media/image14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4.png"/><Relationship Id="rId6" Type="http://schemas.openxmlformats.org/officeDocument/2006/relationships/image" Target="../media/image18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6.png"/><Relationship Id="rId7" Type="http://schemas.openxmlformats.org/officeDocument/2006/relationships/image" Target="../media/image18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2.png"/><Relationship Id="rId6" Type="http://schemas.openxmlformats.org/officeDocument/2006/relationships/image" Target="../media/image14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9.png"/><Relationship Id="rId5" Type="http://schemas.openxmlformats.org/officeDocument/2006/relationships/image" Target="../media/image18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0.png"/><Relationship Id="rId4" Type="http://schemas.openxmlformats.org/officeDocument/2006/relationships/image" Target="../media/image14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8.png"/><Relationship Id="rId5" Type="http://schemas.openxmlformats.org/officeDocument/2006/relationships/image" Target="../media/image21.jpe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едагогический проект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«Городецкие узоры»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30" name="Picture 3" descr="Гордецкая роспись3-"/>
          <p:cNvPicPr/>
          <p:nvPr/>
        </p:nvPicPr>
        <p:blipFill>
          <a:blip r:embed="rId1"/>
          <a:stretch/>
        </p:blipFill>
        <p:spPr>
          <a:xfrm rot="973200">
            <a:off x="5392440" y="2960640"/>
            <a:ext cx="1888920" cy="28177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4" descr="Гордецкая роспись2-"/>
          <p:cNvPicPr/>
          <p:nvPr/>
        </p:nvPicPr>
        <p:blipFill>
          <a:blip r:embed="rId2"/>
          <a:stretch/>
        </p:blipFill>
        <p:spPr>
          <a:xfrm>
            <a:off x="2971800" y="1752480"/>
            <a:ext cx="2019240" cy="3179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" descr="Гордецкая роспись1-"/>
          <p:cNvPicPr/>
          <p:nvPr/>
        </p:nvPicPr>
        <p:blipFill>
          <a:blip r:embed="rId3"/>
          <a:stretch/>
        </p:blipFill>
        <p:spPr>
          <a:xfrm rot="20658000">
            <a:off x="609120" y="2819160"/>
            <a:ext cx="1960560" cy="305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сновной этап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04560" y="1598760"/>
            <a:ext cx="73450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Формы и методы работы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Игровая деятельность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ознавательное развитие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одуктивная деятельность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Работа с родителям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73" name="Picture 4" descr="36"/>
          <p:cNvPicPr/>
          <p:nvPr/>
        </p:nvPicPr>
        <p:blipFill>
          <a:blip r:embed="rId5"/>
          <a:stretch/>
        </p:blipFill>
        <p:spPr>
          <a:xfrm>
            <a:off x="5181480" y="2743200"/>
            <a:ext cx="3962520" cy="41148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1"/>
          <p:cNvPicPr/>
          <p:nvPr/>
        </p:nvPicPr>
        <p:blipFill>
          <a:blip r:embed="rId6"/>
          <a:srcRect l="51408" t="0" r="0" b="41716"/>
          <a:stretch/>
        </p:blipFill>
        <p:spPr>
          <a:xfrm rot="2624400">
            <a:off x="6400440" y="304920"/>
            <a:ext cx="2117880" cy="21430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G:\полхов\1.png"/>
          <p:cNvPicPr/>
          <p:nvPr/>
        </p:nvPicPr>
        <p:blipFill>
          <a:blip r:embed="rId7"/>
          <a:srcRect l="49616" t="9266" r="4786" b="46350"/>
          <a:stretch/>
        </p:blipFill>
        <p:spPr>
          <a:xfrm>
            <a:off x="1752480" y="4800600"/>
            <a:ext cx="2071800" cy="156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гровая деятельност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южетно-ролевые игры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«Экскурсия по городецкому музею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«Семья ремесленников из Городц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Дидактические игры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«Составь узор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«Обведи и раскрась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«Узнай элементы узор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«Найди пару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78" name="Picture 4" descr="14"/>
          <p:cNvPicPr/>
          <p:nvPr/>
        </p:nvPicPr>
        <p:blipFill>
          <a:blip r:embed="rId7"/>
          <a:stretch/>
        </p:blipFill>
        <p:spPr>
          <a:xfrm>
            <a:off x="6400800" y="2895480"/>
            <a:ext cx="2743200" cy="35766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G:\полхов\1.png"/>
          <p:cNvPicPr/>
          <p:nvPr/>
        </p:nvPicPr>
        <p:blipFill>
          <a:blip r:embed="rId8"/>
          <a:srcRect l="0" t="58728" r="57983" b="0"/>
          <a:stretch/>
        </p:blipFill>
        <p:spPr>
          <a:xfrm>
            <a:off x="5638680" y="60948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G:\полхов\1.png"/>
          <p:cNvPicPr/>
          <p:nvPr/>
        </p:nvPicPr>
        <p:blipFill>
          <a:blip r:embed="rId9"/>
          <a:srcRect l="49616" t="9266" r="4786" b="46350"/>
          <a:stretch/>
        </p:blipFill>
        <p:spPr>
          <a:xfrm>
            <a:off x="3657600" y="4876920"/>
            <a:ext cx="2071800" cy="156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ознавательное развит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«Знакомство с Городецкой росписью», посещение выставк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Беседа  «В гостях у городецких мастеров»,  - рассказ об истории промысл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ассматривание иллюстраций об истории промысл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азучивание песен, стихов, потешек, сочинение сказок по теме: «Наш весёлый Городец»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83" name="Picture 13" descr="G:\ГОРОДЕЦ\111\59.jpg"/>
          <p:cNvPicPr/>
          <p:nvPr/>
        </p:nvPicPr>
        <p:blipFill>
          <a:blip r:embed="rId5"/>
          <a:stretch/>
        </p:blipFill>
        <p:spPr>
          <a:xfrm>
            <a:off x="6883560" y="1828800"/>
            <a:ext cx="2260440" cy="89805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G:\полхов\1.png"/>
          <p:cNvPicPr/>
          <p:nvPr/>
        </p:nvPicPr>
        <p:blipFill>
          <a:blip r:embed="rId6"/>
          <a:srcRect l="49616" t="9266" r="4786" b="46350"/>
          <a:stretch/>
        </p:blipFill>
        <p:spPr>
          <a:xfrm>
            <a:off x="3352680" y="5105520"/>
            <a:ext cx="2071800" cy="15602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G:\полхов\1.png"/>
          <p:cNvPicPr/>
          <p:nvPr/>
        </p:nvPicPr>
        <p:blipFill>
          <a:blip r:embed="rId7"/>
          <a:srcRect l="0" t="58728" r="57983" b="0"/>
          <a:stretch/>
        </p:blipFill>
        <p:spPr>
          <a:xfrm>
            <a:off x="6781680" y="304920"/>
            <a:ext cx="2052720" cy="156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9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Продуктивная деятельность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ластилинография  «Узор на  полосе  из  бутонов и  листьев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исование «Узор на  панно  из  бутонов и  листьев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Аппликация «Узор на коне-качалке»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исование «Роспись Городецкой уточки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исование  «Узор на кухонной доске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88" name="Picture 4" descr="1"/>
          <p:cNvPicPr/>
          <p:nvPr/>
        </p:nvPicPr>
        <p:blipFill>
          <a:blip r:embed="rId6"/>
          <a:srcRect l="51408" t="0" r="0" b="41716"/>
          <a:stretch/>
        </p:blipFill>
        <p:spPr>
          <a:xfrm rot="2624400">
            <a:off x="7025760" y="304920"/>
            <a:ext cx="2117880" cy="21430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" descr="G:\полхов\1.png"/>
          <p:cNvPicPr/>
          <p:nvPr/>
        </p:nvPicPr>
        <p:blipFill>
          <a:blip r:embed="rId7"/>
          <a:srcRect l="49616" t="9266" r="4786" b="46350"/>
          <a:stretch/>
        </p:blipFill>
        <p:spPr>
          <a:xfrm>
            <a:off x="762120" y="4724280"/>
            <a:ext cx="2071440" cy="15606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4" descr="G:\ГОРОДЕЦ\111\53.jpg"/>
          <p:cNvPicPr/>
          <p:nvPr/>
        </p:nvPicPr>
        <p:blipFill>
          <a:blip r:embed="rId8"/>
          <a:stretch/>
        </p:blipFill>
        <p:spPr>
          <a:xfrm>
            <a:off x="5715000" y="4086360"/>
            <a:ext cx="3429000" cy="27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Работа с родителями:</a:t>
            </a: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Доклад на родительском собрании «Влияние народных промыслов на эстетическое воспитание детей дошкольного возраст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Консультации для родителей «Народные игры в семье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екомендации родителям «Закрепление дома освоенных элементов росписи Городц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ыставка работ, выполненных совместно с   детьм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93" name="Picture 4" descr="36"/>
          <p:cNvPicPr/>
          <p:nvPr/>
        </p:nvPicPr>
        <p:blipFill>
          <a:blip r:embed="rId5"/>
          <a:stretch/>
        </p:blipFill>
        <p:spPr>
          <a:xfrm>
            <a:off x="6705720" y="4368960"/>
            <a:ext cx="2438280" cy="24890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G:\полхов\1.png"/>
          <p:cNvPicPr/>
          <p:nvPr/>
        </p:nvPicPr>
        <p:blipFill>
          <a:blip r:embed="rId6"/>
          <a:srcRect l="0" t="58728" r="57983" b="0"/>
          <a:stretch/>
        </p:blipFill>
        <p:spPr>
          <a:xfrm>
            <a:off x="1295280" y="472428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G:\полхов\1.png"/>
          <p:cNvPicPr/>
          <p:nvPr/>
        </p:nvPicPr>
        <p:blipFill>
          <a:blip r:embed="rId7"/>
          <a:srcRect l="49616" t="9266" r="4786" b="46350"/>
          <a:stretch/>
        </p:blipFill>
        <p:spPr>
          <a:xfrm>
            <a:off x="3733920" y="5297400"/>
            <a:ext cx="2071440" cy="156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езентация проект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звлечени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«Как в волшебном Городце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98" name="Picture 4" descr="г1"/>
          <p:cNvPicPr/>
          <p:nvPr/>
        </p:nvPicPr>
        <p:blipFill>
          <a:blip r:embed="rId1"/>
          <a:stretch/>
        </p:blipFill>
        <p:spPr>
          <a:xfrm>
            <a:off x="990720" y="3429000"/>
            <a:ext cx="5257800" cy="34290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9" descr="33"/>
          <p:cNvPicPr/>
          <p:nvPr/>
        </p:nvPicPr>
        <p:blipFill>
          <a:blip r:embed="rId2"/>
          <a:stretch/>
        </p:blipFill>
        <p:spPr>
          <a:xfrm>
            <a:off x="6429240" y="228600"/>
            <a:ext cx="2714760" cy="430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Тип проекта: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Творческий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Срок проведения проект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оябрь– декабр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35" name="Picture 13" descr="13"/>
          <p:cNvPicPr/>
          <p:nvPr/>
        </p:nvPicPr>
        <p:blipFill>
          <a:blip r:embed="rId1"/>
          <a:srcRect l="49616" t="0" r="0" b="0"/>
          <a:stretch/>
        </p:blipFill>
        <p:spPr>
          <a:xfrm rot="21399000">
            <a:off x="0" y="2437920"/>
            <a:ext cx="1809720" cy="22320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6" descr="50"/>
          <p:cNvPicPr/>
          <p:nvPr/>
        </p:nvPicPr>
        <p:blipFill>
          <a:blip r:embed="rId2"/>
          <a:stretch/>
        </p:blipFill>
        <p:spPr>
          <a:xfrm rot="275400">
            <a:off x="5790960" y="2361960"/>
            <a:ext cx="1954080" cy="21128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5" descr="G:\ГОРОДЕЦ\111\19.jpg"/>
          <p:cNvPicPr/>
          <p:nvPr/>
        </p:nvPicPr>
        <p:blipFill>
          <a:blip r:embed="rId3"/>
          <a:srcRect l="2362" t="11655" r="47254" b="0"/>
          <a:stretch/>
        </p:blipFill>
        <p:spPr>
          <a:xfrm rot="771000">
            <a:off x="4190760" y="4114800"/>
            <a:ext cx="1942920" cy="23590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18"/>
          <p:cNvPicPr/>
          <p:nvPr/>
        </p:nvPicPr>
        <p:blipFill>
          <a:blip r:embed="rId4"/>
          <a:stretch/>
        </p:blipFill>
        <p:spPr>
          <a:xfrm>
            <a:off x="1752480" y="3809880"/>
            <a:ext cx="1941480" cy="252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Актуальность обусловлен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В наше время мало внимания уделяется знакомству детей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с различными видами декоративно-прикладного искусства и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с народными традициями. В основной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общеобразовательной программе дошкольного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образования «ОТ РОЖДЕНИЯ ДО ШКОЛЫ» / под ред. Н. Е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Вераксы,    Т. С.  Комаровой,     М. А.   Васильевой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недостаточно      раскрыты      условия   формирования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творческого воображения у детей с   использованием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народного промысла «Городца»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оэтому необходима практическая разработка условий,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оптимизирующих процесс развития художественных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способностей и творческого воображения у детей среднего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возраста с использованием приёмов Городецкого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ромысл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41" name="Picture 5" descr="49"/>
          <p:cNvPicPr/>
          <p:nvPr/>
        </p:nvPicPr>
        <p:blipFill>
          <a:blip r:embed="rId1"/>
          <a:stretch/>
        </p:blipFill>
        <p:spPr>
          <a:xfrm>
            <a:off x="7162920" y="3581280"/>
            <a:ext cx="1511280" cy="14256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" descr="G:\полхов\1.png"/>
          <p:cNvPicPr/>
          <p:nvPr/>
        </p:nvPicPr>
        <p:blipFill>
          <a:blip r:embed="rId2"/>
          <a:srcRect l="0" t="58728" r="57983" b="0"/>
          <a:stretch/>
        </p:blipFill>
        <p:spPr>
          <a:xfrm>
            <a:off x="6858000" y="228600"/>
            <a:ext cx="2052720" cy="15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Участники проект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ети средней группы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одители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едагоги группы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45" name="Picture 4" descr="г1"/>
          <p:cNvPicPr/>
          <p:nvPr/>
        </p:nvPicPr>
        <p:blipFill>
          <a:blip r:embed="rId4"/>
          <a:stretch/>
        </p:blipFill>
        <p:spPr>
          <a:xfrm>
            <a:off x="990720" y="3505320"/>
            <a:ext cx="5410080" cy="28954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1"/>
          <p:cNvPicPr/>
          <p:nvPr/>
        </p:nvPicPr>
        <p:blipFill>
          <a:blip r:embed="rId5"/>
          <a:srcRect l="51408" t="0" r="0" b="41716"/>
          <a:stretch/>
        </p:blipFill>
        <p:spPr>
          <a:xfrm rot="2624400">
            <a:off x="6552720" y="228600"/>
            <a:ext cx="211788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Цель проект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знакомить детей с народным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омыслом  «Городецкая роспись»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49" name="Picture 5" descr="г2"/>
          <p:cNvPicPr/>
          <p:nvPr/>
        </p:nvPicPr>
        <p:blipFill>
          <a:blip r:embed="rId1"/>
          <a:stretch/>
        </p:blipFill>
        <p:spPr>
          <a:xfrm>
            <a:off x="990720" y="3352680"/>
            <a:ext cx="5715000" cy="26798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1"/>
          <p:cNvPicPr/>
          <p:nvPr/>
        </p:nvPicPr>
        <p:blipFill>
          <a:blip r:embed="rId2"/>
          <a:srcRect l="51408" t="0" r="0" b="41716"/>
          <a:stretch/>
        </p:blipFill>
        <p:spPr>
          <a:xfrm rot="2624400">
            <a:off x="6781320" y="0"/>
            <a:ext cx="211788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Задачи проект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. Формировать у детей интерес к народно-прикладному искусству «Городецкой росписи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. Знакомить  с характерными особенностями городецкой техники росписи дерев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3. Освоение детьми основных приёмов и элементов Городецкой роспис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53" name="Picture 13" descr="13"/>
          <p:cNvPicPr/>
          <p:nvPr/>
        </p:nvPicPr>
        <p:blipFill>
          <a:blip r:embed="rId1"/>
          <a:srcRect l="49616" t="0" r="0" b="0"/>
          <a:stretch/>
        </p:blipFill>
        <p:spPr>
          <a:xfrm rot="21399000">
            <a:off x="7162560" y="4266720"/>
            <a:ext cx="1809720" cy="22320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" descr="G:\полхов\1.png"/>
          <p:cNvPicPr/>
          <p:nvPr/>
        </p:nvPicPr>
        <p:blipFill>
          <a:blip r:embed="rId2"/>
          <a:srcRect l="49616" t="9266" r="4786" b="46350"/>
          <a:stretch/>
        </p:blipFill>
        <p:spPr>
          <a:xfrm>
            <a:off x="7072200" y="228600"/>
            <a:ext cx="2071800" cy="156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жидаемый результат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формированный интерес у детей к народно-прикладному искусству «Городецкая роспись»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нания характерных особенностей  «Городецкой росписи»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мение  создавать выразительные узоры на бумаг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57" name="Picture 7" descr="72"/>
          <p:cNvPicPr/>
          <p:nvPr/>
        </p:nvPicPr>
        <p:blipFill>
          <a:blip r:embed="rId4"/>
          <a:stretch/>
        </p:blipFill>
        <p:spPr>
          <a:xfrm>
            <a:off x="5562720" y="4648320"/>
            <a:ext cx="2990880" cy="22096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G:\полхов\1.png"/>
          <p:cNvPicPr/>
          <p:nvPr/>
        </p:nvPicPr>
        <p:blipFill>
          <a:blip r:embed="rId5"/>
          <a:srcRect l="49616" t="9266" r="4786" b="46350"/>
          <a:stretch/>
        </p:blipFill>
        <p:spPr>
          <a:xfrm>
            <a:off x="1905120" y="5297400"/>
            <a:ext cx="2071440" cy="15606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" descr="G:\полхов\1.png"/>
          <p:cNvPicPr/>
          <p:nvPr/>
        </p:nvPicPr>
        <p:blipFill>
          <a:blip r:embed="rId6"/>
          <a:srcRect l="0" t="58728" r="57983" b="0"/>
          <a:stretch/>
        </p:blipFill>
        <p:spPr>
          <a:xfrm>
            <a:off x="6629400" y="304920"/>
            <a:ext cx="2052720" cy="156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одготовительный этап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онести до участников проекта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ажность данной темы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здать развивающую среду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добрать материалы, игрушки, дидактические игры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рганизация в группе выставки  предметов Городецкого промысла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62" name="Picture 18" descr="G:\ГОРОДЕЦ\111\16.jpg"/>
          <p:cNvPicPr/>
          <p:nvPr/>
        </p:nvPicPr>
        <p:blipFill>
          <a:blip r:embed="rId3"/>
          <a:stretch/>
        </p:blipFill>
        <p:spPr>
          <a:xfrm>
            <a:off x="6477120" y="457200"/>
            <a:ext cx="2666880" cy="24382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" descr="G:\полхов\1.png"/>
          <p:cNvPicPr/>
          <p:nvPr/>
        </p:nvPicPr>
        <p:blipFill>
          <a:blip r:embed="rId4"/>
          <a:srcRect l="0" t="58728" r="57983" b="0"/>
          <a:stretch/>
        </p:blipFill>
        <p:spPr>
          <a:xfrm>
            <a:off x="7091280" y="32004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G:\полхов\1.png"/>
          <p:cNvPicPr/>
          <p:nvPr/>
        </p:nvPicPr>
        <p:blipFill>
          <a:blip r:embed="rId5"/>
          <a:srcRect l="49616" t="9266" r="4786" b="46350"/>
          <a:stretch/>
        </p:blipFill>
        <p:spPr>
          <a:xfrm>
            <a:off x="5638680" y="5297400"/>
            <a:ext cx="2071800" cy="156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одготовительный этап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дбор предметов по Городецкому промыслу, альбомов, художественной литературы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тическая выставка: «Городецкая роспись»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ыставки работ, выполненные детьми и родителям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67" name="Picture 3" descr="G:\полхов\1.png"/>
          <p:cNvPicPr/>
          <p:nvPr/>
        </p:nvPicPr>
        <p:blipFill>
          <a:blip r:embed="rId4"/>
          <a:srcRect l="49616" t="9266" r="4786" b="46350"/>
          <a:stretch/>
        </p:blipFill>
        <p:spPr>
          <a:xfrm>
            <a:off x="4038480" y="5105520"/>
            <a:ext cx="2071800" cy="15602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5" descr="G:\ГОРОДЕЦ\111\11.jpg"/>
          <p:cNvPicPr/>
          <p:nvPr/>
        </p:nvPicPr>
        <p:blipFill>
          <a:blip r:embed="rId5"/>
          <a:stretch/>
        </p:blipFill>
        <p:spPr>
          <a:xfrm>
            <a:off x="6643800" y="2133720"/>
            <a:ext cx="2500200" cy="39621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G:\полхов\1.png"/>
          <p:cNvPicPr/>
          <p:nvPr/>
        </p:nvPicPr>
        <p:blipFill>
          <a:blip r:embed="rId6"/>
          <a:srcRect l="0" t="58728" r="57983" b="0"/>
          <a:stretch/>
        </p:blipFill>
        <p:spPr>
          <a:xfrm>
            <a:off x="7091280" y="152280"/>
            <a:ext cx="2052720" cy="1560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5-01-17T16:19:06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