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379E-68F8-4D91-9B6F-65EDDE05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583-3AC3-4B9C-BB22-552B005A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8AAC-FD29-40F9-972E-23879D2E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3C5D-0C66-40B2-9115-F6C96F1D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1189-6B85-493B-9467-A8F64FAC5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2CFB-EF94-4699-A86C-252FCE0D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73C-58ED-450E-BC8D-313B15E0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E2A-3D95-42EE-8AD8-6689F00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FB1C-BC84-44C7-8B8F-9AFEC791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49A-3078-4EDC-9E6F-3EE114CE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121D-ACD5-4432-9BB1-4A6622BE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5D30-AF62-4DF4-B5B0-E13E0801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1218-7ABA-4DB1-A174-F65E47DFD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урочная деятельность по истории и обществозн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Анонсы телеканалов &quot; Страница 22 &quot; ТелеВести.Ру - Новости ТВ, Новости телевидения, ТВ, Все о телевидении в Москве и России, Масс"/>
          <p:cNvPicPr/>
          <p:nvPr/>
        </p:nvPicPr>
        <p:blipFill>
          <a:blip r:embed="rId1"/>
          <a:stretch/>
        </p:blipFill>
        <p:spPr>
          <a:xfrm>
            <a:off x="228600" y="1523880"/>
            <a:ext cx="2286000" cy="21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3" name="" descr="Мудреем.ру - Мудреть вместе лучше"/>
          <p:cNvPicPr/>
          <p:nvPr/>
        </p:nvPicPr>
        <p:blipFill>
          <a:blip r:embed="rId2"/>
          <a:stretch/>
        </p:blipFill>
        <p:spPr>
          <a:xfrm>
            <a:off x="3124080" y="1523880"/>
            <a:ext cx="2590920" cy="19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4" name="" descr="Полные варианты известных поговорок &quot; CreativLabs"/>
          <p:cNvPicPr/>
          <p:nvPr/>
        </p:nvPicPr>
        <p:blipFill>
          <a:blip r:embed="rId3"/>
          <a:stretch/>
        </p:blipFill>
        <p:spPr>
          <a:xfrm>
            <a:off x="5867280" y="1523880"/>
            <a:ext cx="2667240" cy="192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" descr="Фотография 1 - Мои фотографии - Фотоальбомы - ИСТОРИЯ ИЗОБРЕТЕНИЯ"/>
          <p:cNvPicPr/>
          <p:nvPr/>
        </p:nvPicPr>
        <p:blipFill>
          <a:blip r:embed="rId4"/>
          <a:stretch/>
        </p:blipFill>
        <p:spPr>
          <a:xfrm>
            <a:off x="5029200" y="3657600"/>
            <a:ext cx="3962520" cy="29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" descr="&quot;Каждая фотография - всегда история двоих: фотографа и зрителя&quot; - Ансель Адамс Вязание"/>
          <p:cNvPicPr/>
          <p:nvPr/>
        </p:nvPicPr>
        <p:blipFill>
          <a:blip r:embed="rId5"/>
          <a:stretch/>
        </p:blipFill>
        <p:spPr>
          <a:xfrm>
            <a:off x="2629080" y="3657600"/>
            <a:ext cx="2247840" cy="300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7" name="" descr="Что-то сообщество про Японию, а сам."/>
          <p:cNvPicPr/>
          <p:nvPr/>
        </p:nvPicPr>
        <p:blipFill>
          <a:blip r:embed="rId6"/>
          <a:stretch/>
        </p:blipFill>
        <p:spPr>
          <a:xfrm>
            <a:off x="152280" y="4343400"/>
            <a:ext cx="2338560" cy="202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частие в муниципальных мероприятиях по предмет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нязья земли русской» (команда 6 А кл.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2011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Армейский калейдоскоп» (команда учеников 6 А и 6 Б кл.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кросс «Я молодость свою не сдам в архив» (90-лет ВЛКСМ) (команда 11 Б кл.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.) (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кросс «Памятник жертвам политических репрессий» (коман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кл.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.) (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осударственная символика России» (команда 7-8 кл.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 (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ород, который нельзя победить» (70 лет снятия блокады Ленинграда) (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молодого избирателя- (9-е кл.) МБУ Кемская МЦРБ (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команды школы к историческому конкурсу в рамках игры «Побед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4648320"/>
            <a:ext cx="2800440" cy="210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4681440"/>
            <a:ext cx="2514600" cy="204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845080" cy="203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ция «Бессмертный пол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689440" cy="42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400640" cy="437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спубликански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ьная игра-викторина «Основной Закон»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сто- команда 10-х кл.,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сто- команда 11-х кл.,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сто- команда 9-х кл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392800" cy="351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2221" r="0" b="30000"/>
          <a:stretch/>
        </p:blipFill>
        <p:spPr>
          <a:xfrm>
            <a:off x="152280" y="152280"/>
            <a:ext cx="6477120" cy="316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2614680"/>
            <a:ext cx="5486400" cy="410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и проведение школьного тура Всероссийской олимпиады по истории, обществознанию, праву, эконом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в жюри по проверке работ на муниципальной олимпи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Командные игры по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ордость и слава Древней Греции» (5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но-историческая игра в 5-х кл. «200 лет Бороди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гадки карельских петроглифов» (6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поха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(7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кларация прав ребенка» (7-е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оссийская импер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» (8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еликой Победе посвящается» (9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гненная дуга. 70 лет Курской битве» (9-10 кл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оссия и Крым. Мы вместе» (9-10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70 лет освобождения Карелии» (11-е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стория в произведениях А.С.Пушкина» (8, 10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5880" y="4552920"/>
            <a:ext cx="2876760" cy="2157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4572000"/>
            <a:ext cx="2876760" cy="2157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4610160"/>
            <a:ext cx="2849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скуссии и политические диспут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обществознани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96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ицо России» (9, 10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ой я вижу Россию» (11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ерой России» (11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514600" cy="21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3867120" cy="29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867120" cy="29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материалов и проведение тематических уроков в 5-11 кл. и начальной школ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70 лет Курской битвы» (сентябрь 201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ень народного единства» (ноябрь 201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оссия и Крым. Мы вместе» (апрель 20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амоуправление в Кемском муниципальном районе» (апрель 20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4419720"/>
            <a:ext cx="1422360" cy="2239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181152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2014-03-27_07-27-09"/>
          <p:cNvPicPr/>
          <p:nvPr/>
        </p:nvPicPr>
        <p:blipFill>
          <a:blip r:embed="rId3"/>
          <a:stretch/>
        </p:blipFill>
        <p:spPr>
          <a:xfrm>
            <a:off x="3581280" y="4419720"/>
            <a:ext cx="3090960" cy="2252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http://about-war.narod.ru/images/kyrsk/1.jpg"/>
          <p:cNvPicPr/>
          <p:nvPr/>
        </p:nvPicPr>
        <p:blipFill>
          <a:blip r:embed="rId4"/>
          <a:stretch/>
        </p:blipFill>
        <p:spPr>
          <a:xfrm>
            <a:off x="6781680" y="4419720"/>
            <a:ext cx="20797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курсы рисун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рвобытный человек» среди 5-х кл. (участвовало 2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ревний Египет» среди 5-х к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вова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ревняя Греция» среди 5-х кл. (участвовало 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юри конкур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сонова Ангелина Сергеевна (учитель ИЗ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вцова Надежда Алексеевна (учитель исто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алов Александр Владимирович (учитель исто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лен стенд с лучшими рисунками конкурса в кабинете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ожалуйста, повторите поиск еще раз."/>
          <p:cNvPicPr/>
          <p:nvPr/>
        </p:nvPicPr>
        <p:blipFill>
          <a:blip r:embed="rId1"/>
          <a:stretch/>
        </p:blipFill>
        <p:spPr>
          <a:xfrm>
            <a:off x="762120" y="487692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Свадебные конкурсы для гостей, игры на свадьбе - купить веселые конкурсы на свадьбу для жениха и невесты в салон-магазине &quot;Сваде"/>
          <p:cNvPicPr/>
          <p:nvPr/>
        </p:nvPicPr>
        <p:blipFill>
          <a:blip r:embed="rId2"/>
          <a:stretch/>
        </p:blipFill>
        <p:spPr>
          <a:xfrm>
            <a:off x="2819520" y="4876920"/>
            <a:ext cx="178596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un Tournament 5х5 - Страница 40 - Форумы CrossFire"/>
          <p:cNvPicPr/>
          <p:nvPr/>
        </p:nvPicPr>
        <p:blipFill>
          <a:blip r:embed="rId3"/>
          <a:stretch/>
        </p:blipFill>
        <p:spPr>
          <a:xfrm>
            <a:off x="4800600" y="4876920"/>
            <a:ext cx="187632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Цвета и эмоции в интерьере AP LocusAP Locus"/>
          <p:cNvPicPr/>
          <p:nvPr/>
        </p:nvPicPr>
        <p:blipFill>
          <a:blip r:embed="rId4"/>
          <a:stretch/>
        </p:blipFill>
        <p:spPr>
          <a:xfrm>
            <a:off x="6858000" y="4952880"/>
            <a:ext cx="17622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оектно-исследовательская деяте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ин А. «Пречудных стен округ из диких камней град» (Секреты возведения крепостных стен  соловецкого монастыря) (201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Книга- лекарство от всех болезней» (10 к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2540160" cy="350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64200" y="3124080"/>
            <a:ext cx="2395440" cy="3444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пуск газеты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Ну ты сказал»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1, 2,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16216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2280" y="2608200"/>
            <a:ext cx="883944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орческая деятельность учителей истории (закрытие Фестиваля нау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67080" cy="383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4680" y="2209680"/>
            <a:ext cx="4230720" cy="444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хин</cp:lastModifiedBy>
  <dcterms:modified xsi:type="dcterms:W3CDTF">2018-06-25T08:44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