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3.png" ContentType="image/pn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png" ContentType="image/pn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3BF8-7BD3-447B-BA8F-F56D23AB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5B52-C53A-47F9-8E3D-4E70CDF5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F318-B630-4748-8EEE-178BD856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9CFD-5AA0-4BB3-9B04-32B3AE62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3F0-6C01-4D3A-B911-617F21CEB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4DCA-878E-461D-BD92-8E7223E4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BAC-7A68-469B-95CE-65F93010F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5828-0785-4A34-AE02-3B43EC1C7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72F-E818-4F1F-9C76-E67217A0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75FA-4B46-4CC3-BFA8-3744F722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E91C-9AD8-470D-B991-F1D5A2F8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ECBA-8C49-4B77-B4D1-82A476A0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969C-55ED-429B-A86D-8C2A8D30F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урочная деятельность по истории и обществознан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Анонсы телеканалов &quot; Страница 22 &quot; ТелеВести.Ру - Новости ТВ, Новости телевидения, ТВ, Все о телевидении в Москве и России, Масс"/>
          <p:cNvPicPr/>
          <p:nvPr/>
        </p:nvPicPr>
        <p:blipFill>
          <a:blip r:embed="rId1"/>
          <a:stretch/>
        </p:blipFill>
        <p:spPr>
          <a:xfrm>
            <a:off x="228600" y="1523880"/>
            <a:ext cx="2286000" cy="2186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3" name="" descr="Мудреем.ру - Мудреть вместе лучше"/>
          <p:cNvPicPr/>
          <p:nvPr/>
        </p:nvPicPr>
        <p:blipFill>
          <a:blip r:embed="rId2"/>
          <a:stretch/>
        </p:blipFill>
        <p:spPr>
          <a:xfrm>
            <a:off x="3124080" y="1523880"/>
            <a:ext cx="2590920" cy="19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4" name="" descr="Полные варианты известных поговорок &quot; CreativLabs"/>
          <p:cNvPicPr/>
          <p:nvPr/>
        </p:nvPicPr>
        <p:blipFill>
          <a:blip r:embed="rId3"/>
          <a:stretch/>
        </p:blipFill>
        <p:spPr>
          <a:xfrm>
            <a:off x="5867280" y="1523880"/>
            <a:ext cx="2667240" cy="1927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5" name="" descr="Фотография 1 - Мои фотографии - Фотоальбомы - ИСТОРИЯ ИЗОБРЕТЕНИЯ"/>
          <p:cNvPicPr/>
          <p:nvPr/>
        </p:nvPicPr>
        <p:blipFill>
          <a:blip r:embed="rId4"/>
          <a:stretch/>
        </p:blipFill>
        <p:spPr>
          <a:xfrm>
            <a:off x="5029200" y="3657600"/>
            <a:ext cx="3962520" cy="2987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6" name="" descr="&quot;Каждая фотография - всегда история двоих: фотографа и зрителя&quot; - Ансель Адамс Вязание"/>
          <p:cNvPicPr/>
          <p:nvPr/>
        </p:nvPicPr>
        <p:blipFill>
          <a:blip r:embed="rId5"/>
          <a:stretch/>
        </p:blipFill>
        <p:spPr>
          <a:xfrm>
            <a:off x="2629080" y="3657600"/>
            <a:ext cx="2247840" cy="300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7" name="" descr="Что-то сообщество про Японию, а сам."/>
          <p:cNvPicPr/>
          <p:nvPr/>
        </p:nvPicPr>
        <p:blipFill>
          <a:blip r:embed="rId6"/>
          <a:stretch/>
        </p:blipFill>
        <p:spPr>
          <a:xfrm>
            <a:off x="152280" y="4343400"/>
            <a:ext cx="2338560" cy="2022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Участие в муниципальных мероприятиях по предмету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2280" y="762120"/>
            <a:ext cx="8839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нязья земли русской» (команда 6 А кл.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 (2011 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Армейский калейдоскоп» (команда учеников 6 А и 6 Б кл.)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 (201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токросс «Я молодость свою не сдам в архив» (90-лет ВЛКСМ) (команда 11 Б кл.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.) (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токросс «Памятник жертвам политических репрессий» (команд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кл.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.) (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Государственная символика России» (команда 7-8 кл.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место) (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Город, который нельзя победить» (70 лет снятия блокады Ленинграда) (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нь молодого избирателя- (9-е кл.) МБУ Кемская МЦРБ (20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ка команды школы к историческому конкурсу в рамках игры «Победа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72200" y="4648320"/>
            <a:ext cx="2800440" cy="2100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505320" y="4681440"/>
            <a:ext cx="2514600" cy="2041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80880" y="4648320"/>
            <a:ext cx="2845080" cy="203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кция «Бессмертный пол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5689440" cy="4267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0" y="2286000"/>
            <a:ext cx="4400640" cy="4371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88394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Республиканский уровен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теллектуальная игра-викторина «Основной Закон»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сто- команда 10-х кл.,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сто- команда 11-х кл.,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есто- команда 9-х кл.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5392800" cy="351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rcRect l="0" t="2221" r="0" b="30000"/>
          <a:stretch/>
        </p:blipFill>
        <p:spPr>
          <a:xfrm>
            <a:off x="152280" y="152280"/>
            <a:ext cx="6477120" cy="3160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505320" y="2614680"/>
            <a:ext cx="5486400" cy="4102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дготовка и проведение школьного тура Всероссийской олимпиады по истории, обществознанию, праву, эконом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бота в жюри по проверке работ на муниципальной олимпиа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Командные игры по ис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Гордость и слава Древней Греции» (5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но-историческая игра в 5-х кл. «200 лет Бородин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Загадки карельских петроглифов» (6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Эпоха Петр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(7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Декларация прав ребенка» (7-е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оссийская империя в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.» (8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еликой Победе посвящается» (9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Огненная дуга. 70 лет Курской битве» (9-10 кл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Россия и Крым. Мы вместе» (9-10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70 лет освобождения Карелии» (11-е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История в произведениях А.С.Пушкина» (8, 10 к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095880" y="4552920"/>
            <a:ext cx="2876760" cy="2157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124080" y="4572000"/>
            <a:ext cx="2876760" cy="2157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52280" y="4610160"/>
            <a:ext cx="28497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Дискуссии и политические диспуты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 обществознанию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895480" y="1600200"/>
            <a:ext cx="6096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Лицо России» (9, 10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Какой я вижу Россию» (11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Герой России» (11 кл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1447920"/>
            <a:ext cx="2514600" cy="21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48320" y="3809880"/>
            <a:ext cx="3867120" cy="29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57200" y="3809880"/>
            <a:ext cx="3867120" cy="29005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274680"/>
            <a:ext cx="876312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Подготовка материалов и проведение тематических уроков в 5-11 кл. и начальной школе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8394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70 лет Курской битвы» (сентябрь 201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День народного единства» (ноябрь 2013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Россия и Крым. Мы вместе» (апрель 20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Самоуправление в Кемском муниципальном районе» (апрель 201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57400" y="4419720"/>
            <a:ext cx="1422360" cy="2239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52280" y="4572000"/>
            <a:ext cx="1811520" cy="2133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2014-03-27_07-27-09"/>
          <p:cNvPicPr/>
          <p:nvPr/>
        </p:nvPicPr>
        <p:blipFill>
          <a:blip r:embed="rId3"/>
          <a:stretch/>
        </p:blipFill>
        <p:spPr>
          <a:xfrm>
            <a:off x="3581280" y="4419720"/>
            <a:ext cx="3090960" cy="22525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http://about-war.narod.ru/images/kyrsk/1.jpg"/>
          <p:cNvPicPr/>
          <p:nvPr/>
        </p:nvPicPr>
        <p:blipFill>
          <a:blip r:embed="rId4"/>
          <a:stretch/>
        </p:blipFill>
        <p:spPr>
          <a:xfrm>
            <a:off x="6781680" y="4419720"/>
            <a:ext cx="2079720" cy="22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нкурсы рисун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914040"/>
            <a:ext cx="8839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Первобытный человек» среди 5-х кл. (участвовало 2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ревний Египет» среди 5-х к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аствовал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Древняя Греция» среди 5-х кл. (участвовало 2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Жюри конкур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мсонова Ангелина Сергеевна (учитель ИЗ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вцова Надежда Алексеевна (учитель истор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валов Александр Владимирович (учитель истор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формлен стенд с лучшими рисунками конкурса в кабинете 2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Пожалуйста, повторите поиск еще раз."/>
          <p:cNvPicPr/>
          <p:nvPr/>
        </p:nvPicPr>
        <p:blipFill>
          <a:blip r:embed="rId1"/>
          <a:stretch/>
        </p:blipFill>
        <p:spPr>
          <a:xfrm>
            <a:off x="762120" y="4876920"/>
            <a:ext cx="1790640" cy="1790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Свадебные конкурсы для гостей, игры на свадьбе - купить веселые конкурсы на свадьбу для жениха и невесты в салон-магазине &quot;Сваде"/>
          <p:cNvPicPr/>
          <p:nvPr/>
        </p:nvPicPr>
        <p:blipFill>
          <a:blip r:embed="rId2"/>
          <a:stretch/>
        </p:blipFill>
        <p:spPr>
          <a:xfrm>
            <a:off x="2819520" y="4876920"/>
            <a:ext cx="1785960" cy="1790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Fun Tournament 5х5 - Страница 40 - Форумы CrossFire"/>
          <p:cNvPicPr/>
          <p:nvPr/>
        </p:nvPicPr>
        <p:blipFill>
          <a:blip r:embed="rId3"/>
          <a:stretch/>
        </p:blipFill>
        <p:spPr>
          <a:xfrm>
            <a:off x="4800600" y="4876920"/>
            <a:ext cx="1876320" cy="1752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Цвета и эмоции в интерьере AP LocusAP Locus"/>
          <p:cNvPicPr/>
          <p:nvPr/>
        </p:nvPicPr>
        <p:blipFill>
          <a:blip r:embed="rId4"/>
          <a:stretch/>
        </p:blipFill>
        <p:spPr>
          <a:xfrm>
            <a:off x="6858000" y="4952880"/>
            <a:ext cx="176220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Проектно-исследовательская деятельнос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883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укин А. «Пречудных стен округ из диких камней град» (Секреты возведения крепостных стен  соловецкого монастыря) (2012 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й 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Книга- лекарство от всех болезней» (10 кл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981080" y="3124080"/>
            <a:ext cx="2540160" cy="3505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5164200" y="3124080"/>
            <a:ext cx="2395440" cy="34448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90920" y="228240"/>
            <a:ext cx="62481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пуск газеты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Ну ты сказал»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№1, 2, 3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162160" cy="2362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52280" y="2608200"/>
            <a:ext cx="8839440" cy="40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орческая деятельность учителей истории (закрытие Фестиваля нау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4267080" cy="3833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684680" y="2209680"/>
            <a:ext cx="4230720" cy="4443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лексахин</cp:lastModifiedBy>
  <dcterms:modified xsi:type="dcterms:W3CDTF">2018-06-25T08:44:1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