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DB059-9F17-4CD0-8EC6-34A679A06F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5556-A5EE-4B60-AD12-9897B46CE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6440-B8A6-49E4-82E3-1EB104893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E56-0966-4CAB-8998-C47D9755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C1AB-1E8D-43E5-ADAA-9C9E637D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B59-AB48-44C8-97AE-558DD581C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1144-C376-4A81-AF67-B1398B322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649D-6A94-47DF-94CC-A684DF1B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BBD-CA02-4BDF-A8A7-BCDEE3CC7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C32-AACF-46D4-9DC0-A5F99A7C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140-FC1E-4E41-92F7-0C4C63EAD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F78-5827-43FD-ABD0-E5C0751B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6B0-BDD0-4021-9343-95AA476C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0D2-99A4-4D4A-A7F3-B1610639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2287-290A-4732-BDA6-907EBB52C2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вальная выноска 1"/>
          <p:cNvSpPr/>
          <p:nvPr/>
        </p:nvSpPr>
        <p:spPr>
          <a:xfrm>
            <a:off x="5570640" y="1353960"/>
            <a:ext cx="3460680" cy="2143440"/>
          </a:xfrm>
          <a:prstGeom prst="wedgeEllipseCallout">
            <a:avLst>
              <a:gd name="adj1" fmla="val -8328"/>
              <a:gd name="adj2" fmla="val 70777"/>
            </a:avLst>
          </a:prstGeom>
          <a:solidFill>
            <a:srgbClr val="21596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истина есть тождество вещи и представл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Владелец\Desktop\foma%20akvinskii.jpg"/>
          <p:cNvPicPr/>
          <p:nvPr/>
        </p:nvPicPr>
        <p:blipFill>
          <a:blip r:embed="rId1"/>
          <a:stretch/>
        </p:blipFill>
        <p:spPr>
          <a:xfrm>
            <a:off x="6443640" y="4005360"/>
            <a:ext cx="171468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Овальная выноска 4"/>
          <p:cNvSpPr/>
          <p:nvPr/>
        </p:nvSpPr>
        <p:spPr>
          <a:xfrm>
            <a:off x="2317680" y="2068560"/>
            <a:ext cx="2714760" cy="2230560"/>
          </a:xfrm>
          <a:prstGeom prst="wedgeEllipseCallout">
            <a:avLst>
              <a:gd name="adj1" fmla="val 50537"/>
              <a:gd name="adj2" fmla="val 47217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лово «истина» означает соответствие мысли предмету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Владелец\Desktop\1248862562_nb_pinacoteca_unknown_flemish_or_french_xvii.jpg"/>
          <p:cNvPicPr/>
          <p:nvPr/>
        </p:nvPicPr>
        <p:blipFill>
          <a:blip r:embed="rId2"/>
          <a:stretch/>
        </p:blipFill>
        <p:spPr>
          <a:xfrm>
            <a:off x="4016520" y="4230720"/>
            <a:ext cx="1939680" cy="2496960"/>
          </a:xfrm>
          <a:prstGeom prst="rect">
            <a:avLst/>
          </a:prstGeom>
          <a:ln w="0">
            <a:noFill/>
          </a:ln>
        </p:spPr>
      </p:pic>
      <p:sp>
        <p:nvSpPr>
          <p:cNvPr id="52" name="Овальная выноска 7"/>
          <p:cNvSpPr/>
          <p:nvPr/>
        </p:nvSpPr>
        <p:spPr>
          <a:xfrm rot="20838600">
            <a:off x="52200" y="666360"/>
            <a:ext cx="2860560" cy="3519360"/>
          </a:xfrm>
          <a:prstGeom prst="wedgeEllipseCallout">
            <a:avLst>
              <a:gd name="adj1" fmla="val 9282"/>
              <a:gd name="adj2" fmla="val 5918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ее свойство истинного знания — его объективность, независимость от сознания человека, его пристрастий и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Владелец\Desktop\normal_af_30b_aristotel.jpg"/>
          <p:cNvPicPr/>
          <p:nvPr/>
        </p:nvPicPr>
        <p:blipFill>
          <a:blip r:embed="rId3"/>
          <a:stretch/>
        </p:blipFill>
        <p:spPr>
          <a:xfrm>
            <a:off x="1087560" y="4408560"/>
            <a:ext cx="1655640" cy="23191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1214280" y="63993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4386960" y="632304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. Дека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6333480" y="62960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ма Акви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226160" y="343080"/>
            <a:ext cx="84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Истина и её критер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39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Виды истин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987640" y="2997360"/>
            <a:ext cx="2879640" cy="122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132000" y="306864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ис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4000" y="1557360"/>
            <a:ext cx="345600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468360" y="1700280"/>
            <a:ext cx="31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солютная 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5219640" y="1557360"/>
            <a:ext cx="3384720" cy="1295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292720" y="170028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носительная 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95280" y="4653000"/>
            <a:ext cx="3384720" cy="129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39640" y="486900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ъективная 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5292720" y="4653000"/>
            <a:ext cx="3311640" cy="129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5435640" y="479736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ая 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4427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3780000" y="21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4427640" y="4221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3780000" y="5229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Абсолютная ист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24000" y="1700280"/>
            <a:ext cx="5256000" cy="1800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39640" y="177336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бсолютная ист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лное, точное, исчерпывающее знание о действительности, которое нельзя опроверг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635280" y="3933720"/>
            <a:ext cx="5040360" cy="251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635280" y="3995640"/>
            <a:ext cx="5048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ауки характеризуется стремлением к абсолютной истине как к идеалу, однако окончательное достижение этого идеала невозможно: действительность невозможно исчерпать до конца, а с каждым новым открытием возникают и нов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http://yourartlinks.com/wp-content/uploads/2011/12/career3-300x225.jpg"/>
          <p:cNvPicPr/>
          <p:nvPr/>
        </p:nvPicPr>
        <p:blipFill>
          <a:blip r:embed="rId1"/>
          <a:stretch/>
        </p:blipFill>
        <p:spPr>
          <a:xfrm>
            <a:off x="468360" y="4076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istina-1-300x173"/>
          <p:cNvPicPr/>
          <p:nvPr/>
        </p:nvPicPr>
        <p:blipFill>
          <a:blip r:embed="rId2"/>
          <a:stretch/>
        </p:blipFill>
        <p:spPr>
          <a:xfrm>
            <a:off x="5796000" y="1700280"/>
            <a:ext cx="2857320" cy="16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Относительная ист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68360" y="1700280"/>
            <a:ext cx="4967280" cy="151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39640" y="177336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носительная исти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праведливое, но неполное знание о чём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427640" y="4724280"/>
            <a:ext cx="4392360" cy="165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427640" y="4890960"/>
            <a:ext cx="43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открытие является шагом к абсолютной истине: в любой относительной истине есть какая-то часть истины абсолю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68360" y="39924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сительная ис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580000" y="321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бсолютная ис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 flipV="1">
            <a:off x="3851280" y="3573000"/>
            <a:ext cx="180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Объективная ист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11280" y="1773360"/>
            <a:ext cx="4681440" cy="187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11280" y="177336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ъективная истина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это знание, которое не зависит от человеческого сознания, это истина об объекте сама по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http://content.foto.mail.ru/mail/avrora-2017/_answers/i-92.jpg"/>
          <p:cNvPicPr/>
          <p:nvPr/>
        </p:nvPicPr>
        <p:blipFill>
          <a:blip r:embed="rId1"/>
          <a:stretch/>
        </p:blipFill>
        <p:spPr>
          <a:xfrm>
            <a:off x="4716360" y="3860640"/>
            <a:ext cx="4176720" cy="2586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1187280" y="4581360"/>
            <a:ext cx="324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объективной исти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 вращается вокруг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Субъективная ист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68360" y="1628640"/>
            <a:ext cx="4895640" cy="1729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70028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убъективная исти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нание о чём-либо, которое зависит от особенностей субъекта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http://img.news.open.by/upload/iblock/e10/GeoCentric-265.jpg"/>
          <p:cNvPicPr/>
          <p:nvPr/>
        </p:nvPicPr>
        <p:blipFill>
          <a:blip r:embed="rId1"/>
          <a:stretch/>
        </p:blipFill>
        <p:spPr>
          <a:xfrm>
            <a:off x="5219640" y="3716280"/>
            <a:ext cx="3456000" cy="216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1042920" y="4149720"/>
            <a:ext cx="3960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субъективной исти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 – центр мира. Так считали средневековые богосл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9"/>
          <p:cNvSpPr/>
          <p:nvPr/>
        </p:nvSpPr>
        <p:spPr>
          <a:xfrm>
            <a:off x="1374840" y="981000"/>
            <a:ext cx="586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сти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ответств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действи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http://img.news.open.by/upload/iblock/e10/GeoCentric-265.jpg"/>
          <p:cNvPicPr/>
          <p:nvPr/>
        </p:nvPicPr>
        <p:blipFill>
          <a:blip r:embed="rId1"/>
          <a:stretch/>
        </p:blipFill>
        <p:spPr>
          <a:xfrm>
            <a:off x="1116000" y="3260880"/>
            <a:ext cx="345600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Владелец\Desktop\tT711755.jpg"/>
          <p:cNvPicPr/>
          <p:nvPr/>
        </p:nvPicPr>
        <p:blipFill>
          <a:blip r:embed="rId2"/>
          <a:stretch/>
        </p:blipFill>
        <p:spPr>
          <a:xfrm>
            <a:off x="6012000" y="3284640"/>
            <a:ext cx="2590560" cy="3217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еловек может удостовериться в истинности своих знаний о предмете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Прямоугольник 2" descr=""/>
          <p:cNvPicPr/>
          <p:nvPr/>
        </p:nvPicPr>
        <p:blipFill>
          <a:blip r:embed="rId1"/>
          <a:stretch/>
        </p:blipFill>
        <p:spPr>
          <a:xfrm>
            <a:off x="-7016760" y="2968560"/>
            <a:ext cx="341280" cy="9208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1920960"/>
            <a:ext cx="6566040" cy="168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Владелец\Desktop\argue.jpg"/>
          <p:cNvPicPr/>
          <p:nvPr/>
        </p:nvPicPr>
        <p:blipFill>
          <a:blip r:embed="rId3"/>
          <a:stretch/>
        </p:blipFill>
        <p:spPr>
          <a:xfrm>
            <a:off x="2286000" y="31431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Критерии истины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785880"/>
            <a:ext cx="16858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Эмпирики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8920" y="1500120"/>
            <a:ext cx="32403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сточник и обоснование всех знаний - чувственный опыт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щущения являются единственным источником и основанием знания (сенсуалисты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ышление рассматривается как производное от ощуще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34920" y="836640"/>
            <a:ext cx="51865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тика позиции эмпир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63640" y="1557000"/>
            <a:ext cx="5329080" cy="47862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внях восприятия и представления для получения целостной картины мира наше сознание использует элементы обобщенных зна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енный опыт может давать искаженное представление о действите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теоретические постулаты, лежащие в основе научного знания, нельзя обосновать опытным путе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енный опыт есть результат понимания, интерпрет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РИТЕРИИ ИСТИН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404028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ционалис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200" y="1785960"/>
            <a:ext cx="3710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ритерием истины выступает разу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За образец истинного знания принималась математика, начинающаяся с очевидных истин и использующая методы логического выведения нового знания из несомненных посылок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11280" y="1341000"/>
            <a:ext cx="46083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тика позиции эмпир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11280" y="1773360"/>
            <a:ext cx="4614840" cy="12240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пределении безусловных основ позн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Владелец\Desktop\642549db55eaf4a3a88a672ce52490f4_big.jpg"/>
          <p:cNvPicPr/>
          <p:nvPr/>
        </p:nvPicPr>
        <p:blipFill>
          <a:blip r:embed="rId1"/>
          <a:stretch/>
        </p:blipFill>
        <p:spPr>
          <a:xfrm>
            <a:off x="4284720" y="3429000"/>
            <a:ext cx="4430520" cy="312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Критерии ист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826920" y="2593800"/>
            <a:ext cx="4249800" cy="129708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898560" y="29224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й ист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4572000" y="4340160"/>
            <a:ext cx="4103640" cy="1440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800600" y="44672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роверки истинности того или иного утвер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3421080" y="3932280"/>
            <a:ext cx="1150920" cy="1150920"/>
          </a:xfrm>
          <a:custGeom>
            <a:avLst/>
            <a:gdLst>
              <a:gd name="textAreaLeft" fmla="*/ 154080 w 1150920"/>
              <a:gd name="textAreaRight" fmla="*/ 996840 w 1150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Различные критерии ист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11280" y="1916280"/>
            <a:ext cx="2232000" cy="4105080"/>
          </a:xfrm>
          <a:prstGeom prst="rect">
            <a:avLst/>
          </a:prstGeom>
          <a:solidFill>
            <a:srgbClr val="99ff66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84360" y="3213000"/>
            <a:ext cx="21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ис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348000" y="1916280"/>
            <a:ext cx="540072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348000" y="1989000"/>
            <a:ext cx="56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акти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пыт, эксперимент, практическое осуществление) – наиболее достоверный крите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3348000" y="3284640"/>
            <a:ext cx="5400720" cy="1081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92360" y="342900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сихологический критерий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стинно то, что не вызывает никаких сом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3348000" y="4724280"/>
            <a:ext cx="5400720" cy="122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3492360" y="4797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Эстетический критер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стинное знание эстетически гармонично и крас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2843280" y="24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2843280" y="378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2843280" y="530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F9B7-547E-4C89-B7D4-753AE1AB2E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ИСТИНА И ЕЁ КРИТЕР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57160" y="1995480"/>
            <a:ext cx="2643120" cy="719280"/>
          </a:xfrm>
          <a:prstGeom prst="rect">
            <a:avLst/>
          </a:prstGeom>
          <a:solidFill>
            <a:srgbClr val="93cddd"/>
          </a:solidFill>
          <a:ln w="93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ИСТ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635280" y="2209680"/>
            <a:ext cx="1584360" cy="289080"/>
          </a:xfrm>
          <a:prstGeom prst="rightArrow">
            <a:avLst>
              <a:gd name="adj1" fmla="val 50000"/>
              <a:gd name="adj2" fmla="val 124533"/>
            </a:avLst>
          </a:prstGeom>
          <a:solidFill>
            <a:srgbClr val="215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7"/>
          <p:cNvSpPr/>
          <p:nvPr/>
        </p:nvSpPr>
        <p:spPr>
          <a:xfrm>
            <a:off x="222120" y="3371760"/>
            <a:ext cx="5000760" cy="178596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ОТЛИЧИТЬ ИСТИНУ ОТ ЗАБЛУ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НИЕ ИСТИННО, КОГДА ОНО  ЛОГИЧНО СТРОЙ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ОГДА ЗНАНИЕ ПОЛЕЗНО ДЛ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9"/>
          <p:cNvSpPr/>
          <p:nvPr/>
        </p:nvSpPr>
        <p:spPr>
          <a:xfrm>
            <a:off x="5357880" y="1500120"/>
            <a:ext cx="3571920" cy="472752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727520"/>
              <a:gd name="textAreaBottom" fmla="*/ 4553280 h 4727520"/>
            </a:gdLst>
            <a:ahLst/>
            <a:rect l="textAreaLeft" t="textAreaTop" r="textAreaRight" b="textAreaBottom"/>
            <a:pathLst>
              <a:path w="21600" h="28587">
                <a:moveTo>
                  <a:pt x="3600" y="0"/>
                </a:moveTo>
                <a:arcTo wR="3600" hR="3600" stAng="16200000" swAng="-5400000"/>
                <a:lnTo>
                  <a:pt x="0" y="24987"/>
                </a:lnTo>
                <a:arcTo wR="3600" hR="3600" stAng="10800000" swAng="-5400000"/>
                <a:lnTo>
                  <a:pt x="18000" y="28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взаимодействие наблюдаемого явления с каким-либо друг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ое производство, накопленный опыт,  научный экспери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2176560" y="5157720"/>
            <a:ext cx="4033800" cy="936720"/>
          </a:xfrm>
          <a:custGeom>
            <a:avLst/>
            <a:gdLst>
              <a:gd name="textAreaLeft" fmla="*/ 705960 w 4033800"/>
              <a:gd name="textAreaRight" fmla="*/ 2924640 w 403380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185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5559480" y="177336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Главным критерием истины является прак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Формы ист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денная или житейск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Владелец\Desktop\gamlet28-2.jpg"/>
          <p:cNvPicPr/>
          <p:nvPr/>
        </p:nvPicPr>
        <p:blipFill>
          <a:blip r:embed="rId1"/>
          <a:stretch/>
        </p:blipFill>
        <p:spPr>
          <a:xfrm>
            <a:off x="500040" y="3286080"/>
            <a:ext cx="2273400" cy="29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Владелец\Desktop\iCAN2I0U0.jpg"/>
          <p:cNvPicPr/>
          <p:nvPr/>
        </p:nvPicPr>
        <p:blipFill>
          <a:blip r:embed="rId2"/>
          <a:stretch/>
        </p:blipFill>
        <p:spPr>
          <a:xfrm>
            <a:off x="3214800" y="3357720"/>
            <a:ext cx="2143080" cy="2566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Владелец\Desktop\90965.jpg"/>
          <p:cNvPicPr/>
          <p:nvPr/>
        </p:nvPicPr>
        <p:blipFill>
          <a:blip r:embed="rId3"/>
          <a:stretch/>
        </p:blipFill>
        <p:spPr>
          <a:xfrm>
            <a:off x="6143760" y="335772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8:34Z</dcterms:created>
  <dc:creator>Владелец</dc:creator>
  <dc:description/>
  <dc:language>en-US</dc:language>
  <cp:lastModifiedBy>Ирина</cp:lastModifiedBy>
  <dcterms:modified xsi:type="dcterms:W3CDTF">2017-08-04T13:02:09Z</dcterms:modified>
  <cp:revision>23</cp:revision>
  <dc:subject/>
  <dc:title>Истина и ее критерии</dc:title>
</cp:coreProperties>
</file>