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40CD-40F0-480F-945C-66730BA39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C338-E1C8-4FD6-9AA3-03F5DFEDC9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6751-4622-4A42-ABD3-8D49E515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D28F-D7B5-40AD-BD59-7942540C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728C-6ED0-4864-9CF5-33241EF21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A23-D60A-4C61-8D12-AA09B1C8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1E13-CB14-4F72-BAC9-911361294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20E-9E70-436B-82B8-40E00AD4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7F63-65C4-42AD-8595-B62DC51B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75BE-47AD-4D37-B43B-586008D8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B493-1A57-4E60-843D-13B3C5F5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5521-D229-4C03-8691-0AC6843C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1221-953A-4F00-A359-7A3B7FBF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D0A-DAA4-49BF-8927-6C890833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B6D-974E-4ABC-A839-7EDDCEF506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Овальная выноска 1"/>
          <p:cNvSpPr/>
          <p:nvPr/>
        </p:nvSpPr>
        <p:spPr>
          <a:xfrm>
            <a:off x="5570640" y="1353960"/>
            <a:ext cx="3460680" cy="2143440"/>
          </a:xfrm>
          <a:prstGeom prst="wedgeEllipseCallout">
            <a:avLst>
              <a:gd name="adj1" fmla="val -8328"/>
              <a:gd name="adj2" fmla="val 70777"/>
            </a:avLst>
          </a:prstGeom>
          <a:solidFill>
            <a:srgbClr val="21596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истина есть тождество вещи и представле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Владелец\Desktop\foma%20akvinskii.jpg"/>
          <p:cNvPicPr/>
          <p:nvPr/>
        </p:nvPicPr>
        <p:blipFill>
          <a:blip r:embed="rId1"/>
          <a:stretch/>
        </p:blipFill>
        <p:spPr>
          <a:xfrm>
            <a:off x="6443640" y="4005360"/>
            <a:ext cx="171468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Овальная выноска 4"/>
          <p:cNvSpPr/>
          <p:nvPr/>
        </p:nvSpPr>
        <p:spPr>
          <a:xfrm>
            <a:off x="2317680" y="2068560"/>
            <a:ext cx="2714760" cy="2230560"/>
          </a:xfrm>
          <a:prstGeom prst="wedgeEllipseCallout">
            <a:avLst>
              <a:gd name="adj1" fmla="val 50537"/>
              <a:gd name="adj2" fmla="val 47217"/>
            </a:avLst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лово «истина» означает соответствие мысли предмету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Владелец\Desktop\1248862562_nb_pinacoteca_unknown_flemish_or_french_xvii.jpg"/>
          <p:cNvPicPr/>
          <p:nvPr/>
        </p:nvPicPr>
        <p:blipFill>
          <a:blip r:embed="rId2"/>
          <a:stretch/>
        </p:blipFill>
        <p:spPr>
          <a:xfrm>
            <a:off x="4016520" y="4230720"/>
            <a:ext cx="1939680" cy="2496960"/>
          </a:xfrm>
          <a:prstGeom prst="rect">
            <a:avLst/>
          </a:prstGeom>
          <a:ln w="0">
            <a:noFill/>
          </a:ln>
        </p:spPr>
      </p:pic>
      <p:sp>
        <p:nvSpPr>
          <p:cNvPr id="52" name="Овальная выноска 7"/>
          <p:cNvSpPr/>
          <p:nvPr/>
        </p:nvSpPr>
        <p:spPr>
          <a:xfrm rot="20838600">
            <a:off x="52200" y="666360"/>
            <a:ext cx="2860560" cy="3519360"/>
          </a:xfrm>
          <a:prstGeom prst="wedgeEllipseCallout">
            <a:avLst>
              <a:gd name="adj1" fmla="val 9282"/>
              <a:gd name="adj2" fmla="val 59180"/>
            </a:avLst>
          </a:prstGeom>
          <a:solidFill>
            <a:srgbClr val="93cdd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ейшее свойство истинного знания — его объективность, независимость от сознания человека, его пристрастий и интере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:\Users\Владелец\Desktop\normal_af_30b_aristotel.jpg"/>
          <p:cNvPicPr/>
          <p:nvPr/>
        </p:nvPicPr>
        <p:blipFill>
          <a:blip r:embed="rId3"/>
          <a:stretch/>
        </p:blipFill>
        <p:spPr>
          <a:xfrm>
            <a:off x="1087560" y="4408560"/>
            <a:ext cx="1655640" cy="231912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2"/>
          <p:cNvSpPr/>
          <p:nvPr/>
        </p:nvSpPr>
        <p:spPr>
          <a:xfrm>
            <a:off x="1214280" y="63993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исто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4386960" y="632304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. Дека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5"/>
          <p:cNvSpPr/>
          <p:nvPr/>
        </p:nvSpPr>
        <p:spPr>
          <a:xfrm>
            <a:off x="6333480" y="62960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ома Акви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226160" y="343080"/>
            <a:ext cx="8433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Истина и её критерии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39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Виды истин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987640" y="2997360"/>
            <a:ext cx="2879640" cy="122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132000" y="3068640"/>
            <a:ext cx="25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иды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24000" y="1557360"/>
            <a:ext cx="345600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468360" y="1700280"/>
            <a:ext cx="316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бсолют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5219640" y="1557360"/>
            <a:ext cx="3384720" cy="12952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5292720" y="1700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носитель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95280" y="4653000"/>
            <a:ext cx="3384720" cy="1297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9640" y="486900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3"/>
          <p:cNvSpPr/>
          <p:nvPr/>
        </p:nvSpPr>
        <p:spPr>
          <a:xfrm>
            <a:off x="5292720" y="4653000"/>
            <a:ext cx="3311640" cy="1297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5435640" y="4797360"/>
            <a:ext cx="302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ивная ист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4427640" y="2133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>
            <a:off x="3780000" y="2133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>
            <a:off x="4427640" y="4221000"/>
            <a:ext cx="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780000" y="522936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Абсолют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24000" y="1700280"/>
            <a:ext cx="5256000" cy="180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39640" y="1773360"/>
            <a:ext cx="47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солютная истин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лное, точное, исчерпывающее знание о действительности, которое нельзя опровергну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635280" y="3933720"/>
            <a:ext cx="5040360" cy="2519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635280" y="3995640"/>
            <a:ext cx="504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науки характеризуется стремлением к абсолютной истине как к идеалу, однако окончательное достижение этого идеала невозможно: действительность невозможно исчерпать до конца, а с каждым новым открытием возникают и нов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http://yourartlinks.com/wp-content/uploads/2011/12/career3-300x225.jpg"/>
          <p:cNvPicPr/>
          <p:nvPr/>
        </p:nvPicPr>
        <p:blipFill>
          <a:blip r:embed="rId1"/>
          <a:stretch/>
        </p:blipFill>
        <p:spPr>
          <a:xfrm>
            <a:off x="468360" y="4076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2" descr="istina-1-300x173"/>
          <p:cNvPicPr/>
          <p:nvPr/>
        </p:nvPicPr>
        <p:blipFill>
          <a:blip r:embed="rId2"/>
          <a:stretch/>
        </p:blipFill>
        <p:spPr>
          <a:xfrm>
            <a:off x="5796000" y="1700280"/>
            <a:ext cx="2857320" cy="16477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тноситель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468360" y="1700280"/>
            <a:ext cx="4967280" cy="15127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39640" y="1773360"/>
            <a:ext cx="48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тносительная истин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праведливое, но неполное знание о чём-л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427640" y="4724280"/>
            <a:ext cx="4392360" cy="16574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427640" y="4890960"/>
            <a:ext cx="439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открытие является шагом к абсолютной истине: в любой относительной истине есть какая-то часть истины абсолют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68360" y="39924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тносительная ист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5580000" y="3213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бсолютная ист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1"/>
          <p:cNvSpPr/>
          <p:nvPr/>
        </p:nvSpPr>
        <p:spPr>
          <a:xfrm flipV="1">
            <a:off x="3851280" y="3573000"/>
            <a:ext cx="1800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Объектив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11280" y="1773360"/>
            <a:ext cx="4681440" cy="1871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611280" y="1773360"/>
            <a:ext cx="46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Объективная истина </a:t>
            </a: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– это знание, которое не зависит от человеческого сознания, это истина об объекте сама по се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http://content.foto.mail.ru/mail/avrora-2017/_answers/i-92.jpg"/>
          <p:cNvPicPr/>
          <p:nvPr/>
        </p:nvPicPr>
        <p:blipFill>
          <a:blip r:embed="rId1"/>
          <a:stretch/>
        </p:blipFill>
        <p:spPr>
          <a:xfrm>
            <a:off x="4716360" y="3860640"/>
            <a:ext cx="4176720" cy="2586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187280" y="4581360"/>
            <a:ext cx="3240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объективной ист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вращается вокруг Солн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Monotype Corsiva"/>
              </a:rPr>
              <a:t>Субъективная истин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468360" y="1628640"/>
            <a:ext cx="4895640" cy="17290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360" y="170028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Субъективная истина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знание о чём-либо, которое зависит от особенностей субъекта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http://img.news.open.by/upload/iblock/e10/GeoCentric-265.jpg"/>
          <p:cNvPicPr/>
          <p:nvPr/>
        </p:nvPicPr>
        <p:blipFill>
          <a:blip r:embed="rId1"/>
          <a:stretch/>
        </p:blipFill>
        <p:spPr>
          <a:xfrm>
            <a:off x="5219640" y="3716280"/>
            <a:ext cx="3456000" cy="2160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9"/>
          <p:cNvSpPr/>
          <p:nvPr/>
        </p:nvSpPr>
        <p:spPr>
          <a:xfrm>
            <a:off x="1042920" y="4149720"/>
            <a:ext cx="3960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 субъективной истин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 – центр мира. Так считали средневековые богосло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9"/>
          <p:cNvSpPr/>
          <p:nvPr/>
        </p:nvSpPr>
        <p:spPr>
          <a:xfrm>
            <a:off x="1374840" y="981000"/>
            <a:ext cx="586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стина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оответств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о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 действитель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http://img.news.open.by/upload/iblock/e10/GeoCentric-265.jpg"/>
          <p:cNvPicPr/>
          <p:nvPr/>
        </p:nvPicPr>
        <p:blipFill>
          <a:blip r:embed="rId1"/>
          <a:stretch/>
        </p:blipFill>
        <p:spPr>
          <a:xfrm>
            <a:off x="1116000" y="3260880"/>
            <a:ext cx="3456000" cy="216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Владелец\Desktop\tT711755.jpg"/>
          <p:cNvPicPr/>
          <p:nvPr/>
        </p:nvPicPr>
        <p:blipFill>
          <a:blip r:embed="rId2"/>
          <a:stretch/>
        </p:blipFill>
        <p:spPr>
          <a:xfrm>
            <a:off x="6012000" y="3284640"/>
            <a:ext cx="2590560" cy="321768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человек может удостовериться в истинности своих знаний о предмете?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2" descr=""/>
          <p:cNvPicPr/>
          <p:nvPr/>
        </p:nvPicPr>
        <p:blipFill>
          <a:blip r:embed="rId1"/>
          <a:stretch/>
        </p:blipFill>
        <p:spPr>
          <a:xfrm>
            <a:off x="-7016760" y="2968560"/>
            <a:ext cx="341280" cy="92088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3" descr=""/>
          <p:cNvPicPr/>
          <p:nvPr/>
        </p:nvPicPr>
        <p:blipFill>
          <a:blip r:embed="rId2"/>
          <a:stretch/>
        </p:blipFill>
        <p:spPr>
          <a:xfrm>
            <a:off x="1438200" y="1920960"/>
            <a:ext cx="6566040" cy="168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C:\Users\Владелец\Desktop\argue.jpg"/>
          <p:cNvPicPr/>
          <p:nvPr/>
        </p:nvPicPr>
        <p:blipFill>
          <a:blip r:embed="rId3"/>
          <a:stretch/>
        </p:blipFill>
        <p:spPr>
          <a:xfrm>
            <a:off x="2286000" y="314316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785880"/>
            <a:ext cx="16858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Эмпирики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8920" y="1500120"/>
            <a:ext cx="324036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источник и обоснование всех знаний - чувственный опыт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ощущения являются единственным источником и основанием знания (сенсуалисты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Мышление рассматривается как производное от ощуще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634920" y="836640"/>
            <a:ext cx="518652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ика позиции эмпир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563640" y="1557000"/>
            <a:ext cx="5329080" cy="47862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внях восприятия и представления для получения целостной картины мира наше сознание использует элементы обобщенных знан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ый опыт может давать искаженное представление о действительност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теоретические постулаты, лежащие в основе научного знания, нельзя обосновать опытным путе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енный опыт есть результат понимания, интерпретации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404028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Рационалис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14200" y="1785960"/>
            <a:ext cx="3710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критерием истины выступает разу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0253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253f"/>
                </a:solidFill>
                <a:latin typeface="Times New Roman"/>
                <a:ea typeface="Times New Roman"/>
              </a:rPr>
              <a:t>За образец истинного знания принималась математика, начинающаяся с очевидных истин и использующая методы логического выведения нового знания из несомненных посылок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211280" y="1341000"/>
            <a:ext cx="460836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тика позиции эмпир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211280" y="1773360"/>
            <a:ext cx="4614840" cy="122400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ности в определении безусловных основ позн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C:\Users\Владелец\Desktop\642549db55eaf4a3a88a672ce52490f4_big.jpg"/>
          <p:cNvPicPr/>
          <p:nvPr/>
        </p:nvPicPr>
        <p:blipFill>
          <a:blip r:embed="rId1"/>
          <a:stretch/>
        </p:blipFill>
        <p:spPr>
          <a:xfrm>
            <a:off x="4284720" y="3429000"/>
            <a:ext cx="4430520" cy="31291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Критерии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826920" y="2593800"/>
            <a:ext cx="4249800" cy="1297080"/>
          </a:xfrm>
          <a:prstGeom prst="roundRect">
            <a:avLst>
              <a:gd name="adj" fmla="val 16667"/>
            </a:avLst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98560" y="292248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й ист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7"/>
          <p:cNvSpPr/>
          <p:nvPr/>
        </p:nvSpPr>
        <p:spPr>
          <a:xfrm>
            <a:off x="4572000" y="4340160"/>
            <a:ext cx="4103640" cy="1440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4800600" y="446724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проверки истинности того или иного утвер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9"/>
          <p:cNvSpPr/>
          <p:nvPr/>
        </p:nvSpPr>
        <p:spPr>
          <a:xfrm>
            <a:off x="3421080" y="3932280"/>
            <a:ext cx="1150920" cy="1150920"/>
          </a:xfrm>
          <a:custGeom>
            <a:avLst/>
            <a:gdLst>
              <a:gd name="textAreaLeft" fmla="*/ 154080 w 1150920"/>
              <a:gd name="textAreaRight" fmla="*/ 996840 w 1150920"/>
              <a:gd name="textAreaTop" fmla="*/ 201240 h 1150920"/>
              <a:gd name="textAreaBottom" fmla="*/ 83448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Различные критерии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11280" y="1916280"/>
            <a:ext cx="2232000" cy="4105080"/>
          </a:xfrm>
          <a:prstGeom prst="rect">
            <a:avLst/>
          </a:prstGeom>
          <a:solidFill>
            <a:srgbClr val="99ff66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684360" y="3213000"/>
            <a:ext cx="215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терии ист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3348000" y="1916280"/>
            <a:ext cx="5400720" cy="115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3348000" y="1989000"/>
            <a:ext cx="56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актик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пыт, эксперимент, практическое осуществление) – наиболее достоверный критер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1"/>
          <p:cNvSpPr/>
          <p:nvPr/>
        </p:nvSpPr>
        <p:spPr>
          <a:xfrm>
            <a:off x="3348000" y="3284640"/>
            <a:ext cx="5400720" cy="108108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2"/>
          <p:cNvSpPr/>
          <p:nvPr/>
        </p:nvSpPr>
        <p:spPr>
          <a:xfrm>
            <a:off x="3492360" y="3429000"/>
            <a:ext cx="51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сихологический критерий</a:t>
            </a:r>
            <a:r>
              <a:rPr b="1" i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истинно то, что не вызывает никаких сом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3"/>
          <p:cNvSpPr/>
          <p:nvPr/>
        </p:nvSpPr>
        <p:spPr>
          <a:xfrm>
            <a:off x="3348000" y="4724280"/>
            <a:ext cx="5400720" cy="12258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3492360" y="4797360"/>
            <a:ext cx="52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Эстетический критер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истинное знание эстетически гармонично и краси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2843280" y="2421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2843280" y="3789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843280" y="530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D342E-89D8-4E72-A6A4-BB4460DC5B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ИСТИНА И ЕЁ КРИТЕРИ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57160" y="1995480"/>
            <a:ext cx="2643120" cy="719280"/>
          </a:xfrm>
          <a:prstGeom prst="rect">
            <a:avLst/>
          </a:prstGeom>
          <a:solidFill>
            <a:srgbClr val="93cddd"/>
          </a:solidFill>
          <a:ln w="93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ИСТ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3635280" y="2209680"/>
            <a:ext cx="1584360" cy="289080"/>
          </a:xfrm>
          <a:prstGeom prst="rightArrow">
            <a:avLst>
              <a:gd name="adj1" fmla="val 50000"/>
              <a:gd name="adj2" fmla="val 124533"/>
            </a:avLst>
          </a:prstGeom>
          <a:solidFill>
            <a:srgbClr val="2159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7"/>
          <p:cNvSpPr/>
          <p:nvPr/>
        </p:nvSpPr>
        <p:spPr>
          <a:xfrm>
            <a:off x="222120" y="3371760"/>
            <a:ext cx="5000760" cy="178596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 ОТЛИЧИТЬ ИСТИНУ ОТ ЗАБЛУЖД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ЗНАНИЕ ИСТИННО, КОГДА ОНО  ЛОГИЧНО СТРОЙ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КОГДА ЗНАНИЕ ПОЛЕЗНО ДЛЯ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9"/>
          <p:cNvSpPr/>
          <p:nvPr/>
        </p:nvSpPr>
        <p:spPr>
          <a:xfrm>
            <a:off x="5357880" y="1500120"/>
            <a:ext cx="3571920" cy="4727520"/>
          </a:xfrm>
          <a:custGeom>
            <a:avLst/>
            <a:gdLst>
              <a:gd name="textAreaLeft" fmla="*/ 174240 w 3571920"/>
              <a:gd name="textAreaRight" fmla="*/ 3397680 w 3571920"/>
              <a:gd name="textAreaTop" fmla="*/ 174240 h 4727520"/>
              <a:gd name="textAreaBottom" fmla="*/ 4553280 h 4727520"/>
            </a:gdLst>
            <a:ahLst/>
            <a:rect l="textAreaLeft" t="textAreaTop" r="textAreaRight" b="textAreaBottom"/>
            <a:pathLst>
              <a:path w="21600" h="28587">
                <a:moveTo>
                  <a:pt x="3600" y="0"/>
                </a:moveTo>
                <a:arcTo wR="3600" hR="3600" stAng="16200000" swAng="-5400000"/>
                <a:lnTo>
                  <a:pt x="0" y="24987"/>
                </a:lnTo>
                <a:arcTo wR="3600" hR="3600" stAng="10800000" swAng="-5400000"/>
                <a:lnTo>
                  <a:pt x="18000" y="2858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3cddd"/>
          </a:solidFill>
          <a:ln w="2556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е взаимодействие наблюдаемого явления с каким-либо други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ьное производство, накопленный опыт,  научный экспериме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1"/>
          <p:cNvSpPr/>
          <p:nvPr/>
        </p:nvSpPr>
        <p:spPr>
          <a:xfrm>
            <a:off x="2176560" y="5157720"/>
            <a:ext cx="4033800" cy="936720"/>
          </a:xfrm>
          <a:custGeom>
            <a:avLst/>
            <a:gdLst>
              <a:gd name="textAreaLeft" fmla="*/ 705960 w 4033800"/>
              <a:gd name="textAreaRight" fmla="*/ 2924640 w 4033800"/>
              <a:gd name="textAreaTop" fmla="*/ 125280 h 936720"/>
              <a:gd name="textAreaBottom" fmla="*/ 8114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3185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"/>
          <p:cNvSpPr/>
          <p:nvPr/>
        </p:nvSpPr>
        <p:spPr>
          <a:xfrm>
            <a:off x="5559480" y="1773360"/>
            <a:ext cx="316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Главным критерием истины является прак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Формы ист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ыденная или житейск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160020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равственная ист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C:\Users\Владелец\Desktop\gamlet28-2.jpg"/>
          <p:cNvPicPr/>
          <p:nvPr/>
        </p:nvPicPr>
        <p:blipFill>
          <a:blip r:embed="rId1"/>
          <a:stretch/>
        </p:blipFill>
        <p:spPr>
          <a:xfrm>
            <a:off x="500040" y="3286080"/>
            <a:ext cx="2273400" cy="292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C:\Users\Владелец\Desktop\iCAN2I0U0.jpg"/>
          <p:cNvPicPr/>
          <p:nvPr/>
        </p:nvPicPr>
        <p:blipFill>
          <a:blip r:embed="rId2"/>
          <a:stretch/>
        </p:blipFill>
        <p:spPr>
          <a:xfrm>
            <a:off x="3214800" y="3357720"/>
            <a:ext cx="2143080" cy="256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C:\Users\Владелец\Desktop\90965.jpg"/>
          <p:cNvPicPr/>
          <p:nvPr/>
        </p:nvPicPr>
        <p:blipFill>
          <a:blip r:embed="rId3"/>
          <a:stretch/>
        </p:blipFill>
        <p:spPr>
          <a:xfrm>
            <a:off x="6143760" y="3357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8:34Z</dcterms:created>
  <dc:creator>Владелец</dc:creator>
  <dc:description/>
  <dc:language>en-US</dc:language>
  <cp:lastModifiedBy>Ирина</cp:lastModifiedBy>
  <dcterms:modified xsi:type="dcterms:W3CDTF">2017-08-04T13:02:09Z</dcterms:modified>
  <cp:revision>23</cp:revision>
  <dc:subject/>
  <dc:title>Истина и ее критерии</dc:title>
</cp:coreProperties>
</file>