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7.jpeg" ContentType="image/jpeg"/>
  <Override PartName="/ppt/media/image16.wmf" ContentType="image/x-wmf"/>
  <Override PartName="/ppt/media/image4.jpeg" ContentType="image/jpeg"/>
  <Override PartName="/ppt/media/image13.gif" ContentType="image/gif"/>
  <Override PartName="/ppt/media/image1.jpeg" ContentType="image/jpeg"/>
  <Override PartName="/ppt/media/image10.png" ContentType="image/png"/>
  <Override PartName="/ppt/media/image2.jpeg" ContentType="image/jpeg"/>
  <Override PartName="/ppt/media/image6.gif" ContentType="image/gif"/>
  <Override PartName="/ppt/media/image14.png" ContentType="image/png"/>
  <Override PartName="/ppt/media/image11.gif" ContentType="image/gif"/>
  <Override PartName="/ppt/media/image12.gif" ContentType="image/gif"/>
  <Override PartName="/ppt/media/image3.jpeg" ContentType="image/jpeg"/>
  <Override PartName="/ppt/media/image15.png" ContentType="image/png"/>
  <Override PartName="/ppt/media/image5.jpeg" ContentType="image/jpeg"/>
  <Override PartName="/ppt/media/image7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CD6D-2AAA-434B-8DD1-FC90AC8C11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0381-1103-4EED-BEB2-FF43AD9101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5C45F-CC3F-4446-8D41-3C334AA26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96EB6-AB40-4A71-867C-CDFA4355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637C9-82DC-4FBD-9F0B-F930164F3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CAE3-8C45-4802-BB38-ECC076E9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6C35-B25E-4752-85F7-275CDC408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3A127-8943-4256-81ED-37771C37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B7C1-CBD7-4784-ACA4-1D7F71E4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3C5EB-1AFC-471F-B127-AFE0919E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9988-E471-43D0-BB0C-D3E26775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1035-2921-48AC-B940-1C72338A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E9E7-895D-47D8-9860-51401885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2AE93-5879-442F-B3AC-474FFED2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6CF2-C2D3-4525-B215-A69D2F24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277A-B3AE-4D2E-9C30-0B37ADDAF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2FF1-46A0-480B-92B1-12390065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4AA8-90F5-4963-A630-60CB9C05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E626-979C-45C5-B1F7-912B630AC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A015D-6455-41B6-BA6B-EEB386F5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EA0CB-5E3D-4C21-A6F7-D6E7DD57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4FCD9-0C9F-4E3B-A869-833C634E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814B8-676B-48D6-92BB-587BF469F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13F3A-754F-4D50-8CF7-0A5C648A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D0EDD-AE95-46A3-A481-EE9B5A88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63D2-8D8C-4852-A535-37B0282A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0A2C-BE9C-4C7F-AA80-7E416B81E04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C1CF-66D7-42EE-B932-3613D0F4AA1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2050920" y="102564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Научное 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6" descr="http://school56.ucoz.net/_nw/0/00006761.jpg"/>
          <p:cNvPicPr/>
          <p:nvPr/>
        </p:nvPicPr>
        <p:blipFill>
          <a:blip r:embed="rId1"/>
          <a:stretch/>
        </p:blipFill>
        <p:spPr>
          <a:xfrm>
            <a:off x="324000" y="1341360"/>
            <a:ext cx="2303280" cy="2951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8" descr="Resize%20of%20b38ffeea500d1032efde12d98847e65fb12152ca"/>
          <p:cNvPicPr/>
          <p:nvPr/>
        </p:nvPicPr>
        <p:blipFill>
          <a:blip r:embed="rId2"/>
          <a:stretch/>
        </p:blipFill>
        <p:spPr>
          <a:xfrm>
            <a:off x="5076720" y="2060640"/>
            <a:ext cx="2664000" cy="2160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ttp://www.ovideo.ru/images/mainimage/b/28042.jpg"/>
          <p:cNvPicPr/>
          <p:nvPr/>
        </p:nvPicPr>
        <p:blipFill>
          <a:blip r:embed="rId3"/>
          <a:stretch/>
        </p:blipFill>
        <p:spPr>
          <a:xfrm>
            <a:off x="2340000" y="3789360"/>
            <a:ext cx="3024000" cy="1862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87440" y="260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сновные отрасли научного по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Organization Chart 16"/>
          <p:cNvGrpSpPr/>
          <p:nvPr/>
        </p:nvGrpSpPr>
        <p:grpSpPr>
          <a:xfrm>
            <a:off x="179280" y="1796760"/>
            <a:ext cx="8785080" cy="1747440"/>
            <a:chOff x="179280" y="1796760"/>
            <a:chExt cx="8785080" cy="1747440"/>
          </a:xfrm>
        </p:grpSpPr>
        <p:cxnSp>
          <p:nvCxnSpPr>
            <p:cNvPr id="174" name="_s1028"/>
            <p:cNvCxnSpPr>
              <a:stCxn id="175" idx="0"/>
              <a:endCxn id="176" idx="1"/>
            </p:cNvCxnSpPr>
            <p:nvPr/>
          </p:nvCxnSpPr>
          <p:spPr>
            <a:xfrm flipV="1" rot="16200000">
              <a:off x="5609520" y="1280520"/>
              <a:ext cx="288360" cy="23677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7" name="_s1029"/>
            <p:cNvCxnSpPr>
              <a:stCxn id="178" idx="0"/>
              <a:endCxn id="176" idx="0"/>
            </p:cNvCxnSpPr>
            <p:nvPr/>
          </p:nvCxnSpPr>
          <p:spPr>
            <a:xfrm flipH="1" flipV="1" rot="5400000">
              <a:off x="3245040" y="1283040"/>
              <a:ext cx="288360" cy="23630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6" name="_s1030"/>
            <p:cNvSpPr/>
            <p:nvPr/>
          </p:nvSpPr>
          <p:spPr>
            <a:xfrm>
              <a:off x="3575520" y="1796760"/>
              <a:ext cx="1989360" cy="524160"/>
            </a:xfrm>
            <a:prstGeom prst="bevel">
              <a:avLst>
                <a:gd name="adj" fmla="val 12500"/>
              </a:avLst>
            </a:prstGeom>
            <a:solidFill>
              <a:srgbClr val="9999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ау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_s1031"/>
            <p:cNvSpPr/>
            <p:nvPr/>
          </p:nvSpPr>
          <p:spPr>
            <a:xfrm>
              <a:off x="179280" y="2608560"/>
              <a:ext cx="4054680" cy="935640"/>
            </a:xfrm>
            <a:prstGeom prst="bevel">
              <a:avLst>
                <a:gd name="adj" fmla="val 12500"/>
              </a:avLst>
            </a:prstGeom>
            <a:solidFill>
              <a:srgbClr val="99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ундаменталь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физика, хим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1032"/>
            <p:cNvSpPr/>
            <p:nvPr/>
          </p:nvSpPr>
          <p:spPr>
            <a:xfrm>
              <a:off x="4908960" y="2608560"/>
              <a:ext cx="4055400" cy="935640"/>
            </a:xfrm>
            <a:prstGeom prst="bevel">
              <a:avLst>
                <a:gd name="adj" fmla="val 12500"/>
              </a:avLst>
            </a:prstGeom>
            <a:solidFill>
              <a:srgbClr val="9999cc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икладны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агрономия, зоотехния и т. д.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Organization Chart 23"/>
          <p:cNvGrpSpPr/>
          <p:nvPr/>
        </p:nvGrpSpPr>
        <p:grpSpPr>
          <a:xfrm>
            <a:off x="179280" y="4064040"/>
            <a:ext cx="8785440" cy="1105920"/>
            <a:chOff x="179280" y="4064040"/>
            <a:chExt cx="8785440" cy="1105920"/>
          </a:xfrm>
        </p:grpSpPr>
        <p:cxnSp>
          <p:nvCxnSpPr>
            <p:cNvPr id="180" name="_s1035"/>
            <p:cNvCxnSpPr>
              <a:stCxn id="181" idx="0"/>
              <a:endCxn id="182" idx="2"/>
            </p:cNvCxnSpPr>
            <p:nvPr/>
          </p:nvCxnSpPr>
          <p:spPr>
            <a:xfrm flipV="1" rot="16200000">
              <a:off x="6147360" y="2907720"/>
              <a:ext cx="266040" cy="3417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83" name="_s1036"/>
            <p:cNvCxnSpPr>
              <a:stCxn id="184" idx="0"/>
              <a:endCxn id="182" idx="2"/>
            </p:cNvCxnSpPr>
            <p:nvPr/>
          </p:nvCxnSpPr>
          <p:spPr>
            <a:xfrm flipV="1" rot="16200000">
              <a:off x="5008680" y="4046400"/>
              <a:ext cx="266040" cy="1139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85" name="_s1037"/>
            <p:cNvCxnSpPr>
              <a:stCxn id="186" idx="0"/>
              <a:endCxn id="182" idx="2"/>
            </p:cNvCxnSpPr>
            <p:nvPr/>
          </p:nvCxnSpPr>
          <p:spPr>
            <a:xfrm flipH="1" flipV="1" rot="5400000">
              <a:off x="3869640" y="4046400"/>
              <a:ext cx="266040" cy="1140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7d"/>
              </a:solidFill>
              <a:miter/>
            </a:ln>
          </p:spPr>
        </p:cxnSp>
        <p:cxnSp>
          <p:nvCxnSpPr>
            <p:cNvPr id="187" name="_s1038"/>
            <p:cNvCxnSpPr>
              <a:stCxn id="188" idx="0"/>
              <a:endCxn id="182" idx="2"/>
            </p:cNvCxnSpPr>
            <p:nvPr/>
          </p:nvCxnSpPr>
          <p:spPr>
            <a:xfrm flipH="1" flipV="1" rot="5400000">
              <a:off x="2730600" y="2907360"/>
              <a:ext cx="266040" cy="3418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7d"/>
              </a:solidFill>
              <a:miter/>
            </a:ln>
          </p:spPr>
        </p:cxnSp>
        <p:sp>
          <p:nvSpPr>
            <p:cNvPr id="182" name="_s1039"/>
            <p:cNvSpPr/>
            <p:nvPr/>
          </p:nvSpPr>
          <p:spPr>
            <a:xfrm>
              <a:off x="2875320" y="4064040"/>
              <a:ext cx="3392280" cy="42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666699"/>
              </a:solidFill>
              <a:miter/>
            </a:ln>
            <a:effectLst>
              <a:outerShdw dist="63504" dir="19383909" blurRad="0" rotWithShape="0">
                <a:srgbClr val="6666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о предмету и методу познан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1040"/>
            <p:cNvSpPr/>
            <p:nvPr/>
          </p:nvSpPr>
          <p:spPr>
            <a:xfrm>
              <a:off x="179280" y="4749840"/>
              <a:ext cx="1951920" cy="42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cccce6"/>
              </a:solidFill>
              <a:miter/>
            </a:ln>
            <a:effectLst>
              <a:outerShdw dist="63504" dir="19383909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1041"/>
            <p:cNvSpPr/>
            <p:nvPr/>
          </p:nvSpPr>
          <p:spPr>
            <a:xfrm>
              <a:off x="2457000" y="4749840"/>
              <a:ext cx="1951920" cy="4201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ccce6"/>
              </a:solidFill>
              <a:miter/>
            </a:ln>
            <a:effectLst>
              <a:outerShdw dist="63504" dir="19383909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Техническ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1042"/>
            <p:cNvSpPr/>
            <p:nvPr/>
          </p:nvSpPr>
          <p:spPr>
            <a:xfrm>
              <a:off x="4734720" y="4749840"/>
              <a:ext cx="1951920" cy="4201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cccce6"/>
              </a:solidFill>
              <a:miter/>
            </a:ln>
            <a:effectLst>
              <a:outerShdw dist="63504" dir="19383909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Обществен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043"/>
            <p:cNvSpPr/>
            <p:nvPr/>
          </p:nvSpPr>
          <p:spPr>
            <a:xfrm>
              <a:off x="7012800" y="4749840"/>
              <a:ext cx="1951920" cy="4201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cccce6"/>
              </a:solidFill>
              <a:miter/>
            </a:ln>
            <a:effectLst>
              <a:outerShdw dist="63504" dir="19383909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уманитарны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 Box 35"/>
          <p:cNvSpPr/>
          <p:nvPr/>
        </p:nvSpPr>
        <p:spPr>
          <a:xfrm>
            <a:off x="371520" y="551808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36"/>
          <p:cNvSpPr/>
          <p:nvPr/>
        </p:nvSpPr>
        <p:spPr>
          <a:xfrm>
            <a:off x="2627280" y="5656320"/>
            <a:ext cx="1728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ая инжене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37"/>
          <p:cNvSpPr/>
          <p:nvPr/>
        </p:nvSpPr>
        <p:spPr>
          <a:xfrm>
            <a:off x="4859280" y="554184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ци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ит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8"/>
          <p:cNvSpPr/>
          <p:nvPr/>
        </p:nvSpPr>
        <p:spPr>
          <a:xfrm>
            <a:off x="7093080" y="5541840"/>
            <a:ext cx="1728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л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сих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331920" y="1636200"/>
            <a:ext cx="868680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ука как знание существует само по себе - «знание ради знания»  -  это миф или реальнос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928960" cy="29289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I:\обществознание\раздел Познание\76439.jpg"/>
          <p:cNvPicPr/>
          <p:nvPr/>
        </p:nvPicPr>
        <p:blipFill>
          <a:blip r:embed="rId2"/>
          <a:stretch/>
        </p:blipFill>
        <p:spPr>
          <a:xfrm>
            <a:off x="6012000" y="378792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96" name="Прямоугольник 1"/>
          <p:cNvSpPr/>
          <p:nvPr/>
        </p:nvSpPr>
        <p:spPr>
          <a:xfrm>
            <a:off x="2020680" y="0"/>
            <a:ext cx="530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Monotype Corsiva"/>
              </a:rPr>
              <a:t>Задание на д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1989720" y="907920"/>
            <a:ext cx="523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писать эссе на тему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397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Научное позн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5"/>
          <p:cNvSpPr/>
          <p:nvPr/>
        </p:nvSpPr>
        <p:spPr>
          <a:xfrm>
            <a:off x="3284640" y="2612880"/>
            <a:ext cx="331128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3851280" y="2987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ука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1692360" y="4437000"/>
            <a:ext cx="5329080" cy="2089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195640" y="458136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Особый вид познавательной и практической деятельности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95640" y="3286080"/>
            <a:ext cx="1079280" cy="129528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226440 h 1295280"/>
              <a:gd name="textAreaBottom" fmla="*/ 93924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1" descr="http://www.nanonewsnet.ru/files/thumbs/2011/1229330181_science_icons_vector_0.jpg"/>
          <p:cNvPicPr/>
          <p:nvPr/>
        </p:nvPicPr>
        <p:blipFill>
          <a:blip r:embed="rId1"/>
          <a:stretch/>
        </p:blipFill>
        <p:spPr>
          <a:xfrm>
            <a:off x="468360" y="453960"/>
            <a:ext cx="2087640" cy="2158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D:\Documents and Settings\SafonovaNS\Рабочий стол\картинки для презентаций\Ученость\092dcb35d4f4180e09024f79494a15b6.jpeg"/>
          <p:cNvPicPr/>
          <p:nvPr/>
        </p:nvPicPr>
        <p:blipFill>
          <a:blip r:embed="rId2"/>
          <a:stretch/>
        </p:blipFill>
        <p:spPr>
          <a:xfrm>
            <a:off x="7451640" y="4437000"/>
            <a:ext cx="1619280" cy="23018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79280" y="549360"/>
            <a:ext cx="229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Научное п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24000" y="2254320"/>
            <a:ext cx="16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Цель науки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698920" y="211788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ижение истины, открытие законов для того, чтобы предвидеть тенденции развития действительности и способствовать её измен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79280" y="3687840"/>
            <a:ext cx="251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Высшая ценность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2987640" y="395928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" descr="задание детям"/>
          <p:cNvPicPr/>
          <p:nvPr/>
        </p:nvPicPr>
        <p:blipFill>
          <a:blip r:embed="rId1"/>
          <a:stretch/>
        </p:blipFill>
        <p:spPr>
          <a:xfrm>
            <a:off x="6732720" y="3790800"/>
            <a:ext cx="2076480" cy="1384560"/>
          </a:xfrm>
          <a:prstGeom prst="rect">
            <a:avLst/>
          </a:prstGeom>
          <a:ln w="0">
            <a:noFill/>
          </a:ln>
        </p:spPr>
      </p:pic>
      <p:sp>
        <p:nvSpPr>
          <p:cNvPr id="131" name="Прямоугольник 2"/>
          <p:cNvSpPr/>
          <p:nvPr/>
        </p:nvSpPr>
        <p:spPr>
          <a:xfrm>
            <a:off x="2470320" y="5493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познавательной деятельности, направленной на получение объективных, знаний о природе, обществе и мышлени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599040" y="5302080"/>
            <a:ext cx="145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4"/>
          <p:cNvSpPr/>
          <p:nvPr/>
        </p:nvSpPr>
        <p:spPr>
          <a:xfrm>
            <a:off x="1968480" y="5013360"/>
            <a:ext cx="64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процес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я, идеальное отраж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тельност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нании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ризнаки научного познания 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258920" y="1916280"/>
            <a:ext cx="6192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ив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яя систем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ность на прак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гая доказа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верность выв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6" descr="4[2]"/>
          <p:cNvPicPr/>
          <p:nvPr/>
        </p:nvPicPr>
        <p:blipFill>
          <a:blip r:embed="rId1"/>
          <a:stretch/>
        </p:blipFill>
        <p:spPr>
          <a:xfrm>
            <a:off x="7956720" y="4724280"/>
            <a:ext cx="9522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74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484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пецифика научного позна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6" descr="http://www.hitec.bash.ru/Img/nauka/1.jpg"/>
          <p:cNvPicPr/>
          <p:nvPr/>
        </p:nvPicPr>
        <p:blipFill>
          <a:blip r:embed="rId1"/>
          <a:stretch/>
        </p:blipFill>
        <p:spPr>
          <a:xfrm>
            <a:off x="324000" y="162864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http://static.vmurmanske.ru/serverdata/news_info/2011/05/18/879773/imgFull.jpg"/>
          <p:cNvPicPr/>
          <p:nvPr/>
        </p:nvPicPr>
        <p:blipFill>
          <a:blip r:embed="rId2"/>
          <a:stretch/>
        </p:blipFill>
        <p:spPr>
          <a:xfrm>
            <a:off x="5651640" y="4221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3851280" y="1670040"/>
            <a:ext cx="5113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учное познание значительно отличается от познания обыденного, мифологического или религиозн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50920" y="4025880"/>
            <a:ext cx="496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Научное познание ориентировано на достижение объективной истины, достоверной, экспериментально и рационально обоснова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8358120" cy="77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Универсальные методы научного позна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Схема 4" descr=""/>
          <p:cNvPicPr/>
          <p:nvPr/>
        </p:nvPicPr>
        <p:blipFill>
          <a:blip r:embed="rId1"/>
          <a:stretch/>
        </p:blipFill>
        <p:spPr>
          <a:xfrm>
            <a:off x="152280" y="1170000"/>
            <a:ext cx="8778960" cy="55054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971640" y="549360"/>
            <a:ext cx="7488000" cy="863640"/>
          </a:xfrm>
          <a:prstGeom prst="rect">
            <a:avLst/>
          </a:prstGeom>
          <a:solidFill>
            <a:srgbClr val="ffccff"/>
          </a:solidFill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87280" y="69228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Уровни научного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1619280" y="1916280"/>
            <a:ext cx="5329080" cy="1584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835280" y="1916280"/>
            <a:ext cx="48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Эмпирический уровень</a:t>
            </a:r>
            <a:r>
              <a:rPr b="1" i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– накопление, предварительная классификация и осмысление ф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2556000" y="3933720"/>
            <a:ext cx="5832360" cy="2016360"/>
          </a:xfrm>
          <a:prstGeom prst="roundRect">
            <a:avLst>
              <a:gd name="adj" fmla="val 16667"/>
            </a:avLst>
          </a:prstGeom>
          <a:solidFill>
            <a:srgbClr val="dffbbd"/>
          </a:solidFill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2771640" y="4076640"/>
            <a:ext cx="525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Теоретический уровень</a:t>
            </a:r>
            <a:r>
              <a:rPr b="1" i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– окончательная классификация и объяснение фа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>
            <a:off x="971640" y="1413000"/>
            <a:ext cx="0" cy="36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>
            <a:off x="97164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>
            <a:off x="971640" y="50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Уровни научного познан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50920" y="1413000"/>
            <a:ext cx="35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Эмпири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4932360" y="1413000"/>
            <a:ext cx="39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Теоретиче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96920" y="2044800"/>
            <a:ext cx="338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ет чувственное познание, живое созер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5003640" y="2133720"/>
            <a:ext cx="403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обладают рациональные формы познания – понятия, умозаключения, теории, закон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108000" y="3860640"/>
            <a:ext cx="36702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бор фа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х обобщ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писание наблюдений и экспери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х систематизация и классиф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4932360" y="4859280"/>
            <a:ext cx="41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тражает явления с помощью рациональной обработки данных эмпирического 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3"/>
          <p:cNvSpPr/>
          <p:nvPr/>
        </p:nvSpPr>
        <p:spPr>
          <a:xfrm flipH="1">
            <a:off x="3419640" y="981000"/>
            <a:ext cx="792000" cy="360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4643280" y="981000"/>
            <a:ext cx="649440" cy="360360"/>
          </a:xfrm>
          <a:prstGeom prst="line">
            <a:avLst/>
          </a:prstGeom>
          <a:ln w="7632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Компоненты структуры научного познания</a:t>
            </a:r>
            <a:r>
              <a:rPr b="0" lang="ru-RU" sz="4000" spc="-1" strike="noStrike">
                <a:solidFill>
                  <a:srgbClr val="ff0000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28520" y="1916280"/>
            <a:ext cx="25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пробл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3024360" y="2006640"/>
            <a:ext cx="26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гипо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6635880" y="200664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cc0000"/>
                </a:solidFill>
                <a:uFillTx/>
                <a:latin typeface="Times New Roman"/>
              </a:rPr>
              <a:t>теор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79280" y="2708280"/>
            <a:ext cx="230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знания, содержанием которой является то, что ещё не познано человеком, но что нужно по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843280" y="2911320"/>
            <a:ext cx="27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знания, содержащая предположение, которое нуждается в доказатель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975280" y="2781360"/>
            <a:ext cx="316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знаний, дающая целостное отображение закономерных и существенных связей определённой области действи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question_2"/>
          <p:cNvPicPr/>
          <p:nvPr/>
        </p:nvPicPr>
        <p:blipFill>
          <a:blip r:embed="rId1"/>
          <a:stretch/>
        </p:blipFill>
        <p:spPr>
          <a:xfrm>
            <a:off x="128520" y="6008760"/>
            <a:ext cx="585720" cy="836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tn_lampa[1]"/>
          <p:cNvPicPr/>
          <p:nvPr/>
        </p:nvPicPr>
        <p:blipFill>
          <a:blip r:embed="rId2"/>
          <a:stretch/>
        </p:blipFill>
        <p:spPr>
          <a:xfrm>
            <a:off x="8244000" y="5877000"/>
            <a:ext cx="896760" cy="981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smile49[1]"/>
          <p:cNvPicPr/>
          <p:nvPr/>
        </p:nvPicPr>
        <p:blipFill>
          <a:blip r:embed="rId3"/>
          <a:stretch/>
        </p:blipFill>
        <p:spPr>
          <a:xfrm>
            <a:off x="3924360" y="5668920"/>
            <a:ext cx="784080" cy="677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7:47:10Z</dcterms:created>
  <dc:creator>Admin</dc:creator>
  <dc:description/>
  <dc:language>en-US</dc:language>
  <cp:lastModifiedBy>Ирина</cp:lastModifiedBy>
  <dcterms:modified xsi:type="dcterms:W3CDTF">2017-08-04T21:05:18Z</dcterms:modified>
  <cp:revision>32</cp:revision>
  <dc:subject/>
  <dc:title>Понятие истины</dc:title>
</cp:coreProperties>
</file>