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7.jpeg" ContentType="image/jpeg"/>
  <Override PartName="/ppt/media/image16.wmf" ContentType="image/x-wmf"/>
  <Override PartName="/ppt/media/image4.jpeg" ContentType="image/jpeg"/>
  <Override PartName="/ppt/media/image13.gif" ContentType="image/gif"/>
  <Override PartName="/ppt/media/image1.jpeg" ContentType="image/jpeg"/>
  <Override PartName="/ppt/media/image10.png" ContentType="image/png"/>
  <Override PartName="/ppt/media/image2.jpeg" ContentType="image/jpeg"/>
  <Override PartName="/ppt/media/image6.gif" ContentType="image/gif"/>
  <Override PartName="/ppt/media/image14.png" ContentType="image/png"/>
  <Override PartName="/ppt/media/image11.gif" ContentType="image/gif"/>
  <Override PartName="/ppt/media/image12.gif" ContentType="image/gif"/>
  <Override PartName="/ppt/media/image3.jpeg" ContentType="image/jpeg"/>
  <Override PartName="/ppt/media/image15.png" ContentType="image/pn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D5D5-F277-445D-816D-7BF982D95F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A82DF-39A6-441C-9273-45DFE09C3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F35D9-AF21-43CC-8086-AD89D2C8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0FB7F-9980-4CD5-B519-C2A45307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43179-5526-4E1B-84BA-73D2512E7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745C6-4C9D-4E99-B7B2-1AE7BEDA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6B6B-D6A8-4D62-88B9-2338A65F0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E75D-50E1-413F-A17F-CC413D49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9AFB-63C9-4DBF-BFA8-251E09F2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9925-694D-4011-8C17-8F8F26B3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146F-1CAC-46B5-8DA0-F0CFF990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9120-7EBC-4F90-BBFA-AC2C688F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14E38-23B9-4A5A-8C52-8D679073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101B-B265-469F-813B-2987C7CB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8F78-FE9F-4EFA-84D7-8F3DE37B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36FB-1CA4-4C2B-85E7-0F8094D1A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58DB-E9A2-4466-9348-DBA3ED45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A0C8-EB85-4BAD-AA55-2A24E2D7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B830-D8B5-40BB-96E8-12EAC6C5E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198A7-B217-4DE8-B60E-E9A37FD9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A6322-2BDE-4798-B88F-823978DF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CCDEC-EF9A-4D42-B73D-FE7D08E9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E76F8-AF40-474D-96E9-30678269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5283-2B11-46D0-8640-033FF576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6083C-250C-4642-9711-61AF6F2E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7FF55-15B4-4E97-86DF-AF3576B6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9D52-82AD-4CB4-B19F-28A026EC20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0466-1818-4923-B462-23531F8E55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050920" y="102564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Научное п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http://school56.ucoz.net/_nw/0/00006761.jpg"/>
          <p:cNvPicPr/>
          <p:nvPr/>
        </p:nvPicPr>
        <p:blipFill>
          <a:blip r:embed="rId1"/>
          <a:stretch/>
        </p:blipFill>
        <p:spPr>
          <a:xfrm>
            <a:off x="324000" y="1341360"/>
            <a:ext cx="2303280" cy="295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Resize%20of%20b38ffeea500d1032efde12d98847e65fb12152ca"/>
          <p:cNvPicPr/>
          <p:nvPr/>
        </p:nvPicPr>
        <p:blipFill>
          <a:blip r:embed="rId2"/>
          <a:stretch/>
        </p:blipFill>
        <p:spPr>
          <a:xfrm>
            <a:off x="5076720" y="2060640"/>
            <a:ext cx="2664000" cy="216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ttp://www.ovideo.ru/images/mainimage/b/28042.jpg"/>
          <p:cNvPicPr/>
          <p:nvPr/>
        </p:nvPicPr>
        <p:blipFill>
          <a:blip r:embed="rId3"/>
          <a:stretch/>
        </p:blipFill>
        <p:spPr>
          <a:xfrm>
            <a:off x="2340000" y="3789360"/>
            <a:ext cx="3024000" cy="1862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7440" y="260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сновные отрасли науч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Organization Chart 16"/>
          <p:cNvGrpSpPr/>
          <p:nvPr/>
        </p:nvGrpSpPr>
        <p:grpSpPr>
          <a:xfrm>
            <a:off x="179280" y="1796760"/>
            <a:ext cx="8785080" cy="1747440"/>
            <a:chOff x="179280" y="1796760"/>
            <a:chExt cx="8785080" cy="1747440"/>
          </a:xfrm>
        </p:grpSpPr>
        <p:cxnSp>
          <p:nvCxnSpPr>
            <p:cNvPr id="174" name="_s1028"/>
            <p:cNvCxnSpPr>
              <a:stCxn id="175" idx="0"/>
              <a:endCxn id="176" idx="1"/>
            </p:cNvCxnSpPr>
            <p:nvPr/>
          </p:nvCxnSpPr>
          <p:spPr>
            <a:xfrm flipV="1" rot="16200000">
              <a:off x="5609520" y="1280520"/>
              <a:ext cx="288360" cy="2367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0"/>
            </p:cNvCxnSpPr>
            <p:nvPr/>
          </p:nvCxnSpPr>
          <p:spPr>
            <a:xfrm flipH="1" flipV="1" rot="5400000">
              <a:off x="3245040" y="1283040"/>
              <a:ext cx="288360" cy="2363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6" name="_s1030"/>
            <p:cNvSpPr/>
            <p:nvPr/>
          </p:nvSpPr>
          <p:spPr>
            <a:xfrm>
              <a:off x="3575520" y="1796760"/>
              <a:ext cx="1989360" cy="524160"/>
            </a:xfrm>
            <a:prstGeom prst="bevel">
              <a:avLst>
                <a:gd name="adj" fmla="val 12500"/>
              </a:avLst>
            </a:prstGeom>
            <a:solidFill>
              <a:srgbClr val="99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у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1"/>
            <p:cNvSpPr/>
            <p:nvPr/>
          </p:nvSpPr>
          <p:spPr>
            <a:xfrm>
              <a:off x="179280" y="2608560"/>
              <a:ext cx="4054680" cy="935640"/>
            </a:xfrm>
            <a:prstGeom prst="bevel">
              <a:avLst>
                <a:gd name="adj" fmla="val 12500"/>
              </a:avLst>
            </a:prstGeom>
            <a:solidFill>
              <a:srgbClr val="99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ундамент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физика, химия и т. д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2"/>
            <p:cNvSpPr/>
            <p:nvPr/>
          </p:nvSpPr>
          <p:spPr>
            <a:xfrm>
              <a:off x="4908960" y="2608560"/>
              <a:ext cx="4055400" cy="935640"/>
            </a:xfrm>
            <a:prstGeom prst="bevel">
              <a:avLst>
                <a:gd name="adj" fmla="val 12500"/>
              </a:avLst>
            </a:prstGeom>
            <a:solidFill>
              <a:srgbClr val="99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иклад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агрономия, зоотехния и т. д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Organization Chart 23"/>
          <p:cNvGrpSpPr/>
          <p:nvPr/>
        </p:nvGrpSpPr>
        <p:grpSpPr>
          <a:xfrm>
            <a:off x="179280" y="4064040"/>
            <a:ext cx="8785440" cy="1105920"/>
            <a:chOff x="179280" y="4064040"/>
            <a:chExt cx="8785440" cy="1105920"/>
          </a:xfrm>
        </p:grpSpPr>
        <p:cxnSp>
          <p:nvCxnSpPr>
            <p:cNvPr id="180" name="_s1035"/>
            <p:cNvCxnSpPr>
              <a:stCxn id="181" idx="0"/>
              <a:endCxn id="182" idx="2"/>
            </p:cNvCxnSpPr>
            <p:nvPr/>
          </p:nvCxnSpPr>
          <p:spPr>
            <a:xfrm flipV="1" rot="16200000">
              <a:off x="6147360" y="2907720"/>
              <a:ext cx="266040" cy="3417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83" name="_s1036"/>
            <p:cNvCxnSpPr>
              <a:stCxn id="184" idx="0"/>
              <a:endCxn id="182" idx="2"/>
            </p:cNvCxnSpPr>
            <p:nvPr/>
          </p:nvCxnSpPr>
          <p:spPr>
            <a:xfrm flipV="1" rot="16200000">
              <a:off x="5008680" y="4046400"/>
              <a:ext cx="266040" cy="1139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85" name="_s1037"/>
            <p:cNvCxnSpPr>
              <a:stCxn id="186" idx="0"/>
              <a:endCxn id="182" idx="2"/>
            </p:cNvCxnSpPr>
            <p:nvPr/>
          </p:nvCxnSpPr>
          <p:spPr>
            <a:xfrm flipH="1" flipV="1" rot="5400000">
              <a:off x="3869640" y="4046400"/>
              <a:ext cx="266040" cy="1140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87" name="_s1038"/>
            <p:cNvCxnSpPr>
              <a:stCxn id="188" idx="0"/>
              <a:endCxn id="182" idx="2"/>
            </p:cNvCxnSpPr>
            <p:nvPr/>
          </p:nvCxnSpPr>
          <p:spPr>
            <a:xfrm flipH="1" flipV="1" rot="5400000">
              <a:off x="2730600" y="2907360"/>
              <a:ext cx="266040" cy="3418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82" name="_s1039"/>
            <p:cNvSpPr/>
            <p:nvPr/>
          </p:nvSpPr>
          <p:spPr>
            <a:xfrm>
              <a:off x="2875320" y="4064040"/>
              <a:ext cx="3392280" cy="42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666699"/>
              </a:solidFill>
              <a:miter/>
            </a:ln>
            <a:effectLst>
              <a:outerShdw dist="63504" dir="19383909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 предмету и методу позн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040"/>
            <p:cNvSpPr/>
            <p:nvPr/>
          </p:nvSpPr>
          <p:spPr>
            <a:xfrm>
              <a:off x="179280" y="4749840"/>
              <a:ext cx="1951920" cy="42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ccce6"/>
              </a:solidFill>
              <a:miter/>
            </a:ln>
            <a:effectLst>
              <a:outerShdw dist="63504" dir="19383909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Естеств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041"/>
            <p:cNvSpPr/>
            <p:nvPr/>
          </p:nvSpPr>
          <p:spPr>
            <a:xfrm>
              <a:off x="2457000" y="4749840"/>
              <a:ext cx="1951920" cy="420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ccce6"/>
              </a:solidFill>
              <a:miter/>
            </a:ln>
            <a:effectLst>
              <a:outerShdw dist="63504" dir="19383909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ехниче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042"/>
            <p:cNvSpPr/>
            <p:nvPr/>
          </p:nvSpPr>
          <p:spPr>
            <a:xfrm>
              <a:off x="4734720" y="4749840"/>
              <a:ext cx="1951920" cy="420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ccce6"/>
              </a:solidFill>
              <a:miter/>
            </a:ln>
            <a:effectLst>
              <a:outerShdw dist="63504" dir="19383909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ществ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043"/>
            <p:cNvSpPr/>
            <p:nvPr/>
          </p:nvSpPr>
          <p:spPr>
            <a:xfrm>
              <a:off x="7012800" y="4749840"/>
              <a:ext cx="1951920" cy="4201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cccce6"/>
              </a:solidFill>
              <a:miter/>
            </a:ln>
            <a:effectLst>
              <a:outerShdw dist="63504" dir="19383909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уманитар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35"/>
          <p:cNvSpPr/>
          <p:nvPr/>
        </p:nvSpPr>
        <p:spPr>
          <a:xfrm>
            <a:off x="371520" y="551808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6"/>
          <p:cNvSpPr/>
          <p:nvPr/>
        </p:nvSpPr>
        <p:spPr>
          <a:xfrm>
            <a:off x="2627280" y="5656320"/>
            <a:ext cx="172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ая инжен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7"/>
          <p:cNvSpPr/>
          <p:nvPr/>
        </p:nvSpPr>
        <p:spPr>
          <a:xfrm>
            <a:off x="4859280" y="554184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8"/>
          <p:cNvSpPr/>
          <p:nvPr/>
        </p:nvSpPr>
        <p:spPr>
          <a:xfrm>
            <a:off x="7093080" y="554184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31920" y="1636200"/>
            <a:ext cx="86868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ука как знание существует само по себе - «знание ради знания»  -  это миф или реаль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I:\обществознание\раздел Познание\76439.jpg"/>
          <p:cNvPicPr/>
          <p:nvPr/>
        </p:nvPicPr>
        <p:blipFill>
          <a:blip r:embed="rId2"/>
          <a:stretch/>
        </p:blipFill>
        <p:spPr>
          <a:xfrm>
            <a:off x="6012000" y="37879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"/>
          <p:cNvSpPr/>
          <p:nvPr/>
        </p:nvSpPr>
        <p:spPr>
          <a:xfrm>
            <a:off x="2020680" y="0"/>
            <a:ext cx="530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Monotype Corsiva"/>
              </a:rPr>
              <a:t>Задание на д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1989720" y="907920"/>
            <a:ext cx="52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сать эссе на тему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397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Научное п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3284640" y="2612880"/>
            <a:ext cx="331128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851280" y="2987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аука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692360" y="4437000"/>
            <a:ext cx="5329080" cy="2089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95640" y="458136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Особый вид познавательной и практической деятельност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95640" y="3286080"/>
            <a:ext cx="1079280" cy="129528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http://www.nanonewsnet.ru/files/thumbs/2011/1229330181_science_icons_vector_0.jpg"/>
          <p:cNvPicPr/>
          <p:nvPr/>
        </p:nvPicPr>
        <p:blipFill>
          <a:blip r:embed="rId1"/>
          <a:stretch/>
        </p:blipFill>
        <p:spPr>
          <a:xfrm>
            <a:off x="468360" y="453960"/>
            <a:ext cx="2087640" cy="2158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D:\Documents and Settings\SafonovaNS\Рабочий стол\картинки для презентаций\Ученость\092dcb35d4f4180e09024f79494a15b6.jpeg"/>
          <p:cNvPicPr/>
          <p:nvPr/>
        </p:nvPicPr>
        <p:blipFill>
          <a:blip r:embed="rId2"/>
          <a:stretch/>
        </p:blipFill>
        <p:spPr>
          <a:xfrm>
            <a:off x="7451640" y="4437000"/>
            <a:ext cx="1619280" cy="2301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79280" y="549360"/>
            <a:ext cx="229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Научное п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24000" y="225432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Цель наук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698920" y="211788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жение истины, открытие законов для того, чтобы предвидеть тенденции развития действительности и способствовать её изме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79280" y="3687840"/>
            <a:ext cx="25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Высшая ценность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987640" y="39592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ая 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задание детям"/>
          <p:cNvPicPr/>
          <p:nvPr/>
        </p:nvPicPr>
        <p:blipFill>
          <a:blip r:embed="rId1"/>
          <a:stretch/>
        </p:blipFill>
        <p:spPr>
          <a:xfrm>
            <a:off x="6732720" y="3790800"/>
            <a:ext cx="2076480" cy="13845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2470320" y="54936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ознавательной деятельности, направленной на получение объективных, знаний о природе, обществе и мышлени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599040" y="5302080"/>
            <a:ext cx="14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1968480" y="5013360"/>
            <a:ext cx="64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я, идеальное отра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ост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Признаки научного познания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258920" y="1916280"/>
            <a:ext cx="6192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систем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ность на практ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ая доказ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верность выв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4[2]"/>
          <p:cNvPicPr/>
          <p:nvPr/>
        </p:nvPicPr>
        <p:blipFill>
          <a:blip r:embed="rId1"/>
          <a:stretch/>
        </p:blipFill>
        <p:spPr>
          <a:xfrm>
            <a:off x="7956720" y="4724280"/>
            <a:ext cx="9522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7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484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пецифика научного позн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http://www.hitec.bash.ru/Img/nauka/1.jpg"/>
          <p:cNvPicPr/>
          <p:nvPr/>
        </p:nvPicPr>
        <p:blipFill>
          <a:blip r:embed="rId1"/>
          <a:stretch/>
        </p:blipFill>
        <p:spPr>
          <a:xfrm>
            <a:off x="324000" y="1628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http://static.vmurmanske.ru/serverdata/news_info/2011/05/18/879773/imgFull.jpg"/>
          <p:cNvPicPr/>
          <p:nvPr/>
        </p:nvPicPr>
        <p:blipFill>
          <a:blip r:embed="rId2"/>
          <a:stretch/>
        </p:blipFill>
        <p:spPr>
          <a:xfrm>
            <a:off x="5651640" y="4221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3851280" y="1670040"/>
            <a:ext cx="511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аучное познание значительно отличается от познания обыденного, мифологического или религиоз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50920" y="4025880"/>
            <a:ext cx="496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аучное познание ориентировано на достижение объективной истины, достоверной, экспериментально и рационально обоснова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35812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Универсальные методы научного позн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хема 4" descr=""/>
          <p:cNvPicPr/>
          <p:nvPr/>
        </p:nvPicPr>
        <p:blipFill>
          <a:blip r:embed="rId1"/>
          <a:stretch/>
        </p:blipFill>
        <p:spPr>
          <a:xfrm>
            <a:off x="152280" y="1170000"/>
            <a:ext cx="8778960" cy="5505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971640" y="549360"/>
            <a:ext cx="7488000" cy="863640"/>
          </a:xfrm>
          <a:prstGeom prst="rect">
            <a:avLst/>
          </a:prstGeom>
          <a:solidFill>
            <a:srgbClr val="ffcc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187280" y="692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ровни научного п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1619280" y="1916280"/>
            <a:ext cx="5329080" cy="158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835280" y="191628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Эмпирический уровень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– накопление, предварительная классификация и осмысление фа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2556000" y="3933720"/>
            <a:ext cx="5832360" cy="2016360"/>
          </a:xfrm>
          <a:prstGeom prst="roundRect">
            <a:avLst>
              <a:gd name="adj" fmla="val 16667"/>
            </a:avLst>
          </a:prstGeom>
          <a:solidFill>
            <a:srgbClr val="dffbbd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771640" y="4076640"/>
            <a:ext cx="52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Теоретический уровень</a:t>
            </a:r>
            <a:r>
              <a:rPr b="1" i="1" lang="ru-RU" sz="2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– окончательная классификация и объяснение ф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971640" y="1413000"/>
            <a:ext cx="0" cy="36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97164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971640" y="5084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ровни научного по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50920" y="141300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Эмпир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4932360" y="14130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еорет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96920" y="2044800"/>
            <a:ext cx="338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ет чувственное познание, живое созер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003640" y="2133720"/>
            <a:ext cx="40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ют рациональные формы познания – понятия, умозаключения, теории, закон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08000" y="3860640"/>
            <a:ext cx="36702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бор фа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х об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исание наблюдений и экспери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х систематизация и 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4932360" y="4859280"/>
            <a:ext cx="41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ражает явления с помощью рациональной обработки данных эмпирического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3419640" y="981000"/>
            <a:ext cx="792000" cy="3603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4643280" y="981000"/>
            <a:ext cx="649440" cy="3603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Компоненты структуры научного познания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28520" y="191628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024360" y="20066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635880" y="2006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тео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79280" y="2708280"/>
            <a:ext cx="23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знания, содержанием которой является то, что ещё не познано человеком, но что нужно по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2843280" y="2911320"/>
            <a:ext cx="27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знания, содержащая предположение, которое нуждается в доказ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75280" y="2781360"/>
            <a:ext cx="316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знаний, дающая целостное отображение закономерных и существенных связей определённой обла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question_2"/>
          <p:cNvPicPr/>
          <p:nvPr/>
        </p:nvPicPr>
        <p:blipFill>
          <a:blip r:embed="rId1"/>
          <a:stretch/>
        </p:blipFill>
        <p:spPr>
          <a:xfrm>
            <a:off x="128520" y="6008760"/>
            <a:ext cx="585720" cy="836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tn_lampa[1]"/>
          <p:cNvPicPr/>
          <p:nvPr/>
        </p:nvPicPr>
        <p:blipFill>
          <a:blip r:embed="rId2"/>
          <a:stretch/>
        </p:blipFill>
        <p:spPr>
          <a:xfrm>
            <a:off x="8244000" y="5877000"/>
            <a:ext cx="896760" cy="981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smile49[1]"/>
          <p:cNvPicPr/>
          <p:nvPr/>
        </p:nvPicPr>
        <p:blipFill>
          <a:blip r:embed="rId3"/>
          <a:stretch/>
        </p:blipFill>
        <p:spPr>
          <a:xfrm>
            <a:off x="3924360" y="5668920"/>
            <a:ext cx="784080" cy="677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7:47:10Z</dcterms:created>
  <dc:creator>Admin</dc:creator>
  <dc:description/>
  <dc:language>en-US</dc:language>
  <cp:lastModifiedBy>Ирина</cp:lastModifiedBy>
  <dcterms:modified xsi:type="dcterms:W3CDTF">2017-08-04T21:05:18Z</dcterms:modified>
  <cp:revision>32</cp:revision>
  <dc:subject/>
  <dc:title>Понятие истины</dc:title>
</cp:coreProperties>
</file>