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C752-C46B-4644-A06A-B9CC0BF96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675A-9427-4AB7-ADA7-CF4B458F8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64B7-16A9-4CA5-927D-D83B3D91A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A87F-8B3B-4303-9927-1A25E923D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C391-17A0-402C-BDB6-793419457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59DC-62BB-4586-8912-2027F143E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4506-BABC-4216-B431-598213F0B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67CF-2AE3-4925-9EED-C09762E80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5656-6BB5-4657-875A-1C2727316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C822-3C98-4A37-B46D-187F229D7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C2AA-8545-4CCB-9F2D-EBA03DB52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BB87-2687-4D0B-B1BC-6BFC2C556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3B5BF-2C17-42B1-9C50-5A488B75A3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1"/>
          <p:cNvSpPr/>
          <p:nvPr/>
        </p:nvSpPr>
        <p:spPr>
          <a:xfrm>
            <a:off x="-663480" y="1125360"/>
            <a:ext cx="1087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Monotype Corsiva"/>
              </a:rPr>
              <a:t>Социальные общности и группы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Определения социальных групп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 социальной группой принято понимать любую совокупность людей, выделенных по социально значимым критериям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Таковыми являются</a:t>
            </a:r>
            <a:r>
              <a:rPr b="1" i="1" lang="ru-RU" sz="2000" spc="-1" strike="noStrike" u="sng">
                <a:solidFill>
                  <a:srgbClr val="c0504d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л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озраст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циональность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са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фессия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есто жительства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ход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ласть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бразование и некоторые други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д </a:t>
            </a:r>
            <a:r>
              <a:rPr b="1" i="1" lang="ru-RU" sz="20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социальной группой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нимается совокупность людей, имеющих общий социальный признак и выполняющих  общественно необходимую функцию в общей структуре общественного разделения труда и деятельност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7" descr="i?id=20473301&amp;tov=2"/>
          <p:cNvPicPr/>
          <p:nvPr/>
        </p:nvPicPr>
        <p:blipFill>
          <a:blip r:embed="rId1"/>
          <a:stretch/>
        </p:blipFill>
        <p:spPr>
          <a:xfrm>
            <a:off x="4419720" y="3994200"/>
            <a:ext cx="1981080" cy="14922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i?id=41634293&amp;tov=8"/>
          <p:cNvPicPr/>
          <p:nvPr/>
        </p:nvPicPr>
        <p:blipFill>
          <a:blip r:embed="rId2"/>
          <a:stretch/>
        </p:blipFill>
        <p:spPr>
          <a:xfrm>
            <a:off x="6477120" y="5486400"/>
            <a:ext cx="1657080" cy="10396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539640" y="1886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ru-RU" sz="3200" spc="-1" strike="noStrike">
                <a:solidFill>
                  <a:srgbClr val="c0504d"/>
                </a:solidFill>
                <a:latin typeface="Times New Roman"/>
                <a:ea typeface="Times New Roman"/>
              </a:rPr>
              <a:t>Современное общество демонстрирует нам большое разнообразие социальных групп, объединяющими факторами которых  являются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профессиональные интересы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общность идеологических позиций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национально – этническая специфика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приверженность той или иной религии и т. д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25" descr="MCPE03230_0000[1]"/>
          <p:cNvPicPr/>
          <p:nvPr/>
        </p:nvPicPr>
        <p:blipFill>
          <a:blip r:embed="rId1"/>
          <a:stretch/>
        </p:blipFill>
        <p:spPr>
          <a:xfrm>
            <a:off x="5651640" y="4869000"/>
            <a:ext cx="3389040" cy="18018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700000" y="-360"/>
            <a:ext cx="6257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ризнаки социальной групп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2"/>
          <a:stretch/>
        </p:blipFill>
        <p:spPr>
          <a:xfrm>
            <a:off x="2076480" y="1628640"/>
            <a:ext cx="6985080" cy="45784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9672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c0504d"/>
                </a:solidFill>
                <a:uFillTx/>
                <a:latin typeface="Times New Roman"/>
                <a:ea typeface="Times New Roman"/>
              </a:rPr>
              <a:t>Классификация групп по размерам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3000" y="1326960"/>
            <a:ext cx="43880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0000"/>
                </a:solidFill>
                <a:uFillTx/>
                <a:latin typeface="Times New Roman"/>
              </a:rPr>
              <a:t>Малой группой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</a:rPr>
              <a:t>(</a:t>
            </a:r>
            <a:r>
              <a:rPr b="1" i="1" lang="ru-RU" sz="1800" spc="-1" strike="noStrike">
                <a:solidFill>
                  <a:srgbClr val="002060"/>
                </a:solidFill>
                <a:latin typeface="Times New Roman"/>
              </a:rPr>
              <a:t>первичной, контактной, неформальной)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</a:rPr>
              <a:t> называют небольшое число людей, которые хорошо знают друг друга и постоянно взаимодействуют между собой, объединённых общими целями, интересами, ценностям, нормами и правилами поведени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Times New Roman"/>
              </a:rPr>
              <a:t>Примеры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емья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оизводственная бригада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школьный класс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оинский коллектив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портивная команда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группа друзей, подростков-сверстников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оллектив космических, арктических, антарктических станций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5360" indent="-315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олодёжная тусовка и т. д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2920" y="1028520"/>
            <a:ext cx="4389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0000"/>
                </a:solidFill>
                <a:uFillTx/>
                <a:latin typeface="Times New Roman"/>
              </a:rPr>
              <a:t>Большие социальные группы </a:t>
            </a:r>
            <a:r>
              <a:rPr b="1" lang="ru-RU" sz="1800" spc="-1" strike="noStrike">
                <a:solidFill>
                  <a:srgbClr val="1e1c11"/>
                </a:solidFill>
                <a:latin typeface="Times New Roman"/>
              </a:rPr>
              <a:t>– это многочисленные социальные общности, располагающиеся, как правило, на  больших территориях, что исключает возможность непосредственного контакта, непосредственной связи и непосредственного взаимодействия входящих в них индивидов и малых социальных групп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7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57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57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57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0000"/>
                </a:solidFill>
                <a:uFillTx/>
                <a:latin typeface="Times New Roman"/>
              </a:rPr>
              <a:t>Примеры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7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ационально – территориальные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лассовые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елигиозные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лановые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офессиональные (в пределах крупного предприятия и отросли)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артийные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офсоюзные и другие общности люде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7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i?id=43407470&amp;tov=5"/>
          <p:cNvPicPr/>
          <p:nvPr/>
        </p:nvPicPr>
        <p:blipFill>
          <a:blip r:embed="rId1"/>
          <a:stretch/>
        </p:blipFill>
        <p:spPr>
          <a:xfrm>
            <a:off x="3348000" y="4292640"/>
            <a:ext cx="1295280" cy="10666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" descr="i?id=40820980&amp;tov=6"/>
          <p:cNvPicPr/>
          <p:nvPr/>
        </p:nvPicPr>
        <p:blipFill>
          <a:blip r:embed="rId2"/>
          <a:stretch/>
        </p:blipFill>
        <p:spPr>
          <a:xfrm>
            <a:off x="2050920" y="3213000"/>
            <a:ext cx="1371600" cy="927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" descr="i?id=42197005&amp;tov=6"/>
          <p:cNvPicPr/>
          <p:nvPr/>
        </p:nvPicPr>
        <p:blipFill>
          <a:blip r:embed="rId3"/>
          <a:stretch/>
        </p:blipFill>
        <p:spPr>
          <a:xfrm>
            <a:off x="7286760" y="3141720"/>
            <a:ext cx="1685880" cy="12668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" descr="i?id=41246403&amp;tov=4"/>
          <p:cNvPicPr/>
          <p:nvPr/>
        </p:nvPicPr>
        <p:blipFill>
          <a:blip r:embed="rId4"/>
          <a:stretch/>
        </p:blipFill>
        <p:spPr>
          <a:xfrm>
            <a:off x="7524720" y="-36360"/>
            <a:ext cx="1447920" cy="10778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1128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Классификация групп по социально значимым критериям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4267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0000"/>
                </a:solidFill>
                <a:uFillTx/>
                <a:latin typeface="Times New Roman"/>
              </a:rPr>
              <a:t>Номинальные (условные) группы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х выделяют только для статистического учёта населения, и потому у них есть второе имя — социальные категории. Они относятся к </a:t>
            </a: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большим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с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циальным группам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c0504d"/>
                </a:solidFill>
                <a:uFillTx/>
                <a:latin typeface="Times New Roman"/>
              </a:rPr>
              <a:t>Например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■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ассажиры пригородных поездов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■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остоящие на учёте в психдиспансере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■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купатели стирального порошка «Ариэль»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■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ногодетные или малодетные семьи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■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меющие временную или постоянную прописку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■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оживающие в отдельных или коммунальны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квартирах</a:t>
            </a:r>
            <a:r>
              <a:rPr b="0" lang="ru-RU" sz="1400" spc="-1" strike="noStrike">
                <a:solidFill>
                  <a:srgbClr val="c0504d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267080" y="1218960"/>
            <a:ext cx="472464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0000"/>
                </a:solidFill>
                <a:uFillTx/>
                <a:latin typeface="Times New Roman"/>
              </a:rPr>
              <a:t>Реальные группы.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ни могут быть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большими и малыми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. Они называются так потому, что критерием их выделения  служат признаки, которые осознаются людьми в качестве реально существующих признаков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■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л —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мужчины и женщины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■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оход —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богатые, бедные и зажиточные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■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ациональность —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русские, американцы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эвенки,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турки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■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озраст —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дети, подростки, молодёжь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взрослые,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старики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■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одство и брак —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холостые, женатые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родители,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вдовые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■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офессия (род занятий) —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водители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учителя,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военнослужащие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■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есто жительства —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горожане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сельские жители,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земляки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i?id=30890947&amp;tov=2"/>
          <p:cNvPicPr/>
          <p:nvPr/>
        </p:nvPicPr>
        <p:blipFill>
          <a:blip r:embed="rId1"/>
          <a:stretch/>
        </p:blipFill>
        <p:spPr>
          <a:xfrm>
            <a:off x="2268360" y="5622840"/>
            <a:ext cx="1428840" cy="10191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9" descr="i?id=16588992&amp;tov=7"/>
          <p:cNvPicPr/>
          <p:nvPr/>
        </p:nvPicPr>
        <p:blipFill>
          <a:blip r:embed="rId2"/>
          <a:stretch/>
        </p:blipFill>
        <p:spPr>
          <a:xfrm>
            <a:off x="3497400" y="5905440"/>
            <a:ext cx="1333440" cy="9525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0" descr="i?id=45606257&amp;tov=0"/>
          <p:cNvPicPr/>
          <p:nvPr/>
        </p:nvPicPr>
        <p:blipFill>
          <a:blip r:embed="rId3"/>
          <a:stretch/>
        </p:blipFill>
        <p:spPr>
          <a:xfrm>
            <a:off x="7524720" y="5732640"/>
            <a:ext cx="1409760" cy="10569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2" descr="i?id=33774216&amp;tov=0"/>
          <p:cNvPicPr/>
          <p:nvPr/>
        </p:nvPicPr>
        <p:blipFill>
          <a:blip r:embed="rId4"/>
          <a:stretch/>
        </p:blipFill>
        <p:spPr>
          <a:xfrm>
            <a:off x="6372360" y="5905440"/>
            <a:ext cx="1295280" cy="8636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2"/>
          <p:cNvSpPr/>
          <p:nvPr/>
        </p:nvSpPr>
        <p:spPr>
          <a:xfrm>
            <a:off x="184320" y="0"/>
            <a:ext cx="877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Социальные общ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184320" y="765000"/>
            <a:ext cx="8840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4471920" y="966960"/>
            <a:ext cx="44877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Социальная общность –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овокупность людей, выделяемая по критерию территориальных и социокультурных параметров и объединяемая устойчивыми связями и отношени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38160" y="4030560"/>
            <a:ext cx="90248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Разновидности социальных общностей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1" i="1" lang="ru-RU" sz="2000" spc="-1" strike="noStrike" u="sng">
                <a:solidFill>
                  <a:srgbClr val="1f497d"/>
                </a:solidFill>
                <a:uFillTx/>
                <a:latin typeface="Times New Roman"/>
                <a:ea typeface="Times New Roman"/>
              </a:rPr>
              <a:t>реальные</a:t>
            </a:r>
            <a:r>
              <a:rPr b="1" lang="ru-RU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например, аграрное акционерное общество, население микрорайона, армейское подразделение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 u="sng">
                <a:solidFill>
                  <a:srgbClr val="1f497d"/>
                </a:solidFill>
                <a:uFillTx/>
                <a:latin typeface="Times New Roman"/>
                <a:ea typeface="Times New Roman"/>
              </a:rPr>
              <a:t>номинальные</a:t>
            </a:r>
            <a:r>
              <a:rPr b="1" i="1" lang="ru-RU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например, общность российских врачей, общность российской молодёжи, российские пенсионеры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1f497d"/>
                </a:solidFill>
                <a:uFillTx/>
                <a:latin typeface="Times New Roman"/>
                <a:ea typeface="Times New Roman"/>
              </a:rPr>
              <a:t>социальные движения</a:t>
            </a:r>
            <a:r>
              <a:rPr b="1" i="1" lang="ru-RU" sz="2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движение за права человека, «зелёные», национальные движения, движение за отмену пошлин на ввоз иномарок и т.д.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6" descr=""/>
          <p:cNvPicPr/>
          <p:nvPr/>
        </p:nvPicPr>
        <p:blipFill>
          <a:blip r:embed="rId2"/>
          <a:stretch/>
        </p:blipFill>
        <p:spPr>
          <a:xfrm>
            <a:off x="28440" y="601560"/>
            <a:ext cx="4032360" cy="34070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indefinite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Times New Roma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68360" y="1890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тличие от социальных институтов и социальных организаций </a:t>
            </a: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бщности не создаются сознательно людьми,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 складываются исключительно под воздействием  объективного хода общественного развития, совместного характера человеческой жизнедеятельности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4" descr="i?id=10071020&amp;tov=6"/>
          <p:cNvPicPr/>
          <p:nvPr/>
        </p:nvPicPr>
        <p:blipFill>
          <a:blip r:embed="rId1"/>
          <a:stretch/>
        </p:blipFill>
        <p:spPr>
          <a:xfrm rot="271800">
            <a:off x="6480000" y="4881600"/>
            <a:ext cx="2381400" cy="15811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2T16:05:09Z</dcterms:created>
  <dc:creator>Ирина</dc:creator>
  <dc:description/>
  <dc:language>en-US</dc:language>
  <cp:lastModifiedBy>Надежда</cp:lastModifiedBy>
  <dcterms:modified xsi:type="dcterms:W3CDTF">2018-01-15T08:37:37Z</dcterms:modified>
  <cp:revision>48</cp:revision>
  <dc:subject/>
  <dc:title>PRESENTATION  NAME</dc:title>
</cp:coreProperties>
</file>