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E0B-B5F3-4A68-B516-65268B66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871E-D614-447D-B818-637622A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AB6-E8DB-464C-A974-F027832D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30C7-0E43-41F9-856B-E2486C95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576B-C0EB-408E-B198-E046CB61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3655-FE0E-4E32-8474-F09D965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4A18-5EE4-4DD8-9A3E-21840BD6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EF0-1701-4E7D-B90E-C1FF266B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F12B-8CEF-4280-B00A-05BE8230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B44A-D432-440A-B99A-22BB44F6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DBA-B4DA-489A-9CCD-E70357AD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471E-1630-4027-BF23-82BD7848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632-2179-4AF5-9A45-AFF8B8470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-663480" y="1125360"/>
            <a:ext cx="108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оциальные общности и групп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ределения социальных групп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оциальной группой принято понимать любую совокупность людей, выделенных по социально значимым критери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аковыми являются</a:t>
            </a:r>
            <a:r>
              <a:rPr b="1" i="1" lang="ru-RU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циональнос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о жительств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с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е и некоторые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</a:t>
            </a: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циальной группой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ется совокупность людей, имеющих общий социальный признак и выполняющих  общественно необходимую функцию в общей структуре общественного разделения труда и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i?id=20473301&amp;tov=2"/>
          <p:cNvPicPr/>
          <p:nvPr/>
        </p:nvPicPr>
        <p:blipFill>
          <a:blip r:embed="rId1"/>
          <a:stretch/>
        </p:blipFill>
        <p:spPr>
          <a:xfrm>
            <a:off x="4419720" y="3994200"/>
            <a:ext cx="1981080" cy="149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?id=41634293&amp;tov=8"/>
          <p:cNvPicPr/>
          <p:nvPr/>
        </p:nvPicPr>
        <p:blipFill>
          <a:blip r:embed="rId2"/>
          <a:stretch/>
        </p:blipFill>
        <p:spPr>
          <a:xfrm>
            <a:off x="6477120" y="5486400"/>
            <a:ext cx="1657080" cy="103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Современное общество демонстрирует нам большое разнообразие социальных групп, объединяющими факторами которых 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фессиональные интерес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щность идеологических позиц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ционально – этническая специфи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верженность той или иной религии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25" descr="MCPE03230_0000[1]"/>
          <p:cNvPicPr/>
          <p:nvPr/>
        </p:nvPicPr>
        <p:blipFill>
          <a:blip r:embed="rId1"/>
          <a:stretch/>
        </p:blipFill>
        <p:spPr>
          <a:xfrm>
            <a:off x="5651640" y="4869000"/>
            <a:ext cx="3389040" cy="180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социальной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076480" y="1628640"/>
            <a:ext cx="698508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967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Классификация групп по размера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00" y="1326960"/>
            <a:ext cx="4388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Малой группой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первичной, контактной, неформальной)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 называют небольшое число людей, которые хорошо знают друг друга и постоянно взаимодействуют между собой, объединённых общими целями, интересами, ценностям, нормами и правилами п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Приме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мь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водственная бригад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ольный класс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инский коллекти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ртивная команд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а друзей, подростков-сверстни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ллектив космических, арктических, антарктических станц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одёжная тусовка и т. 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920" y="1028520"/>
            <a:ext cx="4389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Большие социальные группы </a:t>
            </a:r>
            <a:r>
              <a:rPr b="1" lang="ru-RU" sz="1800" spc="-1" strike="noStrike">
                <a:solidFill>
                  <a:srgbClr val="1e1c11"/>
                </a:solidFill>
                <a:latin typeface="Times New Roman"/>
              </a:rPr>
              <a:t>– это многочисленные социальные общности, располагающиеся, как правило, на  больших территориях, что исключает возможность непосредственного контакта, непосредственной связи и непосредственного взаимодействия входящих в них индивидов и малых социальных груп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ример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ционально – территориаль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ов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лигиоз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нов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е (в пределах крупного предприятия и отросли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ртий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союзные и другие общности люд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i?id=43407470&amp;tov=5"/>
          <p:cNvPicPr/>
          <p:nvPr/>
        </p:nvPicPr>
        <p:blipFill>
          <a:blip r:embed="rId1"/>
          <a:stretch/>
        </p:blipFill>
        <p:spPr>
          <a:xfrm>
            <a:off x="3348000" y="429264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?id=40820980&amp;tov=6"/>
          <p:cNvPicPr/>
          <p:nvPr/>
        </p:nvPicPr>
        <p:blipFill>
          <a:blip r:embed="rId2"/>
          <a:stretch/>
        </p:blipFill>
        <p:spPr>
          <a:xfrm>
            <a:off x="2050920" y="3213000"/>
            <a:ext cx="1371600" cy="92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i?id=42197005&amp;tov=6"/>
          <p:cNvPicPr/>
          <p:nvPr/>
        </p:nvPicPr>
        <p:blipFill>
          <a:blip r:embed="rId3"/>
          <a:stretch/>
        </p:blipFill>
        <p:spPr>
          <a:xfrm>
            <a:off x="7286760" y="314172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i?id=41246403&amp;tov=4"/>
          <p:cNvPicPr/>
          <p:nvPr/>
        </p:nvPicPr>
        <p:blipFill>
          <a:blip r:embed="rId4"/>
          <a:stretch/>
        </p:blipFill>
        <p:spPr>
          <a:xfrm>
            <a:off x="7524720" y="-36360"/>
            <a:ext cx="1447920" cy="107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лассификация групп по социально значимым критери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оминальные (условные) групп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х выделяют только для статистического учёта населения, и потому у них есть второе имя — социальные категории. Они относятся к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ольши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иальным групп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504d"/>
                </a:solidFill>
                <a:uFillTx/>
                <a:latin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ссажиры пригородных поезд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оящие на учёте в психдиспансер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упатели стирального порошка «Ариэль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огодетные или малодетные семь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еющие временную или постоянную пропис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живающие в отдельных или коммуналь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вартирах</a:t>
            </a:r>
            <a:r>
              <a:rPr b="0" lang="ru-RU" sz="14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67080" y="1218960"/>
            <a:ext cx="4724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Реальные групп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и могут бы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ольшими и малы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ни называются так потому, что критерием их выделения  служат признаки, которые осознаются людьми в качестве реально существующих признак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ужчины и женщи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ход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огатые, бедные и зажиточн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циональность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сские, американц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венки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ур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раст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ети, подростки, молодёж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зрослые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тар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ство и брак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олостые, женат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одители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дов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я (род занятий)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дите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я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еннослужащ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жительства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орожан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ельские жители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емля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i?id=30890947&amp;tov=2"/>
          <p:cNvPicPr/>
          <p:nvPr/>
        </p:nvPicPr>
        <p:blipFill>
          <a:blip r:embed="rId1"/>
          <a:stretch/>
        </p:blipFill>
        <p:spPr>
          <a:xfrm>
            <a:off x="2268360" y="5622840"/>
            <a:ext cx="1428840" cy="101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?id=16588992&amp;tov=7"/>
          <p:cNvPicPr/>
          <p:nvPr/>
        </p:nvPicPr>
        <p:blipFill>
          <a:blip r:embed="rId2"/>
          <a:stretch/>
        </p:blipFill>
        <p:spPr>
          <a:xfrm>
            <a:off x="3497400" y="5905440"/>
            <a:ext cx="133344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i?id=45606257&amp;tov=0"/>
          <p:cNvPicPr/>
          <p:nvPr/>
        </p:nvPicPr>
        <p:blipFill>
          <a:blip r:embed="rId3"/>
          <a:stretch/>
        </p:blipFill>
        <p:spPr>
          <a:xfrm>
            <a:off x="7524720" y="5732640"/>
            <a:ext cx="1409760" cy="105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i?id=33774216&amp;tov=0"/>
          <p:cNvPicPr/>
          <p:nvPr/>
        </p:nvPicPr>
        <p:blipFill>
          <a:blip r:embed="rId4"/>
          <a:stretch/>
        </p:blipFill>
        <p:spPr>
          <a:xfrm>
            <a:off x="6372360" y="590544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84320" y="0"/>
            <a:ext cx="87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ые общ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84320" y="765000"/>
            <a:ext cx="884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471920" y="966960"/>
            <a:ext cx="448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общность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людей, выделяемая по критерию территориальных и социокультурных параметров и объединяемая устойчивыми связями и отнош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160" y="4030560"/>
            <a:ext cx="90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новидности социальных общно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реальные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, аграрное акционерное общество, население микрорайона, армейское подраздел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номинальные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, общность российских врачей, общность российской молодёжи, российские пенсионер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социальные движения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вижение за права человека, «зелёные», национальные движения, движение за отмену пошлин на ввоз иномарок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28440" y="601560"/>
            <a:ext cx="4032360" cy="340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социальных институтов и социальных организаций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ности не создаются сознательно людьми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складываются исключительно под воздействием  объективного хода общественного развития, совместного характера человеческой жизнедеятель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i?id=10071020&amp;tov=6"/>
          <p:cNvPicPr/>
          <p:nvPr/>
        </p:nvPicPr>
        <p:blipFill>
          <a:blip r:embed="rId1"/>
          <a:stretch/>
        </p:blipFill>
        <p:spPr>
          <a:xfrm rot="271800">
            <a:off x="6480000" y="4881600"/>
            <a:ext cx="2381400" cy="1581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6:05:09Z</dcterms:created>
  <dc:creator>Ирина</dc:creator>
  <dc:description/>
  <dc:language>en-US</dc:language>
  <cp:lastModifiedBy>Надежда</cp:lastModifiedBy>
  <dcterms:modified xsi:type="dcterms:W3CDTF">2018-01-15T08:37:37Z</dcterms:modified>
  <cp:revision>48</cp:revision>
  <dc:subject/>
  <dc:title>PRESENTATION  NAME</dc:title>
</cp:coreProperties>
</file>